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2.wmf" ContentType="image/x-wmf"/>
  <Override PartName="/ppt/media/image129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50.wmf" ContentType="image/x-wmf"/>
  <Override PartName="/ppt/media/image99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09.wmf" ContentType="image/x-wmf"/>
  <Override PartName="/ppt/media/image151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A08-20BB-478E-920A-85E05CDC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1E7-0696-470F-8A9E-45DC302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024-193D-41B5-B09A-34F832C3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7D4-EDEE-4250-A7B7-C6B1CC6E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CE4-59A6-4DE5-A388-2A9D4D8D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625B-9843-4A84-AF13-369ABFFF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D0CC-9BCF-4C18-A9C5-57B7DDE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2BF-4835-4402-A645-C847A5B3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305A-65B3-4A6F-9321-CDEC554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384-21ED-488B-9B84-E6CE3534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79B1-ED2A-4699-8D02-5C59934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91B-C6EE-405A-A815-F103FAC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179-B176-483A-BE01-1210E85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DA60-7C61-4E62-A2CE-E1B07FB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AFF6-FF79-41ED-BFB8-4260B853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46D-7360-47FC-AA51-162348C7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E20-B32F-4E51-8B2B-EB3ECE55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9BC-6258-45CF-9D34-2E2411A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7C2-CA41-4585-B577-79FA92E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EDD-9D8E-4CCF-B1BA-A1723D6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479-E802-4917-BD76-593428ED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8E7-3061-44F5-A889-24C7B50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D7A-7318-4A61-A4D2-04A925B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161-2347-4ACA-8478-215214C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86D-83F1-4FB0-902D-865DF1CE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6390-CA76-4269-A2D5-6B61CB9B6D2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3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2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2.wmf"/><Relationship Id="rId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5.wmf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3.wmf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七讲  闭图像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8" name="组合 8"/>
          <p:cNvGrpSpPr/>
          <p:nvPr/>
        </p:nvGrpSpPr>
        <p:grpSpPr>
          <a:xfrm>
            <a:off x="1150920" y="928800"/>
            <a:ext cx="6968880" cy="1800360"/>
            <a:chOff x="1150920" y="928800"/>
            <a:chExt cx="6968880" cy="1800360"/>
          </a:xfrm>
        </p:grpSpPr>
        <p:grpSp>
          <p:nvGrpSpPr>
            <p:cNvPr id="269" name="组合 25"/>
            <p:cNvGrpSpPr/>
            <p:nvPr/>
          </p:nvGrpSpPr>
          <p:grpSpPr>
            <a:xfrm>
              <a:off x="1150920" y="928800"/>
              <a:ext cx="6968880" cy="1800360"/>
              <a:chOff x="1150920" y="928800"/>
              <a:chExt cx="6968880" cy="1800360"/>
            </a:xfrm>
          </p:grpSpPr>
          <p:sp>
            <p:nvSpPr>
              <p:cNvPr id="270" name="Rectangle 15"/>
              <p:cNvSpPr/>
              <p:nvPr/>
            </p:nvSpPr>
            <p:spPr>
              <a:xfrm>
                <a:off x="1150920" y="928800"/>
                <a:ext cx="69688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ilbert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  到自身的处处定义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如果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71" name="Object 21"/>
              <p:cNvGraphicFramePr/>
              <p:nvPr/>
            </p:nvGraphicFramePr>
            <p:xfrm>
              <a:off x="2428560" y="1857600"/>
              <a:ext cx="5105520" cy="450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2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28560" y="1857600"/>
                        <a:ext cx="5105520" cy="45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3" name="Object 4"/>
            <p:cNvGraphicFramePr/>
            <p:nvPr/>
          </p:nvGraphicFramePr>
          <p:xfrm>
            <a:off x="2057040" y="1000080"/>
            <a:ext cx="341280" cy="34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040" y="1000080"/>
                      <a:ext cx="341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4"/>
            <p:cNvGraphicFramePr/>
            <p:nvPr/>
          </p:nvGraphicFramePr>
          <p:xfrm>
            <a:off x="4829040" y="1000080"/>
            <a:ext cx="3981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29040" y="1000080"/>
                      <a:ext cx="3981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1214280" y="2286360"/>
            <a:ext cx="3412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4280" y="2286360"/>
                      <a:ext cx="341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9" name="Text Box 3"/>
          <p:cNvSpPr/>
          <p:nvPr/>
        </p:nvSpPr>
        <p:spPr>
          <a:xfrm>
            <a:off x="357120" y="27860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0" name="组合 10"/>
          <p:cNvGrpSpPr/>
          <p:nvPr/>
        </p:nvGrpSpPr>
        <p:grpSpPr>
          <a:xfrm>
            <a:off x="878760" y="2786040"/>
            <a:ext cx="7693920" cy="1373760"/>
            <a:chOff x="878760" y="2786040"/>
            <a:chExt cx="7693920" cy="1373760"/>
          </a:xfrm>
        </p:grpSpPr>
        <p:grpSp>
          <p:nvGrpSpPr>
            <p:cNvPr id="281" name="组合 25"/>
            <p:cNvGrpSpPr/>
            <p:nvPr/>
          </p:nvGrpSpPr>
          <p:grpSpPr>
            <a:xfrm>
              <a:off x="878760" y="2786040"/>
              <a:ext cx="7173360" cy="1373760"/>
              <a:chOff x="878760" y="2786040"/>
              <a:chExt cx="7173360" cy="1373760"/>
            </a:xfrm>
          </p:grpSpPr>
          <p:sp>
            <p:nvSpPr>
              <p:cNvPr id="282" name="Rectangle 15"/>
              <p:cNvSpPr/>
              <p:nvPr/>
            </p:nvSpPr>
            <p:spPr>
              <a:xfrm>
                <a:off x="878760" y="2786040"/>
                <a:ext cx="6786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则对于任何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假设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3" name="Object 6"/>
              <p:cNvGraphicFramePr/>
              <p:nvPr/>
            </p:nvGraphicFramePr>
            <p:xfrm>
              <a:off x="2571840" y="3642840"/>
              <a:ext cx="5480280" cy="506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84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71840" y="3642840"/>
                        <a:ext cx="548028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5" name="Object 7"/>
            <p:cNvGraphicFramePr/>
            <p:nvPr/>
          </p:nvGraphicFramePr>
          <p:xfrm>
            <a:off x="2143080" y="2857320"/>
            <a:ext cx="3327480" cy="58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2857320"/>
                      <a:ext cx="3327480" cy="5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Object 9"/>
            <p:cNvGraphicFramePr/>
            <p:nvPr/>
          </p:nvGraphicFramePr>
          <p:xfrm>
            <a:off x="7548840" y="2857320"/>
            <a:ext cx="1023840" cy="42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48840" y="2857320"/>
                      <a:ext cx="10238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1"/>
          <p:cNvGrpSpPr/>
          <p:nvPr/>
        </p:nvGrpSpPr>
        <p:grpSpPr>
          <a:xfrm>
            <a:off x="600120" y="714240"/>
            <a:ext cx="6199200" cy="1078200"/>
            <a:chOff x="600120" y="714240"/>
            <a:chExt cx="6199200" cy="1078200"/>
          </a:xfrm>
        </p:grpSpPr>
        <p:grpSp>
          <p:nvGrpSpPr>
            <p:cNvPr id="290" name="组合 25"/>
            <p:cNvGrpSpPr/>
            <p:nvPr/>
          </p:nvGrpSpPr>
          <p:grpSpPr>
            <a:xfrm>
              <a:off x="600120" y="714240"/>
              <a:ext cx="6199200" cy="1078200"/>
              <a:chOff x="600120" y="714240"/>
              <a:chExt cx="6199200" cy="1078200"/>
            </a:xfrm>
          </p:grpSpPr>
          <p:sp>
            <p:nvSpPr>
              <p:cNvPr id="291" name="Rectangle 15"/>
              <p:cNvSpPr/>
              <p:nvPr/>
            </p:nvSpPr>
            <p:spPr>
              <a:xfrm>
                <a:off x="600120" y="714240"/>
                <a:ext cx="308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，便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2" name="Object 21"/>
              <p:cNvGraphicFramePr/>
              <p:nvPr/>
            </p:nvGraphicFramePr>
            <p:xfrm>
              <a:off x="3571920" y="1285920"/>
              <a:ext cx="3227400" cy="506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3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71920" y="1285920"/>
                        <a:ext cx="322740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4" name="Object 4"/>
            <p:cNvGraphicFramePr/>
            <p:nvPr/>
          </p:nvGraphicFramePr>
          <p:xfrm>
            <a:off x="1285920" y="857160"/>
            <a:ext cx="995400" cy="293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85920" y="857160"/>
                      <a:ext cx="99540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组合 25"/>
          <p:cNvGrpSpPr/>
          <p:nvPr/>
        </p:nvGrpSpPr>
        <p:grpSpPr>
          <a:xfrm>
            <a:off x="852120" y="1857240"/>
            <a:ext cx="6161400" cy="1078200"/>
            <a:chOff x="852120" y="1857240"/>
            <a:chExt cx="6161400" cy="1078200"/>
          </a:xfrm>
        </p:grpSpPr>
        <p:sp>
          <p:nvSpPr>
            <p:cNvPr id="297" name="Rectangle 15"/>
            <p:cNvSpPr/>
            <p:nvPr/>
          </p:nvSpPr>
          <p:spPr>
            <a:xfrm>
              <a:off x="852120" y="1857240"/>
              <a:ext cx="22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由假设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8" name="Object 5"/>
            <p:cNvGraphicFramePr/>
            <p:nvPr/>
          </p:nvGraphicFramePr>
          <p:xfrm>
            <a:off x="3786120" y="2428920"/>
            <a:ext cx="3227400" cy="50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86120" y="2428920"/>
                      <a:ext cx="32274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组合 17"/>
          <p:cNvGrpSpPr/>
          <p:nvPr/>
        </p:nvGrpSpPr>
        <p:grpSpPr>
          <a:xfrm>
            <a:off x="1561320" y="3143160"/>
            <a:ext cx="6418440" cy="947160"/>
            <a:chOff x="1561320" y="3143160"/>
            <a:chExt cx="6418440" cy="947160"/>
          </a:xfrm>
        </p:grpSpPr>
        <p:grpSp>
          <p:nvGrpSpPr>
            <p:cNvPr id="301" name="组合 25"/>
            <p:cNvGrpSpPr/>
            <p:nvPr/>
          </p:nvGrpSpPr>
          <p:grpSpPr>
            <a:xfrm>
              <a:off x="1561320" y="3143160"/>
              <a:ext cx="6418440" cy="947160"/>
              <a:chOff x="1561320" y="3143160"/>
              <a:chExt cx="6418440" cy="947160"/>
            </a:xfrm>
          </p:grpSpPr>
          <p:sp>
            <p:nvSpPr>
              <p:cNvPr id="302" name="Rectangle 15"/>
              <p:cNvSpPr/>
              <p:nvPr/>
            </p:nvSpPr>
            <p:spPr>
              <a:xfrm>
                <a:off x="1561320" y="3143160"/>
                <a:ext cx="6418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可见                 ，故    是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闭图像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理知    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3" name="Object 7"/>
              <p:cNvGraphicFramePr/>
              <p:nvPr/>
            </p:nvGraphicFramePr>
            <p:xfrm>
              <a:off x="1857240" y="3207960"/>
              <a:ext cx="1650960" cy="506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4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57240" y="3207960"/>
                        <a:ext cx="165096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5" name="Object 8"/>
            <p:cNvGraphicFramePr/>
            <p:nvPr/>
          </p:nvGraphicFramePr>
          <p:xfrm>
            <a:off x="4214880" y="3214440"/>
            <a:ext cx="45072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14880" y="3214440"/>
                      <a:ext cx="450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9"/>
            <p:cNvGraphicFramePr/>
            <p:nvPr/>
          </p:nvGraphicFramePr>
          <p:xfrm>
            <a:off x="1857240" y="3643200"/>
            <a:ext cx="45072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57240" y="3643200"/>
                      <a:ext cx="450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0" name="组合 16"/>
          <p:cNvGrpSpPr/>
          <p:nvPr/>
        </p:nvGrpSpPr>
        <p:grpSpPr>
          <a:xfrm>
            <a:off x="1674000" y="857160"/>
            <a:ext cx="6741000" cy="1373760"/>
            <a:chOff x="1674000" y="857160"/>
            <a:chExt cx="6741000" cy="1373760"/>
          </a:xfrm>
        </p:grpSpPr>
        <p:grpSp>
          <p:nvGrpSpPr>
            <p:cNvPr id="311" name="组合 2"/>
            <p:cNvGrpSpPr/>
            <p:nvPr/>
          </p:nvGrpSpPr>
          <p:grpSpPr>
            <a:xfrm>
              <a:off x="1674000" y="857160"/>
              <a:ext cx="6741000" cy="1373760"/>
              <a:chOff x="1674000" y="857160"/>
              <a:chExt cx="6741000" cy="1373760"/>
            </a:xfrm>
          </p:grpSpPr>
          <p:grpSp>
            <p:nvGrpSpPr>
              <p:cNvPr id="312" name="组合 3"/>
              <p:cNvGrpSpPr/>
              <p:nvPr/>
            </p:nvGrpSpPr>
            <p:grpSpPr>
              <a:xfrm>
                <a:off x="1674000" y="857160"/>
                <a:ext cx="6535800" cy="1373760"/>
                <a:chOff x="1674000" y="857160"/>
                <a:chExt cx="6535800" cy="1373760"/>
              </a:xfrm>
            </p:grpSpPr>
            <p:grpSp>
              <p:nvGrpSpPr>
                <p:cNvPr id="313" name="组合 52"/>
                <p:cNvGrpSpPr/>
                <p:nvPr/>
              </p:nvGrpSpPr>
              <p:grpSpPr>
                <a:xfrm>
                  <a:off x="1674000" y="857160"/>
                  <a:ext cx="6535800" cy="1373760"/>
                  <a:chOff x="1674000" y="857160"/>
                  <a:chExt cx="6535800" cy="1373760"/>
                </a:xfrm>
              </p:grpSpPr>
              <p:grpSp>
                <p:nvGrpSpPr>
                  <p:cNvPr id="314" name="组合 48"/>
                  <p:cNvGrpSpPr/>
                  <p:nvPr/>
                </p:nvGrpSpPr>
                <p:grpSpPr>
                  <a:xfrm>
                    <a:off x="1674000" y="857160"/>
                    <a:ext cx="6535800" cy="1373760"/>
                    <a:chOff x="1674000" y="857160"/>
                    <a:chExt cx="6535800" cy="1373760"/>
                  </a:xfrm>
                </p:grpSpPr>
                <p:sp>
                  <p:nvSpPr>
                    <p:cNvPr id="315" name="Rectangle 15"/>
                    <p:cNvSpPr/>
                    <p:nvPr/>
                  </p:nvSpPr>
                  <p:spPr>
                    <a:xfrm>
                      <a:off x="1674000" y="857160"/>
                      <a:ext cx="6535800" cy="137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与         分别为算子   与    所定义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空间 ，若                    ，并且                             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称算子   是   的延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16" name="Object 2"/>
                    <p:cNvGraphicFramePr/>
                    <p:nvPr/>
                  </p:nvGraphicFramePr>
                  <p:xfrm>
                    <a:off x="1913040" y="928440"/>
                    <a:ext cx="822240" cy="42696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17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913040" y="928440"/>
                              <a:ext cx="822240" cy="4269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18" name="Object 3"/>
                  <p:cNvGraphicFramePr/>
                  <p:nvPr/>
                </p:nvGraphicFramePr>
                <p:xfrm>
                  <a:off x="5715000" y="928440"/>
                  <a:ext cx="312480" cy="345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19" name="Object 3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5715000" y="928440"/>
                            <a:ext cx="31248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20" name="Object 4"/>
                <p:cNvGraphicFramePr/>
                <p:nvPr/>
              </p:nvGraphicFramePr>
              <p:xfrm>
                <a:off x="2571840" y="1356840"/>
                <a:ext cx="1989000" cy="479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571840" y="1356840"/>
                          <a:ext cx="198900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22" name="Object 5"/>
                <p:cNvGraphicFramePr/>
                <p:nvPr/>
              </p:nvGraphicFramePr>
              <p:xfrm>
                <a:off x="3000240" y="901440"/>
                <a:ext cx="852480" cy="4791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3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00240" y="901440"/>
                          <a:ext cx="85248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4" name="Object 7"/>
              <p:cNvGraphicFramePr/>
              <p:nvPr/>
            </p:nvGraphicFramePr>
            <p:xfrm>
              <a:off x="5572080" y="1306080"/>
              <a:ext cx="2842920" cy="479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5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572080" y="1306080"/>
                        <a:ext cx="2842920" cy="47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6" name="Object 8"/>
            <p:cNvGraphicFramePr/>
            <p:nvPr/>
          </p:nvGraphicFramePr>
          <p:xfrm>
            <a:off x="6357960" y="928440"/>
            <a:ext cx="312480" cy="47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57960" y="928440"/>
                      <a:ext cx="31248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9"/>
            <p:cNvGraphicFramePr/>
            <p:nvPr/>
          </p:nvGraphicFramePr>
          <p:xfrm>
            <a:off x="2428920" y="1734840"/>
            <a:ext cx="312480" cy="479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920" y="1734840"/>
                      <a:ext cx="31248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Object 10"/>
            <p:cNvGraphicFramePr/>
            <p:nvPr/>
          </p:nvGraphicFramePr>
          <p:xfrm>
            <a:off x="3143160" y="1785600"/>
            <a:ext cx="312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43160" y="178560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2" name="Text Box 3"/>
          <p:cNvSpPr/>
          <p:nvPr/>
        </p:nvSpPr>
        <p:spPr>
          <a:xfrm>
            <a:off x="214200" y="23572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3" name="组合 19"/>
          <p:cNvGrpSpPr/>
          <p:nvPr/>
        </p:nvGrpSpPr>
        <p:grpSpPr>
          <a:xfrm>
            <a:off x="1863000" y="2428920"/>
            <a:ext cx="5784120" cy="2211480"/>
            <a:chOff x="1863000" y="2428920"/>
            <a:chExt cx="5784120" cy="2211480"/>
          </a:xfrm>
        </p:grpSpPr>
        <p:grpSp>
          <p:nvGrpSpPr>
            <p:cNvPr id="334" name="组合 52"/>
            <p:cNvGrpSpPr/>
            <p:nvPr/>
          </p:nvGrpSpPr>
          <p:grpSpPr>
            <a:xfrm>
              <a:off x="1863000" y="2428920"/>
              <a:ext cx="5168880" cy="1800360"/>
              <a:chOff x="1863000" y="2428920"/>
              <a:chExt cx="5168880" cy="1800360"/>
            </a:xfrm>
          </p:grpSpPr>
          <p:grpSp>
            <p:nvGrpSpPr>
              <p:cNvPr id="335" name="组合 48"/>
              <p:cNvGrpSpPr/>
              <p:nvPr/>
            </p:nvGrpSpPr>
            <p:grpSpPr>
              <a:xfrm>
                <a:off x="1863000" y="2428920"/>
                <a:ext cx="5168880" cy="1800360"/>
                <a:chOff x="1863000" y="2428920"/>
                <a:chExt cx="5168880" cy="1800360"/>
              </a:xfrm>
            </p:grpSpPr>
            <p:sp>
              <p:nvSpPr>
                <p:cNvPr id="336" name="Rectangle 15"/>
                <p:cNvSpPr/>
                <p:nvPr/>
              </p:nvSpPr>
              <p:spPr>
                <a:xfrm>
                  <a:off x="1863000" y="2428920"/>
                  <a:ext cx="516888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线性空间   上的实值函数        ：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为次可加性的，若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为是正齐性的，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37" name="Object 11"/>
                <p:cNvGraphicFramePr/>
                <p:nvPr/>
              </p:nvGraphicFramePr>
              <p:xfrm>
                <a:off x="3071520" y="2500200"/>
                <a:ext cx="395280" cy="34596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338" name="Object 11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3071520" y="2500200"/>
                          <a:ext cx="39528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9" name="Object 12"/>
              <p:cNvGraphicFramePr/>
              <p:nvPr/>
            </p:nvGraphicFramePr>
            <p:xfrm>
              <a:off x="5500800" y="2500200"/>
              <a:ext cx="739800" cy="426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340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500800" y="2500200"/>
                        <a:ext cx="7398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1" name="Object 13"/>
            <p:cNvGraphicFramePr/>
            <p:nvPr/>
          </p:nvGraphicFramePr>
          <p:xfrm>
            <a:off x="2928960" y="3286080"/>
            <a:ext cx="471816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2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28960" y="3286080"/>
                      <a:ext cx="471816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3" name="Object 14"/>
            <p:cNvGraphicFramePr/>
            <p:nvPr/>
          </p:nvGraphicFramePr>
          <p:xfrm>
            <a:off x="3143160" y="4214880"/>
            <a:ext cx="4006800" cy="425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4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143160" y="4214880"/>
                      <a:ext cx="400680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214200" y="78588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Hahn-Banach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6" name="组合 21"/>
          <p:cNvGrpSpPr/>
          <p:nvPr/>
        </p:nvGrpSpPr>
        <p:grpSpPr>
          <a:xfrm>
            <a:off x="1188720" y="1428840"/>
            <a:ext cx="7340760" cy="2653560"/>
            <a:chOff x="1188720" y="1428840"/>
            <a:chExt cx="7340760" cy="2653560"/>
          </a:xfrm>
        </p:grpSpPr>
        <p:grpSp>
          <p:nvGrpSpPr>
            <p:cNvPr id="347" name="组合 19"/>
            <p:cNvGrpSpPr/>
            <p:nvPr/>
          </p:nvGrpSpPr>
          <p:grpSpPr>
            <a:xfrm>
              <a:off x="1188720" y="1428840"/>
              <a:ext cx="7340760" cy="2653560"/>
              <a:chOff x="1188720" y="1428840"/>
              <a:chExt cx="7340760" cy="2653560"/>
            </a:xfrm>
          </p:grpSpPr>
          <p:grpSp>
            <p:nvGrpSpPr>
              <p:cNvPr id="348" name="组合 52"/>
              <p:cNvGrpSpPr/>
              <p:nvPr/>
            </p:nvGrpSpPr>
            <p:grpSpPr>
              <a:xfrm>
                <a:off x="1188720" y="1428840"/>
                <a:ext cx="6424200" cy="2653560"/>
                <a:chOff x="1188720" y="1428840"/>
                <a:chExt cx="6424200" cy="2653560"/>
              </a:xfrm>
            </p:grpSpPr>
            <p:grpSp>
              <p:nvGrpSpPr>
                <p:cNvPr id="349" name="组合 48"/>
                <p:cNvGrpSpPr/>
                <p:nvPr/>
              </p:nvGrpSpPr>
              <p:grpSpPr>
                <a:xfrm>
                  <a:off x="2143080" y="1428840"/>
                  <a:ext cx="5469840" cy="2653560"/>
                  <a:chOff x="2143080" y="1428840"/>
                  <a:chExt cx="5469840" cy="2653560"/>
                </a:xfrm>
              </p:grpSpPr>
              <p:sp>
                <p:nvSpPr>
                  <p:cNvPr id="350" name="Rectangle 15"/>
                  <p:cNvSpPr/>
                  <p:nvPr/>
                </p:nvSpPr>
                <p:spPr>
                  <a:xfrm>
                    <a:off x="2230920" y="1428840"/>
                    <a:ext cx="5382000" cy="265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为实线性空间，        为线性子空间，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   上的次可加正齐性函数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;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   上的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每个实线性泛函    ，若                 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必有    上的线性泛函   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   是   从    到   上的延拓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2"/>
                  <p:cNvGraphicFramePr/>
                  <p:nvPr/>
                </p:nvGraphicFramePr>
                <p:xfrm>
                  <a:off x="2143080" y="1500120"/>
                  <a:ext cx="3949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5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3080" y="1500120"/>
                            <a:ext cx="3949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53" name="Object 3"/>
                <p:cNvGraphicFramePr/>
                <p:nvPr/>
              </p:nvGraphicFramePr>
              <p:xfrm>
                <a:off x="1188720" y="1928880"/>
                <a:ext cx="739440" cy="426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54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88720" y="1928880"/>
                          <a:ext cx="73944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5" name="Object 4"/>
              <p:cNvGraphicFramePr/>
              <p:nvPr/>
            </p:nvGraphicFramePr>
            <p:xfrm>
              <a:off x="2333520" y="3259440"/>
              <a:ext cx="619596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5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333520" y="3259440"/>
                        <a:ext cx="619596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7" name="Object 5"/>
              <p:cNvGraphicFramePr/>
              <p:nvPr/>
            </p:nvGraphicFramePr>
            <p:xfrm>
              <a:off x="4714920" y="1500120"/>
              <a:ext cx="1136520" cy="345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14920" y="1500120"/>
                        <a:ext cx="113652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9" name="Object 6"/>
            <p:cNvGraphicFramePr/>
            <p:nvPr/>
          </p:nvGraphicFramePr>
          <p:xfrm>
            <a:off x="2247840" y="1928880"/>
            <a:ext cx="39492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47840" y="1928880"/>
                      <a:ext cx="3949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1" name="Object 7"/>
            <p:cNvGraphicFramePr/>
            <p:nvPr/>
          </p:nvGraphicFramePr>
          <p:xfrm>
            <a:off x="6929280" y="1940040"/>
            <a:ext cx="45396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29280" y="1940040"/>
                      <a:ext cx="4539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8"/>
            <p:cNvGraphicFramePr/>
            <p:nvPr/>
          </p:nvGraphicFramePr>
          <p:xfrm>
            <a:off x="3714480" y="2306880"/>
            <a:ext cx="369720" cy="479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6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14480" y="2306880"/>
                      <a:ext cx="3697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9"/>
            <p:cNvGraphicFramePr/>
            <p:nvPr/>
          </p:nvGraphicFramePr>
          <p:xfrm>
            <a:off x="4746600" y="2306880"/>
            <a:ext cx="2896920" cy="479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46600" y="2306880"/>
                      <a:ext cx="28969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Object 10"/>
            <p:cNvGraphicFramePr/>
            <p:nvPr/>
          </p:nvGraphicFramePr>
          <p:xfrm>
            <a:off x="2357280" y="2786400"/>
            <a:ext cx="395280" cy="34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6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57280" y="278640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9" name="Object 11"/>
            <p:cNvGraphicFramePr/>
            <p:nvPr/>
          </p:nvGraphicFramePr>
          <p:xfrm>
            <a:off x="4800600" y="2741760"/>
            <a:ext cx="341280" cy="425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70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00600" y="274176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12"/>
            <p:cNvGraphicFramePr/>
            <p:nvPr/>
          </p:nvGraphicFramePr>
          <p:xfrm>
            <a:off x="1571400" y="3572280"/>
            <a:ext cx="34128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7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571400" y="357228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Object 13"/>
            <p:cNvGraphicFramePr/>
            <p:nvPr/>
          </p:nvGraphicFramePr>
          <p:xfrm>
            <a:off x="2214360" y="3572280"/>
            <a:ext cx="369720" cy="479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74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14360" y="3572280"/>
                      <a:ext cx="3697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Object 14"/>
            <p:cNvGraphicFramePr/>
            <p:nvPr/>
          </p:nvGraphicFramePr>
          <p:xfrm>
            <a:off x="2857320" y="3643920"/>
            <a:ext cx="453960" cy="345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76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57320" y="3643920"/>
                      <a:ext cx="4539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Object 15"/>
            <p:cNvGraphicFramePr/>
            <p:nvPr/>
          </p:nvGraphicFramePr>
          <p:xfrm>
            <a:off x="3643200" y="3643920"/>
            <a:ext cx="395280" cy="345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78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643200" y="364392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0" name="组合 18"/>
          <p:cNvGrpSpPr/>
          <p:nvPr/>
        </p:nvGrpSpPr>
        <p:grpSpPr>
          <a:xfrm>
            <a:off x="873720" y="928800"/>
            <a:ext cx="7894080" cy="1447200"/>
            <a:chOff x="873720" y="928800"/>
            <a:chExt cx="7894080" cy="1447200"/>
          </a:xfrm>
        </p:grpSpPr>
        <p:sp>
          <p:nvSpPr>
            <p:cNvPr id="381" name="Rectangle 15"/>
            <p:cNvSpPr/>
            <p:nvPr/>
          </p:nvSpPr>
          <p:spPr>
            <a:xfrm>
              <a:off x="873720" y="1428840"/>
              <a:ext cx="756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         其中                   我们先验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分解式是唯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否则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1127160" y="928800"/>
              <a:ext cx="6588360" cy="1028520"/>
              <a:chOff x="1127160" y="928800"/>
              <a:chExt cx="6588360" cy="1028520"/>
            </a:xfrm>
          </p:grpSpPr>
          <p:sp>
            <p:nvSpPr>
              <p:cNvPr id="383" name="Rectangle 15"/>
              <p:cNvSpPr/>
              <p:nvPr/>
            </p:nvSpPr>
            <p:spPr>
              <a:xfrm>
                <a:off x="1357200" y="928800"/>
                <a:ext cx="6358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4" name="Object 2"/>
              <p:cNvGraphicFramePr/>
              <p:nvPr/>
            </p:nvGraphicFramePr>
            <p:xfrm>
              <a:off x="1127160" y="1500120"/>
              <a:ext cx="2944800" cy="457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8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27160" y="1500120"/>
                        <a:ext cx="29448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6" name="Object 26"/>
              <p:cNvGraphicFramePr/>
              <p:nvPr/>
            </p:nvGraphicFramePr>
            <p:xfrm>
              <a:off x="2143080" y="1038240"/>
              <a:ext cx="1244520" cy="318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7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43080" y="1038240"/>
                        <a:ext cx="1244520" cy="31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8" name="Object 4"/>
            <p:cNvGraphicFramePr/>
            <p:nvPr/>
          </p:nvGraphicFramePr>
          <p:xfrm>
            <a:off x="3714840" y="1000080"/>
            <a:ext cx="1785960" cy="42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14840" y="1000080"/>
                      <a:ext cx="178596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Object 5"/>
            <p:cNvGraphicFramePr/>
            <p:nvPr/>
          </p:nvGraphicFramePr>
          <p:xfrm>
            <a:off x="5786640" y="1000080"/>
            <a:ext cx="29811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6640" y="1000080"/>
                      <a:ext cx="29811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12"/>
            <p:cNvGraphicFramePr/>
            <p:nvPr/>
          </p:nvGraphicFramePr>
          <p:xfrm>
            <a:off x="4857840" y="1522440"/>
            <a:ext cx="178272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3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57840" y="1522440"/>
                      <a:ext cx="17827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4" name="组合 23"/>
          <p:cNvGrpSpPr/>
          <p:nvPr/>
        </p:nvGrpSpPr>
        <p:grpSpPr>
          <a:xfrm>
            <a:off x="785880" y="1928880"/>
            <a:ext cx="7750080" cy="885600"/>
            <a:chOff x="785880" y="1928880"/>
            <a:chExt cx="7750080" cy="885600"/>
          </a:xfrm>
        </p:grpSpPr>
        <p:graphicFrame>
          <p:nvGraphicFramePr>
            <p:cNvPr id="395" name="Object 9"/>
            <p:cNvGraphicFramePr/>
            <p:nvPr/>
          </p:nvGraphicFramePr>
          <p:xfrm>
            <a:off x="4702320" y="1928880"/>
            <a:ext cx="29718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02320" y="1928880"/>
                      <a:ext cx="2971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10"/>
            <p:cNvGraphicFramePr/>
            <p:nvPr/>
          </p:nvGraphicFramePr>
          <p:xfrm>
            <a:off x="7715520" y="1928880"/>
            <a:ext cx="820440" cy="45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15520" y="1928880"/>
                      <a:ext cx="820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11"/>
            <p:cNvGraphicFramePr/>
            <p:nvPr/>
          </p:nvGraphicFramePr>
          <p:xfrm>
            <a:off x="785880" y="2357280"/>
            <a:ext cx="1755720" cy="457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5880" y="2357280"/>
                      <a:ext cx="1755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1" name="组合 22"/>
          <p:cNvGrpSpPr/>
          <p:nvPr/>
        </p:nvGrpSpPr>
        <p:grpSpPr>
          <a:xfrm>
            <a:off x="1011240" y="2286000"/>
            <a:ext cx="7397640" cy="1428840"/>
            <a:chOff x="1011240" y="2286000"/>
            <a:chExt cx="7397640" cy="1428840"/>
          </a:xfrm>
        </p:grpSpPr>
        <p:sp>
          <p:nvSpPr>
            <p:cNvPr id="402" name="Rectangle 15"/>
            <p:cNvSpPr/>
            <p:nvPr/>
          </p:nvSpPr>
          <p:spPr>
            <a:xfrm>
              <a:off x="2749680" y="2286000"/>
              <a:ext cx="493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时        ，唯一性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3" name="Object 12"/>
            <p:cNvGraphicFramePr/>
            <p:nvPr/>
          </p:nvGraphicFramePr>
          <p:xfrm>
            <a:off x="3214440" y="2357280"/>
            <a:ext cx="70776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04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14440" y="2357280"/>
                      <a:ext cx="7077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Object 13"/>
            <p:cNvGraphicFramePr/>
            <p:nvPr/>
          </p:nvGraphicFramePr>
          <p:xfrm>
            <a:off x="4214520" y="2357280"/>
            <a:ext cx="84924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6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14520" y="2357280"/>
                      <a:ext cx="849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Object 14"/>
            <p:cNvGraphicFramePr/>
            <p:nvPr/>
          </p:nvGraphicFramePr>
          <p:xfrm>
            <a:off x="7586640" y="2357280"/>
            <a:ext cx="822240" cy="457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8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586640" y="2357280"/>
                      <a:ext cx="822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Rectangle 15"/>
            <p:cNvSpPr/>
            <p:nvPr/>
          </p:nvSpPr>
          <p:spPr>
            <a:xfrm>
              <a:off x="1011240" y="2928960"/>
              <a:ext cx="57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    与     的取法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0" name="Object 15"/>
            <p:cNvGraphicFramePr/>
            <p:nvPr/>
          </p:nvGraphicFramePr>
          <p:xfrm>
            <a:off x="1357200" y="2851200"/>
            <a:ext cx="2520720" cy="863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11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357200" y="2851200"/>
                      <a:ext cx="252072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Object 6"/>
            <p:cNvGraphicFramePr/>
            <p:nvPr/>
          </p:nvGraphicFramePr>
          <p:xfrm>
            <a:off x="4214520" y="3000240"/>
            <a:ext cx="414000" cy="428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3" name="Object 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14520" y="3000240"/>
                      <a:ext cx="41400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0"/>
          <p:cNvGrpSpPr/>
          <p:nvPr/>
        </p:nvGrpSpPr>
        <p:grpSpPr>
          <a:xfrm>
            <a:off x="545400" y="571680"/>
            <a:ext cx="7430760" cy="1171440"/>
            <a:chOff x="545400" y="571680"/>
            <a:chExt cx="7430760" cy="1171440"/>
          </a:xfrm>
        </p:grpSpPr>
        <p:grpSp>
          <p:nvGrpSpPr>
            <p:cNvPr id="415" name="组合 1"/>
            <p:cNvGrpSpPr/>
            <p:nvPr/>
          </p:nvGrpSpPr>
          <p:grpSpPr>
            <a:xfrm>
              <a:off x="545400" y="571680"/>
              <a:ext cx="7430760" cy="1171440"/>
              <a:chOff x="545400" y="571680"/>
              <a:chExt cx="7430760" cy="1171440"/>
            </a:xfrm>
          </p:grpSpPr>
          <p:sp>
            <p:nvSpPr>
              <p:cNvPr id="416" name="Rectangle 15"/>
              <p:cNvSpPr/>
              <p:nvPr/>
            </p:nvSpPr>
            <p:spPr>
              <a:xfrm>
                <a:off x="1679400" y="571680"/>
                <a:ext cx="629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容易证明，对于任一常数   ，若当               时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7" name="Object 12"/>
              <p:cNvGraphicFramePr/>
              <p:nvPr/>
            </p:nvGraphicFramePr>
            <p:xfrm>
              <a:off x="4889520" y="720720"/>
              <a:ext cx="253800" cy="279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8" name="Object 1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89520" y="720720"/>
                        <a:ext cx="25380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9" name="Object 3"/>
              <p:cNvGraphicFramePr/>
              <p:nvPr/>
            </p:nvGraphicFramePr>
            <p:xfrm>
              <a:off x="4286160" y="1312920"/>
              <a:ext cx="537840" cy="330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0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286160" y="1312920"/>
                        <a:ext cx="537840" cy="33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1" name="Rectangle 15"/>
              <p:cNvSpPr/>
              <p:nvPr/>
            </p:nvSpPr>
            <p:spPr>
              <a:xfrm>
                <a:off x="545400" y="1214640"/>
                <a:ext cx="647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               则   是     上的线性泛函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22" name="Object 4"/>
              <p:cNvGraphicFramePr/>
              <p:nvPr/>
            </p:nvGraphicFramePr>
            <p:xfrm>
              <a:off x="642960" y="1285920"/>
              <a:ext cx="2520720" cy="457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42960" y="1285920"/>
                        <a:ext cx="252072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4" name="Object 6"/>
              <p:cNvGraphicFramePr/>
              <p:nvPr/>
            </p:nvGraphicFramePr>
            <p:xfrm>
              <a:off x="3643200" y="1309680"/>
              <a:ext cx="38232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5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643200" y="1309680"/>
                        <a:ext cx="3823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6" name="Object 2"/>
            <p:cNvGraphicFramePr/>
            <p:nvPr/>
          </p:nvGraphicFramePr>
          <p:xfrm>
            <a:off x="6286680" y="642960"/>
            <a:ext cx="1500120" cy="45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7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86680" y="642960"/>
                      <a:ext cx="15001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8" name="组合 1"/>
          <p:cNvGrpSpPr/>
          <p:nvPr/>
        </p:nvGrpSpPr>
        <p:grpSpPr>
          <a:xfrm>
            <a:off x="1143720" y="1928880"/>
            <a:ext cx="7728840" cy="520560"/>
            <a:chOff x="1143720" y="1928880"/>
            <a:chExt cx="7728840" cy="520560"/>
          </a:xfrm>
        </p:grpSpPr>
        <p:sp>
          <p:nvSpPr>
            <p:cNvPr id="429" name="Rectangle 15"/>
            <p:cNvSpPr/>
            <p:nvPr/>
          </p:nvSpPr>
          <p:spPr>
            <a:xfrm>
              <a:off x="1143720" y="1928880"/>
              <a:ext cx="43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下面我们证明适当选择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可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0" name="Object 8"/>
            <p:cNvGraphicFramePr/>
            <p:nvPr/>
          </p:nvGraphicFramePr>
          <p:xfrm>
            <a:off x="4500360" y="2078280"/>
            <a:ext cx="253800" cy="27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00360" y="207828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Object 10"/>
            <p:cNvGraphicFramePr/>
            <p:nvPr/>
          </p:nvGraphicFramePr>
          <p:xfrm>
            <a:off x="5500800" y="2000160"/>
            <a:ext cx="3371760" cy="406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3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00800" y="2000160"/>
                      <a:ext cx="3371760" cy="4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4" name="组合 25"/>
          <p:cNvGrpSpPr/>
          <p:nvPr/>
        </p:nvGrpSpPr>
        <p:grpSpPr>
          <a:xfrm>
            <a:off x="516240" y="2643120"/>
            <a:ext cx="8372160" cy="1028880"/>
            <a:chOff x="516240" y="2643120"/>
            <a:chExt cx="8372160" cy="1028880"/>
          </a:xfrm>
        </p:grpSpPr>
        <p:sp>
          <p:nvSpPr>
            <p:cNvPr id="435" name="Rectangle 15"/>
            <p:cNvSpPr/>
            <p:nvPr/>
          </p:nvSpPr>
          <p:spPr>
            <a:xfrm>
              <a:off x="516240" y="2643120"/>
              <a:ext cx="530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对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6" name="Object 13"/>
            <p:cNvGraphicFramePr/>
            <p:nvPr/>
          </p:nvGraphicFramePr>
          <p:xfrm>
            <a:off x="2247840" y="2736720"/>
            <a:ext cx="1466640" cy="406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37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47840" y="2736720"/>
                      <a:ext cx="1466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14"/>
            <p:cNvGraphicFramePr/>
            <p:nvPr/>
          </p:nvGraphicFramePr>
          <p:xfrm>
            <a:off x="785880" y="3214800"/>
            <a:ext cx="810252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9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5880" y="3214800"/>
                      <a:ext cx="8102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26"/>
          <p:cNvGrpSpPr/>
          <p:nvPr/>
        </p:nvGrpSpPr>
        <p:grpSpPr>
          <a:xfrm>
            <a:off x="60480" y="3714840"/>
            <a:ext cx="6724440" cy="743040"/>
            <a:chOff x="60480" y="3714840"/>
            <a:chExt cx="6724440" cy="743040"/>
          </a:xfrm>
        </p:grpSpPr>
        <p:sp>
          <p:nvSpPr>
            <p:cNvPr id="441" name="Rectangle 15"/>
            <p:cNvSpPr/>
            <p:nvPr/>
          </p:nvSpPr>
          <p:spPr>
            <a:xfrm>
              <a:off x="60480" y="3714840"/>
              <a:ext cx="142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2" name="Object 15"/>
            <p:cNvGraphicFramePr/>
            <p:nvPr/>
          </p:nvGraphicFramePr>
          <p:xfrm>
            <a:off x="1714320" y="4000680"/>
            <a:ext cx="507060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14320" y="4000680"/>
                      <a:ext cx="50706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1"/>
          <p:cNvGrpSpPr/>
          <p:nvPr/>
        </p:nvGrpSpPr>
        <p:grpSpPr>
          <a:xfrm>
            <a:off x="263880" y="571680"/>
            <a:ext cx="3856680" cy="520560"/>
            <a:chOff x="263880" y="571680"/>
            <a:chExt cx="3856680" cy="520560"/>
          </a:xfrm>
        </p:grpSpPr>
        <p:sp>
          <p:nvSpPr>
            <p:cNvPr id="445" name="Rectangle 15"/>
            <p:cNvSpPr/>
            <p:nvPr/>
          </p:nvSpPr>
          <p:spPr>
            <a:xfrm>
              <a:off x="263880" y="57168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存在   满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6" name="Object 10"/>
            <p:cNvGraphicFramePr/>
            <p:nvPr/>
          </p:nvGraphicFramePr>
          <p:xfrm>
            <a:off x="1500120" y="714600"/>
            <a:ext cx="253800" cy="2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71460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48" name="Object 15"/>
          <p:cNvGraphicFramePr/>
          <p:nvPr/>
        </p:nvGraphicFramePr>
        <p:xfrm>
          <a:off x="1571760" y="1143000"/>
          <a:ext cx="654192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5419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组合 6"/>
          <p:cNvGrpSpPr/>
          <p:nvPr/>
        </p:nvGrpSpPr>
        <p:grpSpPr>
          <a:xfrm>
            <a:off x="829440" y="1928880"/>
            <a:ext cx="5740560" cy="520560"/>
            <a:chOff x="829440" y="1928880"/>
            <a:chExt cx="5740560" cy="520560"/>
          </a:xfrm>
        </p:grpSpPr>
        <p:sp>
          <p:nvSpPr>
            <p:cNvPr id="451" name="Rectangle 15"/>
            <p:cNvSpPr/>
            <p:nvPr/>
          </p:nvSpPr>
          <p:spPr>
            <a:xfrm>
              <a:off x="829440" y="1928880"/>
              <a:ext cx="57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这样的  作成如上的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2" name="Object 5"/>
            <p:cNvGraphicFramePr/>
            <p:nvPr/>
          </p:nvGraphicFramePr>
          <p:xfrm>
            <a:off x="1928880" y="2071800"/>
            <a:ext cx="253800" cy="27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8880" y="207180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4" name="组合 18"/>
          <p:cNvGrpSpPr/>
          <p:nvPr/>
        </p:nvGrpSpPr>
        <p:grpSpPr>
          <a:xfrm>
            <a:off x="524160" y="2786040"/>
            <a:ext cx="8366760" cy="1386000"/>
            <a:chOff x="524160" y="2786040"/>
            <a:chExt cx="8366760" cy="1386000"/>
          </a:xfrm>
        </p:grpSpPr>
        <p:grpSp>
          <p:nvGrpSpPr>
            <p:cNvPr id="455" name="组合 1"/>
            <p:cNvGrpSpPr/>
            <p:nvPr/>
          </p:nvGrpSpPr>
          <p:grpSpPr>
            <a:xfrm>
              <a:off x="675360" y="2786040"/>
              <a:ext cx="8215560" cy="947160"/>
              <a:chOff x="675360" y="2786040"/>
              <a:chExt cx="8215560" cy="947160"/>
            </a:xfrm>
          </p:grpSpPr>
          <p:sp>
            <p:nvSpPr>
              <p:cNvPr id="456" name="Rectangle 15"/>
              <p:cNvSpPr/>
              <p:nvPr/>
            </p:nvSpPr>
            <p:spPr>
              <a:xfrm>
                <a:off x="675360" y="2786040"/>
                <a:ext cx="8215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用       代替   ，则                                       从而有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7" name="Object 7"/>
              <p:cNvGraphicFramePr/>
              <p:nvPr/>
            </p:nvGraphicFramePr>
            <p:xfrm>
              <a:off x="4279680" y="2831760"/>
              <a:ext cx="4279680" cy="45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58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79680" y="2831760"/>
                        <a:ext cx="42796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9" name="Object 2"/>
            <p:cNvGraphicFramePr/>
            <p:nvPr/>
          </p:nvGraphicFramePr>
          <p:xfrm>
            <a:off x="1564920" y="2857320"/>
            <a:ext cx="2357280" cy="45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0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64920" y="2857320"/>
                      <a:ext cx="23572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9"/>
            <p:cNvGraphicFramePr/>
            <p:nvPr/>
          </p:nvGraphicFramePr>
          <p:xfrm>
            <a:off x="922320" y="3286080"/>
            <a:ext cx="617400" cy="40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22320" y="3286080"/>
                      <a:ext cx="617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3" name="Object 10"/>
            <p:cNvGraphicFramePr/>
            <p:nvPr/>
          </p:nvGraphicFramePr>
          <p:xfrm>
            <a:off x="2207880" y="3357720"/>
            <a:ext cx="32220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7880" y="3357720"/>
                      <a:ext cx="3222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5" name="Object 11"/>
            <p:cNvGraphicFramePr/>
            <p:nvPr/>
          </p:nvGraphicFramePr>
          <p:xfrm>
            <a:off x="3350880" y="3232080"/>
            <a:ext cx="3570120" cy="482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50880" y="3232080"/>
                      <a:ext cx="3570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12"/>
            <p:cNvGraphicFramePr/>
            <p:nvPr/>
          </p:nvGraphicFramePr>
          <p:xfrm>
            <a:off x="524160" y="3714840"/>
            <a:ext cx="521136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4160" y="3714840"/>
                      <a:ext cx="521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组合 12"/>
          <p:cNvGrpSpPr/>
          <p:nvPr/>
        </p:nvGrpSpPr>
        <p:grpSpPr>
          <a:xfrm>
            <a:off x="500040" y="857160"/>
            <a:ext cx="8080560" cy="1906560"/>
            <a:chOff x="500040" y="857160"/>
            <a:chExt cx="8080560" cy="1906560"/>
          </a:xfrm>
        </p:grpSpPr>
        <p:grpSp>
          <p:nvGrpSpPr>
            <p:cNvPr id="470" name="组合 1"/>
            <p:cNvGrpSpPr/>
            <p:nvPr/>
          </p:nvGrpSpPr>
          <p:grpSpPr>
            <a:xfrm>
              <a:off x="529920" y="857160"/>
              <a:ext cx="8050680" cy="1386000"/>
              <a:chOff x="529920" y="857160"/>
              <a:chExt cx="8050680" cy="1386000"/>
            </a:xfrm>
          </p:grpSpPr>
          <p:grpSp>
            <p:nvGrpSpPr>
              <p:cNvPr id="471" name="组合 1"/>
              <p:cNvGrpSpPr/>
              <p:nvPr/>
            </p:nvGrpSpPr>
            <p:grpSpPr>
              <a:xfrm>
                <a:off x="529920" y="857160"/>
                <a:ext cx="8007840" cy="1373760"/>
                <a:chOff x="529920" y="857160"/>
                <a:chExt cx="8007840" cy="1373760"/>
              </a:xfrm>
            </p:grpSpPr>
            <p:sp>
              <p:nvSpPr>
                <p:cNvPr id="472" name="Rectangle 15"/>
                <p:cNvSpPr/>
                <p:nvPr/>
              </p:nvSpPr>
              <p:spPr>
                <a:xfrm>
                  <a:off x="529920" y="857160"/>
                  <a:ext cx="76028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用        代替   ，则                                           即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73" name="Object 15"/>
                <p:cNvGraphicFramePr/>
                <p:nvPr/>
              </p:nvGraphicFramePr>
              <p:xfrm>
                <a:off x="4313520" y="902880"/>
                <a:ext cx="4224240" cy="457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4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313520" y="902880"/>
                          <a:ext cx="4224240" cy="457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5" name="Object 2"/>
              <p:cNvGraphicFramePr/>
              <p:nvPr/>
            </p:nvGraphicFramePr>
            <p:xfrm>
              <a:off x="1571760" y="928440"/>
              <a:ext cx="2357280" cy="457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6" name="Object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71760" y="928440"/>
                        <a:ext cx="23572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4"/>
              <p:cNvGraphicFramePr/>
              <p:nvPr/>
            </p:nvGraphicFramePr>
            <p:xfrm>
              <a:off x="825480" y="1307880"/>
              <a:ext cx="82368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7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480" y="1307880"/>
                        <a:ext cx="82368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5"/>
              <p:cNvGraphicFramePr/>
              <p:nvPr/>
            </p:nvGraphicFramePr>
            <p:xfrm>
              <a:off x="2335320" y="1454040"/>
              <a:ext cx="293400" cy="279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8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335320" y="1454040"/>
                        <a:ext cx="29340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1" name="Object 6"/>
              <p:cNvGraphicFramePr/>
              <p:nvPr/>
            </p:nvGraphicFramePr>
            <p:xfrm>
              <a:off x="3462480" y="1303200"/>
              <a:ext cx="3967200" cy="482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8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62480" y="1303200"/>
                        <a:ext cx="396720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3" name="Object 7"/>
              <p:cNvGraphicFramePr/>
              <p:nvPr/>
            </p:nvGraphicFramePr>
            <p:xfrm>
              <a:off x="4500720" y="1785960"/>
              <a:ext cx="4079880" cy="457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84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500720" y="1785960"/>
                        <a:ext cx="40798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5" name="Object 8"/>
            <p:cNvGraphicFramePr/>
            <p:nvPr/>
          </p:nvGraphicFramePr>
          <p:xfrm>
            <a:off x="500040" y="1785960"/>
            <a:ext cx="3289320" cy="45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8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0040" y="1785960"/>
                      <a:ext cx="32893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7" name="Object 9"/>
            <p:cNvGraphicFramePr/>
            <p:nvPr/>
          </p:nvGraphicFramePr>
          <p:xfrm>
            <a:off x="571320" y="2357280"/>
            <a:ext cx="1131840" cy="406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8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1320" y="2357280"/>
                      <a:ext cx="11318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9" name="组合 21"/>
          <p:cNvGrpSpPr/>
          <p:nvPr/>
        </p:nvGrpSpPr>
        <p:grpSpPr>
          <a:xfrm>
            <a:off x="532800" y="3000240"/>
            <a:ext cx="7961040" cy="952920"/>
            <a:chOff x="532800" y="3000240"/>
            <a:chExt cx="7961040" cy="952920"/>
          </a:xfrm>
        </p:grpSpPr>
        <p:grpSp>
          <p:nvGrpSpPr>
            <p:cNvPr id="490" name="组合 13"/>
            <p:cNvGrpSpPr/>
            <p:nvPr/>
          </p:nvGrpSpPr>
          <p:grpSpPr>
            <a:xfrm>
              <a:off x="532800" y="3000240"/>
              <a:ext cx="7961040" cy="947160"/>
              <a:chOff x="532800" y="3000240"/>
              <a:chExt cx="7961040" cy="947160"/>
            </a:xfrm>
          </p:grpSpPr>
          <p:sp>
            <p:nvSpPr>
              <p:cNvPr id="491" name="Rectangle 15"/>
              <p:cNvSpPr/>
              <p:nvPr/>
            </p:nvSpPr>
            <p:spPr>
              <a:xfrm>
                <a:off x="532800" y="3000240"/>
                <a:ext cx="796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当        时，显然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是   从   到   上的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92" name="Object 10"/>
              <p:cNvGraphicFramePr/>
              <p:nvPr/>
            </p:nvGraphicFramePr>
            <p:xfrm>
              <a:off x="1795320" y="3105000"/>
              <a:ext cx="704880" cy="3556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93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95320" y="3105000"/>
                        <a:ext cx="70488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4" name="Object 11"/>
            <p:cNvGraphicFramePr/>
            <p:nvPr/>
          </p:nvGraphicFramePr>
          <p:xfrm>
            <a:off x="3936960" y="3071520"/>
            <a:ext cx="399240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95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36960" y="3071520"/>
                      <a:ext cx="39924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12"/>
            <p:cNvGraphicFramePr/>
            <p:nvPr/>
          </p:nvGraphicFramePr>
          <p:xfrm>
            <a:off x="1071360" y="3500280"/>
            <a:ext cx="34128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97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71360" y="350028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Object 13"/>
            <p:cNvGraphicFramePr/>
            <p:nvPr/>
          </p:nvGraphicFramePr>
          <p:xfrm>
            <a:off x="1628640" y="3475080"/>
            <a:ext cx="369720" cy="4780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99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28640" y="3475080"/>
                      <a:ext cx="36972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Object 14"/>
            <p:cNvGraphicFramePr/>
            <p:nvPr/>
          </p:nvGraphicFramePr>
          <p:xfrm>
            <a:off x="2286000" y="3500280"/>
            <a:ext cx="453960" cy="3463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01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86000" y="3500280"/>
                      <a:ext cx="453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Object 15"/>
            <p:cNvGraphicFramePr/>
            <p:nvPr/>
          </p:nvGraphicFramePr>
          <p:xfrm>
            <a:off x="2932200" y="3500280"/>
            <a:ext cx="539640" cy="345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03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32200" y="3500280"/>
                      <a:ext cx="5396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5"/>
          <p:cNvSpPr/>
          <p:nvPr/>
        </p:nvSpPr>
        <p:spPr>
          <a:xfrm>
            <a:off x="1933560" y="57168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现在我们应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Zo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引理可以完成定理的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5" name="组合 16"/>
          <p:cNvGrpSpPr/>
          <p:nvPr/>
        </p:nvGrpSpPr>
        <p:grpSpPr>
          <a:xfrm>
            <a:off x="1482480" y="1285920"/>
            <a:ext cx="7304400" cy="1893960"/>
            <a:chOff x="1482480" y="1285920"/>
            <a:chExt cx="7304400" cy="1893960"/>
          </a:xfrm>
        </p:grpSpPr>
        <p:grpSp>
          <p:nvGrpSpPr>
            <p:cNvPr id="506" name="组合 30"/>
            <p:cNvGrpSpPr/>
            <p:nvPr/>
          </p:nvGrpSpPr>
          <p:grpSpPr>
            <a:xfrm>
              <a:off x="1482480" y="1285920"/>
              <a:ext cx="5049360" cy="1800360"/>
              <a:chOff x="1482480" y="1285920"/>
              <a:chExt cx="5049360" cy="1800360"/>
            </a:xfrm>
          </p:grpSpPr>
          <p:sp>
            <p:nvSpPr>
              <p:cNvPr id="507" name="Rectangle 15"/>
              <p:cNvSpPr/>
              <p:nvPr/>
            </p:nvSpPr>
            <p:spPr>
              <a:xfrm>
                <a:off x="2193480" y="1285920"/>
                <a:ext cx="433836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    的所有延拓的集合，即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的子空间      上有定义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08" name="Object 25"/>
              <p:cNvGraphicFramePr/>
              <p:nvPr/>
            </p:nvGraphicFramePr>
            <p:xfrm>
              <a:off x="1482480" y="1342800"/>
              <a:ext cx="485640" cy="395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09" name="Object 2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82480" y="1342800"/>
                        <a:ext cx="485640" cy="3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10" name="Object 4"/>
            <p:cNvGraphicFramePr/>
            <p:nvPr/>
          </p:nvGraphicFramePr>
          <p:xfrm>
            <a:off x="2157120" y="1301760"/>
            <a:ext cx="4856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7120" y="1301760"/>
                      <a:ext cx="4856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2" name="Object 5"/>
            <p:cNvGraphicFramePr/>
            <p:nvPr/>
          </p:nvGraphicFramePr>
          <p:xfrm>
            <a:off x="7515360" y="1328760"/>
            <a:ext cx="127152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15360" y="1328760"/>
                      <a:ext cx="127152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4" name="Object 6"/>
            <p:cNvGraphicFramePr/>
            <p:nvPr/>
          </p:nvGraphicFramePr>
          <p:xfrm>
            <a:off x="1643040" y="1785960"/>
            <a:ext cx="411120" cy="36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3040" y="1785960"/>
                      <a:ext cx="41112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6" name="Object 7"/>
            <p:cNvGraphicFramePr/>
            <p:nvPr/>
          </p:nvGraphicFramePr>
          <p:xfrm>
            <a:off x="2286000" y="1785960"/>
            <a:ext cx="523800" cy="366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1785960"/>
                      <a:ext cx="52380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Object 9"/>
            <p:cNvGraphicFramePr/>
            <p:nvPr/>
          </p:nvGraphicFramePr>
          <p:xfrm>
            <a:off x="4040280" y="1773360"/>
            <a:ext cx="745920" cy="53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1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40280" y="1773360"/>
                      <a:ext cx="74592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Object 10"/>
            <p:cNvGraphicFramePr/>
            <p:nvPr/>
          </p:nvGraphicFramePr>
          <p:xfrm>
            <a:off x="6135840" y="1751040"/>
            <a:ext cx="1865160" cy="53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21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35840" y="1751040"/>
                      <a:ext cx="186516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2" name="Object 11"/>
            <p:cNvGraphicFramePr/>
            <p:nvPr/>
          </p:nvGraphicFramePr>
          <p:xfrm>
            <a:off x="1714320" y="2206800"/>
            <a:ext cx="4037040" cy="507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23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14320" y="2206800"/>
                      <a:ext cx="4037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4" name="Object 12"/>
            <p:cNvGraphicFramePr/>
            <p:nvPr/>
          </p:nvGraphicFramePr>
          <p:xfrm>
            <a:off x="1714320" y="2643480"/>
            <a:ext cx="3924360" cy="536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25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14320" y="2643480"/>
                      <a:ext cx="39243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6" name="组合 17"/>
          <p:cNvGrpSpPr/>
          <p:nvPr/>
        </p:nvGrpSpPr>
        <p:grpSpPr>
          <a:xfrm>
            <a:off x="1214280" y="3143160"/>
            <a:ext cx="7050600" cy="1373760"/>
            <a:chOff x="1214280" y="3143160"/>
            <a:chExt cx="7050600" cy="1373760"/>
          </a:xfrm>
        </p:grpSpPr>
        <p:grpSp>
          <p:nvGrpSpPr>
            <p:cNvPr id="527" name="组合 30"/>
            <p:cNvGrpSpPr/>
            <p:nvPr/>
          </p:nvGrpSpPr>
          <p:grpSpPr>
            <a:xfrm>
              <a:off x="1365840" y="3143160"/>
              <a:ext cx="6218640" cy="1373760"/>
              <a:chOff x="1365840" y="3143160"/>
              <a:chExt cx="6218640" cy="1373760"/>
            </a:xfrm>
          </p:grpSpPr>
          <p:sp>
            <p:nvSpPr>
              <p:cNvPr id="528" name="Rectangle 15"/>
              <p:cNvSpPr/>
              <p:nvPr/>
            </p:nvSpPr>
            <p:spPr>
              <a:xfrm>
                <a:off x="1365840" y="3143160"/>
                <a:ext cx="62186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中规定半序            当且仅当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                                        容易验证，  确实为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半序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29" name="Object 13"/>
              <p:cNvGraphicFramePr/>
              <p:nvPr/>
            </p:nvGraphicFramePr>
            <p:xfrm>
              <a:off x="1482840" y="3200040"/>
              <a:ext cx="485640" cy="394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30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482840" y="3200040"/>
                        <a:ext cx="48564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31" name="Object 14"/>
            <p:cNvGraphicFramePr/>
            <p:nvPr/>
          </p:nvGraphicFramePr>
          <p:xfrm>
            <a:off x="3553200" y="3171600"/>
            <a:ext cx="1233360" cy="45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32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553200" y="3171600"/>
                      <a:ext cx="1233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3" name="Object 15"/>
            <p:cNvGraphicFramePr/>
            <p:nvPr/>
          </p:nvGraphicFramePr>
          <p:xfrm>
            <a:off x="6858720" y="3642840"/>
            <a:ext cx="485640" cy="394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4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720" y="3642840"/>
                      <a:ext cx="48564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Object 19"/>
            <p:cNvGraphicFramePr/>
            <p:nvPr/>
          </p:nvGraphicFramePr>
          <p:xfrm>
            <a:off x="6175800" y="3214440"/>
            <a:ext cx="2089080" cy="534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6" name="Object 1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175800" y="3214440"/>
                      <a:ext cx="208908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Object 21"/>
            <p:cNvGraphicFramePr/>
            <p:nvPr/>
          </p:nvGraphicFramePr>
          <p:xfrm>
            <a:off x="1214280" y="3571560"/>
            <a:ext cx="4035600" cy="5364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38" name="Object 21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214280" y="3571560"/>
                      <a:ext cx="40356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15"/>
          <p:cNvGrpSpPr/>
          <p:nvPr/>
        </p:nvGrpSpPr>
        <p:grpSpPr>
          <a:xfrm>
            <a:off x="785520" y="642960"/>
            <a:ext cx="7930080" cy="2286000"/>
            <a:chOff x="785520" y="642960"/>
            <a:chExt cx="7930080" cy="2286000"/>
          </a:xfrm>
        </p:grpSpPr>
        <p:grpSp>
          <p:nvGrpSpPr>
            <p:cNvPr id="540" name="组合 1"/>
            <p:cNvGrpSpPr/>
            <p:nvPr/>
          </p:nvGrpSpPr>
          <p:grpSpPr>
            <a:xfrm>
              <a:off x="1214280" y="642960"/>
              <a:ext cx="6718680" cy="2226960"/>
              <a:chOff x="1214280" y="642960"/>
              <a:chExt cx="6718680" cy="2226960"/>
            </a:xfrm>
          </p:grpSpPr>
          <p:grpSp>
            <p:nvGrpSpPr>
              <p:cNvPr id="541" name="组合 30"/>
              <p:cNvGrpSpPr/>
              <p:nvPr/>
            </p:nvGrpSpPr>
            <p:grpSpPr>
              <a:xfrm>
                <a:off x="1227960" y="642960"/>
                <a:ext cx="6705000" cy="2226960"/>
                <a:chOff x="1227960" y="642960"/>
                <a:chExt cx="6705000" cy="2226960"/>
              </a:xfrm>
            </p:grpSpPr>
            <p:sp>
              <p:nvSpPr>
                <p:cNvPr id="542" name="Rectangle 15"/>
                <p:cNvSpPr/>
                <p:nvPr/>
              </p:nvSpPr>
              <p:spPr>
                <a:xfrm>
                  <a:off x="1227960" y="642960"/>
                  <a:ext cx="6705000" cy="22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    全序子集，                             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时，定义                       由于     是全序的，  为线性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子空间：当                时，若                               不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则                                        此时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43" name="Object 25"/>
                <p:cNvGraphicFramePr/>
                <p:nvPr/>
              </p:nvGraphicFramePr>
              <p:xfrm>
                <a:off x="2014560" y="714240"/>
                <a:ext cx="485640" cy="395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44" name="Object 2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14560" y="714240"/>
                          <a:ext cx="485640" cy="39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45" name="Object 3"/>
              <p:cNvGraphicFramePr/>
              <p:nvPr/>
            </p:nvGraphicFramePr>
            <p:xfrm>
              <a:off x="1214280" y="707760"/>
              <a:ext cx="560160" cy="506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4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4280" y="707760"/>
                        <a:ext cx="56016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7" name="Object 4"/>
              <p:cNvGraphicFramePr/>
              <p:nvPr/>
            </p:nvGraphicFramePr>
            <p:xfrm>
              <a:off x="2173320" y="1944720"/>
              <a:ext cx="175572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173320" y="1944720"/>
                        <a:ext cx="17557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9" name="Object 5"/>
              <p:cNvGraphicFramePr/>
              <p:nvPr/>
            </p:nvGraphicFramePr>
            <p:xfrm>
              <a:off x="4000680" y="696960"/>
              <a:ext cx="3036960" cy="731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5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00680" y="696960"/>
                        <a:ext cx="3036960" cy="73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1" name="Object 6"/>
              <p:cNvGraphicFramePr/>
              <p:nvPr/>
            </p:nvGraphicFramePr>
            <p:xfrm>
              <a:off x="1857240" y="1571760"/>
              <a:ext cx="2278080" cy="452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5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857240" y="1571760"/>
                        <a:ext cx="2278080" cy="45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53" name="Object 7"/>
            <p:cNvGraphicFramePr/>
            <p:nvPr/>
          </p:nvGraphicFramePr>
          <p:xfrm>
            <a:off x="7334640" y="677880"/>
            <a:ext cx="1380960" cy="536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34640" y="677880"/>
                      <a:ext cx="13809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Object 8"/>
            <p:cNvGraphicFramePr/>
            <p:nvPr/>
          </p:nvGraphicFramePr>
          <p:xfrm>
            <a:off x="4786560" y="1565280"/>
            <a:ext cx="560160" cy="50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86560" y="1565280"/>
                      <a:ext cx="56016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Object 9"/>
            <p:cNvGraphicFramePr/>
            <p:nvPr/>
          </p:nvGraphicFramePr>
          <p:xfrm>
            <a:off x="6903000" y="1577880"/>
            <a:ext cx="598320" cy="422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03000" y="1577880"/>
                      <a:ext cx="59832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Object 10"/>
            <p:cNvGraphicFramePr/>
            <p:nvPr/>
          </p:nvGraphicFramePr>
          <p:xfrm>
            <a:off x="4829400" y="1986120"/>
            <a:ext cx="3100680" cy="536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6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29400" y="1986120"/>
                      <a:ext cx="3100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Object 11"/>
            <p:cNvGraphicFramePr/>
            <p:nvPr/>
          </p:nvGraphicFramePr>
          <p:xfrm>
            <a:off x="785520" y="2392560"/>
            <a:ext cx="2054160" cy="536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6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5520" y="2392560"/>
                      <a:ext cx="20541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Object 12"/>
            <p:cNvGraphicFramePr/>
            <p:nvPr/>
          </p:nvGraphicFramePr>
          <p:xfrm>
            <a:off x="3224160" y="2363760"/>
            <a:ext cx="3848400" cy="565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64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24160" y="2363760"/>
                      <a:ext cx="38484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Object 13"/>
          <p:cNvGraphicFramePr/>
          <p:nvPr/>
        </p:nvGraphicFramePr>
        <p:xfrm>
          <a:off x="500040" y="3143160"/>
          <a:ext cx="8478720" cy="113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0040" y="3143160"/>
                    <a:ext cx="84787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57120" y="857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18"/>
          <p:cNvGrpSpPr/>
          <p:nvPr/>
        </p:nvGrpSpPr>
        <p:grpSpPr>
          <a:xfrm>
            <a:off x="1177920" y="928800"/>
            <a:ext cx="6267240" cy="2593080"/>
            <a:chOff x="1177920" y="928800"/>
            <a:chExt cx="6267240" cy="2593080"/>
          </a:xfrm>
        </p:grpSpPr>
        <p:grpSp>
          <p:nvGrpSpPr>
            <p:cNvPr id="87" name="组合 48"/>
            <p:cNvGrpSpPr/>
            <p:nvPr/>
          </p:nvGrpSpPr>
          <p:grpSpPr>
            <a:xfrm>
              <a:off x="2825640" y="928800"/>
              <a:ext cx="4437360" cy="1008360"/>
              <a:chOff x="2825640" y="928800"/>
              <a:chExt cx="4437360" cy="1008360"/>
            </a:xfrm>
          </p:grpSpPr>
          <p:sp>
            <p:nvSpPr>
              <p:cNvPr id="88" name="Rectangle 15"/>
              <p:cNvSpPr/>
              <p:nvPr/>
            </p:nvSpPr>
            <p:spPr>
              <a:xfrm>
                <a:off x="2825640" y="928800"/>
                <a:ext cx="326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buClr>
                    <a:srgbClr val="000000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为任意点集，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9" name="Object 2"/>
              <p:cNvGraphicFramePr/>
              <p:nvPr/>
            </p:nvGraphicFramePr>
            <p:xfrm>
              <a:off x="3214440" y="1428840"/>
              <a:ext cx="4048560" cy="508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0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14440" y="1428840"/>
                        <a:ext cx="4048560" cy="50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" name="Object 26"/>
              <p:cNvGraphicFramePr/>
              <p:nvPr/>
            </p:nvGraphicFramePr>
            <p:xfrm>
              <a:off x="3077640" y="1036080"/>
              <a:ext cx="851040" cy="392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77640" y="1036080"/>
                        <a:ext cx="851040" cy="39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3" name="Rectangle 15"/>
            <p:cNvSpPr/>
            <p:nvPr/>
          </p:nvSpPr>
          <p:spPr>
            <a:xfrm>
              <a:off x="1803600" y="1929240"/>
              <a:ext cx="533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与    的积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为某个映射，称集合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94" name="Object 13"/>
            <p:cNvGraphicFramePr/>
            <p:nvPr/>
          </p:nvGraphicFramePr>
          <p:xfrm>
            <a:off x="1643040" y="2000520"/>
            <a:ext cx="52236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43040" y="2000520"/>
                      <a:ext cx="5223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14"/>
            <p:cNvGraphicFramePr/>
            <p:nvPr/>
          </p:nvGraphicFramePr>
          <p:xfrm>
            <a:off x="2357280" y="2040480"/>
            <a:ext cx="471240" cy="41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57280" y="2040480"/>
                      <a:ext cx="4712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15"/>
            <p:cNvGraphicFramePr/>
            <p:nvPr/>
          </p:nvGraphicFramePr>
          <p:xfrm>
            <a:off x="3000240" y="2572200"/>
            <a:ext cx="4444920" cy="507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9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00240" y="2572200"/>
                      <a:ext cx="444492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Rectangle 15"/>
            <p:cNvSpPr/>
            <p:nvPr/>
          </p:nvSpPr>
          <p:spPr>
            <a:xfrm>
              <a:off x="1177920" y="300132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的图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1" name="Object 16"/>
            <p:cNvGraphicFramePr/>
            <p:nvPr/>
          </p:nvGraphicFramePr>
          <p:xfrm>
            <a:off x="1944720" y="3072600"/>
            <a:ext cx="412560" cy="366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2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44720" y="3072600"/>
                      <a:ext cx="41256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17"/>
          <p:cNvGrpSpPr/>
          <p:nvPr/>
        </p:nvGrpSpPr>
        <p:grpSpPr>
          <a:xfrm>
            <a:off x="827280" y="642960"/>
            <a:ext cx="8102520" cy="1373760"/>
            <a:chOff x="827280" y="642960"/>
            <a:chExt cx="8102520" cy="1373760"/>
          </a:xfrm>
        </p:grpSpPr>
        <p:grpSp>
          <p:nvGrpSpPr>
            <p:cNvPr id="568" name="组合 1"/>
            <p:cNvGrpSpPr/>
            <p:nvPr/>
          </p:nvGrpSpPr>
          <p:grpSpPr>
            <a:xfrm>
              <a:off x="827280" y="642960"/>
              <a:ext cx="8102520" cy="1373760"/>
              <a:chOff x="827280" y="642960"/>
              <a:chExt cx="8102520" cy="1373760"/>
            </a:xfrm>
          </p:grpSpPr>
          <p:grpSp>
            <p:nvGrpSpPr>
              <p:cNvPr id="569" name="组合 1"/>
              <p:cNvGrpSpPr/>
              <p:nvPr/>
            </p:nvGrpSpPr>
            <p:grpSpPr>
              <a:xfrm>
                <a:off x="827280" y="642960"/>
                <a:ext cx="8102520" cy="1373760"/>
                <a:chOff x="827280" y="642960"/>
                <a:chExt cx="8102520" cy="1373760"/>
              </a:xfrm>
            </p:grpSpPr>
            <p:grpSp>
              <p:nvGrpSpPr>
                <p:cNvPr id="570" name="组合 30"/>
                <p:cNvGrpSpPr/>
                <p:nvPr/>
              </p:nvGrpSpPr>
              <p:grpSpPr>
                <a:xfrm>
                  <a:off x="827280" y="642960"/>
                  <a:ext cx="6584400" cy="1373760"/>
                  <a:chOff x="827280" y="642960"/>
                  <a:chExt cx="6584400" cy="1373760"/>
                </a:xfrm>
              </p:grpSpPr>
              <p:sp>
                <p:nvSpPr>
                  <p:cNvPr id="571" name="Rectangle 15"/>
                  <p:cNvSpPr/>
                  <p:nvPr/>
                </p:nvSpPr>
                <p:spPr>
                  <a:xfrm>
                    <a:off x="827280" y="642960"/>
                    <a:ext cx="658440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显然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并且当          时，     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又若          ，不妨设             ，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从而                                        ，   是     的上界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572" name="Object 18"/>
                  <p:cNvGraphicFramePr/>
                  <p:nvPr/>
                </p:nvGraphicFramePr>
                <p:xfrm>
                  <a:off x="1071360" y="1499760"/>
                  <a:ext cx="3929040" cy="4942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73" name="Object 18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071360" y="1499760"/>
                            <a:ext cx="3929040" cy="4942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574" name="Object 3"/>
                <p:cNvGraphicFramePr/>
                <p:nvPr/>
              </p:nvGraphicFramePr>
              <p:xfrm>
                <a:off x="1571760" y="667440"/>
                <a:ext cx="1500120" cy="403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75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71760" y="667440"/>
                          <a:ext cx="1500120" cy="40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76" name="Object 4"/>
                <p:cNvGraphicFramePr/>
                <p:nvPr/>
              </p:nvGraphicFramePr>
              <p:xfrm>
                <a:off x="1000080" y="1071360"/>
                <a:ext cx="1269720" cy="450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7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000080" y="1071360"/>
                          <a:ext cx="1269720" cy="45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78" name="Object 6"/>
                <p:cNvGraphicFramePr/>
                <p:nvPr/>
              </p:nvGraphicFramePr>
              <p:xfrm>
                <a:off x="5572440" y="685800"/>
                <a:ext cx="3357360" cy="4672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79" name="Object 6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572440" y="685800"/>
                          <a:ext cx="3357360" cy="46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80" name="Object 7"/>
              <p:cNvGraphicFramePr/>
              <p:nvPr/>
            </p:nvGraphicFramePr>
            <p:xfrm>
              <a:off x="4000680" y="712800"/>
              <a:ext cx="1269720" cy="394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81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000680" y="712800"/>
                        <a:ext cx="126972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2" name="Object 10"/>
              <p:cNvGraphicFramePr/>
              <p:nvPr/>
            </p:nvGraphicFramePr>
            <p:xfrm>
              <a:off x="3429000" y="1106280"/>
              <a:ext cx="1380960" cy="536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83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429000" y="1106280"/>
                        <a:ext cx="138096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4" name="Object 11"/>
              <p:cNvGraphicFramePr/>
              <p:nvPr/>
            </p:nvGraphicFramePr>
            <p:xfrm>
              <a:off x="5286600" y="1533240"/>
              <a:ext cx="372960" cy="394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85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286600" y="1533240"/>
                        <a:ext cx="37296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6" name="Object 12"/>
              <p:cNvGraphicFramePr/>
              <p:nvPr/>
            </p:nvGraphicFramePr>
            <p:xfrm>
              <a:off x="6100920" y="1571040"/>
              <a:ext cx="471240" cy="4284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587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100920" y="1571040"/>
                        <a:ext cx="47124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88" name="Object 13"/>
            <p:cNvGraphicFramePr/>
            <p:nvPr/>
          </p:nvGraphicFramePr>
          <p:xfrm>
            <a:off x="5551560" y="1168200"/>
            <a:ext cx="3254400" cy="41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8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51560" y="1168200"/>
                      <a:ext cx="3254400" cy="41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0" name="组合 1"/>
          <p:cNvGrpSpPr/>
          <p:nvPr/>
        </p:nvGrpSpPr>
        <p:grpSpPr>
          <a:xfrm>
            <a:off x="1280880" y="2286000"/>
            <a:ext cx="6369480" cy="1000080"/>
            <a:chOff x="1280880" y="2286000"/>
            <a:chExt cx="6369480" cy="1000080"/>
          </a:xfrm>
        </p:grpSpPr>
        <p:grpSp>
          <p:nvGrpSpPr>
            <p:cNvPr id="591" name="组合 1"/>
            <p:cNvGrpSpPr/>
            <p:nvPr/>
          </p:nvGrpSpPr>
          <p:grpSpPr>
            <a:xfrm>
              <a:off x="1280880" y="2286000"/>
              <a:ext cx="6369480" cy="947160"/>
              <a:chOff x="1280880" y="2286000"/>
              <a:chExt cx="6369480" cy="947160"/>
            </a:xfrm>
          </p:grpSpPr>
          <p:sp>
            <p:nvSpPr>
              <p:cNvPr id="592" name="Rectangle 15"/>
              <p:cNvSpPr/>
              <p:nvPr/>
            </p:nvSpPr>
            <p:spPr>
              <a:xfrm>
                <a:off x="1280880" y="2286000"/>
                <a:ext cx="6369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Zorn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引理，  有极大元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是定理中所需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要的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为此只须证明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93" name="Object 17"/>
              <p:cNvGraphicFramePr/>
              <p:nvPr/>
            </p:nvGraphicFramePr>
            <p:xfrm>
              <a:off x="5000400" y="2357280"/>
              <a:ext cx="411120" cy="4161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94" name="Object 17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000400" y="2357280"/>
                        <a:ext cx="411120" cy="41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95" name="Object 18"/>
            <p:cNvGraphicFramePr/>
            <p:nvPr/>
          </p:nvGraphicFramePr>
          <p:xfrm>
            <a:off x="3214440" y="2357280"/>
            <a:ext cx="485640" cy="395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6" name="Object 1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14440" y="2357280"/>
                      <a:ext cx="48564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Object 19"/>
            <p:cNvGraphicFramePr/>
            <p:nvPr/>
          </p:nvGraphicFramePr>
          <p:xfrm>
            <a:off x="4143240" y="2749680"/>
            <a:ext cx="1643040" cy="536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8" name="Object 1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2749680"/>
                      <a:ext cx="164304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99" name="Object 23"/>
          <p:cNvGraphicFramePr/>
          <p:nvPr/>
        </p:nvGraphicFramePr>
        <p:xfrm>
          <a:off x="5572080" y="2357280"/>
          <a:ext cx="41112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00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2080" y="2357280"/>
                    <a:ext cx="4111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1" name="组合 43"/>
          <p:cNvGrpSpPr/>
          <p:nvPr/>
        </p:nvGrpSpPr>
        <p:grpSpPr>
          <a:xfrm>
            <a:off x="401760" y="2690640"/>
            <a:ext cx="8359200" cy="1470600"/>
            <a:chOff x="401760" y="2690640"/>
            <a:chExt cx="8359200" cy="1470600"/>
          </a:xfrm>
        </p:grpSpPr>
        <p:sp>
          <p:nvSpPr>
            <p:cNvPr id="602" name="Rectangle 15"/>
            <p:cNvSpPr/>
            <p:nvPr/>
          </p:nvSpPr>
          <p:spPr>
            <a:xfrm>
              <a:off x="6491160" y="2690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若不然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03" name="组合 1"/>
            <p:cNvGrpSpPr/>
            <p:nvPr/>
          </p:nvGrpSpPr>
          <p:grpSpPr>
            <a:xfrm>
              <a:off x="401760" y="3214080"/>
              <a:ext cx="8359200" cy="947160"/>
              <a:chOff x="401760" y="3214080"/>
              <a:chExt cx="8359200" cy="947160"/>
            </a:xfrm>
          </p:grpSpPr>
          <p:sp>
            <p:nvSpPr>
              <p:cNvPr id="604" name="Rectangle 15"/>
              <p:cNvSpPr/>
              <p:nvPr/>
            </p:nvSpPr>
            <p:spPr>
              <a:xfrm>
                <a:off x="574560" y="3214080"/>
                <a:ext cx="8186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有                  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   ，这与    为极大元矛盾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605" name="Object 25"/>
              <p:cNvGraphicFramePr/>
              <p:nvPr/>
            </p:nvGraphicFramePr>
            <p:xfrm>
              <a:off x="401760" y="3317400"/>
              <a:ext cx="1955880" cy="4683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06" name="Object 25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01760" y="3317400"/>
                        <a:ext cx="195588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7" name="Object 26"/>
              <p:cNvGraphicFramePr/>
              <p:nvPr/>
            </p:nvGraphicFramePr>
            <p:xfrm>
              <a:off x="3643560" y="3259440"/>
              <a:ext cx="5000760" cy="5266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608" name="Object 26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3643560" y="3259440"/>
                        <a:ext cx="5000760" cy="52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09" name="Object 27"/>
            <p:cNvGraphicFramePr/>
            <p:nvPr/>
          </p:nvGraphicFramePr>
          <p:xfrm>
            <a:off x="853920" y="3714480"/>
            <a:ext cx="2432160" cy="416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610" name="Object 27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53920" y="3714480"/>
                      <a:ext cx="243216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Object 29"/>
            <p:cNvGraphicFramePr/>
            <p:nvPr/>
          </p:nvGraphicFramePr>
          <p:xfrm>
            <a:off x="4286520" y="3714480"/>
            <a:ext cx="411120" cy="4161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612" name="Object 29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286520" y="3714480"/>
                      <a:ext cx="41112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6"/>
          <p:cNvGrpSpPr/>
          <p:nvPr/>
        </p:nvGrpSpPr>
        <p:grpSpPr>
          <a:xfrm>
            <a:off x="1178280" y="714240"/>
            <a:ext cx="6670440" cy="2092680"/>
            <a:chOff x="1178280" y="714240"/>
            <a:chExt cx="6670440" cy="2092680"/>
          </a:xfrm>
        </p:grpSpPr>
        <p:grpSp>
          <p:nvGrpSpPr>
            <p:cNvPr id="104" name="组合 48"/>
            <p:cNvGrpSpPr/>
            <p:nvPr/>
          </p:nvGrpSpPr>
          <p:grpSpPr>
            <a:xfrm>
              <a:off x="1178280" y="714240"/>
              <a:ext cx="6621120" cy="1537200"/>
              <a:chOff x="1178280" y="714240"/>
              <a:chExt cx="6621120" cy="1537200"/>
            </a:xfrm>
          </p:grpSpPr>
          <p:sp>
            <p:nvSpPr>
              <p:cNvPr id="105" name="Rectangle 15"/>
              <p:cNvSpPr/>
              <p:nvPr/>
            </p:nvSpPr>
            <p:spPr>
              <a:xfrm>
                <a:off x="1178280" y="714240"/>
                <a:ext cx="5649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为度量空间，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06" name="Object 2"/>
              <p:cNvGraphicFramePr/>
              <p:nvPr/>
            </p:nvGraphicFramePr>
            <p:xfrm>
              <a:off x="1714680" y="1285920"/>
              <a:ext cx="6084720" cy="965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14680" y="1285920"/>
                        <a:ext cx="6084720" cy="96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8" name="Object 26"/>
              <p:cNvGraphicFramePr/>
              <p:nvPr/>
            </p:nvGraphicFramePr>
            <p:xfrm>
              <a:off x="1933560" y="785520"/>
              <a:ext cx="2423880" cy="441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9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33560" y="785520"/>
                        <a:ext cx="2423880" cy="44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0" name="Rectangle 15"/>
            <p:cNvSpPr/>
            <p:nvPr/>
          </p:nvSpPr>
          <p:spPr>
            <a:xfrm>
              <a:off x="1744200" y="2286360"/>
              <a:ext cx="61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       的度量函数，          为度量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1" name="Object 4"/>
            <p:cNvGraphicFramePr/>
            <p:nvPr/>
          </p:nvGraphicFramePr>
          <p:xfrm>
            <a:off x="1714320" y="2358000"/>
            <a:ext cx="1262520" cy="3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14320" y="2358000"/>
                      <a:ext cx="12625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8"/>
            <p:cNvGraphicFramePr/>
            <p:nvPr/>
          </p:nvGraphicFramePr>
          <p:xfrm>
            <a:off x="4786560" y="2358000"/>
            <a:ext cx="126252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6560" y="2358000"/>
                      <a:ext cx="12625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" name="组合 15"/>
          <p:cNvGrpSpPr/>
          <p:nvPr/>
        </p:nvGrpSpPr>
        <p:grpSpPr>
          <a:xfrm>
            <a:off x="1089000" y="3143160"/>
            <a:ext cx="7459560" cy="520560"/>
            <a:chOff x="1089000" y="3143160"/>
            <a:chExt cx="7459560" cy="520560"/>
          </a:xfrm>
        </p:grpSpPr>
        <p:sp>
          <p:nvSpPr>
            <p:cNvPr id="116" name="Rectangle 15"/>
            <p:cNvSpPr/>
            <p:nvPr/>
          </p:nvSpPr>
          <p:spPr>
            <a:xfrm>
              <a:off x="1089000" y="3143160"/>
              <a:ext cx="745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                   为闭映射，若        是            中 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7" name="Object 5"/>
            <p:cNvGraphicFramePr/>
            <p:nvPr/>
          </p:nvGraphicFramePr>
          <p:xfrm>
            <a:off x="5071680" y="3214440"/>
            <a:ext cx="950400" cy="405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71680" y="3214440"/>
                      <a:ext cx="950400" cy="40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7"/>
            <p:cNvGraphicFramePr/>
            <p:nvPr/>
          </p:nvGraphicFramePr>
          <p:xfrm>
            <a:off x="1142640" y="3214440"/>
            <a:ext cx="1989000" cy="39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2640" y="3214440"/>
                      <a:ext cx="198900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9"/>
            <p:cNvGraphicFramePr/>
            <p:nvPr/>
          </p:nvGraphicFramePr>
          <p:xfrm>
            <a:off x="6357600" y="3214440"/>
            <a:ext cx="1261800" cy="395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600" y="3214440"/>
                      <a:ext cx="126180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28760" y="642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组合 15"/>
          <p:cNvGrpSpPr/>
          <p:nvPr/>
        </p:nvGrpSpPr>
        <p:grpSpPr>
          <a:xfrm>
            <a:off x="1724040" y="714240"/>
            <a:ext cx="6016320" cy="571680"/>
            <a:chOff x="1724040" y="714240"/>
            <a:chExt cx="6016320" cy="571680"/>
          </a:xfrm>
        </p:grpSpPr>
        <p:sp>
          <p:nvSpPr>
            <p:cNvPr id="125" name="Rectangle 15"/>
            <p:cNvSpPr/>
            <p:nvPr/>
          </p:nvSpPr>
          <p:spPr>
            <a:xfrm>
              <a:off x="1724040" y="714240"/>
              <a:ext cx="60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连续函数空间             上的微分算子是闭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6" name="Object 5"/>
            <p:cNvGraphicFramePr/>
            <p:nvPr/>
          </p:nvGraphicFramePr>
          <p:xfrm>
            <a:off x="3281400" y="780840"/>
            <a:ext cx="1290600" cy="50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1400" y="780840"/>
                      <a:ext cx="12906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组合 16"/>
          <p:cNvGrpSpPr/>
          <p:nvPr/>
        </p:nvGrpSpPr>
        <p:grpSpPr>
          <a:xfrm>
            <a:off x="534240" y="1785960"/>
            <a:ext cx="7765200" cy="1403280"/>
            <a:chOff x="534240" y="1785960"/>
            <a:chExt cx="7765200" cy="1403280"/>
          </a:xfrm>
        </p:grpSpPr>
        <p:grpSp>
          <p:nvGrpSpPr>
            <p:cNvPr id="129" name="组合 15"/>
            <p:cNvGrpSpPr/>
            <p:nvPr/>
          </p:nvGrpSpPr>
          <p:grpSpPr>
            <a:xfrm>
              <a:off x="534240" y="1785960"/>
              <a:ext cx="7633440" cy="947160"/>
              <a:chOff x="534240" y="1785960"/>
              <a:chExt cx="7633440" cy="947160"/>
            </a:xfrm>
          </p:grpSpPr>
          <p:sp>
            <p:nvSpPr>
              <p:cNvPr id="130" name="Rectangle 15"/>
              <p:cNvSpPr/>
              <p:nvPr/>
            </p:nvSpPr>
            <p:spPr>
              <a:xfrm>
                <a:off x="534240" y="1785960"/>
                <a:ext cx="763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                                        ，这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表示    的导数，则   是            的线性流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1" name="Object 5"/>
              <p:cNvGraphicFramePr/>
              <p:nvPr/>
            </p:nvGraphicFramePr>
            <p:xfrm>
              <a:off x="4143600" y="2214360"/>
              <a:ext cx="1290600" cy="50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2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3600" y="2214360"/>
                        <a:ext cx="129060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3" name="Object 6"/>
            <p:cNvGraphicFramePr/>
            <p:nvPr/>
          </p:nvGraphicFramePr>
          <p:xfrm>
            <a:off x="1785960" y="1785960"/>
            <a:ext cx="5094360" cy="55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5960" y="1785960"/>
                      <a:ext cx="509436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8"/>
            <p:cNvGraphicFramePr/>
            <p:nvPr/>
          </p:nvGraphicFramePr>
          <p:xfrm>
            <a:off x="1357200" y="2357280"/>
            <a:ext cx="357120" cy="29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2357280"/>
                      <a:ext cx="35712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9"/>
            <p:cNvGraphicFramePr/>
            <p:nvPr/>
          </p:nvGraphicFramePr>
          <p:xfrm>
            <a:off x="7858440" y="1857240"/>
            <a:ext cx="441000" cy="353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58440" y="1857240"/>
                      <a:ext cx="44100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0"/>
            <p:cNvGraphicFramePr/>
            <p:nvPr/>
          </p:nvGraphicFramePr>
          <p:xfrm>
            <a:off x="3500640" y="2286000"/>
            <a:ext cx="571320" cy="344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00640" y="2286000"/>
                      <a:ext cx="5713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Object 11"/>
            <p:cNvGraphicFramePr/>
            <p:nvPr/>
          </p:nvGraphicFramePr>
          <p:xfrm>
            <a:off x="2714760" y="2786040"/>
            <a:ext cx="2717640" cy="40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14760" y="2786040"/>
                      <a:ext cx="271764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组合 17"/>
          <p:cNvGrpSpPr/>
          <p:nvPr/>
        </p:nvGrpSpPr>
        <p:grpSpPr>
          <a:xfrm>
            <a:off x="1026720" y="3643200"/>
            <a:ext cx="5578920" cy="571680"/>
            <a:chOff x="1026720" y="3643200"/>
            <a:chExt cx="5578920" cy="571680"/>
          </a:xfrm>
        </p:grpSpPr>
        <p:grpSp>
          <p:nvGrpSpPr>
            <p:cNvPr id="144" name="组合 15"/>
            <p:cNvGrpSpPr/>
            <p:nvPr/>
          </p:nvGrpSpPr>
          <p:grpSpPr>
            <a:xfrm>
              <a:off x="1026720" y="3643200"/>
              <a:ext cx="5578920" cy="571680"/>
              <a:chOff x="1026720" y="3643200"/>
              <a:chExt cx="5578920" cy="571680"/>
            </a:xfrm>
          </p:grpSpPr>
          <p:sp>
            <p:nvSpPr>
              <p:cNvPr id="145" name="Rectangle 15"/>
              <p:cNvSpPr/>
              <p:nvPr/>
            </p:nvSpPr>
            <p:spPr>
              <a:xfrm>
                <a:off x="1026720" y="3643200"/>
                <a:ext cx="557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易见    是从     到            的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6" name="Object 12"/>
              <p:cNvGraphicFramePr/>
              <p:nvPr/>
            </p:nvGraphicFramePr>
            <p:xfrm>
              <a:off x="3500280" y="3709800"/>
              <a:ext cx="1290600" cy="505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47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500280" y="3709800"/>
                        <a:ext cx="1290600" cy="505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8" name="Object 15"/>
            <p:cNvGraphicFramePr/>
            <p:nvPr/>
          </p:nvGraphicFramePr>
          <p:xfrm>
            <a:off x="1676160" y="3727080"/>
            <a:ext cx="372960" cy="328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9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76160" y="3727080"/>
                      <a:ext cx="372960" cy="3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6"/>
            <p:cNvGraphicFramePr/>
            <p:nvPr/>
          </p:nvGraphicFramePr>
          <p:xfrm>
            <a:off x="2643120" y="3714480"/>
            <a:ext cx="571320" cy="344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1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43120" y="3714480"/>
                      <a:ext cx="5713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928440" y="714240"/>
            <a:ext cx="7007400" cy="1373760"/>
            <a:chOff x="928440" y="714240"/>
            <a:chExt cx="7007400" cy="1373760"/>
          </a:xfrm>
        </p:grpSpPr>
        <p:grpSp>
          <p:nvGrpSpPr>
            <p:cNvPr id="153" name="组合 26"/>
            <p:cNvGrpSpPr/>
            <p:nvPr/>
          </p:nvGrpSpPr>
          <p:grpSpPr>
            <a:xfrm>
              <a:off x="1344240" y="714240"/>
              <a:ext cx="5533200" cy="1373760"/>
              <a:chOff x="1344240" y="714240"/>
              <a:chExt cx="5533200" cy="1373760"/>
            </a:xfrm>
          </p:grpSpPr>
          <p:grpSp>
            <p:nvGrpSpPr>
              <p:cNvPr id="154" name="组合 15"/>
              <p:cNvGrpSpPr/>
              <p:nvPr/>
            </p:nvGrpSpPr>
            <p:grpSpPr>
              <a:xfrm>
                <a:off x="1344240" y="714240"/>
                <a:ext cx="5533200" cy="1373760"/>
                <a:chOff x="1344240" y="714240"/>
                <a:chExt cx="5533200" cy="1373760"/>
              </a:xfrm>
            </p:grpSpPr>
            <p:sp>
              <p:nvSpPr>
                <p:cNvPr id="155" name="Rectangle 15"/>
                <p:cNvSpPr/>
                <p:nvPr/>
              </p:nvSpPr>
              <p:spPr>
                <a:xfrm>
                  <a:off x="1344240" y="714240"/>
                  <a:ext cx="55332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            使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即    一致收敛于   ，  的导函数   一致收敛于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6" name="Object 2"/>
                <p:cNvGraphicFramePr/>
                <p:nvPr/>
              </p:nvGraphicFramePr>
              <p:xfrm>
                <a:off x="3000240" y="1213920"/>
                <a:ext cx="3124080" cy="453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57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000240" y="1213920"/>
                          <a:ext cx="3124080" cy="453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8" name="Object 3"/>
              <p:cNvGraphicFramePr/>
              <p:nvPr/>
            </p:nvGraphicFramePr>
            <p:xfrm>
              <a:off x="1714320" y="785520"/>
              <a:ext cx="3154320" cy="455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14320" y="785520"/>
                        <a:ext cx="315432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0" name="Object 4"/>
            <p:cNvGraphicFramePr/>
            <p:nvPr/>
          </p:nvGraphicFramePr>
          <p:xfrm>
            <a:off x="928440" y="1615680"/>
            <a:ext cx="44100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5"/>
            <p:cNvGraphicFramePr/>
            <p:nvPr/>
          </p:nvGraphicFramePr>
          <p:xfrm>
            <a:off x="3071880" y="1615680"/>
            <a:ext cx="44100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7188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6"/>
            <p:cNvGraphicFramePr/>
            <p:nvPr/>
          </p:nvGraphicFramePr>
          <p:xfrm>
            <a:off x="3571920" y="1615680"/>
            <a:ext cx="441000" cy="455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7192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7"/>
            <p:cNvGraphicFramePr/>
            <p:nvPr/>
          </p:nvGraphicFramePr>
          <p:xfrm>
            <a:off x="5357880" y="1615680"/>
            <a:ext cx="441000" cy="455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788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8"/>
            <p:cNvGraphicFramePr/>
            <p:nvPr/>
          </p:nvGraphicFramePr>
          <p:xfrm>
            <a:off x="7358040" y="1615680"/>
            <a:ext cx="577800" cy="455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9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358040" y="1615680"/>
                      <a:ext cx="5778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组合 32"/>
          <p:cNvGrpSpPr/>
          <p:nvPr/>
        </p:nvGrpSpPr>
        <p:grpSpPr>
          <a:xfrm>
            <a:off x="969840" y="2357280"/>
            <a:ext cx="6800760" cy="1373760"/>
            <a:chOff x="969840" y="2357280"/>
            <a:chExt cx="6800760" cy="1373760"/>
          </a:xfrm>
        </p:grpSpPr>
        <p:grpSp>
          <p:nvGrpSpPr>
            <p:cNvPr id="171" name="组合 12"/>
            <p:cNvGrpSpPr/>
            <p:nvPr/>
          </p:nvGrpSpPr>
          <p:grpSpPr>
            <a:xfrm>
              <a:off x="969840" y="2357280"/>
              <a:ext cx="6800760" cy="1373760"/>
              <a:chOff x="969840" y="2357280"/>
              <a:chExt cx="6800760" cy="1373760"/>
            </a:xfrm>
          </p:grpSpPr>
          <p:grpSp>
            <p:nvGrpSpPr>
              <p:cNvPr id="172" name="组合 15"/>
              <p:cNvGrpSpPr/>
              <p:nvPr/>
            </p:nvGrpSpPr>
            <p:grpSpPr>
              <a:xfrm>
                <a:off x="1181160" y="2357280"/>
                <a:ext cx="6589440" cy="1373760"/>
                <a:chOff x="1181160" y="2357280"/>
                <a:chExt cx="6589440" cy="1373760"/>
              </a:xfrm>
            </p:grpSpPr>
            <p:sp>
              <p:nvSpPr>
                <p:cNvPr id="173" name="Rectangle 15"/>
                <p:cNvSpPr/>
                <p:nvPr/>
              </p:nvSpPr>
              <p:spPr>
                <a:xfrm>
                  <a:off x="1181160" y="2357280"/>
                  <a:ext cx="65894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数学分析可知，            则              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即  是闭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但是容易知道  不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有界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4" name="Object 9"/>
                <p:cNvGraphicFramePr/>
                <p:nvPr/>
              </p:nvGraphicFramePr>
              <p:xfrm>
                <a:off x="4428720" y="2428560"/>
                <a:ext cx="1323720" cy="4539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75" name="Object 9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428720" y="2428560"/>
                          <a:ext cx="1323720" cy="453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76" name="Object 12"/>
              <p:cNvGraphicFramePr/>
              <p:nvPr/>
            </p:nvGraphicFramePr>
            <p:xfrm>
              <a:off x="6071760" y="2428560"/>
              <a:ext cx="1392120" cy="455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7" name="Object 12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071760" y="2428560"/>
                        <a:ext cx="139212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Object 13"/>
              <p:cNvGraphicFramePr/>
              <p:nvPr/>
            </p:nvGraphicFramePr>
            <p:xfrm>
              <a:off x="2928600" y="2885760"/>
              <a:ext cx="374400" cy="3283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79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928600" y="2885760"/>
                        <a:ext cx="374400" cy="32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Object 15"/>
              <p:cNvGraphicFramePr/>
              <p:nvPr/>
            </p:nvGraphicFramePr>
            <p:xfrm>
              <a:off x="969840" y="2856960"/>
              <a:ext cx="1530000" cy="455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81" name="Object 1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969840" y="2856960"/>
                        <a:ext cx="153000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2" name="Object 16"/>
            <p:cNvGraphicFramePr/>
            <p:nvPr/>
          </p:nvGraphicFramePr>
          <p:xfrm>
            <a:off x="6857640" y="2856960"/>
            <a:ext cx="374400" cy="328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3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7640" y="2856960"/>
                      <a:ext cx="37440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85840" y="642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闭图像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5" name="组合 23"/>
          <p:cNvGrpSpPr/>
          <p:nvPr/>
        </p:nvGrpSpPr>
        <p:grpSpPr>
          <a:xfrm>
            <a:off x="1143000" y="1428840"/>
            <a:ext cx="6673320" cy="947160"/>
            <a:chOff x="1143000" y="1428840"/>
            <a:chExt cx="6673320" cy="947160"/>
          </a:xfrm>
        </p:grpSpPr>
        <p:grpSp>
          <p:nvGrpSpPr>
            <p:cNvPr id="186" name="组合 52"/>
            <p:cNvGrpSpPr/>
            <p:nvPr/>
          </p:nvGrpSpPr>
          <p:grpSpPr>
            <a:xfrm>
              <a:off x="1408680" y="1428840"/>
              <a:ext cx="6407640" cy="947160"/>
              <a:chOff x="1408680" y="1428840"/>
              <a:chExt cx="6407640" cy="947160"/>
            </a:xfrm>
          </p:grpSpPr>
          <p:grpSp>
            <p:nvGrpSpPr>
              <p:cNvPr id="187" name="组合 48"/>
              <p:cNvGrpSpPr/>
              <p:nvPr/>
            </p:nvGrpSpPr>
            <p:grpSpPr>
              <a:xfrm>
                <a:off x="1408680" y="1428840"/>
                <a:ext cx="6407640" cy="947160"/>
                <a:chOff x="1408680" y="1428840"/>
                <a:chExt cx="6407640" cy="947160"/>
              </a:xfrm>
            </p:grpSpPr>
            <p:sp>
              <p:nvSpPr>
                <p:cNvPr id="188" name="Rectangle 15"/>
                <p:cNvSpPr/>
                <p:nvPr/>
              </p:nvSpPr>
              <p:spPr>
                <a:xfrm>
                  <a:off x="1408680" y="1428840"/>
                  <a:ext cx="6407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Banach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空间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线性算子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闭算子，则    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9" name="Object 15"/>
                <p:cNvGraphicFramePr/>
                <p:nvPr/>
              </p:nvGraphicFramePr>
              <p:xfrm>
                <a:off x="1669320" y="1500120"/>
                <a:ext cx="736560" cy="426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90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69320" y="1500120"/>
                          <a:ext cx="73656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91" name="Object 3"/>
              <p:cNvGraphicFramePr/>
              <p:nvPr/>
            </p:nvGraphicFramePr>
            <p:xfrm>
              <a:off x="4806720" y="1500120"/>
              <a:ext cx="1506600" cy="37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6720" y="1500120"/>
                        <a:ext cx="15066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3" name="Object 18"/>
            <p:cNvGraphicFramePr/>
            <p:nvPr/>
          </p:nvGraphicFramePr>
          <p:xfrm>
            <a:off x="1143000" y="1928880"/>
            <a:ext cx="31248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192888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9"/>
            <p:cNvGraphicFramePr/>
            <p:nvPr/>
          </p:nvGraphicFramePr>
          <p:xfrm>
            <a:off x="3714840" y="1928880"/>
            <a:ext cx="3124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14840" y="192888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Text Box 3"/>
          <p:cNvSpPr/>
          <p:nvPr/>
        </p:nvSpPr>
        <p:spPr>
          <a:xfrm>
            <a:off x="428760" y="2428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8" name="组合 25"/>
          <p:cNvGrpSpPr/>
          <p:nvPr/>
        </p:nvGrpSpPr>
        <p:grpSpPr>
          <a:xfrm>
            <a:off x="1204920" y="2571840"/>
            <a:ext cx="7459560" cy="1385640"/>
            <a:chOff x="1204920" y="2571840"/>
            <a:chExt cx="7459560" cy="1385640"/>
          </a:xfrm>
        </p:grpSpPr>
        <p:sp>
          <p:nvSpPr>
            <p:cNvPr id="199" name="Rectangle 15"/>
            <p:cNvSpPr/>
            <p:nvPr/>
          </p:nvSpPr>
          <p:spPr>
            <a:xfrm>
              <a:off x="1204920" y="2571840"/>
              <a:ext cx="163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0" name="Object 21"/>
            <p:cNvGraphicFramePr/>
            <p:nvPr/>
          </p:nvGraphicFramePr>
          <p:xfrm>
            <a:off x="2357280" y="3000240"/>
            <a:ext cx="6307200" cy="95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57280" y="3000240"/>
                      <a:ext cx="630720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组合 30"/>
          <p:cNvGrpSpPr/>
          <p:nvPr/>
        </p:nvGrpSpPr>
        <p:grpSpPr>
          <a:xfrm>
            <a:off x="1145880" y="3857760"/>
            <a:ext cx="3714840" cy="520560"/>
            <a:chOff x="1145880" y="3857760"/>
            <a:chExt cx="3714840" cy="520560"/>
          </a:xfrm>
        </p:grpSpPr>
        <p:sp>
          <p:nvSpPr>
            <p:cNvPr id="203" name="Rectangle 15"/>
            <p:cNvSpPr/>
            <p:nvPr/>
          </p:nvSpPr>
          <p:spPr>
            <a:xfrm>
              <a:off x="1145880" y="3857760"/>
              <a:ext cx="371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是线性的、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4" name="Object 25"/>
            <p:cNvGraphicFramePr/>
            <p:nvPr/>
          </p:nvGraphicFramePr>
          <p:xfrm>
            <a:off x="1982880" y="3929040"/>
            <a:ext cx="449280" cy="36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5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82880" y="3929040"/>
                      <a:ext cx="44928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"/>
          <p:cNvGrpSpPr/>
          <p:nvPr/>
        </p:nvGrpSpPr>
        <p:grpSpPr>
          <a:xfrm>
            <a:off x="785520" y="500040"/>
            <a:ext cx="3335760" cy="520560"/>
            <a:chOff x="785520" y="500040"/>
            <a:chExt cx="3335760" cy="520560"/>
          </a:xfrm>
        </p:grpSpPr>
        <p:sp>
          <p:nvSpPr>
            <p:cNvPr id="207" name="Rectangle 15"/>
            <p:cNvSpPr/>
            <p:nvPr/>
          </p:nvSpPr>
          <p:spPr>
            <a:xfrm>
              <a:off x="1436760" y="50004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还是一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2"/>
            <p:cNvGraphicFramePr/>
            <p:nvPr/>
          </p:nvGraphicFramePr>
          <p:xfrm>
            <a:off x="785520" y="571320"/>
            <a:ext cx="448920" cy="36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5520" y="571320"/>
                      <a:ext cx="44892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0" name="Object 3"/>
          <p:cNvGraphicFramePr/>
          <p:nvPr/>
        </p:nvGraphicFramePr>
        <p:xfrm>
          <a:off x="4857840" y="571680"/>
          <a:ext cx="40543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571680"/>
                    <a:ext cx="40543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组合 11"/>
          <p:cNvGrpSpPr/>
          <p:nvPr/>
        </p:nvGrpSpPr>
        <p:grpSpPr>
          <a:xfrm>
            <a:off x="714240" y="1071720"/>
            <a:ext cx="7586640" cy="1077840"/>
            <a:chOff x="714240" y="1071720"/>
            <a:chExt cx="7586640" cy="1077840"/>
          </a:xfrm>
        </p:grpSpPr>
        <p:grpSp>
          <p:nvGrpSpPr>
            <p:cNvPr id="213" name="组合 5"/>
            <p:cNvGrpSpPr/>
            <p:nvPr/>
          </p:nvGrpSpPr>
          <p:grpSpPr>
            <a:xfrm>
              <a:off x="1071360" y="1071720"/>
              <a:ext cx="7229520" cy="947160"/>
              <a:chOff x="1071360" y="1071720"/>
              <a:chExt cx="7229520" cy="947160"/>
            </a:xfrm>
          </p:grpSpPr>
          <p:sp>
            <p:nvSpPr>
              <p:cNvPr id="214" name="Rectangle 15"/>
              <p:cNvSpPr/>
              <p:nvPr/>
            </p:nvSpPr>
            <p:spPr>
              <a:xfrm>
                <a:off x="1309680" y="1071720"/>
                <a:ext cx="6991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，从而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存在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15" name="Object 4"/>
              <p:cNvGraphicFramePr/>
              <p:nvPr/>
            </p:nvGraphicFramePr>
            <p:xfrm>
              <a:off x="1071360" y="1071720"/>
              <a:ext cx="1309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71360" y="1071720"/>
                        <a:ext cx="1309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7" name="Object 5"/>
            <p:cNvGraphicFramePr/>
            <p:nvPr/>
          </p:nvGraphicFramePr>
          <p:xfrm>
            <a:off x="3357720" y="1071720"/>
            <a:ext cx="3454560" cy="50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7720" y="1071720"/>
                      <a:ext cx="34545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Object 6"/>
            <p:cNvGraphicFramePr/>
            <p:nvPr/>
          </p:nvGraphicFramePr>
          <p:xfrm>
            <a:off x="7075800" y="1114560"/>
            <a:ext cx="71100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75800" y="1114560"/>
                      <a:ext cx="71100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Object 7"/>
            <p:cNvGraphicFramePr/>
            <p:nvPr/>
          </p:nvGraphicFramePr>
          <p:xfrm>
            <a:off x="714240" y="1643040"/>
            <a:ext cx="4129200" cy="50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4240" y="1643040"/>
                      <a:ext cx="41292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3" name="组合 15"/>
          <p:cNvGrpSpPr/>
          <p:nvPr/>
        </p:nvGrpSpPr>
        <p:grpSpPr>
          <a:xfrm>
            <a:off x="1006560" y="2071800"/>
            <a:ext cx="7564320" cy="571320"/>
            <a:chOff x="1006560" y="2071800"/>
            <a:chExt cx="7564320" cy="571320"/>
          </a:xfrm>
        </p:grpSpPr>
        <p:sp>
          <p:nvSpPr>
            <p:cNvPr id="224" name="Rectangle 15"/>
            <p:cNvSpPr/>
            <p:nvPr/>
          </p:nvSpPr>
          <p:spPr>
            <a:xfrm>
              <a:off x="1006560" y="2071800"/>
              <a:ext cx="64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                                                 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5" name="Object 8"/>
            <p:cNvGraphicFramePr/>
            <p:nvPr/>
          </p:nvGraphicFramePr>
          <p:xfrm>
            <a:off x="1928520" y="2081160"/>
            <a:ext cx="480528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28520" y="2081160"/>
                      <a:ext cx="4805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9"/>
            <p:cNvGraphicFramePr/>
            <p:nvPr/>
          </p:nvGraphicFramePr>
          <p:xfrm>
            <a:off x="7143840" y="2071800"/>
            <a:ext cx="142704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43840" y="2071800"/>
                      <a:ext cx="142704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" name="组合 16"/>
          <p:cNvGrpSpPr/>
          <p:nvPr/>
        </p:nvGrpSpPr>
        <p:grpSpPr>
          <a:xfrm>
            <a:off x="1022400" y="2571840"/>
            <a:ext cx="4448160" cy="520560"/>
            <a:chOff x="1022400" y="2571840"/>
            <a:chExt cx="4448160" cy="520560"/>
          </a:xfrm>
        </p:grpSpPr>
        <p:sp>
          <p:nvSpPr>
            <p:cNvPr id="230" name="Rectangle 15"/>
            <p:cNvSpPr/>
            <p:nvPr/>
          </p:nvSpPr>
          <p:spPr>
            <a:xfrm>
              <a:off x="1022400" y="2571840"/>
              <a:ext cx="44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逆算子定理，     有界，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3357720" y="2571840"/>
            <a:ext cx="712800" cy="42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57720" y="2571840"/>
                      <a:ext cx="712800" cy="42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Object 12"/>
          <p:cNvGraphicFramePr/>
          <p:nvPr/>
        </p:nvGraphicFramePr>
        <p:xfrm>
          <a:off x="2000160" y="3071880"/>
          <a:ext cx="6007320" cy="11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00160" y="3071880"/>
                    <a:ext cx="60073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组合 25"/>
          <p:cNvGrpSpPr/>
          <p:nvPr/>
        </p:nvGrpSpPr>
        <p:grpSpPr>
          <a:xfrm>
            <a:off x="794160" y="4187880"/>
            <a:ext cx="4573080" cy="617400"/>
            <a:chOff x="794160" y="4187880"/>
            <a:chExt cx="4573080" cy="617400"/>
          </a:xfrm>
        </p:grpSpPr>
        <p:grpSp>
          <p:nvGrpSpPr>
            <p:cNvPr id="236" name="组合 21"/>
            <p:cNvGrpSpPr/>
            <p:nvPr/>
          </p:nvGrpSpPr>
          <p:grpSpPr>
            <a:xfrm>
              <a:off x="794160" y="4187880"/>
              <a:ext cx="4573080" cy="617400"/>
              <a:chOff x="794160" y="4187880"/>
              <a:chExt cx="4573080" cy="617400"/>
            </a:xfrm>
          </p:grpSpPr>
          <p:sp>
            <p:nvSpPr>
              <p:cNvPr id="237" name="Rectangle 15"/>
              <p:cNvSpPr/>
              <p:nvPr/>
            </p:nvSpPr>
            <p:spPr>
              <a:xfrm>
                <a:off x="794160" y="4214880"/>
                <a:ext cx="45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         ，     连续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38" name="Object 13"/>
              <p:cNvGraphicFramePr/>
              <p:nvPr/>
            </p:nvGraphicFramePr>
            <p:xfrm>
              <a:off x="1403280" y="4187880"/>
              <a:ext cx="2025360" cy="617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39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403280" y="4187880"/>
                        <a:ext cx="2025360" cy="61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0" name="Object 14"/>
            <p:cNvGraphicFramePr/>
            <p:nvPr/>
          </p:nvGraphicFramePr>
          <p:xfrm>
            <a:off x="3947760" y="4286160"/>
            <a:ext cx="410760" cy="366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41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947760" y="4286160"/>
                      <a:ext cx="41076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285840" y="714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3" name="组合 12"/>
          <p:cNvGrpSpPr/>
          <p:nvPr/>
        </p:nvGrpSpPr>
        <p:grpSpPr>
          <a:xfrm>
            <a:off x="1357200" y="1428840"/>
            <a:ext cx="6885720" cy="1373760"/>
            <a:chOff x="1357200" y="1428840"/>
            <a:chExt cx="6885720" cy="1373760"/>
          </a:xfrm>
        </p:grpSpPr>
        <p:grpSp>
          <p:nvGrpSpPr>
            <p:cNvPr id="244" name="组合 2"/>
            <p:cNvGrpSpPr/>
            <p:nvPr/>
          </p:nvGrpSpPr>
          <p:grpSpPr>
            <a:xfrm>
              <a:off x="1357200" y="1428840"/>
              <a:ext cx="6673320" cy="1373760"/>
              <a:chOff x="1357200" y="1428840"/>
              <a:chExt cx="6673320" cy="1373760"/>
            </a:xfrm>
          </p:grpSpPr>
          <p:grpSp>
            <p:nvGrpSpPr>
              <p:cNvPr id="245" name="组合 52"/>
              <p:cNvGrpSpPr/>
              <p:nvPr/>
            </p:nvGrpSpPr>
            <p:grpSpPr>
              <a:xfrm>
                <a:off x="1622880" y="1428840"/>
                <a:ext cx="6407640" cy="1373760"/>
                <a:chOff x="1622880" y="1428840"/>
                <a:chExt cx="6407640" cy="1373760"/>
              </a:xfrm>
            </p:grpSpPr>
            <p:grpSp>
              <p:nvGrpSpPr>
                <p:cNvPr id="246" name="组合 48"/>
                <p:cNvGrpSpPr/>
                <p:nvPr/>
              </p:nvGrpSpPr>
              <p:grpSpPr>
                <a:xfrm>
                  <a:off x="1622880" y="1428840"/>
                  <a:ext cx="6407640" cy="1373760"/>
                  <a:chOff x="1622880" y="1428840"/>
                  <a:chExt cx="6407640" cy="1373760"/>
                </a:xfrm>
              </p:grpSpPr>
              <p:sp>
                <p:nvSpPr>
                  <p:cNvPr id="247" name="Rectangle 15"/>
                  <p:cNvSpPr/>
                  <p:nvPr/>
                </p:nvSpPr>
                <p:spPr>
                  <a:xfrm>
                    <a:off x="1622880" y="1428840"/>
                    <a:ext cx="640764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线性算子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是闭算子且        在    中是第二纲的，则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到上的开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48" name="Object 2"/>
                  <p:cNvGraphicFramePr/>
                  <p:nvPr/>
                </p:nvGraphicFramePr>
                <p:xfrm>
                  <a:off x="1883520" y="1500120"/>
                  <a:ext cx="736560" cy="4266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49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883520" y="1500120"/>
                            <a:ext cx="736560" cy="4266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50" name="Object 3"/>
                <p:cNvGraphicFramePr/>
                <p:nvPr/>
              </p:nvGraphicFramePr>
              <p:xfrm>
                <a:off x="5020920" y="1500120"/>
                <a:ext cx="1506600" cy="372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51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020920" y="1500120"/>
                          <a:ext cx="150660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52" name="Object 4"/>
              <p:cNvGraphicFramePr/>
              <p:nvPr/>
            </p:nvGraphicFramePr>
            <p:xfrm>
              <a:off x="1357200" y="1928520"/>
              <a:ext cx="312480" cy="3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57200" y="1928520"/>
                        <a:ext cx="312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Object 5"/>
              <p:cNvGraphicFramePr/>
              <p:nvPr/>
            </p:nvGraphicFramePr>
            <p:xfrm>
              <a:off x="3433680" y="1931760"/>
              <a:ext cx="852480" cy="42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433680" y="1931760"/>
                        <a:ext cx="852480" cy="42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6" name="Object 6"/>
            <p:cNvGraphicFramePr/>
            <p:nvPr/>
          </p:nvGraphicFramePr>
          <p:xfrm>
            <a:off x="4643640" y="1928520"/>
            <a:ext cx="3124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3640" y="192852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7"/>
            <p:cNvGraphicFramePr/>
            <p:nvPr/>
          </p:nvGraphicFramePr>
          <p:xfrm>
            <a:off x="7930440" y="1928520"/>
            <a:ext cx="3124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30440" y="192852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5"/>
          <p:cNvGrpSpPr/>
          <p:nvPr/>
        </p:nvGrpSpPr>
        <p:grpSpPr>
          <a:xfrm>
            <a:off x="1459080" y="928800"/>
            <a:ext cx="6426360" cy="2662200"/>
            <a:chOff x="1459080" y="928800"/>
            <a:chExt cx="6426360" cy="2662200"/>
          </a:xfrm>
        </p:grpSpPr>
        <p:grpSp>
          <p:nvGrpSpPr>
            <p:cNvPr id="261" name="组合 25"/>
            <p:cNvGrpSpPr/>
            <p:nvPr/>
          </p:nvGrpSpPr>
          <p:grpSpPr>
            <a:xfrm>
              <a:off x="1459080" y="928800"/>
              <a:ext cx="6399000" cy="2662200"/>
              <a:chOff x="1459080" y="928800"/>
              <a:chExt cx="6399000" cy="2662200"/>
            </a:xfrm>
          </p:grpSpPr>
          <p:sp>
            <p:nvSpPr>
              <p:cNvPr id="262" name="Rectangle 15"/>
              <p:cNvSpPr/>
              <p:nvPr/>
            </p:nvSpPr>
            <p:spPr>
              <a:xfrm>
                <a:off x="1459080" y="928800"/>
                <a:ext cx="6399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要懂得闭图像定理的好处，可对线性算子  考虑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下面三个叙述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3" name="Object 21"/>
              <p:cNvGraphicFramePr/>
              <p:nvPr/>
            </p:nvGraphicFramePr>
            <p:xfrm>
              <a:off x="2643480" y="2071800"/>
              <a:ext cx="2289240" cy="1519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4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43480" y="2071800"/>
                        <a:ext cx="2289240" cy="15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5" name="Object 4"/>
            <p:cNvGraphicFramePr/>
            <p:nvPr/>
          </p:nvGraphicFramePr>
          <p:xfrm>
            <a:off x="7572960" y="1000080"/>
            <a:ext cx="312480" cy="34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72960" y="1000080"/>
                      <a:ext cx="312480" cy="34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43Z</dcterms:modified>
  <cp:revision>547</cp:revision>
  <dc:subject/>
  <dc:title>幻灯片 1</dc:title>
</cp:coreProperties>
</file>