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6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875-3217-4EFD-B64F-0E4777B2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4A1-D49F-4831-A428-E56E8B7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6B1-1859-48AF-B234-89154558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CE2-7BAC-44B7-AC96-4AC1D85C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6ECD-808E-4E4A-86AD-1AAB0B95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EFCD-ABBD-4BD9-BC9F-DB8B970B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92A4-DD32-444E-8573-D8E6D04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C5A4-A5E8-44EA-A78D-3B315B5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CF23-FC0A-48C8-A5F8-D3D7C129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8E04-B671-44AC-9190-6DBE17E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6D5-1C76-4102-92B6-8256F1F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72F-A055-4356-8540-33133BFB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F016-2CEE-4B0E-928F-E7928049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274D-3BA1-446D-9DA6-C1F664B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36CC-5ED8-4359-B12E-1E00487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88E5-DB6E-44E0-B23B-4F4C444A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5B69-F33F-44D1-932A-08EA50E2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C07-5CB3-4B58-ADA9-24938A3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D26-49BE-4590-829D-8484AE8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C38-F2F4-4A55-8496-0AAE0783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EF2-135E-4EFC-9905-A8568BD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4A5-52AF-494A-B260-20CECEA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D12-1603-4BA9-B95D-39DF507D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A00-8787-4BE7-B381-116B75E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4D52-2368-4381-ABAC-BBF90C3D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021C-775F-4230-9FF8-B7F4445866A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5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2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0.wmf"/><Relationship Id="rId3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八讲  延拓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4" name="组合 3"/>
          <p:cNvGrpSpPr/>
          <p:nvPr/>
        </p:nvGrpSpPr>
        <p:grpSpPr>
          <a:xfrm>
            <a:off x="1214280" y="714240"/>
            <a:ext cx="6858000" cy="1000440"/>
            <a:chOff x="1214280" y="714240"/>
            <a:chExt cx="6858000" cy="1000440"/>
          </a:xfrm>
        </p:grpSpPr>
        <p:grpSp>
          <p:nvGrpSpPr>
            <p:cNvPr id="295" name="组合 14"/>
            <p:cNvGrpSpPr/>
            <p:nvPr/>
          </p:nvGrpSpPr>
          <p:grpSpPr>
            <a:xfrm>
              <a:off x="1214280" y="714240"/>
              <a:ext cx="6858000" cy="947160"/>
              <a:chOff x="1214280" y="714240"/>
              <a:chExt cx="6858000" cy="947160"/>
            </a:xfrm>
          </p:grpSpPr>
          <p:grpSp>
            <p:nvGrpSpPr>
              <p:cNvPr id="296" name="组合 48"/>
              <p:cNvGrpSpPr/>
              <p:nvPr/>
            </p:nvGrpSpPr>
            <p:grpSpPr>
              <a:xfrm>
                <a:off x="1214280" y="714240"/>
                <a:ext cx="6858000" cy="947160"/>
                <a:chOff x="1214280" y="714240"/>
                <a:chExt cx="6858000" cy="947160"/>
              </a:xfrm>
            </p:grpSpPr>
            <p:sp>
              <p:nvSpPr>
                <p:cNvPr id="297" name="Rectangle 15"/>
                <p:cNvSpPr/>
                <p:nvPr/>
              </p:nvSpPr>
              <p:spPr>
                <a:xfrm>
                  <a:off x="1214280" y="714240"/>
                  <a:ext cx="68580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                     ，则存在         使得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98" name="Object 2"/>
                <p:cNvGraphicFramePr/>
                <p:nvPr/>
              </p:nvGraphicFramePr>
              <p:xfrm>
                <a:off x="2214360" y="785520"/>
                <a:ext cx="396720" cy="347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99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14360" y="785520"/>
                          <a:ext cx="396720" cy="347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00" name="Object 5"/>
              <p:cNvGraphicFramePr/>
              <p:nvPr/>
            </p:nvGraphicFramePr>
            <p:xfrm>
              <a:off x="5381640" y="785520"/>
              <a:ext cx="2262240" cy="466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81640" y="785520"/>
                        <a:ext cx="226224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2" name="Object 9"/>
            <p:cNvGraphicFramePr/>
            <p:nvPr/>
          </p:nvGraphicFramePr>
          <p:xfrm>
            <a:off x="4000320" y="1193760"/>
            <a:ext cx="328464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3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00320" y="1193760"/>
                      <a:ext cx="328464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11"/>
            <p:cNvGraphicFramePr/>
            <p:nvPr/>
          </p:nvGraphicFramePr>
          <p:xfrm>
            <a:off x="2285640" y="1189080"/>
            <a:ext cx="1047600" cy="479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5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5640" y="1189080"/>
                      <a:ext cx="10476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6" name="Text Box 3"/>
          <p:cNvSpPr/>
          <p:nvPr/>
        </p:nvSpPr>
        <p:spPr>
          <a:xfrm>
            <a:off x="500040" y="1785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7" name="组合 27"/>
          <p:cNvGrpSpPr/>
          <p:nvPr/>
        </p:nvGrpSpPr>
        <p:grpSpPr>
          <a:xfrm>
            <a:off x="1143000" y="1857240"/>
            <a:ext cx="7072200" cy="1373760"/>
            <a:chOff x="1143000" y="1857240"/>
            <a:chExt cx="7072200" cy="1373760"/>
          </a:xfrm>
        </p:grpSpPr>
        <p:grpSp>
          <p:nvGrpSpPr>
            <p:cNvPr id="308" name="组合 18"/>
            <p:cNvGrpSpPr/>
            <p:nvPr/>
          </p:nvGrpSpPr>
          <p:grpSpPr>
            <a:xfrm>
              <a:off x="1143000" y="1857240"/>
              <a:ext cx="7072200" cy="1373760"/>
              <a:chOff x="1143000" y="1857240"/>
              <a:chExt cx="7072200" cy="1373760"/>
            </a:xfrm>
          </p:grpSpPr>
          <p:grpSp>
            <p:nvGrpSpPr>
              <p:cNvPr id="309" name="组合 14"/>
              <p:cNvGrpSpPr/>
              <p:nvPr/>
            </p:nvGrpSpPr>
            <p:grpSpPr>
              <a:xfrm>
                <a:off x="1143000" y="1857240"/>
                <a:ext cx="7072200" cy="1373760"/>
                <a:chOff x="1143000" y="1857240"/>
                <a:chExt cx="7072200" cy="1373760"/>
              </a:xfrm>
            </p:grpSpPr>
            <p:sp>
              <p:nvSpPr>
                <p:cNvPr id="310" name="Rectangle 15"/>
                <p:cNvSpPr/>
                <p:nvPr/>
              </p:nvSpPr>
              <p:spPr>
                <a:xfrm>
                  <a:off x="1143000" y="1857240"/>
                  <a:ext cx="70722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考虑子空间                              和     上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的线性泛函                                在    上连续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11" name="Object 13"/>
                <p:cNvGraphicFramePr/>
                <p:nvPr/>
              </p:nvGraphicFramePr>
              <p:xfrm>
                <a:off x="3786120" y="1902960"/>
                <a:ext cx="2917800" cy="519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12" name="Object 13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786120" y="1902960"/>
                          <a:ext cx="2917800" cy="519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13" name="Object 14"/>
              <p:cNvGraphicFramePr/>
              <p:nvPr/>
            </p:nvGraphicFramePr>
            <p:xfrm>
              <a:off x="3000240" y="2286000"/>
              <a:ext cx="3151080" cy="520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1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000240" y="2286000"/>
                        <a:ext cx="315108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5" name="Object 15"/>
              <p:cNvGraphicFramePr/>
              <p:nvPr/>
            </p:nvGraphicFramePr>
            <p:xfrm>
              <a:off x="7143840" y="1928520"/>
              <a:ext cx="452160" cy="347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16" name="Object 1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143840" y="1928520"/>
                        <a:ext cx="45216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17" name="Object 16"/>
            <p:cNvGraphicFramePr/>
            <p:nvPr/>
          </p:nvGraphicFramePr>
          <p:xfrm>
            <a:off x="6500880" y="2357280"/>
            <a:ext cx="452160" cy="347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8" name="Object 1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00880" y="2357280"/>
                      <a:ext cx="45216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9" name="组合 33"/>
          <p:cNvGrpSpPr/>
          <p:nvPr/>
        </p:nvGrpSpPr>
        <p:grpSpPr>
          <a:xfrm>
            <a:off x="1184400" y="2786040"/>
            <a:ext cx="7009920" cy="1806480"/>
            <a:chOff x="1184400" y="2786040"/>
            <a:chExt cx="7009920" cy="1806480"/>
          </a:xfrm>
        </p:grpSpPr>
        <p:sp>
          <p:nvSpPr>
            <p:cNvPr id="320" name="Rectangle 15"/>
            <p:cNvSpPr/>
            <p:nvPr/>
          </p:nvSpPr>
          <p:spPr>
            <a:xfrm>
              <a:off x="1184400" y="2786040"/>
              <a:ext cx="700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                                           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跟确切地，取                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1" name="Object 17"/>
            <p:cNvGraphicFramePr/>
            <p:nvPr/>
          </p:nvGraphicFramePr>
          <p:xfrm>
            <a:off x="3305160" y="2786040"/>
            <a:ext cx="4267800" cy="520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2" name="Object 1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05160" y="2786040"/>
                      <a:ext cx="42678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18"/>
            <p:cNvGraphicFramePr/>
            <p:nvPr/>
          </p:nvGraphicFramePr>
          <p:xfrm>
            <a:off x="1714320" y="3214440"/>
            <a:ext cx="1214640" cy="520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4" name="Object 1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714320" y="3214440"/>
                      <a:ext cx="12146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19"/>
            <p:cNvGraphicFramePr/>
            <p:nvPr/>
          </p:nvGraphicFramePr>
          <p:xfrm>
            <a:off x="5172480" y="3089160"/>
            <a:ext cx="1542960" cy="911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26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172480" y="3089160"/>
                      <a:ext cx="1542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20"/>
            <p:cNvGraphicFramePr/>
            <p:nvPr/>
          </p:nvGraphicFramePr>
          <p:xfrm>
            <a:off x="1714320" y="4071960"/>
            <a:ext cx="6238080" cy="520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28" name="Object 2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714320" y="4071960"/>
                      <a:ext cx="62380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0"/>
          <p:cNvGrpSpPr/>
          <p:nvPr/>
        </p:nvGrpSpPr>
        <p:grpSpPr>
          <a:xfrm>
            <a:off x="733680" y="714240"/>
            <a:ext cx="7834320" cy="1428840"/>
            <a:chOff x="733680" y="714240"/>
            <a:chExt cx="7834320" cy="1428840"/>
          </a:xfrm>
        </p:grpSpPr>
        <p:grpSp>
          <p:nvGrpSpPr>
            <p:cNvPr id="330" name="组合 1"/>
            <p:cNvGrpSpPr/>
            <p:nvPr/>
          </p:nvGrpSpPr>
          <p:grpSpPr>
            <a:xfrm>
              <a:off x="733680" y="714240"/>
              <a:ext cx="7834320" cy="1373760"/>
              <a:chOff x="733680" y="714240"/>
              <a:chExt cx="7834320" cy="1373760"/>
            </a:xfrm>
          </p:grpSpPr>
          <p:sp>
            <p:nvSpPr>
              <p:cNvPr id="331" name="Rectangle 15"/>
              <p:cNvSpPr/>
              <p:nvPr/>
            </p:nvSpPr>
            <p:spPr>
              <a:xfrm>
                <a:off x="733680" y="714240"/>
                <a:ext cx="78343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又显然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定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3,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存在                                    当          时，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特别地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2"/>
              <p:cNvGraphicFramePr/>
              <p:nvPr/>
            </p:nvGraphicFramePr>
            <p:xfrm>
              <a:off x="4786200" y="714240"/>
              <a:ext cx="2066760" cy="520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786200" y="714240"/>
                        <a:ext cx="206676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4" name="Object 9"/>
              <p:cNvGraphicFramePr/>
              <p:nvPr/>
            </p:nvGraphicFramePr>
            <p:xfrm>
              <a:off x="2357280" y="714240"/>
              <a:ext cx="1214280" cy="520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57280" y="714240"/>
                        <a:ext cx="121428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6" name="Object 4"/>
              <p:cNvGraphicFramePr/>
              <p:nvPr/>
            </p:nvGraphicFramePr>
            <p:xfrm>
              <a:off x="5500440" y="1214280"/>
              <a:ext cx="1116000" cy="36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37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00440" y="1214280"/>
                        <a:ext cx="1116000" cy="36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8" name="Object 5"/>
              <p:cNvGraphicFramePr/>
              <p:nvPr/>
            </p:nvGraphicFramePr>
            <p:xfrm>
              <a:off x="1643040" y="1193760"/>
              <a:ext cx="3512880" cy="520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39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643040" y="1193760"/>
                        <a:ext cx="351288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0" name="Object 6"/>
            <p:cNvGraphicFramePr/>
            <p:nvPr/>
          </p:nvGraphicFramePr>
          <p:xfrm>
            <a:off x="7072200" y="1214280"/>
            <a:ext cx="118080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72200" y="1214280"/>
                      <a:ext cx="118080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7"/>
            <p:cNvGraphicFramePr/>
            <p:nvPr/>
          </p:nvGraphicFramePr>
          <p:xfrm>
            <a:off x="1000080" y="1643040"/>
            <a:ext cx="1017360" cy="466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00080" y="1643040"/>
                      <a:ext cx="10173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4" name="Object 8"/>
            <p:cNvGraphicFramePr/>
            <p:nvPr/>
          </p:nvGraphicFramePr>
          <p:xfrm>
            <a:off x="3357360" y="1622520"/>
            <a:ext cx="3482640" cy="520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45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57360" y="1622520"/>
                      <a:ext cx="34826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6" name="Text Box 3"/>
          <p:cNvSpPr/>
          <p:nvPr/>
        </p:nvSpPr>
        <p:spPr>
          <a:xfrm>
            <a:off x="285840" y="2428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7" name="组合 12"/>
          <p:cNvGrpSpPr/>
          <p:nvPr/>
        </p:nvGrpSpPr>
        <p:grpSpPr>
          <a:xfrm>
            <a:off x="1143000" y="2500200"/>
            <a:ext cx="7215120" cy="947160"/>
            <a:chOff x="1143000" y="2500200"/>
            <a:chExt cx="7215120" cy="947160"/>
          </a:xfrm>
        </p:grpSpPr>
        <p:grpSp>
          <p:nvGrpSpPr>
            <p:cNvPr id="348" name="组合 14"/>
            <p:cNvGrpSpPr/>
            <p:nvPr/>
          </p:nvGrpSpPr>
          <p:grpSpPr>
            <a:xfrm>
              <a:off x="1143000" y="2500200"/>
              <a:ext cx="7215120" cy="947160"/>
              <a:chOff x="1143000" y="2500200"/>
              <a:chExt cx="7215120" cy="947160"/>
            </a:xfrm>
          </p:grpSpPr>
          <p:grpSp>
            <p:nvGrpSpPr>
              <p:cNvPr id="349" name="组合 48"/>
              <p:cNvGrpSpPr/>
              <p:nvPr/>
            </p:nvGrpSpPr>
            <p:grpSpPr>
              <a:xfrm>
                <a:off x="1143000" y="2500200"/>
                <a:ext cx="7215120" cy="947160"/>
                <a:chOff x="1143000" y="2500200"/>
                <a:chExt cx="7215120" cy="947160"/>
              </a:xfrm>
            </p:grpSpPr>
            <p:sp>
              <p:nvSpPr>
                <p:cNvPr id="350" name="Rectangle 15"/>
                <p:cNvSpPr/>
                <p:nvPr/>
              </p:nvSpPr>
              <p:spPr>
                <a:xfrm>
                  <a:off x="1143000" y="2500200"/>
                  <a:ext cx="72151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                         ，则存在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51" name="Object 2"/>
                <p:cNvGraphicFramePr/>
                <p:nvPr/>
              </p:nvGraphicFramePr>
              <p:xfrm>
                <a:off x="2143080" y="2571480"/>
                <a:ext cx="396720" cy="347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352" name="Object 2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143080" y="2571480"/>
                          <a:ext cx="396720" cy="347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3" name="Object 5"/>
              <p:cNvGraphicFramePr/>
              <p:nvPr/>
            </p:nvGraphicFramePr>
            <p:xfrm>
              <a:off x="5286240" y="2533320"/>
              <a:ext cx="2786040" cy="466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54" name="Object 5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286240" y="2533320"/>
                        <a:ext cx="278604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5" name="Object 11"/>
            <p:cNvGraphicFramePr/>
            <p:nvPr/>
          </p:nvGraphicFramePr>
          <p:xfrm>
            <a:off x="2428920" y="2928960"/>
            <a:ext cx="3143160" cy="506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28920" y="2928960"/>
                      <a:ext cx="31431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428760" y="1928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9" name="组合 11"/>
          <p:cNvGrpSpPr/>
          <p:nvPr/>
        </p:nvGrpSpPr>
        <p:grpSpPr>
          <a:xfrm>
            <a:off x="1143000" y="642960"/>
            <a:ext cx="7215120" cy="1000080"/>
            <a:chOff x="1143000" y="642960"/>
            <a:chExt cx="7215120" cy="1000080"/>
          </a:xfrm>
        </p:grpSpPr>
        <p:grpSp>
          <p:nvGrpSpPr>
            <p:cNvPr id="360" name="组合 3"/>
            <p:cNvGrpSpPr/>
            <p:nvPr/>
          </p:nvGrpSpPr>
          <p:grpSpPr>
            <a:xfrm>
              <a:off x="1143000" y="642960"/>
              <a:ext cx="7215120" cy="1000080"/>
              <a:chOff x="1143000" y="642960"/>
              <a:chExt cx="7215120" cy="1000080"/>
            </a:xfrm>
          </p:grpSpPr>
          <p:grpSp>
            <p:nvGrpSpPr>
              <p:cNvPr id="361" name="组合 14"/>
              <p:cNvGrpSpPr/>
              <p:nvPr/>
            </p:nvGrpSpPr>
            <p:grpSpPr>
              <a:xfrm>
                <a:off x="1143000" y="642960"/>
                <a:ext cx="7215120" cy="947160"/>
                <a:chOff x="1143000" y="642960"/>
                <a:chExt cx="7215120" cy="947160"/>
              </a:xfrm>
            </p:grpSpPr>
            <p:grpSp>
              <p:nvGrpSpPr>
                <p:cNvPr id="362" name="组合 48"/>
                <p:cNvGrpSpPr/>
                <p:nvPr/>
              </p:nvGrpSpPr>
              <p:grpSpPr>
                <a:xfrm>
                  <a:off x="1143000" y="642960"/>
                  <a:ext cx="7215120" cy="947160"/>
                  <a:chOff x="1143000" y="642960"/>
                  <a:chExt cx="7215120" cy="947160"/>
                </a:xfrm>
              </p:grpSpPr>
              <p:sp>
                <p:nvSpPr>
                  <p:cNvPr id="363" name="Rectangle 15"/>
                  <p:cNvSpPr/>
                  <p:nvPr/>
                </p:nvSpPr>
                <p:spPr>
                  <a:xfrm>
                    <a:off x="1143000" y="642960"/>
                    <a:ext cx="72151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为线性赋范空间，              ，若对任意的                                ，则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64" name="Object 2"/>
                  <p:cNvGraphicFramePr/>
                  <p:nvPr/>
                </p:nvGraphicFramePr>
                <p:xfrm>
                  <a:off x="2143080" y="714240"/>
                  <a:ext cx="396720" cy="3477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65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143080" y="714240"/>
                            <a:ext cx="396720" cy="347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66" name="Object 5"/>
                <p:cNvGraphicFramePr/>
                <p:nvPr/>
              </p:nvGraphicFramePr>
              <p:xfrm>
                <a:off x="5214960" y="676080"/>
                <a:ext cx="1638000" cy="466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67" name="Object 5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214960" y="676080"/>
                          <a:ext cx="1638000" cy="466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68" name="Object 11"/>
              <p:cNvGraphicFramePr/>
              <p:nvPr/>
            </p:nvGraphicFramePr>
            <p:xfrm>
              <a:off x="2000160" y="1136520"/>
              <a:ext cx="3057480" cy="506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69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000160" y="1136520"/>
                        <a:ext cx="3057480" cy="50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0" name="Object 5"/>
            <p:cNvGraphicFramePr/>
            <p:nvPr/>
          </p:nvGraphicFramePr>
          <p:xfrm>
            <a:off x="5857920" y="1104840"/>
            <a:ext cx="12459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57920" y="1104840"/>
                      <a:ext cx="12459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2" name="组合 3"/>
          <p:cNvGrpSpPr/>
          <p:nvPr/>
        </p:nvGrpSpPr>
        <p:grpSpPr>
          <a:xfrm>
            <a:off x="1071720" y="1928880"/>
            <a:ext cx="7215120" cy="1530360"/>
            <a:chOff x="1071720" y="1928880"/>
            <a:chExt cx="7215120" cy="1530360"/>
          </a:xfrm>
        </p:grpSpPr>
        <p:grpSp>
          <p:nvGrpSpPr>
            <p:cNvPr id="373" name="组合 14"/>
            <p:cNvGrpSpPr/>
            <p:nvPr/>
          </p:nvGrpSpPr>
          <p:grpSpPr>
            <a:xfrm>
              <a:off x="1071720" y="1928880"/>
              <a:ext cx="7215120" cy="520560"/>
              <a:chOff x="1071720" y="1928880"/>
              <a:chExt cx="7215120" cy="520560"/>
            </a:xfrm>
          </p:grpSpPr>
          <p:grpSp>
            <p:nvGrpSpPr>
              <p:cNvPr id="374" name="组合 48"/>
              <p:cNvGrpSpPr/>
              <p:nvPr/>
            </p:nvGrpSpPr>
            <p:grpSpPr>
              <a:xfrm>
                <a:off x="1071720" y="1928880"/>
                <a:ext cx="7215120" cy="520560"/>
                <a:chOff x="1071720" y="1928880"/>
                <a:chExt cx="7215120" cy="520560"/>
              </a:xfrm>
            </p:grpSpPr>
            <p:sp>
              <p:nvSpPr>
                <p:cNvPr id="375" name="Rectangle 15"/>
                <p:cNvSpPr/>
                <p:nvPr/>
              </p:nvSpPr>
              <p:spPr>
                <a:xfrm>
                  <a:off x="1071720" y="1928880"/>
                  <a:ext cx="721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         ，则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76" name="Object 6"/>
                <p:cNvGraphicFramePr/>
                <p:nvPr/>
              </p:nvGraphicFramePr>
              <p:xfrm>
                <a:off x="2071800" y="2000160"/>
                <a:ext cx="396720" cy="3474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77" name="Object 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071800" y="2000160"/>
                          <a:ext cx="396720" cy="347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78" name="Object 7"/>
              <p:cNvGraphicFramePr/>
              <p:nvPr/>
            </p:nvGraphicFramePr>
            <p:xfrm>
              <a:off x="5143680" y="1962000"/>
              <a:ext cx="1179360" cy="466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79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143680" y="1962000"/>
                        <a:ext cx="117936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0" name="Object 8"/>
            <p:cNvGraphicFramePr/>
            <p:nvPr/>
          </p:nvGraphicFramePr>
          <p:xfrm>
            <a:off x="3286080" y="2500200"/>
            <a:ext cx="24908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86080" y="2500200"/>
                      <a:ext cx="24908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2" name="Text Box 3"/>
          <p:cNvSpPr/>
          <p:nvPr/>
        </p:nvSpPr>
        <p:spPr>
          <a:xfrm>
            <a:off x="428760" y="32148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3" name="组合 26"/>
          <p:cNvGrpSpPr/>
          <p:nvPr/>
        </p:nvGrpSpPr>
        <p:grpSpPr>
          <a:xfrm>
            <a:off x="1143000" y="3357720"/>
            <a:ext cx="7215120" cy="1404720"/>
            <a:chOff x="1143000" y="3357720"/>
            <a:chExt cx="7215120" cy="1404720"/>
          </a:xfrm>
        </p:grpSpPr>
        <p:grpSp>
          <p:nvGrpSpPr>
            <p:cNvPr id="384" name="组合 22"/>
            <p:cNvGrpSpPr/>
            <p:nvPr/>
          </p:nvGrpSpPr>
          <p:grpSpPr>
            <a:xfrm>
              <a:off x="1143000" y="3357720"/>
              <a:ext cx="7215120" cy="1404720"/>
              <a:chOff x="1143000" y="3357720"/>
              <a:chExt cx="7215120" cy="1404720"/>
            </a:xfrm>
          </p:grpSpPr>
          <p:sp>
            <p:nvSpPr>
              <p:cNvPr id="385" name="Rectangle 15"/>
              <p:cNvSpPr/>
              <p:nvPr/>
            </p:nvSpPr>
            <p:spPr>
              <a:xfrm>
                <a:off x="1143000" y="3357720"/>
                <a:ext cx="721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                                                 ，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6" name="Object 10"/>
              <p:cNvGraphicFramePr/>
              <p:nvPr/>
            </p:nvGraphicFramePr>
            <p:xfrm>
              <a:off x="3429000" y="3857760"/>
              <a:ext cx="2401920" cy="9046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87" name="Object 1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429000" y="3857760"/>
                        <a:ext cx="2401920" cy="90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8" name="Object 11"/>
            <p:cNvGraphicFramePr/>
            <p:nvPr/>
          </p:nvGraphicFramePr>
          <p:xfrm>
            <a:off x="2143080" y="3357720"/>
            <a:ext cx="4797360" cy="520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9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143080" y="3357720"/>
                      <a:ext cx="47973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12"/>
          <p:cNvGrpSpPr/>
          <p:nvPr/>
        </p:nvGrpSpPr>
        <p:grpSpPr>
          <a:xfrm>
            <a:off x="928800" y="642960"/>
            <a:ext cx="7358040" cy="1959120"/>
            <a:chOff x="928800" y="642960"/>
            <a:chExt cx="7358040" cy="1959120"/>
          </a:xfrm>
        </p:grpSpPr>
        <p:grpSp>
          <p:nvGrpSpPr>
            <p:cNvPr id="391" name="组合 1"/>
            <p:cNvGrpSpPr/>
            <p:nvPr/>
          </p:nvGrpSpPr>
          <p:grpSpPr>
            <a:xfrm>
              <a:off x="928800" y="642960"/>
              <a:ext cx="7358040" cy="947520"/>
              <a:chOff x="928800" y="642960"/>
              <a:chExt cx="7358040" cy="947520"/>
            </a:xfrm>
          </p:grpSpPr>
          <p:grpSp>
            <p:nvGrpSpPr>
              <p:cNvPr id="392" name="组合 3"/>
              <p:cNvGrpSpPr/>
              <p:nvPr/>
            </p:nvGrpSpPr>
            <p:grpSpPr>
              <a:xfrm>
                <a:off x="1071360" y="642960"/>
                <a:ext cx="7215480" cy="947160"/>
                <a:chOff x="1071360" y="642960"/>
                <a:chExt cx="7215480" cy="947160"/>
              </a:xfrm>
            </p:grpSpPr>
            <p:sp>
              <p:nvSpPr>
                <p:cNvPr id="393" name="Rectangle 15"/>
                <p:cNvSpPr/>
                <p:nvPr/>
              </p:nvSpPr>
              <p:spPr>
                <a:xfrm>
                  <a:off x="1071360" y="642960"/>
                  <a:ext cx="7215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另一方面，由推论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存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94" name="Object 11"/>
                <p:cNvGraphicFramePr/>
                <p:nvPr/>
              </p:nvGraphicFramePr>
              <p:xfrm>
                <a:off x="6000840" y="642960"/>
                <a:ext cx="2181240" cy="533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95" name="Object 11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000840" y="642960"/>
                          <a:ext cx="2181240" cy="533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96" name="Object 5"/>
              <p:cNvGraphicFramePr/>
              <p:nvPr/>
            </p:nvGraphicFramePr>
            <p:xfrm>
              <a:off x="928800" y="1071360"/>
              <a:ext cx="2098440" cy="519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7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800" y="1071360"/>
                        <a:ext cx="2098440" cy="51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Object 6"/>
            <p:cNvGraphicFramePr/>
            <p:nvPr/>
          </p:nvGraphicFramePr>
          <p:xfrm>
            <a:off x="3500640" y="1643040"/>
            <a:ext cx="249084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0640" y="1643040"/>
                      <a:ext cx="24908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0" name="Rectangle 15"/>
          <p:cNvSpPr/>
          <p:nvPr/>
        </p:nvSpPr>
        <p:spPr>
          <a:xfrm>
            <a:off x="928800" y="26431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等式成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2" name="组合 15"/>
          <p:cNvGrpSpPr/>
          <p:nvPr/>
        </p:nvGrpSpPr>
        <p:grpSpPr>
          <a:xfrm>
            <a:off x="1214280" y="642960"/>
            <a:ext cx="7215480" cy="1784160"/>
            <a:chOff x="1214280" y="642960"/>
            <a:chExt cx="7215480" cy="1784160"/>
          </a:xfrm>
        </p:grpSpPr>
        <p:grpSp>
          <p:nvGrpSpPr>
            <p:cNvPr id="403" name="组合 2"/>
            <p:cNvGrpSpPr/>
            <p:nvPr/>
          </p:nvGrpSpPr>
          <p:grpSpPr>
            <a:xfrm>
              <a:off x="1214280" y="642960"/>
              <a:ext cx="7215480" cy="1784160"/>
              <a:chOff x="1214280" y="642960"/>
              <a:chExt cx="7215480" cy="1784160"/>
            </a:xfrm>
          </p:grpSpPr>
          <p:grpSp>
            <p:nvGrpSpPr>
              <p:cNvPr id="404" name="组合 3"/>
              <p:cNvGrpSpPr/>
              <p:nvPr/>
            </p:nvGrpSpPr>
            <p:grpSpPr>
              <a:xfrm>
                <a:off x="1214280" y="642960"/>
                <a:ext cx="7215480" cy="1373760"/>
                <a:chOff x="1214280" y="642960"/>
                <a:chExt cx="7215480" cy="1373760"/>
              </a:xfrm>
            </p:grpSpPr>
            <p:grpSp>
              <p:nvGrpSpPr>
                <p:cNvPr id="405" name="组合 14"/>
                <p:cNvGrpSpPr/>
                <p:nvPr/>
              </p:nvGrpSpPr>
              <p:grpSpPr>
                <a:xfrm>
                  <a:off x="1214280" y="642960"/>
                  <a:ext cx="7215480" cy="1373760"/>
                  <a:chOff x="1214280" y="642960"/>
                  <a:chExt cx="7215480" cy="1373760"/>
                </a:xfrm>
              </p:grpSpPr>
              <p:grpSp>
                <p:nvGrpSpPr>
                  <p:cNvPr id="406" name="组合 48"/>
                  <p:cNvGrpSpPr/>
                  <p:nvPr/>
                </p:nvGrpSpPr>
                <p:grpSpPr>
                  <a:xfrm>
                    <a:off x="1214280" y="642960"/>
                    <a:ext cx="7215480" cy="1373760"/>
                    <a:chOff x="1214280" y="642960"/>
                    <a:chExt cx="7215480" cy="1373760"/>
                  </a:xfrm>
                </p:grpSpPr>
                <p:sp>
                  <p:nvSpPr>
                    <p:cNvPr id="407" name="Rectangle 15"/>
                    <p:cNvSpPr/>
                    <p:nvPr/>
                  </p:nvSpPr>
                  <p:spPr>
                    <a:xfrm>
                      <a:off x="1214280" y="642960"/>
                      <a:ext cx="7215480" cy="137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为线性赋范空间，   是   的子集合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称         是   关于    的最佳逼近元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 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408" name="Object 2"/>
                    <p:cNvGraphicFramePr/>
                    <p:nvPr/>
                  </p:nvGraphicFramePr>
                  <p:xfrm>
                    <a:off x="2214360" y="714240"/>
                    <a:ext cx="396720" cy="347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09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2214360" y="714240"/>
                              <a:ext cx="396720" cy="347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10" name="Object 5"/>
                  <p:cNvGraphicFramePr/>
                  <p:nvPr/>
                </p:nvGraphicFramePr>
                <p:xfrm>
                  <a:off x="6042240" y="741240"/>
                  <a:ext cx="458640" cy="3366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411" name="Object 5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6042240" y="741240"/>
                            <a:ext cx="458640" cy="3366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12" name="Object 11"/>
                <p:cNvGraphicFramePr/>
                <p:nvPr/>
              </p:nvGraphicFramePr>
              <p:xfrm>
                <a:off x="1307880" y="1143000"/>
                <a:ext cx="906480" cy="372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13" name="Object 11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307880" y="1143000"/>
                          <a:ext cx="906480" cy="37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14" name="Object 5"/>
              <p:cNvGraphicFramePr/>
              <p:nvPr/>
            </p:nvGraphicFramePr>
            <p:xfrm>
              <a:off x="3000240" y="1857240"/>
              <a:ext cx="3148200" cy="569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00240" y="1857240"/>
                        <a:ext cx="3148200" cy="56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6" name="Object 6"/>
            <p:cNvGraphicFramePr/>
            <p:nvPr/>
          </p:nvGraphicFramePr>
          <p:xfrm>
            <a:off x="5429160" y="726840"/>
            <a:ext cx="33948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29160" y="726840"/>
                      <a:ext cx="339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Object 7"/>
            <p:cNvGraphicFramePr/>
            <p:nvPr/>
          </p:nvGraphicFramePr>
          <p:xfrm>
            <a:off x="2643120" y="1117440"/>
            <a:ext cx="877680" cy="42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43120" y="1117440"/>
                      <a:ext cx="87768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0" name="Object 8"/>
            <p:cNvGraphicFramePr/>
            <p:nvPr/>
          </p:nvGraphicFramePr>
          <p:xfrm>
            <a:off x="3857400" y="1182600"/>
            <a:ext cx="357120" cy="36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57400" y="1182600"/>
                      <a:ext cx="35712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Object 9"/>
            <p:cNvGraphicFramePr/>
            <p:nvPr/>
          </p:nvGraphicFramePr>
          <p:xfrm>
            <a:off x="4946760" y="1143000"/>
            <a:ext cx="3394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946760" y="1143000"/>
                      <a:ext cx="339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4" name="Text Box 3"/>
          <p:cNvSpPr/>
          <p:nvPr/>
        </p:nvSpPr>
        <p:spPr>
          <a:xfrm>
            <a:off x="50004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5" name="组合 33"/>
          <p:cNvGrpSpPr/>
          <p:nvPr/>
        </p:nvGrpSpPr>
        <p:grpSpPr>
          <a:xfrm>
            <a:off x="1214280" y="2643120"/>
            <a:ext cx="7215480" cy="1803960"/>
            <a:chOff x="1214280" y="2643120"/>
            <a:chExt cx="7215480" cy="1803960"/>
          </a:xfrm>
        </p:grpSpPr>
        <p:grpSp>
          <p:nvGrpSpPr>
            <p:cNvPr id="426" name="组合 17"/>
            <p:cNvGrpSpPr/>
            <p:nvPr/>
          </p:nvGrpSpPr>
          <p:grpSpPr>
            <a:xfrm>
              <a:off x="1214280" y="2643120"/>
              <a:ext cx="7215480" cy="1375200"/>
              <a:chOff x="1214280" y="2643120"/>
              <a:chExt cx="7215480" cy="1375200"/>
            </a:xfrm>
          </p:grpSpPr>
          <p:grpSp>
            <p:nvGrpSpPr>
              <p:cNvPr id="427" name="组合 18"/>
              <p:cNvGrpSpPr/>
              <p:nvPr/>
            </p:nvGrpSpPr>
            <p:grpSpPr>
              <a:xfrm>
                <a:off x="1214280" y="2643120"/>
                <a:ext cx="7215480" cy="1375200"/>
                <a:chOff x="1214280" y="2643120"/>
                <a:chExt cx="7215480" cy="1375200"/>
              </a:xfrm>
            </p:grpSpPr>
            <p:grpSp>
              <p:nvGrpSpPr>
                <p:cNvPr id="428" name="组合 3"/>
                <p:cNvGrpSpPr/>
                <p:nvPr/>
              </p:nvGrpSpPr>
              <p:grpSpPr>
                <a:xfrm>
                  <a:off x="1214280" y="2643120"/>
                  <a:ext cx="7215480" cy="1373760"/>
                  <a:chOff x="1214280" y="2643120"/>
                  <a:chExt cx="7215480" cy="1373760"/>
                </a:xfrm>
              </p:grpSpPr>
              <p:grpSp>
                <p:nvGrpSpPr>
                  <p:cNvPr id="429" name="组合 14"/>
                  <p:cNvGrpSpPr/>
                  <p:nvPr/>
                </p:nvGrpSpPr>
                <p:grpSpPr>
                  <a:xfrm>
                    <a:off x="1214280" y="2643120"/>
                    <a:ext cx="7215480" cy="1373760"/>
                    <a:chOff x="1214280" y="2643120"/>
                    <a:chExt cx="7215480" cy="1373760"/>
                  </a:xfrm>
                </p:grpSpPr>
                <p:grpSp>
                  <p:nvGrpSpPr>
                    <p:cNvPr id="430" name="组合 48"/>
                    <p:cNvGrpSpPr/>
                    <p:nvPr/>
                  </p:nvGrpSpPr>
                  <p:grpSpPr>
                    <a:xfrm>
                      <a:off x="1214280" y="2643120"/>
                      <a:ext cx="7215480" cy="1373760"/>
                      <a:chOff x="1214280" y="2643120"/>
                      <a:chExt cx="7215480" cy="1373760"/>
                    </a:xfrm>
                  </p:grpSpPr>
                  <p:sp>
                    <p:nvSpPr>
                      <p:cNvPr id="431" name="Rectangle 15"/>
                      <p:cNvSpPr/>
                      <p:nvPr/>
                    </p:nvSpPr>
                    <p:spPr>
                      <a:xfrm>
                        <a:off x="1214280" y="2643120"/>
                        <a:ext cx="7215480" cy="1373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设    为线性赋范空间，   是   的闭线性子空间，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,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则         是   关于    的最佳逼近元当且仅当存在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并且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432" name="Object 10"/>
                      <p:cNvGraphicFramePr/>
                      <p:nvPr/>
                    </p:nvGraphicFramePr>
                    <p:xfrm>
                      <a:off x="2214360" y="2714400"/>
                      <a:ext cx="396720" cy="347400"/>
                    </p:xfrm>
                    <a:graphic>
                      <a:graphicData uri="http://schemas.openxmlformats.org/presentationml/2006/ole">
                        <p:oleObj r:id="rId17" spid="">
                          <p:embed/>
                          <p:pic>
                            <p:nvPicPr>
                              <p:cNvPr id="433" name="Object 10" descr=""/>
                              <p:cNvPicPr/>
                              <p:nvPr/>
                            </p:nvPicPr>
                            <p:blipFill>
                              <a:blip r:embed="rId18"/>
                              <a:stretch/>
                            </p:blipFill>
                            <p:spPr>
                              <a:xfrm>
                                <a:off x="2214360" y="2714400"/>
                                <a:ext cx="396720" cy="347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434" name="Object 11"/>
                    <p:cNvGraphicFramePr/>
                    <p:nvPr/>
                  </p:nvGraphicFramePr>
                  <p:xfrm>
                    <a:off x="6042240" y="2741400"/>
                    <a:ext cx="458640" cy="336600"/>
                  </p:xfrm>
                  <a:graphic>
                    <a:graphicData uri="http://schemas.openxmlformats.org/presentationml/2006/ole">
                      <p:oleObj r:id="rId19" spid="">
                        <p:embed/>
                        <p:pic>
                          <p:nvPicPr>
                            <p:cNvPr id="435" name="Object 11" descr=""/>
                            <p:cNvPicPr/>
                            <p:nvPr/>
                          </p:nvPicPr>
                          <p:blipFill>
                            <a:blip r:embed="rId20"/>
                            <a:stretch/>
                          </p:blipFill>
                          <p:spPr>
                            <a:xfrm>
                              <a:off x="6042240" y="2741400"/>
                              <a:ext cx="458640" cy="3366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36" name="Object 12"/>
                  <p:cNvGraphicFramePr/>
                  <p:nvPr/>
                </p:nvGraphicFramePr>
                <p:xfrm>
                  <a:off x="2214360" y="3092400"/>
                  <a:ext cx="963360" cy="47952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437" name="Object 12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2214360" y="3092400"/>
                            <a:ext cx="963360" cy="4795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38" name="Object 13"/>
                <p:cNvGraphicFramePr/>
                <p:nvPr/>
              </p:nvGraphicFramePr>
              <p:xfrm>
                <a:off x="3786120" y="3500640"/>
                <a:ext cx="4000680" cy="51768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439" name="Object 13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3786120" y="3500640"/>
                          <a:ext cx="4000680" cy="517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40" name="Object 14"/>
              <p:cNvGraphicFramePr/>
              <p:nvPr/>
            </p:nvGraphicFramePr>
            <p:xfrm>
              <a:off x="5429160" y="2727000"/>
              <a:ext cx="339480" cy="3459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441" name="Object 14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29160" y="2727000"/>
                        <a:ext cx="33948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2" name="Object 15"/>
              <p:cNvGraphicFramePr/>
              <p:nvPr/>
            </p:nvGraphicFramePr>
            <p:xfrm>
              <a:off x="3643200" y="3143160"/>
              <a:ext cx="877680" cy="4255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43" name="Object 15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643200" y="3143160"/>
                        <a:ext cx="877680" cy="42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4" name="Object 16"/>
              <p:cNvGraphicFramePr/>
              <p:nvPr/>
            </p:nvGraphicFramePr>
            <p:xfrm>
              <a:off x="4803840" y="3027240"/>
              <a:ext cx="465120" cy="6001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45" name="Object 16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803840" y="3027240"/>
                        <a:ext cx="46512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6" name="Object 17"/>
              <p:cNvGraphicFramePr/>
              <p:nvPr/>
            </p:nvGraphicFramePr>
            <p:xfrm>
              <a:off x="5857920" y="3143160"/>
              <a:ext cx="339480" cy="345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447" name="Object 17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857920" y="3143160"/>
                        <a:ext cx="33948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Object 18"/>
            <p:cNvGraphicFramePr/>
            <p:nvPr/>
          </p:nvGraphicFramePr>
          <p:xfrm>
            <a:off x="1385640" y="3981600"/>
            <a:ext cx="1049400" cy="3729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449" name="Object 18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385640" y="3981600"/>
                      <a:ext cx="104940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19"/>
            <p:cNvGraphicFramePr/>
            <p:nvPr/>
          </p:nvGraphicFramePr>
          <p:xfrm>
            <a:off x="3143160" y="3929400"/>
            <a:ext cx="2656080" cy="517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451" name="Object 19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143160" y="3929400"/>
                      <a:ext cx="265608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3"/>
          <p:cNvSpPr/>
          <p:nvPr/>
        </p:nvSpPr>
        <p:spPr>
          <a:xfrm>
            <a:off x="57168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3" name="组合 2"/>
          <p:cNvGrpSpPr/>
          <p:nvPr/>
        </p:nvGrpSpPr>
        <p:grpSpPr>
          <a:xfrm>
            <a:off x="1928880" y="642960"/>
            <a:ext cx="7215120" cy="1198440"/>
            <a:chOff x="1928880" y="642960"/>
            <a:chExt cx="7215120" cy="1198440"/>
          </a:xfrm>
        </p:grpSpPr>
        <p:grpSp>
          <p:nvGrpSpPr>
            <p:cNvPr id="454" name="组合 3"/>
            <p:cNvGrpSpPr/>
            <p:nvPr/>
          </p:nvGrpSpPr>
          <p:grpSpPr>
            <a:xfrm>
              <a:off x="1928880" y="687240"/>
              <a:ext cx="7215120" cy="1154160"/>
              <a:chOff x="1928880" y="687240"/>
              <a:chExt cx="7215120" cy="1154160"/>
            </a:xfrm>
          </p:grpSpPr>
          <p:sp>
            <p:nvSpPr>
              <p:cNvPr id="455" name="Rectangle 15"/>
              <p:cNvSpPr/>
              <p:nvPr/>
            </p:nvSpPr>
            <p:spPr>
              <a:xfrm>
                <a:off x="1928880" y="687240"/>
                <a:ext cx="721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是   关于    的最佳逼近元，即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56" name="Object 5"/>
              <p:cNvGraphicFramePr/>
              <p:nvPr/>
            </p:nvGraphicFramePr>
            <p:xfrm>
              <a:off x="2730600" y="1245960"/>
              <a:ext cx="5116680" cy="59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7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30600" y="1245960"/>
                        <a:ext cx="5116680" cy="59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58" name="Object 7"/>
            <p:cNvGraphicFramePr/>
            <p:nvPr/>
          </p:nvGraphicFramePr>
          <p:xfrm>
            <a:off x="2928960" y="830160"/>
            <a:ext cx="311040" cy="34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8960" y="830160"/>
                      <a:ext cx="3110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Object 8"/>
            <p:cNvGraphicFramePr/>
            <p:nvPr/>
          </p:nvGraphicFramePr>
          <p:xfrm>
            <a:off x="3448080" y="642960"/>
            <a:ext cx="463320" cy="60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48080" y="642960"/>
                      <a:ext cx="46332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Object 9"/>
            <p:cNvGraphicFramePr/>
            <p:nvPr/>
          </p:nvGraphicFramePr>
          <p:xfrm>
            <a:off x="4500720" y="769680"/>
            <a:ext cx="3394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769680"/>
                      <a:ext cx="339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4" name="Object 10"/>
          <p:cNvGraphicFramePr/>
          <p:nvPr/>
        </p:nvGraphicFramePr>
        <p:xfrm>
          <a:off x="1857240" y="785880"/>
          <a:ext cx="53820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785880"/>
                    <a:ext cx="538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组合 17"/>
          <p:cNvGrpSpPr/>
          <p:nvPr/>
        </p:nvGrpSpPr>
        <p:grpSpPr>
          <a:xfrm>
            <a:off x="785880" y="1973160"/>
            <a:ext cx="7215120" cy="955800"/>
            <a:chOff x="785880" y="1973160"/>
            <a:chExt cx="7215120" cy="955800"/>
          </a:xfrm>
        </p:grpSpPr>
        <p:grpSp>
          <p:nvGrpSpPr>
            <p:cNvPr id="467" name="组合 18"/>
            <p:cNvGrpSpPr/>
            <p:nvPr/>
          </p:nvGrpSpPr>
          <p:grpSpPr>
            <a:xfrm>
              <a:off x="785880" y="1973160"/>
              <a:ext cx="7215120" cy="947160"/>
              <a:chOff x="785880" y="1973160"/>
              <a:chExt cx="7215120" cy="947160"/>
            </a:xfrm>
          </p:grpSpPr>
          <p:sp>
            <p:nvSpPr>
              <p:cNvPr id="468" name="Rectangle 15"/>
              <p:cNvSpPr/>
              <p:nvPr/>
            </p:nvSpPr>
            <p:spPr>
              <a:xfrm>
                <a:off x="785880" y="1973160"/>
                <a:ext cx="7215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          ，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其中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69" name="Object 11"/>
              <p:cNvGraphicFramePr/>
              <p:nvPr/>
            </p:nvGraphicFramePr>
            <p:xfrm>
              <a:off x="4429080" y="2033280"/>
              <a:ext cx="3510000" cy="466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70" name="Object 11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429080" y="2033280"/>
                        <a:ext cx="351000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71" name="Object 12"/>
            <p:cNvGraphicFramePr/>
            <p:nvPr/>
          </p:nvGraphicFramePr>
          <p:xfrm>
            <a:off x="1266840" y="2000160"/>
            <a:ext cx="2376360" cy="531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2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66840" y="2000160"/>
                      <a:ext cx="237636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Object 14"/>
            <p:cNvGraphicFramePr/>
            <p:nvPr/>
          </p:nvGraphicFramePr>
          <p:xfrm>
            <a:off x="1546200" y="2502000"/>
            <a:ext cx="1811160" cy="426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4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546200" y="2502000"/>
                      <a:ext cx="18111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1"/>
          <p:cNvGrpSpPr/>
          <p:nvPr/>
        </p:nvGrpSpPr>
        <p:grpSpPr>
          <a:xfrm>
            <a:off x="500040" y="714240"/>
            <a:ext cx="7580160" cy="952560"/>
            <a:chOff x="500040" y="714240"/>
            <a:chExt cx="7580160" cy="952560"/>
          </a:xfrm>
        </p:grpSpPr>
        <p:grpSp>
          <p:nvGrpSpPr>
            <p:cNvPr id="86" name="组合 29"/>
            <p:cNvGrpSpPr/>
            <p:nvPr/>
          </p:nvGrpSpPr>
          <p:grpSpPr>
            <a:xfrm>
              <a:off x="1335240" y="714240"/>
              <a:ext cx="6357600" cy="947160"/>
              <a:chOff x="1335240" y="714240"/>
              <a:chExt cx="6357600" cy="947160"/>
            </a:xfrm>
          </p:grpSpPr>
          <p:sp>
            <p:nvSpPr>
              <p:cNvPr id="87" name="Rectangle 15"/>
              <p:cNvSpPr/>
              <p:nvPr/>
            </p:nvSpPr>
            <p:spPr>
              <a:xfrm>
                <a:off x="1335240" y="714240"/>
                <a:ext cx="6357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复空间上任一复线性泛函       ，不妨设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，其中        分布为   的实部和虚部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88" name="Object 23"/>
              <p:cNvGraphicFramePr/>
              <p:nvPr/>
            </p:nvGraphicFramePr>
            <p:xfrm>
              <a:off x="4921200" y="811080"/>
              <a:ext cx="865080" cy="403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9" name="Object 2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21200" y="811080"/>
                        <a:ext cx="86508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0" name="Object 5"/>
            <p:cNvGraphicFramePr/>
            <p:nvPr/>
          </p:nvGraphicFramePr>
          <p:xfrm>
            <a:off x="7215120" y="785520"/>
            <a:ext cx="865080" cy="40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15120" y="785520"/>
                      <a:ext cx="8650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6"/>
            <p:cNvGraphicFramePr/>
            <p:nvPr/>
          </p:nvGraphicFramePr>
          <p:xfrm>
            <a:off x="500040" y="1214280"/>
            <a:ext cx="237168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040" y="1214280"/>
                      <a:ext cx="23716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7"/>
            <p:cNvGraphicFramePr/>
            <p:nvPr/>
          </p:nvGraphicFramePr>
          <p:xfrm>
            <a:off x="3984480" y="1190520"/>
            <a:ext cx="898200" cy="452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84480" y="1190520"/>
                      <a:ext cx="89820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6" name="Object 8"/>
          <p:cNvGraphicFramePr/>
          <p:nvPr/>
        </p:nvGraphicFramePr>
        <p:xfrm>
          <a:off x="5857920" y="1214280"/>
          <a:ext cx="384120" cy="40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1214280"/>
                    <a:ext cx="38412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5"/>
          <p:cNvSpPr/>
          <p:nvPr/>
        </p:nvSpPr>
        <p:spPr>
          <a:xfrm>
            <a:off x="631800" y="1714680"/>
            <a:ext cx="14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2286000" y="1785960"/>
          <a:ext cx="4678200" cy="90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1785960"/>
                    <a:ext cx="46782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15"/>
          <p:cNvSpPr/>
          <p:nvPr/>
        </p:nvSpPr>
        <p:spPr>
          <a:xfrm>
            <a:off x="133560" y="264312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2" name="Object 10"/>
          <p:cNvGraphicFramePr/>
          <p:nvPr/>
        </p:nvGraphicFramePr>
        <p:xfrm>
          <a:off x="2286000" y="2857680"/>
          <a:ext cx="3300480" cy="90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2857680"/>
                    <a:ext cx="33004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组合 19"/>
          <p:cNvGrpSpPr/>
          <p:nvPr/>
        </p:nvGrpSpPr>
        <p:grpSpPr>
          <a:xfrm>
            <a:off x="1951200" y="3857760"/>
            <a:ext cx="6764040" cy="523800"/>
            <a:chOff x="1951200" y="3857760"/>
            <a:chExt cx="6764040" cy="523800"/>
          </a:xfrm>
        </p:grpSpPr>
        <p:sp>
          <p:nvSpPr>
            <p:cNvPr id="105" name="Rectangle 15"/>
            <p:cNvSpPr/>
            <p:nvPr/>
          </p:nvSpPr>
          <p:spPr>
            <a:xfrm>
              <a:off x="1951200" y="3857760"/>
              <a:ext cx="373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注：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实线性泛函     ，一般来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6" name="Object 11"/>
            <p:cNvGraphicFramePr/>
            <p:nvPr/>
          </p:nvGraphicFramePr>
          <p:xfrm>
            <a:off x="4071960" y="3929040"/>
            <a:ext cx="385560" cy="452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7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1960" y="3929040"/>
                      <a:ext cx="3855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12"/>
            <p:cNvGraphicFramePr/>
            <p:nvPr/>
          </p:nvGraphicFramePr>
          <p:xfrm>
            <a:off x="6472080" y="3905280"/>
            <a:ext cx="2243160" cy="452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9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72080" y="3905280"/>
                      <a:ext cx="22431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14200" y="3571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57120" y="3071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1179360" y="428760"/>
            <a:ext cx="7540920" cy="2446200"/>
            <a:chOff x="1179360" y="428760"/>
            <a:chExt cx="7540920" cy="2446200"/>
          </a:xfrm>
        </p:grpSpPr>
        <p:grpSp>
          <p:nvGrpSpPr>
            <p:cNvPr id="113" name="组合 14"/>
            <p:cNvGrpSpPr/>
            <p:nvPr/>
          </p:nvGrpSpPr>
          <p:grpSpPr>
            <a:xfrm>
              <a:off x="1179360" y="428760"/>
              <a:ext cx="7540920" cy="2446200"/>
              <a:chOff x="1179360" y="428760"/>
              <a:chExt cx="7540920" cy="2446200"/>
            </a:xfrm>
          </p:grpSpPr>
          <p:grpSp>
            <p:nvGrpSpPr>
              <p:cNvPr id="114" name="组合 13"/>
              <p:cNvGrpSpPr/>
              <p:nvPr/>
            </p:nvGrpSpPr>
            <p:grpSpPr>
              <a:xfrm>
                <a:off x="1179360" y="428760"/>
                <a:ext cx="7540920" cy="2446200"/>
                <a:chOff x="1179360" y="428760"/>
                <a:chExt cx="7540920" cy="2446200"/>
              </a:xfrm>
            </p:grpSpPr>
            <p:grpSp>
              <p:nvGrpSpPr>
                <p:cNvPr id="115" name="组合 12"/>
                <p:cNvGrpSpPr/>
                <p:nvPr/>
              </p:nvGrpSpPr>
              <p:grpSpPr>
                <a:xfrm>
                  <a:off x="1179360" y="428760"/>
                  <a:ext cx="6570720" cy="1800360"/>
                  <a:chOff x="1179360" y="428760"/>
                  <a:chExt cx="6570720" cy="1800360"/>
                </a:xfrm>
              </p:grpSpPr>
              <p:grpSp>
                <p:nvGrpSpPr>
                  <p:cNvPr id="116" name="组合 48"/>
                  <p:cNvGrpSpPr/>
                  <p:nvPr/>
                </p:nvGrpSpPr>
                <p:grpSpPr>
                  <a:xfrm>
                    <a:off x="1930680" y="428760"/>
                    <a:ext cx="5819400" cy="1800360"/>
                    <a:chOff x="1930680" y="428760"/>
                    <a:chExt cx="5819400" cy="1800360"/>
                  </a:xfrm>
                </p:grpSpPr>
                <p:sp>
                  <p:nvSpPr>
                    <p:cNvPr id="117" name="Rectangle 15"/>
                    <p:cNvSpPr/>
                    <p:nvPr/>
                  </p:nvSpPr>
                  <p:spPr>
                    <a:xfrm>
                      <a:off x="1930680" y="428760"/>
                      <a:ext cx="581940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为复线性空间，           为线性子空间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是   上的半范数，若   是    上的复线性泛函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并且                                     ，则存在   上的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性泛函    ，使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118" name="Object 2"/>
                    <p:cNvGraphicFramePr/>
                    <p:nvPr/>
                  </p:nvGraphicFramePr>
                  <p:xfrm>
                    <a:off x="2000160" y="500040"/>
                    <a:ext cx="396720" cy="347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119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2000160" y="500040"/>
                              <a:ext cx="396720" cy="347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120" name="Object 12"/>
                  <p:cNvGraphicFramePr/>
                  <p:nvPr/>
                </p:nvGraphicFramePr>
                <p:xfrm>
                  <a:off x="1179360" y="928800"/>
                  <a:ext cx="392040" cy="33804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21" name="Object 1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179360" y="928800"/>
                            <a:ext cx="392040" cy="338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22" name="Object 7"/>
                <p:cNvGraphicFramePr/>
                <p:nvPr/>
              </p:nvGraphicFramePr>
              <p:xfrm>
                <a:off x="4573440" y="857160"/>
                <a:ext cx="426960" cy="4680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23" name="Object 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573440" y="857160"/>
                          <a:ext cx="426960" cy="46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24" name="Object 8"/>
                <p:cNvGraphicFramePr/>
                <p:nvPr/>
              </p:nvGraphicFramePr>
              <p:xfrm>
                <a:off x="1447560" y="2357640"/>
                <a:ext cx="7272720" cy="517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25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447560" y="2357640"/>
                          <a:ext cx="7272720" cy="51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6" name="Object 5"/>
              <p:cNvGraphicFramePr/>
              <p:nvPr/>
            </p:nvGraphicFramePr>
            <p:xfrm>
              <a:off x="4714920" y="519120"/>
              <a:ext cx="1311120" cy="336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7" name="Object 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714920" y="519120"/>
                        <a:ext cx="131112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8" name="Object 25"/>
            <p:cNvGraphicFramePr/>
            <p:nvPr/>
          </p:nvGraphicFramePr>
          <p:xfrm>
            <a:off x="1765080" y="928800"/>
            <a:ext cx="396720" cy="347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9" name="Object 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65080" y="928800"/>
                      <a:ext cx="39672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26"/>
            <p:cNvGraphicFramePr/>
            <p:nvPr/>
          </p:nvGraphicFramePr>
          <p:xfrm>
            <a:off x="5207040" y="928800"/>
            <a:ext cx="452160" cy="347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1" name="Object 2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207040" y="928800"/>
                      <a:ext cx="45216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27"/>
            <p:cNvGraphicFramePr/>
            <p:nvPr/>
          </p:nvGraphicFramePr>
          <p:xfrm>
            <a:off x="1733400" y="1285920"/>
            <a:ext cx="3711600" cy="520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3" name="Object 2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33400" y="1285920"/>
                      <a:ext cx="37116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28"/>
            <p:cNvGraphicFramePr/>
            <p:nvPr/>
          </p:nvGraphicFramePr>
          <p:xfrm>
            <a:off x="6805800" y="1357200"/>
            <a:ext cx="396720" cy="347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5" name="Object 2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05800" y="1357200"/>
                      <a:ext cx="39672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29"/>
            <p:cNvGraphicFramePr/>
            <p:nvPr/>
          </p:nvGraphicFramePr>
          <p:xfrm>
            <a:off x="2176200" y="1785960"/>
            <a:ext cx="368280" cy="347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7" name="Object 2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176200" y="1785960"/>
                      <a:ext cx="36828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组合 35"/>
          <p:cNvGrpSpPr/>
          <p:nvPr/>
        </p:nvGrpSpPr>
        <p:grpSpPr>
          <a:xfrm>
            <a:off x="1683720" y="3286080"/>
            <a:ext cx="6820920" cy="1074960"/>
            <a:chOff x="1683720" y="3286080"/>
            <a:chExt cx="6820920" cy="1074960"/>
          </a:xfrm>
        </p:grpSpPr>
        <p:grpSp>
          <p:nvGrpSpPr>
            <p:cNvPr id="139" name="组合 30"/>
            <p:cNvGrpSpPr/>
            <p:nvPr/>
          </p:nvGrpSpPr>
          <p:grpSpPr>
            <a:xfrm>
              <a:off x="1683720" y="3286080"/>
              <a:ext cx="6820920" cy="1074960"/>
              <a:chOff x="1683720" y="3286080"/>
              <a:chExt cx="6820920" cy="1074960"/>
            </a:xfrm>
          </p:grpSpPr>
          <p:sp>
            <p:nvSpPr>
              <p:cNvPr id="140" name="Rectangle 15"/>
              <p:cNvSpPr/>
              <p:nvPr/>
            </p:nvSpPr>
            <p:spPr>
              <a:xfrm>
                <a:off x="1683720" y="3286080"/>
                <a:ext cx="68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上，设                                 ，由假设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1" name="Object 30"/>
              <p:cNvGraphicFramePr/>
              <p:nvPr/>
            </p:nvGraphicFramePr>
            <p:xfrm>
              <a:off x="1785960" y="3857760"/>
              <a:ext cx="6301080" cy="5032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42" name="Object 30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785960" y="3857760"/>
                        <a:ext cx="6301080" cy="50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3" name="Object 31"/>
              <p:cNvGraphicFramePr/>
              <p:nvPr/>
            </p:nvGraphicFramePr>
            <p:xfrm>
              <a:off x="3357720" y="3357360"/>
              <a:ext cx="3333960" cy="4525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44" name="Object 31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357720" y="3357360"/>
                        <a:ext cx="3333960" cy="452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5" name="Object 32"/>
            <p:cNvGraphicFramePr/>
            <p:nvPr/>
          </p:nvGraphicFramePr>
          <p:xfrm>
            <a:off x="1928880" y="3357360"/>
            <a:ext cx="453960" cy="347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6" name="Object 3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928880" y="3357360"/>
                      <a:ext cx="45396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14"/>
          <p:cNvGrpSpPr/>
          <p:nvPr/>
        </p:nvGrpSpPr>
        <p:grpSpPr>
          <a:xfrm>
            <a:off x="1000080" y="500040"/>
            <a:ext cx="7201080" cy="1095480"/>
            <a:chOff x="1000080" y="500040"/>
            <a:chExt cx="7201080" cy="1095480"/>
          </a:xfrm>
        </p:grpSpPr>
        <p:grpSp>
          <p:nvGrpSpPr>
            <p:cNvPr id="148" name="组合 1"/>
            <p:cNvGrpSpPr/>
            <p:nvPr/>
          </p:nvGrpSpPr>
          <p:grpSpPr>
            <a:xfrm>
              <a:off x="1000080" y="500040"/>
              <a:ext cx="7201080" cy="1095480"/>
              <a:chOff x="1000080" y="500040"/>
              <a:chExt cx="7201080" cy="1095480"/>
            </a:xfrm>
          </p:grpSpPr>
          <p:grpSp>
            <p:nvGrpSpPr>
              <p:cNvPr id="149" name="组合 30"/>
              <p:cNvGrpSpPr/>
              <p:nvPr/>
            </p:nvGrpSpPr>
            <p:grpSpPr>
              <a:xfrm>
                <a:off x="1000080" y="500040"/>
                <a:ext cx="7201080" cy="1095480"/>
                <a:chOff x="1000080" y="500040"/>
                <a:chExt cx="7201080" cy="1095480"/>
              </a:xfrm>
            </p:grpSpPr>
            <p:sp>
              <p:nvSpPr>
                <p:cNvPr id="150" name="Rectangle 15"/>
                <p:cNvSpPr/>
                <p:nvPr/>
              </p:nvSpPr>
              <p:spPr>
                <a:xfrm>
                  <a:off x="1314360" y="500040"/>
                  <a:ext cx="5708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  上存在实线性泛函        ，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51" name="Object 2"/>
                <p:cNvGraphicFramePr/>
                <p:nvPr/>
              </p:nvGraphicFramePr>
              <p:xfrm>
                <a:off x="1000080" y="1143000"/>
                <a:ext cx="7201080" cy="452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5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000080" y="1143000"/>
                          <a:ext cx="7201080" cy="452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53" name="Object 4"/>
              <p:cNvGraphicFramePr/>
              <p:nvPr/>
            </p:nvGraphicFramePr>
            <p:xfrm>
              <a:off x="2384280" y="571320"/>
              <a:ext cx="398160" cy="347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4" name="Object 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84280" y="571320"/>
                        <a:ext cx="39816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5" name="Object 8"/>
            <p:cNvGraphicFramePr/>
            <p:nvPr/>
          </p:nvGraphicFramePr>
          <p:xfrm>
            <a:off x="5532480" y="576000"/>
            <a:ext cx="825480" cy="48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32480" y="576000"/>
                      <a:ext cx="8254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组合 15"/>
          <p:cNvGrpSpPr/>
          <p:nvPr/>
        </p:nvGrpSpPr>
        <p:grpSpPr>
          <a:xfrm>
            <a:off x="785880" y="1857240"/>
            <a:ext cx="7183080" cy="973440"/>
            <a:chOff x="785880" y="1857240"/>
            <a:chExt cx="7183080" cy="973440"/>
          </a:xfrm>
        </p:grpSpPr>
        <p:grpSp>
          <p:nvGrpSpPr>
            <p:cNvPr id="158" name="组合 30"/>
            <p:cNvGrpSpPr/>
            <p:nvPr/>
          </p:nvGrpSpPr>
          <p:grpSpPr>
            <a:xfrm>
              <a:off x="785880" y="1857240"/>
              <a:ext cx="7183080" cy="973440"/>
              <a:chOff x="785880" y="1857240"/>
              <a:chExt cx="7183080" cy="973440"/>
            </a:xfrm>
          </p:grpSpPr>
          <p:sp>
            <p:nvSpPr>
              <p:cNvPr id="159" name="Rectangle 15"/>
              <p:cNvSpPr/>
              <p:nvPr/>
            </p:nvSpPr>
            <p:spPr>
              <a:xfrm>
                <a:off x="1957320" y="1857240"/>
                <a:ext cx="601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考虑复线性泛函                               则对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60" name="Object 9"/>
              <p:cNvGraphicFramePr/>
              <p:nvPr/>
            </p:nvGraphicFramePr>
            <p:xfrm>
              <a:off x="785880" y="2428920"/>
              <a:ext cx="1703160" cy="401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61" name="Object 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85880" y="2428920"/>
                        <a:ext cx="1703160" cy="40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2" name="Object 11"/>
            <p:cNvGraphicFramePr/>
            <p:nvPr/>
          </p:nvGraphicFramePr>
          <p:xfrm>
            <a:off x="4311720" y="1928520"/>
            <a:ext cx="3046320" cy="48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11720" y="1928520"/>
                      <a:ext cx="3046320" cy="4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Object 12"/>
          <p:cNvGraphicFramePr/>
          <p:nvPr/>
        </p:nvGraphicFramePr>
        <p:xfrm>
          <a:off x="2000160" y="2857680"/>
          <a:ext cx="6365880" cy="13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0160" y="2857680"/>
                    <a:ext cx="636588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5"/>
          <p:cNvGrpSpPr/>
          <p:nvPr/>
        </p:nvGrpSpPr>
        <p:grpSpPr>
          <a:xfrm>
            <a:off x="647280" y="500040"/>
            <a:ext cx="7415640" cy="1585800"/>
            <a:chOff x="647280" y="500040"/>
            <a:chExt cx="7415640" cy="1585800"/>
          </a:xfrm>
        </p:grpSpPr>
        <p:sp>
          <p:nvSpPr>
            <p:cNvPr id="167" name="Rectangle 15"/>
            <p:cNvSpPr/>
            <p:nvPr/>
          </p:nvSpPr>
          <p:spPr>
            <a:xfrm>
              <a:off x="647280" y="500040"/>
              <a:ext cx="25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为实数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68" name="Object 3"/>
            <p:cNvGraphicFramePr/>
            <p:nvPr/>
          </p:nvGraphicFramePr>
          <p:xfrm>
            <a:off x="1643040" y="1071360"/>
            <a:ext cx="6419880" cy="101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1071360"/>
                      <a:ext cx="641988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0" name="Object 18"/>
          <p:cNvGraphicFramePr/>
          <p:nvPr/>
        </p:nvGraphicFramePr>
        <p:xfrm>
          <a:off x="1214280" y="619200"/>
          <a:ext cx="44928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619200"/>
                    <a:ext cx="4492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组合 22"/>
          <p:cNvGrpSpPr/>
          <p:nvPr/>
        </p:nvGrpSpPr>
        <p:grpSpPr>
          <a:xfrm>
            <a:off x="419040" y="2000160"/>
            <a:ext cx="7478640" cy="1471680"/>
            <a:chOff x="419040" y="2000160"/>
            <a:chExt cx="7478640" cy="1471680"/>
          </a:xfrm>
        </p:grpSpPr>
        <p:sp>
          <p:nvSpPr>
            <p:cNvPr id="173" name="Rectangle 15"/>
            <p:cNvSpPr/>
            <p:nvPr/>
          </p:nvSpPr>
          <p:spPr>
            <a:xfrm>
              <a:off x="419040" y="2000160"/>
              <a:ext cx="163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74" name="Object 19"/>
            <p:cNvGraphicFramePr/>
            <p:nvPr/>
          </p:nvGraphicFramePr>
          <p:xfrm>
            <a:off x="1665360" y="2400120"/>
            <a:ext cx="6232320" cy="107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65360" y="2400120"/>
                      <a:ext cx="6232320" cy="10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组合 25"/>
          <p:cNvGrpSpPr/>
          <p:nvPr/>
        </p:nvGrpSpPr>
        <p:grpSpPr>
          <a:xfrm>
            <a:off x="1729440" y="3643200"/>
            <a:ext cx="5868360" cy="1022400"/>
            <a:chOff x="1729440" y="3643200"/>
            <a:chExt cx="5868360" cy="1022400"/>
          </a:xfrm>
        </p:grpSpPr>
        <p:grpSp>
          <p:nvGrpSpPr>
            <p:cNvPr id="177" name="组合 21"/>
            <p:cNvGrpSpPr/>
            <p:nvPr/>
          </p:nvGrpSpPr>
          <p:grpSpPr>
            <a:xfrm>
              <a:off x="1729440" y="3643200"/>
              <a:ext cx="5843160" cy="522000"/>
              <a:chOff x="1729440" y="3643200"/>
              <a:chExt cx="5843160" cy="522000"/>
            </a:xfrm>
          </p:grpSpPr>
          <p:grpSp>
            <p:nvGrpSpPr>
              <p:cNvPr id="178" name="组合 30"/>
              <p:cNvGrpSpPr/>
              <p:nvPr/>
            </p:nvGrpSpPr>
            <p:grpSpPr>
              <a:xfrm>
                <a:off x="1729440" y="3643200"/>
                <a:ext cx="4693320" cy="520560"/>
                <a:chOff x="1729440" y="3643200"/>
                <a:chExt cx="4693320" cy="520560"/>
              </a:xfrm>
            </p:grpSpPr>
            <p:sp>
              <p:nvSpPr>
                <p:cNvPr id="179" name="Rectangle 15"/>
                <p:cNvSpPr/>
                <p:nvPr/>
              </p:nvSpPr>
              <p:spPr>
                <a:xfrm>
                  <a:off x="1729440" y="3643200"/>
                  <a:ext cx="4693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此，对于任意复数        与任意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0" name="Object 25"/>
                <p:cNvGraphicFramePr/>
                <p:nvPr/>
              </p:nvGraphicFramePr>
              <p:xfrm>
                <a:off x="4065840" y="3673080"/>
                <a:ext cx="934920" cy="450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81" name="Object 2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065840" y="3673080"/>
                          <a:ext cx="934920" cy="450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2" name="Object 20"/>
              <p:cNvGraphicFramePr/>
              <p:nvPr/>
            </p:nvGraphicFramePr>
            <p:xfrm>
              <a:off x="5855040" y="3714480"/>
              <a:ext cx="1717560" cy="450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3" name="Object 2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855040" y="3714480"/>
                        <a:ext cx="1717560" cy="45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4" name="Object 21"/>
            <p:cNvGraphicFramePr/>
            <p:nvPr/>
          </p:nvGraphicFramePr>
          <p:xfrm>
            <a:off x="1928880" y="4214880"/>
            <a:ext cx="5668920" cy="450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5" name="Object 2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28880" y="4214880"/>
                      <a:ext cx="566892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10"/>
          <p:cNvGrpSpPr/>
          <p:nvPr/>
        </p:nvGrpSpPr>
        <p:grpSpPr>
          <a:xfrm>
            <a:off x="779400" y="642960"/>
            <a:ext cx="2917800" cy="520560"/>
            <a:chOff x="779400" y="642960"/>
            <a:chExt cx="2917800" cy="520560"/>
          </a:xfrm>
        </p:grpSpPr>
        <p:sp>
          <p:nvSpPr>
            <p:cNvPr id="187" name="Rectangle 15"/>
            <p:cNvSpPr/>
            <p:nvPr/>
          </p:nvSpPr>
          <p:spPr>
            <a:xfrm>
              <a:off x="779400" y="642960"/>
              <a:ext cx="291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复线性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8" name="Object 5"/>
            <p:cNvGraphicFramePr/>
            <p:nvPr/>
          </p:nvGraphicFramePr>
          <p:xfrm>
            <a:off x="1142640" y="714240"/>
            <a:ext cx="367920" cy="34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2640" y="714240"/>
                      <a:ext cx="367920" cy="34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组合 17"/>
          <p:cNvGrpSpPr/>
          <p:nvPr/>
        </p:nvGrpSpPr>
        <p:grpSpPr>
          <a:xfrm>
            <a:off x="2214720" y="642960"/>
            <a:ext cx="5368680" cy="1514520"/>
            <a:chOff x="2214720" y="642960"/>
            <a:chExt cx="5368680" cy="1514520"/>
          </a:xfrm>
        </p:grpSpPr>
        <p:grpSp>
          <p:nvGrpSpPr>
            <p:cNvPr id="191" name="组合 21"/>
            <p:cNvGrpSpPr/>
            <p:nvPr/>
          </p:nvGrpSpPr>
          <p:grpSpPr>
            <a:xfrm>
              <a:off x="4051440" y="642960"/>
              <a:ext cx="2122200" cy="520560"/>
              <a:chOff x="4051440" y="642960"/>
              <a:chExt cx="2122200" cy="520560"/>
            </a:xfrm>
          </p:grpSpPr>
          <p:sp>
            <p:nvSpPr>
              <p:cNvPr id="192" name="Rectangle 15"/>
              <p:cNvSpPr/>
              <p:nvPr/>
            </p:nvSpPr>
            <p:spPr>
              <a:xfrm>
                <a:off x="4051440" y="642960"/>
                <a:ext cx="21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，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93" name="Object 3"/>
              <p:cNvGraphicFramePr/>
              <p:nvPr/>
            </p:nvGraphicFramePr>
            <p:xfrm>
              <a:off x="4357440" y="714240"/>
              <a:ext cx="1270080" cy="393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57440" y="714240"/>
                        <a:ext cx="1270080" cy="39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5" name="Object 21"/>
            <p:cNvGraphicFramePr/>
            <p:nvPr/>
          </p:nvGraphicFramePr>
          <p:xfrm>
            <a:off x="2214720" y="1143000"/>
            <a:ext cx="5368680" cy="101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6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14720" y="1143000"/>
                      <a:ext cx="536868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7" name="组合 18"/>
          <p:cNvGrpSpPr/>
          <p:nvPr/>
        </p:nvGrpSpPr>
        <p:grpSpPr>
          <a:xfrm>
            <a:off x="1390680" y="2214720"/>
            <a:ext cx="7051680" cy="1671480"/>
            <a:chOff x="1390680" y="2214720"/>
            <a:chExt cx="7051680" cy="1671480"/>
          </a:xfrm>
        </p:grpSpPr>
        <p:grpSp>
          <p:nvGrpSpPr>
            <p:cNvPr id="198" name="组合 25"/>
            <p:cNvGrpSpPr/>
            <p:nvPr/>
          </p:nvGrpSpPr>
          <p:grpSpPr>
            <a:xfrm>
              <a:off x="1390680" y="2214720"/>
              <a:ext cx="7051680" cy="1671480"/>
              <a:chOff x="1390680" y="2214720"/>
              <a:chExt cx="7051680" cy="1671480"/>
            </a:xfrm>
          </p:grpSpPr>
          <p:sp>
            <p:nvSpPr>
              <p:cNvPr id="199" name="Rectangle 15"/>
              <p:cNvSpPr/>
              <p:nvPr/>
            </p:nvSpPr>
            <p:spPr>
              <a:xfrm>
                <a:off x="1390680" y="2214720"/>
                <a:ext cx="631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，则                 为实数，此时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00" name="Object 7"/>
              <p:cNvGraphicFramePr/>
              <p:nvPr/>
            </p:nvGraphicFramePr>
            <p:xfrm>
              <a:off x="1835280" y="2700360"/>
              <a:ext cx="6607080" cy="1185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1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35280" y="2700360"/>
                        <a:ext cx="6607080" cy="118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2" name="Object 8"/>
            <p:cNvGraphicFramePr/>
            <p:nvPr/>
          </p:nvGraphicFramePr>
          <p:xfrm>
            <a:off x="1500120" y="2232000"/>
            <a:ext cx="1530360" cy="482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0120" y="2232000"/>
                      <a:ext cx="153036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Object 9"/>
            <p:cNvGraphicFramePr/>
            <p:nvPr/>
          </p:nvGraphicFramePr>
          <p:xfrm>
            <a:off x="3629160" y="2232000"/>
            <a:ext cx="1728720" cy="482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29160" y="2232000"/>
                      <a:ext cx="172872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6" name="组合 19"/>
          <p:cNvGrpSpPr/>
          <p:nvPr/>
        </p:nvGrpSpPr>
        <p:grpSpPr>
          <a:xfrm>
            <a:off x="1143000" y="4071960"/>
            <a:ext cx="4662720" cy="520560"/>
            <a:chOff x="1143000" y="4071960"/>
            <a:chExt cx="4662720" cy="520560"/>
          </a:xfrm>
        </p:grpSpPr>
        <p:sp>
          <p:nvSpPr>
            <p:cNvPr id="207" name="Rectangle 15"/>
            <p:cNvSpPr/>
            <p:nvPr/>
          </p:nvSpPr>
          <p:spPr>
            <a:xfrm>
              <a:off x="1422000" y="4071960"/>
              <a:ext cx="43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是所要求的复线性泛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10"/>
            <p:cNvGraphicFramePr/>
            <p:nvPr/>
          </p:nvGraphicFramePr>
          <p:xfrm>
            <a:off x="1143000" y="4145040"/>
            <a:ext cx="765000" cy="42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9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43000" y="4145040"/>
                      <a:ext cx="76500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214200" y="3571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1" name="组合 20"/>
          <p:cNvGrpSpPr/>
          <p:nvPr/>
        </p:nvGrpSpPr>
        <p:grpSpPr>
          <a:xfrm>
            <a:off x="1357200" y="500040"/>
            <a:ext cx="6243120" cy="2226960"/>
            <a:chOff x="1357200" y="500040"/>
            <a:chExt cx="6243120" cy="2226960"/>
          </a:xfrm>
        </p:grpSpPr>
        <p:grpSp>
          <p:nvGrpSpPr>
            <p:cNvPr id="212" name="组合 2"/>
            <p:cNvGrpSpPr/>
            <p:nvPr/>
          </p:nvGrpSpPr>
          <p:grpSpPr>
            <a:xfrm>
              <a:off x="1785960" y="500040"/>
              <a:ext cx="5814360" cy="2226960"/>
              <a:chOff x="1785960" y="500040"/>
              <a:chExt cx="5814360" cy="2226960"/>
            </a:xfrm>
          </p:grpSpPr>
          <p:grpSp>
            <p:nvGrpSpPr>
              <p:cNvPr id="213" name="组合 14"/>
              <p:cNvGrpSpPr/>
              <p:nvPr/>
            </p:nvGrpSpPr>
            <p:grpSpPr>
              <a:xfrm>
                <a:off x="1785960" y="500040"/>
                <a:ext cx="5804280" cy="2226960"/>
                <a:chOff x="1785960" y="500040"/>
                <a:chExt cx="5804280" cy="2226960"/>
              </a:xfrm>
            </p:grpSpPr>
            <p:grpSp>
              <p:nvGrpSpPr>
                <p:cNvPr id="214" name="组合 13"/>
                <p:cNvGrpSpPr/>
                <p:nvPr/>
              </p:nvGrpSpPr>
              <p:grpSpPr>
                <a:xfrm>
                  <a:off x="1785960" y="500040"/>
                  <a:ext cx="5804280" cy="2226960"/>
                  <a:chOff x="1785960" y="500040"/>
                  <a:chExt cx="5804280" cy="2226960"/>
                </a:xfrm>
              </p:grpSpPr>
              <p:grpSp>
                <p:nvGrpSpPr>
                  <p:cNvPr id="215" name="组合 48"/>
                  <p:cNvGrpSpPr/>
                  <p:nvPr/>
                </p:nvGrpSpPr>
                <p:grpSpPr>
                  <a:xfrm>
                    <a:off x="1806120" y="500040"/>
                    <a:ext cx="5784120" cy="2226960"/>
                    <a:chOff x="1806120" y="500040"/>
                    <a:chExt cx="5784120" cy="2226960"/>
                  </a:xfrm>
                </p:grpSpPr>
                <p:sp>
                  <p:nvSpPr>
                    <p:cNvPr id="216" name="Rectangle 15"/>
                    <p:cNvSpPr/>
                    <p:nvPr/>
                  </p:nvSpPr>
                  <p:spPr>
                    <a:xfrm>
                      <a:off x="1806120" y="500040"/>
                      <a:ext cx="5784120" cy="222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为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线性空间，           为线性子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   是    上的连续线性泛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存在   上的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性泛函    ，使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称   是    的保范线性延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217" name="Object 2"/>
                    <p:cNvGraphicFramePr/>
                    <p:nvPr/>
                  </p:nvGraphicFramePr>
                  <p:xfrm>
                    <a:off x="1928880" y="571320"/>
                    <a:ext cx="396720" cy="347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18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928880" y="571320"/>
                              <a:ext cx="396720" cy="347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19" name="Object 7"/>
                  <p:cNvGraphicFramePr/>
                  <p:nvPr/>
                </p:nvGraphicFramePr>
                <p:xfrm>
                  <a:off x="1785960" y="1000080"/>
                  <a:ext cx="426960" cy="4680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20" name="Object 7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785960" y="1000080"/>
                            <a:ext cx="426960" cy="468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21" name="Object 5"/>
                <p:cNvGraphicFramePr/>
                <p:nvPr/>
              </p:nvGraphicFramePr>
              <p:xfrm>
                <a:off x="5261040" y="590400"/>
                <a:ext cx="1311120" cy="336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22" name="Object 5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261040" y="590400"/>
                          <a:ext cx="1311120" cy="33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23" name="Object 8"/>
              <p:cNvGraphicFramePr/>
              <p:nvPr/>
            </p:nvGraphicFramePr>
            <p:xfrm>
              <a:off x="2428920" y="1000080"/>
              <a:ext cx="452160" cy="347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4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28920" y="1000080"/>
                        <a:ext cx="45216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5" name="Object 9"/>
              <p:cNvGraphicFramePr/>
              <p:nvPr/>
            </p:nvGraphicFramePr>
            <p:xfrm>
              <a:off x="2214360" y="1785600"/>
              <a:ext cx="5385960" cy="520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26" name="Object 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214360" y="1785600"/>
                        <a:ext cx="5385960" cy="52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7" name="Object 10"/>
              <p:cNvGraphicFramePr/>
              <p:nvPr/>
            </p:nvGraphicFramePr>
            <p:xfrm>
              <a:off x="6858000" y="1000080"/>
              <a:ext cx="396720" cy="347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28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858000" y="1000080"/>
                        <a:ext cx="39672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Object 11"/>
              <p:cNvGraphicFramePr/>
              <p:nvPr/>
            </p:nvGraphicFramePr>
            <p:xfrm>
              <a:off x="2071440" y="1428480"/>
              <a:ext cx="339480" cy="426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30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071440" y="1428480"/>
                        <a:ext cx="3394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1" name="Object 12"/>
            <p:cNvGraphicFramePr/>
            <p:nvPr/>
          </p:nvGraphicFramePr>
          <p:xfrm>
            <a:off x="1357200" y="2285640"/>
            <a:ext cx="339480" cy="426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2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57200" y="2285640"/>
                      <a:ext cx="3394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Object 13"/>
            <p:cNvGraphicFramePr/>
            <p:nvPr/>
          </p:nvGraphicFramePr>
          <p:xfrm>
            <a:off x="2000160" y="2246040"/>
            <a:ext cx="426960" cy="468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4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0160" y="2246040"/>
                      <a:ext cx="4269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5" name="Text Box 3"/>
          <p:cNvSpPr/>
          <p:nvPr/>
        </p:nvSpPr>
        <p:spPr>
          <a:xfrm>
            <a:off x="285840" y="2928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6" name="组合 29"/>
          <p:cNvGrpSpPr/>
          <p:nvPr/>
        </p:nvGrpSpPr>
        <p:grpSpPr>
          <a:xfrm>
            <a:off x="1669320" y="3071880"/>
            <a:ext cx="6335640" cy="1136520"/>
            <a:chOff x="1669320" y="3071880"/>
            <a:chExt cx="6335640" cy="1136520"/>
          </a:xfrm>
        </p:grpSpPr>
        <p:grpSp>
          <p:nvGrpSpPr>
            <p:cNvPr id="237" name="组合 22"/>
            <p:cNvGrpSpPr/>
            <p:nvPr/>
          </p:nvGrpSpPr>
          <p:grpSpPr>
            <a:xfrm>
              <a:off x="1669320" y="3071880"/>
              <a:ext cx="6335640" cy="1136520"/>
              <a:chOff x="1669320" y="3071880"/>
              <a:chExt cx="6335640" cy="1136520"/>
            </a:xfrm>
          </p:grpSpPr>
          <p:grpSp>
            <p:nvGrpSpPr>
              <p:cNvPr id="238" name="组合 25"/>
              <p:cNvGrpSpPr/>
              <p:nvPr/>
            </p:nvGrpSpPr>
            <p:grpSpPr>
              <a:xfrm>
                <a:off x="1669320" y="3071880"/>
                <a:ext cx="6335640" cy="1136520"/>
                <a:chOff x="1669320" y="3071880"/>
                <a:chExt cx="6335640" cy="1136520"/>
              </a:xfrm>
            </p:grpSpPr>
            <p:sp>
              <p:nvSpPr>
                <p:cNvPr id="239" name="Rectangle 15"/>
                <p:cNvSpPr/>
                <p:nvPr/>
              </p:nvSpPr>
              <p:spPr>
                <a:xfrm>
                  <a:off x="1669320" y="3071880"/>
                  <a:ext cx="613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令                    ，      是    上的半范数并且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40" name="Object 14"/>
                <p:cNvGraphicFramePr/>
                <p:nvPr/>
              </p:nvGraphicFramePr>
              <p:xfrm>
                <a:off x="1999800" y="3643200"/>
                <a:ext cx="6005160" cy="56520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41" name="Object 14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1999800" y="3643200"/>
                          <a:ext cx="6005160" cy="565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42" name="Object 15"/>
              <p:cNvGraphicFramePr/>
              <p:nvPr/>
            </p:nvGraphicFramePr>
            <p:xfrm>
              <a:off x="1785600" y="3071880"/>
              <a:ext cx="2012760" cy="536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43" name="Object 1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785600" y="3071880"/>
                        <a:ext cx="201276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4" name="Object 16"/>
              <p:cNvGraphicFramePr/>
              <p:nvPr/>
            </p:nvGraphicFramePr>
            <p:xfrm>
              <a:off x="4000320" y="3116160"/>
              <a:ext cx="736560" cy="4284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45" name="Object 16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000320" y="3116160"/>
                        <a:ext cx="73656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6" name="Object 17"/>
            <p:cNvGraphicFramePr/>
            <p:nvPr/>
          </p:nvGraphicFramePr>
          <p:xfrm>
            <a:off x="5071680" y="3143160"/>
            <a:ext cx="396720" cy="347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47" name="Object 1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071680" y="3143160"/>
                      <a:ext cx="39672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22"/>
          <p:cNvGrpSpPr/>
          <p:nvPr/>
        </p:nvGrpSpPr>
        <p:grpSpPr>
          <a:xfrm>
            <a:off x="698400" y="2786040"/>
            <a:ext cx="8182080" cy="1708200"/>
            <a:chOff x="698400" y="2786040"/>
            <a:chExt cx="8182080" cy="1708200"/>
          </a:xfrm>
        </p:grpSpPr>
        <p:grpSp>
          <p:nvGrpSpPr>
            <p:cNvPr id="249" name="组合 21"/>
            <p:cNvGrpSpPr/>
            <p:nvPr/>
          </p:nvGrpSpPr>
          <p:grpSpPr>
            <a:xfrm>
              <a:off x="698400" y="2786040"/>
              <a:ext cx="8182080" cy="1708200"/>
              <a:chOff x="698400" y="2786040"/>
              <a:chExt cx="8182080" cy="1708200"/>
            </a:xfrm>
          </p:grpSpPr>
          <p:grpSp>
            <p:nvGrpSpPr>
              <p:cNvPr id="250" name="组合 9"/>
              <p:cNvGrpSpPr/>
              <p:nvPr/>
            </p:nvGrpSpPr>
            <p:grpSpPr>
              <a:xfrm>
                <a:off x="698400" y="2786040"/>
                <a:ext cx="8182080" cy="1708200"/>
                <a:chOff x="698400" y="2786040"/>
                <a:chExt cx="8182080" cy="1708200"/>
              </a:xfrm>
            </p:grpSpPr>
            <p:grpSp>
              <p:nvGrpSpPr>
                <p:cNvPr id="251" name="组合 22"/>
                <p:cNvGrpSpPr/>
                <p:nvPr/>
              </p:nvGrpSpPr>
              <p:grpSpPr>
                <a:xfrm>
                  <a:off x="698400" y="2786040"/>
                  <a:ext cx="8182080" cy="1708200"/>
                  <a:chOff x="698400" y="2786040"/>
                  <a:chExt cx="8182080" cy="1708200"/>
                </a:xfrm>
              </p:grpSpPr>
              <p:grpSp>
                <p:nvGrpSpPr>
                  <p:cNvPr id="252" name="组合 25"/>
                  <p:cNvGrpSpPr/>
                  <p:nvPr/>
                </p:nvGrpSpPr>
                <p:grpSpPr>
                  <a:xfrm>
                    <a:off x="698400" y="2786040"/>
                    <a:ext cx="8182080" cy="1708200"/>
                    <a:chOff x="698400" y="2786040"/>
                    <a:chExt cx="8182080" cy="1708200"/>
                  </a:xfrm>
                </p:grpSpPr>
                <p:sp>
                  <p:nvSpPr>
                    <p:cNvPr id="253" name="Rectangle 15"/>
                    <p:cNvSpPr/>
                    <p:nvPr/>
                  </p:nvSpPr>
                  <p:spPr>
                    <a:xfrm>
                      <a:off x="825120" y="2786040"/>
                      <a:ext cx="7148520" cy="94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在实数情况，由定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，存在   上的线性泛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使得    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以     代替   则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254" name="Object 6"/>
                    <p:cNvGraphicFramePr/>
                    <p:nvPr/>
                  </p:nvGraphicFramePr>
                  <p:xfrm>
                    <a:off x="698400" y="3929040"/>
                    <a:ext cx="8182080" cy="5652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55" name="Object 6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98400" y="3929040"/>
                              <a:ext cx="8182080" cy="565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56" name="Object 7"/>
                  <p:cNvGraphicFramePr/>
                  <p:nvPr/>
                </p:nvGraphicFramePr>
                <p:xfrm>
                  <a:off x="1636560" y="3249360"/>
                  <a:ext cx="3006720" cy="5364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57" name="Object 7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636560" y="3249360"/>
                            <a:ext cx="3006720" cy="536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58" name="Object 9"/>
                <p:cNvGraphicFramePr/>
                <p:nvPr/>
              </p:nvGraphicFramePr>
              <p:xfrm>
                <a:off x="5675400" y="2857320"/>
                <a:ext cx="396720" cy="347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59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75400" y="2857320"/>
                          <a:ext cx="396720" cy="347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60" name="Object 10"/>
              <p:cNvGraphicFramePr/>
              <p:nvPr/>
            </p:nvGraphicFramePr>
            <p:xfrm>
              <a:off x="714240" y="3286080"/>
              <a:ext cx="339480" cy="426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61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14240" y="3286080"/>
                        <a:ext cx="3394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2" name="Object 11"/>
            <p:cNvGraphicFramePr/>
            <p:nvPr/>
          </p:nvGraphicFramePr>
          <p:xfrm>
            <a:off x="6429600" y="3357360"/>
            <a:ext cx="282240" cy="293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3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9600" y="3357360"/>
                      <a:ext cx="282240" cy="29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Object 12"/>
            <p:cNvGraphicFramePr/>
            <p:nvPr/>
          </p:nvGraphicFramePr>
          <p:xfrm>
            <a:off x="5214960" y="3348000"/>
            <a:ext cx="482400" cy="295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5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14960" y="3348000"/>
                      <a:ext cx="482400" cy="2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6" name="组合 21"/>
          <p:cNvGrpSpPr/>
          <p:nvPr/>
        </p:nvGrpSpPr>
        <p:grpSpPr>
          <a:xfrm>
            <a:off x="977760" y="642960"/>
            <a:ext cx="6948720" cy="1708200"/>
            <a:chOff x="977760" y="642960"/>
            <a:chExt cx="6948720" cy="1708200"/>
          </a:xfrm>
        </p:grpSpPr>
        <p:grpSp>
          <p:nvGrpSpPr>
            <p:cNvPr id="267" name="组合 9"/>
            <p:cNvGrpSpPr/>
            <p:nvPr/>
          </p:nvGrpSpPr>
          <p:grpSpPr>
            <a:xfrm>
              <a:off x="1399680" y="642960"/>
              <a:ext cx="6526800" cy="1708200"/>
              <a:chOff x="1399680" y="642960"/>
              <a:chExt cx="6526800" cy="1708200"/>
            </a:xfrm>
          </p:grpSpPr>
          <p:grpSp>
            <p:nvGrpSpPr>
              <p:cNvPr id="268" name="组合 22"/>
              <p:cNvGrpSpPr/>
              <p:nvPr/>
            </p:nvGrpSpPr>
            <p:grpSpPr>
              <a:xfrm>
                <a:off x="1399680" y="642960"/>
                <a:ext cx="6526800" cy="1708200"/>
                <a:chOff x="1399680" y="642960"/>
                <a:chExt cx="6526800" cy="1708200"/>
              </a:xfrm>
            </p:grpSpPr>
            <p:grpSp>
              <p:nvGrpSpPr>
                <p:cNvPr id="269" name="组合 25"/>
                <p:cNvGrpSpPr/>
                <p:nvPr/>
              </p:nvGrpSpPr>
              <p:grpSpPr>
                <a:xfrm>
                  <a:off x="1399680" y="642960"/>
                  <a:ext cx="6526800" cy="1708200"/>
                  <a:chOff x="1399680" y="642960"/>
                  <a:chExt cx="6526800" cy="1708200"/>
                </a:xfrm>
              </p:grpSpPr>
              <p:sp>
                <p:nvSpPr>
                  <p:cNvPr id="270" name="Rectangle 15"/>
                  <p:cNvSpPr/>
                  <p:nvPr/>
                </p:nvSpPr>
                <p:spPr>
                  <a:xfrm>
                    <a:off x="1399680" y="642960"/>
                    <a:ext cx="652680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514440" indent="-5144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在复数情况，由定理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，存在   上的线性泛函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 marL="514440" indent="-5144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使得                               ，并且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71" name="Object 14"/>
                  <p:cNvGraphicFramePr/>
                  <p:nvPr/>
                </p:nvGraphicFramePr>
                <p:xfrm>
                  <a:off x="1785960" y="1785960"/>
                  <a:ext cx="5893200" cy="565200"/>
                </p:xfrm>
                <a:graphic>
                  <a:graphicData uri="http://schemas.openxmlformats.org/presentationml/2006/ole">
                    <p:oleObj r:id="rId13" spid="">
                      <p:embed/>
                      <p:pic>
                        <p:nvPicPr>
                          <p:cNvPr id="272" name="Object 14" descr=""/>
                          <p:cNvPicPr/>
                          <p:nvPr/>
                        </p:nvPicPr>
                        <p:blipFill>
                          <a:blip r:embed="rId14"/>
                          <a:stretch/>
                        </p:blipFill>
                        <p:spPr>
                          <a:xfrm>
                            <a:off x="1785960" y="1785960"/>
                            <a:ext cx="5893200" cy="565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73" name="Object 15"/>
                <p:cNvGraphicFramePr/>
                <p:nvPr/>
              </p:nvGraphicFramePr>
              <p:xfrm>
                <a:off x="1951200" y="1131840"/>
                <a:ext cx="3121200" cy="4842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74" name="Object 15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51200" y="1131840"/>
                          <a:ext cx="3121200" cy="484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75" name="Object 16"/>
              <p:cNvGraphicFramePr/>
              <p:nvPr/>
            </p:nvGraphicFramePr>
            <p:xfrm>
              <a:off x="5939280" y="714240"/>
              <a:ext cx="396720" cy="3474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76" name="Object 16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939280" y="714240"/>
                        <a:ext cx="39672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7" name="Object 17"/>
            <p:cNvGraphicFramePr/>
            <p:nvPr/>
          </p:nvGraphicFramePr>
          <p:xfrm>
            <a:off x="977760" y="1143000"/>
            <a:ext cx="339480" cy="426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8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77760" y="1143000"/>
                      <a:ext cx="3394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1326600" y="642960"/>
            <a:ext cx="6820920" cy="2563920"/>
            <a:chOff x="1326600" y="642960"/>
            <a:chExt cx="6820920" cy="2563920"/>
          </a:xfrm>
        </p:grpSpPr>
        <p:grpSp>
          <p:nvGrpSpPr>
            <p:cNvPr id="280" name="组合 22"/>
            <p:cNvGrpSpPr/>
            <p:nvPr/>
          </p:nvGrpSpPr>
          <p:grpSpPr>
            <a:xfrm>
              <a:off x="1326600" y="642960"/>
              <a:ext cx="6820920" cy="2563920"/>
              <a:chOff x="1326600" y="642960"/>
              <a:chExt cx="6820920" cy="2563920"/>
            </a:xfrm>
          </p:grpSpPr>
          <p:grpSp>
            <p:nvGrpSpPr>
              <p:cNvPr id="281" name="组合 25"/>
              <p:cNvGrpSpPr/>
              <p:nvPr/>
            </p:nvGrpSpPr>
            <p:grpSpPr>
              <a:xfrm>
                <a:off x="1326600" y="642960"/>
                <a:ext cx="6820920" cy="2563920"/>
                <a:chOff x="1326600" y="642960"/>
                <a:chExt cx="6820920" cy="2563920"/>
              </a:xfrm>
            </p:grpSpPr>
            <p:sp>
              <p:nvSpPr>
                <p:cNvPr id="282" name="Rectangle 15"/>
                <p:cNvSpPr/>
                <p:nvPr/>
              </p:nvSpPr>
              <p:spPr>
                <a:xfrm>
                  <a:off x="1326600" y="642960"/>
                  <a:ext cx="68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                                        ，  连续，此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83" name="Object 2"/>
                <p:cNvGraphicFramePr/>
                <p:nvPr/>
              </p:nvGraphicFramePr>
              <p:xfrm>
                <a:off x="2286000" y="1285920"/>
                <a:ext cx="5178600" cy="1920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84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86000" y="1285920"/>
                          <a:ext cx="5178600" cy="192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85" name="Object 3"/>
              <p:cNvGraphicFramePr/>
              <p:nvPr/>
            </p:nvGraphicFramePr>
            <p:xfrm>
              <a:off x="1928880" y="677880"/>
              <a:ext cx="3827520" cy="536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8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8880" y="677880"/>
                        <a:ext cx="382752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7" name="Object 5"/>
            <p:cNvGraphicFramePr/>
            <p:nvPr/>
          </p:nvGraphicFramePr>
          <p:xfrm>
            <a:off x="6029640" y="674640"/>
            <a:ext cx="339480" cy="42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9640" y="674640"/>
                      <a:ext cx="33948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9" name="组合 9"/>
          <p:cNvGrpSpPr/>
          <p:nvPr/>
        </p:nvGrpSpPr>
        <p:grpSpPr>
          <a:xfrm>
            <a:off x="851760" y="3571920"/>
            <a:ext cx="3335400" cy="534960"/>
            <a:chOff x="851760" y="3571920"/>
            <a:chExt cx="3335400" cy="534960"/>
          </a:xfrm>
        </p:grpSpPr>
        <p:sp>
          <p:nvSpPr>
            <p:cNvPr id="290" name="Rectangle 15"/>
            <p:cNvSpPr/>
            <p:nvPr/>
          </p:nvSpPr>
          <p:spPr>
            <a:xfrm>
              <a:off x="851760" y="3571920"/>
              <a:ext cx="333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总之，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1" name="Object 6"/>
            <p:cNvGraphicFramePr/>
            <p:nvPr/>
          </p:nvGraphicFramePr>
          <p:xfrm>
            <a:off x="2143080" y="3571920"/>
            <a:ext cx="1387440" cy="534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3571920"/>
                      <a:ext cx="13874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4:16Z</dcterms:modified>
  <cp:revision>567</cp:revision>
  <dc:subject/>
  <dc:title>幻灯片 1</dc:title>
</cp:coreProperties>
</file>