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6.wmf" ContentType="image/x-wmf"/>
  <Override PartName="/ppt/media/image1.jpeg" ContentType="image/jpeg"/>
  <Override PartName="/ppt/media/image89.wmf" ContentType="image/x-wmf"/>
  <Override PartName="/ppt/media/image50.wmf" ContentType="image/x-wmf"/>
  <Override PartName="/ppt/media/image4.wmf" ContentType="image/x-wmf"/>
  <Override PartName="/ppt/media/image13.wmf" ContentType="image/x-wmf"/>
  <Override PartName="/ppt/media/image81.wmf" ContentType="image/x-wmf"/>
  <Override PartName="/ppt/media/image34.wmf" ContentType="image/x-wmf"/>
  <Override PartName="/ppt/media/image26.wmf" ContentType="image/x-wmf"/>
  <Override PartName="/ppt/media/image94.wmf" ContentType="image/x-wmf"/>
  <Override PartName="/ppt/media/image3.wmf" ContentType="image/x-wmf"/>
  <Override PartName="/ppt/media/image33.wmf" ContentType="image/x-wmf"/>
  <Override PartName="/ppt/media/image5.wmf" ContentType="image/x-wmf"/>
  <Override PartName="/ppt/media/image17.wmf" ContentType="image/x-wmf"/>
  <Override PartName="/ppt/media/image8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6.wmf" ContentType="image/x-wmf"/>
  <Override PartName="/ppt/media/image15.wmf" ContentType="image/x-wmf"/>
  <Override PartName="/ppt/media/image83.wmf" ContentType="image/x-wmf"/>
  <Override PartName="/ppt/media/image18.wmf" ContentType="image/x-wmf"/>
  <Override PartName="/ppt/media/image86.wmf" ContentType="image/x-wmf"/>
  <Override PartName="/ppt/media/image36.wmf" ContentType="image/x-wmf"/>
  <Override PartName="/ppt/media/image108.wmf" ContentType="image/x-wmf"/>
  <Override PartName="/ppt/media/image11.wmf" ContentType="image/x-wmf"/>
  <Override PartName="/ppt/media/image45.wmf" ContentType="image/x-wmf"/>
  <Override PartName="/ppt/media/image46.wmf" ContentType="image/x-wmf"/>
  <Override PartName="/ppt/media/image51.wmf" ContentType="image/x-wmf"/>
  <Override PartName="/ppt/media/image80.wmf" ContentType="image/x-wmf"/>
  <Override PartName="/ppt/media/image12.wmf" ContentType="image/x-wmf"/>
  <Override PartName="/ppt/media/image109.wmf" ContentType="image/x-wmf"/>
  <Override PartName="/ppt/media/image49.wmf" ContentType="image/x-wmf"/>
  <Override PartName="/ppt/media/image100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3.wmf" ContentType="image/x-wmf"/>
  <Override PartName="/ppt/media/image25.wmf" ContentType="image/x-wmf"/>
  <Override PartName="/ppt/media/image9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2.wmf" ContentType="image/x-wmf"/>
  <Override PartName="/ppt/media/image54.wmf" ContentType="image/x-wmf"/>
  <Override PartName="/ppt/media/image16.wmf" ContentType="image/x-wmf"/>
  <Override PartName="/ppt/media/image84.wmf" ContentType="image/x-wmf"/>
  <Override PartName="/ppt/media/image7.wmf" ContentType="image/x-wmf"/>
  <Override PartName="/ppt/media/image128.wmf" ContentType="image/x-wmf"/>
  <Override PartName="/ppt/media/image9.wmf" ContentType="image/x-wmf"/>
  <Override PartName="/ppt/media/image31.wmf" ContentType="image/x-wmf"/>
  <Override PartName="/ppt/media/image40.wmf" ContentType="image/x-wmf"/>
  <Override PartName="/ppt/media/image32.wmf" ContentType="image/x-wmf"/>
  <Override PartName="/ppt/media/image127.wmf" ContentType="image/x-wmf"/>
  <Override PartName="/ppt/media/image8.wmf" ContentType="image/x-wmf"/>
  <Override PartName="/ppt/media/image30.wmf" ContentType="image/x-wmf"/>
  <Override PartName="/ppt/media/image39.wmf" ContentType="image/x-wmf"/>
  <Override PartName="/ppt/media/image38.wmf" ContentType="image/x-wmf"/>
  <Override PartName="/ppt/media/image37.wmf" ContentType="image/x-wmf"/>
  <Override PartName="/ppt/media/image48.wmf" ContentType="image/x-wmf"/>
  <Override PartName="/ppt/media/image82.wmf" ContentType="image/x-wmf"/>
  <Override PartName="/ppt/media/image14.wmf" ContentType="image/x-wmf"/>
  <Override PartName="/ppt/media/image107.wmf" ContentType="image/x-wmf"/>
  <Override PartName="/ppt/media/image2.jpeg" ContentType="image/jpeg"/>
  <Override PartName="/ppt/media/image99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91.wmf" ContentType="image/x-wmf"/>
  <Override PartName="/ppt/media/image23.wmf" ContentType="image/x-wmf"/>
  <Override PartName="/ppt/media/image92.wmf" ContentType="image/x-wmf"/>
  <Override PartName="/ppt/media/image24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79.wmf" ContentType="image/x-wmf"/>
  <Override PartName="/ppt/media/image19.wmf" ContentType="image/x-wmf"/>
  <Override PartName="/ppt/media/image87.wmf" ContentType="image/x-wmf"/>
  <Override PartName="/ppt/media/image88.wmf" ContentType="image/x-wmf"/>
  <Override PartName="/ppt/media/image27.wmf" ContentType="image/x-wmf"/>
  <Override PartName="/ppt/media/image95.wmf" ContentType="image/x-wmf"/>
  <Override PartName="/ppt/media/image28.wmf" ContentType="image/x-wmf"/>
  <Override PartName="/ppt/media/image96.wmf" ContentType="image/x-wmf"/>
  <Override PartName="/ppt/media/image29.wmf" ContentType="image/x-wmf"/>
  <Override PartName="/ppt/media/image97.wmf" ContentType="image/x-wmf"/>
  <Override PartName="/ppt/media/image98.wmf" ContentType="image/x-wmf"/>
  <Override PartName="/ppt/media/image101.wmf" ContentType="image/x-wmf"/>
  <Override PartName="/ppt/media/image102.wmf" ContentType="image/x-wmf"/>
  <Override PartName="/ppt/media/image103.wmf" ContentType="image/x-wmf"/>
  <Override PartName="/ppt/media/image104.wmf" ContentType="image/x-wmf"/>
  <Override PartName="/ppt/media/image105.wmf" ContentType="image/x-wmf"/>
  <Override PartName="/ppt/media/image106.wmf" ContentType="image/x-wmf"/>
  <Override PartName="/ppt/media/image111.wmf" ContentType="image/x-wmf"/>
  <Override PartName="/ppt/media/image112.wmf" ContentType="image/x-wmf"/>
  <Override PartName="/ppt/media/image113.wmf" ContentType="image/x-wmf"/>
  <Override PartName="/ppt/media/image114.wmf" ContentType="image/x-wmf"/>
  <Override PartName="/ppt/media/image115.wmf" ContentType="image/x-wmf"/>
  <Override PartName="/ppt/media/image116.wmf" ContentType="image/x-wmf"/>
  <Override PartName="/ppt/media/image121.wmf" ContentType="image/x-wmf"/>
  <Override PartName="/ppt/media/image122.wmf" ContentType="image/x-wmf"/>
  <Override PartName="/ppt/media/image123.wmf" ContentType="image/x-wmf"/>
  <Override PartName="/ppt/media/image124.wmf" ContentType="image/x-wmf"/>
  <Override PartName="/ppt/media/image1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7884-E46E-4727-9951-25C570CCB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2CDC-F12C-4AD1-AA5C-6376810A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00F6-F602-4C58-A8EA-CE4F4D589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CC8C-39B6-48FE-B76A-B44DCED9B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D997-3948-4F22-941D-57A6E3643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F1B6-4E0A-4285-916C-D09D884D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A25F-2EA3-48D0-9B4E-E83ACF80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2B1E-09E0-4173-831B-21BA9F88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1B37-4DF5-47D3-96D2-C03C808F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793BB-B95A-413F-A94A-AB712636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55C8-90A8-4DFA-8F5B-30DAD1B3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387A-0093-4E33-8211-4495B97A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6934-3CFD-42C3-A534-AFC355F9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E3E4-604B-492F-9280-DDB0246D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6F92-79E4-4F18-9200-AA87F89B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310F-5577-4449-B942-576B82699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DB4B-5F6E-499D-A2B5-29F4BE53A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1CFD-D8BA-47C1-A6C9-4A80E4D8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9A92-3078-4C66-81DE-2616B21B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F2CF-0EE3-46AD-9925-6AD90107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03CD-3CD9-41BC-ABEB-C45006AF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D680-9AD8-42DA-B510-F5959537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B646-8E16-4722-B272-E0F48E7F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1046-658F-4005-B0DB-38A2984C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DDCB-320A-4DB5-9BBD-9A4C7AEFA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BB96-65B5-4BA2-A24B-CD85E7CF6647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5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88.wmf"/><Relationship Id="rId2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7.wmf"/><Relationship Id="rId2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0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6.wmf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8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8.wmf"/><Relationship Id="rId2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7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8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9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0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8.wmf"/><Relationship Id="rId4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0.wmf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0.wmf"/><Relationship Id="rId2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9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50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51.wmf"/><Relationship Id="rId3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1.wmf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69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0.wmf"/><Relationship Id="rId3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9.wmf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1476360" y="519120"/>
            <a:ext cx="612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《</a:t>
            </a:r>
            <a:r>
              <a:rPr b="1" lang="zh-CN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泛函分析</a:t>
            </a:r>
            <a:r>
              <a:rPr b="1" lang="en-US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》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0" y="1768320"/>
            <a:ext cx="93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第三讲  有界线性算子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0" y="3214800"/>
            <a:ext cx="935820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高福根   博士  硕士研究生导师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河南师范大学数学与信息科学学院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组合 13"/>
          <p:cNvGrpSpPr/>
          <p:nvPr/>
        </p:nvGrpSpPr>
        <p:grpSpPr>
          <a:xfrm>
            <a:off x="857160" y="642960"/>
            <a:ext cx="6465240" cy="1092240"/>
            <a:chOff x="857160" y="642960"/>
            <a:chExt cx="6465240" cy="1092240"/>
          </a:xfrm>
        </p:grpSpPr>
        <p:grpSp>
          <p:nvGrpSpPr>
            <p:cNvPr id="427" name="组合 6"/>
            <p:cNvGrpSpPr/>
            <p:nvPr/>
          </p:nvGrpSpPr>
          <p:grpSpPr>
            <a:xfrm>
              <a:off x="857160" y="642960"/>
              <a:ext cx="6465240" cy="1062360"/>
              <a:chOff x="857160" y="642960"/>
              <a:chExt cx="6465240" cy="1062360"/>
            </a:xfrm>
          </p:grpSpPr>
          <p:grpSp>
            <p:nvGrpSpPr>
              <p:cNvPr id="428" name="组合 1"/>
              <p:cNvGrpSpPr/>
              <p:nvPr/>
            </p:nvGrpSpPr>
            <p:grpSpPr>
              <a:xfrm>
                <a:off x="1623240" y="642960"/>
                <a:ext cx="5699160" cy="520560"/>
                <a:chOff x="1623240" y="642960"/>
                <a:chExt cx="5699160" cy="520560"/>
              </a:xfrm>
            </p:grpSpPr>
            <p:sp>
              <p:nvSpPr>
                <p:cNvPr id="429" name="Rectangle 15"/>
                <p:cNvSpPr/>
                <p:nvPr/>
              </p:nvSpPr>
              <p:spPr>
                <a:xfrm>
                  <a:off x="1623240" y="642960"/>
                  <a:ext cx="5699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现在对于                    存在                    使得 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430" name="Object 2"/>
                <p:cNvGraphicFramePr/>
                <p:nvPr/>
              </p:nvGraphicFramePr>
              <p:xfrm>
                <a:off x="2360520" y="714240"/>
                <a:ext cx="1925640" cy="419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431" name="Object 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360520" y="714240"/>
                          <a:ext cx="1925640" cy="419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432" name="Object 3"/>
              <p:cNvGraphicFramePr/>
              <p:nvPr/>
            </p:nvGraphicFramePr>
            <p:xfrm>
              <a:off x="5143320" y="770040"/>
              <a:ext cx="1801800" cy="3729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33" name="Object 3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143320" y="770040"/>
                        <a:ext cx="1801800" cy="372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34" name="Object 4"/>
              <p:cNvGraphicFramePr/>
              <p:nvPr/>
            </p:nvGraphicFramePr>
            <p:xfrm>
              <a:off x="857160" y="1286280"/>
              <a:ext cx="2392200" cy="4190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35" name="Object 4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857160" y="1286280"/>
                        <a:ext cx="2392200" cy="419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36" name="Rectangle 15"/>
            <p:cNvSpPr/>
            <p:nvPr/>
          </p:nvSpPr>
          <p:spPr>
            <a:xfrm>
              <a:off x="3505320" y="1214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于是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aphicFrame>
        <p:nvGraphicFramePr>
          <p:cNvPr id="437" name="Object 5"/>
          <p:cNvGraphicFramePr/>
          <p:nvPr/>
        </p:nvGraphicFramePr>
        <p:xfrm>
          <a:off x="2428920" y="1928880"/>
          <a:ext cx="4505400" cy="41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28920" y="1928880"/>
                    <a:ext cx="45054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9" name="组合 14"/>
          <p:cNvGrpSpPr/>
          <p:nvPr/>
        </p:nvGrpSpPr>
        <p:grpSpPr>
          <a:xfrm>
            <a:off x="1441080" y="2500200"/>
            <a:ext cx="4036320" cy="520560"/>
            <a:chOff x="1441080" y="2500200"/>
            <a:chExt cx="4036320" cy="520560"/>
          </a:xfrm>
        </p:grpSpPr>
        <p:sp>
          <p:nvSpPr>
            <p:cNvPr id="440" name="Rectangle 15"/>
            <p:cNvSpPr/>
            <p:nvPr/>
          </p:nvSpPr>
          <p:spPr>
            <a:xfrm>
              <a:off x="1441080" y="2500200"/>
              <a:ext cx="403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但显然                            所以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41" name="Object 6"/>
            <p:cNvGraphicFramePr/>
            <p:nvPr/>
          </p:nvGraphicFramePr>
          <p:xfrm>
            <a:off x="2214720" y="2571480"/>
            <a:ext cx="2577960" cy="4194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42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214720" y="2571480"/>
                      <a:ext cx="2577960" cy="4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43" name="组合 15"/>
          <p:cNvGrpSpPr/>
          <p:nvPr/>
        </p:nvGrpSpPr>
        <p:grpSpPr>
          <a:xfrm>
            <a:off x="1324080" y="3143160"/>
            <a:ext cx="4854600" cy="1163520"/>
            <a:chOff x="1324080" y="3143160"/>
            <a:chExt cx="4854600" cy="1163520"/>
          </a:xfrm>
        </p:grpSpPr>
        <p:graphicFrame>
          <p:nvGraphicFramePr>
            <p:cNvPr id="444" name="Object 7"/>
            <p:cNvGraphicFramePr/>
            <p:nvPr/>
          </p:nvGraphicFramePr>
          <p:xfrm>
            <a:off x="3040200" y="3143160"/>
            <a:ext cx="3138480" cy="419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45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040200" y="3143160"/>
                      <a:ext cx="313848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6" name="Rectangle 15"/>
            <p:cNvSpPr/>
            <p:nvPr/>
          </p:nvSpPr>
          <p:spPr>
            <a:xfrm>
              <a:off x="1324080" y="3786120"/>
              <a:ext cx="143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与所设矛盾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3"/>
          <p:cNvSpPr/>
          <p:nvPr/>
        </p:nvSpPr>
        <p:spPr>
          <a:xfrm>
            <a:off x="428760" y="57168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例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48" name="组合 8"/>
          <p:cNvGrpSpPr/>
          <p:nvPr/>
        </p:nvGrpSpPr>
        <p:grpSpPr>
          <a:xfrm>
            <a:off x="1762560" y="571680"/>
            <a:ext cx="5729760" cy="1373760"/>
            <a:chOff x="1762560" y="571680"/>
            <a:chExt cx="5729760" cy="1373760"/>
          </a:xfrm>
        </p:grpSpPr>
        <p:grpSp>
          <p:nvGrpSpPr>
            <p:cNvPr id="449" name="组合 18"/>
            <p:cNvGrpSpPr/>
            <p:nvPr/>
          </p:nvGrpSpPr>
          <p:grpSpPr>
            <a:xfrm>
              <a:off x="1762560" y="571680"/>
              <a:ext cx="5729760" cy="1373760"/>
              <a:chOff x="1762560" y="571680"/>
              <a:chExt cx="5729760" cy="1373760"/>
            </a:xfrm>
          </p:grpSpPr>
          <p:sp>
            <p:nvSpPr>
              <p:cNvPr id="450" name="Rectangle 15"/>
              <p:cNvSpPr/>
              <p:nvPr/>
            </p:nvSpPr>
            <p:spPr>
              <a:xfrm>
                <a:off x="1762560" y="571680"/>
                <a:ext cx="572976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设                        ，在第一章第三节中我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们已提到，每个         阶矩阵             定义一个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线性映射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451" name="Object 7"/>
              <p:cNvGraphicFramePr/>
              <p:nvPr/>
            </p:nvGraphicFramePr>
            <p:xfrm>
              <a:off x="2117520" y="652320"/>
              <a:ext cx="2454120" cy="4186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52" name="Object 7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117520" y="652320"/>
                        <a:ext cx="2454120" cy="418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53" name="Object 3"/>
              <p:cNvGraphicFramePr/>
              <p:nvPr/>
            </p:nvGraphicFramePr>
            <p:xfrm>
              <a:off x="3487680" y="1164960"/>
              <a:ext cx="869760" cy="257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54" name="Object 3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487680" y="1164960"/>
                        <a:ext cx="869760" cy="257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55" name="Object 10"/>
            <p:cNvGraphicFramePr/>
            <p:nvPr/>
          </p:nvGraphicFramePr>
          <p:xfrm>
            <a:off x="5449680" y="1071360"/>
            <a:ext cx="1336320" cy="442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56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49680" y="1071360"/>
                      <a:ext cx="1336320" cy="44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7" name="Object 5"/>
            <p:cNvGraphicFramePr/>
            <p:nvPr/>
          </p:nvGraphicFramePr>
          <p:xfrm>
            <a:off x="2506680" y="1571400"/>
            <a:ext cx="1707840" cy="326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58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6680" y="1571400"/>
                      <a:ext cx="1707840" cy="32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59" name="组合 18"/>
          <p:cNvGrpSpPr/>
          <p:nvPr/>
        </p:nvGrpSpPr>
        <p:grpSpPr>
          <a:xfrm>
            <a:off x="1328760" y="2071800"/>
            <a:ext cx="6458040" cy="947160"/>
            <a:chOff x="1328760" y="2071800"/>
            <a:chExt cx="6458040" cy="947160"/>
          </a:xfrm>
        </p:grpSpPr>
        <p:grpSp>
          <p:nvGrpSpPr>
            <p:cNvPr id="460" name="组合 18"/>
            <p:cNvGrpSpPr/>
            <p:nvPr/>
          </p:nvGrpSpPr>
          <p:grpSpPr>
            <a:xfrm>
              <a:off x="1921680" y="2071800"/>
              <a:ext cx="5865120" cy="947160"/>
              <a:chOff x="1921680" y="2071800"/>
              <a:chExt cx="5865120" cy="947160"/>
            </a:xfrm>
          </p:grpSpPr>
          <p:sp>
            <p:nvSpPr>
              <p:cNvPr id="461" name="Rectangle 15"/>
              <p:cNvSpPr/>
              <p:nvPr/>
            </p:nvSpPr>
            <p:spPr>
              <a:xfrm>
                <a:off x="1921680" y="2071800"/>
                <a:ext cx="55497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反之，对于每个线性算子                    ，各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取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与     的一组基            ，            ，令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462" name="Object 6"/>
              <p:cNvGraphicFramePr/>
              <p:nvPr/>
            </p:nvGraphicFramePr>
            <p:xfrm>
              <a:off x="5767560" y="2131920"/>
              <a:ext cx="2019240" cy="3729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463" name="Object 6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767560" y="2131920"/>
                        <a:ext cx="2019240" cy="372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64" name="Object 8"/>
            <p:cNvGraphicFramePr/>
            <p:nvPr/>
          </p:nvGraphicFramePr>
          <p:xfrm>
            <a:off x="1328760" y="2571840"/>
            <a:ext cx="528480" cy="349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65" name="Object 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328760" y="2571840"/>
                      <a:ext cx="528480" cy="34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6" name="Object 9"/>
            <p:cNvGraphicFramePr/>
            <p:nvPr/>
          </p:nvGraphicFramePr>
          <p:xfrm>
            <a:off x="2124000" y="2571840"/>
            <a:ext cx="590400" cy="3492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67" name="Object 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124000" y="2571840"/>
                      <a:ext cx="590400" cy="34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8" name="Object 4"/>
            <p:cNvGraphicFramePr/>
            <p:nvPr/>
          </p:nvGraphicFramePr>
          <p:xfrm>
            <a:off x="4084920" y="2571840"/>
            <a:ext cx="1272960" cy="4190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69" name="Object 4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084920" y="2571840"/>
                      <a:ext cx="127296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0" name="Object 11"/>
            <p:cNvGraphicFramePr/>
            <p:nvPr/>
          </p:nvGraphicFramePr>
          <p:xfrm>
            <a:off x="5369040" y="2571840"/>
            <a:ext cx="1488960" cy="419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471" name="Object 11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369040" y="2571840"/>
                      <a:ext cx="148896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72" name="组合 23"/>
          <p:cNvGrpSpPr/>
          <p:nvPr/>
        </p:nvGrpSpPr>
        <p:grpSpPr>
          <a:xfrm>
            <a:off x="2182320" y="3000240"/>
            <a:ext cx="4497840" cy="1378440"/>
            <a:chOff x="2182320" y="3000240"/>
            <a:chExt cx="4497840" cy="1378440"/>
          </a:xfrm>
        </p:grpSpPr>
        <p:graphicFrame>
          <p:nvGraphicFramePr>
            <p:cNvPr id="473" name="Object 12"/>
            <p:cNvGraphicFramePr/>
            <p:nvPr/>
          </p:nvGraphicFramePr>
          <p:xfrm>
            <a:off x="2857680" y="3000240"/>
            <a:ext cx="3822480" cy="8164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74" name="Object 12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857680" y="3000240"/>
                      <a:ext cx="3822480" cy="81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75" name="组合 22"/>
            <p:cNvGrpSpPr/>
            <p:nvPr/>
          </p:nvGrpSpPr>
          <p:grpSpPr>
            <a:xfrm>
              <a:off x="2182320" y="3858120"/>
              <a:ext cx="3940920" cy="520560"/>
              <a:chOff x="2182320" y="3858120"/>
              <a:chExt cx="3940920" cy="520560"/>
            </a:xfrm>
          </p:grpSpPr>
          <p:sp>
            <p:nvSpPr>
              <p:cNvPr id="476" name="矩形 19"/>
              <p:cNvSpPr/>
              <p:nvPr/>
            </p:nvSpPr>
            <p:spPr>
              <a:xfrm>
                <a:off x="2182320" y="3858120"/>
                <a:ext cx="3888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则得到         阶矩阵      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477" name="Object 13"/>
              <p:cNvGraphicFramePr/>
              <p:nvPr/>
            </p:nvGraphicFramePr>
            <p:xfrm>
              <a:off x="2928960" y="4001040"/>
              <a:ext cx="869760" cy="25740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478" name="Object 13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2928960" y="4001040"/>
                        <a:ext cx="869760" cy="257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9" name="Object 14"/>
              <p:cNvGraphicFramePr/>
              <p:nvPr/>
            </p:nvGraphicFramePr>
            <p:xfrm>
              <a:off x="4786560" y="3929400"/>
              <a:ext cx="1336680" cy="44316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480" name="Object 14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4786560" y="3929400"/>
                        <a:ext cx="1336680" cy="443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p:transition spd="slow">
    <p:randomBar dir="vert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组合 7"/>
          <p:cNvGrpSpPr/>
          <p:nvPr/>
        </p:nvGrpSpPr>
        <p:grpSpPr>
          <a:xfrm>
            <a:off x="1848600" y="785880"/>
            <a:ext cx="6237000" cy="947160"/>
            <a:chOff x="1848600" y="785880"/>
            <a:chExt cx="6237000" cy="947160"/>
          </a:xfrm>
        </p:grpSpPr>
        <p:grpSp>
          <p:nvGrpSpPr>
            <p:cNvPr id="482" name="组合 1"/>
            <p:cNvGrpSpPr/>
            <p:nvPr/>
          </p:nvGrpSpPr>
          <p:grpSpPr>
            <a:xfrm>
              <a:off x="1848600" y="785880"/>
              <a:ext cx="6237000" cy="947160"/>
              <a:chOff x="1848600" y="785880"/>
              <a:chExt cx="6237000" cy="947160"/>
            </a:xfrm>
          </p:grpSpPr>
          <p:sp>
            <p:nvSpPr>
              <p:cNvPr id="483" name="矩形 2"/>
              <p:cNvSpPr/>
              <p:nvPr/>
            </p:nvSpPr>
            <p:spPr>
              <a:xfrm>
                <a:off x="1848600" y="785880"/>
                <a:ext cx="567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于是，从     到     的线性算子可以与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阶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矩阵对应起来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                           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484" name="Object 3"/>
              <p:cNvGraphicFramePr/>
              <p:nvPr/>
            </p:nvGraphicFramePr>
            <p:xfrm>
              <a:off x="7215840" y="928440"/>
              <a:ext cx="869760" cy="2570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85" name="Object 3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215840" y="928440"/>
                        <a:ext cx="869760" cy="257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86" name="Object 4"/>
            <p:cNvGraphicFramePr/>
            <p:nvPr/>
          </p:nvGraphicFramePr>
          <p:xfrm>
            <a:off x="3000600" y="857160"/>
            <a:ext cx="528480" cy="349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7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00600" y="857160"/>
                      <a:ext cx="528480" cy="34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8" name="Object 5"/>
            <p:cNvGraphicFramePr/>
            <p:nvPr/>
          </p:nvGraphicFramePr>
          <p:xfrm>
            <a:off x="3857760" y="834120"/>
            <a:ext cx="642960" cy="380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89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57760" y="834120"/>
                      <a:ext cx="642960" cy="38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90" name="组合 8"/>
          <p:cNvGrpSpPr/>
          <p:nvPr/>
        </p:nvGrpSpPr>
        <p:grpSpPr>
          <a:xfrm>
            <a:off x="1911600" y="1857240"/>
            <a:ext cx="5604840" cy="947160"/>
            <a:chOff x="1911600" y="1857240"/>
            <a:chExt cx="5604840" cy="947160"/>
          </a:xfrm>
        </p:grpSpPr>
        <p:sp>
          <p:nvSpPr>
            <p:cNvPr id="491" name="矩形 2"/>
            <p:cNvSpPr/>
            <p:nvPr/>
          </p:nvSpPr>
          <p:spPr>
            <a:xfrm>
              <a:off x="1911600" y="1857240"/>
              <a:ext cx="5604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特别地，取          便得到      上的线性泛函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它的一般形式是                      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92" name="Object 7"/>
            <p:cNvGraphicFramePr/>
            <p:nvPr/>
          </p:nvGraphicFramePr>
          <p:xfrm>
            <a:off x="5572080" y="1928520"/>
            <a:ext cx="528480" cy="349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93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572080" y="1928520"/>
                      <a:ext cx="528480" cy="34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4" name="Object 8"/>
            <p:cNvGraphicFramePr/>
            <p:nvPr/>
          </p:nvGraphicFramePr>
          <p:xfrm>
            <a:off x="3429000" y="1941120"/>
            <a:ext cx="947520" cy="355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95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429000" y="1941120"/>
                      <a:ext cx="94752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96" name="组合 19"/>
          <p:cNvGrpSpPr/>
          <p:nvPr/>
        </p:nvGrpSpPr>
        <p:grpSpPr>
          <a:xfrm>
            <a:off x="1500120" y="3071880"/>
            <a:ext cx="7412040" cy="1306800"/>
            <a:chOff x="1500120" y="3071880"/>
            <a:chExt cx="7412040" cy="1306800"/>
          </a:xfrm>
        </p:grpSpPr>
        <p:graphicFrame>
          <p:nvGraphicFramePr>
            <p:cNvPr id="497" name="Object 9"/>
            <p:cNvGraphicFramePr/>
            <p:nvPr/>
          </p:nvGraphicFramePr>
          <p:xfrm>
            <a:off x="1500120" y="3071880"/>
            <a:ext cx="7412040" cy="4827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98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500120" y="3071880"/>
                      <a:ext cx="741204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99" name="组合 15"/>
            <p:cNvGrpSpPr/>
            <p:nvPr/>
          </p:nvGrpSpPr>
          <p:grpSpPr>
            <a:xfrm>
              <a:off x="2361240" y="3858120"/>
              <a:ext cx="3850200" cy="520560"/>
              <a:chOff x="2361240" y="3858120"/>
              <a:chExt cx="3850200" cy="520560"/>
            </a:xfrm>
          </p:grpSpPr>
          <p:sp>
            <p:nvSpPr>
              <p:cNvPr id="500" name="矩形 16"/>
              <p:cNvSpPr/>
              <p:nvPr/>
            </p:nvSpPr>
            <p:spPr>
              <a:xfrm>
                <a:off x="2361240" y="3858120"/>
                <a:ext cx="3850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其中                 是某一组标量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501" name="Object 10"/>
              <p:cNvGraphicFramePr/>
              <p:nvPr/>
            </p:nvGraphicFramePr>
            <p:xfrm>
              <a:off x="2555640" y="3920040"/>
              <a:ext cx="1616040" cy="4208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502" name="Object 10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2555640" y="3920040"/>
                        <a:ext cx="1616040" cy="420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p:transition spd="slow">
    <p:randomBar dir="vert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3"/>
          <p:cNvSpPr/>
          <p:nvPr/>
        </p:nvSpPr>
        <p:spPr>
          <a:xfrm>
            <a:off x="500040" y="35712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命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4" name="Rectangle 15"/>
          <p:cNvSpPr/>
          <p:nvPr/>
        </p:nvSpPr>
        <p:spPr>
          <a:xfrm>
            <a:off x="2954520" y="357120"/>
            <a:ext cx="380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有限维线性赋范空间上的每个线性算子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都是有界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500040" y="121428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506" name="组合 24"/>
          <p:cNvGrpSpPr/>
          <p:nvPr/>
        </p:nvGrpSpPr>
        <p:grpSpPr>
          <a:xfrm>
            <a:off x="928800" y="1285920"/>
            <a:ext cx="7105320" cy="1928880"/>
            <a:chOff x="928800" y="1285920"/>
            <a:chExt cx="7105320" cy="1928880"/>
          </a:xfrm>
        </p:grpSpPr>
        <p:grpSp>
          <p:nvGrpSpPr>
            <p:cNvPr id="507" name="组合 23"/>
            <p:cNvGrpSpPr/>
            <p:nvPr/>
          </p:nvGrpSpPr>
          <p:grpSpPr>
            <a:xfrm>
              <a:off x="928800" y="1285920"/>
              <a:ext cx="7105320" cy="1928880"/>
              <a:chOff x="928800" y="1285920"/>
              <a:chExt cx="7105320" cy="1928880"/>
            </a:xfrm>
          </p:grpSpPr>
          <p:grpSp>
            <p:nvGrpSpPr>
              <p:cNvPr id="508" name="组合 18"/>
              <p:cNvGrpSpPr/>
              <p:nvPr/>
            </p:nvGrpSpPr>
            <p:grpSpPr>
              <a:xfrm>
                <a:off x="2852640" y="1285920"/>
                <a:ext cx="4469400" cy="520560"/>
                <a:chOff x="2852640" y="1285920"/>
                <a:chExt cx="4469400" cy="520560"/>
              </a:xfrm>
            </p:grpSpPr>
            <p:sp>
              <p:nvSpPr>
                <p:cNvPr id="509" name="Rectangle 15"/>
                <p:cNvSpPr/>
                <p:nvPr/>
              </p:nvSpPr>
              <p:spPr>
                <a:xfrm>
                  <a:off x="2852640" y="1285920"/>
                  <a:ext cx="4469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不妨设            ，  上的范数是欧氏范数，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510" name="Object 2"/>
                <p:cNvGraphicFramePr/>
                <p:nvPr/>
              </p:nvGraphicFramePr>
              <p:xfrm>
                <a:off x="2971800" y="1357200"/>
                <a:ext cx="1242720" cy="34956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511" name="Object 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971800" y="1357200"/>
                          <a:ext cx="1242720" cy="3495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512" name="Object 3"/>
                <p:cNvGraphicFramePr/>
                <p:nvPr/>
              </p:nvGraphicFramePr>
              <p:xfrm>
                <a:off x="4357800" y="1411200"/>
                <a:ext cx="434880" cy="30348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513" name="Object 3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4357800" y="1411200"/>
                          <a:ext cx="434880" cy="3034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514" name="组合 16"/>
              <p:cNvGrpSpPr/>
              <p:nvPr/>
            </p:nvGrpSpPr>
            <p:grpSpPr>
              <a:xfrm>
                <a:off x="928800" y="1857240"/>
                <a:ext cx="7105320" cy="1357560"/>
                <a:chOff x="928800" y="1857240"/>
                <a:chExt cx="7105320" cy="1357560"/>
              </a:xfrm>
            </p:grpSpPr>
            <p:graphicFrame>
              <p:nvGraphicFramePr>
                <p:cNvPr id="515" name="Object 4"/>
                <p:cNvGraphicFramePr/>
                <p:nvPr/>
              </p:nvGraphicFramePr>
              <p:xfrm>
                <a:off x="928800" y="1893600"/>
                <a:ext cx="1272960" cy="41904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516" name="Object 4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928800" y="1893600"/>
                          <a:ext cx="1272960" cy="4190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517" name="Rectangle 15"/>
                <p:cNvSpPr/>
                <p:nvPr/>
              </p:nvSpPr>
              <p:spPr>
                <a:xfrm>
                  <a:off x="3080160" y="1857240"/>
                  <a:ext cx="43977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是    的一组基底，则对于任何          ，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518" name="Object 5"/>
                <p:cNvGraphicFramePr/>
                <p:nvPr/>
              </p:nvGraphicFramePr>
              <p:xfrm>
                <a:off x="2585880" y="1982520"/>
                <a:ext cx="434880" cy="30312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519" name="Object 5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2585880" y="1982520"/>
                          <a:ext cx="434880" cy="3031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520" name="Object 6"/>
                <p:cNvGraphicFramePr/>
                <p:nvPr/>
              </p:nvGraphicFramePr>
              <p:xfrm>
                <a:off x="6943680" y="1928520"/>
                <a:ext cx="1090440" cy="35712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521" name="Object 6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6943680" y="1928520"/>
                          <a:ext cx="1090440" cy="3571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522" name="Object 7"/>
                <p:cNvGraphicFramePr/>
                <p:nvPr/>
              </p:nvGraphicFramePr>
              <p:xfrm>
                <a:off x="928800" y="2422440"/>
                <a:ext cx="1800000" cy="79236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523" name="Object 7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928800" y="2422440"/>
                          <a:ext cx="1800000" cy="792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524" name="组合 17"/>
            <p:cNvGrpSpPr/>
            <p:nvPr/>
          </p:nvGrpSpPr>
          <p:grpSpPr>
            <a:xfrm>
              <a:off x="2928960" y="2548080"/>
              <a:ext cx="4093920" cy="520560"/>
              <a:chOff x="2928960" y="2548080"/>
              <a:chExt cx="4093920" cy="520560"/>
            </a:xfrm>
          </p:grpSpPr>
          <p:graphicFrame>
            <p:nvGraphicFramePr>
              <p:cNvPr id="525" name="Object 8"/>
              <p:cNvGraphicFramePr/>
              <p:nvPr/>
            </p:nvGraphicFramePr>
            <p:xfrm>
              <a:off x="2928960" y="2619360"/>
              <a:ext cx="1646280" cy="41976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526" name="Object 8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2928960" y="2619360"/>
                        <a:ext cx="1646280" cy="419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27" name="Rectangle 15"/>
              <p:cNvSpPr/>
              <p:nvPr/>
            </p:nvSpPr>
            <p:spPr>
              <a:xfrm>
                <a:off x="4912920" y="2548080"/>
                <a:ext cx="2109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是     中确定的元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528" name="Object 9"/>
              <p:cNvGraphicFramePr/>
              <p:nvPr/>
            </p:nvGraphicFramePr>
            <p:xfrm>
              <a:off x="5046480" y="2619360"/>
              <a:ext cx="401760" cy="35748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529" name="Object 9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5046480" y="2619360"/>
                        <a:ext cx="401760" cy="357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530" name="组合 24"/>
          <p:cNvGrpSpPr/>
          <p:nvPr/>
        </p:nvGrpSpPr>
        <p:grpSpPr>
          <a:xfrm>
            <a:off x="1274760" y="3070080"/>
            <a:ext cx="6766560" cy="1001880"/>
            <a:chOff x="1274760" y="3070080"/>
            <a:chExt cx="6766560" cy="1001880"/>
          </a:xfrm>
        </p:grpSpPr>
        <p:grpSp>
          <p:nvGrpSpPr>
            <p:cNvPr id="531" name="组合 19"/>
            <p:cNvGrpSpPr/>
            <p:nvPr/>
          </p:nvGrpSpPr>
          <p:grpSpPr>
            <a:xfrm>
              <a:off x="1274760" y="3070080"/>
              <a:ext cx="6766560" cy="1001880"/>
              <a:chOff x="1274760" y="3070080"/>
              <a:chExt cx="6766560" cy="1001880"/>
            </a:xfrm>
          </p:grpSpPr>
          <p:sp>
            <p:nvSpPr>
              <p:cNvPr id="532" name="Rectangle 15"/>
              <p:cNvSpPr/>
              <p:nvPr/>
            </p:nvSpPr>
            <p:spPr>
              <a:xfrm>
                <a:off x="1618560" y="3357360"/>
                <a:ext cx="6422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设                    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,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由三角不等式与            不等式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533" name="Object 10"/>
              <p:cNvGraphicFramePr/>
              <p:nvPr/>
            </p:nvGraphicFramePr>
            <p:xfrm>
              <a:off x="1274760" y="3070080"/>
              <a:ext cx="2579760" cy="100188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534" name="Object 10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1274760" y="3070080"/>
                        <a:ext cx="2579760" cy="1001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535" name="Object 12"/>
            <p:cNvGraphicFramePr/>
            <p:nvPr/>
          </p:nvGraphicFramePr>
          <p:xfrm>
            <a:off x="6501240" y="3460680"/>
            <a:ext cx="1211040" cy="3254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536" name="Object 12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501240" y="3460680"/>
                      <a:ext cx="1211040" cy="32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7" name="Object 2"/>
          <p:cNvGraphicFramePr/>
          <p:nvPr/>
        </p:nvGraphicFramePr>
        <p:xfrm>
          <a:off x="1500120" y="714240"/>
          <a:ext cx="6184800" cy="10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714240"/>
                    <a:ext cx="618480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39" name="组合 4"/>
          <p:cNvGrpSpPr/>
          <p:nvPr/>
        </p:nvGrpSpPr>
        <p:grpSpPr>
          <a:xfrm>
            <a:off x="1759680" y="1857240"/>
            <a:ext cx="2914560" cy="520560"/>
            <a:chOff x="1759680" y="1857240"/>
            <a:chExt cx="2914560" cy="520560"/>
          </a:xfrm>
        </p:grpSpPr>
        <p:sp>
          <p:nvSpPr>
            <p:cNvPr id="540" name="Rectangle 15"/>
            <p:cNvSpPr/>
            <p:nvPr/>
          </p:nvSpPr>
          <p:spPr>
            <a:xfrm>
              <a:off x="1759680" y="1857240"/>
              <a:ext cx="291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由定理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1(5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，     有界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541" name="Object 3"/>
            <p:cNvGraphicFramePr/>
            <p:nvPr/>
          </p:nvGraphicFramePr>
          <p:xfrm>
            <a:off x="3643560" y="1928520"/>
            <a:ext cx="401760" cy="357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42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43560" y="1928520"/>
                      <a:ext cx="40176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43" name="组合 5"/>
          <p:cNvGrpSpPr/>
          <p:nvPr/>
        </p:nvGrpSpPr>
        <p:grpSpPr>
          <a:xfrm>
            <a:off x="2903040" y="2500200"/>
            <a:ext cx="3351960" cy="947160"/>
            <a:chOff x="2903040" y="2500200"/>
            <a:chExt cx="3351960" cy="947160"/>
          </a:xfrm>
        </p:grpSpPr>
        <p:sp>
          <p:nvSpPr>
            <p:cNvPr id="544" name="Rectangle 15"/>
            <p:cNvSpPr/>
            <p:nvPr/>
          </p:nvSpPr>
          <p:spPr>
            <a:xfrm>
              <a:off x="2903040" y="2500200"/>
              <a:ext cx="3351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此外由第一章第四节知，   上的任一范数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都等价于欧氏范数，故结论成立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545" name="Object 4"/>
            <p:cNvGraphicFramePr/>
            <p:nvPr/>
          </p:nvGraphicFramePr>
          <p:xfrm>
            <a:off x="5160600" y="2571480"/>
            <a:ext cx="510840" cy="357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46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160600" y="2571480"/>
                      <a:ext cx="510840" cy="35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3"/>
          <p:cNvSpPr/>
          <p:nvPr/>
        </p:nvSpPr>
        <p:spPr>
          <a:xfrm>
            <a:off x="571680" y="64296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例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548" name="组合 4"/>
          <p:cNvGrpSpPr/>
          <p:nvPr/>
        </p:nvGrpSpPr>
        <p:grpSpPr>
          <a:xfrm>
            <a:off x="1810440" y="714240"/>
            <a:ext cx="6047640" cy="571680"/>
            <a:chOff x="1810440" y="714240"/>
            <a:chExt cx="6047640" cy="571680"/>
          </a:xfrm>
        </p:grpSpPr>
        <p:sp>
          <p:nvSpPr>
            <p:cNvPr id="549" name="Rectangle 15"/>
            <p:cNvSpPr/>
            <p:nvPr/>
          </p:nvSpPr>
          <p:spPr>
            <a:xfrm>
              <a:off x="1810440" y="714240"/>
              <a:ext cx="311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1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考虑算子 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550" name="Object 2"/>
            <p:cNvGraphicFramePr/>
            <p:nvPr/>
          </p:nvGraphicFramePr>
          <p:xfrm>
            <a:off x="3294000" y="736200"/>
            <a:ext cx="4564080" cy="549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1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94000" y="736200"/>
                      <a:ext cx="4564080" cy="54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52" name="Object 3"/>
          <p:cNvGraphicFramePr/>
          <p:nvPr/>
        </p:nvGraphicFramePr>
        <p:xfrm>
          <a:off x="1554120" y="1349280"/>
          <a:ext cx="617076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54120" y="1349280"/>
                    <a:ext cx="617076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Object 6"/>
          <p:cNvGraphicFramePr/>
          <p:nvPr/>
        </p:nvGraphicFramePr>
        <p:xfrm>
          <a:off x="1714680" y="3286080"/>
          <a:ext cx="5914800" cy="768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14680" y="3286080"/>
                    <a:ext cx="591480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6" name="组合 13"/>
          <p:cNvGrpSpPr/>
          <p:nvPr/>
        </p:nvGrpSpPr>
        <p:grpSpPr>
          <a:xfrm>
            <a:off x="1357200" y="2214720"/>
            <a:ext cx="6181920" cy="947160"/>
            <a:chOff x="1357200" y="2214720"/>
            <a:chExt cx="6181920" cy="947160"/>
          </a:xfrm>
        </p:grpSpPr>
        <p:grpSp>
          <p:nvGrpSpPr>
            <p:cNvPr id="557" name="组合 10"/>
            <p:cNvGrpSpPr/>
            <p:nvPr/>
          </p:nvGrpSpPr>
          <p:grpSpPr>
            <a:xfrm>
              <a:off x="1357200" y="2214720"/>
              <a:ext cx="6181920" cy="947160"/>
              <a:chOff x="1357200" y="2214720"/>
              <a:chExt cx="6181920" cy="947160"/>
            </a:xfrm>
          </p:grpSpPr>
          <p:grpSp>
            <p:nvGrpSpPr>
              <p:cNvPr id="558" name="组合 4"/>
              <p:cNvGrpSpPr/>
              <p:nvPr/>
            </p:nvGrpSpPr>
            <p:grpSpPr>
              <a:xfrm>
                <a:off x="1357200" y="2214720"/>
                <a:ext cx="6181920" cy="947160"/>
                <a:chOff x="1357200" y="2214720"/>
                <a:chExt cx="6181920" cy="947160"/>
              </a:xfrm>
            </p:grpSpPr>
            <p:sp>
              <p:nvSpPr>
                <p:cNvPr id="559" name="Rectangle 15"/>
                <p:cNvSpPr/>
                <p:nvPr/>
              </p:nvSpPr>
              <p:spPr>
                <a:xfrm>
                  <a:off x="1654200" y="2214720"/>
                  <a:ext cx="588492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这里                   是在           中一阶导数连续的函数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全体，其中     的范数是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560" name="Object 4"/>
                <p:cNvGraphicFramePr/>
                <p:nvPr/>
              </p:nvGraphicFramePr>
              <p:xfrm>
                <a:off x="1357200" y="2214720"/>
                <a:ext cx="1825560" cy="54936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561" name="Object 4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1357200" y="2214720"/>
                          <a:ext cx="1825560" cy="549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562" name="Object 5"/>
              <p:cNvGraphicFramePr/>
              <p:nvPr/>
            </p:nvGraphicFramePr>
            <p:xfrm>
              <a:off x="3929040" y="2214720"/>
              <a:ext cx="1131840" cy="5493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563" name="Object 5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929040" y="2214720"/>
                        <a:ext cx="1131840" cy="549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564" name="Object 13"/>
            <p:cNvGraphicFramePr/>
            <p:nvPr/>
          </p:nvGraphicFramePr>
          <p:xfrm>
            <a:off x="2355840" y="2727360"/>
            <a:ext cx="511200" cy="357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65" name="Object 13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355840" y="2727360"/>
                      <a:ext cx="511200" cy="35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15"/>
          <p:cNvSpPr/>
          <p:nvPr/>
        </p:nvSpPr>
        <p:spPr>
          <a:xfrm>
            <a:off x="1148040" y="6429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由于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567" name="Object 3"/>
          <p:cNvGraphicFramePr/>
          <p:nvPr/>
        </p:nvGraphicFramePr>
        <p:xfrm>
          <a:off x="1571760" y="1143000"/>
          <a:ext cx="7156440" cy="9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1143000"/>
                    <a:ext cx="715644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9" name="组合 4"/>
          <p:cNvGrpSpPr/>
          <p:nvPr/>
        </p:nvGrpSpPr>
        <p:grpSpPr>
          <a:xfrm>
            <a:off x="1144440" y="2286000"/>
            <a:ext cx="6681600" cy="571680"/>
            <a:chOff x="1144440" y="2286000"/>
            <a:chExt cx="6681600" cy="571680"/>
          </a:xfrm>
        </p:grpSpPr>
        <p:sp>
          <p:nvSpPr>
            <p:cNvPr id="570" name="Rectangle 15"/>
            <p:cNvSpPr/>
            <p:nvPr/>
          </p:nvSpPr>
          <p:spPr>
            <a:xfrm>
              <a:off x="5967360" y="2286000"/>
              <a:ext cx="185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有界线性算子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571" name="Object 8"/>
            <p:cNvGraphicFramePr/>
            <p:nvPr/>
          </p:nvGraphicFramePr>
          <p:xfrm>
            <a:off x="1144440" y="2307960"/>
            <a:ext cx="4418640" cy="549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72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44440" y="2307960"/>
                      <a:ext cx="4418640" cy="54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组合 4"/>
          <p:cNvGrpSpPr/>
          <p:nvPr/>
        </p:nvGrpSpPr>
        <p:grpSpPr>
          <a:xfrm>
            <a:off x="2017440" y="714240"/>
            <a:ext cx="5339520" cy="2226960"/>
            <a:chOff x="2017440" y="714240"/>
            <a:chExt cx="5339520" cy="2226960"/>
          </a:xfrm>
        </p:grpSpPr>
        <p:sp>
          <p:nvSpPr>
            <p:cNvPr id="574" name="Rectangle 15"/>
            <p:cNvSpPr/>
            <p:nvPr/>
          </p:nvSpPr>
          <p:spPr>
            <a:xfrm>
              <a:off x="2017440" y="714240"/>
              <a:ext cx="53395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2)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仍考虑                   但以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作为其中元素的范数，记此空间为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算子    的构造方式与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1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中的     一样，则   是线性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算子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取                            ，则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575" name="Object 2"/>
            <p:cNvGraphicFramePr/>
            <p:nvPr/>
          </p:nvGraphicFramePr>
          <p:xfrm>
            <a:off x="3071880" y="714240"/>
            <a:ext cx="2008080" cy="549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6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71880" y="714240"/>
                      <a:ext cx="2008080" cy="54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77" name="Object 3"/>
          <p:cNvGraphicFramePr/>
          <p:nvPr/>
        </p:nvGraphicFramePr>
        <p:xfrm>
          <a:off x="5643720" y="714240"/>
          <a:ext cx="2701800" cy="63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43720" y="714240"/>
                    <a:ext cx="270180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9" name="Object 4"/>
          <p:cNvGraphicFramePr/>
          <p:nvPr/>
        </p:nvGraphicFramePr>
        <p:xfrm>
          <a:off x="6215040" y="1571760"/>
          <a:ext cx="2008080" cy="549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5040" y="1571760"/>
                    <a:ext cx="200808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1" name="Object 5"/>
          <p:cNvGraphicFramePr/>
          <p:nvPr/>
        </p:nvGraphicFramePr>
        <p:xfrm>
          <a:off x="1500120" y="2000160"/>
          <a:ext cx="474840" cy="411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00120" y="2000160"/>
                    <a:ext cx="4748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3" name="Object 6"/>
          <p:cNvGraphicFramePr/>
          <p:nvPr/>
        </p:nvGraphicFramePr>
        <p:xfrm>
          <a:off x="5143680" y="2071800"/>
          <a:ext cx="474480" cy="355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43680" y="2071800"/>
                    <a:ext cx="47448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5" name="Object 7"/>
          <p:cNvGraphicFramePr/>
          <p:nvPr/>
        </p:nvGraphicFramePr>
        <p:xfrm>
          <a:off x="7000920" y="2000160"/>
          <a:ext cx="474480" cy="411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8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00920" y="2000160"/>
                    <a:ext cx="4744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7" name="Object 8"/>
          <p:cNvGraphicFramePr/>
          <p:nvPr/>
        </p:nvGraphicFramePr>
        <p:xfrm>
          <a:off x="2085840" y="2459160"/>
          <a:ext cx="2629080" cy="493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88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85840" y="2459160"/>
                    <a:ext cx="26290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9" name="Object 9"/>
          <p:cNvGraphicFramePr/>
          <p:nvPr/>
        </p:nvGraphicFramePr>
        <p:xfrm>
          <a:off x="5500800" y="2428920"/>
          <a:ext cx="1460520" cy="547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90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500800" y="2428920"/>
                    <a:ext cx="14605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1" name="Object 10"/>
          <p:cNvGraphicFramePr/>
          <p:nvPr/>
        </p:nvGraphicFramePr>
        <p:xfrm>
          <a:off x="2143080" y="3000240"/>
          <a:ext cx="5403960" cy="657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92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143080" y="3000240"/>
                    <a:ext cx="540396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3" name="组合 4"/>
          <p:cNvGrpSpPr/>
          <p:nvPr/>
        </p:nvGrpSpPr>
        <p:grpSpPr>
          <a:xfrm>
            <a:off x="1214280" y="3857760"/>
            <a:ext cx="6681600" cy="571320"/>
            <a:chOff x="1214280" y="3857760"/>
            <a:chExt cx="6681600" cy="571320"/>
          </a:xfrm>
        </p:grpSpPr>
        <p:sp>
          <p:nvSpPr>
            <p:cNvPr id="594" name="Rectangle 15"/>
            <p:cNvSpPr/>
            <p:nvPr/>
          </p:nvSpPr>
          <p:spPr>
            <a:xfrm>
              <a:off x="6037200" y="3857760"/>
              <a:ext cx="185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有界线性算子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595" name="Object 11"/>
            <p:cNvGraphicFramePr/>
            <p:nvPr/>
          </p:nvGraphicFramePr>
          <p:xfrm>
            <a:off x="1214280" y="3879720"/>
            <a:ext cx="4418640" cy="5493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596" name="Object 11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1214280" y="3879720"/>
                      <a:ext cx="4418640" cy="54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5"/>
          <p:cNvSpPr/>
          <p:nvPr/>
        </p:nvSpPr>
        <p:spPr>
          <a:xfrm>
            <a:off x="0" y="1285920"/>
            <a:ext cx="93582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河南师范大学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现代教育技术中心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录制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357120" y="857160"/>
            <a:ext cx="131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义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86" name="组合 13"/>
          <p:cNvGrpSpPr/>
          <p:nvPr/>
        </p:nvGrpSpPr>
        <p:grpSpPr>
          <a:xfrm>
            <a:off x="1642680" y="911160"/>
            <a:ext cx="7229520" cy="1373760"/>
            <a:chOff x="1642680" y="911160"/>
            <a:chExt cx="7229520" cy="1373760"/>
          </a:xfrm>
        </p:grpSpPr>
        <p:sp>
          <p:nvSpPr>
            <p:cNvPr id="87" name="Rectangle 15"/>
            <p:cNvSpPr/>
            <p:nvPr/>
          </p:nvSpPr>
          <p:spPr>
            <a:xfrm>
              <a:off x="2546640" y="911160"/>
              <a:ext cx="53042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设       是线性赋范空间，              是线性算子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称为是有界的，若对于   中的任一有界集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   中的有界集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88" name="Object 2"/>
            <p:cNvGraphicFramePr/>
            <p:nvPr/>
          </p:nvGraphicFramePr>
          <p:xfrm>
            <a:off x="5357160" y="1000080"/>
            <a:ext cx="1385640" cy="345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9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57160" y="1000080"/>
                      <a:ext cx="138564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0" name="Object 26"/>
            <p:cNvGraphicFramePr/>
            <p:nvPr/>
          </p:nvGraphicFramePr>
          <p:xfrm>
            <a:off x="1858680" y="999360"/>
            <a:ext cx="894960" cy="357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1" name="Object 2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8680" y="999360"/>
                      <a:ext cx="89496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2" name="Object 28"/>
            <p:cNvGraphicFramePr/>
            <p:nvPr/>
          </p:nvGraphicFramePr>
          <p:xfrm>
            <a:off x="1642680" y="1483560"/>
            <a:ext cx="341280" cy="302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3" name="Object 2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642680" y="1483560"/>
                      <a:ext cx="341280" cy="30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4" name="Object 7"/>
            <p:cNvGraphicFramePr/>
            <p:nvPr/>
          </p:nvGraphicFramePr>
          <p:xfrm>
            <a:off x="5500080" y="1428480"/>
            <a:ext cx="426960" cy="295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5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500080" y="1428480"/>
                      <a:ext cx="426960" cy="29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6" name="Object 8"/>
            <p:cNvGraphicFramePr/>
            <p:nvPr/>
          </p:nvGraphicFramePr>
          <p:xfrm>
            <a:off x="8231040" y="1374480"/>
            <a:ext cx="641160" cy="453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7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231040" y="1374480"/>
                      <a:ext cx="64116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" name="Object 9"/>
            <p:cNvGraphicFramePr/>
            <p:nvPr/>
          </p:nvGraphicFramePr>
          <p:xfrm>
            <a:off x="1642680" y="1857240"/>
            <a:ext cx="928440" cy="3978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99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642680" y="1857240"/>
                      <a:ext cx="928440" cy="39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Object 13"/>
            <p:cNvGraphicFramePr/>
            <p:nvPr/>
          </p:nvGraphicFramePr>
          <p:xfrm>
            <a:off x="2879280" y="1854720"/>
            <a:ext cx="406080" cy="3592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01" name="Object 13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879280" y="1854720"/>
                      <a:ext cx="406080" cy="35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2" name="Text Box 3"/>
          <p:cNvSpPr/>
          <p:nvPr/>
        </p:nvSpPr>
        <p:spPr>
          <a:xfrm>
            <a:off x="642960" y="221472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注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2554560" y="2286000"/>
            <a:ext cx="354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1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有界算子与有界函数的区别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2626200" y="3643200"/>
            <a:ext cx="354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线性算子与线性函数的区别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3169800" y="2714760"/>
            <a:ext cx="380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有界函数是指在整个定义域中所取的值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为有界的函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.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06" name="组合 19"/>
          <p:cNvGrpSpPr/>
          <p:nvPr/>
        </p:nvGrpSpPr>
        <p:grpSpPr>
          <a:xfrm>
            <a:off x="2607840" y="4143240"/>
            <a:ext cx="4577400" cy="520560"/>
            <a:chOff x="2607840" y="4143240"/>
            <a:chExt cx="4577400" cy="520560"/>
          </a:xfrm>
        </p:grpSpPr>
        <p:sp>
          <p:nvSpPr>
            <p:cNvPr id="107" name="Rectangle 15"/>
            <p:cNvSpPr/>
            <p:nvPr/>
          </p:nvSpPr>
          <p:spPr>
            <a:xfrm>
              <a:off x="2607840" y="4143240"/>
              <a:ext cx="457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线性函数是指                   的所有函数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08" name="Object 14"/>
            <p:cNvGraphicFramePr/>
            <p:nvPr/>
          </p:nvGraphicFramePr>
          <p:xfrm>
            <a:off x="4000320" y="4294080"/>
            <a:ext cx="1928880" cy="3499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09" name="Object 14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000320" y="4294080"/>
                      <a:ext cx="1928880" cy="34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85840" y="42876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11" name="组合 48"/>
          <p:cNvGrpSpPr/>
          <p:nvPr/>
        </p:nvGrpSpPr>
        <p:grpSpPr>
          <a:xfrm>
            <a:off x="1857240" y="428760"/>
            <a:ext cx="6124320" cy="947160"/>
            <a:chOff x="1857240" y="428760"/>
            <a:chExt cx="6124320" cy="947160"/>
          </a:xfrm>
        </p:grpSpPr>
        <p:sp>
          <p:nvSpPr>
            <p:cNvPr id="112" name="Rectangle 15"/>
            <p:cNvSpPr/>
            <p:nvPr/>
          </p:nvSpPr>
          <p:spPr>
            <a:xfrm>
              <a:off x="2648160" y="428760"/>
              <a:ext cx="5333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设       是线性赋范空间，              是线性算子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则下列诸条件等价：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13" name="Object 2"/>
            <p:cNvGraphicFramePr/>
            <p:nvPr/>
          </p:nvGraphicFramePr>
          <p:xfrm>
            <a:off x="5357880" y="535680"/>
            <a:ext cx="1500120" cy="357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4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57880" y="535680"/>
                      <a:ext cx="1500120" cy="35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5" name="Object 26"/>
            <p:cNvGraphicFramePr/>
            <p:nvPr/>
          </p:nvGraphicFramePr>
          <p:xfrm>
            <a:off x="1857240" y="535680"/>
            <a:ext cx="785880" cy="362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6" name="Object 2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240" y="535680"/>
                      <a:ext cx="785880" cy="36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7" name="组合 25"/>
          <p:cNvGrpSpPr/>
          <p:nvPr/>
        </p:nvGrpSpPr>
        <p:grpSpPr>
          <a:xfrm>
            <a:off x="1702440" y="1190520"/>
            <a:ext cx="3036600" cy="524160"/>
            <a:chOff x="1702440" y="1190520"/>
            <a:chExt cx="3036600" cy="524160"/>
          </a:xfrm>
        </p:grpSpPr>
        <p:sp>
          <p:nvSpPr>
            <p:cNvPr id="118" name="Rectangle 15"/>
            <p:cNvSpPr/>
            <p:nvPr/>
          </p:nvSpPr>
          <p:spPr>
            <a:xfrm>
              <a:off x="1702440" y="1190520"/>
              <a:ext cx="303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1)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在某一点     连续；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19" name="Object 28"/>
            <p:cNvGraphicFramePr/>
            <p:nvPr/>
          </p:nvGraphicFramePr>
          <p:xfrm>
            <a:off x="1785960" y="1339920"/>
            <a:ext cx="341280" cy="303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0" name="Object 2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85960" y="1339920"/>
                      <a:ext cx="341280" cy="30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1" name="Object 33"/>
            <p:cNvGraphicFramePr/>
            <p:nvPr/>
          </p:nvGraphicFramePr>
          <p:xfrm>
            <a:off x="3588480" y="1265040"/>
            <a:ext cx="431640" cy="449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2" name="Object 3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588480" y="1265040"/>
                      <a:ext cx="431640" cy="44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3" name="组合 16"/>
          <p:cNvGrpSpPr/>
          <p:nvPr/>
        </p:nvGrpSpPr>
        <p:grpSpPr>
          <a:xfrm>
            <a:off x="5482800" y="1190520"/>
            <a:ext cx="2516760" cy="520560"/>
            <a:chOff x="5482800" y="1190520"/>
            <a:chExt cx="2516760" cy="520560"/>
          </a:xfrm>
        </p:grpSpPr>
        <p:sp>
          <p:nvSpPr>
            <p:cNvPr id="124" name="Rectangle 15"/>
            <p:cNvSpPr/>
            <p:nvPr/>
          </p:nvSpPr>
          <p:spPr>
            <a:xfrm>
              <a:off x="5482800" y="1190520"/>
              <a:ext cx="251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2)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在    上连续；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25" name="Object 34"/>
            <p:cNvGraphicFramePr/>
            <p:nvPr/>
          </p:nvGraphicFramePr>
          <p:xfrm>
            <a:off x="6380280" y="1285200"/>
            <a:ext cx="478080" cy="3340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6" name="Object 34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380280" y="1285200"/>
                      <a:ext cx="478080" cy="33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" name="Object 9"/>
            <p:cNvGraphicFramePr/>
            <p:nvPr/>
          </p:nvGraphicFramePr>
          <p:xfrm>
            <a:off x="5715000" y="1285200"/>
            <a:ext cx="357120" cy="317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8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715000" y="1285200"/>
                      <a:ext cx="35712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9" name="组合 26"/>
          <p:cNvGrpSpPr/>
          <p:nvPr/>
        </p:nvGrpSpPr>
        <p:grpSpPr>
          <a:xfrm>
            <a:off x="1613160" y="1606680"/>
            <a:ext cx="2358360" cy="520560"/>
            <a:chOff x="1613160" y="1606680"/>
            <a:chExt cx="2358360" cy="520560"/>
          </a:xfrm>
        </p:grpSpPr>
        <p:sp>
          <p:nvSpPr>
            <p:cNvPr id="130" name="Rectangle 15"/>
            <p:cNvSpPr/>
            <p:nvPr/>
          </p:nvSpPr>
          <p:spPr>
            <a:xfrm>
              <a:off x="1613160" y="1606680"/>
              <a:ext cx="235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3)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有界算子；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31" name="Object 10"/>
            <p:cNvGraphicFramePr/>
            <p:nvPr/>
          </p:nvGraphicFramePr>
          <p:xfrm>
            <a:off x="1785600" y="1696680"/>
            <a:ext cx="340920" cy="303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32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785600" y="1696680"/>
                      <a:ext cx="340920" cy="30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3" name="组合 46"/>
          <p:cNvGrpSpPr/>
          <p:nvPr/>
        </p:nvGrpSpPr>
        <p:grpSpPr>
          <a:xfrm>
            <a:off x="1785600" y="2036880"/>
            <a:ext cx="4860360" cy="894960"/>
            <a:chOff x="1785600" y="2036880"/>
            <a:chExt cx="4860360" cy="894960"/>
          </a:xfrm>
        </p:grpSpPr>
        <p:grpSp>
          <p:nvGrpSpPr>
            <p:cNvPr id="134" name="组合 17"/>
            <p:cNvGrpSpPr/>
            <p:nvPr/>
          </p:nvGrpSpPr>
          <p:grpSpPr>
            <a:xfrm>
              <a:off x="1785600" y="2036880"/>
              <a:ext cx="4860360" cy="520560"/>
              <a:chOff x="1785600" y="2036880"/>
              <a:chExt cx="4860360" cy="520560"/>
            </a:xfrm>
          </p:grpSpPr>
          <p:sp>
            <p:nvSpPr>
              <p:cNvPr id="135" name="Rectangle 15"/>
              <p:cNvSpPr/>
              <p:nvPr/>
            </p:nvSpPr>
            <p:spPr>
              <a:xfrm>
                <a:off x="2208960" y="2036880"/>
                <a:ext cx="4437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4)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在    的某一点的有界邻域内有界；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136" name="Object 11"/>
              <p:cNvGraphicFramePr/>
              <p:nvPr/>
            </p:nvGraphicFramePr>
            <p:xfrm>
              <a:off x="2450520" y="2072520"/>
              <a:ext cx="508680" cy="35424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137" name="Object 11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2450520" y="2072520"/>
                        <a:ext cx="508680" cy="354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8" name="Object 12"/>
              <p:cNvGraphicFramePr/>
              <p:nvPr/>
            </p:nvGraphicFramePr>
            <p:xfrm>
              <a:off x="1785600" y="2126880"/>
              <a:ext cx="341280" cy="30240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139" name="Object 12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1785600" y="2126880"/>
                        <a:ext cx="341280" cy="302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40" name="组合 21"/>
            <p:cNvGrpSpPr/>
            <p:nvPr/>
          </p:nvGrpSpPr>
          <p:grpSpPr>
            <a:xfrm>
              <a:off x="2567520" y="2411280"/>
              <a:ext cx="3483000" cy="520560"/>
              <a:chOff x="2567520" y="2411280"/>
              <a:chExt cx="3483000" cy="520560"/>
            </a:xfrm>
          </p:grpSpPr>
          <p:sp>
            <p:nvSpPr>
              <p:cNvPr id="141" name="Rectangle 15"/>
              <p:cNvSpPr/>
              <p:nvPr/>
            </p:nvSpPr>
            <p:spPr>
              <a:xfrm>
                <a:off x="2567520" y="2411280"/>
                <a:ext cx="348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特别地，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在    的单位球中有界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142" name="Object 13"/>
              <p:cNvGraphicFramePr/>
              <p:nvPr/>
            </p:nvGraphicFramePr>
            <p:xfrm>
              <a:off x="3786480" y="2559240"/>
              <a:ext cx="428400" cy="29808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143" name="Object 13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3786480" y="2559240"/>
                        <a:ext cx="428400" cy="29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44" name="Object 14"/>
              <p:cNvGraphicFramePr/>
              <p:nvPr/>
            </p:nvGraphicFramePr>
            <p:xfrm>
              <a:off x="3071880" y="2554560"/>
              <a:ext cx="341280" cy="30240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145" name="Object 14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3071880" y="2554560"/>
                        <a:ext cx="341280" cy="302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46" name="组合 31"/>
          <p:cNvGrpSpPr/>
          <p:nvPr/>
        </p:nvGrpSpPr>
        <p:grpSpPr>
          <a:xfrm>
            <a:off x="1614240" y="2786040"/>
            <a:ext cx="5814360" cy="520560"/>
            <a:chOff x="1614240" y="2786040"/>
            <a:chExt cx="5814360" cy="520560"/>
          </a:xfrm>
        </p:grpSpPr>
        <p:grpSp>
          <p:nvGrpSpPr>
            <p:cNvPr id="147" name="组合 27"/>
            <p:cNvGrpSpPr/>
            <p:nvPr/>
          </p:nvGrpSpPr>
          <p:grpSpPr>
            <a:xfrm>
              <a:off x="1614240" y="2786040"/>
              <a:ext cx="5812200" cy="520560"/>
              <a:chOff x="1614240" y="2786040"/>
              <a:chExt cx="5812200" cy="520560"/>
            </a:xfrm>
          </p:grpSpPr>
          <p:sp>
            <p:nvSpPr>
              <p:cNvPr id="148" name="Rectangle 15"/>
              <p:cNvSpPr/>
              <p:nvPr/>
            </p:nvSpPr>
            <p:spPr>
              <a:xfrm>
                <a:off x="1614240" y="2786040"/>
                <a:ext cx="5812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5)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存在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使得                                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149" name="Object 15"/>
              <p:cNvGraphicFramePr/>
              <p:nvPr/>
            </p:nvGraphicFramePr>
            <p:xfrm>
              <a:off x="2364840" y="2914560"/>
              <a:ext cx="991800" cy="37188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150" name="Object 15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2364840" y="2914560"/>
                        <a:ext cx="991800" cy="371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51" name="Object 16"/>
            <p:cNvGraphicFramePr/>
            <p:nvPr/>
          </p:nvGraphicFramePr>
          <p:xfrm>
            <a:off x="4286160" y="2865960"/>
            <a:ext cx="3142440" cy="4215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52" name="Object 16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4286160" y="2865960"/>
                      <a:ext cx="3142440" cy="42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3" name="组合 37"/>
          <p:cNvGrpSpPr/>
          <p:nvPr/>
        </p:nvGrpSpPr>
        <p:grpSpPr>
          <a:xfrm>
            <a:off x="1712160" y="3160800"/>
            <a:ext cx="5856120" cy="947160"/>
            <a:chOff x="1712160" y="3160800"/>
            <a:chExt cx="5856120" cy="947160"/>
          </a:xfrm>
        </p:grpSpPr>
        <p:grpSp>
          <p:nvGrpSpPr>
            <p:cNvPr id="154" name="组合 32"/>
            <p:cNvGrpSpPr/>
            <p:nvPr/>
          </p:nvGrpSpPr>
          <p:grpSpPr>
            <a:xfrm>
              <a:off x="1712160" y="3160800"/>
              <a:ext cx="5856120" cy="947160"/>
              <a:chOff x="1712160" y="3160800"/>
              <a:chExt cx="5856120" cy="947160"/>
            </a:xfrm>
          </p:grpSpPr>
          <p:sp>
            <p:nvSpPr>
              <p:cNvPr id="155" name="Rectangle 15"/>
              <p:cNvSpPr/>
              <p:nvPr/>
            </p:nvSpPr>
            <p:spPr>
              <a:xfrm>
                <a:off x="1712160" y="3160800"/>
                <a:ext cx="58561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若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是    上的线性泛函，且         ，则以上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诸条件还等价于：      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156" name="Object 17"/>
              <p:cNvGraphicFramePr/>
              <p:nvPr/>
            </p:nvGraphicFramePr>
            <p:xfrm>
              <a:off x="1714320" y="3306960"/>
              <a:ext cx="896760" cy="335880"/>
            </p:xfrm>
            <a:graphic>
              <a:graphicData uri="http://schemas.openxmlformats.org/presentationml/2006/ole">
                <p:oleObj r:id="rId27" spid="">
                  <p:embed/>
                  <p:pic>
                    <p:nvPicPr>
                      <p:cNvPr id="157" name="Object 17" descr=""/>
                      <p:cNvPicPr/>
                      <p:nvPr/>
                    </p:nvPicPr>
                    <p:blipFill>
                      <a:blip r:embed="rId28"/>
                      <a:stretch/>
                    </p:blipFill>
                    <p:spPr>
                      <a:xfrm>
                        <a:off x="1714320" y="3306960"/>
                        <a:ext cx="896760" cy="335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58" name="Object 18"/>
            <p:cNvGraphicFramePr/>
            <p:nvPr/>
          </p:nvGraphicFramePr>
          <p:xfrm>
            <a:off x="2928960" y="3288600"/>
            <a:ext cx="406080" cy="282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159" name="Object 18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2928960" y="3288600"/>
                      <a:ext cx="406080" cy="28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0" name="Object 19"/>
            <p:cNvGraphicFramePr/>
            <p:nvPr/>
          </p:nvGraphicFramePr>
          <p:xfrm>
            <a:off x="6143760" y="3306960"/>
            <a:ext cx="839520" cy="3355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161" name="Object 19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143760" y="3306960"/>
                      <a:ext cx="83952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2" name="组合 42"/>
          <p:cNvGrpSpPr/>
          <p:nvPr/>
        </p:nvGrpSpPr>
        <p:grpSpPr>
          <a:xfrm>
            <a:off x="1630080" y="3857760"/>
            <a:ext cx="5488560" cy="520560"/>
            <a:chOff x="1630080" y="3857760"/>
            <a:chExt cx="5488560" cy="520560"/>
          </a:xfrm>
        </p:grpSpPr>
        <p:grpSp>
          <p:nvGrpSpPr>
            <p:cNvPr id="163" name="组合 38"/>
            <p:cNvGrpSpPr/>
            <p:nvPr/>
          </p:nvGrpSpPr>
          <p:grpSpPr>
            <a:xfrm>
              <a:off x="1630080" y="3857760"/>
              <a:ext cx="5488560" cy="520560"/>
              <a:chOff x="1630080" y="3857760"/>
              <a:chExt cx="5488560" cy="520560"/>
            </a:xfrm>
          </p:grpSpPr>
          <p:sp>
            <p:nvSpPr>
              <p:cNvPr id="164" name="Rectangle 15"/>
              <p:cNvSpPr/>
              <p:nvPr/>
            </p:nvSpPr>
            <p:spPr>
              <a:xfrm>
                <a:off x="1630080" y="3857760"/>
                <a:ext cx="5488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6)                            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是    中闭集；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165" name="Object 20"/>
              <p:cNvGraphicFramePr/>
              <p:nvPr/>
            </p:nvGraphicFramePr>
            <p:xfrm>
              <a:off x="1785960" y="3955320"/>
              <a:ext cx="3429360" cy="402840"/>
            </p:xfrm>
            <a:graphic>
              <a:graphicData uri="http://schemas.openxmlformats.org/presentationml/2006/ole">
                <p:oleObj r:id="rId33" spid="">
                  <p:embed/>
                  <p:pic>
                    <p:nvPicPr>
                      <p:cNvPr id="166" name="Object 20" descr=""/>
                      <p:cNvPicPr/>
                      <p:nvPr/>
                    </p:nvPicPr>
                    <p:blipFill>
                      <a:blip r:embed="rId34"/>
                      <a:stretch/>
                    </p:blipFill>
                    <p:spPr>
                      <a:xfrm>
                        <a:off x="1785960" y="3955320"/>
                        <a:ext cx="3429360" cy="402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67" name="Object 21"/>
            <p:cNvGraphicFramePr/>
            <p:nvPr/>
          </p:nvGraphicFramePr>
          <p:xfrm>
            <a:off x="5501160" y="3929040"/>
            <a:ext cx="512280" cy="3574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168" name="Object 21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5501160" y="3929040"/>
                      <a:ext cx="51228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9" name="组合 43"/>
          <p:cNvGrpSpPr/>
          <p:nvPr/>
        </p:nvGrpSpPr>
        <p:grpSpPr>
          <a:xfrm>
            <a:off x="1582920" y="4340160"/>
            <a:ext cx="3196440" cy="520560"/>
            <a:chOff x="1582920" y="4340160"/>
            <a:chExt cx="3196440" cy="520560"/>
          </a:xfrm>
        </p:grpSpPr>
        <p:grpSp>
          <p:nvGrpSpPr>
            <p:cNvPr id="170" name="组合 38"/>
            <p:cNvGrpSpPr/>
            <p:nvPr/>
          </p:nvGrpSpPr>
          <p:grpSpPr>
            <a:xfrm>
              <a:off x="1582920" y="4340160"/>
              <a:ext cx="3196440" cy="520560"/>
              <a:chOff x="1582920" y="4340160"/>
              <a:chExt cx="3196440" cy="520560"/>
            </a:xfrm>
          </p:grpSpPr>
          <p:sp>
            <p:nvSpPr>
              <p:cNvPr id="171" name="Rectangle 15"/>
              <p:cNvSpPr/>
              <p:nvPr/>
            </p:nvSpPr>
            <p:spPr>
              <a:xfrm>
                <a:off x="1582920" y="4340160"/>
                <a:ext cx="3196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7)   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不在    中稠密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172" name="Object 22"/>
              <p:cNvGraphicFramePr/>
              <p:nvPr/>
            </p:nvGraphicFramePr>
            <p:xfrm>
              <a:off x="1857240" y="4464360"/>
              <a:ext cx="829800" cy="321480"/>
            </p:xfrm>
            <a:graphic>
              <a:graphicData uri="http://schemas.openxmlformats.org/presentationml/2006/ole">
                <p:oleObj r:id="rId37" spid="">
                  <p:embed/>
                  <p:pic>
                    <p:nvPicPr>
                      <p:cNvPr id="173" name="Object 22" descr=""/>
                      <p:cNvPicPr/>
                      <p:nvPr/>
                    </p:nvPicPr>
                    <p:blipFill>
                      <a:blip r:embed="rId38"/>
                      <a:stretch/>
                    </p:blipFill>
                    <p:spPr>
                      <a:xfrm>
                        <a:off x="1857240" y="4464360"/>
                        <a:ext cx="829800" cy="321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74" name="Object 23"/>
            <p:cNvGraphicFramePr/>
            <p:nvPr/>
          </p:nvGraphicFramePr>
          <p:xfrm>
            <a:off x="3357000" y="4429080"/>
            <a:ext cx="508680" cy="354240"/>
          </p:xfrm>
          <a:graphic>
            <a:graphicData uri="http://schemas.openxmlformats.org/presentationml/2006/ole">
              <p:oleObj r:id="rId39" spid="">
                <p:embed/>
                <p:pic>
                  <p:nvPicPr>
                    <p:cNvPr id="175" name="Object 23" descr=""/>
                    <p:cNvPicPr/>
                    <p:nvPr/>
                  </p:nvPicPr>
                  <p:blipFill>
                    <a:blip r:embed="rId40"/>
                    <a:stretch/>
                  </p:blipFill>
                  <p:spPr>
                    <a:xfrm>
                      <a:off x="3357000" y="4429080"/>
                      <a:ext cx="50868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3"/>
          <p:cNvSpPr/>
          <p:nvPr/>
        </p:nvSpPr>
        <p:spPr>
          <a:xfrm>
            <a:off x="500040" y="482760"/>
            <a:ext cx="12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77" name="Object 5"/>
          <p:cNvGraphicFramePr/>
          <p:nvPr/>
        </p:nvGraphicFramePr>
        <p:xfrm>
          <a:off x="928800" y="1071720"/>
          <a:ext cx="1379520" cy="33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1071720"/>
                    <a:ext cx="1379520" cy="33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9" name="组合 13"/>
          <p:cNvGrpSpPr/>
          <p:nvPr/>
        </p:nvGrpSpPr>
        <p:grpSpPr>
          <a:xfrm>
            <a:off x="2432160" y="928800"/>
            <a:ext cx="6283080" cy="564480"/>
            <a:chOff x="2432160" y="928800"/>
            <a:chExt cx="6283080" cy="564480"/>
          </a:xfrm>
        </p:grpSpPr>
        <p:grpSp>
          <p:nvGrpSpPr>
            <p:cNvPr id="180" name="组合 25"/>
            <p:cNvGrpSpPr/>
            <p:nvPr/>
          </p:nvGrpSpPr>
          <p:grpSpPr>
            <a:xfrm>
              <a:off x="2432160" y="928800"/>
              <a:ext cx="4978440" cy="564480"/>
              <a:chOff x="2432160" y="928800"/>
              <a:chExt cx="4978440" cy="564480"/>
            </a:xfrm>
          </p:grpSpPr>
          <p:sp>
            <p:nvSpPr>
              <p:cNvPr id="181" name="Rectangle 15"/>
              <p:cNvSpPr/>
              <p:nvPr/>
            </p:nvSpPr>
            <p:spPr>
              <a:xfrm>
                <a:off x="2619720" y="972720"/>
                <a:ext cx="479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在某一点    连续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,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即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          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182" name="Object 28"/>
              <p:cNvGraphicFramePr/>
              <p:nvPr/>
            </p:nvGraphicFramePr>
            <p:xfrm>
              <a:off x="2432160" y="1072440"/>
              <a:ext cx="343440" cy="3049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83" name="Object 2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432160" y="1072440"/>
                        <a:ext cx="343440" cy="304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Object 33"/>
              <p:cNvGraphicFramePr/>
              <p:nvPr/>
            </p:nvGraphicFramePr>
            <p:xfrm>
              <a:off x="4071960" y="928800"/>
              <a:ext cx="540360" cy="562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85" name="Object 33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071960" y="928800"/>
                        <a:ext cx="540360" cy="562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86" name="Object 8"/>
            <p:cNvGraphicFramePr/>
            <p:nvPr/>
          </p:nvGraphicFramePr>
          <p:xfrm>
            <a:off x="5810760" y="1054440"/>
            <a:ext cx="2904480" cy="37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7" name="Object 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810760" y="1054440"/>
                      <a:ext cx="2904480" cy="37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8" name="组合 13"/>
          <p:cNvGrpSpPr/>
          <p:nvPr/>
        </p:nvGrpSpPr>
        <p:grpSpPr>
          <a:xfrm>
            <a:off x="1928520" y="1500120"/>
            <a:ext cx="4929840" cy="520560"/>
            <a:chOff x="1928520" y="1500120"/>
            <a:chExt cx="4929840" cy="520560"/>
          </a:xfrm>
        </p:grpSpPr>
        <p:grpSp>
          <p:nvGrpSpPr>
            <p:cNvPr id="189" name="组合 26"/>
            <p:cNvGrpSpPr/>
            <p:nvPr/>
          </p:nvGrpSpPr>
          <p:grpSpPr>
            <a:xfrm>
              <a:off x="1928520" y="1500120"/>
              <a:ext cx="3879000" cy="520560"/>
              <a:chOff x="1928520" y="1500120"/>
              <a:chExt cx="3879000" cy="520560"/>
            </a:xfrm>
          </p:grpSpPr>
          <p:sp>
            <p:nvSpPr>
              <p:cNvPr id="190" name="Rectangle 15"/>
              <p:cNvSpPr/>
              <p:nvPr/>
            </p:nvSpPr>
            <p:spPr>
              <a:xfrm>
                <a:off x="2734560" y="1500120"/>
                <a:ext cx="3072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若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为任一点，并且           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191" name="Object 6"/>
              <p:cNvGraphicFramePr/>
              <p:nvPr/>
            </p:nvGraphicFramePr>
            <p:xfrm>
              <a:off x="1928520" y="1628280"/>
              <a:ext cx="992160" cy="3726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92" name="Object 6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1928520" y="1628280"/>
                        <a:ext cx="992160" cy="372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93" name="Object 10"/>
            <p:cNvGraphicFramePr/>
            <p:nvPr/>
          </p:nvGraphicFramePr>
          <p:xfrm>
            <a:off x="5429520" y="1500120"/>
            <a:ext cx="1428840" cy="4586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94" name="Object 1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429520" y="1500120"/>
                      <a:ext cx="1428840" cy="45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5" name="组合 26"/>
          <p:cNvGrpSpPr/>
          <p:nvPr/>
        </p:nvGrpSpPr>
        <p:grpSpPr>
          <a:xfrm>
            <a:off x="1928880" y="2619360"/>
            <a:ext cx="5076720" cy="523800"/>
            <a:chOff x="1928880" y="2619360"/>
            <a:chExt cx="5076720" cy="523800"/>
          </a:xfrm>
        </p:grpSpPr>
        <p:sp>
          <p:nvSpPr>
            <p:cNvPr id="196" name="Rectangle 15"/>
            <p:cNvSpPr/>
            <p:nvPr/>
          </p:nvSpPr>
          <p:spPr>
            <a:xfrm>
              <a:off x="1928880" y="2619360"/>
              <a:ext cx="46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从而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   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97" name="Object 16"/>
            <p:cNvGraphicFramePr/>
            <p:nvPr/>
          </p:nvGraphicFramePr>
          <p:xfrm>
            <a:off x="2571480" y="2724840"/>
            <a:ext cx="4434120" cy="4183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98" name="Object 16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571480" y="2724840"/>
                      <a:ext cx="4434120" cy="41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9" name="组合 29"/>
          <p:cNvGrpSpPr/>
          <p:nvPr/>
        </p:nvGrpSpPr>
        <p:grpSpPr>
          <a:xfrm>
            <a:off x="1938240" y="2149560"/>
            <a:ext cx="4991040" cy="531720"/>
            <a:chOff x="1938240" y="2149560"/>
            <a:chExt cx="4991040" cy="531720"/>
          </a:xfrm>
        </p:grpSpPr>
        <p:grpSp>
          <p:nvGrpSpPr>
            <p:cNvPr id="200" name="组合 26"/>
            <p:cNvGrpSpPr/>
            <p:nvPr/>
          </p:nvGrpSpPr>
          <p:grpSpPr>
            <a:xfrm>
              <a:off x="1938240" y="2149560"/>
              <a:ext cx="4604760" cy="520560"/>
              <a:chOff x="1938240" y="2149560"/>
              <a:chExt cx="4604760" cy="520560"/>
            </a:xfrm>
          </p:grpSpPr>
          <p:sp>
            <p:nvSpPr>
              <p:cNvPr id="201" name="Rectangle 15"/>
              <p:cNvSpPr/>
              <p:nvPr/>
            </p:nvSpPr>
            <p:spPr>
              <a:xfrm>
                <a:off x="1938240" y="2149560"/>
                <a:ext cx="4604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令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           则           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202" name="Object 20"/>
              <p:cNvGraphicFramePr/>
              <p:nvPr/>
            </p:nvGraphicFramePr>
            <p:xfrm>
              <a:off x="2357280" y="2224440"/>
              <a:ext cx="2571480" cy="43920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203" name="Object 20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2357280" y="2224440"/>
                        <a:ext cx="2571480" cy="439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04" name="Object 21"/>
            <p:cNvGraphicFramePr/>
            <p:nvPr/>
          </p:nvGraphicFramePr>
          <p:xfrm>
            <a:off x="5438880" y="2224440"/>
            <a:ext cx="1490400" cy="456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05" name="Object 21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438880" y="2224440"/>
                      <a:ext cx="1490400" cy="45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6" name="组合 30"/>
          <p:cNvGrpSpPr/>
          <p:nvPr/>
        </p:nvGrpSpPr>
        <p:grpSpPr>
          <a:xfrm>
            <a:off x="1714680" y="3108240"/>
            <a:ext cx="7985160" cy="1175040"/>
            <a:chOff x="1714680" y="3108240"/>
            <a:chExt cx="7985160" cy="1175040"/>
          </a:xfrm>
        </p:grpSpPr>
        <p:graphicFrame>
          <p:nvGraphicFramePr>
            <p:cNvPr id="207" name="Object 22"/>
            <p:cNvGraphicFramePr/>
            <p:nvPr/>
          </p:nvGraphicFramePr>
          <p:xfrm>
            <a:off x="1857240" y="3198600"/>
            <a:ext cx="341280" cy="3016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08" name="Object 22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1857240" y="3198600"/>
                      <a:ext cx="341280" cy="30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09" name="组合 29"/>
            <p:cNvGrpSpPr/>
            <p:nvPr/>
          </p:nvGrpSpPr>
          <p:grpSpPr>
            <a:xfrm>
              <a:off x="1714680" y="3108240"/>
              <a:ext cx="7985160" cy="1175040"/>
              <a:chOff x="1714680" y="3108240"/>
              <a:chExt cx="7985160" cy="1175040"/>
            </a:xfrm>
          </p:grpSpPr>
          <p:sp>
            <p:nvSpPr>
              <p:cNvPr id="210" name="Rectangle 15"/>
              <p:cNvSpPr/>
              <p:nvPr/>
            </p:nvSpPr>
            <p:spPr>
              <a:xfrm>
                <a:off x="2233440" y="3108240"/>
                <a:ext cx="3033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是线性的，故         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211" name="组合 39"/>
              <p:cNvGrpSpPr/>
              <p:nvPr/>
            </p:nvGrpSpPr>
            <p:grpSpPr>
              <a:xfrm>
                <a:off x="1714680" y="3762720"/>
                <a:ext cx="7985160" cy="520560"/>
                <a:chOff x="1714680" y="3762720"/>
                <a:chExt cx="7985160" cy="520560"/>
              </a:xfrm>
            </p:grpSpPr>
            <p:graphicFrame>
              <p:nvGraphicFramePr>
                <p:cNvPr id="212" name="Object 23"/>
                <p:cNvGraphicFramePr/>
                <p:nvPr/>
              </p:nvGraphicFramePr>
              <p:xfrm>
                <a:off x="1714680" y="3857400"/>
                <a:ext cx="2928600" cy="403920"/>
              </p:xfrm>
              <a:graphic>
                <a:graphicData uri="http://schemas.openxmlformats.org/presentationml/2006/ole">
                  <p:oleObj r:id="rId21" spid="">
                    <p:embed/>
                    <p:pic>
                      <p:nvPicPr>
                        <p:cNvPr id="213" name="Object 23" descr=""/>
                        <p:cNvPicPr/>
                        <p:nvPr/>
                      </p:nvPicPr>
                      <p:blipFill>
                        <a:blip r:embed="rId22"/>
                        <a:stretch/>
                      </p:blipFill>
                      <p:spPr>
                        <a:xfrm>
                          <a:off x="1714680" y="3857400"/>
                          <a:ext cx="2928600" cy="403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pSp>
              <p:nvGrpSpPr>
                <p:cNvPr id="214" name="组合 26"/>
                <p:cNvGrpSpPr/>
                <p:nvPr/>
              </p:nvGrpSpPr>
              <p:grpSpPr>
                <a:xfrm>
                  <a:off x="2127960" y="3762720"/>
                  <a:ext cx="7571880" cy="520560"/>
                  <a:chOff x="2127960" y="3762720"/>
                  <a:chExt cx="7571880" cy="520560"/>
                </a:xfrm>
              </p:grpSpPr>
              <p:sp>
                <p:nvSpPr>
                  <p:cNvPr id="215" name="Rectangle 15"/>
                  <p:cNvSpPr/>
                  <p:nvPr/>
                </p:nvSpPr>
                <p:spPr>
                  <a:xfrm>
                    <a:off x="2127960" y="3762720"/>
                    <a:ext cx="75718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                     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可得      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                            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216" name="Object 24"/>
                  <p:cNvGraphicFramePr/>
                  <p:nvPr/>
                </p:nvGraphicFramePr>
                <p:xfrm>
                  <a:off x="6000480" y="3857400"/>
                  <a:ext cx="1428480" cy="389880"/>
                </p:xfrm>
                <a:graphic>
                  <a:graphicData uri="http://schemas.openxmlformats.org/presentationml/2006/ole">
                    <p:oleObj r:id="rId23" spid="">
                      <p:embed/>
                      <p:pic>
                        <p:nvPicPr>
                          <p:cNvPr id="217" name="Object 24" descr=""/>
                          <p:cNvPicPr/>
                          <p:nvPr/>
                        </p:nvPicPr>
                        <p:blipFill>
                          <a:blip r:embed="rId24"/>
                          <a:stretch/>
                        </p:blipFill>
                        <p:spPr>
                          <a:xfrm>
                            <a:off x="6000480" y="3857400"/>
                            <a:ext cx="1428480" cy="38988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</p:grpSp>
        </p:grpSp>
      </p:grpSp>
    </p:spTree>
  </p:cSld>
  <p:transition spd="slow">
    <p:randomBar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Object 5"/>
          <p:cNvGraphicFramePr/>
          <p:nvPr/>
        </p:nvGraphicFramePr>
        <p:xfrm>
          <a:off x="357120" y="642960"/>
          <a:ext cx="1435320" cy="3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642960"/>
                    <a:ext cx="143532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0" name="组合 27"/>
          <p:cNvGrpSpPr/>
          <p:nvPr/>
        </p:nvGrpSpPr>
        <p:grpSpPr>
          <a:xfrm>
            <a:off x="2382480" y="571680"/>
            <a:ext cx="5304240" cy="1126800"/>
            <a:chOff x="2382480" y="571680"/>
            <a:chExt cx="5304240" cy="1126800"/>
          </a:xfrm>
        </p:grpSpPr>
        <p:grpSp>
          <p:nvGrpSpPr>
            <p:cNvPr id="221" name="组合 26"/>
            <p:cNvGrpSpPr/>
            <p:nvPr/>
          </p:nvGrpSpPr>
          <p:grpSpPr>
            <a:xfrm>
              <a:off x="2890800" y="571680"/>
              <a:ext cx="2992320" cy="520560"/>
              <a:chOff x="2890800" y="571680"/>
              <a:chExt cx="2992320" cy="520560"/>
            </a:xfrm>
          </p:grpSpPr>
          <p:sp>
            <p:nvSpPr>
              <p:cNvPr id="222" name="Rectangle 15"/>
              <p:cNvSpPr/>
              <p:nvPr/>
            </p:nvSpPr>
            <p:spPr>
              <a:xfrm>
                <a:off x="2890800" y="571680"/>
                <a:ext cx="2992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反证法：若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不是有界的，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223" name="Object 3"/>
              <p:cNvGraphicFramePr/>
              <p:nvPr/>
            </p:nvGraphicFramePr>
            <p:xfrm>
              <a:off x="4016160" y="696960"/>
              <a:ext cx="340920" cy="3031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24" name="Object 3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016160" y="696960"/>
                        <a:ext cx="340920" cy="30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225" name="组合 9"/>
            <p:cNvGrpSpPr/>
            <p:nvPr/>
          </p:nvGrpSpPr>
          <p:grpSpPr>
            <a:xfrm>
              <a:off x="2382480" y="1177920"/>
              <a:ext cx="5304240" cy="520560"/>
              <a:chOff x="2382480" y="1177920"/>
              <a:chExt cx="5304240" cy="520560"/>
            </a:xfrm>
          </p:grpSpPr>
          <p:sp>
            <p:nvSpPr>
              <p:cNvPr id="226" name="矩形 5"/>
              <p:cNvSpPr/>
              <p:nvPr/>
            </p:nvSpPr>
            <p:spPr>
              <a:xfrm>
                <a:off x="2382480" y="1177920"/>
                <a:ext cx="5304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则存在有界集           ，       在   中不是有界的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227" name="Object 4"/>
              <p:cNvGraphicFramePr/>
              <p:nvPr/>
            </p:nvGraphicFramePr>
            <p:xfrm>
              <a:off x="3500640" y="1268280"/>
              <a:ext cx="1117440" cy="30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28" name="Object 4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500640" y="1268280"/>
                        <a:ext cx="1117440" cy="30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29" name="Object 11"/>
              <p:cNvGraphicFramePr/>
              <p:nvPr/>
            </p:nvGraphicFramePr>
            <p:xfrm>
              <a:off x="4775400" y="1269720"/>
              <a:ext cx="868320" cy="3733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30" name="Object 11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775400" y="1269720"/>
                        <a:ext cx="868320" cy="373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31" name="Object 6"/>
              <p:cNvGraphicFramePr/>
              <p:nvPr/>
            </p:nvGraphicFramePr>
            <p:xfrm>
              <a:off x="6000840" y="1267920"/>
              <a:ext cx="428400" cy="3808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32" name="Object 6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6000840" y="1267920"/>
                        <a:ext cx="428400" cy="380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233" name="组合 26"/>
          <p:cNvGrpSpPr/>
          <p:nvPr/>
        </p:nvGrpSpPr>
        <p:grpSpPr>
          <a:xfrm>
            <a:off x="1784880" y="1768320"/>
            <a:ext cx="4391280" cy="520560"/>
            <a:chOff x="1784880" y="1768320"/>
            <a:chExt cx="4391280" cy="520560"/>
          </a:xfrm>
        </p:grpSpPr>
        <p:sp>
          <p:nvSpPr>
            <p:cNvPr id="234" name="Rectangle 15"/>
            <p:cNvSpPr/>
            <p:nvPr/>
          </p:nvSpPr>
          <p:spPr>
            <a:xfrm>
              <a:off x="1784880" y="1768320"/>
              <a:ext cx="439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即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   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35" name="Object 7"/>
            <p:cNvGraphicFramePr/>
            <p:nvPr/>
          </p:nvGraphicFramePr>
          <p:xfrm>
            <a:off x="2357640" y="1821600"/>
            <a:ext cx="3628080" cy="4636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36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357640" y="1821600"/>
                      <a:ext cx="3628080" cy="46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7" name="组合 28"/>
          <p:cNvGrpSpPr/>
          <p:nvPr/>
        </p:nvGrpSpPr>
        <p:grpSpPr>
          <a:xfrm>
            <a:off x="2003040" y="2154240"/>
            <a:ext cx="5031720" cy="1417680"/>
            <a:chOff x="2003040" y="2154240"/>
            <a:chExt cx="5031720" cy="1417680"/>
          </a:xfrm>
        </p:grpSpPr>
        <p:grpSp>
          <p:nvGrpSpPr>
            <p:cNvPr id="238" name="组合 26"/>
            <p:cNvGrpSpPr/>
            <p:nvPr/>
          </p:nvGrpSpPr>
          <p:grpSpPr>
            <a:xfrm>
              <a:off x="2003040" y="2303280"/>
              <a:ext cx="5031720" cy="520560"/>
              <a:chOff x="2003040" y="2303280"/>
              <a:chExt cx="5031720" cy="520560"/>
            </a:xfrm>
          </p:grpSpPr>
          <p:sp>
            <p:nvSpPr>
              <p:cNvPr id="239" name="Rectangle 15"/>
              <p:cNvSpPr/>
              <p:nvPr/>
            </p:nvSpPr>
            <p:spPr>
              <a:xfrm>
                <a:off x="2003040" y="2303280"/>
                <a:ext cx="503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不妨设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取                      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240" name="Object 8"/>
              <p:cNvGraphicFramePr/>
              <p:nvPr/>
            </p:nvGraphicFramePr>
            <p:xfrm>
              <a:off x="2643120" y="2320920"/>
              <a:ext cx="1674720" cy="46512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241" name="Object 8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2643120" y="2320920"/>
                        <a:ext cx="1674720" cy="465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42" name="Object 9"/>
            <p:cNvGraphicFramePr/>
            <p:nvPr/>
          </p:nvGraphicFramePr>
          <p:xfrm>
            <a:off x="4816440" y="2154240"/>
            <a:ext cx="1612800" cy="7653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43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816440" y="2154240"/>
                      <a:ext cx="1612800" cy="76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44" name="组合 26"/>
            <p:cNvGrpSpPr/>
            <p:nvPr/>
          </p:nvGrpSpPr>
          <p:grpSpPr>
            <a:xfrm>
              <a:off x="2070720" y="2806560"/>
              <a:ext cx="4449960" cy="765360"/>
              <a:chOff x="2070720" y="2806560"/>
              <a:chExt cx="4449960" cy="765360"/>
            </a:xfrm>
          </p:grpSpPr>
          <p:sp>
            <p:nvSpPr>
              <p:cNvPr id="245" name="Rectangle 15"/>
              <p:cNvSpPr/>
              <p:nvPr/>
            </p:nvSpPr>
            <p:spPr>
              <a:xfrm>
                <a:off x="2070720" y="2918160"/>
                <a:ext cx="4391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则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                      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246" name="Object 10"/>
              <p:cNvGraphicFramePr/>
              <p:nvPr/>
            </p:nvGraphicFramePr>
            <p:xfrm>
              <a:off x="2395440" y="2806560"/>
              <a:ext cx="4125240" cy="76536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247" name="Object 10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2395440" y="2806560"/>
                        <a:ext cx="4125240" cy="765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248" name="组合 26"/>
          <p:cNvGrpSpPr/>
          <p:nvPr/>
        </p:nvGrpSpPr>
        <p:grpSpPr>
          <a:xfrm>
            <a:off x="1927800" y="3521160"/>
            <a:ext cx="5832000" cy="765000"/>
            <a:chOff x="1927800" y="3521160"/>
            <a:chExt cx="5832000" cy="765000"/>
          </a:xfrm>
        </p:grpSpPr>
        <p:sp>
          <p:nvSpPr>
            <p:cNvPr id="249" name="Rectangle 15"/>
            <p:cNvSpPr/>
            <p:nvPr/>
          </p:nvSpPr>
          <p:spPr>
            <a:xfrm>
              <a:off x="1927800" y="3576960"/>
              <a:ext cx="439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但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   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50" name="Object 11"/>
            <p:cNvGraphicFramePr/>
            <p:nvPr/>
          </p:nvGraphicFramePr>
          <p:xfrm>
            <a:off x="2270160" y="3521160"/>
            <a:ext cx="5489640" cy="7650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51" name="Object 11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270160" y="3521160"/>
                      <a:ext cx="5489640" cy="76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52" name="组合 29"/>
          <p:cNvGrpSpPr/>
          <p:nvPr/>
        </p:nvGrpSpPr>
        <p:grpSpPr>
          <a:xfrm>
            <a:off x="2071800" y="4214880"/>
            <a:ext cx="4842720" cy="520560"/>
            <a:chOff x="2071800" y="4214880"/>
            <a:chExt cx="4842720" cy="520560"/>
          </a:xfrm>
        </p:grpSpPr>
        <p:grpSp>
          <p:nvGrpSpPr>
            <p:cNvPr id="253" name="组合 26"/>
            <p:cNvGrpSpPr/>
            <p:nvPr/>
          </p:nvGrpSpPr>
          <p:grpSpPr>
            <a:xfrm>
              <a:off x="2071800" y="4214880"/>
              <a:ext cx="4842720" cy="520560"/>
              <a:chOff x="2071800" y="4214880"/>
              <a:chExt cx="4842720" cy="520560"/>
            </a:xfrm>
          </p:grpSpPr>
          <p:sp>
            <p:nvSpPr>
              <p:cNvPr id="254" name="Rectangle 15"/>
              <p:cNvSpPr/>
              <p:nvPr/>
            </p:nvSpPr>
            <p:spPr>
              <a:xfrm>
                <a:off x="2294640" y="4214880"/>
                <a:ext cx="4619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则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在         不是连续的，与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(2)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矛盾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255" name="Object 12"/>
              <p:cNvGraphicFramePr/>
              <p:nvPr/>
            </p:nvGraphicFramePr>
            <p:xfrm>
              <a:off x="2071800" y="4287240"/>
              <a:ext cx="428400" cy="38124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256" name="Object 12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2071800" y="4287240"/>
                        <a:ext cx="428400" cy="38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57" name="Object 13"/>
            <p:cNvGraphicFramePr/>
            <p:nvPr/>
          </p:nvGraphicFramePr>
          <p:xfrm>
            <a:off x="2801880" y="4329360"/>
            <a:ext cx="983880" cy="3686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258" name="Object 13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801880" y="4329360"/>
                      <a:ext cx="983880" cy="36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Object 5"/>
          <p:cNvGraphicFramePr/>
          <p:nvPr/>
        </p:nvGraphicFramePr>
        <p:xfrm>
          <a:off x="928800" y="642960"/>
          <a:ext cx="1434960" cy="3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642960"/>
                    <a:ext cx="1434960" cy="339840"/>
                  </a:xfrm>
                  <a:prstGeom prst="rect">
                    <a:avLst/>
                  </a:prstGeom>
                  <a:ln cap="rnd" w="936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1" name="Object 3"/>
          <p:cNvGraphicFramePr/>
          <p:nvPr/>
        </p:nvGraphicFramePr>
        <p:xfrm>
          <a:off x="928800" y="1125360"/>
          <a:ext cx="1434960" cy="33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800" y="1125360"/>
                    <a:ext cx="1434960" cy="338400"/>
                  </a:xfrm>
                  <a:prstGeom prst="rect">
                    <a:avLst/>
                  </a:prstGeom>
                  <a:ln cap="rnd" w="936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</p:pic>
            </p:oleObj>
          </a:graphicData>
        </a:graphic>
      </p:graphicFrame>
      <p:sp>
        <p:nvSpPr>
          <p:cNvPr id="263" name="Rectangle 15"/>
          <p:cNvSpPr/>
          <p:nvPr/>
        </p:nvSpPr>
        <p:spPr>
          <a:xfrm>
            <a:off x="2822760" y="500040"/>
            <a:ext cx="121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显然成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64" name="组合 31"/>
          <p:cNvGrpSpPr/>
          <p:nvPr/>
        </p:nvGrpSpPr>
        <p:grpSpPr>
          <a:xfrm>
            <a:off x="1618560" y="1071720"/>
            <a:ext cx="7181280" cy="1003320"/>
            <a:chOff x="1618560" y="1071720"/>
            <a:chExt cx="7181280" cy="1003320"/>
          </a:xfrm>
        </p:grpSpPr>
        <p:grpSp>
          <p:nvGrpSpPr>
            <p:cNvPr id="265" name="组合 17"/>
            <p:cNvGrpSpPr/>
            <p:nvPr/>
          </p:nvGrpSpPr>
          <p:grpSpPr>
            <a:xfrm>
              <a:off x="2942280" y="1071720"/>
              <a:ext cx="5857560" cy="520560"/>
              <a:chOff x="2942280" y="1071720"/>
              <a:chExt cx="5857560" cy="520560"/>
            </a:xfrm>
          </p:grpSpPr>
          <p:sp>
            <p:nvSpPr>
              <p:cNvPr id="266" name="Rectangle 15"/>
              <p:cNvSpPr/>
              <p:nvPr/>
            </p:nvSpPr>
            <p:spPr>
              <a:xfrm>
                <a:off x="2942280" y="1071720"/>
                <a:ext cx="5857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不妨设   在                                          有界，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267" name="Object 11"/>
              <p:cNvGraphicFramePr/>
              <p:nvPr/>
            </p:nvGraphicFramePr>
            <p:xfrm>
              <a:off x="4071600" y="1092960"/>
              <a:ext cx="4286880" cy="4795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68" name="Object 11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071600" y="1092960"/>
                        <a:ext cx="4286880" cy="479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69" name="Object 18"/>
              <p:cNvGraphicFramePr/>
              <p:nvPr/>
            </p:nvGraphicFramePr>
            <p:xfrm>
              <a:off x="3428640" y="1125360"/>
              <a:ext cx="422640" cy="3758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70" name="Object 18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428640" y="1125360"/>
                        <a:ext cx="422640" cy="375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271" name="Rectangle 15"/>
            <p:cNvSpPr/>
            <p:nvPr/>
          </p:nvSpPr>
          <p:spPr>
            <a:xfrm>
              <a:off x="1618560" y="1554480"/>
              <a:ext cx="246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其中   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72" name="Object 7"/>
            <p:cNvGraphicFramePr/>
            <p:nvPr/>
          </p:nvGraphicFramePr>
          <p:xfrm>
            <a:off x="2190600" y="1629360"/>
            <a:ext cx="1881000" cy="385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73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190600" y="1629360"/>
                      <a:ext cx="1881000" cy="38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74" name="组合 25"/>
          <p:cNvGrpSpPr/>
          <p:nvPr/>
        </p:nvGrpSpPr>
        <p:grpSpPr>
          <a:xfrm>
            <a:off x="642960" y="2786040"/>
            <a:ext cx="7171920" cy="947160"/>
            <a:chOff x="642960" y="2786040"/>
            <a:chExt cx="7171920" cy="947160"/>
          </a:xfrm>
        </p:grpSpPr>
        <p:grpSp>
          <p:nvGrpSpPr>
            <p:cNvPr id="275" name="组合 26"/>
            <p:cNvGrpSpPr/>
            <p:nvPr/>
          </p:nvGrpSpPr>
          <p:grpSpPr>
            <a:xfrm>
              <a:off x="1785600" y="2786040"/>
              <a:ext cx="6029280" cy="947160"/>
              <a:chOff x="1785600" y="2786040"/>
              <a:chExt cx="6029280" cy="947160"/>
            </a:xfrm>
          </p:grpSpPr>
          <p:sp>
            <p:nvSpPr>
              <p:cNvPr id="276" name="Rectangle 15"/>
              <p:cNvSpPr/>
              <p:nvPr/>
            </p:nvSpPr>
            <p:spPr>
              <a:xfrm>
                <a:off x="2332080" y="2786040"/>
                <a:ext cx="54828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由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的线性，   在           上的有界性必导致它在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上的有界性，从而在          上的有界性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277" name="Object 15"/>
              <p:cNvGraphicFramePr/>
              <p:nvPr/>
            </p:nvGraphicFramePr>
            <p:xfrm>
              <a:off x="1785600" y="2911680"/>
              <a:ext cx="340920" cy="30276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278" name="Object 15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1785600" y="2911680"/>
                        <a:ext cx="340920" cy="30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79" name="Object 12"/>
            <p:cNvGraphicFramePr/>
            <p:nvPr/>
          </p:nvGraphicFramePr>
          <p:xfrm>
            <a:off x="3429000" y="2911680"/>
            <a:ext cx="340920" cy="3027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80" name="Object 12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429000" y="2911680"/>
                      <a:ext cx="340920" cy="30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1" name="Object 13"/>
            <p:cNvGraphicFramePr/>
            <p:nvPr/>
          </p:nvGraphicFramePr>
          <p:xfrm>
            <a:off x="4071960" y="2866680"/>
            <a:ext cx="1241280" cy="4190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82" name="Object 13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071960" y="2866680"/>
                      <a:ext cx="124128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3" name="Object 10"/>
            <p:cNvGraphicFramePr/>
            <p:nvPr/>
          </p:nvGraphicFramePr>
          <p:xfrm>
            <a:off x="642960" y="3295440"/>
            <a:ext cx="1861920" cy="419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84" name="Object 10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42960" y="3295440"/>
                      <a:ext cx="186192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5" name="Object 15"/>
            <p:cNvGraphicFramePr/>
            <p:nvPr/>
          </p:nvGraphicFramePr>
          <p:xfrm>
            <a:off x="5643360" y="3341880"/>
            <a:ext cx="1023840" cy="3726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86" name="Object 15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643360" y="3341880"/>
                      <a:ext cx="1023840" cy="37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7" name="组合 32"/>
          <p:cNvGrpSpPr/>
          <p:nvPr/>
        </p:nvGrpSpPr>
        <p:grpSpPr>
          <a:xfrm>
            <a:off x="1071360" y="3643200"/>
            <a:ext cx="6857280" cy="947160"/>
            <a:chOff x="1071360" y="3643200"/>
            <a:chExt cx="6857280" cy="947160"/>
          </a:xfrm>
        </p:grpSpPr>
        <p:grpSp>
          <p:nvGrpSpPr>
            <p:cNvPr id="288" name="组合 31"/>
            <p:cNvGrpSpPr/>
            <p:nvPr/>
          </p:nvGrpSpPr>
          <p:grpSpPr>
            <a:xfrm>
              <a:off x="1071360" y="3643200"/>
              <a:ext cx="6857280" cy="947160"/>
              <a:chOff x="1071360" y="3643200"/>
              <a:chExt cx="6857280" cy="947160"/>
            </a:xfrm>
          </p:grpSpPr>
          <p:sp>
            <p:nvSpPr>
              <p:cNvPr id="289" name="Rectangle 15"/>
              <p:cNvSpPr/>
              <p:nvPr/>
            </p:nvSpPr>
            <p:spPr>
              <a:xfrm>
                <a:off x="1869480" y="3643200"/>
                <a:ext cx="58179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以上论述也说明   在闭球          上有界与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在开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球          上有界等价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290" name="Object 17"/>
              <p:cNvGraphicFramePr/>
              <p:nvPr/>
            </p:nvGraphicFramePr>
            <p:xfrm>
              <a:off x="5285520" y="3770640"/>
              <a:ext cx="1023480" cy="37260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291" name="Object 17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5285520" y="3770640"/>
                        <a:ext cx="1023480" cy="372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92" name="Object 18"/>
              <p:cNvGraphicFramePr/>
              <p:nvPr/>
            </p:nvGraphicFramePr>
            <p:xfrm>
              <a:off x="7587720" y="3769200"/>
              <a:ext cx="340920" cy="30240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293" name="Object 18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7587720" y="3769200"/>
                        <a:ext cx="340920" cy="302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94" name="Object 19"/>
              <p:cNvGraphicFramePr/>
              <p:nvPr/>
            </p:nvGraphicFramePr>
            <p:xfrm>
              <a:off x="1071360" y="4199400"/>
              <a:ext cx="1085400" cy="372600"/>
            </p:xfrm>
            <a:graphic>
              <a:graphicData uri="http://schemas.openxmlformats.org/presentationml/2006/ole">
                <p:oleObj r:id="rId25" spid="">
                  <p:embed/>
                  <p:pic>
                    <p:nvPicPr>
                      <p:cNvPr id="295" name="Object 19" descr=""/>
                      <p:cNvPicPr/>
                      <p:nvPr/>
                    </p:nvPicPr>
                    <p:blipFill>
                      <a:blip r:embed="rId26"/>
                      <a:stretch/>
                    </p:blipFill>
                    <p:spPr>
                      <a:xfrm>
                        <a:off x="1071360" y="4199400"/>
                        <a:ext cx="1085400" cy="372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96" name="Object 16"/>
            <p:cNvGraphicFramePr/>
            <p:nvPr/>
          </p:nvGraphicFramePr>
          <p:xfrm>
            <a:off x="3857400" y="3768840"/>
            <a:ext cx="340920" cy="30276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297" name="Object 16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3857400" y="3768840"/>
                      <a:ext cx="340920" cy="30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98" name="组合 33"/>
          <p:cNvGrpSpPr/>
          <p:nvPr/>
        </p:nvGrpSpPr>
        <p:grpSpPr>
          <a:xfrm>
            <a:off x="1068120" y="1500120"/>
            <a:ext cx="7920360" cy="1214640"/>
            <a:chOff x="1068120" y="1500120"/>
            <a:chExt cx="7920360" cy="1214640"/>
          </a:xfrm>
        </p:grpSpPr>
        <p:graphicFrame>
          <p:nvGraphicFramePr>
            <p:cNvPr id="299" name="Object 8"/>
            <p:cNvGraphicFramePr/>
            <p:nvPr/>
          </p:nvGraphicFramePr>
          <p:xfrm>
            <a:off x="5643720" y="1643040"/>
            <a:ext cx="3071520" cy="37764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300" name="Object 8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5643720" y="1643040"/>
                      <a:ext cx="3071520" cy="37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01" name="组合 16"/>
            <p:cNvGrpSpPr/>
            <p:nvPr/>
          </p:nvGrpSpPr>
          <p:grpSpPr>
            <a:xfrm>
              <a:off x="1068120" y="2075040"/>
              <a:ext cx="7920360" cy="639720"/>
              <a:chOff x="1068120" y="2075040"/>
              <a:chExt cx="7920360" cy="639720"/>
            </a:xfrm>
          </p:grpSpPr>
          <p:sp>
            <p:nvSpPr>
              <p:cNvPr id="302" name="Rectangle 15"/>
              <p:cNvSpPr/>
              <p:nvPr/>
            </p:nvSpPr>
            <p:spPr>
              <a:xfrm>
                <a:off x="1068120" y="2142720"/>
                <a:ext cx="4845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其中                                   或者  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303" name="Object 9"/>
              <p:cNvGraphicFramePr/>
              <p:nvPr/>
            </p:nvGraphicFramePr>
            <p:xfrm>
              <a:off x="1428480" y="2189160"/>
              <a:ext cx="3371760" cy="453960"/>
            </p:xfrm>
            <a:graphic>
              <a:graphicData uri="http://schemas.openxmlformats.org/presentationml/2006/ole">
                <p:oleObj r:id="rId31" spid="">
                  <p:embed/>
                  <p:pic>
                    <p:nvPicPr>
                      <p:cNvPr id="304" name="Object 9" descr=""/>
                      <p:cNvPicPr/>
                      <p:nvPr/>
                    </p:nvPicPr>
                    <p:blipFill>
                      <a:blip r:embed="rId32"/>
                      <a:stretch/>
                    </p:blipFill>
                    <p:spPr>
                      <a:xfrm>
                        <a:off x="1428480" y="2189160"/>
                        <a:ext cx="3371760" cy="453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05" name="Object 14"/>
              <p:cNvGraphicFramePr/>
              <p:nvPr/>
            </p:nvGraphicFramePr>
            <p:xfrm>
              <a:off x="5643720" y="2075040"/>
              <a:ext cx="3344760" cy="639720"/>
            </p:xfrm>
            <a:graphic>
              <a:graphicData uri="http://schemas.openxmlformats.org/presentationml/2006/ole">
                <p:oleObj r:id="rId33" spid="">
                  <p:embed/>
                  <p:pic>
                    <p:nvPicPr>
                      <p:cNvPr id="306" name="Object 14" descr=""/>
                      <p:cNvPicPr/>
                      <p:nvPr/>
                    </p:nvPicPr>
                    <p:blipFill>
                      <a:blip r:embed="rId34"/>
                      <a:stretch/>
                    </p:blipFill>
                    <p:spPr>
                      <a:xfrm>
                        <a:off x="5643720" y="2075040"/>
                        <a:ext cx="3344760" cy="639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07" name="Rectangle 15"/>
            <p:cNvSpPr/>
            <p:nvPr/>
          </p:nvSpPr>
          <p:spPr>
            <a:xfrm>
              <a:off x="4649400" y="15001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注意到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组合 4"/>
          <p:cNvGrpSpPr/>
          <p:nvPr/>
        </p:nvGrpSpPr>
        <p:grpSpPr>
          <a:xfrm>
            <a:off x="2076120" y="588960"/>
            <a:ext cx="6212160" cy="696960"/>
            <a:chOff x="2076120" y="588960"/>
            <a:chExt cx="6212160" cy="696960"/>
          </a:xfrm>
        </p:grpSpPr>
        <p:sp>
          <p:nvSpPr>
            <p:cNvPr id="309" name="Rectangle 15"/>
            <p:cNvSpPr/>
            <p:nvPr/>
          </p:nvSpPr>
          <p:spPr>
            <a:xfrm>
              <a:off x="2076120" y="588960"/>
              <a:ext cx="463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为证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5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，假设在          上，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10" name="Object 2"/>
            <p:cNvGraphicFramePr/>
            <p:nvPr/>
          </p:nvGraphicFramePr>
          <p:xfrm>
            <a:off x="4143240" y="698400"/>
            <a:ext cx="1023840" cy="372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1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43240" y="698400"/>
                      <a:ext cx="1023840" cy="37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2" name="Object 3"/>
            <p:cNvGraphicFramePr/>
            <p:nvPr/>
          </p:nvGraphicFramePr>
          <p:xfrm>
            <a:off x="5715000" y="655560"/>
            <a:ext cx="2573280" cy="630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3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15000" y="655560"/>
                      <a:ext cx="2573280" cy="63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14" name="组合 10"/>
          <p:cNvGrpSpPr/>
          <p:nvPr/>
        </p:nvGrpSpPr>
        <p:grpSpPr>
          <a:xfrm>
            <a:off x="1571760" y="1135080"/>
            <a:ext cx="5794200" cy="722160"/>
            <a:chOff x="1571760" y="1135080"/>
            <a:chExt cx="5794200" cy="722160"/>
          </a:xfrm>
        </p:grpSpPr>
        <p:grpSp>
          <p:nvGrpSpPr>
            <p:cNvPr id="315" name="组合 5"/>
            <p:cNvGrpSpPr/>
            <p:nvPr/>
          </p:nvGrpSpPr>
          <p:grpSpPr>
            <a:xfrm>
              <a:off x="1571760" y="1135080"/>
              <a:ext cx="5794200" cy="722160"/>
              <a:chOff x="1571760" y="1135080"/>
              <a:chExt cx="5794200" cy="722160"/>
            </a:xfrm>
          </p:grpSpPr>
          <p:sp>
            <p:nvSpPr>
              <p:cNvPr id="316" name="Rectangle 15"/>
              <p:cNvSpPr/>
              <p:nvPr/>
            </p:nvSpPr>
            <p:spPr>
              <a:xfrm>
                <a:off x="1969920" y="1205280"/>
                <a:ext cx="5396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若          则                   从而  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317" name="Object 4"/>
              <p:cNvGraphicFramePr/>
              <p:nvPr/>
            </p:nvGraphicFramePr>
            <p:xfrm>
              <a:off x="1571760" y="1313280"/>
              <a:ext cx="1285920" cy="3682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18" name="Object 4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571760" y="1313280"/>
                        <a:ext cx="1285920" cy="368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19" name="Object 5"/>
              <p:cNvGraphicFramePr/>
              <p:nvPr/>
            </p:nvGraphicFramePr>
            <p:xfrm>
              <a:off x="4500720" y="1135080"/>
              <a:ext cx="1727280" cy="7221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20" name="Object 5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500720" y="1135080"/>
                        <a:ext cx="1727280" cy="722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21" name="Object 6"/>
            <p:cNvGraphicFramePr/>
            <p:nvPr/>
          </p:nvGraphicFramePr>
          <p:xfrm>
            <a:off x="3071880" y="1303920"/>
            <a:ext cx="1057680" cy="4104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22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071880" y="1303920"/>
                      <a:ext cx="1057680" cy="41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23" name="Object 7"/>
          <p:cNvGraphicFramePr/>
          <p:nvPr/>
        </p:nvGraphicFramePr>
        <p:xfrm>
          <a:off x="2928960" y="1735200"/>
          <a:ext cx="4218120" cy="979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4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28960" y="1735200"/>
                    <a:ext cx="421812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5" name="组合 15"/>
          <p:cNvGrpSpPr/>
          <p:nvPr/>
        </p:nvGrpSpPr>
        <p:grpSpPr>
          <a:xfrm>
            <a:off x="1830240" y="2732040"/>
            <a:ext cx="5436360" cy="520560"/>
            <a:chOff x="1830240" y="2732040"/>
            <a:chExt cx="5436360" cy="520560"/>
          </a:xfrm>
        </p:grpSpPr>
        <p:sp>
          <p:nvSpPr>
            <p:cNvPr id="326" name="Rectangle 15"/>
            <p:cNvSpPr/>
            <p:nvPr/>
          </p:nvSpPr>
          <p:spPr>
            <a:xfrm>
              <a:off x="2673720" y="2732040"/>
              <a:ext cx="459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时上面不等式成立，故得到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5)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27" name="Object 8"/>
            <p:cNvGraphicFramePr/>
            <p:nvPr/>
          </p:nvGraphicFramePr>
          <p:xfrm>
            <a:off x="1830240" y="2871720"/>
            <a:ext cx="850680" cy="3193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28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830240" y="2871720"/>
                      <a:ext cx="850680" cy="31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29" name="Object 10"/>
          <p:cNvGraphicFramePr/>
          <p:nvPr/>
        </p:nvGraphicFramePr>
        <p:xfrm>
          <a:off x="714240" y="3357720"/>
          <a:ext cx="1379520" cy="338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30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14240" y="3357720"/>
                    <a:ext cx="1379520" cy="338040"/>
                  </a:xfrm>
                  <a:prstGeom prst="rect">
                    <a:avLst/>
                  </a:prstGeom>
                  <a:ln cap="rnd" w="936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</p:pic>
            </p:oleObj>
          </a:graphicData>
        </a:graphic>
      </p:graphicFrame>
      <p:grpSp>
        <p:nvGrpSpPr>
          <p:cNvPr id="331" name="组合 24"/>
          <p:cNvGrpSpPr/>
          <p:nvPr/>
        </p:nvGrpSpPr>
        <p:grpSpPr>
          <a:xfrm>
            <a:off x="2583000" y="3268800"/>
            <a:ext cx="4940280" cy="1017360"/>
            <a:chOff x="2583000" y="3268800"/>
            <a:chExt cx="4940280" cy="1017360"/>
          </a:xfrm>
        </p:grpSpPr>
        <p:sp>
          <p:nvSpPr>
            <p:cNvPr id="332" name="Rectangle 15"/>
            <p:cNvSpPr/>
            <p:nvPr/>
          </p:nvSpPr>
          <p:spPr>
            <a:xfrm>
              <a:off x="2583000" y="3268800"/>
              <a:ext cx="415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由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5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知，                       则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33" name="Object 13"/>
            <p:cNvGraphicFramePr/>
            <p:nvPr/>
          </p:nvGraphicFramePr>
          <p:xfrm>
            <a:off x="3697200" y="3344760"/>
            <a:ext cx="2303640" cy="3697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34" name="Object 13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697200" y="3344760"/>
                      <a:ext cx="2303640" cy="36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5" name="Object 14"/>
            <p:cNvGraphicFramePr/>
            <p:nvPr/>
          </p:nvGraphicFramePr>
          <p:xfrm>
            <a:off x="3429000" y="3821040"/>
            <a:ext cx="4094280" cy="4651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336" name="Object 14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429000" y="3821040"/>
                      <a:ext cx="4094280" cy="46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37" name="组合 26"/>
          <p:cNvGrpSpPr/>
          <p:nvPr/>
        </p:nvGrpSpPr>
        <p:grpSpPr>
          <a:xfrm>
            <a:off x="2502720" y="4286160"/>
            <a:ext cx="2850840" cy="520560"/>
            <a:chOff x="2502720" y="4286160"/>
            <a:chExt cx="2850840" cy="520560"/>
          </a:xfrm>
        </p:grpSpPr>
        <p:sp>
          <p:nvSpPr>
            <p:cNvPr id="338" name="Rectangle 15"/>
            <p:cNvSpPr/>
            <p:nvPr/>
          </p:nvSpPr>
          <p:spPr>
            <a:xfrm>
              <a:off x="2502720" y="4286160"/>
              <a:ext cx="285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从而   在        连续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39" name="Object 15"/>
            <p:cNvGraphicFramePr/>
            <p:nvPr/>
          </p:nvGraphicFramePr>
          <p:xfrm>
            <a:off x="3000240" y="4412520"/>
            <a:ext cx="341280" cy="3027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340" name="Object 15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3000240" y="4412520"/>
                      <a:ext cx="341280" cy="30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1" name="Object 16"/>
            <p:cNvGraphicFramePr/>
            <p:nvPr/>
          </p:nvGraphicFramePr>
          <p:xfrm>
            <a:off x="3611520" y="4357440"/>
            <a:ext cx="888840" cy="33372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342" name="Object 16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3611520" y="4357440"/>
                      <a:ext cx="888840" cy="33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组合 37"/>
          <p:cNvGrpSpPr/>
          <p:nvPr/>
        </p:nvGrpSpPr>
        <p:grpSpPr>
          <a:xfrm>
            <a:off x="1214640" y="482760"/>
            <a:ext cx="5526720" cy="537840"/>
            <a:chOff x="1214640" y="482760"/>
            <a:chExt cx="5526720" cy="537840"/>
          </a:xfrm>
        </p:grpSpPr>
        <p:grpSp>
          <p:nvGrpSpPr>
            <p:cNvPr id="344" name="组合 32"/>
            <p:cNvGrpSpPr/>
            <p:nvPr/>
          </p:nvGrpSpPr>
          <p:grpSpPr>
            <a:xfrm>
              <a:off x="1214640" y="482760"/>
              <a:ext cx="5526720" cy="537840"/>
              <a:chOff x="1214640" y="482760"/>
              <a:chExt cx="5526720" cy="537840"/>
            </a:xfrm>
          </p:grpSpPr>
          <p:sp>
            <p:nvSpPr>
              <p:cNvPr id="345" name="Rectangle 15"/>
              <p:cNvSpPr/>
              <p:nvPr/>
            </p:nvSpPr>
            <p:spPr>
              <a:xfrm>
                <a:off x="1214640" y="482760"/>
                <a:ext cx="552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设   是    上的线性泛函，且 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346" name="Object 2"/>
              <p:cNvGraphicFramePr/>
              <p:nvPr/>
            </p:nvGraphicFramePr>
            <p:xfrm>
              <a:off x="1500120" y="593280"/>
              <a:ext cx="428400" cy="4273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47" name="Object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500120" y="593280"/>
                        <a:ext cx="428400" cy="42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48" name="Object 3"/>
            <p:cNvGraphicFramePr/>
            <p:nvPr/>
          </p:nvGraphicFramePr>
          <p:xfrm>
            <a:off x="2143080" y="574560"/>
            <a:ext cx="509040" cy="354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9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43080" y="574560"/>
                      <a:ext cx="50904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0" name="Object 19"/>
            <p:cNvGraphicFramePr/>
            <p:nvPr/>
          </p:nvGraphicFramePr>
          <p:xfrm>
            <a:off x="5358240" y="593280"/>
            <a:ext cx="839880" cy="335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1" name="Object 1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58240" y="593280"/>
                      <a:ext cx="83988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52" name="Object 5"/>
          <p:cNvGraphicFramePr/>
          <p:nvPr/>
        </p:nvGraphicFramePr>
        <p:xfrm>
          <a:off x="544680" y="1089000"/>
          <a:ext cx="1434960" cy="33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4680" y="1089000"/>
                    <a:ext cx="143496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4" name="组合 30"/>
          <p:cNvGrpSpPr/>
          <p:nvPr/>
        </p:nvGrpSpPr>
        <p:grpSpPr>
          <a:xfrm>
            <a:off x="1357200" y="963720"/>
            <a:ext cx="7416360" cy="1179360"/>
            <a:chOff x="1357200" y="963720"/>
            <a:chExt cx="7416360" cy="1179360"/>
          </a:xfrm>
        </p:grpSpPr>
        <p:grpSp>
          <p:nvGrpSpPr>
            <p:cNvPr id="355" name="组合 14"/>
            <p:cNvGrpSpPr/>
            <p:nvPr/>
          </p:nvGrpSpPr>
          <p:grpSpPr>
            <a:xfrm>
              <a:off x="2481120" y="963720"/>
              <a:ext cx="6292440" cy="536400"/>
              <a:chOff x="2481120" y="963720"/>
              <a:chExt cx="6292440" cy="536400"/>
            </a:xfrm>
          </p:grpSpPr>
          <p:grpSp>
            <p:nvGrpSpPr>
              <p:cNvPr id="356" name="组合 16"/>
              <p:cNvGrpSpPr/>
              <p:nvPr/>
            </p:nvGrpSpPr>
            <p:grpSpPr>
              <a:xfrm>
                <a:off x="2481120" y="963720"/>
                <a:ext cx="6292440" cy="520560"/>
                <a:chOff x="2481120" y="963720"/>
                <a:chExt cx="6292440" cy="520560"/>
              </a:xfrm>
            </p:grpSpPr>
            <p:sp>
              <p:nvSpPr>
                <p:cNvPr id="357" name="Rectangle 15"/>
                <p:cNvSpPr/>
                <p:nvPr/>
              </p:nvSpPr>
              <p:spPr>
                <a:xfrm>
                  <a:off x="2862360" y="963720"/>
                  <a:ext cx="5911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若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在    上连续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,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由于    是     中的闭集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,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则         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358" name="Object 34"/>
                <p:cNvGraphicFramePr/>
                <p:nvPr/>
              </p:nvGraphicFramePr>
              <p:xfrm>
                <a:off x="3214440" y="1073520"/>
                <a:ext cx="477720" cy="33408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359" name="Object 34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3214440" y="1073520"/>
                          <a:ext cx="477720" cy="3340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360" name="Object 7"/>
                <p:cNvGraphicFramePr/>
                <p:nvPr/>
              </p:nvGraphicFramePr>
              <p:xfrm>
                <a:off x="2481120" y="1011240"/>
                <a:ext cx="460080" cy="46224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361" name="Object 7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2481120" y="1011240"/>
                          <a:ext cx="460080" cy="4622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62" name="Object 8"/>
              <p:cNvGraphicFramePr/>
              <p:nvPr/>
            </p:nvGraphicFramePr>
            <p:xfrm>
              <a:off x="5357880" y="1062720"/>
              <a:ext cx="550800" cy="43740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363" name="Object 8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5357880" y="1062720"/>
                        <a:ext cx="550800" cy="437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64" name="Object 9"/>
              <p:cNvGraphicFramePr/>
              <p:nvPr/>
            </p:nvGraphicFramePr>
            <p:xfrm>
              <a:off x="6286680" y="1106640"/>
              <a:ext cx="463680" cy="32184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365" name="Object 9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6286680" y="1106640"/>
                        <a:ext cx="463680" cy="321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66" name="组合 22"/>
            <p:cNvGrpSpPr/>
            <p:nvPr/>
          </p:nvGrpSpPr>
          <p:grpSpPr>
            <a:xfrm>
              <a:off x="1357200" y="1619280"/>
              <a:ext cx="5687280" cy="523800"/>
              <a:chOff x="1357200" y="1619280"/>
              <a:chExt cx="5687280" cy="523800"/>
            </a:xfrm>
          </p:grpSpPr>
          <p:graphicFrame>
            <p:nvGraphicFramePr>
              <p:cNvPr id="367" name="Object 10"/>
              <p:cNvGraphicFramePr/>
              <p:nvPr/>
            </p:nvGraphicFramePr>
            <p:xfrm>
              <a:off x="1357200" y="1676880"/>
              <a:ext cx="2576880" cy="46620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368" name="Object 10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1357200" y="1676880"/>
                        <a:ext cx="2576880" cy="466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369" name="组合 37"/>
              <p:cNvGrpSpPr/>
              <p:nvPr/>
            </p:nvGrpSpPr>
            <p:grpSpPr>
              <a:xfrm>
                <a:off x="3049200" y="1619280"/>
                <a:ext cx="3995280" cy="520560"/>
                <a:chOff x="3049200" y="1619280"/>
                <a:chExt cx="3995280" cy="520560"/>
              </a:xfrm>
            </p:grpSpPr>
            <p:sp>
              <p:nvSpPr>
                <p:cNvPr id="370" name="Rectangle 15"/>
                <p:cNvSpPr/>
                <p:nvPr/>
              </p:nvSpPr>
              <p:spPr>
                <a:xfrm>
                  <a:off x="3049200" y="1619280"/>
                  <a:ext cx="3995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是    中的闭集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  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371" name="Object 12"/>
                <p:cNvGraphicFramePr/>
                <p:nvPr/>
              </p:nvGraphicFramePr>
              <p:xfrm>
                <a:off x="4358160" y="1716840"/>
                <a:ext cx="509040" cy="354960"/>
              </p:xfrm>
              <a:graphic>
                <a:graphicData uri="http://schemas.openxmlformats.org/presentationml/2006/ole">
                  <p:oleObj r:id="rId19" spid="">
                    <p:embed/>
                    <p:pic>
                      <p:nvPicPr>
                        <p:cNvPr id="372" name="Object 12" descr=""/>
                        <p:cNvPicPr/>
                        <p:nvPr/>
                      </p:nvPicPr>
                      <p:blipFill>
                        <a:blip r:embed="rId20"/>
                        <a:stretch/>
                      </p:blipFill>
                      <p:spPr>
                        <a:xfrm>
                          <a:off x="4358160" y="1716840"/>
                          <a:ext cx="509040" cy="354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graphicFrame>
        <p:nvGraphicFramePr>
          <p:cNvPr id="373" name="Object 14"/>
          <p:cNvGraphicFramePr/>
          <p:nvPr/>
        </p:nvGraphicFramePr>
        <p:xfrm>
          <a:off x="642960" y="2374920"/>
          <a:ext cx="1434960" cy="3398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74" name="Object 1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42960" y="2374920"/>
                    <a:ext cx="143496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5" name="组合 31"/>
          <p:cNvGrpSpPr/>
          <p:nvPr/>
        </p:nvGrpSpPr>
        <p:grpSpPr>
          <a:xfrm>
            <a:off x="2571840" y="2286000"/>
            <a:ext cx="5130360" cy="1108080"/>
            <a:chOff x="2571840" y="2286000"/>
            <a:chExt cx="5130360" cy="1108080"/>
          </a:xfrm>
        </p:grpSpPr>
        <p:grpSp>
          <p:nvGrpSpPr>
            <p:cNvPr id="376" name="组合 43"/>
            <p:cNvGrpSpPr/>
            <p:nvPr/>
          </p:nvGrpSpPr>
          <p:grpSpPr>
            <a:xfrm>
              <a:off x="3052800" y="2286000"/>
              <a:ext cx="4649400" cy="520560"/>
              <a:chOff x="3052800" y="2286000"/>
              <a:chExt cx="4649400" cy="520560"/>
            </a:xfrm>
          </p:grpSpPr>
          <p:grpSp>
            <p:nvGrpSpPr>
              <p:cNvPr id="377" name="组合 38"/>
              <p:cNvGrpSpPr/>
              <p:nvPr/>
            </p:nvGrpSpPr>
            <p:grpSpPr>
              <a:xfrm>
                <a:off x="3052800" y="2286000"/>
                <a:ext cx="4649400" cy="520560"/>
                <a:chOff x="3052800" y="2286000"/>
                <a:chExt cx="4649400" cy="520560"/>
              </a:xfrm>
            </p:grpSpPr>
            <p:sp>
              <p:nvSpPr>
                <p:cNvPr id="378" name="Rectangle 15"/>
                <p:cNvSpPr/>
                <p:nvPr/>
              </p:nvSpPr>
              <p:spPr>
                <a:xfrm>
                  <a:off x="3052800" y="2286000"/>
                  <a:ext cx="4649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反证法：若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在    中稠密，由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(6)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知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379" name="Object 22"/>
                <p:cNvGraphicFramePr/>
                <p:nvPr/>
              </p:nvGraphicFramePr>
              <p:xfrm>
                <a:off x="4214880" y="2390400"/>
                <a:ext cx="928800" cy="360360"/>
              </p:xfrm>
              <a:graphic>
                <a:graphicData uri="http://schemas.openxmlformats.org/presentationml/2006/ole">
                  <p:oleObj r:id="rId23" spid="">
                    <p:embed/>
                    <p:pic>
                      <p:nvPicPr>
                        <p:cNvPr id="380" name="Object 22" descr=""/>
                        <p:cNvPicPr/>
                        <p:nvPr/>
                      </p:nvPicPr>
                      <p:blipFill>
                        <a:blip r:embed="rId24"/>
                        <a:stretch/>
                      </p:blipFill>
                      <p:spPr>
                        <a:xfrm>
                          <a:off x="4214880" y="2390400"/>
                          <a:ext cx="928800" cy="360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81" name="Object 23"/>
              <p:cNvGraphicFramePr/>
              <p:nvPr/>
            </p:nvGraphicFramePr>
            <p:xfrm>
              <a:off x="5429520" y="2401920"/>
              <a:ext cx="500040" cy="349200"/>
            </p:xfrm>
            <a:graphic>
              <a:graphicData uri="http://schemas.openxmlformats.org/presentationml/2006/ole">
                <p:oleObj r:id="rId25" spid="">
                  <p:embed/>
                  <p:pic>
                    <p:nvPicPr>
                      <p:cNvPr id="382" name="Object 23" descr=""/>
                      <p:cNvPicPr/>
                      <p:nvPr/>
                    </p:nvPicPr>
                    <p:blipFill>
                      <a:blip r:embed="rId26"/>
                      <a:stretch/>
                    </p:blipFill>
                    <p:spPr>
                      <a:xfrm>
                        <a:off x="5429520" y="2401920"/>
                        <a:ext cx="500040" cy="349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83" name="Object 17"/>
            <p:cNvGraphicFramePr/>
            <p:nvPr/>
          </p:nvGraphicFramePr>
          <p:xfrm>
            <a:off x="2571840" y="2952720"/>
            <a:ext cx="2917800" cy="44136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384" name="Object 17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2571840" y="2952720"/>
                      <a:ext cx="29178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85" name="组合 38"/>
          <p:cNvGrpSpPr/>
          <p:nvPr/>
        </p:nvGrpSpPr>
        <p:grpSpPr>
          <a:xfrm>
            <a:off x="2571840" y="3500280"/>
            <a:ext cx="2241000" cy="520560"/>
            <a:chOff x="2571840" y="3500280"/>
            <a:chExt cx="2241000" cy="520560"/>
          </a:xfrm>
        </p:grpSpPr>
        <p:sp>
          <p:nvSpPr>
            <p:cNvPr id="386" name="Rectangle 15"/>
            <p:cNvSpPr/>
            <p:nvPr/>
          </p:nvSpPr>
          <p:spPr>
            <a:xfrm>
              <a:off x="2571840" y="3500280"/>
              <a:ext cx="224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但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，矛盾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87" name="Object 18"/>
            <p:cNvGraphicFramePr/>
            <p:nvPr/>
          </p:nvGraphicFramePr>
          <p:xfrm>
            <a:off x="2785680" y="3571560"/>
            <a:ext cx="987120" cy="39600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388" name="Object 18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2785680" y="3571560"/>
                      <a:ext cx="987120" cy="3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Object 2"/>
          <p:cNvGraphicFramePr/>
          <p:nvPr/>
        </p:nvGraphicFramePr>
        <p:xfrm>
          <a:off x="428760" y="731880"/>
          <a:ext cx="1434960" cy="3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731880"/>
                    <a:ext cx="143496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1" name="组合 37"/>
          <p:cNvGrpSpPr/>
          <p:nvPr/>
        </p:nvGrpSpPr>
        <p:grpSpPr>
          <a:xfrm>
            <a:off x="1511640" y="642960"/>
            <a:ext cx="6838560" cy="520560"/>
            <a:chOff x="1511640" y="642960"/>
            <a:chExt cx="6838560" cy="520560"/>
          </a:xfrm>
        </p:grpSpPr>
        <p:sp>
          <p:nvSpPr>
            <p:cNvPr id="392" name="Rectangle 15"/>
            <p:cNvSpPr/>
            <p:nvPr/>
          </p:nvSpPr>
          <p:spPr>
            <a:xfrm>
              <a:off x="1511640" y="642960"/>
              <a:ext cx="175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由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7),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93" name="Object 18"/>
            <p:cNvGraphicFramePr/>
            <p:nvPr/>
          </p:nvGraphicFramePr>
          <p:xfrm>
            <a:off x="3155760" y="750240"/>
            <a:ext cx="5194440" cy="39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94" name="Object 1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55760" y="750240"/>
                      <a:ext cx="519444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95" name="组合 13"/>
          <p:cNvGrpSpPr/>
          <p:nvPr/>
        </p:nvGrpSpPr>
        <p:grpSpPr>
          <a:xfrm>
            <a:off x="642960" y="1285920"/>
            <a:ext cx="6694920" cy="1373760"/>
            <a:chOff x="642960" y="1285920"/>
            <a:chExt cx="6694920" cy="1373760"/>
          </a:xfrm>
        </p:grpSpPr>
        <p:sp>
          <p:nvSpPr>
            <p:cNvPr id="396" name="Rectangle 15"/>
            <p:cNvSpPr/>
            <p:nvPr/>
          </p:nvSpPr>
          <p:spPr>
            <a:xfrm>
              <a:off x="1731600" y="1285920"/>
              <a:ext cx="56062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若    不是有界泛函，由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3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与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4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等价性的证明知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在任一点的有界邻域上都不是有界的，特别地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不在          上有界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97" name="Object 17"/>
            <p:cNvGraphicFramePr/>
            <p:nvPr/>
          </p:nvGraphicFramePr>
          <p:xfrm>
            <a:off x="1000080" y="1357200"/>
            <a:ext cx="428400" cy="427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98" name="Object 1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000080" y="1357200"/>
                      <a:ext cx="428400" cy="42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9" name="Object 7"/>
            <p:cNvGraphicFramePr/>
            <p:nvPr/>
          </p:nvGraphicFramePr>
          <p:xfrm>
            <a:off x="642960" y="1785600"/>
            <a:ext cx="428400" cy="427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00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42960" y="1785600"/>
                      <a:ext cx="428400" cy="42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1" name="Object 8"/>
            <p:cNvGraphicFramePr/>
            <p:nvPr/>
          </p:nvGraphicFramePr>
          <p:xfrm>
            <a:off x="642960" y="2214000"/>
            <a:ext cx="428400" cy="426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02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42960" y="2214000"/>
                      <a:ext cx="428400" cy="42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3" name="Object 9"/>
            <p:cNvGraphicFramePr/>
            <p:nvPr/>
          </p:nvGraphicFramePr>
          <p:xfrm>
            <a:off x="1714320" y="2269800"/>
            <a:ext cx="1117440" cy="3726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04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714320" y="2269800"/>
                      <a:ext cx="1117440" cy="37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05" name="组合 16"/>
          <p:cNvGrpSpPr/>
          <p:nvPr/>
        </p:nvGrpSpPr>
        <p:grpSpPr>
          <a:xfrm>
            <a:off x="4514040" y="2143080"/>
            <a:ext cx="4201200" cy="538200"/>
            <a:chOff x="4514040" y="2143080"/>
            <a:chExt cx="4201200" cy="538200"/>
          </a:xfrm>
        </p:grpSpPr>
        <p:sp>
          <p:nvSpPr>
            <p:cNvPr id="406" name="Rectangle 15"/>
            <p:cNvSpPr/>
            <p:nvPr/>
          </p:nvSpPr>
          <p:spPr>
            <a:xfrm>
              <a:off x="4514040" y="2143080"/>
              <a:ext cx="155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我们证明此时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07" name="Object 10"/>
            <p:cNvGraphicFramePr/>
            <p:nvPr/>
          </p:nvGraphicFramePr>
          <p:xfrm>
            <a:off x="6262560" y="2214360"/>
            <a:ext cx="2452680" cy="4669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08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262560" y="2214360"/>
                      <a:ext cx="2452680" cy="46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09" name="组合 21"/>
          <p:cNvGrpSpPr/>
          <p:nvPr/>
        </p:nvGrpSpPr>
        <p:grpSpPr>
          <a:xfrm>
            <a:off x="1126440" y="2786040"/>
            <a:ext cx="6577560" cy="538200"/>
            <a:chOff x="1126440" y="2786040"/>
            <a:chExt cx="6577560" cy="538200"/>
          </a:xfrm>
        </p:grpSpPr>
        <p:sp>
          <p:nvSpPr>
            <p:cNvPr id="410" name="Rectangle 15"/>
            <p:cNvSpPr/>
            <p:nvPr/>
          </p:nvSpPr>
          <p:spPr>
            <a:xfrm>
              <a:off x="1126440" y="2786040"/>
              <a:ext cx="480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实际上，             存在      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11" name="Object 12"/>
            <p:cNvGraphicFramePr/>
            <p:nvPr/>
          </p:nvGraphicFramePr>
          <p:xfrm>
            <a:off x="1928880" y="2913120"/>
            <a:ext cx="1366560" cy="3733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12" name="Object 12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928880" y="2913120"/>
                      <a:ext cx="1366560" cy="37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3" name="Object 13"/>
            <p:cNvGraphicFramePr/>
            <p:nvPr/>
          </p:nvGraphicFramePr>
          <p:xfrm>
            <a:off x="4071960" y="2857320"/>
            <a:ext cx="3632040" cy="4669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414" name="Object 13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071960" y="2857320"/>
                      <a:ext cx="3632040" cy="46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15" name="组合 25"/>
          <p:cNvGrpSpPr/>
          <p:nvPr/>
        </p:nvGrpSpPr>
        <p:grpSpPr>
          <a:xfrm>
            <a:off x="915480" y="3240000"/>
            <a:ext cx="6656760" cy="862200"/>
            <a:chOff x="915480" y="3240000"/>
            <a:chExt cx="6656760" cy="862200"/>
          </a:xfrm>
        </p:grpSpPr>
        <p:grpSp>
          <p:nvGrpSpPr>
            <p:cNvPr id="416" name="组合 24"/>
            <p:cNvGrpSpPr/>
            <p:nvPr/>
          </p:nvGrpSpPr>
          <p:grpSpPr>
            <a:xfrm>
              <a:off x="915480" y="3303360"/>
              <a:ext cx="4232880" cy="768600"/>
              <a:chOff x="915480" y="3303360"/>
              <a:chExt cx="4232880" cy="768600"/>
            </a:xfrm>
          </p:grpSpPr>
          <p:sp>
            <p:nvSpPr>
              <p:cNvPr id="417" name="Rectangle 15"/>
              <p:cNvSpPr/>
              <p:nvPr/>
            </p:nvSpPr>
            <p:spPr>
              <a:xfrm>
                <a:off x="915480" y="3357360"/>
                <a:ext cx="4232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取                    则               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418" name="Object 14"/>
              <p:cNvGraphicFramePr/>
              <p:nvPr/>
            </p:nvGraphicFramePr>
            <p:xfrm>
              <a:off x="1143000" y="3303360"/>
              <a:ext cx="1956960" cy="76860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419" name="Object 14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1143000" y="3303360"/>
                        <a:ext cx="1956960" cy="768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20" name="Object 15"/>
            <p:cNvGraphicFramePr/>
            <p:nvPr/>
          </p:nvGraphicFramePr>
          <p:xfrm>
            <a:off x="3657600" y="3240000"/>
            <a:ext cx="3914640" cy="8622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421" name="Object 15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3657600" y="3240000"/>
                      <a:ext cx="3914640" cy="862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22" name="组合 26"/>
          <p:cNvGrpSpPr/>
          <p:nvPr/>
        </p:nvGrpSpPr>
        <p:grpSpPr>
          <a:xfrm>
            <a:off x="1163880" y="4071960"/>
            <a:ext cx="4801320" cy="520560"/>
            <a:chOff x="1163880" y="4071960"/>
            <a:chExt cx="4801320" cy="520560"/>
          </a:xfrm>
        </p:grpSpPr>
        <p:sp>
          <p:nvSpPr>
            <p:cNvPr id="423" name="Rectangle 15"/>
            <p:cNvSpPr/>
            <p:nvPr/>
          </p:nvSpPr>
          <p:spPr>
            <a:xfrm>
              <a:off x="1163880" y="4071960"/>
              <a:ext cx="480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并且                故知之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24" name="Object 16"/>
            <p:cNvGraphicFramePr/>
            <p:nvPr/>
          </p:nvGraphicFramePr>
          <p:xfrm>
            <a:off x="1590480" y="4143240"/>
            <a:ext cx="1552320" cy="37368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425" name="Object 16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1590480" y="4143240"/>
                      <a:ext cx="1552320" cy="37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4:08:53Z</dcterms:created>
  <dc:creator>zlx</dc:creator>
  <dc:description/>
  <dc:language>en-US</dc:language>
  <cp:lastModifiedBy>2012</cp:lastModifiedBy>
  <dcterms:modified xsi:type="dcterms:W3CDTF">2014-11-09T07:27:55Z</dcterms:modified>
  <cp:revision>437</cp:revision>
  <dc:subject/>
  <dc:title>幻灯片 1</dc:title>
</cp:coreProperties>
</file>