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68.wmf" ContentType="image/x-wmf"/>
  <Override PartName="/ppt/media/image70.wmf" ContentType="image/x-wmf"/>
  <Override PartName="/ppt/media/image114.wmf" ContentType="image/x-wmf"/>
  <Override PartName="/ppt/media/image69.wmf" ContentType="image/x-wmf"/>
  <Override PartName="/ppt/media/image71.wmf" ContentType="image/x-wmf"/>
  <Override PartName="/ppt/media/image115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50.wmf" ContentType="image/x-wmf"/>
  <Override PartName="/ppt/media/image88.wmf" ContentType="image/x-wmf"/>
  <Override PartName="/ppt/media/image96.wmf" ContentType="image/x-wmf"/>
  <Override PartName="/ppt/media/image103.wmf" ContentType="image/x-wmf"/>
  <Override PartName="/ppt/media/image95.wmf" ContentType="image/x-wmf"/>
  <Override PartName="/ppt/media/image102.wmf" ContentType="image/x-wmf"/>
  <Override PartName="/ppt/media/image113.wmf" ContentType="image/x-wmf"/>
  <Override PartName="/ppt/media/image79.wmf" ContentType="image/x-wmf"/>
  <Override PartName="/ppt/media/image101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11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1.jpeg" ContentType="image/jpeg"/>
  <Override PartName="/ppt/media/image89.wmf" ContentType="image/x-wmf"/>
  <Override PartName="/ppt/media/image27.wmf" ContentType="image/x-wmf"/>
  <Override PartName="/ppt/media/image92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9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F51-EB25-42CD-8CBB-007A2DA4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E4D-B38F-4640-9862-87807CC5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7EC-6845-428D-8742-C98176CB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693-DB26-4C6F-852C-AB20E5E7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8A56-7D13-4A2D-BFD7-AE20C71E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A676-A7A6-499F-9BE6-8E086B10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20E4-8DEC-4D9F-A4EA-DE0ABE5E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0C5E-7D93-4B0D-847B-FD70B26A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3106-E9C0-44EF-91D4-F7A48653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3D27-F62A-4FC8-A3A0-F2FC02D6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88FF-C88C-4F62-BCD4-211060E2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589-B30B-4E92-A34E-E570D5FE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3DC3-3BBA-49D7-AC8C-0CD68637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6077-48F4-4A23-951F-2A240D4C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2DDF-7258-4C88-9B91-9713D489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7F22-F2E5-4208-AE57-C29CD365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3844-F1FC-4296-8D79-F9A206C6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A7D-6C32-4D7D-BBC5-FA34AE8E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DD9-071E-4BED-B1F8-0AE22612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1A9-80AC-4CDB-9A0A-CCE6A67F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258-C5B5-40B7-9B78-3433A692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E94-9182-4592-BEB3-768AAF01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0C6-B388-41AD-B8FA-90F35A46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6EB-00BD-4EFD-9325-5EFEBFE3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1200-0A95-41B8-A413-73C204AFE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3ACC-1F95-42D0-BFCA-9BF1AFF76413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1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7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7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2.wmf"/><Relationship Id="rId3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5.wmf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1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1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1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15.wmf"/><Relationship Id="rId3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0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九讲  共轭空间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5"/>
          <p:cNvSpPr/>
          <p:nvPr/>
        </p:nvSpPr>
        <p:spPr>
          <a:xfrm>
            <a:off x="714240" y="42876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下面我们引入自然嵌入算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0" y="10717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6" name="组合 13"/>
          <p:cNvGrpSpPr/>
          <p:nvPr/>
        </p:nvGrpSpPr>
        <p:grpSpPr>
          <a:xfrm>
            <a:off x="857160" y="1071720"/>
            <a:ext cx="7000920" cy="1857240"/>
            <a:chOff x="857160" y="1071720"/>
            <a:chExt cx="7000920" cy="1857240"/>
          </a:xfrm>
        </p:grpSpPr>
        <p:grpSp>
          <p:nvGrpSpPr>
            <p:cNvPr id="267" name="组合 3"/>
            <p:cNvGrpSpPr/>
            <p:nvPr/>
          </p:nvGrpSpPr>
          <p:grpSpPr>
            <a:xfrm>
              <a:off x="857160" y="1071720"/>
              <a:ext cx="7000920" cy="1800360"/>
              <a:chOff x="857160" y="1071720"/>
              <a:chExt cx="7000920" cy="1800360"/>
            </a:xfrm>
          </p:grpSpPr>
          <p:grpSp>
            <p:nvGrpSpPr>
              <p:cNvPr id="268" name="组合 14"/>
              <p:cNvGrpSpPr/>
              <p:nvPr/>
            </p:nvGrpSpPr>
            <p:grpSpPr>
              <a:xfrm>
                <a:off x="857160" y="1071720"/>
                <a:ext cx="7000920" cy="1800360"/>
                <a:chOff x="857160" y="1071720"/>
                <a:chExt cx="7000920" cy="1800360"/>
              </a:xfrm>
            </p:grpSpPr>
            <p:grpSp>
              <p:nvGrpSpPr>
                <p:cNvPr id="269" name="组合 48"/>
                <p:cNvGrpSpPr/>
                <p:nvPr/>
              </p:nvGrpSpPr>
              <p:grpSpPr>
                <a:xfrm>
                  <a:off x="857160" y="1071720"/>
                  <a:ext cx="7000920" cy="1800360"/>
                  <a:chOff x="857160" y="1071720"/>
                  <a:chExt cx="7000920" cy="1800360"/>
                </a:xfrm>
              </p:grpSpPr>
              <p:sp>
                <p:nvSpPr>
                  <p:cNvPr id="270" name="Rectangle 15"/>
                  <p:cNvSpPr/>
                  <p:nvPr/>
                </p:nvSpPr>
                <p:spPr>
                  <a:xfrm>
                    <a:off x="857160" y="1071720"/>
                    <a:ext cx="7000920" cy="180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对于每个       ，在    上定义泛函     ，使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则                并且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71" name="Object 2"/>
                  <p:cNvGraphicFramePr/>
                  <p:nvPr/>
                </p:nvGraphicFramePr>
                <p:xfrm>
                  <a:off x="4316400" y="1117440"/>
                  <a:ext cx="480960" cy="3999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72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4316400" y="1117440"/>
                            <a:ext cx="480960" cy="399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73" name="Object 5"/>
                <p:cNvGraphicFramePr/>
                <p:nvPr/>
              </p:nvGraphicFramePr>
              <p:xfrm>
                <a:off x="1706400" y="2372040"/>
                <a:ext cx="1508040" cy="4143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74" name="Object 5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706400" y="2372040"/>
                          <a:ext cx="1508040" cy="41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75" name="Object 4"/>
              <p:cNvGraphicFramePr/>
              <p:nvPr/>
            </p:nvGraphicFramePr>
            <p:xfrm>
              <a:off x="2743200" y="1739880"/>
              <a:ext cx="3941640" cy="468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76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743200" y="1739880"/>
                        <a:ext cx="394164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7" name="Object 11"/>
              <p:cNvGraphicFramePr/>
              <p:nvPr/>
            </p:nvGraphicFramePr>
            <p:xfrm>
              <a:off x="2928960" y="1143000"/>
              <a:ext cx="758160" cy="357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8" name="Object 11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928960" y="1143000"/>
                        <a:ext cx="75816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9" name="Object 6"/>
            <p:cNvGraphicFramePr/>
            <p:nvPr/>
          </p:nvGraphicFramePr>
          <p:xfrm>
            <a:off x="6535800" y="1087560"/>
            <a:ext cx="479160" cy="426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35800" y="1087560"/>
                      <a:ext cx="47916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"/>
            <p:cNvGraphicFramePr/>
            <p:nvPr/>
          </p:nvGraphicFramePr>
          <p:xfrm>
            <a:off x="4048200" y="2359080"/>
            <a:ext cx="1738080" cy="569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48200" y="2359080"/>
                      <a:ext cx="173808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3" name="Text Box 3"/>
          <p:cNvSpPr/>
          <p:nvPr/>
        </p:nvSpPr>
        <p:spPr>
          <a:xfrm>
            <a:off x="0" y="2928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4" name="组合 18"/>
          <p:cNvGrpSpPr/>
          <p:nvPr/>
        </p:nvGrpSpPr>
        <p:grpSpPr>
          <a:xfrm>
            <a:off x="1214280" y="3071880"/>
            <a:ext cx="5672160" cy="1195200"/>
            <a:chOff x="1214280" y="3071880"/>
            <a:chExt cx="5672160" cy="1195200"/>
          </a:xfrm>
        </p:grpSpPr>
        <p:sp>
          <p:nvSpPr>
            <p:cNvPr id="285" name="Rectangle 15"/>
            <p:cNvSpPr/>
            <p:nvPr/>
          </p:nvSpPr>
          <p:spPr>
            <a:xfrm>
              <a:off x="1214280" y="3071880"/>
              <a:ext cx="13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86" name="Object 8"/>
            <p:cNvGraphicFramePr/>
            <p:nvPr/>
          </p:nvGraphicFramePr>
          <p:xfrm>
            <a:off x="2428560" y="3143160"/>
            <a:ext cx="3111480" cy="506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7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28560" y="3143160"/>
                      <a:ext cx="311148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9"/>
            <p:cNvGraphicFramePr/>
            <p:nvPr/>
          </p:nvGraphicFramePr>
          <p:xfrm>
            <a:off x="1760400" y="3773520"/>
            <a:ext cx="5126040" cy="493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9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760400" y="3773520"/>
                      <a:ext cx="51260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13"/>
          <p:cNvGrpSpPr/>
          <p:nvPr/>
        </p:nvGrpSpPr>
        <p:grpSpPr>
          <a:xfrm>
            <a:off x="785880" y="695160"/>
            <a:ext cx="7000920" cy="1397520"/>
            <a:chOff x="785880" y="695160"/>
            <a:chExt cx="7000920" cy="1397520"/>
          </a:xfrm>
        </p:grpSpPr>
        <p:graphicFrame>
          <p:nvGraphicFramePr>
            <p:cNvPr id="291" name="Object 2"/>
            <p:cNvGraphicFramePr/>
            <p:nvPr/>
          </p:nvGraphicFramePr>
          <p:xfrm>
            <a:off x="2519280" y="695160"/>
            <a:ext cx="3646440" cy="96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9280" y="695160"/>
                      <a:ext cx="3646440" cy="9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3" name="组合 14"/>
            <p:cNvGrpSpPr/>
            <p:nvPr/>
          </p:nvGrpSpPr>
          <p:grpSpPr>
            <a:xfrm>
              <a:off x="785880" y="1572120"/>
              <a:ext cx="7000920" cy="520560"/>
              <a:chOff x="785880" y="1572120"/>
              <a:chExt cx="7000920" cy="520560"/>
            </a:xfrm>
          </p:grpSpPr>
          <p:sp>
            <p:nvSpPr>
              <p:cNvPr id="294" name="Rectangle 15"/>
              <p:cNvSpPr/>
              <p:nvPr/>
            </p:nvSpPr>
            <p:spPr>
              <a:xfrm>
                <a:off x="785880" y="1572120"/>
                <a:ext cx="70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  是线性泛函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95" name="Object 5"/>
              <p:cNvGraphicFramePr/>
              <p:nvPr/>
            </p:nvGraphicFramePr>
            <p:xfrm>
              <a:off x="1214280" y="1586160"/>
              <a:ext cx="556920" cy="414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96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214280" y="1586160"/>
                        <a:ext cx="556920" cy="41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97" name="组合 18"/>
          <p:cNvGrpSpPr/>
          <p:nvPr/>
        </p:nvGrpSpPr>
        <p:grpSpPr>
          <a:xfrm>
            <a:off x="714240" y="2376360"/>
            <a:ext cx="5656320" cy="1411560"/>
            <a:chOff x="714240" y="2376360"/>
            <a:chExt cx="5656320" cy="1411560"/>
          </a:xfrm>
        </p:grpSpPr>
        <p:graphicFrame>
          <p:nvGraphicFramePr>
            <p:cNvPr id="298" name="Object 9"/>
            <p:cNvGraphicFramePr/>
            <p:nvPr/>
          </p:nvGraphicFramePr>
          <p:xfrm>
            <a:off x="2131920" y="2376360"/>
            <a:ext cx="4238640" cy="57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9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31920" y="2376360"/>
                      <a:ext cx="423864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0" name="组合 17"/>
            <p:cNvGrpSpPr/>
            <p:nvPr/>
          </p:nvGrpSpPr>
          <p:grpSpPr>
            <a:xfrm>
              <a:off x="714240" y="3214800"/>
              <a:ext cx="4845240" cy="573120"/>
              <a:chOff x="714240" y="3214800"/>
              <a:chExt cx="4845240" cy="573120"/>
            </a:xfrm>
          </p:grpSpPr>
          <p:sp>
            <p:nvSpPr>
              <p:cNvPr id="301" name="Rectangle 15"/>
              <p:cNvSpPr/>
              <p:nvPr/>
            </p:nvSpPr>
            <p:spPr>
              <a:xfrm>
                <a:off x="714240" y="3214800"/>
                <a:ext cx="100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所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02" name="Object 10"/>
              <p:cNvGraphicFramePr/>
              <p:nvPr/>
            </p:nvGraphicFramePr>
            <p:xfrm>
              <a:off x="2143080" y="3214800"/>
              <a:ext cx="3416400" cy="573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03" name="Object 10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143080" y="3214800"/>
                        <a:ext cx="3416400" cy="5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组合 9"/>
          <p:cNvGrpSpPr/>
          <p:nvPr/>
        </p:nvGrpSpPr>
        <p:grpSpPr>
          <a:xfrm>
            <a:off x="1000080" y="641520"/>
            <a:ext cx="6858000" cy="1645920"/>
            <a:chOff x="1000080" y="641520"/>
            <a:chExt cx="6858000" cy="1645920"/>
          </a:xfrm>
        </p:grpSpPr>
        <p:grpSp>
          <p:nvGrpSpPr>
            <p:cNvPr id="305" name="组合 17"/>
            <p:cNvGrpSpPr/>
            <p:nvPr/>
          </p:nvGrpSpPr>
          <p:grpSpPr>
            <a:xfrm>
              <a:off x="1000080" y="641520"/>
              <a:ext cx="6858000" cy="1645920"/>
              <a:chOff x="1000080" y="641520"/>
              <a:chExt cx="6858000" cy="1645920"/>
            </a:xfrm>
          </p:grpSpPr>
          <p:sp>
            <p:nvSpPr>
              <p:cNvPr id="306" name="Rectangle 15"/>
              <p:cNvSpPr/>
              <p:nvPr/>
            </p:nvSpPr>
            <p:spPr>
              <a:xfrm>
                <a:off x="1000080" y="641520"/>
                <a:ext cx="6858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对于        ，由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Hahn-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定理的推论，存在                  ，并且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从而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07" name="Object 3"/>
              <p:cNvGraphicFramePr/>
              <p:nvPr/>
            </p:nvGraphicFramePr>
            <p:xfrm>
              <a:off x="2000160" y="1714680"/>
              <a:ext cx="4567320" cy="57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08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0160" y="1714680"/>
                        <a:ext cx="4567320" cy="57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09" name="Object 11"/>
            <p:cNvGraphicFramePr/>
            <p:nvPr/>
          </p:nvGraphicFramePr>
          <p:xfrm>
            <a:off x="2571480" y="714240"/>
            <a:ext cx="664920" cy="357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71480" y="714240"/>
                      <a:ext cx="66492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5"/>
            <p:cNvGraphicFramePr/>
            <p:nvPr/>
          </p:nvGraphicFramePr>
          <p:xfrm>
            <a:off x="2500200" y="1131840"/>
            <a:ext cx="1755720" cy="51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0200" y="1131840"/>
                      <a:ext cx="1755720" cy="51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3" name="Object 6"/>
            <p:cNvGraphicFramePr/>
            <p:nvPr/>
          </p:nvGraphicFramePr>
          <p:xfrm>
            <a:off x="5286240" y="1071720"/>
            <a:ext cx="1233360" cy="510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4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86240" y="1071720"/>
                      <a:ext cx="1233360" cy="51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5" name="组合 16"/>
          <p:cNvGrpSpPr/>
          <p:nvPr/>
        </p:nvGrpSpPr>
        <p:grpSpPr>
          <a:xfrm>
            <a:off x="928800" y="2571840"/>
            <a:ext cx="5357880" cy="1377720"/>
            <a:chOff x="928800" y="2571840"/>
            <a:chExt cx="5357880" cy="1377720"/>
          </a:xfrm>
        </p:grpSpPr>
        <p:grpSp>
          <p:nvGrpSpPr>
            <p:cNvPr id="316" name="组合 17"/>
            <p:cNvGrpSpPr/>
            <p:nvPr/>
          </p:nvGrpSpPr>
          <p:grpSpPr>
            <a:xfrm>
              <a:off x="928800" y="2571840"/>
              <a:ext cx="3240000" cy="573120"/>
              <a:chOff x="928800" y="2571840"/>
              <a:chExt cx="3240000" cy="573120"/>
            </a:xfrm>
          </p:grpSpPr>
          <p:sp>
            <p:nvSpPr>
              <p:cNvPr id="317" name="Rectangle 15"/>
              <p:cNvSpPr/>
              <p:nvPr/>
            </p:nvSpPr>
            <p:spPr>
              <a:xfrm>
                <a:off x="928800" y="2571840"/>
                <a:ext cx="100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18" name="Object 8"/>
              <p:cNvGraphicFramePr/>
              <p:nvPr/>
            </p:nvGraphicFramePr>
            <p:xfrm>
              <a:off x="2428920" y="2571840"/>
              <a:ext cx="1739880" cy="5731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9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428920" y="2571840"/>
                        <a:ext cx="1739880" cy="5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0" name="组合 19"/>
            <p:cNvGrpSpPr/>
            <p:nvPr/>
          </p:nvGrpSpPr>
          <p:grpSpPr>
            <a:xfrm>
              <a:off x="1714320" y="3429000"/>
              <a:ext cx="4572360" cy="520560"/>
              <a:chOff x="1714320" y="3429000"/>
              <a:chExt cx="4572360" cy="520560"/>
            </a:xfrm>
          </p:grpSpPr>
          <p:grpSp>
            <p:nvGrpSpPr>
              <p:cNvPr id="321" name="组合 17"/>
              <p:cNvGrpSpPr/>
              <p:nvPr/>
            </p:nvGrpSpPr>
            <p:grpSpPr>
              <a:xfrm>
                <a:off x="1714320" y="3429000"/>
                <a:ext cx="4572360" cy="520560"/>
                <a:chOff x="1714320" y="3429000"/>
                <a:chExt cx="4572360" cy="520560"/>
              </a:xfrm>
            </p:grpSpPr>
            <p:sp>
              <p:nvSpPr>
                <p:cNvPr id="322" name="Rectangle 15"/>
                <p:cNvSpPr/>
                <p:nvPr/>
              </p:nvSpPr>
              <p:spPr>
                <a:xfrm>
                  <a:off x="1714320" y="3429000"/>
                  <a:ext cx="457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当      时，取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23" name="Object 9"/>
                <p:cNvGraphicFramePr/>
                <p:nvPr/>
              </p:nvGraphicFramePr>
              <p:xfrm>
                <a:off x="3824280" y="3441600"/>
                <a:ext cx="1247760" cy="416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324" name="Object 9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3824280" y="3441600"/>
                          <a:ext cx="1247760" cy="41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5" name="Object 10"/>
              <p:cNvGraphicFramePr/>
              <p:nvPr/>
            </p:nvGraphicFramePr>
            <p:xfrm>
              <a:off x="2142720" y="3500280"/>
              <a:ext cx="664920" cy="3574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26" name="Object 10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142720" y="3500280"/>
                        <a:ext cx="664920" cy="35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357200" y="785880"/>
            <a:ext cx="5143680" cy="1735200"/>
            <a:chOff x="1357200" y="785880"/>
            <a:chExt cx="5143680" cy="1735200"/>
          </a:xfrm>
        </p:grpSpPr>
        <p:grpSp>
          <p:nvGrpSpPr>
            <p:cNvPr id="329" name="组合 17"/>
            <p:cNvGrpSpPr/>
            <p:nvPr/>
          </p:nvGrpSpPr>
          <p:grpSpPr>
            <a:xfrm>
              <a:off x="1785600" y="785880"/>
              <a:ext cx="4715280" cy="520560"/>
              <a:chOff x="1785600" y="785880"/>
              <a:chExt cx="4715280" cy="520560"/>
            </a:xfrm>
          </p:grpSpPr>
          <p:sp>
            <p:nvSpPr>
              <p:cNvPr id="330" name="Rectangle 15"/>
              <p:cNvSpPr/>
              <p:nvPr/>
            </p:nvSpPr>
            <p:spPr>
              <a:xfrm>
                <a:off x="1785600" y="785880"/>
                <a:ext cx="1857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称算子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31" name="Object 2"/>
              <p:cNvGraphicFramePr/>
              <p:nvPr/>
            </p:nvGraphicFramePr>
            <p:xfrm>
              <a:off x="2954160" y="815760"/>
              <a:ext cx="3546720" cy="470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2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954160" y="815760"/>
                        <a:ext cx="3546720" cy="47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33" name="Object 3"/>
            <p:cNvGraphicFramePr/>
            <p:nvPr/>
          </p:nvGraphicFramePr>
          <p:xfrm>
            <a:off x="2643120" y="1428840"/>
            <a:ext cx="3713400" cy="46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3120" y="1428840"/>
                      <a:ext cx="371340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5" name="Rectangle 15"/>
            <p:cNvSpPr/>
            <p:nvPr/>
          </p:nvSpPr>
          <p:spPr>
            <a:xfrm>
              <a:off x="1357200" y="2000520"/>
              <a:ext cx="50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从   到     的自然嵌入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6" name="Object 2"/>
            <p:cNvGraphicFramePr/>
            <p:nvPr/>
          </p:nvGraphicFramePr>
          <p:xfrm>
            <a:off x="2786040" y="2029320"/>
            <a:ext cx="593640" cy="39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37" name="Object 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86040" y="2029320"/>
                      <a:ext cx="59364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8" name="Object 5"/>
            <p:cNvGraphicFramePr/>
            <p:nvPr/>
          </p:nvGraphicFramePr>
          <p:xfrm>
            <a:off x="2143080" y="2072160"/>
            <a:ext cx="395280" cy="345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43080" y="2072160"/>
                      <a:ext cx="395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0" name="Text Box 3"/>
          <p:cNvSpPr/>
          <p:nvPr/>
        </p:nvSpPr>
        <p:spPr>
          <a:xfrm>
            <a:off x="357120" y="28576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1" name="组合 11"/>
          <p:cNvGrpSpPr/>
          <p:nvPr/>
        </p:nvGrpSpPr>
        <p:grpSpPr>
          <a:xfrm>
            <a:off x="1785960" y="2928960"/>
            <a:ext cx="6357960" cy="520560"/>
            <a:chOff x="1785960" y="2928960"/>
            <a:chExt cx="6357960" cy="520560"/>
          </a:xfrm>
        </p:grpSpPr>
        <p:sp>
          <p:nvSpPr>
            <p:cNvPr id="342" name="Rectangle 15"/>
            <p:cNvSpPr/>
            <p:nvPr/>
          </p:nvSpPr>
          <p:spPr>
            <a:xfrm>
              <a:off x="1785960" y="2928960"/>
              <a:ext cx="635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自然嵌入算子是从   到     的子空间上的等距同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3" name="Object 8"/>
            <p:cNvGraphicFramePr/>
            <p:nvPr/>
          </p:nvGraphicFramePr>
          <p:xfrm>
            <a:off x="5286600" y="2957400"/>
            <a:ext cx="593640" cy="39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4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86600" y="2957400"/>
                      <a:ext cx="59364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5" name="Object 9"/>
            <p:cNvGraphicFramePr/>
            <p:nvPr/>
          </p:nvGraphicFramePr>
          <p:xfrm>
            <a:off x="4643280" y="3000240"/>
            <a:ext cx="395280" cy="34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46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643280" y="3000240"/>
                      <a:ext cx="395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42876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8" name="组合 8"/>
          <p:cNvGrpSpPr/>
          <p:nvPr/>
        </p:nvGrpSpPr>
        <p:grpSpPr>
          <a:xfrm>
            <a:off x="928800" y="1143000"/>
            <a:ext cx="7900920" cy="2428920"/>
            <a:chOff x="928800" y="1143000"/>
            <a:chExt cx="7900920" cy="2428920"/>
          </a:xfrm>
        </p:grpSpPr>
        <p:grpSp>
          <p:nvGrpSpPr>
            <p:cNvPr id="349" name="组合 2"/>
            <p:cNvGrpSpPr/>
            <p:nvPr/>
          </p:nvGrpSpPr>
          <p:grpSpPr>
            <a:xfrm>
              <a:off x="1000080" y="1143000"/>
              <a:ext cx="6902640" cy="2428920"/>
              <a:chOff x="1000080" y="1143000"/>
              <a:chExt cx="6902640" cy="2428920"/>
            </a:xfrm>
          </p:grpSpPr>
          <p:sp>
            <p:nvSpPr>
              <p:cNvPr id="350" name="Rectangle 15"/>
              <p:cNvSpPr/>
              <p:nvPr/>
            </p:nvSpPr>
            <p:spPr>
              <a:xfrm>
                <a:off x="1000080" y="1143000"/>
                <a:ext cx="48578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从而由定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51" name="Object 2"/>
              <p:cNvGraphicFramePr/>
              <p:nvPr/>
            </p:nvGraphicFramePr>
            <p:xfrm>
              <a:off x="1928520" y="1207800"/>
              <a:ext cx="2517840" cy="506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52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28520" y="1207800"/>
                        <a:ext cx="2517840" cy="50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53" name="Object 3"/>
              <p:cNvGraphicFramePr/>
              <p:nvPr/>
            </p:nvGraphicFramePr>
            <p:xfrm>
              <a:off x="1857240" y="2143080"/>
              <a:ext cx="6045480" cy="1428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5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857240" y="2143080"/>
                        <a:ext cx="6045480" cy="1428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55" name="Object 4"/>
            <p:cNvGraphicFramePr/>
            <p:nvPr/>
          </p:nvGraphicFramePr>
          <p:xfrm>
            <a:off x="5000760" y="1201680"/>
            <a:ext cx="3828960" cy="47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0760" y="1201680"/>
                      <a:ext cx="3828960" cy="47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7" name="Object 5"/>
            <p:cNvGraphicFramePr/>
            <p:nvPr/>
          </p:nvGraphicFramePr>
          <p:xfrm>
            <a:off x="928800" y="1643040"/>
            <a:ext cx="2455920" cy="479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5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800" y="1643040"/>
                      <a:ext cx="2455920" cy="47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9"/>
          <p:cNvGrpSpPr/>
          <p:nvPr/>
        </p:nvGrpSpPr>
        <p:grpSpPr>
          <a:xfrm>
            <a:off x="928800" y="2428920"/>
            <a:ext cx="7572240" cy="947160"/>
            <a:chOff x="928800" y="2428920"/>
            <a:chExt cx="7572240" cy="947160"/>
          </a:xfrm>
        </p:grpSpPr>
        <p:grpSp>
          <p:nvGrpSpPr>
            <p:cNvPr id="360" name="组合 1"/>
            <p:cNvGrpSpPr/>
            <p:nvPr/>
          </p:nvGrpSpPr>
          <p:grpSpPr>
            <a:xfrm>
              <a:off x="928800" y="2428920"/>
              <a:ext cx="7572240" cy="947160"/>
              <a:chOff x="928800" y="2428920"/>
              <a:chExt cx="7572240" cy="947160"/>
            </a:xfrm>
          </p:grpSpPr>
          <p:sp>
            <p:nvSpPr>
              <p:cNvPr id="361" name="Rectangle 15"/>
              <p:cNvSpPr/>
              <p:nvPr/>
            </p:nvSpPr>
            <p:spPr>
              <a:xfrm>
                <a:off x="928800" y="2428920"/>
                <a:ext cx="7572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定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4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知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             为线性子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 是从    到   上的等距同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62" name="Object 2"/>
              <p:cNvGraphicFramePr/>
              <p:nvPr/>
            </p:nvGraphicFramePr>
            <p:xfrm>
              <a:off x="3286080" y="2428920"/>
              <a:ext cx="2376360" cy="585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63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86080" y="2428920"/>
                        <a:ext cx="2376360" cy="585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4" name="Object 3"/>
              <p:cNvGraphicFramePr/>
              <p:nvPr/>
            </p:nvGraphicFramePr>
            <p:xfrm>
              <a:off x="6000840" y="2466720"/>
              <a:ext cx="2149200" cy="533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65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000840" y="2466720"/>
                        <a:ext cx="2149200" cy="53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6" name="Object 4"/>
            <p:cNvGraphicFramePr/>
            <p:nvPr/>
          </p:nvGraphicFramePr>
          <p:xfrm>
            <a:off x="1428840" y="2923920"/>
            <a:ext cx="1187280" cy="39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7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28840" y="2923920"/>
                      <a:ext cx="1187280" cy="39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8" name="Object 5"/>
            <p:cNvGraphicFramePr/>
            <p:nvPr/>
          </p:nvGraphicFramePr>
          <p:xfrm>
            <a:off x="7215480" y="2941200"/>
            <a:ext cx="357120" cy="398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215480" y="2941200"/>
                      <a:ext cx="357120" cy="39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0" name="Object 6"/>
            <p:cNvGraphicFramePr/>
            <p:nvPr/>
          </p:nvGraphicFramePr>
          <p:xfrm>
            <a:off x="6459480" y="2941200"/>
            <a:ext cx="395280" cy="347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1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59480" y="2941200"/>
                      <a:ext cx="39528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2" name="Object 7"/>
            <p:cNvGraphicFramePr/>
            <p:nvPr/>
          </p:nvGraphicFramePr>
          <p:xfrm>
            <a:off x="5357880" y="2928600"/>
            <a:ext cx="311040" cy="372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3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357880" y="2928600"/>
                      <a:ext cx="311040" cy="37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4" name="组合 35"/>
          <p:cNvGrpSpPr/>
          <p:nvPr/>
        </p:nvGrpSpPr>
        <p:grpSpPr>
          <a:xfrm>
            <a:off x="928800" y="1000080"/>
            <a:ext cx="6715080" cy="947160"/>
            <a:chOff x="928800" y="1000080"/>
            <a:chExt cx="6715080" cy="947160"/>
          </a:xfrm>
        </p:grpSpPr>
        <p:sp>
          <p:nvSpPr>
            <p:cNvPr id="375" name="Rectangle 15"/>
            <p:cNvSpPr/>
            <p:nvPr/>
          </p:nvSpPr>
          <p:spPr>
            <a:xfrm>
              <a:off x="928800" y="1000080"/>
              <a:ext cx="485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   是线性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76" name="Object 28"/>
            <p:cNvGraphicFramePr/>
            <p:nvPr/>
          </p:nvGraphicFramePr>
          <p:xfrm>
            <a:off x="1844640" y="1023120"/>
            <a:ext cx="5799240" cy="50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77" name="Object 2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844640" y="1023120"/>
                      <a:ext cx="579924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8" name="Object 29"/>
            <p:cNvGraphicFramePr/>
            <p:nvPr/>
          </p:nvGraphicFramePr>
          <p:xfrm>
            <a:off x="1357200" y="1523160"/>
            <a:ext cx="311040" cy="372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79" name="Object 2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357200" y="1523160"/>
                      <a:ext cx="31104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组合 1"/>
          <p:cNvGrpSpPr/>
          <p:nvPr/>
        </p:nvGrpSpPr>
        <p:grpSpPr>
          <a:xfrm>
            <a:off x="714240" y="857160"/>
            <a:ext cx="7858440" cy="2651760"/>
            <a:chOff x="714240" y="857160"/>
            <a:chExt cx="7858440" cy="2651760"/>
          </a:xfrm>
        </p:grpSpPr>
        <p:grpSp>
          <p:nvGrpSpPr>
            <p:cNvPr id="381" name="组合 18"/>
            <p:cNvGrpSpPr/>
            <p:nvPr/>
          </p:nvGrpSpPr>
          <p:grpSpPr>
            <a:xfrm>
              <a:off x="714240" y="857160"/>
              <a:ext cx="7858440" cy="2564280"/>
              <a:chOff x="714240" y="857160"/>
              <a:chExt cx="7858440" cy="2564280"/>
            </a:xfrm>
          </p:grpSpPr>
          <p:sp>
            <p:nvSpPr>
              <p:cNvPr id="382" name="Rectangle 15"/>
              <p:cNvSpPr/>
              <p:nvPr/>
            </p:nvSpPr>
            <p:spPr>
              <a:xfrm>
                <a:off x="714240" y="857160"/>
                <a:ext cx="785844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将等距同构空间看作同一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我们可以将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看作     的线性子空间，即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易知，当   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时，  是     的闭线性子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不完备，考虑     的闭子空间        ，一方面        为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另一方面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)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      中稠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可以将       看成    的完备化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这样，借助于二次共轭空间，我们得到了线性赋范空间的一种完备化方法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83" name="Object 2"/>
              <p:cNvGraphicFramePr/>
              <p:nvPr/>
            </p:nvGraphicFramePr>
            <p:xfrm>
              <a:off x="4435560" y="2143440"/>
              <a:ext cx="85068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84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35560" y="2143440"/>
                        <a:ext cx="85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5" name="Object 3"/>
              <p:cNvGraphicFramePr/>
              <p:nvPr/>
            </p:nvGraphicFramePr>
            <p:xfrm>
              <a:off x="4792680" y="1312920"/>
              <a:ext cx="1279440" cy="401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86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92680" y="1312920"/>
                        <a:ext cx="1279440" cy="40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7" name="Object 4"/>
              <p:cNvGraphicFramePr/>
              <p:nvPr/>
            </p:nvGraphicFramePr>
            <p:xfrm>
              <a:off x="1474560" y="1312560"/>
              <a:ext cx="596880" cy="401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8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474560" y="1312560"/>
                        <a:ext cx="596880" cy="40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9" name="Object 5"/>
              <p:cNvGraphicFramePr/>
              <p:nvPr/>
            </p:nvGraphicFramePr>
            <p:xfrm>
              <a:off x="7929720" y="928440"/>
              <a:ext cx="396720" cy="347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90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929720" y="928440"/>
                        <a:ext cx="396720" cy="34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1" name="Object 6"/>
              <p:cNvGraphicFramePr/>
              <p:nvPr/>
            </p:nvGraphicFramePr>
            <p:xfrm>
              <a:off x="3571920" y="3072240"/>
              <a:ext cx="398160" cy="3492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92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571920" y="3072240"/>
                        <a:ext cx="398160" cy="34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3" name="Object 7"/>
            <p:cNvGraphicFramePr/>
            <p:nvPr/>
          </p:nvGraphicFramePr>
          <p:xfrm>
            <a:off x="7644240" y="1357200"/>
            <a:ext cx="396720" cy="347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94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644240" y="1357200"/>
                      <a:ext cx="396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5" name="Object 8"/>
            <p:cNvGraphicFramePr/>
            <p:nvPr/>
          </p:nvGraphicFramePr>
          <p:xfrm>
            <a:off x="3357360" y="1785960"/>
            <a:ext cx="396720" cy="347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96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57360" y="1785960"/>
                      <a:ext cx="396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7" name="Object 9"/>
            <p:cNvGraphicFramePr/>
            <p:nvPr/>
          </p:nvGraphicFramePr>
          <p:xfrm>
            <a:off x="4000320" y="1741320"/>
            <a:ext cx="596880" cy="401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9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00320" y="1741320"/>
                      <a:ext cx="59688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9" name="Object 10"/>
            <p:cNvGraphicFramePr/>
            <p:nvPr/>
          </p:nvGraphicFramePr>
          <p:xfrm>
            <a:off x="7429680" y="1785960"/>
            <a:ext cx="396720" cy="3477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00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429680" y="1785960"/>
                      <a:ext cx="396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1" name="Object 11"/>
            <p:cNvGraphicFramePr/>
            <p:nvPr/>
          </p:nvGraphicFramePr>
          <p:xfrm>
            <a:off x="2214360" y="2170440"/>
            <a:ext cx="596880" cy="4017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2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214360" y="2170440"/>
                      <a:ext cx="59688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Object 12"/>
            <p:cNvGraphicFramePr/>
            <p:nvPr/>
          </p:nvGraphicFramePr>
          <p:xfrm>
            <a:off x="6643800" y="2143440"/>
            <a:ext cx="850680" cy="507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4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643800" y="2143440"/>
                      <a:ext cx="8506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Object 13"/>
            <p:cNvGraphicFramePr/>
            <p:nvPr/>
          </p:nvGraphicFramePr>
          <p:xfrm>
            <a:off x="4143240" y="2643480"/>
            <a:ext cx="396720" cy="3477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6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143240" y="2643480"/>
                      <a:ext cx="396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Object 14"/>
            <p:cNvGraphicFramePr/>
            <p:nvPr/>
          </p:nvGraphicFramePr>
          <p:xfrm>
            <a:off x="4935600" y="2645280"/>
            <a:ext cx="850680" cy="426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8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935600" y="2645280"/>
                      <a:ext cx="8506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Object 15"/>
            <p:cNvGraphicFramePr/>
            <p:nvPr/>
          </p:nvGraphicFramePr>
          <p:xfrm>
            <a:off x="6221520" y="2572200"/>
            <a:ext cx="850680" cy="507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0" name="Object 1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221520" y="2572200"/>
                      <a:ext cx="8506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Object 16"/>
            <p:cNvGraphicFramePr/>
            <p:nvPr/>
          </p:nvGraphicFramePr>
          <p:xfrm>
            <a:off x="2142720" y="3000960"/>
            <a:ext cx="850680" cy="507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2" name="Object 16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142720" y="3000960"/>
                      <a:ext cx="8506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4" name="组合 18"/>
          <p:cNvGrpSpPr/>
          <p:nvPr/>
        </p:nvGrpSpPr>
        <p:grpSpPr>
          <a:xfrm>
            <a:off x="1214280" y="714240"/>
            <a:ext cx="7143840" cy="1428840"/>
            <a:chOff x="1214280" y="714240"/>
            <a:chExt cx="7143840" cy="1428840"/>
          </a:xfrm>
        </p:grpSpPr>
        <p:grpSp>
          <p:nvGrpSpPr>
            <p:cNvPr id="415" name="组合 3"/>
            <p:cNvGrpSpPr/>
            <p:nvPr/>
          </p:nvGrpSpPr>
          <p:grpSpPr>
            <a:xfrm>
              <a:off x="1214280" y="714240"/>
              <a:ext cx="7143840" cy="1373760"/>
              <a:chOff x="1214280" y="714240"/>
              <a:chExt cx="7143840" cy="1373760"/>
            </a:xfrm>
          </p:grpSpPr>
          <p:grpSp>
            <p:nvGrpSpPr>
              <p:cNvPr id="416" name="组合 48"/>
              <p:cNvGrpSpPr/>
              <p:nvPr/>
            </p:nvGrpSpPr>
            <p:grpSpPr>
              <a:xfrm>
                <a:off x="1214280" y="714240"/>
                <a:ext cx="7143840" cy="1373760"/>
                <a:chOff x="1214280" y="714240"/>
                <a:chExt cx="7143840" cy="1373760"/>
              </a:xfrm>
            </p:grpSpPr>
            <p:sp>
              <p:nvSpPr>
                <p:cNvPr id="417" name="Rectangle 15"/>
                <p:cNvSpPr/>
                <p:nvPr/>
              </p:nvSpPr>
              <p:spPr>
                <a:xfrm>
                  <a:off x="1214280" y="714240"/>
                  <a:ext cx="714384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为线性赋范空间， 是   的共轭空间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称集合          是弱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(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)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有界集，若对于每个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存在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18" name="Object 2"/>
                <p:cNvGraphicFramePr/>
                <p:nvPr/>
              </p:nvGraphicFramePr>
              <p:xfrm>
                <a:off x="2214360" y="785520"/>
                <a:ext cx="396720" cy="347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19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214360" y="785520"/>
                          <a:ext cx="396720" cy="347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20" name="Object 9"/>
              <p:cNvGraphicFramePr/>
              <p:nvPr/>
            </p:nvGraphicFramePr>
            <p:xfrm>
              <a:off x="2285640" y="1233360"/>
              <a:ext cx="1182600" cy="338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21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5640" y="1233360"/>
                        <a:ext cx="1182600" cy="33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2" name="Object 11"/>
              <p:cNvGraphicFramePr/>
              <p:nvPr/>
            </p:nvGraphicFramePr>
            <p:xfrm>
              <a:off x="1285560" y="1571760"/>
              <a:ext cx="1047600" cy="479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23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285560" y="1571760"/>
                        <a:ext cx="1047600" cy="47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24" name="Object 8"/>
            <p:cNvGraphicFramePr/>
            <p:nvPr/>
          </p:nvGraphicFramePr>
          <p:xfrm>
            <a:off x="5244840" y="742680"/>
            <a:ext cx="479160" cy="39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44840" y="742680"/>
                      <a:ext cx="4791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Object 9"/>
            <p:cNvGraphicFramePr/>
            <p:nvPr/>
          </p:nvGraphicFramePr>
          <p:xfrm>
            <a:off x="5857920" y="796680"/>
            <a:ext cx="395280" cy="34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7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57920" y="796680"/>
                      <a:ext cx="395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8" name="Object 10"/>
            <p:cNvGraphicFramePr/>
            <p:nvPr/>
          </p:nvGraphicFramePr>
          <p:xfrm>
            <a:off x="4143240" y="1285560"/>
            <a:ext cx="393480" cy="285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29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143240" y="1285560"/>
                      <a:ext cx="3934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0" name="Object 11"/>
            <p:cNvGraphicFramePr/>
            <p:nvPr/>
          </p:nvGraphicFramePr>
          <p:xfrm>
            <a:off x="3143160" y="1609560"/>
            <a:ext cx="4076640" cy="533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31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143160" y="1609560"/>
                      <a:ext cx="407664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2" name="Text Box 3"/>
          <p:cNvSpPr/>
          <p:nvPr/>
        </p:nvSpPr>
        <p:spPr>
          <a:xfrm>
            <a:off x="357120" y="228600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3" name="组合 20"/>
          <p:cNvGrpSpPr/>
          <p:nvPr/>
        </p:nvGrpSpPr>
        <p:grpSpPr>
          <a:xfrm>
            <a:off x="1428840" y="2357280"/>
            <a:ext cx="7143840" cy="520560"/>
            <a:chOff x="1428840" y="2357280"/>
            <a:chExt cx="7143840" cy="520560"/>
          </a:xfrm>
        </p:grpSpPr>
        <p:grpSp>
          <p:nvGrpSpPr>
            <p:cNvPr id="434" name="组合 3"/>
            <p:cNvGrpSpPr/>
            <p:nvPr/>
          </p:nvGrpSpPr>
          <p:grpSpPr>
            <a:xfrm>
              <a:off x="1428840" y="2357280"/>
              <a:ext cx="7143840" cy="520560"/>
              <a:chOff x="1428840" y="2357280"/>
              <a:chExt cx="7143840" cy="520560"/>
            </a:xfrm>
          </p:grpSpPr>
          <p:sp>
            <p:nvSpPr>
              <p:cNvPr id="435" name="Rectangle 15"/>
              <p:cNvSpPr/>
              <p:nvPr/>
            </p:nvSpPr>
            <p:spPr>
              <a:xfrm>
                <a:off x="1428840" y="2357280"/>
                <a:ext cx="714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集合          是   有界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当且仅当   是有界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36" name="Object 13"/>
              <p:cNvGraphicFramePr/>
              <p:nvPr/>
            </p:nvGraphicFramePr>
            <p:xfrm>
              <a:off x="2286000" y="2428560"/>
              <a:ext cx="1182600" cy="3387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37" name="Object 13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86000" y="2428560"/>
                        <a:ext cx="1182600" cy="33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8" name="Object 14"/>
              <p:cNvGraphicFramePr/>
              <p:nvPr/>
            </p:nvGraphicFramePr>
            <p:xfrm>
              <a:off x="6572520" y="2428560"/>
              <a:ext cx="339480" cy="3466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439" name="Object 1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572520" y="2428560"/>
                        <a:ext cx="339480" cy="34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0" name="Object 17"/>
            <p:cNvGraphicFramePr/>
            <p:nvPr/>
          </p:nvGraphicFramePr>
          <p:xfrm>
            <a:off x="3643200" y="2500200"/>
            <a:ext cx="393480" cy="286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41" name="Object 1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643200" y="2500200"/>
                      <a:ext cx="393480" cy="2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2" name="Text Box 3"/>
          <p:cNvSpPr/>
          <p:nvPr/>
        </p:nvSpPr>
        <p:spPr>
          <a:xfrm>
            <a:off x="357120" y="31431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3" name="组合 40"/>
          <p:cNvGrpSpPr/>
          <p:nvPr/>
        </p:nvGrpSpPr>
        <p:grpSpPr>
          <a:xfrm>
            <a:off x="1000080" y="3214800"/>
            <a:ext cx="7143840" cy="947160"/>
            <a:chOff x="1000080" y="3214800"/>
            <a:chExt cx="7143840" cy="947160"/>
          </a:xfrm>
        </p:grpSpPr>
        <p:grpSp>
          <p:nvGrpSpPr>
            <p:cNvPr id="444" name="组合 3"/>
            <p:cNvGrpSpPr/>
            <p:nvPr/>
          </p:nvGrpSpPr>
          <p:grpSpPr>
            <a:xfrm>
              <a:off x="1000080" y="3214800"/>
              <a:ext cx="7143840" cy="947160"/>
              <a:chOff x="1000080" y="3214800"/>
              <a:chExt cx="7143840" cy="947160"/>
            </a:xfrm>
          </p:grpSpPr>
          <p:sp>
            <p:nvSpPr>
              <p:cNvPr id="445" name="Rectangle 15"/>
              <p:cNvSpPr/>
              <p:nvPr/>
            </p:nvSpPr>
            <p:spPr>
              <a:xfrm>
                <a:off x="1000080" y="3214800"/>
                <a:ext cx="71438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有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存在                                   则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对于每个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46" name="Object 19"/>
              <p:cNvGraphicFramePr/>
              <p:nvPr/>
            </p:nvGraphicFramePr>
            <p:xfrm>
              <a:off x="2035080" y="3305160"/>
              <a:ext cx="393480" cy="33804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447" name="Object 19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035080" y="3305160"/>
                        <a:ext cx="393480" cy="33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8" name="Object 22"/>
            <p:cNvGraphicFramePr/>
            <p:nvPr/>
          </p:nvGraphicFramePr>
          <p:xfrm>
            <a:off x="4143240" y="3252600"/>
            <a:ext cx="3397320" cy="5335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49" name="Object 22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143240" y="3252600"/>
                      <a:ext cx="339732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Object 23"/>
            <p:cNvGraphicFramePr/>
            <p:nvPr/>
          </p:nvGraphicFramePr>
          <p:xfrm>
            <a:off x="2571480" y="3664080"/>
            <a:ext cx="1047600" cy="4795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51" name="Object 23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571480" y="3664080"/>
                      <a:ext cx="104760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14"/>
          <p:cNvGrpSpPr/>
          <p:nvPr/>
        </p:nvGrpSpPr>
        <p:grpSpPr>
          <a:xfrm>
            <a:off x="857160" y="642960"/>
            <a:ext cx="6037200" cy="1163520"/>
            <a:chOff x="857160" y="642960"/>
            <a:chExt cx="6037200" cy="1163520"/>
          </a:xfrm>
        </p:grpSpPr>
        <p:graphicFrame>
          <p:nvGraphicFramePr>
            <p:cNvPr id="453" name="Object 2"/>
            <p:cNvGraphicFramePr/>
            <p:nvPr/>
          </p:nvGraphicFramePr>
          <p:xfrm>
            <a:off x="1571400" y="642960"/>
            <a:ext cx="532296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71400" y="642960"/>
                      <a:ext cx="53229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55" name="组合 8"/>
            <p:cNvGrpSpPr/>
            <p:nvPr/>
          </p:nvGrpSpPr>
          <p:grpSpPr>
            <a:xfrm>
              <a:off x="857160" y="1285920"/>
              <a:ext cx="3571920" cy="520560"/>
              <a:chOff x="857160" y="1285920"/>
              <a:chExt cx="3571920" cy="520560"/>
            </a:xfrm>
          </p:grpSpPr>
          <p:grpSp>
            <p:nvGrpSpPr>
              <p:cNvPr id="456" name="组合 3"/>
              <p:cNvGrpSpPr/>
              <p:nvPr/>
            </p:nvGrpSpPr>
            <p:grpSpPr>
              <a:xfrm>
                <a:off x="857160" y="1285920"/>
                <a:ext cx="3571920" cy="520560"/>
                <a:chOff x="857160" y="1285920"/>
                <a:chExt cx="3571920" cy="520560"/>
              </a:xfrm>
            </p:grpSpPr>
            <p:sp>
              <p:nvSpPr>
                <p:cNvPr id="457" name="Rectangle 15"/>
                <p:cNvSpPr/>
                <p:nvPr/>
              </p:nvSpPr>
              <p:spPr>
                <a:xfrm>
                  <a:off x="857160" y="1285920"/>
                  <a:ext cx="3571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为   有界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58" name="Object 6"/>
                <p:cNvGraphicFramePr/>
                <p:nvPr/>
              </p:nvGraphicFramePr>
              <p:xfrm>
                <a:off x="857160" y="1357200"/>
                <a:ext cx="285480" cy="3574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59" name="Object 6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857160" y="1357200"/>
                          <a:ext cx="285480" cy="357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60" name="Object 8"/>
              <p:cNvGraphicFramePr/>
              <p:nvPr/>
            </p:nvGraphicFramePr>
            <p:xfrm>
              <a:off x="1428480" y="1374840"/>
              <a:ext cx="357120" cy="339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61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428480" y="1374840"/>
                        <a:ext cx="357120" cy="33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462" name="组合 32"/>
          <p:cNvGrpSpPr/>
          <p:nvPr/>
        </p:nvGrpSpPr>
        <p:grpSpPr>
          <a:xfrm>
            <a:off x="714240" y="1714680"/>
            <a:ext cx="7500960" cy="1515960"/>
            <a:chOff x="714240" y="1714680"/>
            <a:chExt cx="7500960" cy="1515960"/>
          </a:xfrm>
        </p:grpSpPr>
        <p:grpSp>
          <p:nvGrpSpPr>
            <p:cNvPr id="463" name="组合 20"/>
            <p:cNvGrpSpPr/>
            <p:nvPr/>
          </p:nvGrpSpPr>
          <p:grpSpPr>
            <a:xfrm>
              <a:off x="714240" y="1714680"/>
              <a:ext cx="7500960" cy="947160"/>
              <a:chOff x="714240" y="1714680"/>
              <a:chExt cx="7500960" cy="947160"/>
            </a:xfrm>
          </p:grpSpPr>
          <p:grpSp>
            <p:nvGrpSpPr>
              <p:cNvPr id="464" name="组合 2"/>
              <p:cNvGrpSpPr/>
              <p:nvPr/>
            </p:nvGrpSpPr>
            <p:grpSpPr>
              <a:xfrm>
                <a:off x="714240" y="1714680"/>
                <a:ext cx="7500960" cy="947160"/>
                <a:chOff x="714240" y="1714680"/>
                <a:chExt cx="7500960" cy="947160"/>
              </a:xfrm>
            </p:grpSpPr>
            <p:grpSp>
              <p:nvGrpSpPr>
                <p:cNvPr id="465" name="组合 3"/>
                <p:cNvGrpSpPr/>
                <p:nvPr/>
              </p:nvGrpSpPr>
              <p:grpSpPr>
                <a:xfrm>
                  <a:off x="714240" y="1714680"/>
                  <a:ext cx="7500960" cy="947160"/>
                  <a:chOff x="714240" y="1714680"/>
                  <a:chExt cx="7500960" cy="947160"/>
                </a:xfrm>
              </p:grpSpPr>
              <p:sp>
                <p:nvSpPr>
                  <p:cNvPr id="466" name="Rectangle 15"/>
                  <p:cNvSpPr/>
                  <p:nvPr/>
                </p:nvSpPr>
                <p:spPr>
                  <a:xfrm>
                    <a:off x="714240" y="1714680"/>
                    <a:ext cx="7500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    是   有界集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从   到     的自然嵌入，则       是      的子集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对于每个           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467" name="Object 3"/>
                  <p:cNvGraphicFramePr/>
                  <p:nvPr/>
                </p:nvGraphicFramePr>
                <p:xfrm>
                  <a:off x="1785600" y="1785960"/>
                  <a:ext cx="393480" cy="33804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468" name="Object 3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1785600" y="1785960"/>
                            <a:ext cx="393480" cy="338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469" name="Object 4"/>
                  <p:cNvGraphicFramePr/>
                  <p:nvPr/>
                </p:nvGraphicFramePr>
                <p:xfrm>
                  <a:off x="4429080" y="1785960"/>
                  <a:ext cx="311040" cy="37296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470" name="Object 4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4429080" y="1785960"/>
                            <a:ext cx="311040" cy="372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71" name="Object 5"/>
                <p:cNvGraphicFramePr/>
                <p:nvPr/>
              </p:nvGraphicFramePr>
              <p:xfrm>
                <a:off x="2500200" y="1857240"/>
                <a:ext cx="393480" cy="28548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472" name="Object 5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2500200" y="1857240"/>
                          <a:ext cx="393480" cy="285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73" name="Object 9"/>
              <p:cNvGraphicFramePr/>
              <p:nvPr/>
            </p:nvGraphicFramePr>
            <p:xfrm>
              <a:off x="5397480" y="1785960"/>
              <a:ext cx="458640" cy="3380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474" name="Object 9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397480" y="1785960"/>
                        <a:ext cx="458640" cy="33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5" name="Object 10"/>
              <p:cNvGraphicFramePr/>
              <p:nvPr/>
            </p:nvGraphicFramePr>
            <p:xfrm>
              <a:off x="5958000" y="1760400"/>
              <a:ext cx="687240" cy="3906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76" name="Object 1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5958000" y="1760400"/>
                        <a:ext cx="687240" cy="39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7" name="Object 11"/>
              <p:cNvGraphicFramePr/>
              <p:nvPr/>
            </p:nvGraphicFramePr>
            <p:xfrm>
              <a:off x="1779480" y="2214720"/>
              <a:ext cx="792000" cy="4269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478" name="Object 11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779480" y="2214720"/>
                        <a:ext cx="79200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9" name="Object 12"/>
              <p:cNvGraphicFramePr/>
              <p:nvPr/>
            </p:nvGraphicFramePr>
            <p:xfrm>
              <a:off x="2812680" y="2181240"/>
              <a:ext cx="687240" cy="39060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480" name="Object 12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812680" y="2181240"/>
                        <a:ext cx="687240" cy="39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81" name="Object 13"/>
              <p:cNvGraphicFramePr/>
              <p:nvPr/>
            </p:nvGraphicFramePr>
            <p:xfrm>
              <a:off x="6072120" y="2143080"/>
              <a:ext cx="1047600" cy="4795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482" name="Object 13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6072120" y="2143080"/>
                        <a:ext cx="1047600" cy="47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83" name="Object 14"/>
            <p:cNvGraphicFramePr/>
            <p:nvPr/>
          </p:nvGraphicFramePr>
          <p:xfrm>
            <a:off x="1942920" y="2643480"/>
            <a:ext cx="4956120" cy="5871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84" name="Object 14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942920" y="2643480"/>
                      <a:ext cx="495612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85" name="组合 38"/>
          <p:cNvGrpSpPr/>
          <p:nvPr/>
        </p:nvGrpSpPr>
        <p:grpSpPr>
          <a:xfrm>
            <a:off x="714240" y="3214800"/>
            <a:ext cx="7507440" cy="1428480"/>
            <a:chOff x="714240" y="3214800"/>
            <a:chExt cx="7507440" cy="1428480"/>
          </a:xfrm>
        </p:grpSpPr>
        <p:grpSp>
          <p:nvGrpSpPr>
            <p:cNvPr id="486" name="组合 22"/>
            <p:cNvGrpSpPr/>
            <p:nvPr/>
          </p:nvGrpSpPr>
          <p:grpSpPr>
            <a:xfrm>
              <a:off x="714240" y="3214800"/>
              <a:ext cx="7507440" cy="1373760"/>
              <a:chOff x="714240" y="3214800"/>
              <a:chExt cx="7507440" cy="1373760"/>
            </a:xfrm>
          </p:grpSpPr>
          <p:grpSp>
            <p:nvGrpSpPr>
              <p:cNvPr id="487" name="组合 3"/>
              <p:cNvGrpSpPr/>
              <p:nvPr/>
            </p:nvGrpSpPr>
            <p:grpSpPr>
              <a:xfrm>
                <a:off x="720360" y="3214800"/>
                <a:ext cx="7501320" cy="1373760"/>
                <a:chOff x="720360" y="3214800"/>
                <a:chExt cx="7501320" cy="1373760"/>
              </a:xfrm>
            </p:grpSpPr>
            <p:sp>
              <p:nvSpPr>
                <p:cNvPr id="488" name="Rectangle 15"/>
                <p:cNvSpPr/>
                <p:nvPr/>
              </p:nvSpPr>
              <p:spPr>
                <a:xfrm>
                  <a:off x="720360" y="3214800"/>
                  <a:ext cx="750132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在    上点点有界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根据共鸣定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存在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 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但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故                             是有界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89" name="Object 15"/>
                <p:cNvGraphicFramePr/>
                <p:nvPr/>
              </p:nvGraphicFramePr>
              <p:xfrm>
                <a:off x="6864480" y="3298680"/>
                <a:ext cx="1212840" cy="415800"/>
              </p:xfrm>
              <a:graphic>
                <a:graphicData uri="http://schemas.openxmlformats.org/presentationml/2006/ole">
                  <p:oleObj r:id="rId25" spid="">
                    <p:embed/>
                    <p:pic>
                      <p:nvPicPr>
                        <p:cNvPr id="490" name="Object 15" descr="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6864480" y="3298680"/>
                          <a:ext cx="1212840" cy="415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91" name="Object 19"/>
              <p:cNvGraphicFramePr/>
              <p:nvPr/>
            </p:nvGraphicFramePr>
            <p:xfrm>
              <a:off x="1665000" y="3252600"/>
              <a:ext cx="555480" cy="39060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492" name="Object 19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1665000" y="3252600"/>
                        <a:ext cx="555480" cy="39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3" name="Object 20"/>
              <p:cNvGraphicFramePr/>
              <p:nvPr/>
            </p:nvGraphicFramePr>
            <p:xfrm>
              <a:off x="714240" y="3287520"/>
              <a:ext cx="792000" cy="42696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494" name="Object 20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714240" y="3287520"/>
                        <a:ext cx="79200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95" name="Object 23"/>
            <p:cNvGraphicFramePr/>
            <p:nvPr/>
          </p:nvGraphicFramePr>
          <p:xfrm>
            <a:off x="765000" y="3643200"/>
            <a:ext cx="3313080" cy="5871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96" name="Object 23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65000" y="3643200"/>
                      <a:ext cx="331308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7" name="Object 24"/>
            <p:cNvGraphicFramePr/>
            <p:nvPr/>
          </p:nvGraphicFramePr>
          <p:xfrm>
            <a:off x="4478400" y="3643200"/>
            <a:ext cx="3595680" cy="5871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498" name="Object 24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4478400" y="3643200"/>
                      <a:ext cx="359568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9" name="Object 25"/>
            <p:cNvGraphicFramePr/>
            <p:nvPr/>
          </p:nvGraphicFramePr>
          <p:xfrm>
            <a:off x="1149120" y="4110120"/>
            <a:ext cx="2406600" cy="5331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500" name="Object 25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1149120" y="4110120"/>
                      <a:ext cx="240660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1" name="Object 26"/>
            <p:cNvGraphicFramePr/>
            <p:nvPr/>
          </p:nvGraphicFramePr>
          <p:xfrm>
            <a:off x="3730680" y="4168800"/>
            <a:ext cx="392040" cy="33804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502" name="Object 26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3730680" y="4168800"/>
                      <a:ext cx="39204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21"/>
          <p:cNvGrpSpPr/>
          <p:nvPr/>
        </p:nvGrpSpPr>
        <p:grpSpPr>
          <a:xfrm>
            <a:off x="571680" y="500040"/>
            <a:ext cx="7929360" cy="2581200"/>
            <a:chOff x="571680" y="500040"/>
            <a:chExt cx="7929360" cy="2581200"/>
          </a:xfrm>
        </p:grpSpPr>
        <p:grpSp>
          <p:nvGrpSpPr>
            <p:cNvPr id="86" name="组合 20"/>
            <p:cNvGrpSpPr/>
            <p:nvPr/>
          </p:nvGrpSpPr>
          <p:grpSpPr>
            <a:xfrm>
              <a:off x="571680" y="500040"/>
              <a:ext cx="7929360" cy="2581200"/>
              <a:chOff x="571680" y="500040"/>
              <a:chExt cx="7929360" cy="2581200"/>
            </a:xfrm>
          </p:grpSpPr>
          <p:graphicFrame>
            <p:nvGraphicFramePr>
              <p:cNvPr id="87" name="Object 6"/>
              <p:cNvGraphicFramePr/>
              <p:nvPr/>
            </p:nvGraphicFramePr>
            <p:xfrm>
              <a:off x="5357880" y="571320"/>
              <a:ext cx="396720" cy="347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8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57880" y="571320"/>
                        <a:ext cx="396720" cy="34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89" name="组合 19"/>
              <p:cNvGrpSpPr/>
              <p:nvPr/>
            </p:nvGrpSpPr>
            <p:grpSpPr>
              <a:xfrm>
                <a:off x="571680" y="500040"/>
                <a:ext cx="7929360" cy="2581200"/>
                <a:chOff x="571680" y="500040"/>
                <a:chExt cx="7929360" cy="2581200"/>
              </a:xfrm>
            </p:grpSpPr>
            <p:grpSp>
              <p:nvGrpSpPr>
                <p:cNvPr id="90" name="组合 3"/>
                <p:cNvGrpSpPr/>
                <p:nvPr/>
              </p:nvGrpSpPr>
              <p:grpSpPr>
                <a:xfrm>
                  <a:off x="571680" y="500040"/>
                  <a:ext cx="7929360" cy="2226960"/>
                  <a:chOff x="571680" y="500040"/>
                  <a:chExt cx="7929360" cy="2226960"/>
                </a:xfrm>
              </p:grpSpPr>
              <p:grpSp>
                <p:nvGrpSpPr>
                  <p:cNvPr id="91" name="组合 14"/>
                  <p:cNvGrpSpPr/>
                  <p:nvPr/>
                </p:nvGrpSpPr>
                <p:grpSpPr>
                  <a:xfrm>
                    <a:off x="571680" y="500040"/>
                    <a:ext cx="7929360" cy="2226960"/>
                    <a:chOff x="571680" y="500040"/>
                    <a:chExt cx="7929360" cy="2226960"/>
                  </a:xfrm>
                </p:grpSpPr>
                <p:grpSp>
                  <p:nvGrpSpPr>
                    <p:cNvPr id="92" name="组合 48"/>
                    <p:cNvGrpSpPr/>
                    <p:nvPr/>
                  </p:nvGrpSpPr>
                  <p:grpSpPr>
                    <a:xfrm>
                      <a:off x="571680" y="500040"/>
                      <a:ext cx="7929360" cy="2226960"/>
                      <a:chOff x="571680" y="500040"/>
                      <a:chExt cx="7929360" cy="2226960"/>
                    </a:xfrm>
                  </p:grpSpPr>
                  <p:sp>
                    <p:nvSpPr>
                      <p:cNvPr id="93" name="Rectangle 15"/>
                      <p:cNvSpPr/>
                      <p:nvPr/>
                    </p:nvSpPr>
                    <p:spPr>
                      <a:xfrm>
                        <a:off x="571680" y="500040"/>
                        <a:ext cx="7929360" cy="2226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对于任一线性赋范空间   ，   的共轭空间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是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Banach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空间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.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对于每个          ，我们有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对于每个         ，又有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graphicFrame>
                    <p:nvGraphicFramePr>
                      <p:cNvPr id="94" name="Object 2"/>
                      <p:cNvGraphicFramePr/>
                      <p:nvPr/>
                    </p:nvGraphicFramePr>
                    <p:xfrm>
                      <a:off x="4786560" y="571320"/>
                      <a:ext cx="396720" cy="347400"/>
                    </p:xfrm>
                    <a:graphic>
                      <a:graphicData uri="http://schemas.openxmlformats.org/presentationml/2006/ole">
                        <p:oleObj r:id="rId3" spid="">
                          <p:embed/>
                          <p:pic>
                            <p:nvPicPr>
                              <p:cNvPr id="95" name="Object 2" descr=""/>
                              <p:cNvPicPr/>
                              <p:nvPr/>
                            </p:nvPicPr>
                            <p:blipFill>
                              <a:blip r:embed="rId4"/>
                              <a:stretch/>
                            </p:blipFill>
                            <p:spPr>
                              <a:xfrm>
                                <a:off x="4786560" y="571320"/>
                                <a:ext cx="396720" cy="3474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</p:grpSp>
                <p:graphicFrame>
                  <p:nvGraphicFramePr>
                    <p:cNvPr id="96" name="Object 12"/>
                    <p:cNvGraphicFramePr/>
                    <p:nvPr/>
                  </p:nvGraphicFramePr>
                  <p:xfrm>
                    <a:off x="4071960" y="961920"/>
                    <a:ext cx="1212840" cy="466560"/>
                  </p:xfrm>
                  <a:graphic>
                    <a:graphicData uri="http://schemas.openxmlformats.org/presentationml/2006/ole">
                      <p:oleObj r:id="rId5" spid="">
                        <p:embed/>
                        <p:pic>
                          <p:nvPicPr>
                            <p:cNvPr id="97" name="Object 12" descr=""/>
                            <p:cNvPicPr/>
                            <p:nvPr/>
                          </p:nvPicPr>
                          <p:blipFill>
                            <a:blip r:embed="rId6"/>
                            <a:stretch/>
                          </p:blipFill>
                          <p:spPr>
                            <a:xfrm>
                              <a:off x="4071960" y="961920"/>
                              <a:ext cx="1212840" cy="46656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98" name="Object 4"/>
                  <p:cNvGraphicFramePr/>
                  <p:nvPr/>
                </p:nvGraphicFramePr>
                <p:xfrm>
                  <a:off x="2928960" y="1357200"/>
                  <a:ext cx="2593800" cy="88596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99" name="Object 4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2928960" y="1357200"/>
                            <a:ext cx="2593800" cy="88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100" name="Object 5"/>
                  <p:cNvGraphicFramePr/>
                  <p:nvPr/>
                </p:nvGraphicFramePr>
                <p:xfrm>
                  <a:off x="7429680" y="528480"/>
                  <a:ext cx="480960" cy="39996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101" name="Object 5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7429680" y="528480"/>
                            <a:ext cx="480960" cy="399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102" name="Object 8"/>
                <p:cNvGraphicFramePr/>
                <p:nvPr/>
              </p:nvGraphicFramePr>
              <p:xfrm>
                <a:off x="4429080" y="2143080"/>
                <a:ext cx="2593800" cy="9381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103" name="Object 8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4429080" y="2143080"/>
                          <a:ext cx="2593800" cy="93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aphicFrame>
          <p:nvGraphicFramePr>
            <p:cNvPr id="104" name="Object 7"/>
            <p:cNvGraphicFramePr/>
            <p:nvPr/>
          </p:nvGraphicFramePr>
          <p:xfrm>
            <a:off x="2071800" y="2286000"/>
            <a:ext cx="1049040" cy="363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5" name="Object 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071800" y="2286000"/>
                      <a:ext cx="1049040" cy="36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6" name="组合 18"/>
          <p:cNvGrpSpPr/>
          <p:nvPr/>
        </p:nvGrpSpPr>
        <p:grpSpPr>
          <a:xfrm>
            <a:off x="642960" y="3000240"/>
            <a:ext cx="7858080" cy="1688040"/>
            <a:chOff x="642960" y="3000240"/>
            <a:chExt cx="7858080" cy="1688040"/>
          </a:xfrm>
        </p:grpSpPr>
        <p:sp>
          <p:nvSpPr>
            <p:cNvPr id="107" name="Rectangle 15"/>
            <p:cNvSpPr/>
            <p:nvPr/>
          </p:nvSpPr>
          <p:spPr>
            <a:xfrm>
              <a:off x="642960" y="3000240"/>
              <a:ext cx="7858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些公式反映了线性赋范空间与它的共轭空间之间的对偶关系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作为线性赋范空间，   也存在共轭空间，记为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称    为    的二次共轭空间，类似地还有       等等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08" name="Object 9"/>
            <p:cNvGraphicFramePr/>
            <p:nvPr/>
          </p:nvGraphicFramePr>
          <p:xfrm>
            <a:off x="5958000" y="3473280"/>
            <a:ext cx="482400" cy="401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58000" y="3473280"/>
                      <a:ext cx="48240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Object 10"/>
            <p:cNvGraphicFramePr/>
            <p:nvPr/>
          </p:nvGraphicFramePr>
          <p:xfrm>
            <a:off x="2403360" y="3884760"/>
            <a:ext cx="596880" cy="4017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1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403360" y="3884760"/>
                      <a:ext cx="59688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Object 11"/>
            <p:cNvGraphicFramePr/>
            <p:nvPr/>
          </p:nvGraphicFramePr>
          <p:xfrm>
            <a:off x="3500280" y="3884760"/>
            <a:ext cx="596880" cy="4017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13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500280" y="3884760"/>
                      <a:ext cx="59688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Object 12"/>
            <p:cNvGraphicFramePr/>
            <p:nvPr/>
          </p:nvGraphicFramePr>
          <p:xfrm>
            <a:off x="4286160" y="3929040"/>
            <a:ext cx="396720" cy="347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15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286160" y="3929040"/>
                      <a:ext cx="396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Object 13"/>
            <p:cNvGraphicFramePr/>
            <p:nvPr/>
          </p:nvGraphicFramePr>
          <p:xfrm>
            <a:off x="1785960" y="4286520"/>
            <a:ext cx="682560" cy="4017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17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785960" y="4286520"/>
                      <a:ext cx="68256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16"/>
          <p:cNvGrpSpPr/>
          <p:nvPr/>
        </p:nvGrpSpPr>
        <p:grpSpPr>
          <a:xfrm>
            <a:off x="826920" y="771480"/>
            <a:ext cx="7929720" cy="2653560"/>
            <a:chOff x="826920" y="771480"/>
            <a:chExt cx="7929720" cy="2653560"/>
          </a:xfrm>
        </p:grpSpPr>
        <p:grpSp>
          <p:nvGrpSpPr>
            <p:cNvPr id="119" name="组合 1"/>
            <p:cNvGrpSpPr/>
            <p:nvPr/>
          </p:nvGrpSpPr>
          <p:grpSpPr>
            <a:xfrm>
              <a:off x="826920" y="771480"/>
              <a:ext cx="7929720" cy="2653560"/>
              <a:chOff x="826920" y="771480"/>
              <a:chExt cx="7929720" cy="2653560"/>
            </a:xfrm>
          </p:grpSpPr>
          <p:grpSp>
            <p:nvGrpSpPr>
              <p:cNvPr id="120" name="组合 3"/>
              <p:cNvGrpSpPr/>
              <p:nvPr/>
            </p:nvGrpSpPr>
            <p:grpSpPr>
              <a:xfrm>
                <a:off x="826920" y="771480"/>
                <a:ext cx="7929720" cy="2653560"/>
                <a:chOff x="826920" y="771480"/>
                <a:chExt cx="7929720" cy="2653560"/>
              </a:xfrm>
            </p:grpSpPr>
            <p:sp>
              <p:nvSpPr>
                <p:cNvPr id="121" name="Rectangle 15"/>
                <p:cNvSpPr/>
                <p:nvPr/>
              </p:nvSpPr>
              <p:spPr>
                <a:xfrm>
                  <a:off x="826920" y="771480"/>
                  <a:ext cx="7929720" cy="26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上线性泛函的一般形式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其中              是   个标量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不同的   对应不同的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元数组                  直接计算可以求出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22" name="Object 2"/>
                <p:cNvGraphicFramePr/>
                <p:nvPr/>
              </p:nvGraphicFramePr>
              <p:xfrm>
                <a:off x="1553760" y="842760"/>
                <a:ext cx="558720" cy="3902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3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553760" y="842760"/>
                          <a:ext cx="558720" cy="390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24" name="Object 6"/>
              <p:cNvGraphicFramePr/>
              <p:nvPr/>
            </p:nvGraphicFramePr>
            <p:xfrm>
              <a:off x="1469520" y="1414440"/>
              <a:ext cx="7059960" cy="495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5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69520" y="1414440"/>
                        <a:ext cx="7059960" cy="49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26" name="Object 7"/>
            <p:cNvGraphicFramePr/>
            <p:nvPr/>
          </p:nvGraphicFramePr>
          <p:xfrm>
            <a:off x="1612440" y="2089080"/>
            <a:ext cx="1411200" cy="46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12440" y="2089080"/>
                      <a:ext cx="141120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Object 8"/>
            <p:cNvGraphicFramePr/>
            <p:nvPr/>
          </p:nvGraphicFramePr>
          <p:xfrm>
            <a:off x="3398760" y="2200320"/>
            <a:ext cx="328320" cy="28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9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98760" y="2200320"/>
                      <a:ext cx="3283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9"/>
            <p:cNvGraphicFramePr/>
            <p:nvPr/>
          </p:nvGraphicFramePr>
          <p:xfrm>
            <a:off x="5873760" y="2135160"/>
            <a:ext cx="311040" cy="415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1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73760" y="2135160"/>
                      <a:ext cx="31104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Object 10"/>
            <p:cNvGraphicFramePr/>
            <p:nvPr/>
          </p:nvGraphicFramePr>
          <p:xfrm>
            <a:off x="7929720" y="2200320"/>
            <a:ext cx="32832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9720" y="2200320"/>
                      <a:ext cx="3283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Object 11"/>
            <p:cNvGraphicFramePr/>
            <p:nvPr/>
          </p:nvGraphicFramePr>
          <p:xfrm>
            <a:off x="1981080" y="2517840"/>
            <a:ext cx="1805040" cy="468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5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81080" y="2517840"/>
                      <a:ext cx="180504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6" name="Object 20"/>
          <p:cNvGraphicFramePr/>
          <p:nvPr/>
        </p:nvGraphicFramePr>
        <p:xfrm>
          <a:off x="3071880" y="3000240"/>
          <a:ext cx="2660760" cy="1121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7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71880" y="3000240"/>
                    <a:ext cx="26607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19"/>
          <p:cNvGrpSpPr/>
          <p:nvPr/>
        </p:nvGrpSpPr>
        <p:grpSpPr>
          <a:xfrm>
            <a:off x="571680" y="785880"/>
            <a:ext cx="7992720" cy="2897640"/>
            <a:chOff x="571680" y="785880"/>
            <a:chExt cx="7992720" cy="2897640"/>
          </a:xfrm>
        </p:grpSpPr>
        <p:grpSp>
          <p:nvGrpSpPr>
            <p:cNvPr id="139" name="组合 16"/>
            <p:cNvGrpSpPr/>
            <p:nvPr/>
          </p:nvGrpSpPr>
          <p:grpSpPr>
            <a:xfrm>
              <a:off x="571680" y="785880"/>
              <a:ext cx="7992720" cy="2653560"/>
              <a:chOff x="571680" y="785880"/>
              <a:chExt cx="7992720" cy="2653560"/>
            </a:xfrm>
          </p:grpSpPr>
          <p:grpSp>
            <p:nvGrpSpPr>
              <p:cNvPr id="140" name="组合 3"/>
              <p:cNvGrpSpPr/>
              <p:nvPr/>
            </p:nvGrpSpPr>
            <p:grpSpPr>
              <a:xfrm>
                <a:off x="571680" y="785880"/>
                <a:ext cx="7929360" cy="2653560"/>
                <a:chOff x="571680" y="785880"/>
                <a:chExt cx="7929360" cy="2653560"/>
              </a:xfrm>
            </p:grpSpPr>
            <p:sp>
              <p:nvSpPr>
                <p:cNvPr id="141" name="Rectangle 15"/>
                <p:cNvSpPr/>
                <p:nvPr/>
              </p:nvSpPr>
              <p:spPr>
                <a:xfrm>
                  <a:off x="571680" y="785880"/>
                  <a:ext cx="7929360" cy="26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将     上的线性泛函   与    中的点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对应起来，则         与     之间可以建立一一对应，并且可以验证这种对应是到上的等距同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这样一来，         中的元素可以通过一个    数组表现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换句话说，   本身就是          的表现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在这种意义下，我们说：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2" name="Object 2"/>
                <p:cNvGraphicFramePr/>
                <p:nvPr/>
              </p:nvGraphicFramePr>
              <p:xfrm>
                <a:off x="2143080" y="857160"/>
                <a:ext cx="558720" cy="3902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3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143080" y="857160"/>
                          <a:ext cx="558720" cy="390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44" name="Object 8"/>
              <p:cNvGraphicFramePr/>
              <p:nvPr/>
            </p:nvGraphicFramePr>
            <p:xfrm>
              <a:off x="5857920" y="2214720"/>
              <a:ext cx="328320" cy="285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45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857920" y="2214720"/>
                        <a:ext cx="32832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6" name="Object 4"/>
              <p:cNvGraphicFramePr/>
              <p:nvPr/>
            </p:nvGraphicFramePr>
            <p:xfrm>
              <a:off x="4786200" y="857160"/>
              <a:ext cx="311040" cy="415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47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786200" y="857160"/>
                        <a:ext cx="311040" cy="41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8" name="Object 5"/>
              <p:cNvGraphicFramePr/>
              <p:nvPr/>
            </p:nvGraphicFramePr>
            <p:xfrm>
              <a:off x="6858000" y="817560"/>
              <a:ext cx="1706400" cy="468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49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858000" y="817560"/>
                        <a:ext cx="170640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0" name="Object 9"/>
            <p:cNvGraphicFramePr/>
            <p:nvPr/>
          </p:nvGraphicFramePr>
          <p:xfrm>
            <a:off x="5370480" y="824040"/>
            <a:ext cx="558720" cy="390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1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70480" y="824040"/>
                      <a:ext cx="55872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Object 10"/>
            <p:cNvGraphicFramePr/>
            <p:nvPr/>
          </p:nvGraphicFramePr>
          <p:xfrm>
            <a:off x="2728800" y="1247760"/>
            <a:ext cx="985680" cy="468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3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28800" y="1247760"/>
                      <a:ext cx="9856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Object 11"/>
            <p:cNvGraphicFramePr/>
            <p:nvPr/>
          </p:nvGraphicFramePr>
          <p:xfrm>
            <a:off x="4084560" y="1252440"/>
            <a:ext cx="558720" cy="390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5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84560" y="1252440"/>
                      <a:ext cx="55872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Object 12"/>
            <p:cNvGraphicFramePr/>
            <p:nvPr/>
          </p:nvGraphicFramePr>
          <p:xfrm>
            <a:off x="1228680" y="2103480"/>
            <a:ext cx="985680" cy="468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7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28680" y="2103480"/>
                      <a:ext cx="9856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Object 13"/>
            <p:cNvGraphicFramePr/>
            <p:nvPr/>
          </p:nvGraphicFramePr>
          <p:xfrm>
            <a:off x="1928880" y="2572200"/>
            <a:ext cx="558720" cy="390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9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28880" y="2572200"/>
                      <a:ext cx="55872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Object 14"/>
            <p:cNvGraphicFramePr/>
            <p:nvPr/>
          </p:nvGraphicFramePr>
          <p:xfrm>
            <a:off x="3786120" y="2532240"/>
            <a:ext cx="985680" cy="468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61" name="Object 1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786120" y="2532240"/>
                      <a:ext cx="9856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Object 15"/>
            <p:cNvGraphicFramePr/>
            <p:nvPr/>
          </p:nvGraphicFramePr>
          <p:xfrm>
            <a:off x="2651040" y="3215160"/>
            <a:ext cx="1971360" cy="4683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63" name="Object 1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51040" y="3215160"/>
                      <a:ext cx="19713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2054160" y="714240"/>
          <a:ext cx="157788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714240"/>
                    <a:ext cx="15778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3"/>
          <p:cNvSpPr/>
          <p:nvPr/>
        </p:nvSpPr>
        <p:spPr>
          <a:xfrm>
            <a:off x="357120" y="14288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8" name="组合 27"/>
          <p:cNvGrpSpPr/>
          <p:nvPr/>
        </p:nvGrpSpPr>
        <p:grpSpPr>
          <a:xfrm>
            <a:off x="714240" y="1500120"/>
            <a:ext cx="7786800" cy="1457280"/>
            <a:chOff x="714240" y="1500120"/>
            <a:chExt cx="7786800" cy="1457280"/>
          </a:xfrm>
        </p:grpSpPr>
        <p:grpSp>
          <p:nvGrpSpPr>
            <p:cNvPr id="169" name="组合 18"/>
            <p:cNvGrpSpPr/>
            <p:nvPr/>
          </p:nvGrpSpPr>
          <p:grpSpPr>
            <a:xfrm>
              <a:off x="714240" y="1500120"/>
              <a:ext cx="7786800" cy="1457280"/>
              <a:chOff x="714240" y="1500120"/>
              <a:chExt cx="7786800" cy="1457280"/>
            </a:xfrm>
          </p:grpSpPr>
          <p:sp>
            <p:nvSpPr>
              <p:cNvPr id="170" name="Rectangle 15"/>
              <p:cNvSpPr/>
              <p:nvPr/>
            </p:nvSpPr>
            <p:spPr>
              <a:xfrm>
                <a:off x="714240" y="1500120"/>
                <a:ext cx="70725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1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对应每个                           ，定义          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71" name="Object 14"/>
              <p:cNvGraphicFramePr/>
              <p:nvPr/>
            </p:nvGraphicFramePr>
            <p:xfrm>
              <a:off x="1476000" y="2071440"/>
              <a:ext cx="7025040" cy="885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2" name="Object 1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76000" y="2071440"/>
                        <a:ext cx="7025040" cy="88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73" name="Object 16"/>
            <p:cNvGraphicFramePr/>
            <p:nvPr/>
          </p:nvGraphicFramePr>
          <p:xfrm>
            <a:off x="3429000" y="1500120"/>
            <a:ext cx="268596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4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1500120"/>
                      <a:ext cx="26859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5" name="组合 18"/>
          <p:cNvGrpSpPr/>
          <p:nvPr/>
        </p:nvGrpSpPr>
        <p:grpSpPr>
          <a:xfrm>
            <a:off x="714240" y="3000240"/>
            <a:ext cx="7143840" cy="1528920"/>
            <a:chOff x="714240" y="3000240"/>
            <a:chExt cx="7143840" cy="1528920"/>
          </a:xfrm>
        </p:grpSpPr>
        <p:grpSp>
          <p:nvGrpSpPr>
            <p:cNvPr id="176" name="组合 27"/>
            <p:cNvGrpSpPr/>
            <p:nvPr/>
          </p:nvGrpSpPr>
          <p:grpSpPr>
            <a:xfrm>
              <a:off x="714240" y="3000240"/>
              <a:ext cx="7143840" cy="1528920"/>
              <a:chOff x="714240" y="3000240"/>
              <a:chExt cx="7143840" cy="1528920"/>
            </a:xfrm>
          </p:grpSpPr>
          <p:grpSp>
            <p:nvGrpSpPr>
              <p:cNvPr id="177" name="组合 18"/>
              <p:cNvGrpSpPr/>
              <p:nvPr/>
            </p:nvGrpSpPr>
            <p:grpSpPr>
              <a:xfrm>
                <a:off x="785520" y="3000240"/>
                <a:ext cx="7072560" cy="1528920"/>
                <a:chOff x="785520" y="3000240"/>
                <a:chExt cx="7072560" cy="1528920"/>
              </a:xfrm>
            </p:grpSpPr>
            <p:sp>
              <p:nvSpPr>
                <p:cNvPr id="178" name="Rectangle 15"/>
                <p:cNvSpPr/>
                <p:nvPr/>
              </p:nvSpPr>
              <p:spPr>
                <a:xfrm>
                  <a:off x="785520" y="3000240"/>
                  <a:ext cx="7072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   上的线性泛函，并且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9" name="Object 7"/>
                <p:cNvGraphicFramePr/>
                <p:nvPr/>
              </p:nvGraphicFramePr>
              <p:xfrm>
                <a:off x="1657080" y="3643200"/>
                <a:ext cx="5447160" cy="8859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80" name="Object 7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657080" y="3643200"/>
                          <a:ext cx="5447160" cy="885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81" name="Object 8"/>
              <p:cNvGraphicFramePr/>
              <p:nvPr/>
            </p:nvGraphicFramePr>
            <p:xfrm>
              <a:off x="714240" y="3071520"/>
              <a:ext cx="339480" cy="4269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2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14240" y="3071520"/>
                        <a:ext cx="33948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3" name="Object 9"/>
            <p:cNvGraphicFramePr/>
            <p:nvPr/>
          </p:nvGraphicFramePr>
          <p:xfrm>
            <a:off x="1314000" y="3071520"/>
            <a:ext cx="328320" cy="415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14000" y="3071520"/>
                      <a:ext cx="32832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13"/>
          <p:cNvGrpSpPr/>
          <p:nvPr/>
        </p:nvGrpSpPr>
        <p:grpSpPr>
          <a:xfrm>
            <a:off x="928800" y="785880"/>
            <a:ext cx="5092560" cy="1508040"/>
            <a:chOff x="928800" y="785880"/>
            <a:chExt cx="5092560" cy="1508040"/>
          </a:xfrm>
        </p:grpSpPr>
        <p:graphicFrame>
          <p:nvGraphicFramePr>
            <p:cNvPr id="186" name="Object 2"/>
            <p:cNvGraphicFramePr/>
            <p:nvPr/>
          </p:nvGraphicFramePr>
          <p:xfrm>
            <a:off x="2938320" y="785880"/>
            <a:ext cx="2135160" cy="65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38320" y="785880"/>
                      <a:ext cx="213516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Rectangle 15"/>
            <p:cNvSpPr/>
            <p:nvPr/>
          </p:nvSpPr>
          <p:spPr>
            <a:xfrm>
              <a:off x="928800" y="1357200"/>
              <a:ext cx="12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89" name="Object 3"/>
            <p:cNvGraphicFramePr/>
            <p:nvPr/>
          </p:nvGraphicFramePr>
          <p:xfrm>
            <a:off x="2674800" y="1643040"/>
            <a:ext cx="3346560" cy="650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4800" y="1643040"/>
                      <a:ext cx="334656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1" name="组合 11"/>
          <p:cNvGrpSpPr/>
          <p:nvPr/>
        </p:nvGrpSpPr>
        <p:grpSpPr>
          <a:xfrm>
            <a:off x="571680" y="2357280"/>
            <a:ext cx="7072200" cy="1839960"/>
            <a:chOff x="571680" y="2357280"/>
            <a:chExt cx="7072200" cy="1839960"/>
          </a:xfrm>
        </p:grpSpPr>
        <p:grpSp>
          <p:nvGrpSpPr>
            <p:cNvPr id="192" name="组合 27"/>
            <p:cNvGrpSpPr/>
            <p:nvPr/>
          </p:nvGrpSpPr>
          <p:grpSpPr>
            <a:xfrm>
              <a:off x="571680" y="2357280"/>
              <a:ext cx="7072200" cy="1800360"/>
              <a:chOff x="571680" y="2357280"/>
              <a:chExt cx="7072200" cy="1800360"/>
            </a:xfrm>
          </p:grpSpPr>
          <p:grpSp>
            <p:nvGrpSpPr>
              <p:cNvPr id="193" name="组合 18"/>
              <p:cNvGrpSpPr/>
              <p:nvPr/>
            </p:nvGrpSpPr>
            <p:grpSpPr>
              <a:xfrm>
                <a:off x="571680" y="2357280"/>
                <a:ext cx="7072200" cy="1800360"/>
                <a:chOff x="571680" y="2357280"/>
                <a:chExt cx="7072200" cy="1800360"/>
              </a:xfrm>
            </p:grpSpPr>
            <p:sp>
              <p:nvSpPr>
                <p:cNvPr id="194" name="Rectangle 15"/>
                <p:cNvSpPr/>
                <p:nvPr/>
              </p:nvSpPr>
              <p:spPr>
                <a:xfrm>
                  <a:off x="571680" y="2357280"/>
                  <a:ext cx="707220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2)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反之，对每个            ，取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令               ，首先         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95" name="Object 14"/>
                <p:cNvGraphicFramePr/>
                <p:nvPr/>
              </p:nvGraphicFramePr>
              <p:xfrm>
                <a:off x="1967040" y="2981160"/>
                <a:ext cx="4397400" cy="7812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96" name="Object 1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967040" y="2981160"/>
                          <a:ext cx="4397400" cy="781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97" name="Object 16"/>
              <p:cNvGraphicFramePr/>
              <p:nvPr/>
            </p:nvGraphicFramePr>
            <p:xfrm>
              <a:off x="3999240" y="2369880"/>
              <a:ext cx="1215720" cy="482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8" name="Object 1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999240" y="2369880"/>
                        <a:ext cx="1215720" cy="4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99" name="Object 6"/>
            <p:cNvGraphicFramePr/>
            <p:nvPr/>
          </p:nvGraphicFramePr>
          <p:xfrm>
            <a:off x="973080" y="3714840"/>
            <a:ext cx="1555560" cy="482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973080" y="3714840"/>
                      <a:ext cx="155556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7"/>
            <p:cNvGraphicFramePr/>
            <p:nvPr/>
          </p:nvGraphicFramePr>
          <p:xfrm>
            <a:off x="3714840" y="3643200"/>
            <a:ext cx="2716200" cy="536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14840" y="3643200"/>
                      <a:ext cx="271620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3" name="Rectangle 15"/>
          <p:cNvSpPr/>
          <p:nvPr/>
        </p:nvSpPr>
        <p:spPr>
          <a:xfrm>
            <a:off x="6572160" y="36432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若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6"/>
          <p:cNvGrpSpPr/>
          <p:nvPr/>
        </p:nvGrpSpPr>
        <p:grpSpPr>
          <a:xfrm>
            <a:off x="1109520" y="571680"/>
            <a:ext cx="7204320" cy="666720"/>
            <a:chOff x="1109520" y="571680"/>
            <a:chExt cx="7204320" cy="666720"/>
          </a:xfrm>
        </p:grpSpPr>
        <p:graphicFrame>
          <p:nvGraphicFramePr>
            <p:cNvPr id="205" name="Object 16"/>
            <p:cNvGraphicFramePr/>
            <p:nvPr/>
          </p:nvGraphicFramePr>
          <p:xfrm>
            <a:off x="1109520" y="588960"/>
            <a:ext cx="2176560" cy="482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09520" y="588960"/>
                      <a:ext cx="21765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Rectangle 15"/>
            <p:cNvSpPr/>
            <p:nvPr/>
          </p:nvSpPr>
          <p:spPr>
            <a:xfrm>
              <a:off x="3286080" y="571680"/>
              <a:ext cx="40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     并且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8" name="Object 3"/>
            <p:cNvGraphicFramePr/>
            <p:nvPr/>
          </p:nvGraphicFramePr>
          <p:xfrm>
            <a:off x="3714480" y="571680"/>
            <a:ext cx="904680" cy="42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14480" y="571680"/>
                      <a:ext cx="9046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Object 4"/>
            <p:cNvGraphicFramePr/>
            <p:nvPr/>
          </p:nvGraphicFramePr>
          <p:xfrm>
            <a:off x="5429160" y="571680"/>
            <a:ext cx="2884680" cy="666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29160" y="571680"/>
                      <a:ext cx="28846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2" name="组合 7"/>
          <p:cNvGrpSpPr/>
          <p:nvPr/>
        </p:nvGrpSpPr>
        <p:grpSpPr>
          <a:xfrm>
            <a:off x="1000080" y="928800"/>
            <a:ext cx="6357960" cy="1625400"/>
            <a:chOff x="1000080" y="928800"/>
            <a:chExt cx="6357960" cy="1625400"/>
          </a:xfrm>
        </p:grpSpPr>
        <p:graphicFrame>
          <p:nvGraphicFramePr>
            <p:cNvPr id="213" name="Object 5"/>
            <p:cNvGraphicFramePr/>
            <p:nvPr/>
          </p:nvGraphicFramePr>
          <p:xfrm>
            <a:off x="2214360" y="1643040"/>
            <a:ext cx="4324320" cy="911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4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14360" y="1643040"/>
                      <a:ext cx="432432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Rectangle 15"/>
            <p:cNvSpPr/>
            <p:nvPr/>
          </p:nvSpPr>
          <p:spPr>
            <a:xfrm>
              <a:off x="1000080" y="1120680"/>
              <a:ext cx="6357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任取                ，设                  ，则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16" name="Object 6"/>
            <p:cNvGraphicFramePr/>
            <p:nvPr/>
          </p:nvGraphicFramePr>
          <p:xfrm>
            <a:off x="1785600" y="1120680"/>
            <a:ext cx="1612800" cy="506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7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785600" y="1120680"/>
                      <a:ext cx="161280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7"/>
            <p:cNvGraphicFramePr/>
            <p:nvPr/>
          </p:nvGraphicFramePr>
          <p:xfrm>
            <a:off x="4143240" y="928800"/>
            <a:ext cx="1780920" cy="906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143240" y="928800"/>
                      <a:ext cx="1780920" cy="90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组合 18"/>
          <p:cNvGrpSpPr/>
          <p:nvPr/>
        </p:nvGrpSpPr>
        <p:grpSpPr>
          <a:xfrm>
            <a:off x="857160" y="2500200"/>
            <a:ext cx="6734160" cy="1505160"/>
            <a:chOff x="857160" y="2500200"/>
            <a:chExt cx="6734160" cy="1505160"/>
          </a:xfrm>
        </p:grpSpPr>
        <p:grpSp>
          <p:nvGrpSpPr>
            <p:cNvPr id="221" name="组合 12"/>
            <p:cNvGrpSpPr/>
            <p:nvPr/>
          </p:nvGrpSpPr>
          <p:grpSpPr>
            <a:xfrm>
              <a:off x="857160" y="2500200"/>
              <a:ext cx="6734160" cy="1505160"/>
              <a:chOff x="857160" y="2500200"/>
              <a:chExt cx="6734160" cy="1505160"/>
            </a:xfrm>
          </p:grpSpPr>
          <p:graphicFrame>
            <p:nvGraphicFramePr>
              <p:cNvPr id="222" name="Object 8"/>
              <p:cNvGraphicFramePr/>
              <p:nvPr/>
            </p:nvGraphicFramePr>
            <p:xfrm>
              <a:off x="1428480" y="3093840"/>
              <a:ext cx="6162840" cy="9115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23" name="Object 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1428480" y="3093840"/>
                        <a:ext cx="6162840" cy="911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4" name="Rectangle 15"/>
              <p:cNvSpPr/>
              <p:nvPr/>
            </p:nvSpPr>
            <p:spPr>
              <a:xfrm>
                <a:off x="857160" y="2500200"/>
                <a:ext cx="635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从而由    的连续性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aphicFrame>
          <p:nvGraphicFramePr>
            <p:cNvPr id="225" name="Object 11"/>
            <p:cNvGraphicFramePr/>
            <p:nvPr/>
          </p:nvGraphicFramePr>
          <p:xfrm>
            <a:off x="2071440" y="2571480"/>
            <a:ext cx="339480" cy="426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071440" y="2571480"/>
                      <a:ext cx="3394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组合 27"/>
          <p:cNvGrpSpPr/>
          <p:nvPr/>
        </p:nvGrpSpPr>
        <p:grpSpPr>
          <a:xfrm>
            <a:off x="785880" y="4071960"/>
            <a:ext cx="7072200" cy="520560"/>
            <a:chOff x="785880" y="4071960"/>
            <a:chExt cx="7072200" cy="520560"/>
          </a:xfrm>
        </p:grpSpPr>
        <p:sp>
          <p:nvSpPr>
            <p:cNvPr id="228" name="Rectangle 15"/>
            <p:cNvSpPr/>
            <p:nvPr/>
          </p:nvSpPr>
          <p:spPr>
            <a:xfrm>
              <a:off x="785880" y="4071960"/>
              <a:ext cx="707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说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上的线性泛函的一般形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9" name="Object 13"/>
            <p:cNvGraphicFramePr/>
            <p:nvPr/>
          </p:nvGraphicFramePr>
          <p:xfrm>
            <a:off x="2886120" y="4071960"/>
            <a:ext cx="282240" cy="427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886120" y="4071960"/>
                      <a:ext cx="282240" cy="42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组合 13"/>
          <p:cNvGrpSpPr/>
          <p:nvPr/>
        </p:nvGrpSpPr>
        <p:grpSpPr>
          <a:xfrm>
            <a:off x="642960" y="642960"/>
            <a:ext cx="8078760" cy="2226960"/>
            <a:chOff x="642960" y="642960"/>
            <a:chExt cx="8078760" cy="2226960"/>
          </a:xfrm>
        </p:grpSpPr>
        <p:grpSp>
          <p:nvGrpSpPr>
            <p:cNvPr id="232" name="组合 1"/>
            <p:cNvGrpSpPr/>
            <p:nvPr/>
          </p:nvGrpSpPr>
          <p:grpSpPr>
            <a:xfrm>
              <a:off x="642960" y="642960"/>
              <a:ext cx="7643880" cy="2226960"/>
              <a:chOff x="642960" y="642960"/>
              <a:chExt cx="7643880" cy="2226960"/>
            </a:xfrm>
          </p:grpSpPr>
          <p:grpSp>
            <p:nvGrpSpPr>
              <p:cNvPr id="233" name="组合 27"/>
              <p:cNvGrpSpPr/>
              <p:nvPr/>
            </p:nvGrpSpPr>
            <p:grpSpPr>
              <a:xfrm>
                <a:off x="642960" y="642960"/>
                <a:ext cx="7643880" cy="2226960"/>
                <a:chOff x="642960" y="642960"/>
                <a:chExt cx="7643880" cy="2226960"/>
              </a:xfrm>
            </p:grpSpPr>
            <p:grpSp>
              <p:nvGrpSpPr>
                <p:cNvPr id="234" name="组合 18"/>
                <p:cNvGrpSpPr/>
                <p:nvPr/>
              </p:nvGrpSpPr>
              <p:grpSpPr>
                <a:xfrm>
                  <a:off x="642960" y="642960"/>
                  <a:ext cx="7643880" cy="2226960"/>
                  <a:chOff x="642960" y="642960"/>
                  <a:chExt cx="7643880" cy="2226960"/>
                </a:xfrm>
              </p:grpSpPr>
              <p:sp>
                <p:nvSpPr>
                  <p:cNvPr id="235" name="Rectangle 15"/>
                  <p:cNvSpPr/>
                  <p:nvPr/>
                </p:nvSpPr>
                <p:spPr>
                  <a:xfrm>
                    <a:off x="642960" y="642960"/>
                    <a:ext cx="7643880" cy="22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3)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令                               由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1)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知，  是到上的线性映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 1)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与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2)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一起说明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从而  是一一映射并且      与   等距同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即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36" name="Object 2"/>
                  <p:cNvGraphicFramePr/>
                  <p:nvPr/>
                </p:nvGraphicFramePr>
                <p:xfrm>
                  <a:off x="2214360" y="1643040"/>
                  <a:ext cx="4691160" cy="5205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37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2214360" y="1643040"/>
                            <a:ext cx="4691160" cy="5205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38" name="Object 3"/>
                <p:cNvGraphicFramePr/>
                <p:nvPr/>
              </p:nvGraphicFramePr>
              <p:xfrm>
                <a:off x="2428920" y="660240"/>
                <a:ext cx="2940120" cy="4824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39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428920" y="660240"/>
                          <a:ext cx="2940120" cy="48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40" name="Object 5"/>
              <p:cNvGraphicFramePr/>
              <p:nvPr/>
            </p:nvGraphicFramePr>
            <p:xfrm>
              <a:off x="1428480" y="2428560"/>
              <a:ext cx="311040" cy="349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41" name="Object 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428480" y="2428560"/>
                        <a:ext cx="311040" cy="34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2" name="Object 6"/>
            <p:cNvGraphicFramePr/>
            <p:nvPr/>
          </p:nvGraphicFramePr>
          <p:xfrm>
            <a:off x="6786720" y="714240"/>
            <a:ext cx="311040" cy="34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3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86720" y="714240"/>
                      <a:ext cx="31104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7"/>
            <p:cNvGraphicFramePr/>
            <p:nvPr/>
          </p:nvGraphicFramePr>
          <p:xfrm>
            <a:off x="4071960" y="2357280"/>
            <a:ext cx="755640" cy="468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5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71960" y="2357280"/>
                      <a:ext cx="75564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8"/>
            <p:cNvGraphicFramePr/>
            <p:nvPr/>
          </p:nvGraphicFramePr>
          <p:xfrm>
            <a:off x="5000760" y="2369880"/>
            <a:ext cx="426960" cy="415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7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00760" y="2369880"/>
                      <a:ext cx="42696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9"/>
            <p:cNvGraphicFramePr/>
            <p:nvPr/>
          </p:nvGraphicFramePr>
          <p:xfrm>
            <a:off x="7143840" y="2388960"/>
            <a:ext cx="1577880" cy="468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9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143840" y="2388960"/>
                      <a:ext cx="157788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0" name="组合 14"/>
          <p:cNvGrpSpPr/>
          <p:nvPr/>
        </p:nvGrpSpPr>
        <p:grpSpPr>
          <a:xfrm>
            <a:off x="714240" y="2928960"/>
            <a:ext cx="6896160" cy="1779480"/>
            <a:chOff x="714240" y="2928960"/>
            <a:chExt cx="6896160" cy="1779480"/>
          </a:xfrm>
        </p:grpSpPr>
        <p:sp>
          <p:nvSpPr>
            <p:cNvPr id="251" name="Rectangle 15"/>
            <p:cNvSpPr/>
            <p:nvPr/>
          </p:nvSpPr>
          <p:spPr>
            <a:xfrm>
              <a:off x="714240" y="2928960"/>
              <a:ext cx="5429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类似地可以证明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外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52" name="Object 14"/>
            <p:cNvGraphicFramePr/>
            <p:nvPr/>
          </p:nvGraphicFramePr>
          <p:xfrm>
            <a:off x="2071440" y="4214880"/>
            <a:ext cx="2365200" cy="493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3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071440" y="4214880"/>
                      <a:ext cx="236520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Object 16"/>
            <p:cNvGraphicFramePr/>
            <p:nvPr/>
          </p:nvGraphicFramePr>
          <p:xfrm>
            <a:off x="2285640" y="3500280"/>
            <a:ext cx="5324760" cy="468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55" name="Object 1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285640" y="3500280"/>
                      <a:ext cx="53247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357120" y="25718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58" name="Object 2"/>
          <p:cNvGraphicFramePr/>
          <p:nvPr/>
        </p:nvGraphicFramePr>
        <p:xfrm>
          <a:off x="1643040" y="1285920"/>
          <a:ext cx="680400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285920"/>
                    <a:ext cx="68040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0" name="组合 6"/>
          <p:cNvGrpSpPr/>
          <p:nvPr/>
        </p:nvGrpSpPr>
        <p:grpSpPr>
          <a:xfrm>
            <a:off x="1643040" y="2643120"/>
            <a:ext cx="2995560" cy="1279440"/>
            <a:chOff x="1643040" y="2643120"/>
            <a:chExt cx="2995560" cy="1279440"/>
          </a:xfrm>
        </p:grpSpPr>
        <p:graphicFrame>
          <p:nvGraphicFramePr>
            <p:cNvPr id="261" name="Object 3"/>
            <p:cNvGraphicFramePr/>
            <p:nvPr/>
          </p:nvGraphicFramePr>
          <p:xfrm>
            <a:off x="1714320" y="3429000"/>
            <a:ext cx="2924280" cy="493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14320" y="3429000"/>
                      <a:ext cx="292428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Rectangle 15"/>
            <p:cNvSpPr/>
            <p:nvPr/>
          </p:nvSpPr>
          <p:spPr>
            <a:xfrm>
              <a:off x="1643040" y="264312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Riesz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表现定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2-03T13:26:48Z</dcterms:modified>
  <cp:revision>652</cp:revision>
  <dc:subject/>
  <dc:title>幻灯片 1</dc:title>
</cp:coreProperties>
</file>