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68.wmf" ContentType="image/x-wmf"/>
  <Override PartName="/ppt/media/image70.wmf" ContentType="image/x-wmf"/>
  <Override PartName="/ppt/media/image114.wmf" ContentType="image/x-wmf"/>
  <Override PartName="/ppt/media/image69.wmf" ContentType="image/x-wmf"/>
  <Override PartName="/ppt/media/image71.wmf" ContentType="image/x-wmf"/>
  <Override PartName="/ppt/media/image115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50.wmf" ContentType="image/x-wmf"/>
  <Override PartName="/ppt/media/image88.wmf" ContentType="image/x-wmf"/>
  <Override PartName="/ppt/media/image96.wmf" ContentType="image/x-wmf"/>
  <Override PartName="/ppt/media/image103.wmf" ContentType="image/x-wmf"/>
  <Override PartName="/ppt/media/image95.wmf" ContentType="image/x-wmf"/>
  <Override PartName="/ppt/media/image102.wmf" ContentType="image/x-wmf"/>
  <Override PartName="/ppt/media/image113.wmf" ContentType="image/x-wmf"/>
  <Override PartName="/ppt/media/image79.wmf" ContentType="image/x-wmf"/>
  <Override PartName="/ppt/media/image101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11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1.jpeg" ContentType="image/jpeg"/>
  <Override PartName="/ppt/media/image89.wmf" ContentType="image/x-wmf"/>
  <Override PartName="/ppt/media/image27.wmf" ContentType="image/x-wmf"/>
  <Override PartName="/ppt/media/image92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9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309-8E43-4AF7-9E1C-B1458675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67E-0522-4B43-99F8-0FC5CD00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1FF-0DA5-434E-B059-22880E27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26A-3D0F-4C8D-AF61-2E64DDDB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285A-4975-4424-AF74-E3849BC7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AE39-AB28-4F13-9771-67CCC15F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6312-1D7D-482C-8DBA-1D9AC56F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FF97-D816-4DB6-ACED-381BD675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AD65-A64A-4159-B9C0-BBD72AD0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004D-91E2-43EB-B912-FA6B8E83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1770-2EF5-498A-9D8F-F7F65140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EA5-6CA3-424F-AEC1-DB661EA1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F354-552F-4BB5-9DA8-E3F50D13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84FC-C179-45AE-891B-07878F64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3457-A74E-4E6D-B793-7AC86F0E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A20E-D5A7-4DB1-A879-E4370677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4425-BB2A-45C7-B0C4-904C8F73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067-73BB-4D1B-9BB5-60CC88FB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051-133D-499D-9964-F3E4D2E0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9D2-D89A-41E6-8D1D-EEFC1A54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8EC-72D9-4E5D-BB85-887A376F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61C-C5D6-4596-9439-1F5F3FDF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C6F-AE99-4033-9C19-C616E04B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65C-5061-4144-A992-0474BFB0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444B-D6AF-463F-BBF5-A4401AD1C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EAD0-14B7-4852-BB9B-139E986EDE1C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6.wmf"/><Relationship Id="rId3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3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5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3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2.wm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9.wmf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.wmf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5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四讲  线性赋范空间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1"/>
          <p:cNvGrpSpPr/>
          <p:nvPr/>
        </p:nvGrpSpPr>
        <p:grpSpPr>
          <a:xfrm>
            <a:off x="1576440" y="642960"/>
            <a:ext cx="6665760" cy="1176480"/>
            <a:chOff x="1576440" y="642960"/>
            <a:chExt cx="6665760" cy="1176480"/>
          </a:xfrm>
        </p:grpSpPr>
        <p:sp>
          <p:nvSpPr>
            <p:cNvPr id="269" name="Rectangle 15"/>
            <p:cNvSpPr/>
            <p:nvPr/>
          </p:nvSpPr>
          <p:spPr>
            <a:xfrm>
              <a:off x="1576440" y="6429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70" name="Object 3"/>
            <p:cNvGraphicFramePr/>
            <p:nvPr/>
          </p:nvGraphicFramePr>
          <p:xfrm>
            <a:off x="2071440" y="1214640"/>
            <a:ext cx="6170760" cy="60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71440" y="1214640"/>
                      <a:ext cx="6170760" cy="6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2" name="组合 6"/>
          <p:cNvGrpSpPr/>
          <p:nvPr/>
        </p:nvGrpSpPr>
        <p:grpSpPr>
          <a:xfrm>
            <a:off x="2665080" y="2000160"/>
            <a:ext cx="4047120" cy="549360"/>
            <a:chOff x="2665080" y="2000160"/>
            <a:chExt cx="4047120" cy="549360"/>
          </a:xfrm>
        </p:grpSpPr>
        <p:sp>
          <p:nvSpPr>
            <p:cNvPr id="273" name="Rectangle 15"/>
            <p:cNvSpPr/>
            <p:nvPr/>
          </p:nvSpPr>
          <p:spPr>
            <a:xfrm>
              <a:off x="2665080" y="2000160"/>
              <a:ext cx="404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另一方面，                        显然成立，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74" name="Object 5"/>
            <p:cNvGraphicFramePr/>
            <p:nvPr/>
          </p:nvGraphicFramePr>
          <p:xfrm>
            <a:off x="3286080" y="2000160"/>
            <a:ext cx="2336760" cy="54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6080" y="2000160"/>
                      <a:ext cx="233676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6" name="Object 6"/>
          <p:cNvGraphicFramePr/>
          <p:nvPr/>
        </p:nvGraphicFramePr>
        <p:xfrm>
          <a:off x="1928880" y="2857680"/>
          <a:ext cx="617040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28880" y="2857680"/>
                    <a:ext cx="61704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8" name="组合 10"/>
          <p:cNvGrpSpPr/>
          <p:nvPr/>
        </p:nvGrpSpPr>
        <p:grpSpPr>
          <a:xfrm>
            <a:off x="1504800" y="3500280"/>
            <a:ext cx="6685200" cy="1176480"/>
            <a:chOff x="1504800" y="3500280"/>
            <a:chExt cx="6685200" cy="1176480"/>
          </a:xfrm>
        </p:grpSpPr>
        <p:sp>
          <p:nvSpPr>
            <p:cNvPr id="279" name="Rectangle 15"/>
            <p:cNvSpPr/>
            <p:nvPr/>
          </p:nvSpPr>
          <p:spPr>
            <a:xfrm>
              <a:off x="1504800" y="3500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80" name="Object 7"/>
            <p:cNvGraphicFramePr/>
            <p:nvPr/>
          </p:nvGraphicFramePr>
          <p:xfrm>
            <a:off x="1982520" y="4071960"/>
            <a:ext cx="6207480" cy="604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82520" y="4071960"/>
                      <a:ext cx="6207480" cy="6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21420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3" name="组合 6"/>
          <p:cNvGrpSpPr/>
          <p:nvPr/>
        </p:nvGrpSpPr>
        <p:grpSpPr>
          <a:xfrm>
            <a:off x="1740600" y="642960"/>
            <a:ext cx="6861240" cy="520560"/>
            <a:chOff x="1740600" y="642960"/>
            <a:chExt cx="6861240" cy="520560"/>
          </a:xfrm>
        </p:grpSpPr>
        <p:grpSp>
          <p:nvGrpSpPr>
            <p:cNvPr id="284" name="组合 1"/>
            <p:cNvGrpSpPr/>
            <p:nvPr/>
          </p:nvGrpSpPr>
          <p:grpSpPr>
            <a:xfrm>
              <a:off x="1740600" y="642960"/>
              <a:ext cx="6861240" cy="520560"/>
              <a:chOff x="1740600" y="642960"/>
              <a:chExt cx="6861240" cy="520560"/>
            </a:xfrm>
          </p:grpSpPr>
          <p:sp>
            <p:nvSpPr>
              <p:cNvPr id="285" name="Rectangle 15"/>
              <p:cNvSpPr/>
              <p:nvPr/>
            </p:nvSpPr>
            <p:spPr>
              <a:xfrm>
                <a:off x="1740600" y="642960"/>
                <a:ext cx="686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             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86" name="Object 2"/>
              <p:cNvGraphicFramePr/>
              <p:nvPr/>
            </p:nvGraphicFramePr>
            <p:xfrm>
              <a:off x="5072400" y="770040"/>
              <a:ext cx="1305000" cy="373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87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72400" y="770040"/>
                        <a:ext cx="1305000" cy="373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88" name="Object 3"/>
            <p:cNvGraphicFramePr/>
            <p:nvPr/>
          </p:nvGraphicFramePr>
          <p:xfrm>
            <a:off x="2000160" y="785880"/>
            <a:ext cx="341280" cy="30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0160" y="785880"/>
                      <a:ext cx="34128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0" name="Text Box 3"/>
          <p:cNvSpPr/>
          <p:nvPr/>
        </p:nvSpPr>
        <p:spPr>
          <a:xfrm>
            <a:off x="285840" y="15001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1" name="组合 17"/>
          <p:cNvGrpSpPr/>
          <p:nvPr/>
        </p:nvGrpSpPr>
        <p:grpSpPr>
          <a:xfrm>
            <a:off x="857160" y="1643040"/>
            <a:ext cx="7569360" cy="947160"/>
            <a:chOff x="857160" y="1643040"/>
            <a:chExt cx="7569360" cy="947160"/>
          </a:xfrm>
        </p:grpSpPr>
        <p:grpSp>
          <p:nvGrpSpPr>
            <p:cNvPr id="292" name="组合 8"/>
            <p:cNvGrpSpPr/>
            <p:nvPr/>
          </p:nvGrpSpPr>
          <p:grpSpPr>
            <a:xfrm>
              <a:off x="894960" y="1643040"/>
              <a:ext cx="6089040" cy="947160"/>
              <a:chOff x="894960" y="1643040"/>
              <a:chExt cx="6089040" cy="947160"/>
            </a:xfrm>
          </p:grpSpPr>
          <p:grpSp>
            <p:nvGrpSpPr>
              <p:cNvPr id="293" name="组合 1"/>
              <p:cNvGrpSpPr/>
              <p:nvPr/>
            </p:nvGrpSpPr>
            <p:grpSpPr>
              <a:xfrm>
                <a:off x="894960" y="1643040"/>
                <a:ext cx="6089040" cy="947160"/>
                <a:chOff x="894960" y="1643040"/>
                <a:chExt cx="6089040" cy="947160"/>
              </a:xfrm>
            </p:grpSpPr>
            <p:sp>
              <p:nvSpPr>
                <p:cNvPr id="294" name="Rectangle 15"/>
                <p:cNvSpPr/>
                <p:nvPr/>
              </p:nvSpPr>
              <p:spPr>
                <a:xfrm>
                  <a:off x="894960" y="1643040"/>
                  <a:ext cx="60890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是             中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Csuchy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序列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则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当              时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95" name="Object 4"/>
                <p:cNvGraphicFramePr/>
                <p:nvPr/>
              </p:nvGraphicFramePr>
              <p:xfrm>
                <a:off x="2786040" y="1714320"/>
                <a:ext cx="1305000" cy="372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96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786040" y="1714320"/>
                          <a:ext cx="1305000" cy="372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97" name="Object 5"/>
              <p:cNvGraphicFramePr/>
              <p:nvPr/>
            </p:nvGraphicFramePr>
            <p:xfrm>
              <a:off x="1714320" y="1676160"/>
              <a:ext cx="714240" cy="466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98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714320" y="1676160"/>
                        <a:ext cx="71424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99" name="Object 6"/>
            <p:cNvGraphicFramePr/>
            <p:nvPr/>
          </p:nvGraphicFramePr>
          <p:xfrm>
            <a:off x="7215480" y="1769760"/>
            <a:ext cx="1211040" cy="372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15480" y="1769760"/>
                      <a:ext cx="121104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1" name="Object 7"/>
            <p:cNvGraphicFramePr/>
            <p:nvPr/>
          </p:nvGraphicFramePr>
          <p:xfrm>
            <a:off x="857160" y="2143080"/>
            <a:ext cx="714240" cy="420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57160" y="2143080"/>
                      <a:ext cx="71424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Object 8"/>
            <p:cNvGraphicFramePr/>
            <p:nvPr/>
          </p:nvGraphicFramePr>
          <p:xfrm>
            <a:off x="1928520" y="2143080"/>
            <a:ext cx="1366560" cy="420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04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28520" y="2143080"/>
                      <a:ext cx="136656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5" name="Object 9"/>
            <p:cNvGraphicFramePr/>
            <p:nvPr/>
          </p:nvGraphicFramePr>
          <p:xfrm>
            <a:off x="3929040" y="2104920"/>
            <a:ext cx="1957320" cy="466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06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929040" y="2104920"/>
                      <a:ext cx="195732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7" name="组合 22"/>
          <p:cNvGrpSpPr/>
          <p:nvPr/>
        </p:nvGrpSpPr>
        <p:grpSpPr>
          <a:xfrm>
            <a:off x="857160" y="2071800"/>
            <a:ext cx="7042680" cy="1133280"/>
            <a:chOff x="857160" y="2071800"/>
            <a:chExt cx="7042680" cy="1133280"/>
          </a:xfrm>
        </p:grpSpPr>
        <p:sp>
          <p:nvSpPr>
            <p:cNvPr id="308" name="Rectangle 15"/>
            <p:cNvSpPr/>
            <p:nvPr/>
          </p:nvSpPr>
          <p:spPr>
            <a:xfrm>
              <a:off x="6438960" y="2071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时对于每个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09" name="Object 10"/>
            <p:cNvGraphicFramePr/>
            <p:nvPr/>
          </p:nvGraphicFramePr>
          <p:xfrm>
            <a:off x="857160" y="2666520"/>
            <a:ext cx="1055520" cy="372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10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57160" y="2666520"/>
                      <a:ext cx="105552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12"/>
            <p:cNvGraphicFramePr/>
            <p:nvPr/>
          </p:nvGraphicFramePr>
          <p:xfrm>
            <a:off x="2385720" y="2738520"/>
            <a:ext cx="3760560" cy="466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12" name="Object 1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385720" y="2738520"/>
                      <a:ext cx="37605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3" name="组合 36"/>
          <p:cNvGrpSpPr/>
          <p:nvPr/>
        </p:nvGrpSpPr>
        <p:grpSpPr>
          <a:xfrm>
            <a:off x="1071360" y="3286080"/>
            <a:ext cx="6954840" cy="1373760"/>
            <a:chOff x="1071360" y="3286080"/>
            <a:chExt cx="6954840" cy="1373760"/>
          </a:xfrm>
        </p:grpSpPr>
        <p:grpSp>
          <p:nvGrpSpPr>
            <p:cNvPr id="314" name="组合 23"/>
            <p:cNvGrpSpPr/>
            <p:nvPr/>
          </p:nvGrpSpPr>
          <p:grpSpPr>
            <a:xfrm>
              <a:off x="1071360" y="3286080"/>
              <a:ext cx="6954840" cy="1373760"/>
              <a:chOff x="1071360" y="3286080"/>
              <a:chExt cx="6954840" cy="1373760"/>
            </a:xfrm>
          </p:grpSpPr>
          <p:grpSp>
            <p:nvGrpSpPr>
              <p:cNvPr id="315" name="组合 8"/>
              <p:cNvGrpSpPr/>
              <p:nvPr/>
            </p:nvGrpSpPr>
            <p:grpSpPr>
              <a:xfrm>
                <a:off x="1071360" y="3286080"/>
                <a:ext cx="6846480" cy="1373760"/>
                <a:chOff x="1071360" y="3286080"/>
                <a:chExt cx="6846480" cy="1373760"/>
              </a:xfrm>
            </p:grpSpPr>
            <p:grpSp>
              <p:nvGrpSpPr>
                <p:cNvPr id="316" name="组合 1"/>
                <p:cNvGrpSpPr/>
                <p:nvPr/>
              </p:nvGrpSpPr>
              <p:grpSpPr>
                <a:xfrm>
                  <a:off x="1366920" y="3286080"/>
                  <a:ext cx="6550920" cy="1373760"/>
                  <a:chOff x="1366920" y="3286080"/>
                  <a:chExt cx="6550920" cy="1373760"/>
                </a:xfrm>
              </p:grpSpPr>
              <p:sp>
                <p:nvSpPr>
                  <p:cNvPr id="317" name="Rectangle 15"/>
                  <p:cNvSpPr/>
                  <p:nvPr/>
                </p:nvSpPr>
                <p:spPr>
                  <a:xfrm>
                    <a:off x="1366920" y="3286080"/>
                    <a:ext cx="6550920" cy="137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故       是  中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Csuchy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序列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不妨设                  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并且记               在    上有定义，由于极限运算的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线性性质知道   是现在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18" name="Object 13"/>
                  <p:cNvGraphicFramePr/>
                  <p:nvPr/>
                </p:nvGraphicFramePr>
                <p:xfrm>
                  <a:off x="2214360" y="3392280"/>
                  <a:ext cx="341280" cy="302760"/>
                </p:xfrm>
                <a:graphic>
                  <a:graphicData uri="http://schemas.openxmlformats.org/presentationml/2006/ole">
                    <p:oleObj r:id="rId21" spid="">
                      <p:embed/>
                      <p:pic>
                        <p:nvPicPr>
                          <p:cNvPr id="319" name="Object 13" descr=""/>
                          <p:cNvPicPr/>
                          <p:nvPr/>
                        </p:nvPicPr>
                        <p:blipFill>
                          <a:blip r:embed="rId22"/>
                          <a:stretch/>
                        </p:blipFill>
                        <p:spPr>
                          <a:xfrm>
                            <a:off x="2214360" y="3392280"/>
                            <a:ext cx="341280" cy="3027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20" name="Object 14"/>
                <p:cNvGraphicFramePr/>
                <p:nvPr/>
              </p:nvGraphicFramePr>
              <p:xfrm>
                <a:off x="1071360" y="3319200"/>
                <a:ext cx="900000" cy="46656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321" name="Object 14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1071360" y="3319200"/>
                          <a:ext cx="900000" cy="466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2" name="Object 15"/>
              <p:cNvGraphicFramePr/>
              <p:nvPr/>
            </p:nvGraphicFramePr>
            <p:xfrm>
              <a:off x="6286320" y="3344760"/>
              <a:ext cx="1739880" cy="5122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323" name="Object 15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6286320" y="3344760"/>
                        <a:ext cx="1739880" cy="512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24" name="Object 17"/>
              <p:cNvGraphicFramePr/>
              <p:nvPr/>
            </p:nvGraphicFramePr>
            <p:xfrm>
              <a:off x="1857240" y="3808080"/>
              <a:ext cx="1117440" cy="37440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325" name="Object 17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1857240" y="3808080"/>
                        <a:ext cx="111744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26" name="Object 19"/>
            <p:cNvGraphicFramePr/>
            <p:nvPr/>
          </p:nvGraphicFramePr>
          <p:xfrm>
            <a:off x="3071520" y="3839760"/>
            <a:ext cx="341280" cy="3027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27" name="Object 19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071520" y="3839760"/>
                      <a:ext cx="341280" cy="30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Object 20"/>
            <p:cNvGraphicFramePr/>
            <p:nvPr/>
          </p:nvGraphicFramePr>
          <p:xfrm>
            <a:off x="3000240" y="4285800"/>
            <a:ext cx="341280" cy="3027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329" name="Object 20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3000240" y="4285800"/>
                      <a:ext cx="341280" cy="30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0" name="Object 21"/>
            <p:cNvGraphicFramePr/>
            <p:nvPr/>
          </p:nvGraphicFramePr>
          <p:xfrm>
            <a:off x="3740040" y="3839760"/>
            <a:ext cx="434880" cy="3027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331" name="Object 21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3740040" y="3839760"/>
                      <a:ext cx="434880" cy="30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1"/>
          <p:cNvGrpSpPr/>
          <p:nvPr/>
        </p:nvGrpSpPr>
        <p:grpSpPr>
          <a:xfrm>
            <a:off x="2406240" y="785880"/>
            <a:ext cx="4659840" cy="1204920"/>
            <a:chOff x="2406240" y="785880"/>
            <a:chExt cx="4659840" cy="1204920"/>
          </a:xfrm>
        </p:grpSpPr>
        <p:sp>
          <p:nvSpPr>
            <p:cNvPr id="333" name="Rectangle 15"/>
            <p:cNvSpPr/>
            <p:nvPr/>
          </p:nvSpPr>
          <p:spPr>
            <a:xfrm>
              <a:off x="2406240" y="785880"/>
              <a:ext cx="465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固定          ，令           ，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4" name="Object 2"/>
            <p:cNvGraphicFramePr/>
            <p:nvPr/>
          </p:nvGraphicFramePr>
          <p:xfrm>
            <a:off x="4000680" y="857160"/>
            <a:ext cx="963360" cy="42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00680" y="857160"/>
                      <a:ext cx="96336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6" name="Object 3"/>
            <p:cNvGraphicFramePr/>
            <p:nvPr/>
          </p:nvGraphicFramePr>
          <p:xfrm>
            <a:off x="3000240" y="1524240"/>
            <a:ext cx="2671560" cy="46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00240" y="1524240"/>
                      <a:ext cx="26715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8" name="Object 4"/>
          <p:cNvGraphicFramePr/>
          <p:nvPr/>
        </p:nvGraphicFramePr>
        <p:xfrm>
          <a:off x="5676840" y="957240"/>
          <a:ext cx="118116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6840" y="957240"/>
                    <a:ext cx="1181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组合 14"/>
          <p:cNvGrpSpPr/>
          <p:nvPr/>
        </p:nvGrpSpPr>
        <p:grpSpPr>
          <a:xfrm>
            <a:off x="1219320" y="2000160"/>
            <a:ext cx="6068880" cy="987480"/>
            <a:chOff x="1219320" y="2000160"/>
            <a:chExt cx="6068880" cy="987480"/>
          </a:xfrm>
        </p:grpSpPr>
        <p:sp>
          <p:nvSpPr>
            <p:cNvPr id="341" name="Rectangle 15"/>
            <p:cNvSpPr/>
            <p:nvPr/>
          </p:nvSpPr>
          <p:spPr>
            <a:xfrm>
              <a:off x="121932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2" name="Object 5"/>
            <p:cNvGraphicFramePr/>
            <p:nvPr/>
          </p:nvGraphicFramePr>
          <p:xfrm>
            <a:off x="2286000" y="2357280"/>
            <a:ext cx="5002200" cy="630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3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0" y="2357280"/>
                      <a:ext cx="500220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4" name="组合 15"/>
          <p:cNvGrpSpPr/>
          <p:nvPr/>
        </p:nvGrpSpPr>
        <p:grpSpPr>
          <a:xfrm>
            <a:off x="1665000" y="3000240"/>
            <a:ext cx="6148800" cy="1441440"/>
            <a:chOff x="1665000" y="3000240"/>
            <a:chExt cx="6148800" cy="1441440"/>
          </a:xfrm>
        </p:grpSpPr>
        <p:sp>
          <p:nvSpPr>
            <p:cNvPr id="345" name="Rectangle 15"/>
            <p:cNvSpPr/>
            <p:nvPr/>
          </p:nvSpPr>
          <p:spPr>
            <a:xfrm>
              <a:off x="1665000" y="3000240"/>
              <a:ext cx="6148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于是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            是线性空间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             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同时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还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说明               ，故            完备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6" name="Object 6"/>
            <p:cNvGraphicFramePr/>
            <p:nvPr/>
          </p:nvGraphicFramePr>
          <p:xfrm>
            <a:off x="1879560" y="3062160"/>
            <a:ext cx="2549520" cy="420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7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79560" y="3062160"/>
                      <a:ext cx="254952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8" name="Object 7"/>
            <p:cNvGraphicFramePr/>
            <p:nvPr/>
          </p:nvGraphicFramePr>
          <p:xfrm>
            <a:off x="4838760" y="3126960"/>
            <a:ext cx="1304640" cy="372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4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38760" y="3126960"/>
                      <a:ext cx="130464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0" name="Object 8"/>
            <p:cNvGraphicFramePr/>
            <p:nvPr/>
          </p:nvGraphicFramePr>
          <p:xfrm>
            <a:off x="1958760" y="3500280"/>
            <a:ext cx="4041720" cy="420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5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58760" y="3500280"/>
                      <a:ext cx="404172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Object 9"/>
            <p:cNvGraphicFramePr/>
            <p:nvPr/>
          </p:nvGraphicFramePr>
          <p:xfrm>
            <a:off x="4124160" y="4000320"/>
            <a:ext cx="1304640" cy="372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53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4000320"/>
                      <a:ext cx="130464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Object 10"/>
            <p:cNvGraphicFramePr/>
            <p:nvPr/>
          </p:nvGraphicFramePr>
          <p:xfrm>
            <a:off x="1915920" y="3929040"/>
            <a:ext cx="1584360" cy="512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55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15920" y="3929040"/>
                      <a:ext cx="158436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1420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7" name="组合 9"/>
          <p:cNvGrpSpPr/>
          <p:nvPr/>
        </p:nvGrpSpPr>
        <p:grpSpPr>
          <a:xfrm>
            <a:off x="1857240" y="714240"/>
            <a:ext cx="5051880" cy="947160"/>
            <a:chOff x="1857240" y="714240"/>
            <a:chExt cx="5051880" cy="947160"/>
          </a:xfrm>
        </p:grpSpPr>
        <p:grpSp>
          <p:nvGrpSpPr>
            <p:cNvPr id="358" name="组合 2"/>
            <p:cNvGrpSpPr/>
            <p:nvPr/>
          </p:nvGrpSpPr>
          <p:grpSpPr>
            <a:xfrm>
              <a:off x="1857240" y="714240"/>
              <a:ext cx="5051880" cy="947160"/>
              <a:chOff x="1857240" y="714240"/>
              <a:chExt cx="5051880" cy="947160"/>
            </a:xfrm>
          </p:grpSpPr>
          <p:grpSp>
            <p:nvGrpSpPr>
              <p:cNvPr id="359" name="组合 1"/>
              <p:cNvGrpSpPr/>
              <p:nvPr/>
            </p:nvGrpSpPr>
            <p:grpSpPr>
              <a:xfrm>
                <a:off x="1857240" y="714240"/>
                <a:ext cx="5051880" cy="947160"/>
                <a:chOff x="1857240" y="714240"/>
                <a:chExt cx="5051880" cy="947160"/>
              </a:xfrm>
            </p:grpSpPr>
            <p:sp>
              <p:nvSpPr>
                <p:cNvPr id="360" name="Rectangle 15"/>
                <p:cNvSpPr/>
                <p:nvPr/>
              </p:nvSpPr>
              <p:spPr>
                <a:xfrm>
                  <a:off x="2299680" y="714240"/>
                  <a:ext cx="46094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线性赋范空间   上连续线性泛函的全体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记为    ，称    是   的共轭空间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61" name="Object 2"/>
                <p:cNvGraphicFramePr/>
                <p:nvPr/>
              </p:nvGraphicFramePr>
              <p:xfrm>
                <a:off x="1857240" y="1214280"/>
                <a:ext cx="528480" cy="3492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62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857240" y="1214280"/>
                          <a:ext cx="528480" cy="349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63" name="Object 3"/>
              <p:cNvGraphicFramePr/>
              <p:nvPr/>
            </p:nvGraphicFramePr>
            <p:xfrm>
              <a:off x="4071600" y="857160"/>
              <a:ext cx="434880" cy="303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6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071600" y="857160"/>
                        <a:ext cx="434880" cy="30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5" name="Object 4"/>
            <p:cNvGraphicFramePr/>
            <p:nvPr/>
          </p:nvGraphicFramePr>
          <p:xfrm>
            <a:off x="3000240" y="1214280"/>
            <a:ext cx="528480" cy="34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00240" y="1214280"/>
                      <a:ext cx="5284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7" name="Object 5"/>
            <p:cNvGraphicFramePr/>
            <p:nvPr/>
          </p:nvGraphicFramePr>
          <p:xfrm>
            <a:off x="3786120" y="1268640"/>
            <a:ext cx="434880" cy="30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86120" y="1268640"/>
                      <a:ext cx="43488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9" name="Text Box 3"/>
          <p:cNvSpPr/>
          <p:nvPr/>
        </p:nvSpPr>
        <p:spPr>
          <a:xfrm>
            <a:off x="50004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0" name="组合 12"/>
          <p:cNvGrpSpPr/>
          <p:nvPr/>
        </p:nvGrpSpPr>
        <p:grpSpPr>
          <a:xfrm>
            <a:off x="2098800" y="2500200"/>
            <a:ext cx="5144760" cy="947160"/>
            <a:chOff x="2098800" y="2500200"/>
            <a:chExt cx="5144760" cy="947160"/>
          </a:xfrm>
        </p:grpSpPr>
        <p:grpSp>
          <p:nvGrpSpPr>
            <p:cNvPr id="371" name="组合 1"/>
            <p:cNvGrpSpPr/>
            <p:nvPr/>
          </p:nvGrpSpPr>
          <p:grpSpPr>
            <a:xfrm>
              <a:off x="2098800" y="2500200"/>
              <a:ext cx="5144760" cy="947160"/>
              <a:chOff x="2098800" y="2500200"/>
              <a:chExt cx="5144760" cy="947160"/>
            </a:xfrm>
          </p:grpSpPr>
          <p:sp>
            <p:nvSpPr>
              <p:cNvPr id="372" name="Rectangle 15"/>
              <p:cNvSpPr/>
              <p:nvPr/>
            </p:nvSpPr>
            <p:spPr>
              <a:xfrm>
                <a:off x="2098800" y="2500200"/>
                <a:ext cx="4647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任一线性赋范空间   的共轭空间     是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73" name="Object 6"/>
              <p:cNvGraphicFramePr/>
              <p:nvPr/>
            </p:nvGraphicFramePr>
            <p:xfrm>
              <a:off x="6715080" y="2571480"/>
              <a:ext cx="528480" cy="3492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74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715080" y="2571480"/>
                        <a:ext cx="528480" cy="34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75" name="Object 7"/>
            <p:cNvGraphicFramePr/>
            <p:nvPr/>
          </p:nvGraphicFramePr>
          <p:xfrm>
            <a:off x="4643280" y="2643120"/>
            <a:ext cx="434880" cy="303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6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643280" y="2643120"/>
                      <a:ext cx="43488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3"/>
          <p:cNvSpPr/>
          <p:nvPr/>
        </p:nvSpPr>
        <p:spPr>
          <a:xfrm>
            <a:off x="42876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8" name="组合 10"/>
          <p:cNvGrpSpPr/>
          <p:nvPr/>
        </p:nvGrpSpPr>
        <p:grpSpPr>
          <a:xfrm>
            <a:off x="934920" y="714240"/>
            <a:ext cx="7875720" cy="1143000"/>
            <a:chOff x="934920" y="714240"/>
            <a:chExt cx="7875720" cy="1143000"/>
          </a:xfrm>
        </p:grpSpPr>
        <p:grpSp>
          <p:nvGrpSpPr>
            <p:cNvPr id="379" name="组合 12"/>
            <p:cNvGrpSpPr/>
            <p:nvPr/>
          </p:nvGrpSpPr>
          <p:grpSpPr>
            <a:xfrm>
              <a:off x="1258200" y="714240"/>
              <a:ext cx="5822640" cy="947160"/>
              <a:chOff x="1258200" y="714240"/>
              <a:chExt cx="5822640" cy="947160"/>
            </a:xfrm>
          </p:grpSpPr>
          <p:grpSp>
            <p:nvGrpSpPr>
              <p:cNvPr id="380" name="组合 1"/>
              <p:cNvGrpSpPr/>
              <p:nvPr/>
            </p:nvGrpSpPr>
            <p:grpSpPr>
              <a:xfrm>
                <a:off x="1258200" y="714240"/>
                <a:ext cx="5822640" cy="947160"/>
                <a:chOff x="1258200" y="714240"/>
                <a:chExt cx="5822640" cy="947160"/>
              </a:xfrm>
            </p:grpSpPr>
            <p:sp>
              <p:nvSpPr>
                <p:cNvPr id="381" name="Rectangle 15"/>
                <p:cNvSpPr/>
                <p:nvPr/>
              </p:nvSpPr>
              <p:spPr>
                <a:xfrm>
                  <a:off x="1258200" y="714240"/>
                  <a:ext cx="58226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算子               ，当                        时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，其中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82" name="Object 6"/>
                <p:cNvGraphicFramePr/>
                <p:nvPr/>
              </p:nvGraphicFramePr>
              <p:xfrm>
                <a:off x="4424400" y="785520"/>
                <a:ext cx="2362320" cy="4190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83" name="Object 6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424400" y="785520"/>
                          <a:ext cx="2362320" cy="419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84" name="Object 7"/>
              <p:cNvGraphicFramePr/>
              <p:nvPr/>
            </p:nvGraphicFramePr>
            <p:xfrm>
              <a:off x="2130120" y="787320"/>
              <a:ext cx="1584360" cy="443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85" name="Object 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130120" y="787320"/>
                        <a:ext cx="1584360" cy="44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6" name="Object 4"/>
            <p:cNvGraphicFramePr/>
            <p:nvPr/>
          </p:nvGraphicFramePr>
          <p:xfrm>
            <a:off x="7286760" y="785520"/>
            <a:ext cx="152388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7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86760" y="785520"/>
                      <a:ext cx="15238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8" name="Object 5"/>
            <p:cNvGraphicFramePr/>
            <p:nvPr/>
          </p:nvGraphicFramePr>
          <p:xfrm>
            <a:off x="934920" y="1214280"/>
            <a:ext cx="1368360" cy="41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34920" y="1214280"/>
                      <a:ext cx="13683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0" name="Object 6"/>
            <p:cNvGraphicFramePr/>
            <p:nvPr/>
          </p:nvGraphicFramePr>
          <p:xfrm>
            <a:off x="3429000" y="1064880"/>
            <a:ext cx="3543480" cy="792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1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429000" y="1064880"/>
                      <a:ext cx="3543480" cy="7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92" name="组合 23"/>
          <p:cNvGrpSpPr/>
          <p:nvPr/>
        </p:nvGrpSpPr>
        <p:grpSpPr>
          <a:xfrm>
            <a:off x="718920" y="1857240"/>
            <a:ext cx="7085160" cy="2222640"/>
            <a:chOff x="718920" y="1857240"/>
            <a:chExt cx="7085160" cy="2222640"/>
          </a:xfrm>
        </p:grpSpPr>
        <p:grpSp>
          <p:nvGrpSpPr>
            <p:cNvPr id="393" name="组合 24"/>
            <p:cNvGrpSpPr/>
            <p:nvPr/>
          </p:nvGrpSpPr>
          <p:grpSpPr>
            <a:xfrm>
              <a:off x="718920" y="1857240"/>
              <a:ext cx="7085160" cy="1806840"/>
              <a:chOff x="718920" y="1857240"/>
              <a:chExt cx="7085160" cy="1806840"/>
            </a:xfrm>
          </p:grpSpPr>
          <p:sp>
            <p:nvSpPr>
              <p:cNvPr id="394" name="Rectangle 15"/>
              <p:cNvSpPr/>
              <p:nvPr/>
            </p:nvSpPr>
            <p:spPr>
              <a:xfrm>
                <a:off x="718920" y="314352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于是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395" name="组合 3"/>
              <p:cNvGrpSpPr/>
              <p:nvPr/>
            </p:nvGrpSpPr>
            <p:grpSpPr>
              <a:xfrm>
                <a:off x="779760" y="1857240"/>
                <a:ext cx="7024320" cy="1365480"/>
                <a:chOff x="779760" y="1857240"/>
                <a:chExt cx="7024320" cy="1365480"/>
              </a:xfrm>
            </p:grpSpPr>
            <p:grpSp>
              <p:nvGrpSpPr>
                <p:cNvPr id="396" name="组合 1"/>
                <p:cNvGrpSpPr/>
                <p:nvPr/>
              </p:nvGrpSpPr>
              <p:grpSpPr>
                <a:xfrm>
                  <a:off x="779760" y="1857240"/>
                  <a:ext cx="3144960" cy="520560"/>
                  <a:chOff x="779760" y="1857240"/>
                  <a:chExt cx="3144960" cy="520560"/>
                </a:xfrm>
              </p:grpSpPr>
              <p:sp>
                <p:nvSpPr>
                  <p:cNvPr id="397" name="Rectangle 15"/>
                  <p:cNvSpPr/>
                  <p:nvPr/>
                </p:nvSpPr>
                <p:spPr>
                  <a:xfrm>
                    <a:off x="779760" y="1857240"/>
                    <a:ext cx="31449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易知     是线性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又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98" name="Object 7"/>
                  <p:cNvGraphicFramePr/>
                  <p:nvPr/>
                </p:nvGraphicFramePr>
                <p:xfrm>
                  <a:off x="1928880" y="1982520"/>
                  <a:ext cx="341280" cy="303480"/>
                </p:xfrm>
                <a:graphic>
                  <a:graphicData uri="http://schemas.openxmlformats.org/presentationml/2006/ole">
                    <p:oleObj r:id="rId11" spid="">
                      <p:embed/>
                      <p:pic>
                        <p:nvPicPr>
                          <p:cNvPr id="399" name="Object 7" descr=""/>
                          <p:cNvPicPr/>
                          <p:nvPr/>
                        </p:nvPicPr>
                        <p:blipFill>
                          <a:blip r:embed="rId12"/>
                          <a:stretch/>
                        </p:blipFill>
                        <p:spPr>
                          <a:xfrm>
                            <a:off x="1928880" y="1982520"/>
                            <a:ext cx="341280" cy="3034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00" name="Object 8"/>
                <p:cNvGraphicFramePr/>
                <p:nvPr/>
              </p:nvGraphicFramePr>
              <p:xfrm>
                <a:off x="1714320" y="2428920"/>
                <a:ext cx="6089760" cy="79380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401" name="Object 8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1714320" y="2428920"/>
                          <a:ext cx="6089760" cy="793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aphicFrame>
          <p:nvGraphicFramePr>
            <p:cNvPr id="402" name="Object 12"/>
            <p:cNvGraphicFramePr/>
            <p:nvPr/>
          </p:nvGraphicFramePr>
          <p:xfrm>
            <a:off x="2643120" y="3286080"/>
            <a:ext cx="2579760" cy="793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03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643120" y="3286080"/>
                      <a:ext cx="2579760" cy="79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组合 16"/>
          <p:cNvGrpSpPr/>
          <p:nvPr/>
        </p:nvGrpSpPr>
        <p:grpSpPr>
          <a:xfrm>
            <a:off x="857160" y="1000080"/>
            <a:ext cx="7858080" cy="2857680"/>
            <a:chOff x="857160" y="1000080"/>
            <a:chExt cx="7858080" cy="2857680"/>
          </a:xfrm>
        </p:grpSpPr>
        <p:grpSp>
          <p:nvGrpSpPr>
            <p:cNvPr id="405" name="组合 1"/>
            <p:cNvGrpSpPr/>
            <p:nvPr/>
          </p:nvGrpSpPr>
          <p:grpSpPr>
            <a:xfrm>
              <a:off x="1522080" y="1000080"/>
              <a:ext cx="7193160" cy="2735640"/>
              <a:chOff x="1522080" y="1000080"/>
              <a:chExt cx="7193160" cy="2735640"/>
            </a:xfrm>
          </p:grpSpPr>
          <p:grpSp>
            <p:nvGrpSpPr>
              <p:cNvPr id="406" name="组合 24"/>
              <p:cNvGrpSpPr/>
              <p:nvPr/>
            </p:nvGrpSpPr>
            <p:grpSpPr>
              <a:xfrm>
                <a:off x="1522080" y="1142640"/>
                <a:ext cx="5470920" cy="2593080"/>
                <a:chOff x="1522080" y="1142640"/>
                <a:chExt cx="5470920" cy="2593080"/>
              </a:xfrm>
            </p:grpSpPr>
            <p:sp>
              <p:nvSpPr>
                <p:cNvPr id="407" name="Rectangle 15"/>
                <p:cNvSpPr/>
                <p:nvPr/>
              </p:nvSpPr>
              <p:spPr>
                <a:xfrm>
                  <a:off x="1522080" y="3215160"/>
                  <a:ext cx="379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任意的，故            ，总之有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408" name="组合 3"/>
                <p:cNvGrpSpPr/>
                <p:nvPr/>
              </p:nvGrpSpPr>
              <p:grpSpPr>
                <a:xfrm>
                  <a:off x="1960200" y="1142640"/>
                  <a:ext cx="5032800" cy="1865880"/>
                  <a:chOff x="1960200" y="1142640"/>
                  <a:chExt cx="5032800" cy="1865880"/>
                </a:xfrm>
              </p:grpSpPr>
              <p:grpSp>
                <p:nvGrpSpPr>
                  <p:cNvPr id="409" name="组合 1"/>
                  <p:cNvGrpSpPr/>
                  <p:nvPr/>
                </p:nvGrpSpPr>
                <p:grpSpPr>
                  <a:xfrm>
                    <a:off x="1960200" y="1142640"/>
                    <a:ext cx="3574800" cy="947160"/>
                    <a:chOff x="1960200" y="1142640"/>
                    <a:chExt cx="3574800" cy="947160"/>
                  </a:xfrm>
                </p:grpSpPr>
                <p:sp>
                  <p:nvSpPr>
                    <p:cNvPr id="410" name="Rectangle 15"/>
                    <p:cNvSpPr/>
                    <p:nvPr/>
                  </p:nvSpPr>
                  <p:spPr>
                    <a:xfrm>
                      <a:off x="1960200" y="1142640"/>
                      <a:ext cx="3574800" cy="947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另一方面，        ，存在   ，使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取                              则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411" name="Object 7"/>
                    <p:cNvGraphicFramePr/>
                    <p:nvPr/>
                  </p:nvGraphicFramePr>
                  <p:xfrm>
                    <a:off x="3067200" y="1274400"/>
                    <a:ext cx="1147680" cy="32688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412" name="Object 7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3067200" y="1274400"/>
                              <a:ext cx="1147680" cy="32688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413" name="Object 8"/>
                  <p:cNvGraphicFramePr/>
                  <p:nvPr/>
                </p:nvGraphicFramePr>
                <p:xfrm>
                  <a:off x="2643120" y="2214720"/>
                  <a:ext cx="4349880" cy="79380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414" name="Object 8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2643120" y="2214720"/>
                            <a:ext cx="4349880" cy="7938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  <p:graphicFrame>
            <p:nvGraphicFramePr>
              <p:cNvPr id="415" name="Object 4"/>
              <p:cNvGraphicFramePr/>
              <p:nvPr/>
            </p:nvGraphicFramePr>
            <p:xfrm>
              <a:off x="6508800" y="1000080"/>
              <a:ext cx="2206440" cy="793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16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508800" y="1000080"/>
                        <a:ext cx="2206440" cy="793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17" name="Object 5"/>
            <p:cNvGraphicFramePr/>
            <p:nvPr/>
          </p:nvGraphicFramePr>
          <p:xfrm>
            <a:off x="5214960" y="1285560"/>
            <a:ext cx="309240" cy="32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1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14960" y="1285560"/>
                      <a:ext cx="30924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Object 6"/>
            <p:cNvGraphicFramePr/>
            <p:nvPr/>
          </p:nvGraphicFramePr>
          <p:xfrm>
            <a:off x="1285920" y="1643040"/>
            <a:ext cx="2879640" cy="420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85920" y="1643040"/>
                      <a:ext cx="287964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1" name="Object 7"/>
            <p:cNvGraphicFramePr/>
            <p:nvPr/>
          </p:nvGraphicFramePr>
          <p:xfrm>
            <a:off x="4572000" y="1643040"/>
            <a:ext cx="2724120" cy="514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2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72000" y="1643040"/>
                      <a:ext cx="2724120" cy="51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3" name="Object 7"/>
            <p:cNvGraphicFramePr/>
            <p:nvPr/>
          </p:nvGraphicFramePr>
          <p:xfrm>
            <a:off x="857160" y="3386520"/>
            <a:ext cx="309240" cy="257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4" name="Object 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57160" y="3386520"/>
                      <a:ext cx="309240" cy="25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5" name="Object 8"/>
            <p:cNvGraphicFramePr/>
            <p:nvPr/>
          </p:nvGraphicFramePr>
          <p:xfrm>
            <a:off x="3247920" y="3286440"/>
            <a:ext cx="1180800" cy="466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26" name="Object 8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247920" y="3286440"/>
                      <a:ext cx="118080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7" name="Object 8"/>
            <p:cNvGraphicFramePr/>
            <p:nvPr/>
          </p:nvGraphicFramePr>
          <p:xfrm>
            <a:off x="5857920" y="3063960"/>
            <a:ext cx="2577960" cy="793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28" name="Object 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57920" y="3063960"/>
                      <a:ext cx="2577960" cy="79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7128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0" name="组合 11"/>
          <p:cNvGrpSpPr/>
          <p:nvPr/>
        </p:nvGrpSpPr>
        <p:grpSpPr>
          <a:xfrm>
            <a:off x="956880" y="679320"/>
            <a:ext cx="6899760" cy="982080"/>
            <a:chOff x="956880" y="679320"/>
            <a:chExt cx="6899760" cy="982080"/>
          </a:xfrm>
        </p:grpSpPr>
        <p:grpSp>
          <p:nvGrpSpPr>
            <p:cNvPr id="431" name="组合 3"/>
            <p:cNvGrpSpPr/>
            <p:nvPr/>
          </p:nvGrpSpPr>
          <p:grpSpPr>
            <a:xfrm>
              <a:off x="956880" y="679320"/>
              <a:ext cx="5401440" cy="982080"/>
              <a:chOff x="956880" y="679320"/>
              <a:chExt cx="5401440" cy="982080"/>
            </a:xfrm>
          </p:grpSpPr>
          <p:grpSp>
            <p:nvGrpSpPr>
              <p:cNvPr id="432" name="组合 1"/>
              <p:cNvGrpSpPr/>
              <p:nvPr/>
            </p:nvGrpSpPr>
            <p:grpSpPr>
              <a:xfrm>
                <a:off x="956880" y="714240"/>
                <a:ext cx="5401440" cy="947160"/>
                <a:chOff x="956880" y="714240"/>
                <a:chExt cx="5401440" cy="947160"/>
              </a:xfrm>
            </p:grpSpPr>
            <p:sp>
              <p:nvSpPr>
                <p:cNvPr id="433" name="Rectangle 15"/>
                <p:cNvSpPr/>
                <p:nvPr/>
              </p:nvSpPr>
              <p:spPr>
                <a:xfrm>
                  <a:off x="956880" y="714240"/>
                  <a:ext cx="53578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将                       分别看成           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上的线性泛函，计算它们的范数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34" name="Object 2"/>
                <p:cNvGraphicFramePr/>
                <p:nvPr/>
              </p:nvGraphicFramePr>
              <p:xfrm>
                <a:off x="5177160" y="785520"/>
                <a:ext cx="1181160" cy="4651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35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177160" y="785520"/>
                          <a:ext cx="1181160" cy="465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36" name="Object 3"/>
              <p:cNvGraphicFramePr/>
              <p:nvPr/>
            </p:nvGraphicFramePr>
            <p:xfrm>
              <a:off x="1474920" y="679320"/>
              <a:ext cx="2454480" cy="606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7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74920" y="679320"/>
                        <a:ext cx="2454480" cy="60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38" name="Object 6"/>
            <p:cNvGraphicFramePr/>
            <p:nvPr/>
          </p:nvGraphicFramePr>
          <p:xfrm>
            <a:off x="6643800" y="785520"/>
            <a:ext cx="1212840" cy="465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43800" y="785520"/>
                      <a:ext cx="121284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0" name="组合 24"/>
          <p:cNvGrpSpPr/>
          <p:nvPr/>
        </p:nvGrpSpPr>
        <p:grpSpPr>
          <a:xfrm>
            <a:off x="814320" y="1857240"/>
            <a:ext cx="7499520" cy="2394000"/>
            <a:chOff x="814320" y="1857240"/>
            <a:chExt cx="7499520" cy="2394000"/>
          </a:xfrm>
        </p:grpSpPr>
        <p:sp>
          <p:nvSpPr>
            <p:cNvPr id="441" name="Rectangle 15"/>
            <p:cNvSpPr/>
            <p:nvPr/>
          </p:nvSpPr>
          <p:spPr>
            <a:xfrm>
              <a:off x="852480" y="3714840"/>
              <a:ext cx="54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      ，则    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42" name="组合 23"/>
            <p:cNvGrpSpPr/>
            <p:nvPr/>
          </p:nvGrpSpPr>
          <p:grpSpPr>
            <a:xfrm>
              <a:off x="814320" y="1857240"/>
              <a:ext cx="7499520" cy="2394000"/>
              <a:chOff x="814320" y="1857240"/>
              <a:chExt cx="7499520" cy="2394000"/>
            </a:xfrm>
          </p:grpSpPr>
          <p:grpSp>
            <p:nvGrpSpPr>
              <p:cNvPr id="443" name="组合 3"/>
              <p:cNvGrpSpPr/>
              <p:nvPr/>
            </p:nvGrpSpPr>
            <p:grpSpPr>
              <a:xfrm>
                <a:off x="814320" y="1857240"/>
                <a:ext cx="6653520" cy="1737000"/>
                <a:chOff x="814320" y="1857240"/>
                <a:chExt cx="6653520" cy="1737000"/>
              </a:xfrm>
            </p:grpSpPr>
            <p:grpSp>
              <p:nvGrpSpPr>
                <p:cNvPr id="444" name="组合 1"/>
                <p:cNvGrpSpPr/>
                <p:nvPr/>
              </p:nvGrpSpPr>
              <p:grpSpPr>
                <a:xfrm>
                  <a:off x="814320" y="1857240"/>
                  <a:ext cx="3312720" cy="520560"/>
                  <a:chOff x="814320" y="1857240"/>
                  <a:chExt cx="3312720" cy="520560"/>
                </a:xfrm>
              </p:grpSpPr>
              <p:sp>
                <p:nvSpPr>
                  <p:cNvPr id="445" name="Rectangle 15"/>
                  <p:cNvSpPr/>
                  <p:nvPr/>
                </p:nvSpPr>
                <p:spPr>
                  <a:xfrm>
                    <a:off x="814320" y="1857240"/>
                    <a:ext cx="3312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首先，在            上有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446" name="Object 7"/>
                  <p:cNvGraphicFramePr/>
                  <p:nvPr/>
                </p:nvGraphicFramePr>
                <p:xfrm>
                  <a:off x="2571840" y="1893600"/>
                  <a:ext cx="1181160" cy="46512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447" name="Object 7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2571840" y="1893600"/>
                            <a:ext cx="1181160" cy="4651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48" name="Object 8"/>
                <p:cNvGraphicFramePr/>
                <p:nvPr/>
              </p:nvGraphicFramePr>
              <p:xfrm>
                <a:off x="2000160" y="2428920"/>
                <a:ext cx="5467680" cy="11653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449" name="Object 8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000160" y="2428920"/>
                          <a:ext cx="5467680" cy="1165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50" name="Object 10"/>
              <p:cNvGraphicFramePr/>
              <p:nvPr/>
            </p:nvGraphicFramePr>
            <p:xfrm>
              <a:off x="938160" y="3795840"/>
              <a:ext cx="1306440" cy="4190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51" name="Object 1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938160" y="3795840"/>
                        <a:ext cx="1306440" cy="41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2" name="Object 11"/>
              <p:cNvGraphicFramePr/>
              <p:nvPr/>
            </p:nvGraphicFramePr>
            <p:xfrm>
              <a:off x="2868480" y="3749760"/>
              <a:ext cx="3203640" cy="4651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453" name="Object 11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868480" y="3749760"/>
                        <a:ext cx="3203640" cy="46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4" name="Object 12"/>
              <p:cNvGraphicFramePr/>
              <p:nvPr/>
            </p:nvGraphicFramePr>
            <p:xfrm>
              <a:off x="6572520" y="3786120"/>
              <a:ext cx="1741320" cy="4651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55" name="Object 12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572520" y="3786120"/>
                        <a:ext cx="1741320" cy="46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13"/>
          <p:cNvGrpSpPr/>
          <p:nvPr/>
        </p:nvGrpSpPr>
        <p:grpSpPr>
          <a:xfrm>
            <a:off x="1126080" y="928800"/>
            <a:ext cx="7200360" cy="2509560"/>
            <a:chOff x="1126080" y="928800"/>
            <a:chExt cx="7200360" cy="2509560"/>
          </a:xfrm>
        </p:grpSpPr>
        <p:sp>
          <p:nvSpPr>
            <p:cNvPr id="457" name="Rectangle 15"/>
            <p:cNvSpPr/>
            <p:nvPr/>
          </p:nvSpPr>
          <p:spPr>
            <a:xfrm>
              <a:off x="1126080" y="2786040"/>
              <a:ext cx="576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             ，则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58" name="组合 12"/>
            <p:cNvGrpSpPr/>
            <p:nvPr/>
          </p:nvGrpSpPr>
          <p:grpSpPr>
            <a:xfrm>
              <a:off x="1184040" y="928800"/>
              <a:ext cx="7142400" cy="2509560"/>
              <a:chOff x="1184040" y="928800"/>
              <a:chExt cx="7142400" cy="2509560"/>
            </a:xfrm>
          </p:grpSpPr>
          <p:grpSp>
            <p:nvGrpSpPr>
              <p:cNvPr id="459" name="组合 1"/>
              <p:cNvGrpSpPr/>
              <p:nvPr/>
            </p:nvGrpSpPr>
            <p:grpSpPr>
              <a:xfrm>
                <a:off x="1184040" y="928800"/>
                <a:ext cx="7142400" cy="2509560"/>
                <a:chOff x="1184040" y="928800"/>
                <a:chExt cx="7142400" cy="2509560"/>
              </a:xfrm>
            </p:grpSpPr>
            <p:grpSp>
              <p:nvGrpSpPr>
                <p:cNvPr id="460" name="组合 3"/>
                <p:cNvGrpSpPr/>
                <p:nvPr/>
              </p:nvGrpSpPr>
              <p:grpSpPr>
                <a:xfrm>
                  <a:off x="1404720" y="928800"/>
                  <a:ext cx="5212080" cy="1463400"/>
                  <a:chOff x="1404720" y="928800"/>
                  <a:chExt cx="5212080" cy="1463400"/>
                </a:xfrm>
              </p:grpSpPr>
              <p:grpSp>
                <p:nvGrpSpPr>
                  <p:cNvPr id="461" name="组合 1"/>
                  <p:cNvGrpSpPr/>
                  <p:nvPr/>
                </p:nvGrpSpPr>
                <p:grpSpPr>
                  <a:xfrm>
                    <a:off x="1404720" y="928800"/>
                    <a:ext cx="4537800" cy="536400"/>
                    <a:chOff x="1404720" y="928800"/>
                    <a:chExt cx="4537800" cy="536400"/>
                  </a:xfrm>
                </p:grpSpPr>
                <p:sp>
                  <p:nvSpPr>
                    <p:cNvPr id="462" name="Rectangle 15"/>
                    <p:cNvSpPr/>
                    <p:nvPr/>
                  </p:nvSpPr>
                  <p:spPr>
                    <a:xfrm>
                      <a:off x="1404720" y="928800"/>
                      <a:ext cx="4537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若    是            上的线性泛函，则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463" name="Object 2"/>
                    <p:cNvGraphicFramePr/>
                    <p:nvPr/>
                  </p:nvGraphicFramePr>
                  <p:xfrm>
                    <a:off x="2484360" y="1000080"/>
                    <a:ext cx="1212840" cy="46512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464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2484360" y="1000080"/>
                              <a:ext cx="1212840" cy="4651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465" name="Object 3"/>
                  <p:cNvGraphicFramePr/>
                  <p:nvPr/>
                </p:nvGraphicFramePr>
                <p:xfrm>
                  <a:off x="2857680" y="1785960"/>
                  <a:ext cx="3759120" cy="60624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466" name="Object 3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2857680" y="1785960"/>
                            <a:ext cx="3759120" cy="6062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67" name="Object 4"/>
                <p:cNvGraphicFramePr/>
                <p:nvPr/>
              </p:nvGraphicFramePr>
              <p:xfrm>
                <a:off x="1184040" y="2716200"/>
                <a:ext cx="1958760" cy="7221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68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184040" y="2716200"/>
                          <a:ext cx="1958760" cy="722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469" name="Object 5"/>
                <p:cNvGraphicFramePr/>
                <p:nvPr/>
              </p:nvGraphicFramePr>
              <p:xfrm>
                <a:off x="3857760" y="2857320"/>
                <a:ext cx="2736720" cy="4651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470" name="Object 5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3857760" y="2857320"/>
                          <a:ext cx="2736720" cy="465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471" name="Object 6"/>
                <p:cNvGraphicFramePr/>
                <p:nvPr/>
              </p:nvGraphicFramePr>
              <p:xfrm>
                <a:off x="7143840" y="2857680"/>
                <a:ext cx="1182600" cy="4651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472" name="Object 6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7143840" y="2857680"/>
                          <a:ext cx="1182600" cy="465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73" name="Object 2"/>
              <p:cNvGraphicFramePr/>
              <p:nvPr/>
            </p:nvGraphicFramePr>
            <p:xfrm>
              <a:off x="1770120" y="1000080"/>
              <a:ext cx="372960" cy="3711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74" name="Object 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770120" y="1000080"/>
                        <a:ext cx="372960" cy="37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11"/>
          <p:cNvGrpSpPr/>
          <p:nvPr/>
        </p:nvGrpSpPr>
        <p:grpSpPr>
          <a:xfrm>
            <a:off x="1349280" y="642960"/>
            <a:ext cx="7152480" cy="1800360"/>
            <a:chOff x="1349280" y="642960"/>
            <a:chExt cx="7152480" cy="1800360"/>
          </a:xfrm>
        </p:grpSpPr>
        <p:sp>
          <p:nvSpPr>
            <p:cNvPr id="86" name="Rectangle 15"/>
            <p:cNvSpPr/>
            <p:nvPr/>
          </p:nvSpPr>
          <p:spPr>
            <a:xfrm>
              <a:off x="1349280" y="642960"/>
              <a:ext cx="64425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为         线性赋范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              是从    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的有界线性算子全体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像定义函数空间的线性运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算那样定义              中的加法和数乘，则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线性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            时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               为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7" name="Object 2"/>
            <p:cNvGraphicFramePr/>
            <p:nvPr/>
          </p:nvGraphicFramePr>
          <p:xfrm>
            <a:off x="1837080" y="714240"/>
            <a:ext cx="949320" cy="43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7080" y="714240"/>
                      <a:ext cx="94932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Object 3"/>
            <p:cNvGraphicFramePr/>
            <p:nvPr/>
          </p:nvGraphicFramePr>
          <p:xfrm>
            <a:off x="8100360" y="714240"/>
            <a:ext cx="401400" cy="357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00360" y="714240"/>
                      <a:ext cx="40140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Object 4"/>
            <p:cNvGraphicFramePr/>
            <p:nvPr/>
          </p:nvGraphicFramePr>
          <p:xfrm>
            <a:off x="5182200" y="714240"/>
            <a:ext cx="1533240" cy="439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2200" y="714240"/>
                      <a:ext cx="153324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Object 5"/>
            <p:cNvGraphicFramePr/>
            <p:nvPr/>
          </p:nvGraphicFramePr>
          <p:xfrm>
            <a:off x="7347600" y="714240"/>
            <a:ext cx="510840" cy="357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47600" y="714240"/>
                      <a:ext cx="51084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Object 6"/>
            <p:cNvGraphicFramePr/>
            <p:nvPr/>
          </p:nvGraphicFramePr>
          <p:xfrm>
            <a:off x="2286000" y="1572120"/>
            <a:ext cx="1533240" cy="43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6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0" y="1572120"/>
                      <a:ext cx="153324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7"/>
            <p:cNvGraphicFramePr/>
            <p:nvPr/>
          </p:nvGraphicFramePr>
          <p:xfrm>
            <a:off x="6858000" y="1560960"/>
            <a:ext cx="1533240" cy="439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8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0" y="1560960"/>
                      <a:ext cx="153324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8"/>
            <p:cNvGraphicFramePr/>
            <p:nvPr/>
          </p:nvGraphicFramePr>
          <p:xfrm>
            <a:off x="4714920" y="2000880"/>
            <a:ext cx="1533240" cy="439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0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14920" y="2000880"/>
                      <a:ext cx="153324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Object 9"/>
            <p:cNvGraphicFramePr/>
            <p:nvPr/>
          </p:nvGraphicFramePr>
          <p:xfrm>
            <a:off x="2786040" y="2000880"/>
            <a:ext cx="1241280" cy="357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2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86040" y="2000880"/>
                      <a:ext cx="124128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Object 10"/>
            <p:cNvGraphicFramePr/>
            <p:nvPr/>
          </p:nvGraphicFramePr>
          <p:xfrm>
            <a:off x="6516720" y="2000880"/>
            <a:ext cx="1204920" cy="439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04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516720" y="2000880"/>
                      <a:ext cx="120492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5" name="组合 12"/>
          <p:cNvGrpSpPr/>
          <p:nvPr/>
        </p:nvGrpSpPr>
        <p:grpSpPr>
          <a:xfrm>
            <a:off x="642600" y="3000240"/>
            <a:ext cx="8287200" cy="1163520"/>
            <a:chOff x="642600" y="3000240"/>
            <a:chExt cx="8287200" cy="1163520"/>
          </a:xfrm>
        </p:grpSpPr>
        <p:grpSp>
          <p:nvGrpSpPr>
            <p:cNvPr id="106" name="组合 11"/>
            <p:cNvGrpSpPr/>
            <p:nvPr/>
          </p:nvGrpSpPr>
          <p:grpSpPr>
            <a:xfrm>
              <a:off x="1018800" y="3000240"/>
              <a:ext cx="7863480" cy="520560"/>
              <a:chOff x="1018800" y="3000240"/>
              <a:chExt cx="7863480" cy="520560"/>
            </a:xfrm>
          </p:grpSpPr>
          <p:grpSp>
            <p:nvGrpSpPr>
              <p:cNvPr id="107" name="组合 4"/>
              <p:cNvGrpSpPr/>
              <p:nvPr/>
            </p:nvGrpSpPr>
            <p:grpSpPr>
              <a:xfrm>
                <a:off x="1018800" y="3000240"/>
                <a:ext cx="4452480" cy="520560"/>
                <a:chOff x="1018800" y="3000240"/>
                <a:chExt cx="4452480" cy="520560"/>
              </a:xfrm>
            </p:grpSpPr>
            <p:sp>
              <p:nvSpPr>
                <p:cNvPr id="108" name="Rectangle 15"/>
                <p:cNvSpPr/>
                <p:nvPr/>
              </p:nvSpPr>
              <p:spPr>
                <a:xfrm>
                  <a:off x="1018800" y="3000240"/>
                  <a:ext cx="4452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今后我们称                    是   算子，若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9" name="Object 13"/>
                <p:cNvGraphicFramePr/>
                <p:nvPr/>
              </p:nvGraphicFramePr>
              <p:xfrm>
                <a:off x="2143080" y="3105000"/>
                <a:ext cx="1935360" cy="38484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110" name="Object 13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2143080" y="3105000"/>
                          <a:ext cx="1935360" cy="384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11" name="Object 14"/>
              <p:cNvGraphicFramePr/>
              <p:nvPr/>
            </p:nvGraphicFramePr>
            <p:xfrm>
              <a:off x="4421160" y="3116160"/>
              <a:ext cx="365040" cy="38484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2" name="Object 14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4421160" y="3116160"/>
                        <a:ext cx="365040" cy="38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3" name="Object 15"/>
              <p:cNvGraphicFramePr/>
              <p:nvPr/>
            </p:nvGraphicFramePr>
            <p:xfrm>
              <a:off x="6143760" y="3071520"/>
              <a:ext cx="2738520" cy="4406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14" name="Object 15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6143760" y="3071520"/>
                        <a:ext cx="2738520" cy="440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5" name="组合 12"/>
            <p:cNvGrpSpPr/>
            <p:nvPr/>
          </p:nvGrpSpPr>
          <p:grpSpPr>
            <a:xfrm>
              <a:off x="642600" y="3643200"/>
              <a:ext cx="8287200" cy="520560"/>
              <a:chOff x="642600" y="3643200"/>
              <a:chExt cx="8287200" cy="520560"/>
            </a:xfrm>
          </p:grpSpPr>
          <p:grpSp>
            <p:nvGrpSpPr>
              <p:cNvPr id="116" name="组合 15"/>
              <p:cNvGrpSpPr/>
              <p:nvPr/>
            </p:nvGrpSpPr>
            <p:grpSpPr>
              <a:xfrm>
                <a:off x="642600" y="3643200"/>
                <a:ext cx="5046480" cy="520560"/>
                <a:chOff x="642600" y="3643200"/>
                <a:chExt cx="5046480" cy="520560"/>
              </a:xfrm>
            </p:grpSpPr>
            <p:sp>
              <p:nvSpPr>
                <p:cNvPr id="117" name="Rectangle 15"/>
                <p:cNvSpPr/>
                <p:nvPr/>
              </p:nvSpPr>
              <p:spPr>
                <a:xfrm>
                  <a:off x="902880" y="3643200"/>
                  <a:ext cx="4786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称                 是单位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(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恒等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)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18" name="Object 16"/>
                <p:cNvGraphicFramePr/>
                <p:nvPr/>
              </p:nvGraphicFramePr>
              <p:xfrm>
                <a:off x="642600" y="3714480"/>
                <a:ext cx="1857240" cy="369360"/>
              </p:xfrm>
              <a:graphic>
                <a:graphicData uri="http://schemas.openxmlformats.org/presentationml/2006/ole">
                  <p:oleObj r:id="rId25" spid="">
                    <p:embed/>
                    <p:pic>
                      <p:nvPicPr>
                        <p:cNvPr id="119" name="Object 16" descr="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642600" y="3714480"/>
                          <a:ext cx="1857240" cy="369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20" name="Object 17"/>
              <p:cNvGraphicFramePr/>
              <p:nvPr/>
            </p:nvGraphicFramePr>
            <p:xfrm>
              <a:off x="6191280" y="3714480"/>
              <a:ext cx="2738520" cy="44064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121" name="Object 17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6191280" y="3714480"/>
                        <a:ext cx="2738520" cy="440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命题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64600" y="714240"/>
            <a:ext cx="6247440" cy="947160"/>
            <a:chOff x="2064600" y="714240"/>
            <a:chExt cx="6247440" cy="947160"/>
          </a:xfrm>
        </p:grpSpPr>
        <p:grpSp>
          <p:nvGrpSpPr>
            <p:cNvPr id="124" name="组合 2"/>
            <p:cNvGrpSpPr/>
            <p:nvPr/>
          </p:nvGrpSpPr>
          <p:grpSpPr>
            <a:xfrm>
              <a:off x="2064600" y="714240"/>
              <a:ext cx="5549760" cy="947160"/>
              <a:chOff x="2064600" y="714240"/>
              <a:chExt cx="5549760" cy="947160"/>
            </a:xfrm>
          </p:grpSpPr>
          <p:sp>
            <p:nvSpPr>
              <p:cNvPr id="125" name="Rectangle 15"/>
              <p:cNvSpPr/>
              <p:nvPr/>
            </p:nvSpPr>
            <p:spPr>
              <a:xfrm>
                <a:off x="2064600" y="714240"/>
                <a:ext cx="55497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赋范线性空间    中，范数      是         的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连续函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26" name="Object 3"/>
              <p:cNvGraphicFramePr/>
              <p:nvPr/>
            </p:nvGraphicFramePr>
            <p:xfrm>
              <a:off x="4418280" y="785520"/>
              <a:ext cx="510840" cy="355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7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18280" y="785520"/>
                        <a:ext cx="510840" cy="35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8" name="Object 4"/>
              <p:cNvGraphicFramePr/>
              <p:nvPr/>
            </p:nvGraphicFramePr>
            <p:xfrm>
              <a:off x="6215040" y="714240"/>
              <a:ext cx="620640" cy="549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9" name="Object 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15040" y="714240"/>
                        <a:ext cx="62064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0" name="Object 5"/>
            <p:cNvGraphicFramePr/>
            <p:nvPr/>
          </p:nvGraphicFramePr>
          <p:xfrm>
            <a:off x="7143840" y="785520"/>
            <a:ext cx="1168200" cy="3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1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143840" y="785520"/>
                      <a:ext cx="116820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2" name="Text Box 3"/>
          <p:cNvSpPr/>
          <p:nvPr/>
        </p:nvSpPr>
        <p:spPr>
          <a:xfrm>
            <a:off x="357120" y="1785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3" name="组合 17"/>
          <p:cNvGrpSpPr/>
          <p:nvPr/>
        </p:nvGrpSpPr>
        <p:grpSpPr>
          <a:xfrm>
            <a:off x="1368000" y="1785960"/>
            <a:ext cx="7133040" cy="1706400"/>
            <a:chOff x="1368000" y="1785960"/>
            <a:chExt cx="7133040" cy="1706400"/>
          </a:xfrm>
        </p:grpSpPr>
        <p:grpSp>
          <p:nvGrpSpPr>
            <p:cNvPr id="134" name="组合 1"/>
            <p:cNvGrpSpPr/>
            <p:nvPr/>
          </p:nvGrpSpPr>
          <p:grpSpPr>
            <a:xfrm>
              <a:off x="1368000" y="1836720"/>
              <a:ext cx="7133040" cy="947160"/>
              <a:chOff x="1368000" y="1836720"/>
              <a:chExt cx="7133040" cy="947160"/>
            </a:xfrm>
          </p:grpSpPr>
          <p:sp>
            <p:nvSpPr>
              <p:cNvPr id="135" name="Rectangle 15"/>
              <p:cNvSpPr/>
              <p:nvPr/>
            </p:nvSpPr>
            <p:spPr>
              <a:xfrm>
                <a:off x="1368000" y="1836720"/>
                <a:ext cx="388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     收敛于   ，由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和                                 可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36" name="Object 2"/>
              <p:cNvGraphicFramePr/>
              <p:nvPr/>
            </p:nvGraphicFramePr>
            <p:xfrm>
              <a:off x="5643720" y="1908000"/>
              <a:ext cx="2857320" cy="466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7" name="Object 2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643720" y="1908000"/>
                        <a:ext cx="285732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8" name="Object 7"/>
            <p:cNvGraphicFramePr/>
            <p:nvPr/>
          </p:nvGraphicFramePr>
          <p:xfrm>
            <a:off x="2293920" y="1785960"/>
            <a:ext cx="1277640" cy="601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9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93920" y="1785960"/>
                      <a:ext cx="127764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Object 8"/>
            <p:cNvGraphicFramePr/>
            <p:nvPr/>
          </p:nvGraphicFramePr>
          <p:xfrm>
            <a:off x="4572000" y="1979640"/>
            <a:ext cx="365040" cy="301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1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72000" y="1979640"/>
                      <a:ext cx="36504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Object 9"/>
            <p:cNvGraphicFramePr/>
            <p:nvPr/>
          </p:nvGraphicFramePr>
          <p:xfrm>
            <a:off x="1714320" y="2336760"/>
            <a:ext cx="2857320" cy="466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3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714320" y="2336760"/>
                      <a:ext cx="285732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Object 10"/>
            <p:cNvGraphicFramePr/>
            <p:nvPr/>
          </p:nvGraphicFramePr>
          <p:xfrm>
            <a:off x="3143160" y="2979720"/>
            <a:ext cx="3073320" cy="512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5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43160" y="2979720"/>
                      <a:ext cx="30733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6" name="组合 18"/>
          <p:cNvGrpSpPr/>
          <p:nvPr/>
        </p:nvGrpSpPr>
        <p:grpSpPr>
          <a:xfrm>
            <a:off x="1642320" y="3643200"/>
            <a:ext cx="6958800" cy="947160"/>
            <a:chOff x="1642320" y="3643200"/>
            <a:chExt cx="6958800" cy="947160"/>
          </a:xfrm>
        </p:grpSpPr>
        <p:grpSp>
          <p:nvGrpSpPr>
            <p:cNvPr id="147" name="组合 19"/>
            <p:cNvGrpSpPr/>
            <p:nvPr/>
          </p:nvGrpSpPr>
          <p:grpSpPr>
            <a:xfrm>
              <a:off x="1642320" y="3643200"/>
              <a:ext cx="5272560" cy="947160"/>
              <a:chOff x="1642320" y="3643200"/>
              <a:chExt cx="5272560" cy="947160"/>
            </a:xfrm>
          </p:grpSpPr>
          <p:sp>
            <p:nvSpPr>
              <p:cNvPr id="148" name="Rectangle 15"/>
              <p:cNvSpPr/>
              <p:nvPr/>
            </p:nvSpPr>
            <p:spPr>
              <a:xfrm>
                <a:off x="1642320" y="3643200"/>
                <a:ext cx="52725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因为                      ，故                   ，当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证毕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49" name="Object 11"/>
              <p:cNvGraphicFramePr/>
              <p:nvPr/>
            </p:nvGraphicFramePr>
            <p:xfrm>
              <a:off x="4715280" y="3643200"/>
              <a:ext cx="1898640" cy="5479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50" name="Object 11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715280" y="3643200"/>
                        <a:ext cx="1898640" cy="54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1" name="Object 12"/>
              <p:cNvGraphicFramePr/>
              <p:nvPr/>
            </p:nvGraphicFramePr>
            <p:xfrm>
              <a:off x="1857600" y="3643200"/>
              <a:ext cx="2227320" cy="5493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52" name="Object 12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1857600" y="3643200"/>
                        <a:ext cx="222732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3" name="Object 13"/>
            <p:cNvGraphicFramePr/>
            <p:nvPr/>
          </p:nvGraphicFramePr>
          <p:xfrm>
            <a:off x="7250400" y="3786120"/>
            <a:ext cx="1350720" cy="3016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4" name="Object 13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250400" y="3786120"/>
                      <a:ext cx="1350720" cy="3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57120" y="5716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6" name="组合 11"/>
          <p:cNvGrpSpPr/>
          <p:nvPr/>
        </p:nvGrpSpPr>
        <p:grpSpPr>
          <a:xfrm>
            <a:off x="2083320" y="571680"/>
            <a:ext cx="4240440" cy="2000160"/>
            <a:chOff x="2083320" y="571680"/>
            <a:chExt cx="4240440" cy="2000160"/>
          </a:xfrm>
        </p:grpSpPr>
        <p:grpSp>
          <p:nvGrpSpPr>
            <p:cNvPr id="157" name="组合 10"/>
            <p:cNvGrpSpPr/>
            <p:nvPr/>
          </p:nvGrpSpPr>
          <p:grpSpPr>
            <a:xfrm>
              <a:off x="2083320" y="571680"/>
              <a:ext cx="4240440" cy="1949400"/>
              <a:chOff x="2083320" y="571680"/>
              <a:chExt cx="4240440" cy="1949400"/>
            </a:xfrm>
          </p:grpSpPr>
          <p:grpSp>
            <p:nvGrpSpPr>
              <p:cNvPr id="158" name="组合 2"/>
              <p:cNvGrpSpPr/>
              <p:nvPr/>
            </p:nvGrpSpPr>
            <p:grpSpPr>
              <a:xfrm>
                <a:off x="2436840" y="571680"/>
                <a:ext cx="3292560" cy="520560"/>
                <a:chOff x="2436840" y="571680"/>
                <a:chExt cx="3292560" cy="520560"/>
              </a:xfrm>
            </p:grpSpPr>
            <p:sp>
              <p:nvSpPr>
                <p:cNvPr id="159" name="Rectangle 15"/>
                <p:cNvSpPr/>
                <p:nvPr/>
              </p:nvSpPr>
              <p:spPr>
                <a:xfrm>
                  <a:off x="2436840" y="571680"/>
                  <a:ext cx="3292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对每个                      ，令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60" name="Object 2"/>
                <p:cNvGraphicFramePr/>
                <p:nvPr/>
              </p:nvGraphicFramePr>
              <p:xfrm>
                <a:off x="3143160" y="642960"/>
                <a:ext cx="2227320" cy="439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61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143160" y="642960"/>
                          <a:ext cx="2227320" cy="439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62" name="Object 3"/>
              <p:cNvGraphicFramePr/>
              <p:nvPr/>
            </p:nvGraphicFramePr>
            <p:xfrm>
              <a:off x="2928600" y="1214640"/>
              <a:ext cx="2592000" cy="741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3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928600" y="1214640"/>
                        <a:ext cx="2592000" cy="74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64" name="组合 6"/>
              <p:cNvGrpSpPr/>
              <p:nvPr/>
            </p:nvGrpSpPr>
            <p:grpSpPr>
              <a:xfrm>
                <a:off x="2083320" y="2000520"/>
                <a:ext cx="4240440" cy="520560"/>
                <a:chOff x="2083320" y="2000520"/>
                <a:chExt cx="4240440" cy="520560"/>
              </a:xfrm>
            </p:grpSpPr>
            <p:sp>
              <p:nvSpPr>
                <p:cNvPr id="165" name="Rectangle 15"/>
                <p:cNvSpPr/>
                <p:nvPr/>
              </p:nvSpPr>
              <p:spPr>
                <a:xfrm>
                  <a:off x="2083320" y="2000520"/>
                  <a:ext cx="4240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则      是                 上的范数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66" name="Object 4"/>
                <p:cNvGraphicFramePr/>
                <p:nvPr/>
              </p:nvGraphicFramePr>
              <p:xfrm>
                <a:off x="3538440" y="2071800"/>
                <a:ext cx="1533240" cy="439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67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538440" y="2071800"/>
                          <a:ext cx="1533240" cy="439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aphicFrame>
          <p:nvGraphicFramePr>
            <p:cNvPr id="168" name="Object 5"/>
            <p:cNvGraphicFramePr/>
            <p:nvPr/>
          </p:nvGraphicFramePr>
          <p:xfrm>
            <a:off x="2487240" y="2022840"/>
            <a:ext cx="583920" cy="54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87240" y="2022840"/>
                      <a:ext cx="583920" cy="54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0" name="Text Box 3"/>
          <p:cNvSpPr/>
          <p:nvPr/>
        </p:nvSpPr>
        <p:spPr>
          <a:xfrm>
            <a:off x="500040" y="25588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1" name="组合 13"/>
          <p:cNvGrpSpPr/>
          <p:nvPr/>
        </p:nvGrpSpPr>
        <p:grpSpPr>
          <a:xfrm>
            <a:off x="1820880" y="2643120"/>
            <a:ext cx="2566800" cy="571680"/>
            <a:chOff x="1820880" y="2643120"/>
            <a:chExt cx="2566800" cy="571680"/>
          </a:xfrm>
        </p:grpSpPr>
        <p:sp>
          <p:nvSpPr>
            <p:cNvPr id="172" name="Rectangle 15"/>
            <p:cNvSpPr/>
            <p:nvPr/>
          </p:nvSpPr>
          <p:spPr>
            <a:xfrm>
              <a:off x="1820880" y="264312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.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易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73" name="Object 6"/>
            <p:cNvGraphicFramePr/>
            <p:nvPr/>
          </p:nvGraphicFramePr>
          <p:xfrm>
            <a:off x="3000240" y="2665080"/>
            <a:ext cx="1387440" cy="549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4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00240" y="2665080"/>
                      <a:ext cx="1387440" cy="54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5" name="组合 20"/>
          <p:cNvGrpSpPr/>
          <p:nvPr/>
        </p:nvGrpSpPr>
        <p:grpSpPr>
          <a:xfrm>
            <a:off x="4715640" y="2616120"/>
            <a:ext cx="4226760" cy="741600"/>
            <a:chOff x="4715640" y="2616120"/>
            <a:chExt cx="4226760" cy="741600"/>
          </a:xfrm>
        </p:grpSpPr>
        <p:grpSp>
          <p:nvGrpSpPr>
            <p:cNvPr id="176" name="组合 16"/>
            <p:cNvGrpSpPr/>
            <p:nvPr/>
          </p:nvGrpSpPr>
          <p:grpSpPr>
            <a:xfrm>
              <a:off x="4715640" y="2643120"/>
              <a:ext cx="2559600" cy="571680"/>
              <a:chOff x="4715640" y="2643120"/>
              <a:chExt cx="2559600" cy="571680"/>
            </a:xfrm>
          </p:grpSpPr>
          <p:sp>
            <p:nvSpPr>
              <p:cNvPr id="177" name="Rectangle 15"/>
              <p:cNvSpPr/>
              <p:nvPr/>
            </p:nvSpPr>
            <p:spPr>
              <a:xfrm>
                <a:off x="4715640" y="2643120"/>
                <a:ext cx="255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则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78" name="Object 7"/>
              <p:cNvGraphicFramePr/>
              <p:nvPr/>
            </p:nvGraphicFramePr>
            <p:xfrm>
              <a:off x="4929120" y="2665080"/>
              <a:ext cx="1423800" cy="549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79" name="Object 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929120" y="2665080"/>
                        <a:ext cx="1423800" cy="54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0" name="Object 8"/>
            <p:cNvGraphicFramePr/>
            <p:nvPr/>
          </p:nvGraphicFramePr>
          <p:xfrm>
            <a:off x="6715080" y="2616120"/>
            <a:ext cx="2227320" cy="741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8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715080" y="2616120"/>
                      <a:ext cx="2227320" cy="74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2" name="组合 21"/>
          <p:cNvGrpSpPr/>
          <p:nvPr/>
        </p:nvGrpSpPr>
        <p:grpSpPr>
          <a:xfrm>
            <a:off x="2257920" y="3357720"/>
            <a:ext cx="4315320" cy="571320"/>
            <a:chOff x="2257920" y="3357720"/>
            <a:chExt cx="4315320" cy="571320"/>
          </a:xfrm>
        </p:grpSpPr>
        <p:grpSp>
          <p:nvGrpSpPr>
            <p:cNvPr id="183" name="组合 16"/>
            <p:cNvGrpSpPr/>
            <p:nvPr/>
          </p:nvGrpSpPr>
          <p:grpSpPr>
            <a:xfrm>
              <a:off x="2257920" y="3357720"/>
              <a:ext cx="4315320" cy="571320"/>
              <a:chOff x="2257920" y="3357720"/>
              <a:chExt cx="4315320" cy="571320"/>
            </a:xfrm>
          </p:grpSpPr>
          <p:sp>
            <p:nvSpPr>
              <p:cNvPr id="184" name="Rectangle 15"/>
              <p:cNvSpPr/>
              <p:nvPr/>
            </p:nvSpPr>
            <p:spPr>
              <a:xfrm>
                <a:off x="2257920" y="3357720"/>
                <a:ext cx="431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于是当            时，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85" name="Object 9"/>
              <p:cNvGraphicFramePr/>
              <p:nvPr/>
            </p:nvGraphicFramePr>
            <p:xfrm>
              <a:off x="2901600" y="3379680"/>
              <a:ext cx="1204560" cy="5493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86" name="Object 9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901600" y="3379680"/>
                        <a:ext cx="120456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7" name="Object 10"/>
            <p:cNvGraphicFramePr/>
            <p:nvPr/>
          </p:nvGraphicFramePr>
          <p:xfrm>
            <a:off x="4786200" y="3446640"/>
            <a:ext cx="1314360" cy="384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88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86200" y="3446640"/>
                      <a:ext cx="131436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组合 16"/>
          <p:cNvGrpSpPr/>
          <p:nvPr/>
        </p:nvGrpSpPr>
        <p:grpSpPr>
          <a:xfrm>
            <a:off x="1219320" y="3857760"/>
            <a:ext cx="7681680" cy="960480"/>
            <a:chOff x="1219320" y="3857760"/>
            <a:chExt cx="7681680" cy="960480"/>
          </a:xfrm>
        </p:grpSpPr>
        <p:sp>
          <p:nvSpPr>
            <p:cNvPr id="190" name="Rectangle 15"/>
            <p:cNvSpPr/>
            <p:nvPr/>
          </p:nvSpPr>
          <p:spPr>
            <a:xfrm>
              <a:off x="1219320" y="4000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于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1" name="Object 11"/>
            <p:cNvGraphicFramePr/>
            <p:nvPr/>
          </p:nvGraphicFramePr>
          <p:xfrm>
            <a:off x="2000160" y="3857760"/>
            <a:ext cx="6900840" cy="960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92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000160" y="3857760"/>
                      <a:ext cx="690084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6"/>
          <p:cNvGrpSpPr/>
          <p:nvPr/>
        </p:nvGrpSpPr>
        <p:grpSpPr>
          <a:xfrm>
            <a:off x="678240" y="1500120"/>
            <a:ext cx="2266560" cy="520560"/>
            <a:chOff x="678240" y="1500120"/>
            <a:chExt cx="2266560" cy="520560"/>
          </a:xfrm>
        </p:grpSpPr>
        <p:sp>
          <p:nvSpPr>
            <p:cNvPr id="194" name="Rectangle 15"/>
            <p:cNvSpPr/>
            <p:nvPr/>
          </p:nvSpPr>
          <p:spPr>
            <a:xfrm>
              <a:off x="678240" y="1500120"/>
              <a:ext cx="11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.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任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5" name="Object 7"/>
            <p:cNvGraphicFramePr/>
            <p:nvPr/>
          </p:nvGraphicFramePr>
          <p:xfrm>
            <a:off x="1857600" y="1650960"/>
            <a:ext cx="1087200" cy="34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57600" y="1650960"/>
                      <a:ext cx="1087200" cy="3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7" name="Object 4"/>
          <p:cNvGraphicFramePr/>
          <p:nvPr/>
        </p:nvGraphicFramePr>
        <p:xfrm>
          <a:off x="2571840" y="2143080"/>
          <a:ext cx="303048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1840" y="2143080"/>
                    <a:ext cx="3030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5"/>
          <p:cNvGraphicFramePr/>
          <p:nvPr/>
        </p:nvGraphicFramePr>
        <p:xfrm>
          <a:off x="3571920" y="3214800"/>
          <a:ext cx="397980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3214800"/>
                    <a:ext cx="39798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1" name="组合 32"/>
          <p:cNvGrpSpPr/>
          <p:nvPr/>
        </p:nvGrpSpPr>
        <p:grpSpPr>
          <a:xfrm>
            <a:off x="1110960" y="642960"/>
            <a:ext cx="4889880" cy="520560"/>
            <a:chOff x="1110960" y="642960"/>
            <a:chExt cx="4889880" cy="520560"/>
          </a:xfrm>
        </p:grpSpPr>
        <p:grpSp>
          <p:nvGrpSpPr>
            <p:cNvPr id="202" name="组合 26"/>
            <p:cNvGrpSpPr/>
            <p:nvPr/>
          </p:nvGrpSpPr>
          <p:grpSpPr>
            <a:xfrm>
              <a:off x="1110960" y="642960"/>
              <a:ext cx="3675240" cy="520560"/>
              <a:chOff x="1110960" y="642960"/>
              <a:chExt cx="3675240" cy="520560"/>
            </a:xfrm>
          </p:grpSpPr>
          <p:sp>
            <p:nvSpPr>
              <p:cNvPr id="203" name="Rectangle 15"/>
              <p:cNvSpPr/>
              <p:nvPr/>
            </p:nvSpPr>
            <p:spPr>
              <a:xfrm>
                <a:off x="1110960" y="642960"/>
                <a:ext cx="367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                             即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04" name="Object 12"/>
              <p:cNvGraphicFramePr/>
              <p:nvPr/>
            </p:nvGraphicFramePr>
            <p:xfrm>
              <a:off x="1428480" y="714240"/>
              <a:ext cx="2921400" cy="441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05" name="Object 12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428480" y="714240"/>
                        <a:ext cx="2921400" cy="441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06" name="Object 13"/>
            <p:cNvGraphicFramePr/>
            <p:nvPr/>
          </p:nvGraphicFramePr>
          <p:xfrm>
            <a:off x="4869000" y="714240"/>
            <a:ext cx="1131840" cy="385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7" name="Object 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69000" y="714240"/>
                      <a:ext cx="1131840" cy="38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1"/>
          <p:cNvGrpSpPr/>
          <p:nvPr/>
        </p:nvGrpSpPr>
        <p:grpSpPr>
          <a:xfrm>
            <a:off x="1118520" y="500040"/>
            <a:ext cx="3605040" cy="520560"/>
            <a:chOff x="1118520" y="500040"/>
            <a:chExt cx="3605040" cy="520560"/>
          </a:xfrm>
        </p:grpSpPr>
        <p:sp>
          <p:nvSpPr>
            <p:cNvPr id="209" name="Rectangle 15"/>
            <p:cNvSpPr/>
            <p:nvPr/>
          </p:nvSpPr>
          <p:spPr>
            <a:xfrm>
              <a:off x="1118520" y="500040"/>
              <a:ext cx="360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3.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        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10" name="Object 2"/>
            <p:cNvGraphicFramePr/>
            <p:nvPr/>
          </p:nvGraphicFramePr>
          <p:xfrm>
            <a:off x="1873080" y="571320"/>
            <a:ext cx="2484000" cy="419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73080" y="571320"/>
                      <a:ext cx="2484000" cy="41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2" name="Object 3"/>
          <p:cNvGraphicFramePr/>
          <p:nvPr/>
        </p:nvGraphicFramePr>
        <p:xfrm>
          <a:off x="1998720" y="1214280"/>
          <a:ext cx="445464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8720" y="1214280"/>
                    <a:ext cx="44546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4"/>
          <p:cNvGraphicFramePr/>
          <p:nvPr/>
        </p:nvGraphicFramePr>
        <p:xfrm>
          <a:off x="3500280" y="2143080"/>
          <a:ext cx="3468960" cy="76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0280" y="2143080"/>
                    <a:ext cx="34689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5"/>
          <p:cNvGraphicFramePr/>
          <p:nvPr/>
        </p:nvGraphicFramePr>
        <p:xfrm>
          <a:off x="3595680" y="3071880"/>
          <a:ext cx="219060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95680" y="3071880"/>
                    <a:ext cx="21906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组合 10"/>
          <p:cNvGrpSpPr/>
          <p:nvPr/>
        </p:nvGrpSpPr>
        <p:grpSpPr>
          <a:xfrm>
            <a:off x="1940400" y="3714840"/>
            <a:ext cx="4240440" cy="549360"/>
            <a:chOff x="1940400" y="3714840"/>
            <a:chExt cx="4240440" cy="549360"/>
          </a:xfrm>
        </p:grpSpPr>
        <p:sp>
          <p:nvSpPr>
            <p:cNvPr id="219" name="Rectangle 15"/>
            <p:cNvSpPr/>
            <p:nvPr/>
          </p:nvSpPr>
          <p:spPr>
            <a:xfrm>
              <a:off x="1940400" y="3714840"/>
              <a:ext cx="424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      是                 上的范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0" name="Object 6"/>
            <p:cNvGraphicFramePr/>
            <p:nvPr/>
          </p:nvGraphicFramePr>
          <p:xfrm>
            <a:off x="2357280" y="3714840"/>
            <a:ext cx="583920" cy="54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1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57280" y="3714840"/>
                      <a:ext cx="58392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Object 7"/>
            <p:cNvGraphicFramePr/>
            <p:nvPr/>
          </p:nvGraphicFramePr>
          <p:xfrm>
            <a:off x="3428640" y="3786120"/>
            <a:ext cx="1533240" cy="439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3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428640" y="3786120"/>
                      <a:ext cx="153324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357120" y="8571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5" name="组合 1"/>
          <p:cNvGrpSpPr/>
          <p:nvPr/>
        </p:nvGrpSpPr>
        <p:grpSpPr>
          <a:xfrm>
            <a:off x="1991520" y="928800"/>
            <a:ext cx="2920680" cy="520560"/>
            <a:chOff x="1991520" y="928800"/>
            <a:chExt cx="2920680" cy="520560"/>
          </a:xfrm>
        </p:grpSpPr>
        <p:sp>
          <p:nvSpPr>
            <p:cNvPr id="226" name="Rectangle 15"/>
            <p:cNvSpPr/>
            <p:nvPr/>
          </p:nvSpPr>
          <p:spPr>
            <a:xfrm>
              <a:off x="1991520" y="928800"/>
              <a:ext cx="292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7" name="Object 2"/>
            <p:cNvGraphicFramePr/>
            <p:nvPr/>
          </p:nvGraphicFramePr>
          <p:xfrm>
            <a:off x="2428920" y="1055880"/>
            <a:ext cx="1896120" cy="37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8920" y="1055880"/>
                      <a:ext cx="1896120" cy="37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9" name="Object 3"/>
          <p:cNvGraphicFramePr/>
          <p:nvPr/>
        </p:nvGraphicFramePr>
        <p:xfrm>
          <a:off x="2357280" y="1714680"/>
          <a:ext cx="452772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1714680"/>
                    <a:ext cx="452772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785880" y="5000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2220840" y="571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实际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33" name="Object 3"/>
          <p:cNvGraphicFramePr/>
          <p:nvPr/>
        </p:nvGraphicFramePr>
        <p:xfrm>
          <a:off x="1643040" y="1143000"/>
          <a:ext cx="598824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143000"/>
                    <a:ext cx="59882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4"/>
          <p:cNvGraphicFramePr/>
          <p:nvPr/>
        </p:nvGraphicFramePr>
        <p:xfrm>
          <a:off x="3214800" y="2286000"/>
          <a:ext cx="3651120" cy="21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2286000"/>
                    <a:ext cx="365112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"/>
          <p:cNvSpPr/>
          <p:nvPr/>
        </p:nvSpPr>
        <p:spPr>
          <a:xfrm>
            <a:off x="785880" y="5000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注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8" name="组合 15"/>
          <p:cNvGrpSpPr/>
          <p:nvPr/>
        </p:nvGrpSpPr>
        <p:grpSpPr>
          <a:xfrm>
            <a:off x="1711440" y="571680"/>
            <a:ext cx="6883560" cy="2226960"/>
            <a:chOff x="1711440" y="571680"/>
            <a:chExt cx="6883560" cy="2226960"/>
          </a:xfrm>
        </p:grpSpPr>
        <p:grpSp>
          <p:nvGrpSpPr>
            <p:cNvPr id="239" name="组合 11"/>
            <p:cNvGrpSpPr/>
            <p:nvPr/>
          </p:nvGrpSpPr>
          <p:grpSpPr>
            <a:xfrm>
              <a:off x="1894320" y="571680"/>
              <a:ext cx="6700680" cy="2226960"/>
              <a:chOff x="1894320" y="571680"/>
              <a:chExt cx="6700680" cy="2226960"/>
            </a:xfrm>
          </p:grpSpPr>
          <p:sp>
            <p:nvSpPr>
              <p:cNvPr id="240" name="Rectangle 15"/>
              <p:cNvSpPr/>
              <p:nvPr/>
            </p:nvSpPr>
            <p:spPr>
              <a:xfrm>
                <a:off x="1894320" y="571680"/>
                <a:ext cx="586512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为         线性赋范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从    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的线性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算子，则存在常数           ，使得对于一切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都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如上   的下确界等于   的范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41" name="Object 2"/>
              <p:cNvGraphicFramePr/>
              <p:nvPr/>
            </p:nvGraphicFramePr>
            <p:xfrm>
              <a:off x="2337120" y="642960"/>
              <a:ext cx="949320" cy="439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2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337120" y="642960"/>
                        <a:ext cx="949320" cy="43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3" name="Object 3"/>
              <p:cNvGraphicFramePr/>
              <p:nvPr/>
            </p:nvGraphicFramePr>
            <p:xfrm>
              <a:off x="7212600" y="642960"/>
              <a:ext cx="401400" cy="357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212600" y="642960"/>
                        <a:ext cx="40140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5" name="Object 4"/>
              <p:cNvGraphicFramePr/>
              <p:nvPr/>
            </p:nvGraphicFramePr>
            <p:xfrm>
              <a:off x="5497920" y="642960"/>
              <a:ext cx="401400" cy="3571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46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97920" y="642960"/>
                        <a:ext cx="40140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7" name="Object 5"/>
              <p:cNvGraphicFramePr/>
              <p:nvPr/>
            </p:nvGraphicFramePr>
            <p:xfrm>
              <a:off x="6426720" y="642960"/>
              <a:ext cx="511200" cy="357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48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426720" y="642960"/>
                        <a:ext cx="51120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9" name="Object 6"/>
              <p:cNvGraphicFramePr/>
              <p:nvPr/>
            </p:nvGraphicFramePr>
            <p:xfrm>
              <a:off x="3854520" y="1071360"/>
              <a:ext cx="1095480" cy="3837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0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854520" y="1071360"/>
                        <a:ext cx="1095480" cy="38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1" name="Object 7"/>
              <p:cNvGraphicFramePr/>
              <p:nvPr/>
            </p:nvGraphicFramePr>
            <p:xfrm>
              <a:off x="7426800" y="1071360"/>
              <a:ext cx="1168200" cy="3855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52" name="Object 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426800" y="1071360"/>
                        <a:ext cx="1168200" cy="38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3" name="Object 9"/>
              <p:cNvGraphicFramePr/>
              <p:nvPr/>
            </p:nvGraphicFramePr>
            <p:xfrm>
              <a:off x="3140280" y="1643040"/>
              <a:ext cx="2227320" cy="549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54" name="Object 9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140280" y="1643040"/>
                        <a:ext cx="2227320" cy="549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55" name="Object 11"/>
            <p:cNvGraphicFramePr/>
            <p:nvPr/>
          </p:nvGraphicFramePr>
          <p:xfrm>
            <a:off x="1711440" y="2357280"/>
            <a:ext cx="438120" cy="383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711440" y="2357280"/>
                      <a:ext cx="438120" cy="3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2"/>
            <p:cNvGraphicFramePr/>
            <p:nvPr/>
          </p:nvGraphicFramePr>
          <p:xfrm>
            <a:off x="4140360" y="2357280"/>
            <a:ext cx="401400" cy="357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5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140360" y="2357280"/>
                      <a:ext cx="40140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3"/>
          <p:cNvSpPr/>
          <p:nvPr/>
        </p:nvSpPr>
        <p:spPr>
          <a:xfrm>
            <a:off x="357120" y="3071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0" name="组合 21"/>
          <p:cNvGrpSpPr/>
          <p:nvPr/>
        </p:nvGrpSpPr>
        <p:grpSpPr>
          <a:xfrm>
            <a:off x="2267640" y="3143160"/>
            <a:ext cx="4594320" cy="1312920"/>
            <a:chOff x="2267640" y="3143160"/>
            <a:chExt cx="4594320" cy="1312920"/>
          </a:xfrm>
        </p:grpSpPr>
        <p:sp>
          <p:nvSpPr>
            <p:cNvPr id="261" name="Rectangle 15"/>
            <p:cNvSpPr/>
            <p:nvPr/>
          </p:nvSpPr>
          <p:spPr>
            <a:xfrm>
              <a:off x="2267640" y="3143160"/>
              <a:ext cx="459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任意的                   则                 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62" name="Object 13"/>
            <p:cNvGraphicFramePr/>
            <p:nvPr/>
          </p:nvGraphicFramePr>
          <p:xfrm>
            <a:off x="2928960" y="3143160"/>
            <a:ext cx="1861920" cy="549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3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928960" y="3143160"/>
                      <a:ext cx="186192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4" name="Object 14"/>
            <p:cNvGraphicFramePr/>
            <p:nvPr/>
          </p:nvGraphicFramePr>
          <p:xfrm>
            <a:off x="5214960" y="3143160"/>
            <a:ext cx="1643040" cy="5493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65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14960" y="3143160"/>
                      <a:ext cx="164304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6" name="Object 15"/>
            <p:cNvGraphicFramePr/>
            <p:nvPr/>
          </p:nvGraphicFramePr>
          <p:xfrm>
            <a:off x="2714400" y="3714840"/>
            <a:ext cx="3249360" cy="7412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67" name="Object 1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714400" y="3714840"/>
                      <a:ext cx="324936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1-09T08:24:01Z</dcterms:modified>
  <cp:revision>454</cp:revision>
  <dc:subject/>
  <dc:title>幻灯片 1</dc:title>
</cp:coreProperties>
</file>