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35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32.wmf" ContentType="image/x-wmf"/>
  <Override PartName="/ppt/media/image12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9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42.wmf" ContentType="image/x-wmf"/>
  <Override PartName="/ppt/media/image56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0B9-421A-4744-8B9B-A50CC801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FBF-2F41-4237-831C-06CEA4D3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BAB-F44E-4DAA-BE73-7F9CB6D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902-F293-4067-9893-7D1DA32A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01E4-8C5A-405C-AD04-E6680744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2A9F-870F-4322-BEDE-B5D590EF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DA7-4083-48A6-B97F-3A2A5FF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7D70-6DF5-4634-BA6A-B9E28A47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03B1-6428-492B-BDD0-952551F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6AA5-21DA-4362-B7AD-8100182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6B79-04AE-4A62-9D02-B3206AC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EA0-BE1D-420C-82BC-903A7E4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0D6-2A5D-412D-BB5D-4876FC0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C43-4B29-4FA7-A9BE-3E56C2E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D67-EAD4-4039-8D0F-2E3F01F9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0E2-F14A-4D39-A143-2B3C6A0E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F0D-2531-40D4-91F2-7AAF0018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E2-46BF-48DA-92F1-B6F19AC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96D-4010-49D5-88F9-6E1294B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334-F23F-4894-BC40-F1F53931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764-2946-4253-9D4B-69009554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070-DB72-44FE-B169-55C3897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6B4-B23D-4F6E-A325-CC36F73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928-5671-4132-BF74-D293F6C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5FB-7C03-430A-AFFE-BDC666A5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4918-958D-4249-AE00-D737663D1A6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0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2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7.wm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9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0.wmf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3.wmf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二讲  有限维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26"/>
          <p:cNvGrpSpPr/>
          <p:nvPr/>
        </p:nvGrpSpPr>
        <p:grpSpPr>
          <a:xfrm>
            <a:off x="1187280" y="496800"/>
            <a:ext cx="6789960" cy="706680"/>
            <a:chOff x="1187280" y="496800"/>
            <a:chExt cx="6789960" cy="706680"/>
          </a:xfrm>
        </p:grpSpPr>
        <p:sp>
          <p:nvSpPr>
            <p:cNvPr id="321" name="Rectangle 15"/>
            <p:cNvSpPr/>
            <p:nvPr/>
          </p:nvSpPr>
          <p:spPr>
            <a:xfrm>
              <a:off x="1187280" y="6148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考虑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2" name="Object 2"/>
            <p:cNvGraphicFramePr/>
            <p:nvPr/>
          </p:nvGraphicFramePr>
          <p:xfrm>
            <a:off x="2857320" y="496800"/>
            <a:ext cx="5119920" cy="7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57320" y="496800"/>
                      <a:ext cx="5119920" cy="70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24" name="组合 9"/>
          <p:cNvGrpSpPr/>
          <p:nvPr/>
        </p:nvGrpSpPr>
        <p:grpSpPr>
          <a:xfrm>
            <a:off x="500040" y="1347840"/>
            <a:ext cx="3286080" cy="520560"/>
            <a:chOff x="500040" y="1347840"/>
            <a:chExt cx="3286080" cy="520560"/>
          </a:xfrm>
        </p:grpSpPr>
        <p:sp>
          <p:nvSpPr>
            <p:cNvPr id="325" name="Rectangle 15"/>
            <p:cNvSpPr/>
            <p:nvPr/>
          </p:nvSpPr>
          <p:spPr>
            <a:xfrm>
              <a:off x="500040" y="1347840"/>
              <a:ext cx="32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元连续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6" name="Object 3"/>
            <p:cNvGraphicFramePr/>
            <p:nvPr/>
          </p:nvGraphicFramePr>
          <p:xfrm>
            <a:off x="642600" y="1419480"/>
            <a:ext cx="311040" cy="31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2600" y="1419480"/>
                      <a:ext cx="311040" cy="315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4"/>
            <p:cNvGraphicFramePr/>
            <p:nvPr/>
          </p:nvGraphicFramePr>
          <p:xfrm>
            <a:off x="1382760" y="1468440"/>
            <a:ext cx="331560" cy="276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2760" y="1468440"/>
                      <a:ext cx="331560" cy="276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30" name="组合 28"/>
          <p:cNvGrpSpPr/>
          <p:nvPr/>
        </p:nvGrpSpPr>
        <p:grpSpPr>
          <a:xfrm>
            <a:off x="571680" y="1287360"/>
            <a:ext cx="8072280" cy="1244880"/>
            <a:chOff x="571680" y="1287360"/>
            <a:chExt cx="8072280" cy="1244880"/>
          </a:xfrm>
        </p:grpSpPr>
        <p:graphicFrame>
          <p:nvGraphicFramePr>
            <p:cNvPr id="331" name="Object 5"/>
            <p:cNvGraphicFramePr/>
            <p:nvPr/>
          </p:nvGraphicFramePr>
          <p:xfrm>
            <a:off x="3605400" y="1287360"/>
            <a:ext cx="2690640" cy="708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05400" y="1287360"/>
                      <a:ext cx="2690640" cy="708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3" name="Rectangle 15"/>
            <p:cNvSpPr/>
            <p:nvPr/>
          </p:nvSpPr>
          <p:spPr>
            <a:xfrm>
              <a:off x="6143760" y="1368360"/>
              <a:ext cx="25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中的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4" name="Object 6"/>
            <p:cNvGraphicFramePr/>
            <p:nvPr/>
          </p:nvGraphicFramePr>
          <p:xfrm>
            <a:off x="6648120" y="1419840"/>
            <a:ext cx="444240" cy="29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48120" y="141984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6" name="Rectangle 15"/>
            <p:cNvSpPr/>
            <p:nvPr/>
          </p:nvSpPr>
          <p:spPr>
            <a:xfrm>
              <a:off x="571680" y="2011680"/>
              <a:ext cx="32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7" name="组合 29"/>
          <p:cNvGrpSpPr/>
          <p:nvPr/>
        </p:nvGrpSpPr>
        <p:grpSpPr>
          <a:xfrm>
            <a:off x="3429000" y="2014560"/>
            <a:ext cx="5214960" cy="520560"/>
            <a:chOff x="3429000" y="2014560"/>
            <a:chExt cx="5214960" cy="520560"/>
          </a:xfrm>
        </p:grpSpPr>
        <p:sp>
          <p:nvSpPr>
            <p:cNvPr id="338" name="Rectangle 15"/>
            <p:cNvSpPr/>
            <p:nvPr/>
          </p:nvSpPr>
          <p:spPr>
            <a:xfrm>
              <a:off x="3429000" y="201456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4(3),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可达到上、下确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9" name="Object 9"/>
            <p:cNvGraphicFramePr/>
            <p:nvPr/>
          </p:nvGraphicFramePr>
          <p:xfrm>
            <a:off x="5292000" y="2067480"/>
            <a:ext cx="369720" cy="37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92000" y="2067480"/>
                      <a:ext cx="369720" cy="375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41" name="组合 30"/>
          <p:cNvGrpSpPr/>
          <p:nvPr/>
        </p:nvGrpSpPr>
        <p:grpSpPr>
          <a:xfrm>
            <a:off x="642960" y="2643120"/>
            <a:ext cx="7804080" cy="803520"/>
            <a:chOff x="642960" y="2643120"/>
            <a:chExt cx="7804080" cy="803520"/>
          </a:xfrm>
        </p:grpSpPr>
        <p:sp>
          <p:nvSpPr>
            <p:cNvPr id="342" name="Rectangle 15"/>
            <p:cNvSpPr/>
            <p:nvPr/>
          </p:nvSpPr>
          <p:spPr>
            <a:xfrm>
              <a:off x="642960" y="264312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3" name="Object 8"/>
            <p:cNvGraphicFramePr/>
            <p:nvPr/>
          </p:nvGraphicFramePr>
          <p:xfrm>
            <a:off x="1525320" y="3053520"/>
            <a:ext cx="6921720" cy="39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25320" y="3053520"/>
                      <a:ext cx="6921720" cy="393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45" name="组合 21"/>
          <p:cNvGrpSpPr/>
          <p:nvPr/>
        </p:nvGrpSpPr>
        <p:grpSpPr>
          <a:xfrm>
            <a:off x="324000" y="3598920"/>
            <a:ext cx="8820000" cy="520560"/>
            <a:chOff x="324000" y="3598920"/>
            <a:chExt cx="8820000" cy="520560"/>
          </a:xfrm>
        </p:grpSpPr>
        <p:sp>
          <p:nvSpPr>
            <p:cNvPr id="346" name="Rectangle 15"/>
            <p:cNvSpPr/>
            <p:nvPr/>
          </p:nvSpPr>
          <p:spPr>
            <a:xfrm>
              <a:off x="324000" y="3598920"/>
              <a:ext cx="742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无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仅当                     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7" name="Object 9"/>
            <p:cNvGraphicFramePr/>
            <p:nvPr/>
          </p:nvGraphicFramePr>
          <p:xfrm>
            <a:off x="1116000" y="3657960"/>
            <a:ext cx="1149120" cy="35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16000" y="3657960"/>
                      <a:ext cx="1149120" cy="354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10"/>
            <p:cNvGraphicFramePr/>
            <p:nvPr/>
          </p:nvGraphicFramePr>
          <p:xfrm>
            <a:off x="4428360" y="3696840"/>
            <a:ext cx="2055600" cy="355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428360" y="3696840"/>
                      <a:ext cx="2055600" cy="355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6923160" y="3696840"/>
            <a:ext cx="2220840" cy="354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923160" y="3696840"/>
                      <a:ext cx="2220840" cy="354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53" name="组合 31"/>
          <p:cNvGrpSpPr/>
          <p:nvPr/>
        </p:nvGrpSpPr>
        <p:grpSpPr>
          <a:xfrm>
            <a:off x="571680" y="4125960"/>
            <a:ext cx="4805280" cy="520560"/>
            <a:chOff x="571680" y="4125960"/>
            <a:chExt cx="4805280" cy="520560"/>
          </a:xfrm>
        </p:grpSpPr>
        <p:sp>
          <p:nvSpPr>
            <p:cNvPr id="354" name="Rectangle 15"/>
            <p:cNvSpPr/>
            <p:nvPr/>
          </p:nvSpPr>
          <p:spPr>
            <a:xfrm>
              <a:off x="571680" y="4125960"/>
              <a:ext cx="47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        位于   上，故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5" name="Object 15"/>
            <p:cNvGraphicFramePr/>
            <p:nvPr/>
          </p:nvGraphicFramePr>
          <p:xfrm>
            <a:off x="960480" y="4214880"/>
            <a:ext cx="1515960" cy="372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6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60480" y="4214880"/>
                      <a:ext cx="1515960" cy="372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Object 16"/>
            <p:cNvGraphicFramePr/>
            <p:nvPr/>
          </p:nvGraphicFramePr>
          <p:xfrm>
            <a:off x="3214800" y="4259880"/>
            <a:ext cx="311040" cy="255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8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14800" y="4259880"/>
                      <a:ext cx="31104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Object 17"/>
            <p:cNvGraphicFramePr/>
            <p:nvPr/>
          </p:nvGraphicFramePr>
          <p:xfrm>
            <a:off x="4546800" y="4239720"/>
            <a:ext cx="830160" cy="276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60" name="Object 1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546800" y="4239720"/>
                      <a:ext cx="830160" cy="276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21"/>
          <p:cNvGrpSpPr/>
          <p:nvPr/>
        </p:nvGrpSpPr>
        <p:grpSpPr>
          <a:xfrm>
            <a:off x="785880" y="617400"/>
            <a:ext cx="7758000" cy="1017720"/>
            <a:chOff x="785880" y="617400"/>
            <a:chExt cx="7758000" cy="1017720"/>
          </a:xfrm>
        </p:grpSpPr>
        <p:sp>
          <p:nvSpPr>
            <p:cNvPr id="362" name="Rectangle 15"/>
            <p:cNvSpPr/>
            <p:nvPr/>
          </p:nvSpPr>
          <p:spPr>
            <a:xfrm>
              <a:off x="785880" y="724320"/>
              <a:ext cx="57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对于每个                         令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3" name="Object 2"/>
            <p:cNvGraphicFramePr/>
            <p:nvPr/>
          </p:nvGraphicFramePr>
          <p:xfrm>
            <a:off x="3120120" y="795960"/>
            <a:ext cx="2278080" cy="40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0120" y="795960"/>
                      <a:ext cx="2278080" cy="4068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14"/>
            <p:cNvGraphicFramePr/>
            <p:nvPr/>
          </p:nvGraphicFramePr>
          <p:xfrm>
            <a:off x="6029280" y="617400"/>
            <a:ext cx="251460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29280" y="617400"/>
                      <a:ext cx="2514600" cy="101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67" name="组合 22"/>
          <p:cNvGrpSpPr/>
          <p:nvPr/>
        </p:nvGrpSpPr>
        <p:grpSpPr>
          <a:xfrm>
            <a:off x="428760" y="1635120"/>
            <a:ext cx="5694120" cy="708120"/>
            <a:chOff x="428760" y="1635120"/>
            <a:chExt cx="5694120" cy="708120"/>
          </a:xfrm>
        </p:grpSpPr>
        <p:sp>
          <p:nvSpPr>
            <p:cNvPr id="368" name="Rectangle 15"/>
            <p:cNvSpPr/>
            <p:nvPr/>
          </p:nvSpPr>
          <p:spPr>
            <a:xfrm>
              <a:off x="428760" y="179604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9" name="Object 4"/>
            <p:cNvGraphicFramePr/>
            <p:nvPr/>
          </p:nvGraphicFramePr>
          <p:xfrm>
            <a:off x="888840" y="1924200"/>
            <a:ext cx="2039760" cy="35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88840" y="1924200"/>
                      <a:ext cx="2039760" cy="3528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5"/>
            <p:cNvGraphicFramePr/>
            <p:nvPr/>
          </p:nvGraphicFramePr>
          <p:xfrm>
            <a:off x="3929040" y="1635120"/>
            <a:ext cx="2193840" cy="708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29040" y="1635120"/>
                      <a:ext cx="2193840" cy="708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组合 23"/>
          <p:cNvGrpSpPr/>
          <p:nvPr/>
        </p:nvGrpSpPr>
        <p:grpSpPr>
          <a:xfrm>
            <a:off x="2317680" y="1708200"/>
            <a:ext cx="5969160" cy="1511280"/>
            <a:chOff x="2317680" y="1708200"/>
            <a:chExt cx="5969160" cy="1511280"/>
          </a:xfrm>
        </p:grpSpPr>
        <p:sp>
          <p:nvSpPr>
            <p:cNvPr id="374" name="Rectangle 15"/>
            <p:cNvSpPr/>
            <p:nvPr/>
          </p:nvSpPr>
          <p:spPr>
            <a:xfrm>
              <a:off x="6215040" y="17082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5" name="Object 6"/>
            <p:cNvGraphicFramePr/>
            <p:nvPr/>
          </p:nvGraphicFramePr>
          <p:xfrm>
            <a:off x="2317680" y="2375640"/>
            <a:ext cx="3683160" cy="84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17680" y="2375640"/>
                      <a:ext cx="3683160" cy="84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7" name="组合 24"/>
          <p:cNvGrpSpPr/>
          <p:nvPr/>
        </p:nvGrpSpPr>
        <p:grpSpPr>
          <a:xfrm>
            <a:off x="479520" y="3219480"/>
            <a:ext cx="4011480" cy="520560"/>
            <a:chOff x="479520" y="3219480"/>
            <a:chExt cx="4011480" cy="520560"/>
          </a:xfrm>
        </p:grpSpPr>
        <p:sp>
          <p:nvSpPr>
            <p:cNvPr id="378" name="Rectangle 15"/>
            <p:cNvSpPr/>
            <p:nvPr/>
          </p:nvSpPr>
          <p:spPr>
            <a:xfrm>
              <a:off x="479520" y="3219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9" name="Object 7"/>
            <p:cNvGraphicFramePr/>
            <p:nvPr/>
          </p:nvGraphicFramePr>
          <p:xfrm>
            <a:off x="1301040" y="3338280"/>
            <a:ext cx="3189960" cy="39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01040" y="3338280"/>
                      <a:ext cx="318996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81" name="组合 19"/>
          <p:cNvGrpSpPr/>
          <p:nvPr/>
        </p:nvGrpSpPr>
        <p:grpSpPr>
          <a:xfrm>
            <a:off x="571680" y="3795840"/>
            <a:ext cx="8215200" cy="947160"/>
            <a:chOff x="571680" y="3795840"/>
            <a:chExt cx="8215200" cy="947160"/>
          </a:xfrm>
        </p:grpSpPr>
        <p:sp>
          <p:nvSpPr>
            <p:cNvPr id="382" name="Rectangle 15"/>
            <p:cNvSpPr/>
            <p:nvPr/>
          </p:nvSpPr>
          <p:spPr>
            <a:xfrm>
              <a:off x="571680" y="3795840"/>
              <a:ext cx="821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是从    到  上的同构映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     完备，故    完备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   的子空间， 是闭子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证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3" name="Object 15"/>
            <p:cNvGraphicFramePr/>
            <p:nvPr/>
          </p:nvGraphicFramePr>
          <p:xfrm>
            <a:off x="2786040" y="3899880"/>
            <a:ext cx="338040" cy="25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4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86040" y="3899880"/>
                      <a:ext cx="33804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5" name="Object 9"/>
            <p:cNvGraphicFramePr/>
            <p:nvPr/>
          </p:nvGraphicFramePr>
          <p:xfrm>
            <a:off x="3786120" y="3861720"/>
            <a:ext cx="444240" cy="294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86120" y="386172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Object 10"/>
            <p:cNvGraphicFramePr/>
            <p:nvPr/>
          </p:nvGraphicFramePr>
          <p:xfrm>
            <a:off x="4500720" y="3899880"/>
            <a:ext cx="287280" cy="25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00720" y="3899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9" name="Object 11"/>
            <p:cNvGraphicFramePr/>
            <p:nvPr/>
          </p:nvGraphicFramePr>
          <p:xfrm>
            <a:off x="7715520" y="3861720"/>
            <a:ext cx="444240" cy="29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90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715520" y="386172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1" name="Object 12"/>
            <p:cNvGraphicFramePr/>
            <p:nvPr/>
          </p:nvGraphicFramePr>
          <p:xfrm>
            <a:off x="1763640" y="4331880"/>
            <a:ext cx="287280" cy="255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9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763640" y="4331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3" name="Object 13"/>
            <p:cNvGraphicFramePr/>
            <p:nvPr/>
          </p:nvGraphicFramePr>
          <p:xfrm>
            <a:off x="3643560" y="4331880"/>
            <a:ext cx="366480" cy="255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94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643560" y="4331880"/>
                      <a:ext cx="3664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5" name="Object 14"/>
            <p:cNvGraphicFramePr/>
            <p:nvPr/>
          </p:nvGraphicFramePr>
          <p:xfrm>
            <a:off x="5572440" y="4331880"/>
            <a:ext cx="287280" cy="255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96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72440" y="4331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18"/>
          <p:cNvGrpSpPr/>
          <p:nvPr/>
        </p:nvGrpSpPr>
        <p:grpSpPr>
          <a:xfrm>
            <a:off x="1071720" y="2643120"/>
            <a:ext cx="6021360" cy="520560"/>
            <a:chOff x="1071720" y="2643120"/>
            <a:chExt cx="6021360" cy="520560"/>
          </a:xfrm>
        </p:grpSpPr>
        <p:sp>
          <p:nvSpPr>
            <p:cNvPr id="398" name="Rectangle 15"/>
            <p:cNvSpPr/>
            <p:nvPr/>
          </p:nvSpPr>
          <p:spPr>
            <a:xfrm>
              <a:off x="2571840" y="264312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其中                       ，于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9" name="Object 4"/>
            <p:cNvGraphicFramePr/>
            <p:nvPr/>
          </p:nvGraphicFramePr>
          <p:xfrm>
            <a:off x="1071720" y="2731680"/>
            <a:ext cx="1508040" cy="37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1720" y="2731680"/>
                      <a:ext cx="15080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8"/>
            <p:cNvGraphicFramePr/>
            <p:nvPr/>
          </p:nvGraphicFramePr>
          <p:xfrm>
            <a:off x="3413520" y="2731680"/>
            <a:ext cx="2167200" cy="35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3520" y="2731680"/>
                      <a:ext cx="2167200" cy="355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3" name="Object 9"/>
          <p:cNvGraphicFramePr/>
          <p:nvPr/>
        </p:nvGraphicFramePr>
        <p:xfrm>
          <a:off x="2305080" y="3344760"/>
          <a:ext cx="47862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5080" y="3344760"/>
                    <a:ext cx="4786200" cy="6667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05" name="组合 19"/>
          <p:cNvGrpSpPr/>
          <p:nvPr/>
        </p:nvGrpSpPr>
        <p:grpSpPr>
          <a:xfrm>
            <a:off x="1669320" y="484200"/>
            <a:ext cx="6498000" cy="1373760"/>
            <a:chOff x="1669320" y="484200"/>
            <a:chExt cx="6498000" cy="1373760"/>
          </a:xfrm>
        </p:grpSpPr>
        <p:sp>
          <p:nvSpPr>
            <p:cNvPr id="406" name="Rectangle 15"/>
            <p:cNvSpPr/>
            <p:nvPr/>
          </p:nvSpPr>
          <p:spPr>
            <a:xfrm>
              <a:off x="1669320" y="484200"/>
              <a:ext cx="581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是线性赋范空间，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存在到上的一一映射                 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26"/>
            <p:cNvGraphicFramePr/>
            <p:nvPr/>
          </p:nvGraphicFramePr>
          <p:xfrm>
            <a:off x="2071800" y="589680"/>
            <a:ext cx="86364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71800" y="589680"/>
                      <a:ext cx="86364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Object 5"/>
            <p:cNvGraphicFramePr/>
            <p:nvPr/>
          </p:nvGraphicFramePr>
          <p:xfrm>
            <a:off x="5644080" y="643320"/>
            <a:ext cx="2482920" cy="31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4080" y="643320"/>
                      <a:ext cx="248292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7"/>
            <p:cNvGraphicFramePr/>
            <p:nvPr/>
          </p:nvGraphicFramePr>
          <p:xfrm>
            <a:off x="4715280" y="1035000"/>
            <a:ext cx="1568520" cy="312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5280" y="1035000"/>
                      <a:ext cx="1568520" cy="312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12"/>
            <p:cNvGraphicFramePr/>
            <p:nvPr/>
          </p:nvGraphicFramePr>
          <p:xfrm>
            <a:off x="6573240" y="995760"/>
            <a:ext cx="1594080" cy="35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4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73240" y="995760"/>
                      <a:ext cx="1594080" cy="352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5" name="Group 17"/>
          <p:cNvGrpSpPr/>
          <p:nvPr/>
        </p:nvGrpSpPr>
        <p:grpSpPr>
          <a:xfrm>
            <a:off x="2286000" y="1660680"/>
            <a:ext cx="3886200" cy="910800"/>
            <a:chOff x="2286000" y="1660680"/>
            <a:chExt cx="3886200" cy="910800"/>
          </a:xfrm>
        </p:grpSpPr>
        <p:graphicFrame>
          <p:nvGraphicFramePr>
            <p:cNvPr id="416" name="Object 6"/>
            <p:cNvGraphicFramePr/>
            <p:nvPr/>
          </p:nvGraphicFramePr>
          <p:xfrm>
            <a:off x="2286000" y="1660680"/>
            <a:ext cx="3857760" cy="441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0" y="1660680"/>
                      <a:ext cx="3857760" cy="441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Object 13"/>
            <p:cNvGraphicFramePr/>
            <p:nvPr/>
          </p:nvGraphicFramePr>
          <p:xfrm>
            <a:off x="2286000" y="2143080"/>
            <a:ext cx="3886200" cy="42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6000" y="2143080"/>
                      <a:ext cx="3886200" cy="42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20" name="Rectangle 15"/>
          <p:cNvSpPr/>
          <p:nvPr/>
        </p:nvSpPr>
        <p:spPr>
          <a:xfrm>
            <a:off x="1428840" y="41799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此我们得推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3"/>
          <p:cNvSpPr/>
          <p:nvPr/>
        </p:nvSpPr>
        <p:spPr>
          <a:xfrm>
            <a:off x="428760" y="9111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1500120" y="11253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同维数的有限维线性赋范空间彼此同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500120" y="20368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空间上的任意两个范数等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1571760" y="294624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任何有限维线性赋范空间是完备的，线性赋范空间的任意有限维线性子空间是闭子空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50920" y="41112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引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(</a:t>
            </a:r>
            <a:r>
              <a:rPr b="1" lang="en-US" sz="3200" spc="-1" strike="noStrike">
                <a:solidFill>
                  <a:srgbClr val="dc5900"/>
                </a:solidFill>
                <a:latin typeface="Times New Roman"/>
                <a:ea typeface="华文新魏"/>
              </a:rPr>
              <a:t>Riesz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6" name="组合 34"/>
          <p:cNvGrpSpPr/>
          <p:nvPr/>
        </p:nvGrpSpPr>
        <p:grpSpPr>
          <a:xfrm>
            <a:off x="1291680" y="903240"/>
            <a:ext cx="6256440" cy="1379880"/>
            <a:chOff x="1291680" y="903240"/>
            <a:chExt cx="6256440" cy="1379880"/>
          </a:xfrm>
        </p:grpSpPr>
        <p:sp>
          <p:nvSpPr>
            <p:cNvPr id="427" name="Rectangle 15"/>
            <p:cNvSpPr/>
            <p:nvPr/>
          </p:nvSpPr>
          <p:spPr>
            <a:xfrm>
              <a:off x="2177640" y="903240"/>
              <a:ext cx="4917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线性赋范空间，         是闭线性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子空间，若          ，则                  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8" name="Object 7"/>
            <p:cNvGraphicFramePr/>
            <p:nvPr/>
          </p:nvGraphicFramePr>
          <p:xfrm>
            <a:off x="5428800" y="1018080"/>
            <a:ext cx="941400" cy="25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0" y="1018080"/>
                      <a:ext cx="941400" cy="254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Object 5"/>
            <p:cNvGraphicFramePr/>
            <p:nvPr/>
          </p:nvGraphicFramePr>
          <p:xfrm>
            <a:off x="4857480" y="1466280"/>
            <a:ext cx="1751040" cy="31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7480" y="1466280"/>
                      <a:ext cx="1751040" cy="312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Object 13"/>
            <p:cNvGraphicFramePr/>
            <p:nvPr/>
          </p:nvGraphicFramePr>
          <p:xfrm>
            <a:off x="3142800" y="1452600"/>
            <a:ext cx="915840" cy="25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42800" y="1452600"/>
                      <a:ext cx="915840" cy="254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Object 8"/>
            <p:cNvGraphicFramePr/>
            <p:nvPr/>
          </p:nvGraphicFramePr>
          <p:xfrm>
            <a:off x="1291680" y="1819800"/>
            <a:ext cx="2068560" cy="39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1680" y="1819800"/>
                      <a:ext cx="2068560" cy="391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Object 9"/>
            <p:cNvGraphicFramePr/>
            <p:nvPr/>
          </p:nvGraphicFramePr>
          <p:xfrm>
            <a:off x="4142880" y="1852560"/>
            <a:ext cx="3405240" cy="430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2880" y="1852560"/>
                      <a:ext cx="3405240" cy="430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26"/>
            <p:cNvGraphicFramePr/>
            <p:nvPr/>
          </p:nvGraphicFramePr>
          <p:xfrm>
            <a:off x="2356920" y="1018080"/>
            <a:ext cx="428400" cy="298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9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6920" y="1018080"/>
                      <a:ext cx="42840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" name="Text Box 3"/>
          <p:cNvSpPr/>
          <p:nvPr/>
        </p:nvSpPr>
        <p:spPr>
          <a:xfrm>
            <a:off x="571680" y="2143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1" name="组合 26"/>
          <p:cNvGrpSpPr/>
          <p:nvPr/>
        </p:nvGrpSpPr>
        <p:grpSpPr>
          <a:xfrm>
            <a:off x="2000160" y="2197080"/>
            <a:ext cx="6572520" cy="520560"/>
            <a:chOff x="2000160" y="2197080"/>
            <a:chExt cx="6572520" cy="520560"/>
          </a:xfrm>
        </p:grpSpPr>
        <p:sp>
          <p:nvSpPr>
            <p:cNvPr id="442" name="Rectangle 15"/>
            <p:cNvSpPr/>
            <p:nvPr/>
          </p:nvSpPr>
          <p:spPr>
            <a:xfrm>
              <a:off x="2000160" y="2197080"/>
              <a:ext cx="65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闭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3" name="Object 10"/>
            <p:cNvGraphicFramePr/>
            <p:nvPr/>
          </p:nvGraphicFramePr>
          <p:xfrm>
            <a:off x="2500200" y="2330280"/>
            <a:ext cx="1730520" cy="31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00200" y="2330280"/>
                      <a:ext cx="1730520" cy="313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Object 11"/>
            <p:cNvGraphicFramePr/>
            <p:nvPr/>
          </p:nvGraphicFramePr>
          <p:xfrm>
            <a:off x="5286600" y="2330280"/>
            <a:ext cx="2068560" cy="313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86600" y="2330280"/>
                      <a:ext cx="2068560" cy="313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47" name="组合 18"/>
          <p:cNvGrpSpPr/>
          <p:nvPr/>
        </p:nvGrpSpPr>
        <p:grpSpPr>
          <a:xfrm>
            <a:off x="857160" y="2678040"/>
            <a:ext cx="7500960" cy="520560"/>
            <a:chOff x="857160" y="2678040"/>
            <a:chExt cx="7500960" cy="520560"/>
          </a:xfrm>
        </p:grpSpPr>
        <p:sp>
          <p:nvSpPr>
            <p:cNvPr id="448" name="Rectangle 15"/>
            <p:cNvSpPr/>
            <p:nvPr/>
          </p:nvSpPr>
          <p:spPr>
            <a:xfrm>
              <a:off x="857160" y="2678040"/>
              <a:ext cx="75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            ，取        ，使得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9" name="Object 12"/>
            <p:cNvGraphicFramePr/>
            <p:nvPr/>
          </p:nvGraphicFramePr>
          <p:xfrm>
            <a:off x="1857240" y="2800800"/>
            <a:ext cx="1180800" cy="274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5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57240" y="2800800"/>
                      <a:ext cx="1180800" cy="27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Object 13"/>
            <p:cNvGraphicFramePr/>
            <p:nvPr/>
          </p:nvGraphicFramePr>
          <p:xfrm>
            <a:off x="3643200" y="2800800"/>
            <a:ext cx="838080" cy="274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52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643200" y="2800800"/>
                      <a:ext cx="838080" cy="27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Object 14"/>
            <p:cNvGraphicFramePr/>
            <p:nvPr/>
          </p:nvGraphicFramePr>
          <p:xfrm>
            <a:off x="5643360" y="2754720"/>
            <a:ext cx="1833480" cy="39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4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643360" y="2754720"/>
                      <a:ext cx="183348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15"/>
          <p:cNvGraphicFramePr/>
          <p:nvPr/>
        </p:nvGraphicFramePr>
        <p:xfrm>
          <a:off x="3071880" y="3110040"/>
          <a:ext cx="1596960" cy="68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71880" y="3110040"/>
                    <a:ext cx="1596960" cy="6858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57" name="组合 25"/>
          <p:cNvGrpSpPr/>
          <p:nvPr/>
        </p:nvGrpSpPr>
        <p:grpSpPr>
          <a:xfrm>
            <a:off x="928800" y="3749760"/>
            <a:ext cx="1714320" cy="520560"/>
            <a:chOff x="928800" y="3749760"/>
            <a:chExt cx="1714320" cy="520560"/>
          </a:xfrm>
        </p:grpSpPr>
        <p:sp>
          <p:nvSpPr>
            <p:cNvPr id="458" name="Rectangle 15"/>
            <p:cNvSpPr/>
            <p:nvPr/>
          </p:nvSpPr>
          <p:spPr>
            <a:xfrm>
              <a:off x="928800" y="374976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9" name="Object 16"/>
            <p:cNvGraphicFramePr/>
            <p:nvPr/>
          </p:nvGraphicFramePr>
          <p:xfrm>
            <a:off x="1500120" y="3835080"/>
            <a:ext cx="1047600" cy="392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60" name="Object 1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500120" y="3835080"/>
                      <a:ext cx="104760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61" name="组合 24"/>
          <p:cNvGrpSpPr/>
          <p:nvPr/>
        </p:nvGrpSpPr>
        <p:grpSpPr>
          <a:xfrm>
            <a:off x="2714760" y="3749760"/>
            <a:ext cx="5715000" cy="520560"/>
            <a:chOff x="2714760" y="3749760"/>
            <a:chExt cx="5715000" cy="520560"/>
          </a:xfrm>
        </p:grpSpPr>
        <p:sp>
          <p:nvSpPr>
            <p:cNvPr id="462" name="Rectangle 15"/>
            <p:cNvSpPr/>
            <p:nvPr/>
          </p:nvSpPr>
          <p:spPr>
            <a:xfrm>
              <a:off x="2714760" y="374976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任意的             为子空间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3" name="Object 17"/>
            <p:cNvGraphicFramePr/>
            <p:nvPr/>
          </p:nvGraphicFramePr>
          <p:xfrm>
            <a:off x="4643640" y="3913920"/>
            <a:ext cx="1258920" cy="313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64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643640" y="3913920"/>
                      <a:ext cx="125892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5" name="Object 24"/>
          <p:cNvGraphicFramePr/>
          <p:nvPr/>
        </p:nvGraphicFramePr>
        <p:xfrm>
          <a:off x="3143160" y="4268880"/>
          <a:ext cx="225108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6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143160" y="4268880"/>
                    <a:ext cx="2251080" cy="3906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6"/>
          <p:cNvGrpSpPr/>
          <p:nvPr/>
        </p:nvGrpSpPr>
        <p:grpSpPr>
          <a:xfrm>
            <a:off x="785880" y="857160"/>
            <a:ext cx="6356160" cy="1947960"/>
            <a:chOff x="785880" y="857160"/>
            <a:chExt cx="6356160" cy="1947960"/>
          </a:xfrm>
        </p:grpSpPr>
        <p:sp>
          <p:nvSpPr>
            <p:cNvPr id="468" name="Rectangle 15"/>
            <p:cNvSpPr/>
            <p:nvPr/>
          </p:nvSpPr>
          <p:spPr>
            <a:xfrm>
              <a:off x="785880" y="85716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9" name="Object 2"/>
            <p:cNvGraphicFramePr/>
            <p:nvPr/>
          </p:nvGraphicFramePr>
          <p:xfrm>
            <a:off x="2714400" y="964080"/>
            <a:ext cx="4427640" cy="184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4400" y="964080"/>
                      <a:ext cx="4427640" cy="1841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71" name="组合 7"/>
          <p:cNvGrpSpPr/>
          <p:nvPr/>
        </p:nvGrpSpPr>
        <p:grpSpPr>
          <a:xfrm>
            <a:off x="1071720" y="3147840"/>
            <a:ext cx="3325680" cy="520560"/>
            <a:chOff x="1071720" y="3147840"/>
            <a:chExt cx="3325680" cy="520560"/>
          </a:xfrm>
        </p:grpSpPr>
        <p:sp>
          <p:nvSpPr>
            <p:cNvPr id="472" name="Rectangle 15"/>
            <p:cNvSpPr/>
            <p:nvPr/>
          </p:nvSpPr>
          <p:spPr>
            <a:xfrm>
              <a:off x="1071720" y="31478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3" name="Object 3"/>
            <p:cNvGraphicFramePr/>
            <p:nvPr/>
          </p:nvGraphicFramePr>
          <p:xfrm>
            <a:off x="2721240" y="3239280"/>
            <a:ext cx="1676160" cy="35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21240" y="3239280"/>
                      <a:ext cx="1676160" cy="35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428760" y="41112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6" name="组合 10"/>
          <p:cNvGrpSpPr/>
          <p:nvPr/>
        </p:nvGrpSpPr>
        <p:grpSpPr>
          <a:xfrm>
            <a:off x="2330280" y="484200"/>
            <a:ext cx="5898960" cy="520560"/>
            <a:chOff x="2330280" y="484200"/>
            <a:chExt cx="5898960" cy="520560"/>
          </a:xfrm>
        </p:grpSpPr>
        <p:sp>
          <p:nvSpPr>
            <p:cNvPr id="477" name="Rectangle 15"/>
            <p:cNvSpPr/>
            <p:nvPr/>
          </p:nvSpPr>
          <p:spPr>
            <a:xfrm>
              <a:off x="2476800" y="484200"/>
              <a:ext cx="57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线性赋范空间，则以下条件等价：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8" name="Object 26"/>
            <p:cNvGraphicFramePr/>
            <p:nvPr/>
          </p:nvGraphicFramePr>
          <p:xfrm>
            <a:off x="2330280" y="575640"/>
            <a:ext cx="428400" cy="2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9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0280" y="575640"/>
                      <a:ext cx="428400" cy="29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0" name="组合 15"/>
          <p:cNvGrpSpPr/>
          <p:nvPr/>
        </p:nvGrpSpPr>
        <p:grpSpPr>
          <a:xfrm>
            <a:off x="1143000" y="987480"/>
            <a:ext cx="7429680" cy="1373760"/>
            <a:chOff x="1143000" y="987480"/>
            <a:chExt cx="7429680" cy="1373760"/>
          </a:xfrm>
        </p:grpSpPr>
        <p:sp>
          <p:nvSpPr>
            <p:cNvPr id="481" name="Rectangle 15"/>
            <p:cNvSpPr/>
            <p:nvPr/>
          </p:nvSpPr>
          <p:spPr>
            <a:xfrm>
              <a:off x="1143000" y="987480"/>
              <a:ext cx="7429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每个有界闭集是紧集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单位球面                             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2" name="Object 8"/>
            <p:cNvGraphicFramePr/>
            <p:nvPr/>
          </p:nvGraphicFramePr>
          <p:xfrm>
            <a:off x="2413080" y="1110240"/>
            <a:ext cx="1778040" cy="36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13080" y="1110240"/>
                      <a:ext cx="177804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Object 9"/>
            <p:cNvGraphicFramePr/>
            <p:nvPr/>
          </p:nvGraphicFramePr>
          <p:xfrm>
            <a:off x="3929040" y="1881360"/>
            <a:ext cx="2771640" cy="46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9040" y="1881360"/>
                      <a:ext cx="2771640" cy="46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6" name="Text Box 3"/>
          <p:cNvSpPr/>
          <p:nvPr/>
        </p:nvSpPr>
        <p:spPr>
          <a:xfrm>
            <a:off x="500040" y="2249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7" name="组合 21"/>
          <p:cNvGrpSpPr/>
          <p:nvPr/>
        </p:nvGrpSpPr>
        <p:grpSpPr>
          <a:xfrm>
            <a:off x="1638720" y="2303640"/>
            <a:ext cx="2688840" cy="520560"/>
            <a:chOff x="1638720" y="2303640"/>
            <a:chExt cx="2688840" cy="520560"/>
          </a:xfrm>
        </p:grpSpPr>
        <p:sp>
          <p:nvSpPr>
            <p:cNvPr id="488" name="Rectangle 15"/>
            <p:cNvSpPr/>
            <p:nvPr/>
          </p:nvSpPr>
          <p:spPr>
            <a:xfrm>
              <a:off x="1638720" y="230364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只需证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9" name="Object 11"/>
            <p:cNvGraphicFramePr/>
            <p:nvPr/>
          </p:nvGraphicFramePr>
          <p:xfrm>
            <a:off x="2857680" y="2419200"/>
            <a:ext cx="1469880" cy="36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0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57680" y="2419200"/>
                      <a:ext cx="146988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1" name="组合 26"/>
          <p:cNvGrpSpPr/>
          <p:nvPr/>
        </p:nvGrpSpPr>
        <p:grpSpPr>
          <a:xfrm>
            <a:off x="500040" y="2840040"/>
            <a:ext cx="8420040" cy="947160"/>
            <a:chOff x="500040" y="2840040"/>
            <a:chExt cx="8420040" cy="947160"/>
          </a:xfrm>
        </p:grpSpPr>
        <p:sp>
          <p:nvSpPr>
            <p:cNvPr id="492" name="Rectangle 15"/>
            <p:cNvSpPr/>
            <p:nvPr/>
          </p:nvSpPr>
          <p:spPr>
            <a:xfrm>
              <a:off x="500040" y="2840040"/>
              <a:ext cx="721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假设                   取                        记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3" name="Object 10"/>
            <p:cNvGraphicFramePr/>
            <p:nvPr/>
          </p:nvGraphicFramePr>
          <p:xfrm>
            <a:off x="4000320" y="2904480"/>
            <a:ext cx="2265120" cy="45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4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00320" y="2904480"/>
                      <a:ext cx="2265120" cy="45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5" name="Object 12"/>
            <p:cNvGraphicFramePr/>
            <p:nvPr/>
          </p:nvGraphicFramePr>
          <p:xfrm>
            <a:off x="6715080" y="2903400"/>
            <a:ext cx="2205000" cy="460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6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15080" y="2903400"/>
                      <a:ext cx="22050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13"/>
            <p:cNvGraphicFramePr/>
            <p:nvPr/>
          </p:nvGraphicFramePr>
          <p:xfrm>
            <a:off x="1785960" y="2922840"/>
            <a:ext cx="1778040" cy="369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8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960" y="2922840"/>
                      <a:ext cx="177804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9" name="组合 32"/>
          <p:cNvGrpSpPr/>
          <p:nvPr/>
        </p:nvGrpSpPr>
        <p:grpSpPr>
          <a:xfrm>
            <a:off x="796680" y="3375000"/>
            <a:ext cx="8347320" cy="520560"/>
            <a:chOff x="796680" y="3375000"/>
            <a:chExt cx="8347320" cy="520560"/>
          </a:xfrm>
        </p:grpSpPr>
        <p:sp>
          <p:nvSpPr>
            <p:cNvPr id="500" name="Rectangle 15"/>
            <p:cNvSpPr/>
            <p:nvPr/>
          </p:nvSpPr>
          <p:spPr>
            <a:xfrm>
              <a:off x="1468800" y="3375000"/>
              <a:ext cx="635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是闭线性子空间，并且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1" name="Object 14"/>
            <p:cNvGraphicFramePr/>
            <p:nvPr/>
          </p:nvGraphicFramePr>
          <p:xfrm>
            <a:off x="796680" y="3454200"/>
            <a:ext cx="1592280" cy="41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02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6680" y="3454200"/>
                      <a:ext cx="15922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3" name="Object 15"/>
            <p:cNvGraphicFramePr/>
            <p:nvPr/>
          </p:nvGraphicFramePr>
          <p:xfrm>
            <a:off x="4071960" y="3454200"/>
            <a:ext cx="336240" cy="413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04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3454200"/>
                      <a:ext cx="33624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16"/>
            <p:cNvGraphicFramePr/>
            <p:nvPr/>
          </p:nvGraphicFramePr>
          <p:xfrm>
            <a:off x="8012160" y="3454200"/>
            <a:ext cx="1131840" cy="41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06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012160" y="3454200"/>
                      <a:ext cx="113184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7" name="组合 36"/>
          <p:cNvGrpSpPr/>
          <p:nvPr/>
        </p:nvGrpSpPr>
        <p:grpSpPr>
          <a:xfrm>
            <a:off x="1025280" y="3875040"/>
            <a:ext cx="7345440" cy="712800"/>
            <a:chOff x="1025280" y="3875040"/>
            <a:chExt cx="7345440" cy="712800"/>
          </a:xfrm>
        </p:grpSpPr>
        <p:sp>
          <p:nvSpPr>
            <p:cNvPr id="508" name="Rectangle 15"/>
            <p:cNvSpPr/>
            <p:nvPr/>
          </p:nvSpPr>
          <p:spPr>
            <a:xfrm>
              <a:off x="1025280" y="3939840"/>
              <a:ext cx="32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Riesz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引理，存在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9" name="Object 17"/>
            <p:cNvGraphicFramePr/>
            <p:nvPr/>
          </p:nvGraphicFramePr>
          <p:xfrm>
            <a:off x="3807360" y="3875040"/>
            <a:ext cx="4563360" cy="712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10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07360" y="3875040"/>
                      <a:ext cx="4563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组合 8"/>
          <p:cNvGrpSpPr/>
          <p:nvPr/>
        </p:nvGrpSpPr>
        <p:grpSpPr>
          <a:xfrm>
            <a:off x="642960" y="588960"/>
            <a:ext cx="8072280" cy="947160"/>
            <a:chOff x="642960" y="588960"/>
            <a:chExt cx="8072280" cy="947160"/>
          </a:xfrm>
        </p:grpSpPr>
        <p:sp>
          <p:nvSpPr>
            <p:cNvPr id="512" name="Rectangle 15"/>
            <p:cNvSpPr/>
            <p:nvPr/>
          </p:nvSpPr>
          <p:spPr>
            <a:xfrm>
              <a:off x="642960" y="588960"/>
              <a:ext cx="807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               则                     闭并且          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3" name="Object 2"/>
            <p:cNvGraphicFramePr/>
            <p:nvPr/>
          </p:nvGraphicFramePr>
          <p:xfrm>
            <a:off x="1214280" y="627120"/>
            <a:ext cx="2665440" cy="46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627120"/>
                      <a:ext cx="2665440" cy="4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Object 4"/>
            <p:cNvGraphicFramePr/>
            <p:nvPr/>
          </p:nvGraphicFramePr>
          <p:xfrm>
            <a:off x="4286160" y="645840"/>
            <a:ext cx="1684080" cy="41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6160" y="645840"/>
                      <a:ext cx="16840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5"/>
            <p:cNvGraphicFramePr/>
            <p:nvPr/>
          </p:nvGraphicFramePr>
          <p:xfrm>
            <a:off x="6000840" y="645840"/>
            <a:ext cx="398160" cy="41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00840" y="645840"/>
                      <a:ext cx="39816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9" name="Object 6"/>
            <p:cNvGraphicFramePr/>
            <p:nvPr/>
          </p:nvGraphicFramePr>
          <p:xfrm>
            <a:off x="7486560" y="645840"/>
            <a:ext cx="1161720" cy="41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86560" y="645840"/>
                      <a:ext cx="116172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1" name="组合 12"/>
          <p:cNvGrpSpPr/>
          <p:nvPr/>
        </p:nvGrpSpPr>
        <p:grpSpPr>
          <a:xfrm>
            <a:off x="1038240" y="1138320"/>
            <a:ext cx="5259240" cy="712800"/>
            <a:chOff x="1038240" y="1138320"/>
            <a:chExt cx="5259240" cy="712800"/>
          </a:xfrm>
        </p:grpSpPr>
        <p:sp>
          <p:nvSpPr>
            <p:cNvPr id="522" name="Rectangle 15"/>
            <p:cNvSpPr/>
            <p:nvPr/>
          </p:nvSpPr>
          <p:spPr>
            <a:xfrm>
              <a:off x="1038240" y="1231920"/>
              <a:ext cx="99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3" name="Object 7"/>
            <p:cNvGraphicFramePr/>
            <p:nvPr/>
          </p:nvGraphicFramePr>
          <p:xfrm>
            <a:off x="2162160" y="1138320"/>
            <a:ext cx="4135320" cy="71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2160" y="1138320"/>
                      <a:ext cx="41353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5" name="组合 17"/>
          <p:cNvGrpSpPr/>
          <p:nvPr/>
        </p:nvGrpSpPr>
        <p:grpSpPr>
          <a:xfrm>
            <a:off x="1041840" y="1787400"/>
            <a:ext cx="8102160" cy="712800"/>
            <a:chOff x="1041840" y="1787400"/>
            <a:chExt cx="8102160" cy="712800"/>
          </a:xfrm>
        </p:grpSpPr>
        <p:sp>
          <p:nvSpPr>
            <p:cNvPr id="526" name="Rectangle 15"/>
            <p:cNvSpPr/>
            <p:nvPr/>
          </p:nvSpPr>
          <p:spPr>
            <a:xfrm>
              <a:off x="1041840" y="1874880"/>
              <a:ext cx="57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此得到序列                            当         时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7" name="Object 3"/>
            <p:cNvGraphicFramePr/>
            <p:nvPr/>
          </p:nvGraphicFramePr>
          <p:xfrm>
            <a:off x="5734080" y="2008440"/>
            <a:ext cx="949320" cy="275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28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34080" y="2008440"/>
                      <a:ext cx="949320" cy="27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Object 8"/>
            <p:cNvGraphicFramePr/>
            <p:nvPr/>
          </p:nvGraphicFramePr>
          <p:xfrm>
            <a:off x="2662200" y="1895760"/>
            <a:ext cx="2633400" cy="460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3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62200" y="1895760"/>
                      <a:ext cx="263340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Object 9"/>
            <p:cNvGraphicFramePr/>
            <p:nvPr/>
          </p:nvGraphicFramePr>
          <p:xfrm>
            <a:off x="7091640" y="1787400"/>
            <a:ext cx="2052360" cy="712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3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091640" y="1787400"/>
                      <a:ext cx="2052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3" name="组合 23"/>
          <p:cNvGrpSpPr/>
          <p:nvPr/>
        </p:nvGrpSpPr>
        <p:grpSpPr>
          <a:xfrm>
            <a:off x="928800" y="2732040"/>
            <a:ext cx="5864400" cy="1373760"/>
            <a:chOff x="928800" y="2732040"/>
            <a:chExt cx="5864400" cy="1373760"/>
          </a:xfrm>
        </p:grpSpPr>
        <p:sp>
          <p:nvSpPr>
            <p:cNvPr id="534" name="Rectangle 15"/>
            <p:cNvSpPr/>
            <p:nvPr/>
          </p:nvSpPr>
          <p:spPr>
            <a:xfrm>
              <a:off x="1804320" y="2732040"/>
              <a:ext cx="4988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没有收敛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    不是紧集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说明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35" name="Object 10"/>
            <p:cNvGraphicFramePr/>
            <p:nvPr/>
          </p:nvGraphicFramePr>
          <p:xfrm>
            <a:off x="2699640" y="3724200"/>
            <a:ext cx="1744560" cy="321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3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699640" y="3724200"/>
                      <a:ext cx="174456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Object 11"/>
            <p:cNvGraphicFramePr/>
            <p:nvPr/>
          </p:nvGraphicFramePr>
          <p:xfrm>
            <a:off x="928800" y="2749320"/>
            <a:ext cx="734760" cy="459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8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28800" y="2749320"/>
                      <a:ext cx="73476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Object 12"/>
            <p:cNvGraphicFramePr/>
            <p:nvPr/>
          </p:nvGraphicFramePr>
          <p:xfrm>
            <a:off x="4715640" y="2801160"/>
            <a:ext cx="1000080" cy="407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40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15640" y="2801160"/>
                      <a:ext cx="10000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24000" y="133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2001600" y="1393920"/>
            <a:ext cx="6068160" cy="1800360"/>
            <a:chOff x="2001600" y="1393920"/>
            <a:chExt cx="6068160" cy="1800360"/>
          </a:xfrm>
        </p:grpSpPr>
        <p:sp>
          <p:nvSpPr>
            <p:cNvPr id="87" name="Rectangle 15"/>
            <p:cNvSpPr/>
            <p:nvPr/>
          </p:nvSpPr>
          <p:spPr>
            <a:xfrm>
              <a:off x="2661840" y="1393920"/>
              <a:ext cx="5261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若存在              是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的到上的线性映射，使得   与      都连续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称  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同构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其中   称是从    到     的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同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映射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8" name="Object 2"/>
            <p:cNvGraphicFramePr/>
            <p:nvPr/>
          </p:nvGraphicFramePr>
          <p:xfrm>
            <a:off x="6683760" y="1564200"/>
            <a:ext cx="138600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83760" y="1564200"/>
                      <a:ext cx="1386000" cy="274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26"/>
            <p:cNvGraphicFramePr/>
            <p:nvPr/>
          </p:nvGraphicFramePr>
          <p:xfrm>
            <a:off x="2001600" y="1494000"/>
            <a:ext cx="89532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0" y="1494000"/>
                      <a:ext cx="89532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28"/>
            <p:cNvGraphicFramePr/>
            <p:nvPr/>
          </p:nvGraphicFramePr>
          <p:xfrm>
            <a:off x="6034320" y="198180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34320" y="198180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33"/>
            <p:cNvGraphicFramePr/>
            <p:nvPr/>
          </p:nvGraphicFramePr>
          <p:xfrm>
            <a:off x="6683760" y="1910160"/>
            <a:ext cx="596880" cy="37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83760" y="1910160"/>
                      <a:ext cx="59688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6"/>
            <p:cNvGraphicFramePr/>
            <p:nvPr/>
          </p:nvGraphicFramePr>
          <p:xfrm>
            <a:off x="2361960" y="2350440"/>
            <a:ext cx="91440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1960" y="2350440"/>
                      <a:ext cx="91440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6394680" y="2347560"/>
            <a:ext cx="426960" cy="296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94680" y="2347560"/>
                      <a:ext cx="42696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8"/>
            <p:cNvGraphicFramePr/>
            <p:nvPr/>
          </p:nvGraphicFramePr>
          <p:xfrm>
            <a:off x="7187040" y="2347560"/>
            <a:ext cx="457200" cy="296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187040" y="2347560"/>
                      <a:ext cx="45720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Object 9"/>
            <p:cNvGraphicFramePr/>
            <p:nvPr/>
          </p:nvGraphicFramePr>
          <p:xfrm>
            <a:off x="5026320" y="2347560"/>
            <a:ext cx="334800" cy="296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26320" y="2347560"/>
                      <a:ext cx="33480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85840" y="411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57120" y="26780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892520" y="267984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充分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7" name="组合 25"/>
          <p:cNvGrpSpPr/>
          <p:nvPr/>
        </p:nvGrpSpPr>
        <p:grpSpPr>
          <a:xfrm>
            <a:off x="2000160" y="484200"/>
            <a:ext cx="5604120" cy="1373760"/>
            <a:chOff x="2000160" y="484200"/>
            <a:chExt cx="5604120" cy="1373760"/>
          </a:xfrm>
        </p:grpSpPr>
        <p:sp>
          <p:nvSpPr>
            <p:cNvPr id="108" name="Rectangle 15"/>
            <p:cNvSpPr/>
            <p:nvPr/>
          </p:nvSpPr>
          <p:spPr>
            <a:xfrm>
              <a:off x="2609280" y="484200"/>
              <a:ext cx="469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到上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线性映射，则  是    到    上的同构当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仅当存在正数       使得对于任何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9" name="Object 2"/>
            <p:cNvGraphicFramePr/>
            <p:nvPr/>
          </p:nvGraphicFramePr>
          <p:xfrm>
            <a:off x="5501160" y="658080"/>
            <a:ext cx="138600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1160" y="658080"/>
                      <a:ext cx="1386000" cy="274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26"/>
            <p:cNvGraphicFramePr/>
            <p:nvPr/>
          </p:nvGraphicFramePr>
          <p:xfrm>
            <a:off x="2000160" y="606240"/>
            <a:ext cx="86364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606240"/>
                      <a:ext cx="86364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28"/>
            <p:cNvGraphicFramePr/>
            <p:nvPr/>
          </p:nvGraphicFramePr>
          <p:xfrm>
            <a:off x="4159440" y="106236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59440" y="106236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33"/>
            <p:cNvGraphicFramePr/>
            <p:nvPr/>
          </p:nvGraphicFramePr>
          <p:xfrm>
            <a:off x="4770360" y="1040760"/>
            <a:ext cx="46512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0360" y="1040760"/>
                      <a:ext cx="465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Object 34"/>
            <p:cNvGraphicFramePr/>
            <p:nvPr/>
          </p:nvGraphicFramePr>
          <p:xfrm>
            <a:off x="5607360" y="1040760"/>
            <a:ext cx="365040" cy="323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07360" y="1040760"/>
                      <a:ext cx="36504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35"/>
            <p:cNvGraphicFramePr/>
            <p:nvPr/>
          </p:nvGraphicFramePr>
          <p:xfrm>
            <a:off x="3790800" y="1397880"/>
            <a:ext cx="796680" cy="398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90800" y="1397880"/>
                      <a:ext cx="796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36"/>
            <p:cNvGraphicFramePr/>
            <p:nvPr/>
          </p:nvGraphicFramePr>
          <p:xfrm>
            <a:off x="6715440" y="1482480"/>
            <a:ext cx="888840" cy="31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15440" y="1482480"/>
                      <a:ext cx="88884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3" name="Object 37"/>
          <p:cNvGraphicFramePr/>
          <p:nvPr/>
        </p:nvGraphicFramePr>
        <p:xfrm>
          <a:off x="3000240" y="1843200"/>
          <a:ext cx="2749680" cy="441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00240" y="1843200"/>
                    <a:ext cx="2749680" cy="4413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125" name="组合 26"/>
          <p:cNvGrpSpPr/>
          <p:nvPr/>
        </p:nvGrpSpPr>
        <p:grpSpPr>
          <a:xfrm>
            <a:off x="1143000" y="2263680"/>
            <a:ext cx="8429760" cy="520560"/>
            <a:chOff x="1143000" y="2263680"/>
            <a:chExt cx="8429760" cy="520560"/>
          </a:xfrm>
        </p:grpSpPr>
        <p:sp>
          <p:nvSpPr>
            <p:cNvPr id="126" name="Rectangle 15"/>
            <p:cNvSpPr/>
            <p:nvPr/>
          </p:nvSpPr>
          <p:spPr>
            <a:xfrm>
              <a:off x="1143000" y="2263680"/>
              <a:ext cx="84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与   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一个是完备空间时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另一个也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7" name="Object 42"/>
            <p:cNvGraphicFramePr/>
            <p:nvPr/>
          </p:nvGraphicFramePr>
          <p:xfrm>
            <a:off x="1500120" y="2427120"/>
            <a:ext cx="398160" cy="277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" name="Object 4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0120" y="2427120"/>
                      <a:ext cx="398160" cy="27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44"/>
            <p:cNvGraphicFramePr/>
            <p:nvPr/>
          </p:nvGraphicFramePr>
          <p:xfrm>
            <a:off x="2214360" y="2427120"/>
            <a:ext cx="314280" cy="277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0" name="Object 4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14360" y="2427120"/>
                      <a:ext cx="314280" cy="27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组合 27"/>
          <p:cNvGrpSpPr/>
          <p:nvPr/>
        </p:nvGrpSpPr>
        <p:grpSpPr>
          <a:xfrm>
            <a:off x="1285920" y="3108240"/>
            <a:ext cx="7215120" cy="903960"/>
            <a:chOff x="1285920" y="3108240"/>
            <a:chExt cx="7215120" cy="903960"/>
          </a:xfrm>
        </p:grpSpPr>
        <p:sp>
          <p:nvSpPr>
            <p:cNvPr id="132" name="Rectangle 15"/>
            <p:cNvSpPr/>
            <p:nvPr/>
          </p:nvSpPr>
          <p:spPr>
            <a:xfrm>
              <a:off x="1285920" y="3108240"/>
              <a:ext cx="72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对于任意的         所说的不等式成立，则当                时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3" name="Object 45"/>
            <p:cNvGraphicFramePr/>
            <p:nvPr/>
          </p:nvGraphicFramePr>
          <p:xfrm>
            <a:off x="4021920" y="3233520"/>
            <a:ext cx="838080" cy="27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" name="Object 4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21920" y="3233520"/>
                      <a:ext cx="838080" cy="275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30"/>
            <p:cNvGraphicFramePr/>
            <p:nvPr/>
          </p:nvGraphicFramePr>
          <p:xfrm>
            <a:off x="2214360" y="3611160"/>
            <a:ext cx="1333440" cy="401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6" name="Object 3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14360" y="3611160"/>
                      <a:ext cx="1333440" cy="40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7" name="Object 47"/>
          <p:cNvGraphicFramePr/>
          <p:nvPr/>
        </p:nvGraphicFramePr>
        <p:xfrm>
          <a:off x="2643120" y="4003560"/>
          <a:ext cx="4078440" cy="43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Object 4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43120" y="4003560"/>
                    <a:ext cx="4078440" cy="4399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139" name="组合 52"/>
          <p:cNvGrpSpPr/>
          <p:nvPr/>
        </p:nvGrpSpPr>
        <p:grpSpPr>
          <a:xfrm>
            <a:off x="1904760" y="4340160"/>
            <a:ext cx="3137040" cy="520560"/>
            <a:chOff x="1904760" y="4340160"/>
            <a:chExt cx="3137040" cy="520560"/>
          </a:xfrm>
        </p:grpSpPr>
        <p:sp>
          <p:nvSpPr>
            <p:cNvPr id="140" name="Rectangle 15"/>
            <p:cNvSpPr/>
            <p:nvPr/>
          </p:nvSpPr>
          <p:spPr>
            <a:xfrm>
              <a:off x="1904760" y="4340160"/>
              <a:ext cx="313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，  是一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1" name="Object 48"/>
            <p:cNvGraphicFramePr/>
            <p:nvPr/>
          </p:nvGraphicFramePr>
          <p:xfrm>
            <a:off x="2285640" y="4402800"/>
            <a:ext cx="1036440" cy="400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42" name="Object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285640" y="4402800"/>
                      <a:ext cx="103644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Object 49"/>
            <p:cNvGraphicFramePr/>
            <p:nvPr/>
          </p:nvGraphicFramePr>
          <p:xfrm>
            <a:off x="3563640" y="4429800"/>
            <a:ext cx="340920" cy="302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44" name="Object 4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563640" y="4429800"/>
                      <a:ext cx="34092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11"/>
          <p:cNvGrpSpPr/>
          <p:nvPr/>
        </p:nvGrpSpPr>
        <p:grpSpPr>
          <a:xfrm>
            <a:off x="1448640" y="484200"/>
            <a:ext cx="3117600" cy="520560"/>
            <a:chOff x="1448640" y="484200"/>
            <a:chExt cx="3117600" cy="520560"/>
          </a:xfrm>
        </p:grpSpPr>
        <p:sp>
          <p:nvSpPr>
            <p:cNvPr id="146" name="Rectangle 15"/>
            <p:cNvSpPr/>
            <p:nvPr/>
          </p:nvSpPr>
          <p:spPr>
            <a:xfrm>
              <a:off x="1448640" y="484200"/>
              <a:ext cx="31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7" name="Object 30"/>
            <p:cNvGraphicFramePr/>
            <p:nvPr/>
          </p:nvGraphicFramePr>
          <p:xfrm>
            <a:off x="1714320" y="589680"/>
            <a:ext cx="2606760" cy="40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Object 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320" y="589680"/>
                      <a:ext cx="260676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9" name="Object 28"/>
          <p:cNvGraphicFramePr/>
          <p:nvPr/>
        </p:nvGraphicFramePr>
        <p:xfrm>
          <a:off x="1571760" y="1071720"/>
          <a:ext cx="415764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071720"/>
                    <a:ext cx="4157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组合 18"/>
          <p:cNvGrpSpPr/>
          <p:nvPr/>
        </p:nvGrpSpPr>
        <p:grpSpPr>
          <a:xfrm>
            <a:off x="1357200" y="1554120"/>
            <a:ext cx="1632960" cy="520560"/>
            <a:chOff x="1357200" y="1554120"/>
            <a:chExt cx="1632960" cy="520560"/>
          </a:xfrm>
        </p:grpSpPr>
        <p:sp>
          <p:nvSpPr>
            <p:cNvPr id="152" name="Rectangle 15"/>
            <p:cNvSpPr/>
            <p:nvPr/>
          </p:nvSpPr>
          <p:spPr>
            <a:xfrm>
              <a:off x="1500480" y="15541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3" name="Object 6"/>
            <p:cNvGraphicFramePr/>
            <p:nvPr/>
          </p:nvGraphicFramePr>
          <p:xfrm>
            <a:off x="1357200" y="1707840"/>
            <a:ext cx="301680" cy="26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57200" y="1707840"/>
                      <a:ext cx="30168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组合 19"/>
          <p:cNvGrpSpPr/>
          <p:nvPr/>
        </p:nvGrpSpPr>
        <p:grpSpPr>
          <a:xfrm>
            <a:off x="1643040" y="2143080"/>
            <a:ext cx="6115680" cy="520560"/>
            <a:chOff x="1643040" y="2143080"/>
            <a:chExt cx="6115680" cy="520560"/>
          </a:xfrm>
        </p:grpSpPr>
        <p:sp>
          <p:nvSpPr>
            <p:cNvPr id="156" name="Rectangle 15"/>
            <p:cNvSpPr/>
            <p:nvPr/>
          </p:nvSpPr>
          <p:spPr>
            <a:xfrm>
              <a:off x="1676520" y="2143080"/>
              <a:ext cx="60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 不妨设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7" name="Object 7"/>
            <p:cNvGraphicFramePr/>
            <p:nvPr/>
          </p:nvGraphicFramePr>
          <p:xfrm>
            <a:off x="1643040" y="2242440"/>
            <a:ext cx="2606760" cy="401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3040" y="2242440"/>
                      <a:ext cx="260676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5358240" y="2242440"/>
            <a:ext cx="240048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58240" y="2242440"/>
                      <a:ext cx="24004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1" name="Object 9"/>
          <p:cNvGraphicFramePr/>
          <p:nvPr/>
        </p:nvGraphicFramePr>
        <p:xfrm>
          <a:off x="928800" y="2708280"/>
          <a:ext cx="406548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28800" y="2708280"/>
                    <a:ext cx="4065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组合 22"/>
          <p:cNvGrpSpPr/>
          <p:nvPr/>
        </p:nvGrpSpPr>
        <p:grpSpPr>
          <a:xfrm>
            <a:off x="1707120" y="3922560"/>
            <a:ext cx="4100400" cy="520920"/>
            <a:chOff x="1707120" y="3922560"/>
            <a:chExt cx="4100400" cy="520920"/>
          </a:xfrm>
        </p:grpSpPr>
        <p:grpSp>
          <p:nvGrpSpPr>
            <p:cNvPr id="164" name="组合 21"/>
            <p:cNvGrpSpPr/>
            <p:nvPr/>
          </p:nvGrpSpPr>
          <p:grpSpPr>
            <a:xfrm>
              <a:off x="1707120" y="3922560"/>
              <a:ext cx="4100400" cy="520920"/>
              <a:chOff x="1707120" y="3922560"/>
              <a:chExt cx="4100400" cy="52092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1707120" y="3922560"/>
                <a:ext cx="41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                               连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6" name="Object 10"/>
              <p:cNvGraphicFramePr/>
              <p:nvPr/>
            </p:nvGraphicFramePr>
            <p:xfrm>
              <a:off x="2307600" y="4021560"/>
              <a:ext cx="2131200" cy="421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7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07600" y="4021560"/>
                        <a:ext cx="2131200" cy="42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8" name="Object 11"/>
            <p:cNvGraphicFramePr/>
            <p:nvPr/>
          </p:nvGraphicFramePr>
          <p:xfrm>
            <a:off x="4642920" y="4038840"/>
            <a:ext cx="533160" cy="333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9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42920" y="4038840"/>
                      <a:ext cx="53316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组合 20"/>
          <p:cNvGrpSpPr/>
          <p:nvPr/>
        </p:nvGrpSpPr>
        <p:grpSpPr>
          <a:xfrm>
            <a:off x="6566040" y="3911760"/>
            <a:ext cx="2055240" cy="520560"/>
            <a:chOff x="6566040" y="3911760"/>
            <a:chExt cx="2055240" cy="520560"/>
          </a:xfrm>
        </p:grpSpPr>
        <p:sp>
          <p:nvSpPr>
            <p:cNvPr id="171" name="Rectangle 15"/>
            <p:cNvSpPr/>
            <p:nvPr/>
          </p:nvSpPr>
          <p:spPr>
            <a:xfrm>
              <a:off x="6566040" y="3911760"/>
              <a:ext cx="205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         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2" name="Object 26"/>
            <p:cNvGraphicFramePr/>
            <p:nvPr/>
          </p:nvGraphicFramePr>
          <p:xfrm>
            <a:off x="7011720" y="4012200"/>
            <a:ext cx="907920" cy="362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3" name="Object 2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011720" y="4012200"/>
                      <a:ext cx="907920" cy="3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4" name="Object 22"/>
          <p:cNvGraphicFramePr/>
          <p:nvPr/>
        </p:nvGraphicFramePr>
        <p:xfrm>
          <a:off x="3151080" y="3313080"/>
          <a:ext cx="565812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51080" y="3313080"/>
                    <a:ext cx="56581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3"/>
          <p:cNvGraphicFramePr/>
          <p:nvPr/>
        </p:nvGraphicFramePr>
        <p:xfrm>
          <a:off x="5929200" y="1071720"/>
          <a:ext cx="1643040" cy="43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29200" y="1071720"/>
                    <a:ext cx="16430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5"/>
          <p:cNvSpPr/>
          <p:nvPr/>
        </p:nvSpPr>
        <p:spPr>
          <a:xfrm>
            <a:off x="571680" y="58896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必要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87520" y="1641600"/>
          <a:ext cx="30416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641600"/>
                    <a:ext cx="30416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571680" y="2179800"/>
          <a:ext cx="213804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2179800"/>
                    <a:ext cx="21380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5"/>
          <p:cNvSpPr/>
          <p:nvPr/>
        </p:nvSpPr>
        <p:spPr>
          <a:xfrm>
            <a:off x="2786040" y="21430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4" name="Object 6"/>
          <p:cNvGraphicFramePr/>
          <p:nvPr/>
        </p:nvGraphicFramePr>
        <p:xfrm>
          <a:off x="1785960" y="2600280"/>
          <a:ext cx="207648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5960" y="2600280"/>
                    <a:ext cx="20764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组合 20"/>
          <p:cNvGrpSpPr/>
          <p:nvPr/>
        </p:nvGrpSpPr>
        <p:grpSpPr>
          <a:xfrm>
            <a:off x="4143240" y="2668680"/>
            <a:ext cx="3070440" cy="766800"/>
            <a:chOff x="4143240" y="2668680"/>
            <a:chExt cx="3070440" cy="766800"/>
          </a:xfrm>
        </p:grpSpPr>
        <p:sp>
          <p:nvSpPr>
            <p:cNvPr id="187" name="Rectangle 15"/>
            <p:cNvSpPr/>
            <p:nvPr/>
          </p:nvSpPr>
          <p:spPr>
            <a:xfrm>
              <a:off x="4143240" y="2757240"/>
              <a:ext cx="70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8" name="Object 7"/>
            <p:cNvGraphicFramePr/>
            <p:nvPr/>
          </p:nvGraphicFramePr>
          <p:xfrm>
            <a:off x="4857480" y="2668680"/>
            <a:ext cx="2356200" cy="766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57480" y="2668680"/>
                      <a:ext cx="235620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组合 21"/>
          <p:cNvGrpSpPr/>
          <p:nvPr/>
        </p:nvGrpSpPr>
        <p:grpSpPr>
          <a:xfrm>
            <a:off x="714240" y="3537000"/>
            <a:ext cx="3407040" cy="520560"/>
            <a:chOff x="714240" y="3537000"/>
            <a:chExt cx="3407040" cy="520560"/>
          </a:xfrm>
        </p:grpSpPr>
        <p:sp>
          <p:nvSpPr>
            <p:cNvPr id="191" name="Rectangle 15"/>
            <p:cNvSpPr/>
            <p:nvPr/>
          </p:nvSpPr>
          <p:spPr>
            <a:xfrm>
              <a:off x="714240" y="3537000"/>
              <a:ext cx="153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2" name="Object 8"/>
            <p:cNvGraphicFramePr/>
            <p:nvPr/>
          </p:nvGraphicFramePr>
          <p:xfrm>
            <a:off x="1643040" y="3594600"/>
            <a:ext cx="2478240" cy="41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3040" y="3594600"/>
                      <a:ext cx="24782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18"/>
          <p:cNvGrpSpPr/>
          <p:nvPr/>
        </p:nvGrpSpPr>
        <p:grpSpPr>
          <a:xfrm>
            <a:off x="571680" y="1071720"/>
            <a:ext cx="8358120" cy="520560"/>
            <a:chOff x="571680" y="1071720"/>
            <a:chExt cx="8358120" cy="520560"/>
          </a:xfrm>
        </p:grpSpPr>
        <p:sp>
          <p:nvSpPr>
            <p:cNvPr id="195" name="Rectangle 15"/>
            <p:cNvSpPr/>
            <p:nvPr/>
          </p:nvSpPr>
          <p:spPr>
            <a:xfrm>
              <a:off x="571680" y="1071720"/>
              <a:ext cx="83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从    到   上的同构映射，若不存在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6" name="Object 28"/>
            <p:cNvGraphicFramePr/>
            <p:nvPr/>
          </p:nvGraphicFramePr>
          <p:xfrm>
            <a:off x="6929640" y="1166760"/>
            <a:ext cx="836640" cy="32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7" name="Object 2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29640" y="1166760"/>
                      <a:ext cx="8366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9"/>
            <p:cNvGraphicFramePr/>
            <p:nvPr/>
          </p:nvGraphicFramePr>
          <p:xfrm>
            <a:off x="1071720" y="1224000"/>
            <a:ext cx="301320" cy="268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71720" y="1224000"/>
                      <a:ext cx="301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0"/>
            <p:cNvGraphicFramePr/>
            <p:nvPr/>
          </p:nvGraphicFramePr>
          <p:xfrm>
            <a:off x="2054160" y="1224000"/>
            <a:ext cx="384120" cy="268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4160" y="1224000"/>
                      <a:ext cx="384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Object 11"/>
            <p:cNvGraphicFramePr/>
            <p:nvPr/>
          </p:nvGraphicFramePr>
          <p:xfrm>
            <a:off x="2809800" y="1224000"/>
            <a:ext cx="301320" cy="26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09800" y="1224000"/>
                      <a:ext cx="301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组合 19"/>
          <p:cNvGrpSpPr/>
          <p:nvPr/>
        </p:nvGrpSpPr>
        <p:grpSpPr>
          <a:xfrm>
            <a:off x="3643200" y="1608120"/>
            <a:ext cx="4708800" cy="520560"/>
            <a:chOff x="3643200" y="1608120"/>
            <a:chExt cx="4708800" cy="520560"/>
          </a:xfrm>
        </p:grpSpPr>
        <p:sp>
          <p:nvSpPr>
            <p:cNvPr id="205" name="Rectangle 15"/>
            <p:cNvSpPr/>
            <p:nvPr/>
          </p:nvSpPr>
          <p:spPr>
            <a:xfrm>
              <a:off x="3643200" y="1608120"/>
              <a:ext cx="38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对于任意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6" name="Object 4"/>
            <p:cNvGraphicFramePr/>
            <p:nvPr/>
          </p:nvGraphicFramePr>
          <p:xfrm>
            <a:off x="7143840" y="1650240"/>
            <a:ext cx="1208160" cy="417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7" name="Object 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143840" y="1650240"/>
                      <a:ext cx="120816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Object 12"/>
            <p:cNvGraphicFramePr/>
            <p:nvPr/>
          </p:nvGraphicFramePr>
          <p:xfrm>
            <a:off x="6253200" y="1768680"/>
            <a:ext cx="274320" cy="227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9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253200" y="1768680"/>
                      <a:ext cx="274320" cy="22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15"/>
          <p:cNvGrpSpPr/>
          <p:nvPr/>
        </p:nvGrpSpPr>
        <p:grpSpPr>
          <a:xfrm>
            <a:off x="785880" y="501480"/>
            <a:ext cx="6086520" cy="1062360"/>
            <a:chOff x="785880" y="501480"/>
            <a:chExt cx="6086520" cy="1062360"/>
          </a:xfrm>
        </p:grpSpPr>
        <p:sp>
          <p:nvSpPr>
            <p:cNvPr id="211" name="Rectangle 15"/>
            <p:cNvSpPr/>
            <p:nvPr/>
          </p:nvSpPr>
          <p:spPr>
            <a:xfrm>
              <a:off x="785880" y="501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2" name="Object 2"/>
            <p:cNvGraphicFramePr/>
            <p:nvPr/>
          </p:nvGraphicFramePr>
          <p:xfrm>
            <a:off x="1571760" y="680760"/>
            <a:ext cx="5300640" cy="88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760" y="680760"/>
                      <a:ext cx="5300640" cy="8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组合 16"/>
          <p:cNvGrpSpPr/>
          <p:nvPr/>
        </p:nvGrpSpPr>
        <p:grpSpPr>
          <a:xfrm>
            <a:off x="2643120" y="1714680"/>
            <a:ext cx="6500880" cy="520560"/>
            <a:chOff x="2643120" y="1714680"/>
            <a:chExt cx="6500880" cy="520560"/>
          </a:xfrm>
        </p:grpSpPr>
        <p:sp>
          <p:nvSpPr>
            <p:cNvPr id="215" name="Rectangle 15"/>
            <p:cNvSpPr/>
            <p:nvPr/>
          </p:nvSpPr>
          <p:spPr>
            <a:xfrm>
              <a:off x="2643120" y="1714680"/>
              <a:ext cx="33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即证明存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6" name="Object 28"/>
            <p:cNvGraphicFramePr/>
            <p:nvPr/>
          </p:nvGraphicFramePr>
          <p:xfrm>
            <a:off x="5172120" y="1783080"/>
            <a:ext cx="3971880" cy="42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2120" y="1783080"/>
                      <a:ext cx="3971880" cy="42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8" name="组合 17"/>
          <p:cNvGrpSpPr/>
          <p:nvPr/>
        </p:nvGrpSpPr>
        <p:grpSpPr>
          <a:xfrm>
            <a:off x="900000" y="2340000"/>
            <a:ext cx="8244000" cy="663480"/>
            <a:chOff x="900000" y="2340000"/>
            <a:chExt cx="8244000" cy="663480"/>
          </a:xfrm>
        </p:grpSpPr>
        <p:sp>
          <p:nvSpPr>
            <p:cNvPr id="219" name="Rectangle 15"/>
            <p:cNvSpPr/>
            <p:nvPr/>
          </p:nvSpPr>
          <p:spPr>
            <a:xfrm>
              <a:off x="900000" y="241956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样，有     连续，存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0" name="Object 4"/>
            <p:cNvGraphicFramePr/>
            <p:nvPr/>
          </p:nvGraphicFramePr>
          <p:xfrm>
            <a:off x="2376360" y="2499840"/>
            <a:ext cx="493560" cy="30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76360" y="2499840"/>
                      <a:ext cx="49356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Object 5"/>
            <p:cNvGraphicFramePr/>
            <p:nvPr/>
          </p:nvGraphicFramePr>
          <p:xfrm>
            <a:off x="4800600" y="2340000"/>
            <a:ext cx="4343400" cy="66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340000"/>
                      <a:ext cx="434340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4" name="组合 18"/>
          <p:cNvGrpSpPr/>
          <p:nvPr/>
        </p:nvGrpSpPr>
        <p:grpSpPr>
          <a:xfrm>
            <a:off x="642960" y="3160800"/>
            <a:ext cx="4357800" cy="520560"/>
            <a:chOff x="642960" y="3160800"/>
            <a:chExt cx="4357800" cy="520560"/>
          </a:xfrm>
        </p:grpSpPr>
        <p:sp>
          <p:nvSpPr>
            <p:cNvPr id="225" name="Rectangle 15"/>
            <p:cNvSpPr/>
            <p:nvPr/>
          </p:nvSpPr>
          <p:spPr>
            <a:xfrm>
              <a:off x="642960" y="316080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           即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6" name="Object 6"/>
            <p:cNvGraphicFramePr/>
            <p:nvPr/>
          </p:nvGraphicFramePr>
          <p:xfrm>
            <a:off x="1071360" y="3249720"/>
            <a:ext cx="101448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71360" y="3249720"/>
                      <a:ext cx="10144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7"/>
            <p:cNvGraphicFramePr/>
            <p:nvPr/>
          </p:nvGraphicFramePr>
          <p:xfrm>
            <a:off x="3000600" y="3238200"/>
            <a:ext cx="1617480" cy="413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00600" y="3238200"/>
                      <a:ext cx="16174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Rectangle 15"/>
          <p:cNvSpPr/>
          <p:nvPr/>
        </p:nvSpPr>
        <p:spPr>
          <a:xfrm>
            <a:off x="714240" y="3803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最后的结论是明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1" name="组合 14"/>
          <p:cNvGrpSpPr/>
          <p:nvPr/>
        </p:nvGrpSpPr>
        <p:grpSpPr>
          <a:xfrm>
            <a:off x="428760" y="1714680"/>
            <a:ext cx="2428920" cy="520560"/>
            <a:chOff x="428760" y="1714680"/>
            <a:chExt cx="2428920" cy="520560"/>
          </a:xfrm>
        </p:grpSpPr>
        <p:sp>
          <p:nvSpPr>
            <p:cNvPr id="232" name="Rectangle 15"/>
            <p:cNvSpPr/>
            <p:nvPr/>
          </p:nvSpPr>
          <p:spPr>
            <a:xfrm>
              <a:off x="428760" y="171468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3" name="Object 8"/>
            <p:cNvGraphicFramePr/>
            <p:nvPr/>
          </p:nvGraphicFramePr>
          <p:xfrm>
            <a:off x="571320" y="1851840"/>
            <a:ext cx="301320" cy="26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3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1320" y="1851840"/>
                      <a:ext cx="30132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5"/>
          <p:cNvSpPr/>
          <p:nvPr/>
        </p:nvSpPr>
        <p:spPr>
          <a:xfrm>
            <a:off x="571680" y="588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28760" y="2397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7" name="组合 14"/>
          <p:cNvGrpSpPr/>
          <p:nvPr/>
        </p:nvGrpSpPr>
        <p:grpSpPr>
          <a:xfrm>
            <a:off x="1300320" y="682560"/>
            <a:ext cx="7277040" cy="1528920"/>
            <a:chOff x="1300320" y="682560"/>
            <a:chExt cx="7277040" cy="1528920"/>
          </a:xfrm>
        </p:grpSpPr>
        <p:sp>
          <p:nvSpPr>
            <p:cNvPr id="238" name="Rectangle 15"/>
            <p:cNvSpPr/>
            <p:nvPr/>
          </p:nvSpPr>
          <p:spPr>
            <a:xfrm>
              <a:off x="1300320" y="682560"/>
              <a:ext cx="727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两个范数            称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彼此等价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，若存在              使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9" name="Object 5"/>
            <p:cNvGraphicFramePr/>
            <p:nvPr/>
          </p:nvGraphicFramePr>
          <p:xfrm>
            <a:off x="5072040" y="1233360"/>
            <a:ext cx="1152360" cy="32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2040" y="1233360"/>
                      <a:ext cx="115236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2865240" y="1798200"/>
            <a:ext cx="3895560" cy="41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5240" y="1798200"/>
                      <a:ext cx="3895560" cy="41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Object 8"/>
            <p:cNvGraphicFramePr/>
            <p:nvPr/>
          </p:nvGraphicFramePr>
          <p:xfrm>
            <a:off x="3490560" y="802800"/>
            <a:ext cx="384120" cy="26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4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0560" y="80280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9"/>
            <p:cNvGraphicFramePr/>
            <p:nvPr/>
          </p:nvGraphicFramePr>
          <p:xfrm>
            <a:off x="5994360" y="749520"/>
            <a:ext cx="1287360" cy="411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94360" y="749520"/>
                      <a:ext cx="1287360" cy="41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7" name="组合 16"/>
          <p:cNvGrpSpPr/>
          <p:nvPr/>
        </p:nvGrpSpPr>
        <p:grpSpPr>
          <a:xfrm>
            <a:off x="2324160" y="3579840"/>
            <a:ext cx="5057640" cy="523800"/>
            <a:chOff x="2324160" y="3579840"/>
            <a:chExt cx="5057640" cy="523800"/>
          </a:xfrm>
        </p:grpSpPr>
        <p:graphicFrame>
          <p:nvGraphicFramePr>
            <p:cNvPr id="248" name="Object 7"/>
            <p:cNvGraphicFramePr/>
            <p:nvPr/>
          </p:nvGraphicFramePr>
          <p:xfrm>
            <a:off x="2324160" y="3690720"/>
            <a:ext cx="1452600" cy="41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24160" y="3690720"/>
                      <a:ext cx="145260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Rectangle 15"/>
            <p:cNvSpPr/>
            <p:nvPr/>
          </p:nvSpPr>
          <p:spPr>
            <a:xfrm>
              <a:off x="3977640" y="35798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且仅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1" name="Object 10"/>
            <p:cNvGraphicFramePr/>
            <p:nvPr/>
          </p:nvGraphicFramePr>
          <p:xfrm>
            <a:off x="5956200" y="3690720"/>
            <a:ext cx="1425600" cy="41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2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56200" y="3690720"/>
                      <a:ext cx="142560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组合 21"/>
          <p:cNvGrpSpPr/>
          <p:nvPr/>
        </p:nvGrpSpPr>
        <p:grpSpPr>
          <a:xfrm>
            <a:off x="1214280" y="2505240"/>
            <a:ext cx="7277400" cy="520560"/>
            <a:chOff x="1214280" y="2505240"/>
            <a:chExt cx="7277400" cy="520560"/>
          </a:xfrm>
        </p:grpSpPr>
        <p:sp>
          <p:nvSpPr>
            <p:cNvPr id="254" name="Rectangle 15"/>
            <p:cNvSpPr/>
            <p:nvPr/>
          </p:nvSpPr>
          <p:spPr>
            <a:xfrm>
              <a:off x="1214280" y="2505240"/>
              <a:ext cx="727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两个范数            称为是       彼此等价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5" name="Object 2"/>
            <p:cNvGraphicFramePr/>
            <p:nvPr/>
          </p:nvGraphicFramePr>
          <p:xfrm>
            <a:off x="3429000" y="2625840"/>
            <a:ext cx="384120" cy="26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29000" y="262584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3"/>
            <p:cNvGraphicFramePr/>
            <p:nvPr/>
          </p:nvGraphicFramePr>
          <p:xfrm>
            <a:off x="5861160" y="2572200"/>
            <a:ext cx="1287360" cy="411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61160" y="2572200"/>
                      <a:ext cx="1287360" cy="41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9" name="组合 20"/>
          <p:cNvGrpSpPr/>
          <p:nvPr/>
        </p:nvGrpSpPr>
        <p:grpSpPr>
          <a:xfrm>
            <a:off x="3357720" y="2916360"/>
            <a:ext cx="2643120" cy="520560"/>
            <a:chOff x="3357720" y="2916360"/>
            <a:chExt cx="2643120" cy="520560"/>
          </a:xfrm>
        </p:grpSpPr>
        <p:graphicFrame>
          <p:nvGraphicFramePr>
            <p:cNvPr id="260" name="Object 18"/>
            <p:cNvGraphicFramePr/>
            <p:nvPr/>
          </p:nvGraphicFramePr>
          <p:xfrm>
            <a:off x="4929480" y="2984400"/>
            <a:ext cx="1071360" cy="370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29480" y="2984400"/>
                      <a:ext cx="10713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矩形 19"/>
            <p:cNvSpPr/>
            <p:nvPr/>
          </p:nvSpPr>
          <p:spPr>
            <a:xfrm>
              <a:off x="3357720" y="291636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对任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3" name="Text Box 3"/>
          <p:cNvSpPr/>
          <p:nvPr/>
        </p:nvSpPr>
        <p:spPr>
          <a:xfrm>
            <a:off x="285840" y="60336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255600" y="5554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5" name="组合 27"/>
          <p:cNvGrpSpPr/>
          <p:nvPr/>
        </p:nvGrpSpPr>
        <p:grpSpPr>
          <a:xfrm>
            <a:off x="1612080" y="539640"/>
            <a:ext cx="6798240" cy="1800360"/>
            <a:chOff x="1612080" y="539640"/>
            <a:chExt cx="6798240" cy="1800360"/>
          </a:xfrm>
        </p:grpSpPr>
        <p:sp>
          <p:nvSpPr>
            <p:cNvPr id="266" name="Rectangle 15"/>
            <p:cNvSpPr/>
            <p:nvPr/>
          </p:nvSpPr>
          <p:spPr>
            <a:xfrm>
              <a:off x="2589120" y="539640"/>
              <a:ext cx="5299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是线性赋范空间， 是   的线性子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维欧式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每个从    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一一线性映射都是    到    上的同构，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且    是   的闭子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7" name="Object 6"/>
            <p:cNvGraphicFramePr/>
            <p:nvPr/>
          </p:nvGraphicFramePr>
          <p:xfrm>
            <a:off x="3795480" y="1129680"/>
            <a:ext cx="344160" cy="2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5480" y="1129680"/>
                      <a:ext cx="344160" cy="284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Object 2"/>
            <p:cNvGraphicFramePr/>
            <p:nvPr/>
          </p:nvGraphicFramePr>
          <p:xfrm>
            <a:off x="5214960" y="696600"/>
            <a:ext cx="287280" cy="25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4960" y="69660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26"/>
            <p:cNvGraphicFramePr/>
            <p:nvPr/>
          </p:nvGraphicFramePr>
          <p:xfrm>
            <a:off x="2071440" y="642960"/>
            <a:ext cx="46512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71440" y="642960"/>
                      <a:ext cx="46512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Object 4"/>
            <p:cNvGraphicFramePr/>
            <p:nvPr/>
          </p:nvGraphicFramePr>
          <p:xfrm>
            <a:off x="5796000" y="699840"/>
            <a:ext cx="384480" cy="267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6000" y="6998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5"/>
            <p:cNvGraphicFramePr/>
            <p:nvPr/>
          </p:nvGraphicFramePr>
          <p:xfrm>
            <a:off x="1612080" y="1076040"/>
            <a:ext cx="1855800" cy="35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6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12080" y="1076040"/>
                      <a:ext cx="1855800" cy="353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7"/>
            <p:cNvGraphicFramePr/>
            <p:nvPr/>
          </p:nvGraphicFramePr>
          <p:xfrm>
            <a:off x="7380360" y="1059840"/>
            <a:ext cx="444240" cy="29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80360" y="105984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8"/>
            <p:cNvGraphicFramePr/>
            <p:nvPr/>
          </p:nvGraphicFramePr>
          <p:xfrm>
            <a:off x="8123040" y="1059840"/>
            <a:ext cx="287280" cy="25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123040" y="10598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9"/>
            <p:cNvGraphicFramePr/>
            <p:nvPr/>
          </p:nvGraphicFramePr>
          <p:xfrm>
            <a:off x="5214960" y="1486080"/>
            <a:ext cx="444240" cy="294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14960" y="148608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0"/>
            <p:cNvGraphicFramePr/>
            <p:nvPr/>
          </p:nvGraphicFramePr>
          <p:xfrm>
            <a:off x="6072120" y="1524240"/>
            <a:ext cx="287280" cy="25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72120" y="15242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11"/>
            <p:cNvGraphicFramePr/>
            <p:nvPr/>
          </p:nvGraphicFramePr>
          <p:xfrm>
            <a:off x="2051640" y="1956240"/>
            <a:ext cx="287280" cy="25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51640" y="19562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Object 12"/>
            <p:cNvGraphicFramePr/>
            <p:nvPr/>
          </p:nvGraphicFramePr>
          <p:xfrm>
            <a:off x="2771640" y="1944360"/>
            <a:ext cx="38412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8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71640" y="194436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9" name="Text Box 3"/>
          <p:cNvSpPr/>
          <p:nvPr/>
        </p:nvSpPr>
        <p:spPr>
          <a:xfrm>
            <a:off x="500040" y="2303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0" name="组合 25"/>
          <p:cNvGrpSpPr/>
          <p:nvPr/>
        </p:nvGrpSpPr>
        <p:grpSpPr>
          <a:xfrm>
            <a:off x="1714680" y="2357280"/>
            <a:ext cx="7142040" cy="660600"/>
            <a:chOff x="1714680" y="2357280"/>
            <a:chExt cx="7142040" cy="660600"/>
          </a:xfrm>
        </p:grpSpPr>
        <p:sp>
          <p:nvSpPr>
            <p:cNvPr id="291" name="Rectangle 15"/>
            <p:cNvSpPr/>
            <p:nvPr/>
          </p:nvSpPr>
          <p:spPr>
            <a:xfrm>
              <a:off x="1714680" y="235728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2" name="Object 13"/>
            <p:cNvGraphicFramePr/>
            <p:nvPr/>
          </p:nvGraphicFramePr>
          <p:xfrm>
            <a:off x="2246400" y="2427480"/>
            <a:ext cx="6610320" cy="590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3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46400" y="2427480"/>
                      <a:ext cx="6610320" cy="590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4" name="组合 26"/>
          <p:cNvGrpSpPr/>
          <p:nvPr/>
        </p:nvGrpSpPr>
        <p:grpSpPr>
          <a:xfrm>
            <a:off x="1000080" y="2982960"/>
            <a:ext cx="4094280" cy="668160"/>
            <a:chOff x="1000080" y="2982960"/>
            <a:chExt cx="4094280" cy="668160"/>
          </a:xfrm>
        </p:grpSpPr>
        <p:sp>
          <p:nvSpPr>
            <p:cNvPr id="295" name="Rectangle 15"/>
            <p:cNvSpPr/>
            <p:nvPr/>
          </p:nvSpPr>
          <p:spPr>
            <a:xfrm>
              <a:off x="1000080" y="30362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6" name="Object 14"/>
            <p:cNvGraphicFramePr/>
            <p:nvPr/>
          </p:nvGraphicFramePr>
          <p:xfrm>
            <a:off x="2247840" y="2982960"/>
            <a:ext cx="2846520" cy="6681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7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47840" y="2982960"/>
                      <a:ext cx="2846520" cy="668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8" name="组合 25"/>
          <p:cNvGrpSpPr/>
          <p:nvPr/>
        </p:nvGrpSpPr>
        <p:grpSpPr>
          <a:xfrm>
            <a:off x="1000080" y="3749760"/>
            <a:ext cx="7429680" cy="520560"/>
            <a:chOff x="1000080" y="3749760"/>
            <a:chExt cx="7429680" cy="520560"/>
          </a:xfrm>
        </p:grpSpPr>
        <p:sp>
          <p:nvSpPr>
            <p:cNvPr id="299" name="Rectangle 15"/>
            <p:cNvSpPr/>
            <p:nvPr/>
          </p:nvSpPr>
          <p:spPr>
            <a:xfrm>
              <a:off x="1000080" y="3749760"/>
              <a:ext cx="742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一一映射，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无关，所以  是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0" name="Object 15"/>
            <p:cNvGraphicFramePr/>
            <p:nvPr/>
          </p:nvGraphicFramePr>
          <p:xfrm>
            <a:off x="1760400" y="3899160"/>
            <a:ext cx="338040" cy="256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01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60400" y="3899160"/>
                      <a:ext cx="3380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Object 16"/>
            <p:cNvGraphicFramePr/>
            <p:nvPr/>
          </p:nvGraphicFramePr>
          <p:xfrm>
            <a:off x="4071960" y="3873600"/>
            <a:ext cx="1149120" cy="353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3" name="Object 1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071960" y="3873600"/>
                      <a:ext cx="1149120" cy="353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17"/>
            <p:cNvGraphicFramePr/>
            <p:nvPr/>
          </p:nvGraphicFramePr>
          <p:xfrm>
            <a:off x="7786800" y="3899160"/>
            <a:ext cx="338040" cy="2563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05" name="Object 17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786800" y="3899160"/>
                      <a:ext cx="3380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9"/>
          <p:cNvGrpSpPr/>
          <p:nvPr/>
        </p:nvGrpSpPr>
        <p:grpSpPr>
          <a:xfrm>
            <a:off x="714240" y="588960"/>
            <a:ext cx="7583760" cy="1168560"/>
            <a:chOff x="714240" y="588960"/>
            <a:chExt cx="7583760" cy="1168560"/>
          </a:xfrm>
        </p:grpSpPr>
        <p:sp>
          <p:nvSpPr>
            <p:cNvPr id="307" name="Rectangle 15"/>
            <p:cNvSpPr/>
            <p:nvPr/>
          </p:nvSpPr>
          <p:spPr>
            <a:xfrm>
              <a:off x="714240" y="5889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2"/>
            <p:cNvGraphicFramePr/>
            <p:nvPr/>
          </p:nvGraphicFramePr>
          <p:xfrm>
            <a:off x="1661760" y="910440"/>
            <a:ext cx="6636240" cy="84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1760" y="910440"/>
                      <a:ext cx="6636240" cy="84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10" name="组合 10"/>
          <p:cNvGrpSpPr/>
          <p:nvPr/>
        </p:nvGrpSpPr>
        <p:grpSpPr>
          <a:xfrm>
            <a:off x="857160" y="1941480"/>
            <a:ext cx="7858080" cy="846000"/>
            <a:chOff x="857160" y="1941480"/>
            <a:chExt cx="7858080" cy="846000"/>
          </a:xfrm>
        </p:grpSpPr>
        <p:sp>
          <p:nvSpPr>
            <p:cNvPr id="311" name="Rectangle 15"/>
            <p:cNvSpPr/>
            <p:nvPr/>
          </p:nvSpPr>
          <p:spPr>
            <a:xfrm>
              <a:off x="857160" y="2143080"/>
              <a:ext cx="785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假设                        则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2" name="Object 3"/>
            <p:cNvGraphicFramePr/>
            <p:nvPr/>
          </p:nvGraphicFramePr>
          <p:xfrm>
            <a:off x="1785600" y="1941480"/>
            <a:ext cx="21430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85600" y="1941480"/>
                      <a:ext cx="2143080" cy="84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4" name="Object 4"/>
          <p:cNvGraphicFramePr/>
          <p:nvPr/>
        </p:nvGraphicFramePr>
        <p:xfrm>
          <a:off x="2031840" y="2898720"/>
          <a:ext cx="49626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1840" y="2898720"/>
                    <a:ext cx="4962600" cy="3938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316" name="组合 8"/>
          <p:cNvGrpSpPr/>
          <p:nvPr/>
        </p:nvGrpSpPr>
        <p:grpSpPr>
          <a:xfrm>
            <a:off x="1000080" y="3429000"/>
            <a:ext cx="4143600" cy="520560"/>
            <a:chOff x="1000080" y="3429000"/>
            <a:chExt cx="4143600" cy="520560"/>
          </a:xfrm>
        </p:grpSpPr>
        <p:sp>
          <p:nvSpPr>
            <p:cNvPr id="317" name="Rectangle 15"/>
            <p:cNvSpPr/>
            <p:nvPr/>
          </p:nvSpPr>
          <p:spPr>
            <a:xfrm>
              <a:off x="1000080" y="3429000"/>
              <a:ext cx="41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   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8" name="Object 5"/>
            <p:cNvGraphicFramePr/>
            <p:nvPr/>
          </p:nvGraphicFramePr>
          <p:xfrm>
            <a:off x="1928880" y="3539520"/>
            <a:ext cx="338040" cy="256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28880" y="3539520"/>
                      <a:ext cx="338040" cy="25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admin</cp:lastModifiedBy>
  <dcterms:modified xsi:type="dcterms:W3CDTF">2014-09-11T01:30:51Z</dcterms:modified>
  <cp:revision>353</cp:revision>
  <dc:subject/>
  <dc:title>幻灯片 1</dc:title>
</cp:coreProperties>
</file>