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6.wmf" ContentType="image/x-wmf"/>
  <Override PartName="/ppt/media/image194.wmf" ContentType="image/x-wmf"/>
  <Override PartName="/ppt/media/image125.wmf" ContentType="image/x-wmf"/>
  <Override PartName="/ppt/media/image193.wmf" ContentType="image/x-wmf"/>
  <Override PartName="/ppt/media/image124.wmf" ContentType="image/x-wmf"/>
  <Override PartName="/ppt/media/image192.wmf" ContentType="image/x-wmf"/>
  <Override PartName="/ppt/media/image123.wmf" ContentType="image/x-wmf"/>
  <Override PartName="/ppt/media/image191.wmf" ContentType="image/x-wmf"/>
  <Override PartName="/ppt/media/image122.wmf" ContentType="image/x-wmf"/>
  <Override PartName="/ppt/media/image190.wmf" ContentType="image/x-wmf"/>
  <Override PartName="/ppt/media/image121.wmf" ContentType="image/x-wmf"/>
  <Override PartName="/ppt/media/image116.wmf" ContentType="image/x-wmf"/>
  <Override PartName="/ppt/media/image184.wmf" ContentType="image/x-wmf"/>
  <Override PartName="/ppt/media/image115.wmf" ContentType="image/x-wmf"/>
  <Override PartName="/ppt/media/image183.wmf" ContentType="image/x-wmf"/>
  <Override PartName="/ppt/media/image114.wmf" ContentType="image/x-wmf"/>
  <Override PartName="/ppt/media/image182.wmf" ContentType="image/x-wmf"/>
  <Override PartName="/ppt/media/image113.wmf" ContentType="image/x-wmf"/>
  <Override PartName="/ppt/media/image181.wmf" ContentType="image/x-wmf"/>
  <Override PartName="/ppt/media/image112.wmf" ContentType="image/x-wmf"/>
  <Override PartName="/ppt/media/image180.wmf" ContentType="image/x-wmf"/>
  <Override PartName="/ppt/media/image111.wmf" ContentType="image/x-wmf"/>
  <Override PartName="/ppt/media/image106.wmf" ContentType="image/x-wmf"/>
  <Override PartName="/ppt/media/image174.wmf" ContentType="image/x-wmf"/>
  <Override PartName="/ppt/media/image105.wmf" ContentType="image/x-wmf"/>
  <Override PartName="/ppt/media/image173.wmf" ContentType="image/x-wmf"/>
  <Override PartName="/ppt/media/image104.wmf" ContentType="image/x-wmf"/>
  <Override PartName="/ppt/media/image172.wmf" ContentType="image/x-wmf"/>
  <Override PartName="/ppt/media/image103.wmf" ContentType="image/x-wmf"/>
  <Override PartName="/ppt/media/image171.wmf" ContentType="image/x-wmf"/>
  <Override PartName="/ppt/media/image102.wmf" ContentType="image/x-wmf"/>
  <Override PartName="/ppt/media/image170.wmf" ContentType="image/x-wmf"/>
  <Override PartName="/ppt/media/image101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70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61.wmf" ContentType="image/x-wmf"/>
  <Override PartName="/ppt/media/image60.wmf" ContentType="image/x-wmf"/>
  <Override PartName="/ppt/media/image91.wmf" ContentType="image/x-wmf"/>
  <Override PartName="/ppt/media/image23.wmf" ContentType="image/x-wmf"/>
  <Override PartName="/ppt/media/image26.wmf" ContentType="image/x-wmf"/>
  <Override PartName="/ppt/media/image94.wmf" ContentType="image/x-wmf"/>
  <Override PartName="/ppt/media/image24.wmf" ContentType="image/x-wmf"/>
  <Override PartName="/ppt/media/image92.wmf" ContentType="image/x-wmf"/>
  <Override PartName="/ppt/media/image119.wmf" ContentType="image/x-wmf"/>
  <Override PartName="/ppt/media/image187.wmf" ContentType="image/x-wmf"/>
  <Override PartName="/ppt/media/image22.wmf" ContentType="image/x-wmf"/>
  <Override PartName="/ppt/media/image90.wmf" ContentType="image/x-wmf"/>
  <Override PartName="/ppt/media/image110.wmf" ContentType="image/x-wmf"/>
  <Override PartName="/ppt/media/image59.wmf" ContentType="image/x-wmf"/>
  <Override PartName="/ppt/media/image51.wmf" ContentType="image/x-wmf"/>
  <Override PartName="/ppt/media/image148.wmf" ContentType="image/x-wmf"/>
  <Override PartName="/ppt/media/image52.wmf" ContentType="image/x-wmf"/>
  <Override PartName="/ppt/media/image149.wmf" ContentType="image/x-wmf"/>
  <Override PartName="/ppt/media/image53.wmf" ContentType="image/x-wmf"/>
  <Override PartName="/ppt/media/image128.wmf" ContentType="image/x-wmf"/>
  <Override PartName="/ppt/media/image196.wmf" ContentType="image/x-wmf"/>
  <Override PartName="/ppt/media/image34.wmf" ContentType="image/x-wmf"/>
  <Override PartName="/ppt/media/image32.wmf" ContentType="image/x-wmf"/>
  <Override PartName="/ppt/media/image133.wmf" ContentType="image/x-wmf"/>
  <Override PartName="/ppt/media/image134.wmf" ContentType="image/x-wmf"/>
  <Override PartName="/ppt/media/image3.png" ContentType="image/png"/>
  <Override PartName="/ppt/media/image135.wmf" ContentType="image/x-wmf"/>
  <Override PartName="/ppt/media/image136.wmf" ContentType="image/x-wmf"/>
  <Override PartName="/ppt/media/image137.wmf" ContentType="image/x-wmf"/>
  <Override PartName="/ppt/media/image40.wmf" ContentType="image/x-wmf"/>
  <Override PartName="/ppt/media/image138.wmf" ContentType="image/x-wmf"/>
  <Override PartName="/ppt/media/image41.wmf" ContentType="image/x-wmf"/>
  <Override PartName="/ppt/media/image139.wmf" ContentType="image/x-wmf"/>
  <Override PartName="/ppt/media/image42.wmf" ContentType="image/x-wmf"/>
  <Override PartName="/ppt/media/image54.wmf" ContentType="image/x-wmf"/>
  <Override PartName="/ppt/media/image140.wmf" ContentType="image/x-wmf"/>
  <Override PartName="/ppt/media/image89.wmf" ContentType="image/x-wmf"/>
  <Override PartName="/ppt/media/image143.wmf" ContentType="image/x-wmf"/>
  <Override PartName="/ppt/media/image144.wmf" ContentType="image/x-wmf"/>
  <Override PartName="/ppt/media/image145.wmf" ContentType="image/x-wmf"/>
  <Override PartName="/ppt/media/image45.wmf" ContentType="image/x-wmf"/>
  <Override PartName="/ppt/media/image201.wmf" ContentType="image/x-wmf"/>
  <Override PartName="/ppt/media/image131.wmf" ContentType="image/x-wmf"/>
  <Override PartName="/ppt/media/image168.wmf" ContentType="image/x-wmf"/>
  <Override PartName="/ppt/media/image46.wmf" ContentType="image/x-wmf"/>
  <Override PartName="/ppt/media/image202.wmf" ContentType="image/x-wmf"/>
  <Override PartName="/ppt/media/image132.wmf" ContentType="image/x-wmf"/>
  <Override PartName="/ppt/media/image169.wmf" ContentType="image/x-wmf"/>
  <Override PartName="/ppt/media/image55.wmf" ContentType="image/x-wmf"/>
  <Override PartName="/ppt/media/image141.wmf" ContentType="image/x-wmf"/>
  <Override PartName="/ppt/media/image178.wmf" ContentType="image/x-wmf"/>
  <Override PartName="/ppt/media/image44.wmf" ContentType="image/x-wmf"/>
  <Override PartName="/ppt/media/image200.wmf" ContentType="image/x-wmf"/>
  <Override PartName="/ppt/media/image130.wmf" ContentType="image/x-wmf"/>
  <Override PartName="/ppt/media/image167.wmf" ContentType="image/x-wmf"/>
  <Override PartName="/ppt/media/image56.wmf" ContentType="image/x-wmf"/>
  <Override PartName="/ppt/media/image142.wmf" ContentType="image/x-wmf"/>
  <Override PartName="/ppt/media/image179.wmf" ContentType="image/x-wmf"/>
  <Override PartName="/ppt/media/image163.wmf" ContentType="image/x-wmf"/>
  <Override PartName="/ppt/media/image154.wmf" ContentType="image/x-wmf"/>
  <Override PartName="/ppt/media/image164.wmf" ContentType="image/x-wmf"/>
  <Override PartName="/ppt/media/image155.wmf" ContentType="image/x-wmf"/>
  <Override PartName="/ppt/media/image153.wmf" ContentType="image/x-wmf"/>
  <Override PartName="/ppt/media/image43.wmf" ContentType="image/x-wmf"/>
  <Override PartName="/ppt/media/image166.wmf" ContentType="image/x-wmf"/>
  <Override PartName="/ppt/media/image199.wmf" ContentType="image/x-wmf"/>
  <Override PartName="/ppt/media/image37.wmf" ContentType="image/x-wmf"/>
  <Override PartName="/ppt/media/image162.wmf" ContentType="image/x-wmf"/>
  <Override PartName="/ppt/media/image198.wmf" ContentType="image/x-wmf"/>
  <Override PartName="/ppt/media/image36.wmf" ContentType="image/x-wmf"/>
  <Override PartName="/ppt/media/image161.wmf" ContentType="image/x-wmf"/>
  <Override PartName="/ppt/media/image129.wmf" ContentType="image/x-wmf"/>
  <Override PartName="/ppt/media/image197.wmf" ContentType="image/x-wmf"/>
  <Override PartName="/ppt/media/image35.wmf" ContentType="image/x-wmf"/>
  <Override PartName="/ppt/media/image160.wmf" ContentType="image/x-wmf"/>
  <Override PartName="/ppt/media/image189.wmf" ContentType="image/x-wmf"/>
  <Override PartName="/ppt/media/image152.wmf" ContentType="image/x-wmf"/>
  <Override PartName="/ppt/media/image188.wmf" ContentType="image/x-wmf"/>
  <Override PartName="/ppt/media/image151.wmf" ContentType="image/x-wmf"/>
  <Override PartName="/ppt/media/image203.wmf" ContentType="image/x-wmf"/>
  <Override PartName="/ppt/media/image47.wmf" ContentType="image/x-wmf"/>
  <Override PartName="/ppt/media/image150.wmf" ContentType="image/x-wmf"/>
  <Override PartName="/ppt/media/image99.wmf" ContentType="image/x-wmf"/>
  <Override PartName="/ppt/media/image147.wmf" ContentType="image/x-wmf"/>
  <Override PartName="/ppt/media/image50.wmf" ContentType="image/x-wmf"/>
  <Override PartName="/ppt/media/image146.wmf" ContentType="image/x-wmf"/>
  <Override PartName="/ppt/media/image33.wmf" ContentType="image/x-wmf"/>
  <Override PartName="/ppt/media/image195.wmf" ContentType="image/x-wmf"/>
  <Override PartName="/ppt/media/image127.wmf" ContentType="image/x-wmf"/>
  <Override PartName="/ppt/media/image39.wmf" ContentType="image/x-wmf"/>
  <Override PartName="/ppt/media/image31.wmf" ContentType="image/x-wmf"/>
  <Override PartName="/ppt/media/image9.wmf" ContentType="image/x-wmf"/>
  <Override PartName="/ppt/media/image38.wmf" ContentType="image/x-wmf"/>
  <Override PartName="/ppt/media/image30.wmf" ContentType="image/x-wmf"/>
  <Override PartName="/ppt/media/image8.wmf" ContentType="image/x-wmf"/>
  <Override PartName="/ppt/media/image17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77.wmf" ContentType="image/x-wmf"/>
  <Override PartName="/ppt/media/image109.wmf" ContentType="image/x-wmf"/>
  <Override PartName="/ppt/media/image80.wmf" ContentType="image/x-wmf"/>
  <Override PartName="/ppt/media/image12.wmf" ContentType="image/x-wmf"/>
  <Override PartName="/ppt/media/image159.wmf" ContentType="image/x-wmf"/>
  <Override PartName="/ppt/media/image7.wmf" ContentType="image/x-wmf"/>
  <Override PartName="/ppt/media/image16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176.wmf" ContentType="image/x-wmf"/>
  <Override PartName="/ppt/media/image82.wmf" ContentType="image/x-wmf"/>
  <Override PartName="/ppt/media/image14.wmf" ContentType="image/x-wmf"/>
  <Override PartName="/ppt/media/image158.wmf" ContentType="image/x-wmf"/>
  <Override PartName="/ppt/media/image6.wmf" ContentType="image/x-wmf"/>
  <Override PartName="/ppt/media/image86.wmf" ContentType="image/x-wmf"/>
  <Override PartName="/ppt/media/image18.wmf" ContentType="image/x-wmf"/>
  <Override PartName="/ppt/media/image15.wmf" ContentType="image/x-wmf"/>
  <Override PartName="/ppt/media/image83.wmf" ContentType="image/x-wmf"/>
  <Override PartName="/ppt/media/image10.wmf" ContentType="image/x-wmf"/>
  <Override PartName="/ppt/media/image5.wmf" ContentType="image/x-wmf"/>
  <Override PartName="/ppt/media/image157.wmf" ContentType="image/x-wmf"/>
  <Override PartName="/ppt/media/image93.wmf" ContentType="image/x-wmf"/>
  <Override PartName="/ppt/media/image25.wmf" ContentType="image/x-wmf"/>
  <Override PartName="/ppt/media/image4.wmf" ContentType="image/x-wmf"/>
  <Override PartName="/ppt/media/image156.wmf" ContentType="image/x-wmf"/>
  <Override PartName="/ppt/media/image81.wmf" ContentType="image/x-wmf"/>
  <Override PartName="/ppt/media/image13.wmf" ContentType="image/x-wmf"/>
  <Override PartName="/ppt/media/image2.jpeg" ContentType="image/jpeg"/>
  <Override PartName="/ppt/media/image107.wmf" ContentType="image/x-wmf"/>
  <Override PartName="/ppt/media/image175.wmf" ContentType="image/x-wmf"/>
  <Override PartName="/ppt/media/image1.jpeg" ContentType="image/jpeg"/>
  <Override PartName="/ppt/media/image165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185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18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5284-62A3-4FF8-B792-3192F7516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3E83-E654-4977-A89E-D47A6144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B343-7898-4797-8881-71DC73FF8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D758-9767-4D93-984C-9774F1E8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D1DE-36FC-4BC9-8B54-391125773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0FC0-7640-449B-969C-A8A1B320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FE03-E7AD-4070-B35F-7EAF6D89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F3E4-7F9A-481F-A242-2F2C2B19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918E-1DF1-4924-BBCF-15201B84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0A1F-6DA1-449D-B036-CE53E8C4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68DB-6353-4108-AB1E-0EBFC1F8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9BDD-2FB5-4769-8FDE-C1893919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1E47-F3D0-4AE6-9780-518DC27A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568C-C3C7-4512-BA27-113B45DC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71EF-EEB7-4CCB-BE81-ABF7D057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0612-7F65-4542-9154-3605B961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724E-A8CF-4630-AD11-195118032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4AC4-6947-4952-83AA-4623B0F6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CBD0-5F58-4027-94F9-2279FD2E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CCC1-9F9B-4C64-AA90-364E541E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593F-2E77-490D-BEFE-55FA308B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6DC7-3CFB-42F9-9356-6CE14A30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3509-42DE-4412-AE39-F6F78716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EED1-3DBA-4C99-AD52-BC169156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CF7E-7BCC-4EC2-90AE-0550BA425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0F4A-CAE1-4FD9-A052-1F38D9C4FD63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wmf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8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8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87.wmf"/><Relationship Id="rId3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7.wmf"/><Relationship Id="rId2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6.wmf"/><Relationship Id="rId2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1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1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1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1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1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2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2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21.wmf"/><Relationship Id="rId4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3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34.wmf"/><Relationship Id="rId3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43.wmf"/><Relationship Id="rId1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4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4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5.wmf"/><Relationship Id="rId2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.wmf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6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6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7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7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6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7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7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7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79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69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80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80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81.wmf"/><Relationship Id="rId3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8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7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9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7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9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9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76.wmf"/><Relationship Id="rId3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0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0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02.wmf"/><Relationship Id="rId2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9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2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0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2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2.wmf"/><Relationship Id="rId3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2.wmf"/><Relationship Id="rId3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2.wmf"/><Relationship Id="rId3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5.wm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2.wmf"/><Relationship Id="rId2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1476360" y="519120"/>
            <a:ext cx="612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《</a:t>
            </a:r>
            <a:r>
              <a:rPr b="1" lang="zh-CN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泛函分析</a:t>
            </a:r>
            <a:r>
              <a:rPr b="1" lang="en-US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》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785880" y="1820880"/>
            <a:ext cx="72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第一讲   紧性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0" y="3214800"/>
            <a:ext cx="935820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高福根  博士  硕士研究生导师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河南师范大学数学与信息科学学院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组合 13"/>
          <p:cNvGrpSpPr/>
          <p:nvPr/>
        </p:nvGrpSpPr>
        <p:grpSpPr>
          <a:xfrm>
            <a:off x="1116000" y="944640"/>
            <a:ext cx="4530600" cy="834840"/>
            <a:chOff x="1116000" y="944640"/>
            <a:chExt cx="4530600" cy="834840"/>
          </a:xfrm>
        </p:grpSpPr>
        <p:sp>
          <p:nvSpPr>
            <p:cNvPr id="363" name="Rectangle 15"/>
            <p:cNvSpPr/>
            <p:nvPr/>
          </p:nvSpPr>
          <p:spPr>
            <a:xfrm>
              <a:off x="1116000" y="1072080"/>
              <a:ext cx="193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当            时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64" name="Object 4"/>
            <p:cNvGraphicFramePr/>
            <p:nvPr/>
          </p:nvGraphicFramePr>
          <p:xfrm>
            <a:off x="1428480" y="1167480"/>
            <a:ext cx="934920" cy="396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28480" y="1167480"/>
                      <a:ext cx="934920" cy="39600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66" name="Object 5"/>
            <p:cNvGraphicFramePr/>
            <p:nvPr/>
          </p:nvGraphicFramePr>
          <p:xfrm>
            <a:off x="3143160" y="944640"/>
            <a:ext cx="2503440" cy="834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7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43160" y="944640"/>
                      <a:ext cx="2503440" cy="83484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368" name="Rectangle 15"/>
          <p:cNvSpPr/>
          <p:nvPr/>
        </p:nvSpPr>
        <p:spPr>
          <a:xfrm>
            <a:off x="5934240" y="1071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从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369" name="Object 8"/>
          <p:cNvGraphicFramePr/>
          <p:nvPr/>
        </p:nvGraphicFramePr>
        <p:xfrm>
          <a:off x="2000160" y="1714680"/>
          <a:ext cx="4464000" cy="83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0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00160" y="1714680"/>
                    <a:ext cx="4464000" cy="836280"/>
                  </a:xfrm>
                  <a:prstGeom prst="rect">
                    <a:avLst/>
                  </a:prstGeom>
                  <a:ln cap="rnd" w="936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  <p:sp>
        <p:nvSpPr>
          <p:cNvPr id="371" name="Rectangle 15"/>
          <p:cNvSpPr/>
          <p:nvPr/>
        </p:nvSpPr>
        <p:spPr>
          <a:xfrm>
            <a:off x="1219680" y="2465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所以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372" name="Object 9"/>
          <p:cNvGraphicFramePr/>
          <p:nvPr/>
        </p:nvGraphicFramePr>
        <p:xfrm>
          <a:off x="1955880" y="2894040"/>
          <a:ext cx="5640480" cy="723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3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55880" y="2894040"/>
                    <a:ext cx="5640480" cy="723960"/>
                  </a:xfrm>
                  <a:prstGeom prst="rect">
                    <a:avLst/>
                  </a:prstGeom>
                  <a:ln cap="rnd" w="936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  <p:sp>
        <p:nvSpPr>
          <p:cNvPr id="374" name="Rectangle 15"/>
          <p:cNvSpPr/>
          <p:nvPr/>
        </p:nvSpPr>
        <p:spPr>
          <a:xfrm>
            <a:off x="1680120" y="3803760"/>
            <a:ext cx="40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这说明紧集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Lebesqu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数大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0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75" name="组合 15"/>
          <p:cNvGrpSpPr/>
          <p:nvPr/>
        </p:nvGrpSpPr>
        <p:grpSpPr>
          <a:xfrm>
            <a:off x="971280" y="533520"/>
            <a:ext cx="6422040" cy="523800"/>
            <a:chOff x="971280" y="533520"/>
            <a:chExt cx="6422040" cy="523800"/>
          </a:xfrm>
        </p:grpSpPr>
        <p:sp>
          <p:nvSpPr>
            <p:cNvPr id="376" name="Rectangle 15"/>
            <p:cNvSpPr/>
            <p:nvPr/>
          </p:nvSpPr>
          <p:spPr>
            <a:xfrm>
              <a:off x="1682640" y="533520"/>
              <a:ext cx="532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被覆盖，不妨设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,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于是存在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77" name="Object 2"/>
            <p:cNvGraphicFramePr/>
            <p:nvPr/>
          </p:nvGraphicFramePr>
          <p:xfrm>
            <a:off x="3857760" y="637560"/>
            <a:ext cx="1209600" cy="419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78" name="Object 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857760" y="637560"/>
                      <a:ext cx="1209600" cy="4197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79" name="Object 3"/>
            <p:cNvGraphicFramePr/>
            <p:nvPr/>
          </p:nvGraphicFramePr>
          <p:xfrm>
            <a:off x="7001280" y="627120"/>
            <a:ext cx="392040" cy="3970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80" name="Object 3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001280" y="627120"/>
                      <a:ext cx="392040" cy="39708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81" name="Object 16"/>
            <p:cNvGraphicFramePr/>
            <p:nvPr/>
          </p:nvGraphicFramePr>
          <p:xfrm>
            <a:off x="971280" y="659880"/>
            <a:ext cx="342720" cy="3254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82" name="Object 16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971280" y="659880"/>
                      <a:ext cx="34272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3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组合 23"/>
          <p:cNvGrpSpPr/>
          <p:nvPr/>
        </p:nvGrpSpPr>
        <p:grpSpPr>
          <a:xfrm>
            <a:off x="712080" y="428760"/>
            <a:ext cx="1814400" cy="520560"/>
            <a:chOff x="712080" y="428760"/>
            <a:chExt cx="1814400" cy="520560"/>
          </a:xfrm>
        </p:grpSpPr>
        <p:sp>
          <p:nvSpPr>
            <p:cNvPr id="384" name="Rectangle 15"/>
            <p:cNvSpPr/>
            <p:nvPr/>
          </p:nvSpPr>
          <p:spPr>
            <a:xfrm>
              <a:off x="712080" y="428760"/>
              <a:ext cx="18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任取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,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85" name="Object 16"/>
            <p:cNvGraphicFramePr/>
            <p:nvPr/>
          </p:nvGraphicFramePr>
          <p:xfrm>
            <a:off x="1428840" y="428760"/>
            <a:ext cx="995400" cy="39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86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28840" y="428760"/>
                      <a:ext cx="995400" cy="39708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387" name="组合 24"/>
          <p:cNvGrpSpPr/>
          <p:nvPr/>
        </p:nvGrpSpPr>
        <p:grpSpPr>
          <a:xfrm>
            <a:off x="2000160" y="750960"/>
            <a:ext cx="5912280" cy="520560"/>
            <a:chOff x="2000160" y="750960"/>
            <a:chExt cx="5912280" cy="520560"/>
          </a:xfrm>
        </p:grpSpPr>
        <p:sp>
          <p:nvSpPr>
            <p:cNvPr id="388" name="矩形 5"/>
            <p:cNvSpPr/>
            <p:nvPr/>
          </p:nvSpPr>
          <p:spPr>
            <a:xfrm>
              <a:off x="2043360" y="750960"/>
              <a:ext cx="582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                    ，则存在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;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89" name="Object 3"/>
            <p:cNvGraphicFramePr/>
            <p:nvPr/>
          </p:nvGraphicFramePr>
          <p:xfrm>
            <a:off x="2000160" y="807840"/>
            <a:ext cx="1960200" cy="3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90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00160" y="807840"/>
                      <a:ext cx="1960200" cy="39600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91" name="Object 4"/>
            <p:cNvGraphicFramePr/>
            <p:nvPr/>
          </p:nvGraphicFramePr>
          <p:xfrm>
            <a:off x="5500080" y="807840"/>
            <a:ext cx="2412360" cy="396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92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500080" y="807840"/>
                      <a:ext cx="2412360" cy="39600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393" name="组合 25"/>
          <p:cNvGrpSpPr/>
          <p:nvPr/>
        </p:nvGrpSpPr>
        <p:grpSpPr>
          <a:xfrm>
            <a:off x="1928520" y="1103400"/>
            <a:ext cx="6734520" cy="747720"/>
            <a:chOff x="1928520" y="1103400"/>
            <a:chExt cx="6734520" cy="747720"/>
          </a:xfrm>
        </p:grpSpPr>
        <p:sp>
          <p:nvSpPr>
            <p:cNvPr id="394" name="矩形 5"/>
            <p:cNvSpPr/>
            <p:nvPr/>
          </p:nvSpPr>
          <p:spPr>
            <a:xfrm>
              <a:off x="1991520" y="1179000"/>
              <a:ext cx="638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                       ，则存在   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;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95" name="Object 5"/>
            <p:cNvGraphicFramePr/>
            <p:nvPr/>
          </p:nvGraphicFramePr>
          <p:xfrm>
            <a:off x="1928520" y="1103400"/>
            <a:ext cx="2322360" cy="747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96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28520" y="1103400"/>
                      <a:ext cx="2322360" cy="7477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97" name="Object 6"/>
            <p:cNvGraphicFramePr/>
            <p:nvPr/>
          </p:nvGraphicFramePr>
          <p:xfrm>
            <a:off x="5857920" y="1103400"/>
            <a:ext cx="2805120" cy="747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98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857920" y="1103400"/>
                      <a:ext cx="2805120" cy="7477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99" name="Object 7"/>
          <p:cNvGraphicFramePr/>
          <p:nvPr/>
        </p:nvGraphicFramePr>
        <p:xfrm>
          <a:off x="3357720" y="1608120"/>
          <a:ext cx="2111040" cy="371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0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57720" y="1608120"/>
                    <a:ext cx="2111040" cy="371520"/>
                  </a:xfrm>
                  <a:prstGeom prst="rect">
                    <a:avLst/>
                  </a:prstGeom>
                  <a:ln cap="rnd" w="936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  <p:grpSp>
        <p:nvGrpSpPr>
          <p:cNvPr id="401" name="组合 26"/>
          <p:cNvGrpSpPr/>
          <p:nvPr/>
        </p:nvGrpSpPr>
        <p:grpSpPr>
          <a:xfrm>
            <a:off x="3766320" y="1768320"/>
            <a:ext cx="4459320" cy="520560"/>
            <a:chOff x="3766320" y="1768320"/>
            <a:chExt cx="4459320" cy="520560"/>
          </a:xfrm>
        </p:grpSpPr>
        <p:sp>
          <p:nvSpPr>
            <p:cNvPr id="402" name="Rectangle 15"/>
            <p:cNvSpPr/>
            <p:nvPr/>
          </p:nvSpPr>
          <p:spPr>
            <a:xfrm>
              <a:off x="3766320" y="1768320"/>
              <a:ext cx="15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如果这一过程可以无限进行，由此得到序列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03" name="Object 8"/>
            <p:cNvGraphicFramePr/>
            <p:nvPr/>
          </p:nvGraphicFramePr>
          <p:xfrm>
            <a:off x="7501680" y="1768320"/>
            <a:ext cx="723960" cy="4399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04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501680" y="1768320"/>
                      <a:ext cx="723960" cy="43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05" name="组合 27"/>
          <p:cNvGrpSpPr/>
          <p:nvPr/>
        </p:nvGrpSpPr>
        <p:grpSpPr>
          <a:xfrm>
            <a:off x="631080" y="2197080"/>
            <a:ext cx="3821760" cy="520560"/>
            <a:chOff x="631080" y="2197080"/>
            <a:chExt cx="3821760" cy="520560"/>
          </a:xfrm>
        </p:grpSpPr>
        <p:sp>
          <p:nvSpPr>
            <p:cNvPr id="406" name="Rectangle 15"/>
            <p:cNvSpPr/>
            <p:nvPr/>
          </p:nvSpPr>
          <p:spPr>
            <a:xfrm>
              <a:off x="631080" y="2197080"/>
              <a:ext cx="218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显然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07" name="Object 9"/>
            <p:cNvGraphicFramePr/>
            <p:nvPr/>
          </p:nvGraphicFramePr>
          <p:xfrm>
            <a:off x="1285920" y="2247480"/>
            <a:ext cx="3166920" cy="3960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08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85920" y="2247480"/>
                      <a:ext cx="3166920" cy="39600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409" name="组合 28"/>
          <p:cNvGrpSpPr/>
          <p:nvPr/>
        </p:nvGrpSpPr>
        <p:grpSpPr>
          <a:xfrm>
            <a:off x="642960" y="2625840"/>
            <a:ext cx="6040080" cy="521280"/>
            <a:chOff x="642960" y="2625840"/>
            <a:chExt cx="6040080" cy="521280"/>
          </a:xfrm>
        </p:grpSpPr>
        <p:graphicFrame>
          <p:nvGraphicFramePr>
            <p:cNvPr id="410" name="Object 10"/>
            <p:cNvGraphicFramePr/>
            <p:nvPr/>
          </p:nvGraphicFramePr>
          <p:xfrm>
            <a:off x="642960" y="2707560"/>
            <a:ext cx="723960" cy="4395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411" name="Object 1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42960" y="2707560"/>
                      <a:ext cx="723960" cy="4395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412" name="Rectangle 15"/>
            <p:cNvSpPr/>
            <p:nvPr/>
          </p:nvSpPr>
          <p:spPr>
            <a:xfrm>
              <a:off x="1893960" y="2625840"/>
              <a:ext cx="478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无收敛子序列，与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2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矛盾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13" name="组合 30"/>
          <p:cNvGrpSpPr/>
          <p:nvPr/>
        </p:nvGrpSpPr>
        <p:grpSpPr>
          <a:xfrm>
            <a:off x="734400" y="3622680"/>
            <a:ext cx="7099920" cy="749160"/>
            <a:chOff x="734400" y="3622680"/>
            <a:chExt cx="7099920" cy="749160"/>
          </a:xfrm>
        </p:grpSpPr>
        <p:sp>
          <p:nvSpPr>
            <p:cNvPr id="414" name="Rectangle 15"/>
            <p:cNvSpPr/>
            <p:nvPr/>
          </p:nvSpPr>
          <p:spPr>
            <a:xfrm>
              <a:off x="734400" y="3750120"/>
              <a:ext cx="311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设                           则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15" name="Object 12"/>
            <p:cNvGraphicFramePr/>
            <p:nvPr/>
          </p:nvGraphicFramePr>
          <p:xfrm>
            <a:off x="4214880" y="3622680"/>
            <a:ext cx="3619440" cy="7491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16" name="Object 12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4214880" y="3622680"/>
                      <a:ext cx="3619440" cy="7491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17" name="Object 13"/>
            <p:cNvGraphicFramePr/>
            <p:nvPr/>
          </p:nvGraphicFramePr>
          <p:xfrm>
            <a:off x="1071360" y="3809520"/>
            <a:ext cx="2232000" cy="4179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418" name="Object 13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1071360" y="3809520"/>
                      <a:ext cx="2232000" cy="4179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419" name="组合 34"/>
          <p:cNvGrpSpPr/>
          <p:nvPr/>
        </p:nvGrpSpPr>
        <p:grpSpPr>
          <a:xfrm>
            <a:off x="539640" y="4340160"/>
            <a:ext cx="6806880" cy="520560"/>
            <a:chOff x="539640" y="4340160"/>
            <a:chExt cx="6806880" cy="520560"/>
          </a:xfrm>
        </p:grpSpPr>
        <p:sp>
          <p:nvSpPr>
            <p:cNvPr id="420" name="Rectangle 15"/>
            <p:cNvSpPr/>
            <p:nvPr/>
          </p:nvSpPr>
          <p:spPr>
            <a:xfrm>
              <a:off x="1299960" y="4340160"/>
              <a:ext cx="591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被有限覆盖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            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任意的，故   紧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21" name="Object 14"/>
            <p:cNvGraphicFramePr/>
            <p:nvPr/>
          </p:nvGraphicFramePr>
          <p:xfrm>
            <a:off x="3071520" y="4363560"/>
            <a:ext cx="1839960" cy="43992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422" name="Object 14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3071520" y="4363560"/>
                      <a:ext cx="1839960" cy="4399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23" name="Object 34"/>
            <p:cNvGraphicFramePr/>
            <p:nvPr/>
          </p:nvGraphicFramePr>
          <p:xfrm>
            <a:off x="539640" y="4443840"/>
            <a:ext cx="398160" cy="32328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424" name="Object 34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539640" y="4443840"/>
                      <a:ext cx="398160" cy="32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5" name="Object 7"/>
            <p:cNvGraphicFramePr/>
            <p:nvPr/>
          </p:nvGraphicFramePr>
          <p:xfrm>
            <a:off x="6948360" y="4408200"/>
            <a:ext cx="398160" cy="3232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426" name="Object 7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948360" y="4408200"/>
                      <a:ext cx="398160" cy="32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27" name="组合 35"/>
          <p:cNvGrpSpPr/>
          <p:nvPr/>
        </p:nvGrpSpPr>
        <p:grpSpPr>
          <a:xfrm>
            <a:off x="878760" y="3046320"/>
            <a:ext cx="4861800" cy="749520"/>
            <a:chOff x="878760" y="3046320"/>
            <a:chExt cx="4861800" cy="749520"/>
          </a:xfrm>
        </p:grpSpPr>
        <p:sp>
          <p:nvSpPr>
            <p:cNvPr id="428" name="Rectangle 15"/>
            <p:cNvSpPr/>
            <p:nvPr/>
          </p:nvSpPr>
          <p:spPr>
            <a:xfrm>
              <a:off x="878760" y="3160440"/>
              <a:ext cx="195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于是对于某个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有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29" name="Object 11"/>
            <p:cNvGraphicFramePr/>
            <p:nvPr/>
          </p:nvGraphicFramePr>
          <p:xfrm>
            <a:off x="3357720" y="3046320"/>
            <a:ext cx="2382840" cy="74952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430" name="Object 11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3357720" y="3046320"/>
                      <a:ext cx="2382840" cy="7495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31" name="Object 35"/>
            <p:cNvGraphicFramePr/>
            <p:nvPr/>
          </p:nvGraphicFramePr>
          <p:xfrm>
            <a:off x="2571840" y="3293280"/>
            <a:ext cx="357120" cy="28656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432" name="Object 35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2571840" y="3293280"/>
                      <a:ext cx="357120" cy="2865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3"/>
          <p:cNvSpPr/>
          <p:nvPr/>
        </p:nvSpPr>
        <p:spPr>
          <a:xfrm>
            <a:off x="428760" y="588960"/>
            <a:ext cx="14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推论 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Rectangle 15"/>
          <p:cNvSpPr/>
          <p:nvPr/>
        </p:nvSpPr>
        <p:spPr>
          <a:xfrm>
            <a:off x="2403720" y="642960"/>
            <a:ext cx="39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每个紧集是有界闭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   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428760" y="1339920"/>
            <a:ext cx="14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 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6" name="Text Box 3"/>
          <p:cNvSpPr/>
          <p:nvPr/>
        </p:nvSpPr>
        <p:spPr>
          <a:xfrm>
            <a:off x="428760" y="3322800"/>
            <a:ext cx="14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37" name="组合 22"/>
          <p:cNvGrpSpPr/>
          <p:nvPr/>
        </p:nvGrpSpPr>
        <p:grpSpPr>
          <a:xfrm>
            <a:off x="3275280" y="3375000"/>
            <a:ext cx="3371760" cy="520560"/>
            <a:chOff x="3275280" y="3375000"/>
            <a:chExt cx="3371760" cy="520560"/>
          </a:xfrm>
        </p:grpSpPr>
        <p:sp>
          <p:nvSpPr>
            <p:cNvPr id="438" name="Rectangle 15"/>
            <p:cNvSpPr/>
            <p:nvPr/>
          </p:nvSpPr>
          <p:spPr>
            <a:xfrm>
              <a:off x="3275280" y="3375000"/>
              <a:ext cx="165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     紧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39" name="Object 7"/>
            <p:cNvGraphicFramePr/>
            <p:nvPr/>
          </p:nvGraphicFramePr>
          <p:xfrm>
            <a:off x="3929040" y="3481200"/>
            <a:ext cx="314280" cy="314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0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29040" y="3481200"/>
                      <a:ext cx="314280" cy="31464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41" name="Object 8"/>
            <p:cNvGraphicFramePr/>
            <p:nvPr/>
          </p:nvGraphicFramePr>
          <p:xfrm>
            <a:off x="4786560" y="3455640"/>
            <a:ext cx="1860480" cy="41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42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86560" y="3455640"/>
                      <a:ext cx="1860480" cy="4125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43" name="Object 10"/>
          <p:cNvGraphicFramePr/>
          <p:nvPr/>
        </p:nvGraphicFramePr>
        <p:xfrm>
          <a:off x="5857920" y="4011480"/>
          <a:ext cx="2252520" cy="41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4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57920" y="4011480"/>
                    <a:ext cx="2252520" cy="412920"/>
                  </a:xfrm>
                  <a:prstGeom prst="rect">
                    <a:avLst/>
                  </a:prstGeom>
                  <a:ln cap="rnd" w="936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  <p:grpSp>
        <p:nvGrpSpPr>
          <p:cNvPr id="445" name="组合 23"/>
          <p:cNvGrpSpPr/>
          <p:nvPr/>
        </p:nvGrpSpPr>
        <p:grpSpPr>
          <a:xfrm>
            <a:off x="1862640" y="3963960"/>
            <a:ext cx="3735000" cy="520560"/>
            <a:chOff x="1862640" y="3963960"/>
            <a:chExt cx="3735000" cy="520560"/>
          </a:xfrm>
        </p:grpSpPr>
        <p:graphicFrame>
          <p:nvGraphicFramePr>
            <p:cNvPr id="446" name="Object 9"/>
            <p:cNvGraphicFramePr/>
            <p:nvPr/>
          </p:nvGraphicFramePr>
          <p:xfrm>
            <a:off x="4786560" y="3963960"/>
            <a:ext cx="811080" cy="472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47" name="Object 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86560" y="3963960"/>
                      <a:ext cx="811080" cy="4723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448" name="矩形 21"/>
            <p:cNvSpPr/>
            <p:nvPr/>
          </p:nvSpPr>
          <p:spPr>
            <a:xfrm>
              <a:off x="1862640" y="3963960"/>
              <a:ext cx="256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由定理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1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，存在子序列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49" name="组合 26"/>
          <p:cNvGrpSpPr/>
          <p:nvPr/>
        </p:nvGrpSpPr>
        <p:grpSpPr>
          <a:xfrm>
            <a:off x="1331280" y="1928880"/>
            <a:ext cx="2471040" cy="520560"/>
            <a:chOff x="1331280" y="1928880"/>
            <a:chExt cx="2471040" cy="520560"/>
          </a:xfrm>
        </p:grpSpPr>
        <p:sp>
          <p:nvSpPr>
            <p:cNvPr id="450" name="Rectangle 15"/>
            <p:cNvSpPr/>
            <p:nvPr/>
          </p:nvSpPr>
          <p:spPr>
            <a:xfrm>
              <a:off x="1331280" y="1928880"/>
              <a:ext cx="247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1)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相对紧集；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51" name="Object 24"/>
            <p:cNvGraphicFramePr/>
            <p:nvPr/>
          </p:nvGraphicFramePr>
          <p:xfrm>
            <a:off x="1428480" y="1982520"/>
            <a:ext cx="398160" cy="324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52" name="Object 24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428480" y="1982520"/>
                      <a:ext cx="398160" cy="3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53" name="组合 27"/>
          <p:cNvGrpSpPr/>
          <p:nvPr/>
        </p:nvGrpSpPr>
        <p:grpSpPr>
          <a:xfrm>
            <a:off x="1239480" y="2517840"/>
            <a:ext cx="6539040" cy="947160"/>
            <a:chOff x="1239480" y="2517840"/>
            <a:chExt cx="6539040" cy="947160"/>
          </a:xfrm>
        </p:grpSpPr>
        <p:sp>
          <p:nvSpPr>
            <p:cNvPr id="454" name="Rectangle 15"/>
            <p:cNvSpPr/>
            <p:nvPr/>
          </p:nvSpPr>
          <p:spPr>
            <a:xfrm>
              <a:off x="1239480" y="2517840"/>
              <a:ext cx="5986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2)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中任一无穷序列      包含有子序列       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且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55" name="Object 3"/>
            <p:cNvGraphicFramePr/>
            <p:nvPr/>
          </p:nvGraphicFramePr>
          <p:xfrm>
            <a:off x="4214520" y="2610000"/>
            <a:ext cx="628560" cy="393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56" name="Object 3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214520" y="2610000"/>
                      <a:ext cx="628560" cy="3931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57" name="Object 4"/>
            <p:cNvGraphicFramePr/>
            <p:nvPr/>
          </p:nvGraphicFramePr>
          <p:xfrm>
            <a:off x="7072200" y="2531520"/>
            <a:ext cx="706320" cy="471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58" name="Object 4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072200" y="2531520"/>
                      <a:ext cx="706320" cy="4719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59" name="Object 5"/>
            <p:cNvGraphicFramePr/>
            <p:nvPr/>
          </p:nvGraphicFramePr>
          <p:xfrm>
            <a:off x="1857240" y="2964960"/>
            <a:ext cx="1785960" cy="3985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60" name="Object 5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857240" y="2964960"/>
                      <a:ext cx="1785960" cy="3985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61" name="Object 25"/>
            <p:cNvGraphicFramePr/>
            <p:nvPr/>
          </p:nvGraphicFramePr>
          <p:xfrm>
            <a:off x="1476000" y="2607120"/>
            <a:ext cx="398160" cy="3240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462" name="Object 25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476000" y="2607120"/>
                      <a:ext cx="398160" cy="32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63" name="组合 25"/>
          <p:cNvGrpSpPr/>
          <p:nvPr/>
        </p:nvGrpSpPr>
        <p:grpSpPr>
          <a:xfrm>
            <a:off x="2377800" y="1393920"/>
            <a:ext cx="5712120" cy="520560"/>
            <a:chOff x="2377800" y="1393920"/>
            <a:chExt cx="5712120" cy="520560"/>
          </a:xfrm>
        </p:grpSpPr>
        <p:sp>
          <p:nvSpPr>
            <p:cNvPr id="464" name="Rectangle 15"/>
            <p:cNvSpPr/>
            <p:nvPr/>
          </p:nvSpPr>
          <p:spPr>
            <a:xfrm>
              <a:off x="3193920" y="1393920"/>
              <a:ext cx="489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设    是度量空间，          则下列两条件等价：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65" name="Object 6"/>
            <p:cNvGraphicFramePr/>
            <p:nvPr/>
          </p:nvGraphicFramePr>
          <p:xfrm>
            <a:off x="4786560" y="1537560"/>
            <a:ext cx="1022400" cy="3142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66" name="Object 6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4786560" y="1537560"/>
                      <a:ext cx="1022400" cy="31428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67" name="Object 26"/>
            <p:cNvGraphicFramePr/>
            <p:nvPr/>
          </p:nvGraphicFramePr>
          <p:xfrm>
            <a:off x="2377800" y="1527840"/>
            <a:ext cx="465120" cy="3236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468" name="Object 26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377800" y="1527840"/>
                      <a:ext cx="465120" cy="32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69" name="Object 27"/>
          <p:cNvGraphicFramePr/>
          <p:nvPr/>
        </p:nvGraphicFramePr>
        <p:xfrm>
          <a:off x="1928880" y="3481560"/>
          <a:ext cx="1284120" cy="314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70" name="Object 2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928880" y="3481560"/>
                    <a:ext cx="1284120" cy="314280"/>
                  </a:xfrm>
                  <a:prstGeom prst="rect">
                    <a:avLst/>
                  </a:prstGeom>
                  <a:ln cap="rnd" w="936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组合 14"/>
          <p:cNvGrpSpPr/>
          <p:nvPr/>
        </p:nvGrpSpPr>
        <p:grpSpPr>
          <a:xfrm>
            <a:off x="3035160" y="555480"/>
            <a:ext cx="3838320" cy="520560"/>
            <a:chOff x="3035160" y="555480"/>
            <a:chExt cx="3838320" cy="520560"/>
          </a:xfrm>
        </p:grpSpPr>
        <p:sp>
          <p:nvSpPr>
            <p:cNvPr id="472" name="Rectangle 15"/>
            <p:cNvSpPr/>
            <p:nvPr/>
          </p:nvSpPr>
          <p:spPr>
            <a:xfrm>
              <a:off x="3051720" y="555480"/>
              <a:ext cx="382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设      是    中的无穷序列，定义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73" name="Object 3"/>
            <p:cNvGraphicFramePr/>
            <p:nvPr/>
          </p:nvGraphicFramePr>
          <p:xfrm>
            <a:off x="3035160" y="594360"/>
            <a:ext cx="628560" cy="393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4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35160" y="594360"/>
                      <a:ext cx="628560" cy="39384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75" name="Object 10"/>
            <p:cNvGraphicFramePr/>
            <p:nvPr/>
          </p:nvGraphicFramePr>
          <p:xfrm>
            <a:off x="4035240" y="601200"/>
            <a:ext cx="314280" cy="315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76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035240" y="601200"/>
                      <a:ext cx="314280" cy="31500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77" name="Object 4"/>
          <p:cNvGraphicFramePr/>
          <p:nvPr/>
        </p:nvGraphicFramePr>
        <p:xfrm>
          <a:off x="1870200" y="1125360"/>
          <a:ext cx="6548400" cy="102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70200" y="1125360"/>
                    <a:ext cx="6548400" cy="1020960"/>
                  </a:xfrm>
                  <a:prstGeom prst="rect">
                    <a:avLst/>
                  </a:prstGeom>
                  <a:ln cap="rnd" w="936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  <p:grpSp>
        <p:nvGrpSpPr>
          <p:cNvPr id="479" name="组合 15"/>
          <p:cNvGrpSpPr/>
          <p:nvPr/>
        </p:nvGrpSpPr>
        <p:grpSpPr>
          <a:xfrm>
            <a:off x="1646280" y="2143080"/>
            <a:ext cx="1781280" cy="520560"/>
            <a:chOff x="1646280" y="2143080"/>
            <a:chExt cx="1781280" cy="520560"/>
          </a:xfrm>
        </p:grpSpPr>
        <p:sp>
          <p:nvSpPr>
            <p:cNvPr id="480" name="Rectangle 15"/>
            <p:cNvSpPr/>
            <p:nvPr/>
          </p:nvSpPr>
          <p:spPr>
            <a:xfrm>
              <a:off x="1646280" y="21430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则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81" name="Object 5"/>
            <p:cNvGraphicFramePr/>
            <p:nvPr/>
          </p:nvGraphicFramePr>
          <p:xfrm>
            <a:off x="2143080" y="2178720"/>
            <a:ext cx="1284480" cy="393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82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143080" y="2178720"/>
                      <a:ext cx="1284480" cy="39348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483" name="Rectangle 15"/>
          <p:cNvSpPr/>
          <p:nvPr/>
        </p:nvSpPr>
        <p:spPr>
          <a:xfrm>
            <a:off x="1499040" y="2625840"/>
            <a:ext cx="20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，存在子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484" name="Object 6"/>
          <p:cNvGraphicFramePr/>
          <p:nvPr/>
        </p:nvGraphicFramePr>
        <p:xfrm>
          <a:off x="4189320" y="2604960"/>
          <a:ext cx="2570400" cy="471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85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89320" y="2604960"/>
                    <a:ext cx="2570400" cy="471600"/>
                  </a:xfrm>
                  <a:prstGeom prst="rect">
                    <a:avLst/>
                  </a:prstGeom>
                  <a:ln cap="rnd" w="936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  <p:grpSp>
        <p:nvGrpSpPr>
          <p:cNvPr id="486" name="组合 16"/>
          <p:cNvGrpSpPr/>
          <p:nvPr/>
        </p:nvGrpSpPr>
        <p:grpSpPr>
          <a:xfrm>
            <a:off x="1975320" y="3268800"/>
            <a:ext cx="4770360" cy="520560"/>
            <a:chOff x="1975320" y="3268800"/>
            <a:chExt cx="4770360" cy="520560"/>
          </a:xfrm>
        </p:grpSpPr>
        <p:sp>
          <p:nvSpPr>
            <p:cNvPr id="487" name="Rectangle 15"/>
            <p:cNvSpPr/>
            <p:nvPr/>
          </p:nvSpPr>
          <p:spPr>
            <a:xfrm>
              <a:off x="1975320" y="3268800"/>
              <a:ext cx="442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显然          ，并且不难验证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88" name="Object 7"/>
            <p:cNvGraphicFramePr/>
            <p:nvPr/>
          </p:nvGraphicFramePr>
          <p:xfrm>
            <a:off x="2143080" y="3350160"/>
            <a:ext cx="787320" cy="372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89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143080" y="3350160"/>
                      <a:ext cx="787320" cy="3729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90" name="Object 8"/>
            <p:cNvGraphicFramePr/>
            <p:nvPr/>
          </p:nvGraphicFramePr>
          <p:xfrm>
            <a:off x="5644080" y="3351600"/>
            <a:ext cx="1101600" cy="371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91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644080" y="3351600"/>
                      <a:ext cx="1101600" cy="37188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492" name="组合 19"/>
          <p:cNvGrpSpPr/>
          <p:nvPr/>
        </p:nvGrpSpPr>
        <p:grpSpPr>
          <a:xfrm>
            <a:off x="1991880" y="4017960"/>
            <a:ext cx="3917160" cy="520560"/>
            <a:chOff x="1991880" y="4017960"/>
            <a:chExt cx="3917160" cy="520560"/>
          </a:xfrm>
        </p:grpSpPr>
        <p:sp>
          <p:nvSpPr>
            <p:cNvPr id="493" name="Rectangle 15"/>
            <p:cNvSpPr/>
            <p:nvPr/>
          </p:nvSpPr>
          <p:spPr>
            <a:xfrm>
              <a:off x="1991880" y="4017960"/>
              <a:ext cx="391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由定理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1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知     紧，从而    相对紧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94" name="Object 9"/>
            <p:cNvGraphicFramePr/>
            <p:nvPr/>
          </p:nvGraphicFramePr>
          <p:xfrm>
            <a:off x="3071880" y="4128120"/>
            <a:ext cx="315720" cy="3160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95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071880" y="4128120"/>
                      <a:ext cx="315720" cy="31608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96" name="Object 20"/>
            <p:cNvGraphicFramePr/>
            <p:nvPr/>
          </p:nvGraphicFramePr>
          <p:xfrm>
            <a:off x="4932720" y="4119840"/>
            <a:ext cx="398160" cy="324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497" name="Object 2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932720" y="4119840"/>
                      <a:ext cx="398160" cy="3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98" name="Object 2"/>
          <p:cNvGraphicFramePr/>
          <p:nvPr/>
        </p:nvGraphicFramePr>
        <p:xfrm>
          <a:off x="1143000" y="660240"/>
          <a:ext cx="1284120" cy="314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99" name="Object 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143000" y="660240"/>
                    <a:ext cx="1284120" cy="314640"/>
                  </a:xfrm>
                  <a:prstGeom prst="rect">
                    <a:avLst/>
                  </a:prstGeom>
                  <a:ln cap="rnd" w="936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9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3"/>
          <p:cNvSpPr/>
          <p:nvPr/>
        </p:nvSpPr>
        <p:spPr>
          <a:xfrm>
            <a:off x="395280" y="57312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 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3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1" name="Text Box 3"/>
          <p:cNvSpPr/>
          <p:nvPr/>
        </p:nvSpPr>
        <p:spPr>
          <a:xfrm>
            <a:off x="428760" y="2357280"/>
            <a:ext cx="14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502" name="组合 32"/>
          <p:cNvGrpSpPr/>
          <p:nvPr/>
        </p:nvGrpSpPr>
        <p:grpSpPr>
          <a:xfrm>
            <a:off x="2339640" y="588960"/>
            <a:ext cx="5653800" cy="520560"/>
            <a:chOff x="2339640" y="588960"/>
            <a:chExt cx="5653800" cy="520560"/>
          </a:xfrm>
        </p:grpSpPr>
        <p:sp>
          <p:nvSpPr>
            <p:cNvPr id="503" name="Rectangle 15"/>
            <p:cNvSpPr/>
            <p:nvPr/>
          </p:nvSpPr>
          <p:spPr>
            <a:xfrm>
              <a:off x="3190320" y="588960"/>
              <a:ext cx="480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设   是度量空间，          则下列两条件等价：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504" name="Object 10"/>
            <p:cNvGraphicFramePr/>
            <p:nvPr/>
          </p:nvGraphicFramePr>
          <p:xfrm>
            <a:off x="4779720" y="730800"/>
            <a:ext cx="944280" cy="256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5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79720" y="730800"/>
                      <a:ext cx="944280" cy="25668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06" name="Object 28"/>
            <p:cNvGraphicFramePr/>
            <p:nvPr/>
          </p:nvGraphicFramePr>
          <p:xfrm>
            <a:off x="2339640" y="627120"/>
            <a:ext cx="465120" cy="324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7" name="Object 2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39640" y="627120"/>
                      <a:ext cx="465120" cy="32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08" name="组合 33"/>
          <p:cNvGrpSpPr/>
          <p:nvPr/>
        </p:nvGrpSpPr>
        <p:grpSpPr>
          <a:xfrm>
            <a:off x="1904040" y="1017720"/>
            <a:ext cx="2684520" cy="520560"/>
            <a:chOff x="1904040" y="1017720"/>
            <a:chExt cx="2684520" cy="520560"/>
          </a:xfrm>
        </p:grpSpPr>
        <p:sp>
          <p:nvSpPr>
            <p:cNvPr id="509" name="Rectangle 15"/>
            <p:cNvSpPr/>
            <p:nvPr/>
          </p:nvSpPr>
          <p:spPr>
            <a:xfrm>
              <a:off x="1904040" y="1017720"/>
              <a:ext cx="268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1)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完全有界集；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510" name="Object 29"/>
            <p:cNvGraphicFramePr/>
            <p:nvPr/>
          </p:nvGraphicFramePr>
          <p:xfrm>
            <a:off x="1908000" y="1095480"/>
            <a:ext cx="398160" cy="324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11" name="Object 2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08000" y="1095480"/>
                      <a:ext cx="398160" cy="3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12" name="组合 34"/>
          <p:cNvGrpSpPr/>
          <p:nvPr/>
        </p:nvGrpSpPr>
        <p:grpSpPr>
          <a:xfrm>
            <a:off x="999720" y="1500120"/>
            <a:ext cx="7280280" cy="947160"/>
            <a:chOff x="999720" y="1500120"/>
            <a:chExt cx="7280280" cy="947160"/>
          </a:xfrm>
        </p:grpSpPr>
        <p:sp>
          <p:nvSpPr>
            <p:cNvPr id="513" name="Rectangle 15"/>
            <p:cNvSpPr/>
            <p:nvPr/>
          </p:nvSpPr>
          <p:spPr>
            <a:xfrm>
              <a:off x="1885320" y="1500120"/>
              <a:ext cx="5981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2)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中任一无穷序列       包含有子序列       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Cauchy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序列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514" name="Object 11"/>
            <p:cNvGraphicFramePr/>
            <p:nvPr/>
          </p:nvGraphicFramePr>
          <p:xfrm>
            <a:off x="4857480" y="1529280"/>
            <a:ext cx="630000" cy="393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15" name="Object 11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57480" y="1529280"/>
                      <a:ext cx="630000" cy="39384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16" name="Object 12"/>
            <p:cNvGraphicFramePr/>
            <p:nvPr/>
          </p:nvGraphicFramePr>
          <p:xfrm>
            <a:off x="7572240" y="1522800"/>
            <a:ext cx="707760" cy="472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17" name="Object 1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572240" y="1522800"/>
                      <a:ext cx="707760" cy="47268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18" name="Object 13"/>
            <p:cNvGraphicFramePr/>
            <p:nvPr/>
          </p:nvGraphicFramePr>
          <p:xfrm>
            <a:off x="999720" y="1954800"/>
            <a:ext cx="707760" cy="472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19" name="Object 13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999720" y="1954800"/>
                      <a:ext cx="707760" cy="47268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20" name="Object 30"/>
            <p:cNvGraphicFramePr/>
            <p:nvPr/>
          </p:nvGraphicFramePr>
          <p:xfrm>
            <a:off x="1979280" y="1599480"/>
            <a:ext cx="398160" cy="3236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21" name="Object 3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979280" y="1599480"/>
                      <a:ext cx="398160" cy="32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22" name="组合 36"/>
          <p:cNvGrpSpPr/>
          <p:nvPr/>
        </p:nvGrpSpPr>
        <p:grpSpPr>
          <a:xfrm>
            <a:off x="1571400" y="2755800"/>
            <a:ext cx="5711400" cy="679680"/>
            <a:chOff x="1571400" y="2755800"/>
            <a:chExt cx="5711400" cy="679680"/>
          </a:xfrm>
        </p:grpSpPr>
        <p:sp>
          <p:nvSpPr>
            <p:cNvPr id="523" name="Rectangle 15"/>
            <p:cNvSpPr/>
            <p:nvPr/>
          </p:nvSpPr>
          <p:spPr>
            <a:xfrm>
              <a:off x="2097360" y="2893320"/>
              <a:ext cx="518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取          ，则    有有限     网，     是无限的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524" name="Object 14"/>
            <p:cNvGraphicFramePr/>
            <p:nvPr/>
          </p:nvGraphicFramePr>
          <p:xfrm>
            <a:off x="1571400" y="2827440"/>
            <a:ext cx="785520" cy="6080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525" name="Object 14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571400" y="2827440"/>
                      <a:ext cx="785520" cy="60804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26" name="Object 15"/>
            <p:cNvGraphicFramePr/>
            <p:nvPr/>
          </p:nvGraphicFramePr>
          <p:xfrm>
            <a:off x="4761360" y="2755800"/>
            <a:ext cx="314280" cy="608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527" name="Object 15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761360" y="2755800"/>
                      <a:ext cx="314280" cy="60804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28" name="Object 16"/>
            <p:cNvGraphicFramePr/>
            <p:nvPr/>
          </p:nvGraphicFramePr>
          <p:xfrm>
            <a:off x="5671080" y="2971080"/>
            <a:ext cx="628560" cy="3924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529" name="Object 16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671080" y="2971080"/>
                      <a:ext cx="628560" cy="39240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30" name="Object 32"/>
            <p:cNvGraphicFramePr/>
            <p:nvPr/>
          </p:nvGraphicFramePr>
          <p:xfrm>
            <a:off x="3203280" y="2968200"/>
            <a:ext cx="398160" cy="3236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531" name="Object 32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3203280" y="2968200"/>
                      <a:ext cx="398160" cy="32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32" name="组合 35"/>
          <p:cNvGrpSpPr/>
          <p:nvPr/>
        </p:nvGrpSpPr>
        <p:grpSpPr>
          <a:xfrm>
            <a:off x="3207600" y="2413080"/>
            <a:ext cx="4193280" cy="520560"/>
            <a:chOff x="3207600" y="2413080"/>
            <a:chExt cx="4193280" cy="520560"/>
          </a:xfrm>
        </p:grpSpPr>
        <p:sp>
          <p:nvSpPr>
            <p:cNvPr id="533" name="Rectangle 15"/>
            <p:cNvSpPr/>
            <p:nvPr/>
          </p:nvSpPr>
          <p:spPr>
            <a:xfrm>
              <a:off x="3207600" y="2413080"/>
              <a:ext cx="262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   是完全有界的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534" name="Object 6"/>
            <p:cNvGraphicFramePr/>
            <p:nvPr/>
          </p:nvGraphicFramePr>
          <p:xfrm>
            <a:off x="6143760" y="2467440"/>
            <a:ext cx="1257120" cy="39240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535" name="Object 6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143760" y="2467440"/>
                      <a:ext cx="1257120" cy="39240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36" name="Object 7"/>
            <p:cNvGraphicFramePr/>
            <p:nvPr/>
          </p:nvGraphicFramePr>
          <p:xfrm>
            <a:off x="3453120" y="2464560"/>
            <a:ext cx="398160" cy="32328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537" name="Object 7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3453120" y="2464560"/>
                      <a:ext cx="398160" cy="32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38" name="组合 39"/>
          <p:cNvGrpSpPr/>
          <p:nvPr/>
        </p:nvGrpSpPr>
        <p:grpSpPr>
          <a:xfrm>
            <a:off x="1930680" y="3268800"/>
            <a:ext cx="6269400" cy="1534320"/>
            <a:chOff x="1930680" y="3268800"/>
            <a:chExt cx="6269400" cy="1534320"/>
          </a:xfrm>
        </p:grpSpPr>
        <p:sp>
          <p:nvSpPr>
            <p:cNvPr id="539" name="Rectangle 15"/>
            <p:cNvSpPr/>
            <p:nvPr/>
          </p:nvSpPr>
          <p:spPr>
            <a:xfrm>
              <a:off x="1930680" y="3429360"/>
              <a:ext cx="60663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故至少有一个半径为     的球包含无穷多个     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记为       ，显然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作为     的子集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同样是完全有界的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540" name="Object 17"/>
            <p:cNvGraphicFramePr/>
            <p:nvPr/>
          </p:nvGraphicFramePr>
          <p:xfrm>
            <a:off x="4572360" y="3268800"/>
            <a:ext cx="314280" cy="6076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541" name="Object 17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4572360" y="3268800"/>
                      <a:ext cx="314280" cy="60768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42" name="Object 18"/>
            <p:cNvGraphicFramePr/>
            <p:nvPr/>
          </p:nvGraphicFramePr>
          <p:xfrm>
            <a:off x="7858800" y="3429360"/>
            <a:ext cx="341280" cy="3531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543" name="Object 18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7858800" y="3429360"/>
                      <a:ext cx="341280" cy="3531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44" name="Object 19"/>
            <p:cNvGraphicFramePr/>
            <p:nvPr/>
          </p:nvGraphicFramePr>
          <p:xfrm>
            <a:off x="2000160" y="3907080"/>
            <a:ext cx="654120" cy="39240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545" name="Object 19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2000160" y="3907080"/>
                      <a:ext cx="654120" cy="39240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46" name="Object 20"/>
            <p:cNvGraphicFramePr/>
            <p:nvPr/>
          </p:nvGraphicFramePr>
          <p:xfrm>
            <a:off x="3714840" y="3927240"/>
            <a:ext cx="1703520" cy="37224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547" name="Object 20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3714840" y="3927240"/>
                      <a:ext cx="1703520" cy="37224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48" name="Object 31"/>
            <p:cNvGraphicFramePr/>
            <p:nvPr/>
          </p:nvGraphicFramePr>
          <p:xfrm>
            <a:off x="7001640" y="3976200"/>
            <a:ext cx="398160" cy="3232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549" name="Object 31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7001640" y="3976200"/>
                      <a:ext cx="398160" cy="32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0" name="Object 33"/>
            <p:cNvGraphicFramePr/>
            <p:nvPr/>
          </p:nvGraphicFramePr>
          <p:xfrm>
            <a:off x="5572440" y="3907080"/>
            <a:ext cx="654120" cy="392400"/>
          </p:xfrm>
          <a:graphic>
            <a:graphicData uri="http://schemas.openxmlformats.org/presentationml/2006/ole">
              <p:oleObj r:id="rId37" spid="">
                <p:embed/>
                <p:pic>
                  <p:nvPicPr>
                    <p:cNvPr id="551" name="Object 33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5572440" y="3907080"/>
                      <a:ext cx="654120" cy="39240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52" name="Object 8"/>
          <p:cNvGraphicFramePr/>
          <p:nvPr/>
        </p:nvGraphicFramePr>
        <p:xfrm>
          <a:off x="1643040" y="2544840"/>
          <a:ext cx="1284480" cy="3142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553" name="Object 8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1643040" y="2544840"/>
                    <a:ext cx="1284480" cy="314280"/>
                  </a:xfrm>
                  <a:prstGeom prst="rect">
                    <a:avLst/>
                  </a:prstGeom>
                  <a:ln cap="rnd" w="936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组合 16"/>
          <p:cNvGrpSpPr/>
          <p:nvPr/>
        </p:nvGrpSpPr>
        <p:grpSpPr>
          <a:xfrm>
            <a:off x="1142640" y="449280"/>
            <a:ext cx="8001360" cy="1114560"/>
            <a:chOff x="1142640" y="449280"/>
            <a:chExt cx="8001360" cy="1114560"/>
          </a:xfrm>
        </p:grpSpPr>
        <p:sp>
          <p:nvSpPr>
            <p:cNvPr id="555" name="Rectangle 15"/>
            <p:cNvSpPr/>
            <p:nvPr/>
          </p:nvSpPr>
          <p:spPr>
            <a:xfrm>
              <a:off x="2092680" y="609840"/>
              <a:ext cx="5212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取          ，       有有限的     网，其中之一包含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中无穷多个元，记为          ，显然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556" name="Object 2"/>
            <p:cNvGraphicFramePr/>
            <p:nvPr/>
          </p:nvGraphicFramePr>
          <p:xfrm>
            <a:off x="1500120" y="523440"/>
            <a:ext cx="915840" cy="608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7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00120" y="523440"/>
                      <a:ext cx="915840" cy="60840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58" name="Object 3"/>
            <p:cNvGraphicFramePr/>
            <p:nvPr/>
          </p:nvGraphicFramePr>
          <p:xfrm>
            <a:off x="2857320" y="667080"/>
            <a:ext cx="653760" cy="392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9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57320" y="667080"/>
                      <a:ext cx="653760" cy="3927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60" name="Object 4"/>
            <p:cNvGraphicFramePr/>
            <p:nvPr/>
          </p:nvGraphicFramePr>
          <p:xfrm>
            <a:off x="4929120" y="449280"/>
            <a:ext cx="444240" cy="608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61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929120" y="449280"/>
                      <a:ext cx="444240" cy="60840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62" name="Object 5"/>
            <p:cNvGraphicFramePr/>
            <p:nvPr/>
          </p:nvGraphicFramePr>
          <p:xfrm>
            <a:off x="1142640" y="1171080"/>
            <a:ext cx="653760" cy="392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63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42640" y="1171080"/>
                      <a:ext cx="653760" cy="39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4" name="Object 6"/>
            <p:cNvGraphicFramePr/>
            <p:nvPr/>
          </p:nvGraphicFramePr>
          <p:xfrm>
            <a:off x="5202360" y="1099080"/>
            <a:ext cx="680760" cy="392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65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202360" y="1099080"/>
                      <a:ext cx="680760" cy="39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6" name="Object 7"/>
            <p:cNvGraphicFramePr/>
            <p:nvPr/>
          </p:nvGraphicFramePr>
          <p:xfrm>
            <a:off x="7153200" y="955440"/>
            <a:ext cx="1990800" cy="6084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67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153200" y="955440"/>
                      <a:ext cx="1990800" cy="60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68" name="Object 8"/>
          <p:cNvGraphicFramePr/>
          <p:nvPr/>
        </p:nvGraphicFramePr>
        <p:xfrm>
          <a:off x="3429000" y="1446120"/>
          <a:ext cx="2111400" cy="373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69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29000" y="1446120"/>
                    <a:ext cx="2111400" cy="373320"/>
                  </a:xfrm>
                  <a:prstGeom prst="rect">
                    <a:avLst/>
                  </a:prstGeom>
                  <a:ln cap="rnd" w="936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  <p:grpSp>
        <p:nvGrpSpPr>
          <p:cNvPr id="570" name="组合 17"/>
          <p:cNvGrpSpPr/>
          <p:nvPr/>
        </p:nvGrpSpPr>
        <p:grpSpPr>
          <a:xfrm>
            <a:off x="1500120" y="1836720"/>
            <a:ext cx="6430680" cy="1800360"/>
            <a:chOff x="1500120" y="1836720"/>
            <a:chExt cx="6430680" cy="1800360"/>
          </a:xfrm>
        </p:grpSpPr>
        <p:sp>
          <p:nvSpPr>
            <p:cNvPr id="571" name="Rectangle 15"/>
            <p:cNvSpPr/>
            <p:nvPr/>
          </p:nvSpPr>
          <p:spPr>
            <a:xfrm>
              <a:off x="2170800" y="1836720"/>
              <a:ext cx="57600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如此下去，得到可数多个序列，每个序列是前面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一个的子序列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利用对角线方法，选取          ，它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      的子序列，由我们的取法知，       是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Cauchy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序列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572" name="Object 9"/>
            <p:cNvGraphicFramePr/>
            <p:nvPr/>
          </p:nvGraphicFramePr>
          <p:xfrm>
            <a:off x="7144560" y="2323080"/>
            <a:ext cx="706320" cy="3924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573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144560" y="2323080"/>
                      <a:ext cx="706320" cy="39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4" name="Object 10"/>
            <p:cNvGraphicFramePr/>
            <p:nvPr/>
          </p:nvGraphicFramePr>
          <p:xfrm>
            <a:off x="1500120" y="2683080"/>
            <a:ext cx="628560" cy="3924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575" name="Object 1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500120" y="2683080"/>
                      <a:ext cx="628560" cy="39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6" name="Object 11"/>
            <p:cNvGraphicFramePr/>
            <p:nvPr/>
          </p:nvGraphicFramePr>
          <p:xfrm>
            <a:off x="6572880" y="2754720"/>
            <a:ext cx="706320" cy="3924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577" name="Object 11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572880" y="2754720"/>
                      <a:ext cx="706320" cy="39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78" name="组合 22"/>
          <p:cNvGrpSpPr/>
          <p:nvPr/>
        </p:nvGrpSpPr>
        <p:grpSpPr>
          <a:xfrm>
            <a:off x="2226960" y="3633840"/>
            <a:ext cx="5799240" cy="947160"/>
            <a:chOff x="2226960" y="3633840"/>
            <a:chExt cx="5799240" cy="947160"/>
          </a:xfrm>
        </p:grpSpPr>
        <p:sp>
          <p:nvSpPr>
            <p:cNvPr id="579" name="Rectangle 15"/>
            <p:cNvSpPr/>
            <p:nvPr/>
          </p:nvSpPr>
          <p:spPr>
            <a:xfrm>
              <a:off x="2644920" y="3633840"/>
              <a:ext cx="5140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   不是完全有界的，则存在         ，   不具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有有限     网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580" name="Object 12"/>
            <p:cNvGraphicFramePr/>
            <p:nvPr/>
          </p:nvGraphicFramePr>
          <p:xfrm>
            <a:off x="6510240" y="3731400"/>
            <a:ext cx="838080" cy="3524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581" name="Object 12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510240" y="3731400"/>
                      <a:ext cx="83808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2" name="Object 13"/>
            <p:cNvGraphicFramePr/>
            <p:nvPr/>
          </p:nvGraphicFramePr>
          <p:xfrm>
            <a:off x="2820960" y="4091400"/>
            <a:ext cx="341280" cy="3524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583" name="Object 13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820960" y="4091400"/>
                      <a:ext cx="34128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4" name="Object 6"/>
            <p:cNvGraphicFramePr/>
            <p:nvPr/>
          </p:nvGraphicFramePr>
          <p:xfrm>
            <a:off x="2226960" y="3759840"/>
            <a:ext cx="398160" cy="3236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585" name="Object 6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2226960" y="3759840"/>
                      <a:ext cx="398160" cy="32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6" name="Object 23"/>
            <p:cNvGraphicFramePr/>
            <p:nvPr/>
          </p:nvGraphicFramePr>
          <p:xfrm>
            <a:off x="7628040" y="3687840"/>
            <a:ext cx="398160" cy="3236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587" name="Object 23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7628040" y="3687840"/>
                      <a:ext cx="398160" cy="32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88" name="Object 22"/>
          <p:cNvGraphicFramePr/>
          <p:nvPr/>
        </p:nvGraphicFramePr>
        <p:xfrm>
          <a:off x="358920" y="3726000"/>
          <a:ext cx="1284120" cy="3142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589" name="Object 22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58920" y="3726000"/>
                    <a:ext cx="1284120" cy="314280"/>
                  </a:xfrm>
                  <a:prstGeom prst="rect">
                    <a:avLst/>
                  </a:prstGeom>
                  <a:ln cap="rnd" w="936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组合 15"/>
          <p:cNvGrpSpPr/>
          <p:nvPr/>
        </p:nvGrpSpPr>
        <p:grpSpPr>
          <a:xfrm>
            <a:off x="1108800" y="428760"/>
            <a:ext cx="7029360" cy="520560"/>
            <a:chOff x="1108800" y="428760"/>
            <a:chExt cx="7029360" cy="520560"/>
          </a:xfrm>
        </p:grpSpPr>
        <p:sp>
          <p:nvSpPr>
            <p:cNvPr id="591" name="Rectangle 15"/>
            <p:cNvSpPr/>
            <p:nvPr/>
          </p:nvSpPr>
          <p:spPr>
            <a:xfrm>
              <a:off x="1108800" y="428760"/>
              <a:ext cx="702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任取            ，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,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故有         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；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592" name="Object 4"/>
            <p:cNvGraphicFramePr/>
            <p:nvPr/>
          </p:nvGraphicFramePr>
          <p:xfrm>
            <a:off x="1428840" y="519120"/>
            <a:ext cx="995400" cy="39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28840" y="519120"/>
                      <a:ext cx="995400" cy="39708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94" name="Object 3"/>
            <p:cNvGraphicFramePr/>
            <p:nvPr/>
          </p:nvGraphicFramePr>
          <p:xfrm>
            <a:off x="2756160" y="519120"/>
            <a:ext cx="2021040" cy="397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5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56160" y="519120"/>
                      <a:ext cx="2021040" cy="39708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96" name="Object 10"/>
            <p:cNvGraphicFramePr/>
            <p:nvPr/>
          </p:nvGraphicFramePr>
          <p:xfrm>
            <a:off x="5599800" y="519120"/>
            <a:ext cx="2503440" cy="397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97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599800" y="519120"/>
                      <a:ext cx="2503440" cy="3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98" name="组合 16"/>
          <p:cNvGrpSpPr/>
          <p:nvPr/>
        </p:nvGrpSpPr>
        <p:grpSpPr>
          <a:xfrm>
            <a:off x="1064520" y="1103400"/>
            <a:ext cx="7000560" cy="747720"/>
            <a:chOff x="1064520" y="1103400"/>
            <a:chExt cx="7000560" cy="747720"/>
          </a:xfrm>
        </p:grpSpPr>
        <p:sp>
          <p:nvSpPr>
            <p:cNvPr id="599" name="Rectangle 15"/>
            <p:cNvSpPr/>
            <p:nvPr/>
          </p:nvSpPr>
          <p:spPr>
            <a:xfrm>
              <a:off x="1064520" y="1179000"/>
              <a:ext cx="700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又  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,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从而有             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；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600" name="Object 5"/>
            <p:cNvGraphicFramePr/>
            <p:nvPr/>
          </p:nvGraphicFramePr>
          <p:xfrm>
            <a:off x="1326960" y="1103400"/>
            <a:ext cx="2382840" cy="747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01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326960" y="1103400"/>
                      <a:ext cx="2382840" cy="74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2" name="Object 6"/>
            <p:cNvGraphicFramePr/>
            <p:nvPr/>
          </p:nvGraphicFramePr>
          <p:xfrm>
            <a:off x="5041800" y="1103400"/>
            <a:ext cx="2865240" cy="747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03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41800" y="1103400"/>
                      <a:ext cx="2865240" cy="74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604" name="Object 7"/>
          <p:cNvGraphicFramePr/>
          <p:nvPr/>
        </p:nvGraphicFramePr>
        <p:xfrm>
          <a:off x="3214800" y="1768320"/>
          <a:ext cx="2111400" cy="373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5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14800" y="1768320"/>
                    <a:ext cx="2111400" cy="373320"/>
                  </a:xfrm>
                  <a:prstGeom prst="rect">
                    <a:avLst/>
                  </a:prstGeom>
                  <a:ln cap="rnd" w="936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  <p:grpSp>
        <p:nvGrpSpPr>
          <p:cNvPr id="606" name="组合 17"/>
          <p:cNvGrpSpPr/>
          <p:nvPr/>
        </p:nvGrpSpPr>
        <p:grpSpPr>
          <a:xfrm>
            <a:off x="1819800" y="2197080"/>
            <a:ext cx="6140520" cy="520560"/>
            <a:chOff x="1819800" y="2197080"/>
            <a:chExt cx="6140520" cy="520560"/>
          </a:xfrm>
        </p:grpSpPr>
        <p:sp>
          <p:nvSpPr>
            <p:cNvPr id="607" name="Rectangle 15"/>
            <p:cNvSpPr/>
            <p:nvPr/>
          </p:nvSpPr>
          <p:spPr>
            <a:xfrm>
              <a:off x="1819800" y="2197080"/>
              <a:ext cx="526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这一过程可无限进行下去，由此得到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608" name="Object 8"/>
            <p:cNvGraphicFramePr/>
            <p:nvPr/>
          </p:nvGraphicFramePr>
          <p:xfrm>
            <a:off x="6572880" y="2275200"/>
            <a:ext cx="1387440" cy="4399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09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572880" y="2275200"/>
                      <a:ext cx="1387440" cy="4399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610" name="组合 18"/>
          <p:cNvGrpSpPr/>
          <p:nvPr/>
        </p:nvGrpSpPr>
        <p:grpSpPr>
          <a:xfrm>
            <a:off x="916560" y="2697120"/>
            <a:ext cx="4154040" cy="520560"/>
            <a:chOff x="916560" y="2697120"/>
            <a:chExt cx="4154040" cy="520560"/>
          </a:xfrm>
        </p:grpSpPr>
        <p:sp>
          <p:nvSpPr>
            <p:cNvPr id="611" name="Rectangle 15"/>
            <p:cNvSpPr/>
            <p:nvPr/>
          </p:nvSpPr>
          <p:spPr>
            <a:xfrm>
              <a:off x="916560" y="2697120"/>
              <a:ext cx="218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显然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612" name="Object 9"/>
            <p:cNvGraphicFramePr/>
            <p:nvPr/>
          </p:nvGraphicFramePr>
          <p:xfrm>
            <a:off x="1812600" y="2751480"/>
            <a:ext cx="3258000" cy="3960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13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812600" y="2751480"/>
                      <a:ext cx="3258000" cy="3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14" name="组合 19"/>
          <p:cNvGrpSpPr/>
          <p:nvPr/>
        </p:nvGrpSpPr>
        <p:grpSpPr>
          <a:xfrm>
            <a:off x="928440" y="3424320"/>
            <a:ext cx="7789320" cy="520560"/>
            <a:chOff x="928440" y="3424320"/>
            <a:chExt cx="7789320" cy="520560"/>
          </a:xfrm>
        </p:grpSpPr>
        <p:sp>
          <p:nvSpPr>
            <p:cNvPr id="615" name="Rectangle 15"/>
            <p:cNvSpPr/>
            <p:nvPr/>
          </p:nvSpPr>
          <p:spPr>
            <a:xfrm>
              <a:off x="1510200" y="3424320"/>
              <a:ext cx="720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不包含任何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Cauchy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子序列，与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2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矛盾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616" name="Object 10"/>
            <p:cNvGraphicFramePr/>
            <p:nvPr/>
          </p:nvGraphicFramePr>
          <p:xfrm>
            <a:off x="928440" y="3499200"/>
            <a:ext cx="723600" cy="4410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17" name="Object 1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928440" y="3499200"/>
                      <a:ext cx="723600" cy="44100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3"/>
          <p:cNvSpPr/>
          <p:nvPr/>
        </p:nvSpPr>
        <p:spPr>
          <a:xfrm>
            <a:off x="395280" y="51912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推论 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619" name="组合 23"/>
          <p:cNvGrpSpPr/>
          <p:nvPr/>
        </p:nvGrpSpPr>
        <p:grpSpPr>
          <a:xfrm>
            <a:off x="1834920" y="1071720"/>
            <a:ext cx="5352120" cy="947160"/>
            <a:chOff x="1834920" y="1071720"/>
            <a:chExt cx="5352120" cy="947160"/>
          </a:xfrm>
        </p:grpSpPr>
        <p:sp>
          <p:nvSpPr>
            <p:cNvPr id="620" name="Rectangle 15"/>
            <p:cNvSpPr/>
            <p:nvPr/>
          </p:nvSpPr>
          <p:spPr>
            <a:xfrm>
              <a:off x="2369520" y="1071720"/>
              <a:ext cx="4817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紧集则    必是相对紧；  是相对紧的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则    必是完全有界的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621" name="Object 12"/>
            <p:cNvGraphicFramePr/>
            <p:nvPr/>
          </p:nvGraphicFramePr>
          <p:xfrm>
            <a:off x="1834920" y="1113120"/>
            <a:ext cx="398160" cy="323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22" name="Object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34920" y="1113120"/>
                      <a:ext cx="398160" cy="32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3" name="Object 13"/>
            <p:cNvGraphicFramePr/>
            <p:nvPr/>
          </p:nvGraphicFramePr>
          <p:xfrm>
            <a:off x="2268360" y="1599840"/>
            <a:ext cx="398160" cy="323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24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68360" y="1599840"/>
                      <a:ext cx="398160" cy="32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5" name="Object 14"/>
            <p:cNvGraphicFramePr/>
            <p:nvPr/>
          </p:nvGraphicFramePr>
          <p:xfrm>
            <a:off x="6012360" y="1167840"/>
            <a:ext cx="398160" cy="323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26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12360" y="1167840"/>
                      <a:ext cx="398160" cy="32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7" name="Object 15"/>
            <p:cNvGraphicFramePr/>
            <p:nvPr/>
          </p:nvGraphicFramePr>
          <p:xfrm>
            <a:off x="3635640" y="1167840"/>
            <a:ext cx="398160" cy="323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28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635640" y="1167840"/>
                      <a:ext cx="398160" cy="32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29" name="组合 24"/>
          <p:cNvGrpSpPr/>
          <p:nvPr/>
        </p:nvGrpSpPr>
        <p:grpSpPr>
          <a:xfrm>
            <a:off x="2085120" y="1982880"/>
            <a:ext cx="5170680" cy="520560"/>
            <a:chOff x="2085120" y="1982880"/>
            <a:chExt cx="5170680" cy="520560"/>
          </a:xfrm>
        </p:grpSpPr>
        <p:sp>
          <p:nvSpPr>
            <p:cNvPr id="630" name="Rectangle 15"/>
            <p:cNvSpPr/>
            <p:nvPr/>
          </p:nvSpPr>
          <p:spPr>
            <a:xfrm>
              <a:off x="2260800" y="1982880"/>
              <a:ext cx="49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2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   是闭集，则    紧当且仅当    相对紧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631" name="Object 16"/>
            <p:cNvGraphicFramePr/>
            <p:nvPr/>
          </p:nvGraphicFramePr>
          <p:xfrm>
            <a:off x="2085120" y="2104200"/>
            <a:ext cx="398160" cy="323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32" name="Object 1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085120" y="2104200"/>
                      <a:ext cx="398160" cy="32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3" name="Object 17"/>
            <p:cNvGraphicFramePr/>
            <p:nvPr/>
          </p:nvGraphicFramePr>
          <p:xfrm>
            <a:off x="6444360" y="2104200"/>
            <a:ext cx="398160" cy="323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34" name="Object 1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444360" y="2104200"/>
                      <a:ext cx="398160" cy="32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5" name="Object 18"/>
            <p:cNvGraphicFramePr/>
            <p:nvPr/>
          </p:nvGraphicFramePr>
          <p:xfrm>
            <a:off x="4212000" y="2104200"/>
            <a:ext cx="398160" cy="3232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36" name="Object 1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212000" y="2104200"/>
                      <a:ext cx="398160" cy="32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37" name="组合 22"/>
          <p:cNvGrpSpPr/>
          <p:nvPr/>
        </p:nvGrpSpPr>
        <p:grpSpPr>
          <a:xfrm>
            <a:off x="2411280" y="588960"/>
            <a:ext cx="3313440" cy="520560"/>
            <a:chOff x="2411280" y="588960"/>
            <a:chExt cx="3313440" cy="520560"/>
          </a:xfrm>
        </p:grpSpPr>
        <p:sp>
          <p:nvSpPr>
            <p:cNvPr id="638" name="Rectangle 15"/>
            <p:cNvSpPr/>
            <p:nvPr/>
          </p:nvSpPr>
          <p:spPr>
            <a:xfrm>
              <a:off x="2492280" y="588960"/>
              <a:ext cx="306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设    是度量空间，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639" name="Object 10"/>
            <p:cNvGraphicFramePr/>
            <p:nvPr/>
          </p:nvGraphicFramePr>
          <p:xfrm>
            <a:off x="4780080" y="731160"/>
            <a:ext cx="944640" cy="2563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40" name="Object 10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780080" y="731160"/>
                      <a:ext cx="944640" cy="2563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641" name="Object 20"/>
            <p:cNvGraphicFramePr/>
            <p:nvPr/>
          </p:nvGraphicFramePr>
          <p:xfrm>
            <a:off x="2411280" y="735480"/>
            <a:ext cx="465120" cy="324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42" name="Object 2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411280" y="735480"/>
                      <a:ext cx="465120" cy="3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43" name="组合 25"/>
          <p:cNvGrpSpPr/>
          <p:nvPr/>
        </p:nvGrpSpPr>
        <p:grpSpPr>
          <a:xfrm>
            <a:off x="2123640" y="2625840"/>
            <a:ext cx="5799960" cy="520560"/>
            <a:chOff x="2123640" y="2625840"/>
            <a:chExt cx="5799960" cy="520560"/>
          </a:xfrm>
        </p:grpSpPr>
        <p:sp>
          <p:nvSpPr>
            <p:cNvPr id="644" name="Rectangle 15"/>
            <p:cNvSpPr/>
            <p:nvPr/>
          </p:nvSpPr>
          <p:spPr>
            <a:xfrm>
              <a:off x="2409120" y="2625840"/>
              <a:ext cx="551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3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    完备，则   相对紧当且仅当     完全有界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645" name="Object 11"/>
            <p:cNvGraphicFramePr/>
            <p:nvPr/>
          </p:nvGraphicFramePr>
          <p:xfrm>
            <a:off x="3924000" y="2752200"/>
            <a:ext cx="398160" cy="3232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46" name="Object 11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924000" y="2752200"/>
                      <a:ext cx="398160" cy="32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7" name="Object 19"/>
            <p:cNvGraphicFramePr/>
            <p:nvPr/>
          </p:nvGraphicFramePr>
          <p:xfrm>
            <a:off x="6765480" y="2752200"/>
            <a:ext cx="398160" cy="32328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48" name="Object 19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765480" y="2752200"/>
                      <a:ext cx="398160" cy="32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9" name="Object 22"/>
            <p:cNvGraphicFramePr/>
            <p:nvPr/>
          </p:nvGraphicFramePr>
          <p:xfrm>
            <a:off x="2123640" y="2774520"/>
            <a:ext cx="431640" cy="30060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650" name="Object 22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123640" y="2774520"/>
                      <a:ext cx="431640" cy="30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51" name="组合 26"/>
          <p:cNvGrpSpPr/>
          <p:nvPr/>
        </p:nvGrpSpPr>
        <p:grpSpPr>
          <a:xfrm>
            <a:off x="2470320" y="3344760"/>
            <a:ext cx="5569560" cy="520560"/>
            <a:chOff x="2470320" y="3344760"/>
            <a:chExt cx="5569560" cy="520560"/>
          </a:xfrm>
        </p:grpSpPr>
        <p:sp>
          <p:nvSpPr>
            <p:cNvPr id="652" name="Rectangle 15"/>
            <p:cNvSpPr/>
            <p:nvPr/>
          </p:nvSpPr>
          <p:spPr>
            <a:xfrm>
              <a:off x="2470320" y="3344760"/>
              <a:ext cx="556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4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整个空间    是紧的当且仅当    完备且完全有界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653" name="Object 23"/>
            <p:cNvGraphicFramePr/>
            <p:nvPr/>
          </p:nvGraphicFramePr>
          <p:xfrm>
            <a:off x="3131640" y="3471840"/>
            <a:ext cx="464760" cy="32328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54" name="Object 23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3131640" y="3471840"/>
                      <a:ext cx="464760" cy="32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5" name="Object 24"/>
            <p:cNvGraphicFramePr/>
            <p:nvPr/>
          </p:nvGraphicFramePr>
          <p:xfrm>
            <a:off x="6084360" y="3494520"/>
            <a:ext cx="431640" cy="30060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656" name="Object 24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084360" y="3494520"/>
                      <a:ext cx="431640" cy="30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3"/>
          <p:cNvSpPr/>
          <p:nvPr/>
        </p:nvSpPr>
        <p:spPr>
          <a:xfrm>
            <a:off x="428760" y="588960"/>
            <a:ext cx="14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推论 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3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658" name="组合 9"/>
          <p:cNvGrpSpPr/>
          <p:nvPr/>
        </p:nvGrpSpPr>
        <p:grpSpPr>
          <a:xfrm>
            <a:off x="2571480" y="588960"/>
            <a:ext cx="4904280" cy="520560"/>
            <a:chOff x="2571480" y="588960"/>
            <a:chExt cx="4904280" cy="520560"/>
          </a:xfrm>
        </p:grpSpPr>
        <p:sp>
          <p:nvSpPr>
            <p:cNvPr id="659" name="Rectangle 15"/>
            <p:cNvSpPr/>
            <p:nvPr/>
          </p:nvSpPr>
          <p:spPr>
            <a:xfrm>
              <a:off x="2746080" y="588960"/>
              <a:ext cx="472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设               ，则下列条件等价：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660" name="Object 10"/>
            <p:cNvGraphicFramePr/>
            <p:nvPr/>
          </p:nvGraphicFramePr>
          <p:xfrm>
            <a:off x="2571480" y="646200"/>
            <a:ext cx="1179360" cy="341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61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71480" y="646200"/>
                      <a:ext cx="1179360" cy="34128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662" name="Rectangle 15"/>
          <p:cNvSpPr/>
          <p:nvPr/>
        </p:nvSpPr>
        <p:spPr>
          <a:xfrm>
            <a:off x="2797200" y="3322800"/>
            <a:ext cx="291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特别地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有限维线性赋范空间中任一有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闭集是紧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663" name="组合 14"/>
          <p:cNvGrpSpPr/>
          <p:nvPr/>
        </p:nvGrpSpPr>
        <p:grpSpPr>
          <a:xfrm>
            <a:off x="2284920" y="2625840"/>
            <a:ext cx="2448000" cy="520560"/>
            <a:chOff x="2284920" y="2625840"/>
            <a:chExt cx="2448000" cy="520560"/>
          </a:xfrm>
        </p:grpSpPr>
        <p:sp>
          <p:nvSpPr>
            <p:cNvPr id="664" name="Rectangle 15"/>
            <p:cNvSpPr/>
            <p:nvPr/>
          </p:nvSpPr>
          <p:spPr>
            <a:xfrm>
              <a:off x="2284920" y="2625840"/>
              <a:ext cx="24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3)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相对紧集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665" name="Object 11"/>
            <p:cNvGraphicFramePr/>
            <p:nvPr/>
          </p:nvGraphicFramePr>
          <p:xfrm>
            <a:off x="2517120" y="2680200"/>
            <a:ext cx="398520" cy="323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66" name="Object 1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7120" y="2680200"/>
                      <a:ext cx="398520" cy="32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67" name="组合 13"/>
          <p:cNvGrpSpPr/>
          <p:nvPr/>
        </p:nvGrpSpPr>
        <p:grpSpPr>
          <a:xfrm>
            <a:off x="2286360" y="1874880"/>
            <a:ext cx="2661480" cy="520560"/>
            <a:chOff x="2286360" y="1874880"/>
            <a:chExt cx="2661480" cy="520560"/>
          </a:xfrm>
        </p:grpSpPr>
        <p:sp>
          <p:nvSpPr>
            <p:cNvPr id="668" name="Rectangle 15"/>
            <p:cNvSpPr/>
            <p:nvPr/>
          </p:nvSpPr>
          <p:spPr>
            <a:xfrm>
              <a:off x="2286360" y="1874880"/>
              <a:ext cx="266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2)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完全有界集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669" name="Object 12"/>
            <p:cNvGraphicFramePr/>
            <p:nvPr/>
          </p:nvGraphicFramePr>
          <p:xfrm>
            <a:off x="2445480" y="1959480"/>
            <a:ext cx="398520" cy="324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70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445480" y="1959480"/>
                      <a:ext cx="398520" cy="3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71" name="组合 12"/>
          <p:cNvGrpSpPr/>
          <p:nvPr/>
        </p:nvGrpSpPr>
        <p:grpSpPr>
          <a:xfrm>
            <a:off x="2140200" y="1255680"/>
            <a:ext cx="2234880" cy="520560"/>
            <a:chOff x="2140200" y="1255680"/>
            <a:chExt cx="2234880" cy="520560"/>
          </a:xfrm>
        </p:grpSpPr>
        <p:sp>
          <p:nvSpPr>
            <p:cNvPr id="672" name="Rectangle 15"/>
            <p:cNvSpPr/>
            <p:nvPr/>
          </p:nvSpPr>
          <p:spPr>
            <a:xfrm>
              <a:off x="2140200" y="1255680"/>
              <a:ext cx="22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1)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有界集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673" name="Object 13"/>
            <p:cNvGraphicFramePr/>
            <p:nvPr/>
          </p:nvGraphicFramePr>
          <p:xfrm>
            <a:off x="2445120" y="1311120"/>
            <a:ext cx="398160" cy="324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74" name="Object 1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445120" y="1311120"/>
                      <a:ext cx="398160" cy="3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4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 Box 3"/>
          <p:cNvSpPr/>
          <p:nvPr/>
        </p:nvSpPr>
        <p:spPr>
          <a:xfrm>
            <a:off x="428760" y="588960"/>
            <a:ext cx="14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676" name="组合 20"/>
          <p:cNvGrpSpPr/>
          <p:nvPr/>
        </p:nvGrpSpPr>
        <p:grpSpPr>
          <a:xfrm>
            <a:off x="1928880" y="588960"/>
            <a:ext cx="6522840" cy="520560"/>
            <a:chOff x="1928880" y="588960"/>
            <a:chExt cx="6522840" cy="520560"/>
          </a:xfrm>
        </p:grpSpPr>
        <p:graphicFrame>
          <p:nvGraphicFramePr>
            <p:cNvPr id="677" name="Object 10"/>
            <p:cNvGraphicFramePr/>
            <p:nvPr/>
          </p:nvGraphicFramePr>
          <p:xfrm>
            <a:off x="1928880" y="695880"/>
            <a:ext cx="2328840" cy="363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78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28880" y="695880"/>
                      <a:ext cx="2328840" cy="36360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79" name="Rectangle 15"/>
            <p:cNvSpPr/>
            <p:nvPr/>
          </p:nvSpPr>
          <p:spPr>
            <a:xfrm>
              <a:off x="4798080" y="58896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显然的，现证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680" name="Object 3"/>
            <p:cNvGraphicFramePr/>
            <p:nvPr/>
          </p:nvGraphicFramePr>
          <p:xfrm>
            <a:off x="7000920" y="642600"/>
            <a:ext cx="1450800" cy="363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81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000920" y="642600"/>
                      <a:ext cx="1450800" cy="36360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682" name="组合 21"/>
          <p:cNvGrpSpPr/>
          <p:nvPr/>
        </p:nvGrpSpPr>
        <p:grpSpPr>
          <a:xfrm>
            <a:off x="1249200" y="1071720"/>
            <a:ext cx="3748680" cy="520560"/>
            <a:chOff x="1249200" y="1071720"/>
            <a:chExt cx="3748680" cy="520560"/>
          </a:xfrm>
        </p:grpSpPr>
        <p:sp>
          <p:nvSpPr>
            <p:cNvPr id="683" name="Rectangle 15"/>
            <p:cNvSpPr/>
            <p:nvPr/>
          </p:nvSpPr>
          <p:spPr>
            <a:xfrm>
              <a:off x="1249200" y="1071720"/>
              <a:ext cx="370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不妨设              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684" name="Object 4"/>
            <p:cNvGraphicFramePr/>
            <p:nvPr/>
          </p:nvGraphicFramePr>
          <p:xfrm>
            <a:off x="2214720" y="1109880"/>
            <a:ext cx="2783160" cy="454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85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14720" y="1109880"/>
                      <a:ext cx="2783160" cy="4543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686" name="组合 23"/>
          <p:cNvGrpSpPr/>
          <p:nvPr/>
        </p:nvGrpSpPr>
        <p:grpSpPr>
          <a:xfrm>
            <a:off x="1071720" y="2251080"/>
            <a:ext cx="2517480" cy="3080160"/>
            <a:chOff x="1071720" y="2251080"/>
            <a:chExt cx="2517480" cy="3080160"/>
          </a:xfrm>
        </p:grpSpPr>
        <p:sp>
          <p:nvSpPr>
            <p:cNvPr id="687" name="Rectangle 15"/>
            <p:cNvSpPr/>
            <p:nvPr/>
          </p:nvSpPr>
          <p:spPr>
            <a:xfrm>
              <a:off x="1071720" y="2251080"/>
              <a:ext cx="642600" cy="30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则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688" name="Object 7"/>
            <p:cNvGraphicFramePr/>
            <p:nvPr/>
          </p:nvGraphicFramePr>
          <p:xfrm>
            <a:off x="1654200" y="2304360"/>
            <a:ext cx="1935000" cy="362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89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654200" y="2304360"/>
                      <a:ext cx="1935000" cy="3625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690" name="Object 8"/>
          <p:cNvGraphicFramePr/>
          <p:nvPr/>
        </p:nvGraphicFramePr>
        <p:xfrm>
          <a:off x="2027160" y="2716200"/>
          <a:ext cx="5415120" cy="884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1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27160" y="2716200"/>
                    <a:ext cx="5415120" cy="884160"/>
                  </a:xfrm>
                  <a:prstGeom prst="rect">
                    <a:avLst/>
                  </a:prstGeom>
                  <a:ln cap="rnd" w="936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  <p:grpSp>
        <p:nvGrpSpPr>
          <p:cNvPr id="692" name="组合 25"/>
          <p:cNvGrpSpPr/>
          <p:nvPr/>
        </p:nvGrpSpPr>
        <p:grpSpPr>
          <a:xfrm>
            <a:off x="1214280" y="3598920"/>
            <a:ext cx="7929720" cy="1429200"/>
            <a:chOff x="1214280" y="3598920"/>
            <a:chExt cx="7929720" cy="1429200"/>
          </a:xfrm>
        </p:grpSpPr>
        <p:sp>
          <p:nvSpPr>
            <p:cNvPr id="693" name="Rectangle 15"/>
            <p:cNvSpPr/>
            <p:nvPr/>
          </p:nvSpPr>
          <p:spPr>
            <a:xfrm>
              <a:off x="1214280" y="35989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首先       是有界数列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,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694" name="Object 9"/>
            <p:cNvGraphicFramePr/>
            <p:nvPr/>
          </p:nvGraphicFramePr>
          <p:xfrm>
            <a:off x="2071440" y="3637080"/>
            <a:ext cx="660240" cy="447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95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071440" y="3637080"/>
                      <a:ext cx="660240" cy="44748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96" name="Rectangle 15"/>
            <p:cNvSpPr/>
            <p:nvPr/>
          </p:nvSpPr>
          <p:spPr>
            <a:xfrm>
              <a:off x="4714920" y="3598920"/>
              <a:ext cx="442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根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Bolzano-Weierstrass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97" name="Rectangle 15"/>
            <p:cNvSpPr/>
            <p:nvPr/>
          </p:nvSpPr>
          <p:spPr>
            <a:xfrm>
              <a:off x="1356840" y="4080600"/>
              <a:ext cx="3571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定理有子数列收敛，            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98" name="Rectangle 15"/>
            <p:cNvSpPr/>
            <p:nvPr/>
          </p:nvSpPr>
          <p:spPr>
            <a:xfrm>
              <a:off x="5072040" y="4080960"/>
              <a:ext cx="3571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不妨设  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，             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699" name="Object 10"/>
            <p:cNvGraphicFramePr/>
            <p:nvPr/>
          </p:nvGraphicFramePr>
          <p:xfrm>
            <a:off x="6357960" y="4129560"/>
            <a:ext cx="1253880" cy="3866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700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357960" y="4129560"/>
                      <a:ext cx="1253880" cy="38664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701" name="组合 25"/>
          <p:cNvGrpSpPr/>
          <p:nvPr/>
        </p:nvGrpSpPr>
        <p:grpSpPr>
          <a:xfrm>
            <a:off x="1428840" y="1600200"/>
            <a:ext cx="6487920" cy="537120"/>
            <a:chOff x="1428840" y="1600200"/>
            <a:chExt cx="6487920" cy="537120"/>
          </a:xfrm>
        </p:grpSpPr>
        <p:sp>
          <p:nvSpPr>
            <p:cNvPr id="702" name="Rectangle 15"/>
            <p:cNvSpPr/>
            <p:nvPr/>
          </p:nvSpPr>
          <p:spPr>
            <a:xfrm>
              <a:off x="1791000" y="1616760"/>
              <a:ext cx="612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        是   中的无穷序列，        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，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703" name="Object 5"/>
            <p:cNvGraphicFramePr/>
            <p:nvPr/>
          </p:nvGraphicFramePr>
          <p:xfrm>
            <a:off x="1428840" y="1607040"/>
            <a:ext cx="660600" cy="447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704" name="Object 5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428840" y="1607040"/>
                      <a:ext cx="660600" cy="44748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705" name="Object 6"/>
            <p:cNvGraphicFramePr/>
            <p:nvPr/>
          </p:nvGraphicFramePr>
          <p:xfrm>
            <a:off x="5286600" y="1607040"/>
            <a:ext cx="2274840" cy="482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06" name="Object 6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286600" y="1607040"/>
                      <a:ext cx="2274840" cy="48204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707" name="Object 26"/>
            <p:cNvGraphicFramePr/>
            <p:nvPr/>
          </p:nvGraphicFramePr>
          <p:xfrm>
            <a:off x="2484360" y="1600200"/>
            <a:ext cx="398160" cy="3236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08" name="Object 26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484360" y="1600200"/>
                      <a:ext cx="398160" cy="32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5"/>
          <p:cNvSpPr/>
          <p:nvPr/>
        </p:nvSpPr>
        <p:spPr>
          <a:xfrm>
            <a:off x="2007720" y="1071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确界原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Rectangle 15"/>
          <p:cNvSpPr/>
          <p:nvPr/>
        </p:nvSpPr>
        <p:spPr>
          <a:xfrm>
            <a:off x="5939280" y="1125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单调有界定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Rectangle 15"/>
          <p:cNvSpPr/>
          <p:nvPr/>
        </p:nvSpPr>
        <p:spPr>
          <a:xfrm>
            <a:off x="1723320" y="19828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区间套定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5865120" y="1982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聚点定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1581840" y="28940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柯西收敛准则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5796360" y="28940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有限覆盖定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1" name="组合 25" descr=""/>
          <p:cNvPicPr/>
          <p:nvPr/>
        </p:nvPicPr>
        <p:blipFill>
          <a:blip r:embed="rId1"/>
          <a:stretch/>
        </p:blipFill>
        <p:spPr>
          <a:xfrm>
            <a:off x="2255760" y="1298520"/>
            <a:ext cx="4310280" cy="211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组合 19"/>
          <p:cNvGrpSpPr/>
          <p:nvPr/>
        </p:nvGrpSpPr>
        <p:grpSpPr>
          <a:xfrm>
            <a:off x="1071720" y="534960"/>
            <a:ext cx="4714560" cy="947160"/>
            <a:chOff x="1071720" y="534960"/>
            <a:chExt cx="4714560" cy="947160"/>
          </a:xfrm>
        </p:grpSpPr>
        <p:sp>
          <p:nvSpPr>
            <p:cNvPr id="710" name="Rectangle 15"/>
            <p:cNvSpPr/>
            <p:nvPr/>
          </p:nvSpPr>
          <p:spPr>
            <a:xfrm>
              <a:off x="1071720" y="534960"/>
              <a:ext cx="4714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此时        仍为有界数列，             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711" name="Object 2"/>
            <p:cNvGraphicFramePr/>
            <p:nvPr/>
          </p:nvGraphicFramePr>
          <p:xfrm>
            <a:off x="1928880" y="534960"/>
            <a:ext cx="660240" cy="448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2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28880" y="534960"/>
                      <a:ext cx="660240" cy="44820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713" name="组合 20"/>
          <p:cNvGrpSpPr/>
          <p:nvPr/>
        </p:nvGrpSpPr>
        <p:grpSpPr>
          <a:xfrm>
            <a:off x="1143000" y="1068480"/>
            <a:ext cx="6559560" cy="950040"/>
            <a:chOff x="1143000" y="1068480"/>
            <a:chExt cx="6559560" cy="950040"/>
          </a:xfrm>
        </p:grpSpPr>
        <p:sp>
          <p:nvSpPr>
            <p:cNvPr id="714" name="Rectangle 15"/>
            <p:cNvSpPr/>
            <p:nvPr/>
          </p:nvSpPr>
          <p:spPr>
            <a:xfrm>
              <a:off x="1143000" y="1071360"/>
              <a:ext cx="4714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从而有       的子序列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，             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715" name="Object 3"/>
            <p:cNvGraphicFramePr/>
            <p:nvPr/>
          </p:nvGraphicFramePr>
          <p:xfrm>
            <a:off x="2533680" y="1094400"/>
            <a:ext cx="395280" cy="469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6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33680" y="1094400"/>
                      <a:ext cx="39528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7" name="Object 4"/>
            <p:cNvGraphicFramePr/>
            <p:nvPr/>
          </p:nvGraphicFramePr>
          <p:xfrm>
            <a:off x="4487760" y="1094400"/>
            <a:ext cx="422280" cy="46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18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487760" y="1094400"/>
                      <a:ext cx="42228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9" name="Object 5"/>
            <p:cNvGraphicFramePr/>
            <p:nvPr/>
          </p:nvGraphicFramePr>
          <p:xfrm>
            <a:off x="5500800" y="1068480"/>
            <a:ext cx="2201760" cy="496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20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500800" y="1068480"/>
                      <a:ext cx="2201760" cy="49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21" name="组合 21"/>
          <p:cNvGrpSpPr/>
          <p:nvPr/>
        </p:nvGrpSpPr>
        <p:grpSpPr>
          <a:xfrm>
            <a:off x="1214280" y="1644480"/>
            <a:ext cx="4714920" cy="536760"/>
            <a:chOff x="1214280" y="1644480"/>
            <a:chExt cx="4714920" cy="536760"/>
          </a:xfrm>
        </p:grpSpPr>
        <p:sp>
          <p:nvSpPr>
            <p:cNvPr id="722" name="Rectangle 15"/>
            <p:cNvSpPr/>
            <p:nvPr/>
          </p:nvSpPr>
          <p:spPr>
            <a:xfrm>
              <a:off x="1214280" y="1660680"/>
              <a:ext cx="471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最后有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723" name="Object 6"/>
            <p:cNvGraphicFramePr/>
            <p:nvPr/>
          </p:nvGraphicFramePr>
          <p:xfrm>
            <a:off x="2500200" y="1660680"/>
            <a:ext cx="422280" cy="4694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24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00200" y="1660680"/>
                      <a:ext cx="422280" cy="46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5" name="Object 7"/>
            <p:cNvGraphicFramePr/>
            <p:nvPr/>
          </p:nvGraphicFramePr>
          <p:xfrm>
            <a:off x="3511440" y="1644480"/>
            <a:ext cx="1751040" cy="4957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26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511440" y="1644480"/>
                      <a:ext cx="1751040" cy="49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27" name="组合 22"/>
          <p:cNvGrpSpPr/>
          <p:nvPr/>
        </p:nvGrpSpPr>
        <p:grpSpPr>
          <a:xfrm>
            <a:off x="1000080" y="2286000"/>
            <a:ext cx="3409920" cy="573120"/>
            <a:chOff x="1000080" y="2286000"/>
            <a:chExt cx="3409920" cy="573120"/>
          </a:xfrm>
        </p:grpSpPr>
        <p:sp>
          <p:nvSpPr>
            <p:cNvPr id="728" name="Rectangle 15"/>
            <p:cNvSpPr/>
            <p:nvPr/>
          </p:nvSpPr>
          <p:spPr>
            <a:xfrm>
              <a:off x="1000080" y="230364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记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729" name="Object 8"/>
            <p:cNvGraphicFramePr/>
            <p:nvPr/>
          </p:nvGraphicFramePr>
          <p:xfrm>
            <a:off x="1643040" y="2286000"/>
            <a:ext cx="2766960" cy="573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730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643040" y="2286000"/>
                      <a:ext cx="2766960" cy="57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31" name="组合 23"/>
          <p:cNvGrpSpPr/>
          <p:nvPr/>
        </p:nvGrpSpPr>
        <p:grpSpPr>
          <a:xfrm>
            <a:off x="4572000" y="2357280"/>
            <a:ext cx="4071960" cy="520560"/>
            <a:chOff x="4572000" y="2357280"/>
            <a:chExt cx="4071960" cy="520560"/>
          </a:xfrm>
        </p:grpSpPr>
        <p:sp>
          <p:nvSpPr>
            <p:cNvPr id="732" name="Rectangle 15"/>
            <p:cNvSpPr/>
            <p:nvPr/>
          </p:nvSpPr>
          <p:spPr>
            <a:xfrm>
              <a:off x="4572000" y="2357280"/>
              <a:ext cx="407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取       的子序列       ，则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733" name="Object 9"/>
            <p:cNvGraphicFramePr/>
            <p:nvPr/>
          </p:nvGraphicFramePr>
          <p:xfrm>
            <a:off x="5181480" y="2461320"/>
            <a:ext cx="439560" cy="326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734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181480" y="2461320"/>
                      <a:ext cx="439560" cy="32688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735" name="Object 10"/>
            <p:cNvGraphicFramePr/>
            <p:nvPr/>
          </p:nvGraphicFramePr>
          <p:xfrm>
            <a:off x="7286760" y="2461320"/>
            <a:ext cx="527040" cy="3268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36" name="Object 1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7286760" y="2461320"/>
                      <a:ext cx="527040" cy="32688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737" name="Object 11"/>
          <p:cNvGraphicFramePr/>
          <p:nvPr/>
        </p:nvGraphicFramePr>
        <p:xfrm>
          <a:off x="1359000" y="2921040"/>
          <a:ext cx="6580080" cy="963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38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359000" y="2921040"/>
                    <a:ext cx="658008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9" name="组合 24"/>
          <p:cNvGrpSpPr/>
          <p:nvPr/>
        </p:nvGrpSpPr>
        <p:grpSpPr>
          <a:xfrm>
            <a:off x="1428840" y="3857760"/>
            <a:ext cx="2887560" cy="520560"/>
            <a:chOff x="1428840" y="3857760"/>
            <a:chExt cx="2887560" cy="520560"/>
          </a:xfrm>
        </p:grpSpPr>
        <p:sp>
          <p:nvSpPr>
            <p:cNvPr id="740" name="Rectangle 15"/>
            <p:cNvSpPr/>
            <p:nvPr/>
          </p:nvSpPr>
          <p:spPr>
            <a:xfrm>
              <a:off x="1428840" y="385776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即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741" name="Object 12"/>
            <p:cNvGraphicFramePr/>
            <p:nvPr/>
          </p:nvGraphicFramePr>
          <p:xfrm>
            <a:off x="2000160" y="3883320"/>
            <a:ext cx="2316240" cy="4172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42" name="Object 12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000160" y="3883320"/>
                      <a:ext cx="2316240" cy="41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43" name="组合 26"/>
          <p:cNvGrpSpPr/>
          <p:nvPr/>
        </p:nvGrpSpPr>
        <p:grpSpPr>
          <a:xfrm>
            <a:off x="4859280" y="3857760"/>
            <a:ext cx="3213000" cy="520560"/>
            <a:chOff x="4859280" y="3857760"/>
            <a:chExt cx="3213000" cy="520560"/>
          </a:xfrm>
        </p:grpSpPr>
        <p:sp>
          <p:nvSpPr>
            <p:cNvPr id="744" name="Rectangle 15"/>
            <p:cNvSpPr/>
            <p:nvPr/>
          </p:nvSpPr>
          <p:spPr>
            <a:xfrm>
              <a:off x="4929120" y="3857760"/>
              <a:ext cx="314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相对紧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745" name="Object 27"/>
            <p:cNvGraphicFramePr/>
            <p:nvPr/>
          </p:nvGraphicFramePr>
          <p:xfrm>
            <a:off x="4859280" y="3976200"/>
            <a:ext cx="398160" cy="3243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46" name="Object 27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859280" y="3976200"/>
                      <a:ext cx="398160" cy="3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Text Box 3"/>
          <p:cNvSpPr/>
          <p:nvPr/>
        </p:nvSpPr>
        <p:spPr>
          <a:xfrm>
            <a:off x="428760" y="588960"/>
            <a:ext cx="14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4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748" name="Object 9"/>
          <p:cNvGraphicFramePr/>
          <p:nvPr/>
        </p:nvGraphicFramePr>
        <p:xfrm>
          <a:off x="3308400" y="2717640"/>
          <a:ext cx="2322360" cy="3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8400" y="2717640"/>
                    <a:ext cx="232236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50" name="组合 21"/>
          <p:cNvGrpSpPr/>
          <p:nvPr/>
        </p:nvGrpSpPr>
        <p:grpSpPr>
          <a:xfrm>
            <a:off x="2499840" y="627120"/>
            <a:ext cx="4658760" cy="520560"/>
            <a:chOff x="2499840" y="627120"/>
            <a:chExt cx="4658760" cy="520560"/>
          </a:xfrm>
        </p:grpSpPr>
        <p:sp>
          <p:nvSpPr>
            <p:cNvPr id="751" name="Rectangle 15"/>
            <p:cNvSpPr/>
            <p:nvPr/>
          </p:nvSpPr>
          <p:spPr>
            <a:xfrm>
              <a:off x="2866320" y="627120"/>
              <a:ext cx="429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设    ，  是度量空间，          为紧集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752" name="Object 12"/>
            <p:cNvGraphicFramePr/>
            <p:nvPr/>
          </p:nvGraphicFramePr>
          <p:xfrm>
            <a:off x="5500440" y="720720"/>
            <a:ext cx="1017360" cy="339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53" name="Object 1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00440" y="720720"/>
                      <a:ext cx="101736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54" name="Object 19"/>
            <p:cNvGraphicFramePr/>
            <p:nvPr/>
          </p:nvGraphicFramePr>
          <p:xfrm>
            <a:off x="2499840" y="735480"/>
            <a:ext cx="465120" cy="324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55" name="Object 1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499840" y="735480"/>
                      <a:ext cx="465120" cy="3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56" name="Object 20"/>
            <p:cNvGraphicFramePr/>
            <p:nvPr/>
          </p:nvGraphicFramePr>
          <p:xfrm>
            <a:off x="3142800" y="735480"/>
            <a:ext cx="366480" cy="324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57" name="Object 2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142800" y="735480"/>
                      <a:ext cx="366480" cy="3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58" name="组合 22"/>
          <p:cNvGrpSpPr/>
          <p:nvPr/>
        </p:nvGrpSpPr>
        <p:grpSpPr>
          <a:xfrm>
            <a:off x="2000160" y="1179360"/>
            <a:ext cx="6041160" cy="520560"/>
            <a:chOff x="2000160" y="1179360"/>
            <a:chExt cx="6041160" cy="520560"/>
          </a:xfrm>
        </p:grpSpPr>
        <p:sp>
          <p:nvSpPr>
            <p:cNvPr id="759" name="Rectangle 15"/>
            <p:cNvSpPr/>
            <p:nvPr/>
          </p:nvSpPr>
          <p:spPr>
            <a:xfrm>
              <a:off x="2058120" y="1179360"/>
              <a:ext cx="598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             是    上的连续映设，则       是紧集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760" name="Object 5"/>
            <p:cNvGraphicFramePr/>
            <p:nvPr/>
          </p:nvGraphicFramePr>
          <p:xfrm>
            <a:off x="2000160" y="1314000"/>
            <a:ext cx="1324800" cy="321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61" name="Object 5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000160" y="1314000"/>
                      <a:ext cx="1324800" cy="32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2" name="Object 21"/>
            <p:cNvGraphicFramePr/>
            <p:nvPr/>
          </p:nvGraphicFramePr>
          <p:xfrm>
            <a:off x="3714840" y="1295640"/>
            <a:ext cx="384480" cy="267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63" name="Object 21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714840" y="1295640"/>
                      <a:ext cx="384480" cy="26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4" name="Object 17"/>
            <p:cNvGraphicFramePr/>
            <p:nvPr/>
          </p:nvGraphicFramePr>
          <p:xfrm>
            <a:off x="6858360" y="1298520"/>
            <a:ext cx="785520" cy="336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765" name="Object 17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858360" y="1298520"/>
                      <a:ext cx="785520" cy="33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66" name="组合 27"/>
          <p:cNvGrpSpPr/>
          <p:nvPr/>
        </p:nvGrpSpPr>
        <p:grpSpPr>
          <a:xfrm>
            <a:off x="1706400" y="1768320"/>
            <a:ext cx="6670800" cy="947160"/>
            <a:chOff x="1706400" y="1768320"/>
            <a:chExt cx="6670800" cy="947160"/>
          </a:xfrm>
        </p:grpSpPr>
        <p:sp>
          <p:nvSpPr>
            <p:cNvPr id="767" name="Rectangle 15"/>
            <p:cNvSpPr/>
            <p:nvPr/>
          </p:nvSpPr>
          <p:spPr>
            <a:xfrm>
              <a:off x="2249280" y="1768320"/>
              <a:ext cx="5048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2)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  在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上连续，则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在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上一致连续，即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 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对任何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,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只要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768" name="Object 6"/>
            <p:cNvGraphicFramePr/>
            <p:nvPr/>
          </p:nvGraphicFramePr>
          <p:xfrm>
            <a:off x="1706400" y="2285640"/>
            <a:ext cx="1930320" cy="358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769" name="Object 6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706400" y="2285640"/>
                      <a:ext cx="193032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70" name="Object 7"/>
            <p:cNvGraphicFramePr/>
            <p:nvPr/>
          </p:nvGraphicFramePr>
          <p:xfrm>
            <a:off x="4790880" y="2285640"/>
            <a:ext cx="1100160" cy="3585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71" name="Object 7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790880" y="2285640"/>
                      <a:ext cx="110016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72" name="Object 8"/>
            <p:cNvGraphicFramePr/>
            <p:nvPr/>
          </p:nvGraphicFramePr>
          <p:xfrm>
            <a:off x="6886800" y="2213640"/>
            <a:ext cx="1490400" cy="3585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73" name="Object 8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886800" y="2213640"/>
                      <a:ext cx="14904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74" name="Object 22"/>
            <p:cNvGraphicFramePr/>
            <p:nvPr/>
          </p:nvGraphicFramePr>
          <p:xfrm>
            <a:off x="2671560" y="1872000"/>
            <a:ext cx="384480" cy="2678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75" name="Object 22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671560" y="1872000"/>
                      <a:ext cx="384480" cy="26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76" name="Object 23"/>
            <p:cNvGraphicFramePr/>
            <p:nvPr/>
          </p:nvGraphicFramePr>
          <p:xfrm>
            <a:off x="2070000" y="1872000"/>
            <a:ext cx="301320" cy="2678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7" name="Object 23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070000" y="1872000"/>
                      <a:ext cx="301320" cy="26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78" name="Object 24"/>
            <p:cNvGraphicFramePr/>
            <p:nvPr/>
          </p:nvGraphicFramePr>
          <p:xfrm>
            <a:off x="4743360" y="1872000"/>
            <a:ext cx="301320" cy="2678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79" name="Object 24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4743360" y="1872000"/>
                      <a:ext cx="301320" cy="26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0" name="Object 25"/>
            <p:cNvGraphicFramePr/>
            <p:nvPr/>
          </p:nvGraphicFramePr>
          <p:xfrm>
            <a:off x="5302080" y="1872000"/>
            <a:ext cx="328320" cy="2678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781" name="Object 25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5302080" y="1872000"/>
                      <a:ext cx="328320" cy="26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82" name="组合 32"/>
          <p:cNvGrpSpPr/>
          <p:nvPr/>
        </p:nvGrpSpPr>
        <p:grpSpPr>
          <a:xfrm>
            <a:off x="1955520" y="3160800"/>
            <a:ext cx="6045480" cy="947160"/>
            <a:chOff x="1955520" y="3160800"/>
            <a:chExt cx="6045480" cy="947160"/>
          </a:xfrm>
        </p:grpSpPr>
        <p:sp>
          <p:nvSpPr>
            <p:cNvPr id="783" name="Rectangle 15"/>
            <p:cNvSpPr/>
            <p:nvPr/>
          </p:nvSpPr>
          <p:spPr>
            <a:xfrm>
              <a:off x="2298600" y="3160800"/>
              <a:ext cx="363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3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上的实值连续函数，则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并且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在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上可以达到上、下确界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784" name="Object 10"/>
            <p:cNvGraphicFramePr/>
            <p:nvPr/>
          </p:nvGraphicFramePr>
          <p:xfrm>
            <a:off x="6429600" y="3223800"/>
            <a:ext cx="1571400" cy="49932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785" name="Object 10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429600" y="3223800"/>
                      <a:ext cx="1571400" cy="49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6" name="Object 26"/>
            <p:cNvGraphicFramePr/>
            <p:nvPr/>
          </p:nvGraphicFramePr>
          <p:xfrm>
            <a:off x="2530800" y="3311640"/>
            <a:ext cx="384480" cy="26784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787" name="Object 26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2530800" y="3311640"/>
                      <a:ext cx="384480" cy="26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8" name="Object 27"/>
            <p:cNvGraphicFramePr/>
            <p:nvPr/>
          </p:nvGraphicFramePr>
          <p:xfrm>
            <a:off x="1955520" y="3249720"/>
            <a:ext cx="330120" cy="32976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789" name="Object 27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1955520" y="3249720"/>
                      <a:ext cx="330120" cy="32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90" name="Object 28"/>
            <p:cNvGraphicFramePr/>
            <p:nvPr/>
          </p:nvGraphicFramePr>
          <p:xfrm>
            <a:off x="2357280" y="3681720"/>
            <a:ext cx="330120" cy="32976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791" name="Object 28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2357280" y="3681720"/>
                      <a:ext cx="330120" cy="32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92" name="Object 29"/>
            <p:cNvGraphicFramePr/>
            <p:nvPr/>
          </p:nvGraphicFramePr>
          <p:xfrm>
            <a:off x="3000240" y="3671640"/>
            <a:ext cx="328320" cy="267840"/>
          </p:xfrm>
          <a:graphic>
            <a:graphicData uri="http://schemas.openxmlformats.org/presentationml/2006/ole">
              <p:oleObj r:id="rId37" spid="">
                <p:embed/>
                <p:pic>
                  <p:nvPicPr>
                    <p:cNvPr id="793" name="Object 29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3000240" y="3671640"/>
                      <a:ext cx="328320" cy="26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5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Text Box 3"/>
          <p:cNvSpPr/>
          <p:nvPr/>
        </p:nvSpPr>
        <p:spPr>
          <a:xfrm>
            <a:off x="428760" y="588960"/>
            <a:ext cx="14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95" name="组合 23"/>
          <p:cNvGrpSpPr/>
          <p:nvPr/>
        </p:nvGrpSpPr>
        <p:grpSpPr>
          <a:xfrm>
            <a:off x="2081880" y="642960"/>
            <a:ext cx="6092280" cy="520560"/>
            <a:chOff x="2081880" y="642960"/>
            <a:chExt cx="6092280" cy="520560"/>
          </a:xfrm>
        </p:grpSpPr>
        <p:sp>
          <p:nvSpPr>
            <p:cNvPr id="796" name="Rectangle 15"/>
            <p:cNvSpPr/>
            <p:nvPr/>
          </p:nvSpPr>
          <p:spPr>
            <a:xfrm>
              <a:off x="2081880" y="642960"/>
              <a:ext cx="285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1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，不妨设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797" name="Object 2"/>
            <p:cNvGraphicFramePr/>
            <p:nvPr/>
          </p:nvGraphicFramePr>
          <p:xfrm>
            <a:off x="2500200" y="729000"/>
            <a:ext cx="1247760" cy="402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98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00200" y="729000"/>
                      <a:ext cx="1247760" cy="40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99" name="Object 3"/>
            <p:cNvGraphicFramePr/>
            <p:nvPr/>
          </p:nvGraphicFramePr>
          <p:xfrm>
            <a:off x="5286600" y="704160"/>
            <a:ext cx="2887560" cy="428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00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86600" y="704160"/>
                      <a:ext cx="2887560" cy="42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01" name="组合 25"/>
          <p:cNvGrpSpPr/>
          <p:nvPr/>
        </p:nvGrpSpPr>
        <p:grpSpPr>
          <a:xfrm>
            <a:off x="6575400" y="1231920"/>
            <a:ext cx="1724040" cy="520560"/>
            <a:chOff x="6575400" y="1231920"/>
            <a:chExt cx="1724040" cy="520560"/>
          </a:xfrm>
        </p:grpSpPr>
        <p:sp>
          <p:nvSpPr>
            <p:cNvPr id="802" name="Rectangle 15"/>
            <p:cNvSpPr/>
            <p:nvPr/>
          </p:nvSpPr>
          <p:spPr>
            <a:xfrm>
              <a:off x="6575400" y="12319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记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803" name="Object 5"/>
            <p:cNvGraphicFramePr/>
            <p:nvPr/>
          </p:nvGraphicFramePr>
          <p:xfrm>
            <a:off x="6929280" y="1279800"/>
            <a:ext cx="1370160" cy="428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04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929280" y="1279800"/>
                      <a:ext cx="1370160" cy="42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05" name="组合 27"/>
          <p:cNvGrpSpPr/>
          <p:nvPr/>
        </p:nvGrpSpPr>
        <p:grpSpPr>
          <a:xfrm>
            <a:off x="1971000" y="2571840"/>
            <a:ext cx="6634800" cy="520560"/>
            <a:chOff x="1971000" y="2571840"/>
            <a:chExt cx="6634800" cy="520560"/>
          </a:xfrm>
        </p:grpSpPr>
        <p:sp>
          <p:nvSpPr>
            <p:cNvPr id="806" name="Rectangle 15"/>
            <p:cNvSpPr/>
            <p:nvPr/>
          </p:nvSpPr>
          <p:spPr>
            <a:xfrm>
              <a:off x="1971000" y="2571840"/>
              <a:ext cx="207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2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不然，则存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807" name="Object 7"/>
            <p:cNvGraphicFramePr/>
            <p:nvPr/>
          </p:nvGraphicFramePr>
          <p:xfrm>
            <a:off x="4475160" y="2600280"/>
            <a:ext cx="4130640" cy="404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08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475160" y="2600280"/>
                      <a:ext cx="4130640" cy="40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09" name="组合 28"/>
          <p:cNvGrpSpPr/>
          <p:nvPr/>
        </p:nvGrpSpPr>
        <p:grpSpPr>
          <a:xfrm>
            <a:off x="1146240" y="3054240"/>
            <a:ext cx="2968560" cy="520560"/>
            <a:chOff x="1146240" y="3054240"/>
            <a:chExt cx="2968560" cy="520560"/>
          </a:xfrm>
        </p:grpSpPr>
        <p:sp>
          <p:nvSpPr>
            <p:cNvPr id="810" name="Rectangle 15"/>
            <p:cNvSpPr/>
            <p:nvPr/>
          </p:nvSpPr>
          <p:spPr>
            <a:xfrm>
              <a:off x="1146240" y="30542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但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811" name="Object 9"/>
            <p:cNvGraphicFramePr/>
            <p:nvPr/>
          </p:nvGraphicFramePr>
          <p:xfrm>
            <a:off x="1523880" y="3104280"/>
            <a:ext cx="2590920" cy="403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12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523880" y="3104280"/>
                      <a:ext cx="2590920" cy="40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13" name="组合 35"/>
          <p:cNvGrpSpPr/>
          <p:nvPr/>
        </p:nvGrpSpPr>
        <p:grpSpPr>
          <a:xfrm>
            <a:off x="1143000" y="1982880"/>
            <a:ext cx="5896080" cy="520560"/>
            <a:chOff x="1143000" y="1982880"/>
            <a:chExt cx="5896080" cy="520560"/>
          </a:xfrm>
        </p:grpSpPr>
        <p:sp>
          <p:nvSpPr>
            <p:cNvPr id="814" name="Rectangle 15"/>
            <p:cNvSpPr/>
            <p:nvPr/>
          </p:nvSpPr>
          <p:spPr>
            <a:xfrm>
              <a:off x="1332000" y="1982880"/>
              <a:ext cx="139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连续，故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815" name="Object 6"/>
            <p:cNvGraphicFramePr/>
            <p:nvPr/>
          </p:nvGraphicFramePr>
          <p:xfrm>
            <a:off x="3000600" y="2075040"/>
            <a:ext cx="4038480" cy="424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816" name="Object 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000600" y="2075040"/>
                      <a:ext cx="4038480" cy="42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17" name="Object 30"/>
            <p:cNvGraphicFramePr/>
            <p:nvPr/>
          </p:nvGraphicFramePr>
          <p:xfrm>
            <a:off x="1143000" y="2160000"/>
            <a:ext cx="301320" cy="2674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818" name="Object 3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143000" y="2160000"/>
                      <a:ext cx="301320" cy="26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19" name="组合 36"/>
          <p:cNvGrpSpPr/>
          <p:nvPr/>
        </p:nvGrpSpPr>
        <p:grpSpPr>
          <a:xfrm>
            <a:off x="7158960" y="1982880"/>
            <a:ext cx="1407600" cy="520560"/>
            <a:chOff x="7158960" y="1982880"/>
            <a:chExt cx="1407600" cy="520560"/>
          </a:xfrm>
        </p:grpSpPr>
        <p:sp>
          <p:nvSpPr>
            <p:cNvPr id="820" name="Rectangle 15"/>
            <p:cNvSpPr/>
            <p:nvPr/>
          </p:nvSpPr>
          <p:spPr>
            <a:xfrm>
              <a:off x="7158960" y="1982880"/>
              <a:ext cx="140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紧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821" name="Object 31"/>
            <p:cNvGraphicFramePr/>
            <p:nvPr/>
          </p:nvGraphicFramePr>
          <p:xfrm>
            <a:off x="7286760" y="2097720"/>
            <a:ext cx="766800" cy="3297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822" name="Object 3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286760" y="2097720"/>
                      <a:ext cx="766800" cy="32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23" name="组合 34"/>
          <p:cNvGrpSpPr/>
          <p:nvPr/>
        </p:nvGrpSpPr>
        <p:grpSpPr>
          <a:xfrm>
            <a:off x="1071360" y="1243080"/>
            <a:ext cx="5278680" cy="563760"/>
            <a:chOff x="1071360" y="1243080"/>
            <a:chExt cx="5278680" cy="563760"/>
          </a:xfrm>
        </p:grpSpPr>
        <p:sp>
          <p:nvSpPr>
            <p:cNvPr id="824" name="Rectangle 15"/>
            <p:cNvSpPr/>
            <p:nvPr/>
          </p:nvSpPr>
          <p:spPr>
            <a:xfrm>
              <a:off x="1482120" y="1286280"/>
              <a:ext cx="213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紧集，故存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825" name="Object 4"/>
            <p:cNvGraphicFramePr/>
            <p:nvPr/>
          </p:nvGraphicFramePr>
          <p:xfrm>
            <a:off x="4000680" y="1243080"/>
            <a:ext cx="2349360" cy="5374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826" name="Object 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000680" y="1243080"/>
                      <a:ext cx="2349360" cy="53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7" name="Object 32"/>
            <p:cNvGraphicFramePr/>
            <p:nvPr/>
          </p:nvGraphicFramePr>
          <p:xfrm>
            <a:off x="1071360" y="1386720"/>
            <a:ext cx="394200" cy="3214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828" name="Object 32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1071360" y="1386720"/>
                      <a:ext cx="394200" cy="32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29" name="组合 37"/>
          <p:cNvGrpSpPr/>
          <p:nvPr/>
        </p:nvGrpSpPr>
        <p:grpSpPr>
          <a:xfrm>
            <a:off x="4214520" y="3043080"/>
            <a:ext cx="4518360" cy="536760"/>
            <a:chOff x="4214520" y="3043080"/>
            <a:chExt cx="4518360" cy="536760"/>
          </a:xfrm>
        </p:grpSpPr>
        <p:sp>
          <p:nvSpPr>
            <p:cNvPr id="830" name="Rectangle 15"/>
            <p:cNvSpPr/>
            <p:nvPr/>
          </p:nvSpPr>
          <p:spPr>
            <a:xfrm>
              <a:off x="4479840" y="3053880"/>
              <a:ext cx="170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紧，故存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831" name="Object 10"/>
            <p:cNvGraphicFramePr/>
            <p:nvPr/>
          </p:nvGraphicFramePr>
          <p:xfrm>
            <a:off x="6334200" y="3043080"/>
            <a:ext cx="2398680" cy="5367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832" name="Object 10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334200" y="3043080"/>
                      <a:ext cx="2398680" cy="53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33" name="Object 33"/>
            <p:cNvGraphicFramePr/>
            <p:nvPr/>
          </p:nvGraphicFramePr>
          <p:xfrm>
            <a:off x="4214520" y="3086280"/>
            <a:ext cx="428400" cy="34920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834" name="Object 33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214520" y="3086280"/>
                      <a:ext cx="428400" cy="34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35" name="组合 38"/>
          <p:cNvGrpSpPr/>
          <p:nvPr/>
        </p:nvGrpSpPr>
        <p:grpSpPr>
          <a:xfrm>
            <a:off x="1806480" y="3589200"/>
            <a:ext cx="4332240" cy="567000"/>
            <a:chOff x="1806480" y="3589200"/>
            <a:chExt cx="4332240" cy="567000"/>
          </a:xfrm>
        </p:grpSpPr>
        <p:sp>
          <p:nvSpPr>
            <p:cNvPr id="836" name="Rectangle 15"/>
            <p:cNvSpPr/>
            <p:nvPr/>
          </p:nvSpPr>
          <p:spPr>
            <a:xfrm>
              <a:off x="1806480" y="3589200"/>
              <a:ext cx="433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从而               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在      的连续性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837" name="Object 11"/>
            <p:cNvGraphicFramePr/>
            <p:nvPr/>
          </p:nvGraphicFramePr>
          <p:xfrm>
            <a:off x="2072160" y="3658320"/>
            <a:ext cx="1175040" cy="42588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838" name="Object 11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2072160" y="3658320"/>
                      <a:ext cx="1175040" cy="42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39" name="Object 12"/>
            <p:cNvGraphicFramePr/>
            <p:nvPr/>
          </p:nvGraphicFramePr>
          <p:xfrm>
            <a:off x="4358880" y="3614760"/>
            <a:ext cx="428760" cy="5414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40" name="Object 12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4358880" y="3614760"/>
                      <a:ext cx="428760" cy="54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1" name="Object 34"/>
            <p:cNvGraphicFramePr/>
            <p:nvPr/>
          </p:nvGraphicFramePr>
          <p:xfrm>
            <a:off x="3643920" y="3694320"/>
            <a:ext cx="357120" cy="31788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42" name="Object 34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3643920" y="3694320"/>
                      <a:ext cx="357120" cy="31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2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2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2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3" name="Object 2"/>
          <p:cNvGraphicFramePr/>
          <p:nvPr/>
        </p:nvGraphicFramePr>
        <p:xfrm>
          <a:off x="1808280" y="588960"/>
          <a:ext cx="5016240" cy="4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8280" y="588960"/>
                    <a:ext cx="501624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5" name="Object 3"/>
          <p:cNvGraphicFramePr/>
          <p:nvPr/>
        </p:nvGraphicFramePr>
        <p:xfrm>
          <a:off x="857160" y="1179360"/>
          <a:ext cx="8075880" cy="4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1179360"/>
                    <a:ext cx="80758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7" name="组合 16"/>
          <p:cNvGrpSpPr/>
          <p:nvPr/>
        </p:nvGrpSpPr>
        <p:grpSpPr>
          <a:xfrm>
            <a:off x="1343880" y="1874880"/>
            <a:ext cx="3914280" cy="520560"/>
            <a:chOff x="1343880" y="1874880"/>
            <a:chExt cx="3914280" cy="520560"/>
          </a:xfrm>
        </p:grpSpPr>
        <p:sp>
          <p:nvSpPr>
            <p:cNvPr id="848" name="Rectangle 15"/>
            <p:cNvSpPr/>
            <p:nvPr/>
          </p:nvSpPr>
          <p:spPr>
            <a:xfrm>
              <a:off x="1343880" y="1874880"/>
              <a:ext cx="391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这与                             矛盾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849" name="Object 4"/>
            <p:cNvGraphicFramePr/>
            <p:nvPr/>
          </p:nvGraphicFramePr>
          <p:xfrm>
            <a:off x="1987200" y="1930320"/>
            <a:ext cx="2665440" cy="425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50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87200" y="1930320"/>
                      <a:ext cx="2665440" cy="42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851" name="Object 5"/>
          <p:cNvGraphicFramePr/>
          <p:nvPr/>
        </p:nvGraphicFramePr>
        <p:xfrm>
          <a:off x="1285920" y="3294000"/>
          <a:ext cx="1614600" cy="3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85920" y="3294000"/>
                    <a:ext cx="161460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53" name="组合 17"/>
          <p:cNvGrpSpPr/>
          <p:nvPr/>
        </p:nvGrpSpPr>
        <p:grpSpPr>
          <a:xfrm>
            <a:off x="3220560" y="3200400"/>
            <a:ext cx="4389840" cy="520560"/>
            <a:chOff x="3220560" y="3200400"/>
            <a:chExt cx="4389840" cy="520560"/>
          </a:xfrm>
        </p:grpSpPr>
        <p:sp>
          <p:nvSpPr>
            <p:cNvPr id="854" name="Rectangle 15"/>
            <p:cNvSpPr/>
            <p:nvPr/>
          </p:nvSpPr>
          <p:spPr>
            <a:xfrm>
              <a:off x="3220560" y="32004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则存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855" name="Object 6"/>
            <p:cNvGraphicFramePr/>
            <p:nvPr/>
          </p:nvGraphicFramePr>
          <p:xfrm>
            <a:off x="4309920" y="3249000"/>
            <a:ext cx="3300480" cy="402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56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309920" y="3249000"/>
                      <a:ext cx="3300480" cy="40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57" name="组合 18"/>
          <p:cNvGrpSpPr/>
          <p:nvPr/>
        </p:nvGrpSpPr>
        <p:grpSpPr>
          <a:xfrm>
            <a:off x="1071720" y="3751200"/>
            <a:ext cx="4446360" cy="549360"/>
            <a:chOff x="1071720" y="3751200"/>
            <a:chExt cx="4446360" cy="549360"/>
          </a:xfrm>
        </p:grpSpPr>
        <p:sp>
          <p:nvSpPr>
            <p:cNvPr id="858" name="Rectangle 15"/>
            <p:cNvSpPr/>
            <p:nvPr/>
          </p:nvSpPr>
          <p:spPr>
            <a:xfrm>
              <a:off x="1946160" y="3751200"/>
              <a:ext cx="357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中有子列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           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859" name="Object 7"/>
            <p:cNvGraphicFramePr/>
            <p:nvPr/>
          </p:nvGraphicFramePr>
          <p:xfrm>
            <a:off x="1071720" y="3780720"/>
            <a:ext cx="587160" cy="447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860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071720" y="3780720"/>
                      <a:ext cx="58716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1" name="Object 8"/>
            <p:cNvGraphicFramePr/>
            <p:nvPr/>
          </p:nvGraphicFramePr>
          <p:xfrm>
            <a:off x="3143160" y="3763440"/>
            <a:ext cx="2353680" cy="537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862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143160" y="3763440"/>
                      <a:ext cx="2353680" cy="53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63" name="组合 19"/>
          <p:cNvGrpSpPr/>
          <p:nvPr/>
        </p:nvGrpSpPr>
        <p:grpSpPr>
          <a:xfrm>
            <a:off x="6005520" y="3749760"/>
            <a:ext cx="2720880" cy="520560"/>
            <a:chOff x="6005520" y="3749760"/>
            <a:chExt cx="2720880" cy="520560"/>
          </a:xfrm>
        </p:grpSpPr>
        <p:sp>
          <p:nvSpPr>
            <p:cNvPr id="864" name="Rectangle 15"/>
            <p:cNvSpPr/>
            <p:nvPr/>
          </p:nvSpPr>
          <p:spPr>
            <a:xfrm>
              <a:off x="6005520" y="37497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所以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865" name="Object 9"/>
            <p:cNvGraphicFramePr/>
            <p:nvPr/>
          </p:nvGraphicFramePr>
          <p:xfrm>
            <a:off x="6715080" y="3801960"/>
            <a:ext cx="2011320" cy="4255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866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715080" y="3801960"/>
                      <a:ext cx="2011320" cy="42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867" name="Object 10"/>
          <p:cNvGraphicFramePr/>
          <p:nvPr/>
        </p:nvGraphicFramePr>
        <p:xfrm>
          <a:off x="1071720" y="4402080"/>
          <a:ext cx="1250640" cy="401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68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71720" y="4402080"/>
                    <a:ext cx="125064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9" name="Rectangle 15"/>
          <p:cNvSpPr/>
          <p:nvPr/>
        </p:nvSpPr>
        <p:spPr>
          <a:xfrm>
            <a:off x="3115800" y="4286160"/>
            <a:ext cx="228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对于下确界同样证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870" name="组合 23"/>
          <p:cNvGrpSpPr/>
          <p:nvPr/>
        </p:nvGrpSpPr>
        <p:grpSpPr>
          <a:xfrm>
            <a:off x="2376360" y="2571840"/>
            <a:ext cx="5430960" cy="520560"/>
            <a:chOff x="2376360" y="2571840"/>
            <a:chExt cx="5430960" cy="520560"/>
          </a:xfrm>
        </p:grpSpPr>
        <p:sp>
          <p:nvSpPr>
            <p:cNvPr id="871" name="Rectangle 15"/>
            <p:cNvSpPr/>
            <p:nvPr/>
          </p:nvSpPr>
          <p:spPr>
            <a:xfrm>
              <a:off x="2376360" y="2571840"/>
              <a:ext cx="543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3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1)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，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在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中紧，故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为有界集，记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872" name="Object 21"/>
            <p:cNvGraphicFramePr/>
            <p:nvPr/>
          </p:nvGraphicFramePr>
          <p:xfrm>
            <a:off x="2786040" y="2717640"/>
            <a:ext cx="863640" cy="3589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873" name="Object 21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786040" y="2717640"/>
                      <a:ext cx="863640" cy="35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74" name="Object 22"/>
            <p:cNvGraphicFramePr/>
            <p:nvPr/>
          </p:nvGraphicFramePr>
          <p:xfrm>
            <a:off x="3844800" y="2736000"/>
            <a:ext cx="328320" cy="2682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875" name="Object 22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3844800" y="2736000"/>
                      <a:ext cx="32832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76" name="Object 23"/>
            <p:cNvGraphicFramePr/>
            <p:nvPr/>
          </p:nvGraphicFramePr>
          <p:xfrm>
            <a:off x="5500800" y="2717640"/>
            <a:ext cx="863640" cy="35892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877" name="Object 23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5500800" y="2717640"/>
                      <a:ext cx="863640" cy="35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4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4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9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4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9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4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9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4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9" dur="2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5"/>
          <p:cNvSpPr/>
          <p:nvPr/>
        </p:nvSpPr>
        <p:spPr>
          <a:xfrm>
            <a:off x="0" y="843120"/>
            <a:ext cx="93582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河南师范大学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现代教育技术中心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录制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5"/>
          <p:cNvSpPr/>
          <p:nvPr/>
        </p:nvSpPr>
        <p:spPr>
          <a:xfrm>
            <a:off x="0" y="843120"/>
            <a:ext cx="93582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河南师范大学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现代教育技术中心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录制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357120" y="803160"/>
            <a:ext cx="857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c5900"/>
                </a:solidFill>
                <a:latin typeface="华文新魏"/>
                <a:ea typeface="华文新魏"/>
              </a:rPr>
              <a:t>海涅</a:t>
            </a:r>
            <a:r>
              <a:rPr b="1" lang="en-US" sz="3600" spc="-1" strike="noStrike">
                <a:solidFill>
                  <a:srgbClr val="dc5900"/>
                </a:solidFill>
                <a:latin typeface="华文新魏"/>
                <a:ea typeface="华文新魏"/>
              </a:rPr>
              <a:t>-</a:t>
            </a:r>
            <a:r>
              <a:rPr b="1" lang="zh-CN" sz="3600" spc="-1" strike="noStrike">
                <a:solidFill>
                  <a:srgbClr val="dc5900"/>
                </a:solidFill>
                <a:latin typeface="华文新魏"/>
                <a:ea typeface="华文新魏"/>
              </a:rPr>
              <a:t>波雷尔</a:t>
            </a:r>
            <a:r>
              <a:rPr b="1" lang="en-US" sz="3600" spc="-1" strike="noStrike">
                <a:solidFill>
                  <a:srgbClr val="dc5900"/>
                </a:solidFill>
                <a:latin typeface="华文新魏"/>
                <a:ea typeface="华文新魏"/>
              </a:rPr>
              <a:t>(Heine-Borel)</a:t>
            </a:r>
            <a:r>
              <a:rPr b="1" lang="zh-CN" sz="3600" spc="-1" strike="noStrike">
                <a:solidFill>
                  <a:srgbClr val="dc5900"/>
                </a:solidFill>
                <a:latin typeface="华文新魏"/>
                <a:ea typeface="华文新魏"/>
              </a:rPr>
              <a:t>有限覆盖定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93" name="组合 10"/>
          <p:cNvGrpSpPr/>
          <p:nvPr/>
        </p:nvGrpSpPr>
        <p:grpSpPr>
          <a:xfrm>
            <a:off x="928800" y="1608120"/>
            <a:ext cx="7643880" cy="1373760"/>
            <a:chOff x="928800" y="1608120"/>
            <a:chExt cx="7643880" cy="1373760"/>
          </a:xfrm>
        </p:grpSpPr>
        <p:sp>
          <p:nvSpPr>
            <p:cNvPr id="94" name="Rectangle 15"/>
            <p:cNvSpPr/>
            <p:nvPr/>
          </p:nvSpPr>
          <p:spPr>
            <a:xfrm>
              <a:off x="928800" y="1608120"/>
              <a:ext cx="76438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设        是一个闭区间，  为         的一个开覆盖，则在    中必存在有限个开区间，它构成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上的一个开覆盖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95" name="Object 28"/>
            <p:cNvGraphicFramePr/>
            <p:nvPr/>
          </p:nvGraphicFramePr>
          <p:xfrm>
            <a:off x="2282760" y="1708200"/>
            <a:ext cx="860400" cy="33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6" name="Object 2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2760" y="1708200"/>
                      <a:ext cx="860400" cy="33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" name="Object 4"/>
            <p:cNvGraphicFramePr/>
            <p:nvPr/>
          </p:nvGraphicFramePr>
          <p:xfrm>
            <a:off x="6165720" y="1708200"/>
            <a:ext cx="860400" cy="333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8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5720" y="1708200"/>
                      <a:ext cx="860400" cy="33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Object 5"/>
            <p:cNvGraphicFramePr/>
            <p:nvPr/>
          </p:nvGraphicFramePr>
          <p:xfrm>
            <a:off x="1175400" y="2572200"/>
            <a:ext cx="860400" cy="333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0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175400" y="2572200"/>
                      <a:ext cx="860400" cy="33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" name="Object 6"/>
            <p:cNvGraphicFramePr/>
            <p:nvPr/>
          </p:nvGraphicFramePr>
          <p:xfrm>
            <a:off x="2827080" y="2164680"/>
            <a:ext cx="387360" cy="271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2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827080" y="2164680"/>
                      <a:ext cx="387360" cy="27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" name="Object 7"/>
            <p:cNvGraphicFramePr/>
            <p:nvPr/>
          </p:nvGraphicFramePr>
          <p:xfrm>
            <a:off x="5357880" y="1708200"/>
            <a:ext cx="387360" cy="2710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4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57880" y="1708200"/>
                      <a:ext cx="387360" cy="27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5" name="组合 30"/>
          <p:cNvGrpSpPr/>
          <p:nvPr/>
        </p:nvGrpSpPr>
        <p:grpSpPr>
          <a:xfrm>
            <a:off x="928800" y="3054240"/>
            <a:ext cx="7715160" cy="1098720"/>
            <a:chOff x="928800" y="3054240"/>
            <a:chExt cx="7715160" cy="1098720"/>
          </a:xfrm>
        </p:grpSpPr>
        <p:sp>
          <p:nvSpPr>
            <p:cNvPr id="106" name="直接连接符 12"/>
            <p:cNvSpPr/>
            <p:nvPr/>
          </p:nvSpPr>
          <p:spPr>
            <a:xfrm>
              <a:off x="928800" y="3429000"/>
              <a:ext cx="77151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7" name="左中括号 14"/>
            <p:cNvSpPr/>
            <p:nvPr/>
          </p:nvSpPr>
          <p:spPr>
            <a:xfrm flipH="1">
              <a:off x="7072560" y="3108240"/>
              <a:ext cx="142560" cy="588960"/>
            </a:xfrm>
            <a:custGeom>
              <a:avLst/>
              <a:gdLst>
                <a:gd name="textAreaLeft" fmla="*/ 42120 w 142560"/>
                <a:gd name="textAreaRight" fmla="*/ 143280 w 142560"/>
                <a:gd name="textAreaTop" fmla="*/ 4320 h 588960"/>
                <a:gd name="textAreaBottom" fmla="*/ 584640 h 58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64"/>
                    <a:pt x="0" y="327"/>
                  </a:cubicBezTo>
                  <a:lnTo>
                    <a:pt x="0" y="21273"/>
                  </a:lnTo>
                  <a:cubicBezTo>
                    <a:pt x="0" y="21437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8" name="左中括号 15"/>
            <p:cNvSpPr/>
            <p:nvPr/>
          </p:nvSpPr>
          <p:spPr>
            <a:xfrm>
              <a:off x="2286000" y="3054240"/>
              <a:ext cx="71280" cy="642960"/>
            </a:xfrm>
            <a:custGeom>
              <a:avLst/>
              <a:gdLst>
                <a:gd name="textAreaLeft" fmla="*/ 20880 w 71280"/>
                <a:gd name="textAreaRight" fmla="*/ 71640 w 71280"/>
                <a:gd name="textAreaTop" fmla="*/ 2160 h 642960"/>
                <a:gd name="textAreaBottom" fmla="*/ 640800 h 64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75"/>
                    <a:pt x="0" y="150"/>
                  </a:cubicBezTo>
                  <a:lnTo>
                    <a:pt x="0" y="21450"/>
                  </a:lnTo>
                  <a:cubicBezTo>
                    <a:pt x="0" y="21525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09" name="Object 29"/>
            <p:cNvGraphicFramePr/>
            <p:nvPr/>
          </p:nvGraphicFramePr>
          <p:xfrm>
            <a:off x="2143080" y="3857760"/>
            <a:ext cx="331560" cy="2736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10" name="Object 2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143080" y="3857760"/>
                      <a:ext cx="331560" cy="27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1" name="Object 10"/>
            <p:cNvGraphicFramePr/>
            <p:nvPr/>
          </p:nvGraphicFramePr>
          <p:xfrm>
            <a:off x="7000920" y="3804120"/>
            <a:ext cx="331560" cy="348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2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000920" y="3804120"/>
                      <a:ext cx="331560" cy="34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3" name="组合 30"/>
          <p:cNvGrpSpPr/>
          <p:nvPr/>
        </p:nvGrpSpPr>
        <p:grpSpPr>
          <a:xfrm>
            <a:off x="1643040" y="3106800"/>
            <a:ext cx="6500880" cy="482400"/>
            <a:chOff x="1643040" y="3106800"/>
            <a:chExt cx="6500880" cy="482400"/>
          </a:xfrm>
        </p:grpSpPr>
        <p:sp>
          <p:nvSpPr>
            <p:cNvPr id="114" name="双括号 19"/>
            <p:cNvSpPr/>
            <p:nvPr/>
          </p:nvSpPr>
          <p:spPr>
            <a:xfrm>
              <a:off x="1643040" y="3106800"/>
              <a:ext cx="785520" cy="482400"/>
            </a:xfrm>
            <a:prstGeom prst="bracketPair">
              <a:avLst>
                <a:gd name="adj" fmla="val 17129"/>
              </a:avLst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5" name="双括号 20"/>
            <p:cNvSpPr/>
            <p:nvPr/>
          </p:nvSpPr>
          <p:spPr>
            <a:xfrm>
              <a:off x="2143080" y="3214440"/>
              <a:ext cx="714240" cy="374760"/>
            </a:xfrm>
            <a:prstGeom prst="bracketPair">
              <a:avLst>
                <a:gd name="adj" fmla="val 17129"/>
              </a:avLst>
            </a:prstGeom>
            <a:noFill/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6" name="双括号 21"/>
            <p:cNvSpPr/>
            <p:nvPr/>
          </p:nvSpPr>
          <p:spPr>
            <a:xfrm>
              <a:off x="6858000" y="3106800"/>
              <a:ext cx="1285920" cy="482400"/>
            </a:xfrm>
            <a:prstGeom prst="bracketPair">
              <a:avLst>
                <a:gd name="adj" fmla="val 17129"/>
              </a:avLst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7" name="双括号 22"/>
            <p:cNvSpPr/>
            <p:nvPr/>
          </p:nvSpPr>
          <p:spPr>
            <a:xfrm>
              <a:off x="2571480" y="3106800"/>
              <a:ext cx="1285920" cy="482400"/>
            </a:xfrm>
            <a:prstGeom prst="bracketPair">
              <a:avLst>
                <a:gd name="adj" fmla="val 17129"/>
              </a:avLst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8" name="双括号 23"/>
            <p:cNvSpPr/>
            <p:nvPr/>
          </p:nvSpPr>
          <p:spPr>
            <a:xfrm>
              <a:off x="3214440" y="3214440"/>
              <a:ext cx="928440" cy="374760"/>
            </a:xfrm>
            <a:prstGeom prst="bracketPair">
              <a:avLst>
                <a:gd name="adj" fmla="val 17129"/>
              </a:avLst>
            </a:prstGeom>
            <a:noFill/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9" name="双括号 24"/>
            <p:cNvSpPr/>
            <p:nvPr/>
          </p:nvSpPr>
          <p:spPr>
            <a:xfrm>
              <a:off x="5286240" y="3106800"/>
              <a:ext cx="642960" cy="482400"/>
            </a:xfrm>
            <a:prstGeom prst="bracketPair">
              <a:avLst>
                <a:gd name="adj" fmla="val 17129"/>
              </a:avLst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0" name="双括号 25"/>
            <p:cNvSpPr/>
            <p:nvPr/>
          </p:nvSpPr>
          <p:spPr>
            <a:xfrm>
              <a:off x="5500800" y="3214440"/>
              <a:ext cx="857160" cy="374760"/>
            </a:xfrm>
            <a:prstGeom prst="bracketPair">
              <a:avLst>
                <a:gd name="adj" fmla="val 17129"/>
              </a:avLst>
            </a:prstGeom>
            <a:noFill/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1" name="双括号 26"/>
            <p:cNvSpPr/>
            <p:nvPr/>
          </p:nvSpPr>
          <p:spPr>
            <a:xfrm>
              <a:off x="6143760" y="3106800"/>
              <a:ext cx="571320" cy="482400"/>
            </a:xfrm>
            <a:prstGeom prst="bracketPair">
              <a:avLst>
                <a:gd name="adj" fmla="val 17129"/>
              </a:avLst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2" name="双括号 27"/>
            <p:cNvSpPr/>
            <p:nvPr/>
          </p:nvSpPr>
          <p:spPr>
            <a:xfrm>
              <a:off x="6429600" y="3214440"/>
              <a:ext cx="928440" cy="374760"/>
            </a:xfrm>
            <a:prstGeom prst="bracketPair">
              <a:avLst>
                <a:gd name="adj" fmla="val 17129"/>
              </a:avLst>
            </a:prstGeom>
            <a:noFill/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23" name="Object 2"/>
            <p:cNvGraphicFramePr/>
            <p:nvPr/>
          </p:nvGraphicFramePr>
          <p:xfrm>
            <a:off x="4143240" y="3160440"/>
            <a:ext cx="1095120" cy="2631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24" name="Object 2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43240" y="3160440"/>
                      <a:ext cx="1095120" cy="2631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25" name="组合 36"/>
          <p:cNvGrpSpPr/>
          <p:nvPr/>
        </p:nvGrpSpPr>
        <p:grpSpPr>
          <a:xfrm>
            <a:off x="2071800" y="3160800"/>
            <a:ext cx="5857920" cy="428400"/>
            <a:chOff x="2071800" y="3160800"/>
            <a:chExt cx="5857920" cy="428400"/>
          </a:xfrm>
        </p:grpSpPr>
        <p:sp>
          <p:nvSpPr>
            <p:cNvPr id="126" name="双括号 31"/>
            <p:cNvSpPr/>
            <p:nvPr/>
          </p:nvSpPr>
          <p:spPr>
            <a:xfrm>
              <a:off x="2071800" y="3160800"/>
              <a:ext cx="1357200" cy="428400"/>
            </a:xfrm>
            <a:prstGeom prst="bracketPair">
              <a:avLst>
                <a:gd name="adj" fmla="val 17129"/>
              </a:avLst>
            </a:prstGeom>
            <a:noFill/>
            <a:ln w="28440">
              <a:solidFill>
                <a:srgbClr val="0067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7" name="双括号 32"/>
            <p:cNvSpPr/>
            <p:nvPr/>
          </p:nvSpPr>
          <p:spPr>
            <a:xfrm>
              <a:off x="3143160" y="3214440"/>
              <a:ext cx="1428840" cy="374760"/>
            </a:xfrm>
            <a:prstGeom prst="bracketPair">
              <a:avLst>
                <a:gd name="adj" fmla="val 17129"/>
              </a:avLst>
            </a:prstGeom>
            <a:noFill/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8" name="双括号 33"/>
            <p:cNvSpPr/>
            <p:nvPr/>
          </p:nvSpPr>
          <p:spPr>
            <a:xfrm>
              <a:off x="3857760" y="3160800"/>
              <a:ext cx="1500120" cy="428400"/>
            </a:xfrm>
            <a:prstGeom prst="bracketPair">
              <a:avLst>
                <a:gd name="adj" fmla="val 17129"/>
              </a:avLst>
            </a:prstGeom>
            <a:noFill/>
            <a:ln w="28440">
              <a:solidFill>
                <a:srgbClr val="0067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9" name="双括号 34"/>
            <p:cNvSpPr/>
            <p:nvPr/>
          </p:nvSpPr>
          <p:spPr>
            <a:xfrm>
              <a:off x="5143680" y="3214440"/>
              <a:ext cx="1857240" cy="374760"/>
            </a:xfrm>
            <a:prstGeom prst="bracketPair">
              <a:avLst>
                <a:gd name="adj" fmla="val 17129"/>
              </a:avLst>
            </a:prstGeom>
            <a:noFill/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0" name="双括号 35"/>
            <p:cNvSpPr/>
            <p:nvPr/>
          </p:nvSpPr>
          <p:spPr>
            <a:xfrm>
              <a:off x="6429600" y="3160800"/>
              <a:ext cx="1500120" cy="428400"/>
            </a:xfrm>
            <a:prstGeom prst="bracketPair">
              <a:avLst>
                <a:gd name="adj" fmla="val 17129"/>
              </a:avLst>
            </a:prstGeom>
            <a:noFill/>
            <a:ln w="28440">
              <a:solidFill>
                <a:srgbClr val="0067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214200" y="588960"/>
            <a:ext cx="17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义</a:t>
            </a:r>
            <a:r>
              <a:rPr b="1" lang="en-US" sz="3600" spc="-1" strike="noStrike">
                <a:solidFill>
                  <a:srgbClr val="dc5900"/>
                </a:solidFill>
                <a:latin typeface="华文新魏"/>
                <a:ea typeface="华文新魏"/>
              </a:rPr>
              <a:t>1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32" name="组合 31"/>
          <p:cNvGrpSpPr/>
          <p:nvPr/>
        </p:nvGrpSpPr>
        <p:grpSpPr>
          <a:xfrm>
            <a:off x="2123640" y="642960"/>
            <a:ext cx="3370680" cy="520560"/>
            <a:chOff x="2123640" y="642960"/>
            <a:chExt cx="3370680" cy="520560"/>
          </a:xfrm>
        </p:grpSpPr>
        <p:sp>
          <p:nvSpPr>
            <p:cNvPr id="133" name="Rectangle 15"/>
            <p:cNvSpPr/>
            <p:nvPr/>
          </p:nvSpPr>
          <p:spPr>
            <a:xfrm>
              <a:off x="2236320" y="642960"/>
              <a:ext cx="195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设   是度量空间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34" name="Object 2"/>
            <p:cNvGraphicFramePr/>
            <p:nvPr/>
          </p:nvGraphicFramePr>
          <p:xfrm>
            <a:off x="4500360" y="775080"/>
            <a:ext cx="993960" cy="275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5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00360" y="775080"/>
                      <a:ext cx="993960" cy="27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6" name="Object 28"/>
            <p:cNvGraphicFramePr/>
            <p:nvPr/>
          </p:nvGraphicFramePr>
          <p:xfrm>
            <a:off x="2123640" y="777600"/>
            <a:ext cx="388800" cy="27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7" name="Object 2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23640" y="777600"/>
                      <a:ext cx="388800" cy="27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8" name="组合 32"/>
          <p:cNvGrpSpPr/>
          <p:nvPr/>
        </p:nvGrpSpPr>
        <p:grpSpPr>
          <a:xfrm>
            <a:off x="2179440" y="2411280"/>
            <a:ext cx="4350600" cy="520560"/>
            <a:chOff x="2179440" y="2411280"/>
            <a:chExt cx="4350600" cy="520560"/>
          </a:xfrm>
        </p:grpSpPr>
        <p:sp>
          <p:nvSpPr>
            <p:cNvPr id="139" name="Rectangle 15"/>
            <p:cNvSpPr/>
            <p:nvPr/>
          </p:nvSpPr>
          <p:spPr>
            <a:xfrm>
              <a:off x="2179440" y="2411280"/>
              <a:ext cx="428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2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集合   称为是相对紧的，若      紧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40" name="Object 7"/>
            <p:cNvGraphicFramePr/>
            <p:nvPr/>
          </p:nvGraphicFramePr>
          <p:xfrm>
            <a:off x="6155640" y="2485080"/>
            <a:ext cx="374400" cy="37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1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155640" y="2485080"/>
                      <a:ext cx="374400" cy="37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2" name="Object 18"/>
            <p:cNvGraphicFramePr/>
            <p:nvPr/>
          </p:nvGraphicFramePr>
          <p:xfrm>
            <a:off x="2555640" y="2510640"/>
            <a:ext cx="398160" cy="323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3" name="Object 1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55640" y="2510640"/>
                      <a:ext cx="398160" cy="32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4" name="组合 35"/>
          <p:cNvGrpSpPr/>
          <p:nvPr/>
        </p:nvGrpSpPr>
        <p:grpSpPr>
          <a:xfrm>
            <a:off x="1990080" y="3040200"/>
            <a:ext cx="6671160" cy="677880"/>
            <a:chOff x="1990080" y="3040200"/>
            <a:chExt cx="6671160" cy="677880"/>
          </a:xfrm>
        </p:grpSpPr>
        <p:sp>
          <p:nvSpPr>
            <p:cNvPr id="145" name="Rectangle 15"/>
            <p:cNvSpPr/>
            <p:nvPr/>
          </p:nvSpPr>
          <p:spPr>
            <a:xfrm>
              <a:off x="1990080" y="3040200"/>
              <a:ext cx="454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3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集合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称为   的    网，若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46" name="Object 8"/>
            <p:cNvGraphicFramePr/>
            <p:nvPr/>
          </p:nvGraphicFramePr>
          <p:xfrm>
            <a:off x="2627640" y="3178080"/>
            <a:ext cx="941400" cy="247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7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627640" y="3178080"/>
                      <a:ext cx="941400" cy="24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8" name="Object 9"/>
            <p:cNvGraphicFramePr/>
            <p:nvPr/>
          </p:nvGraphicFramePr>
          <p:xfrm>
            <a:off x="5004000" y="3154680"/>
            <a:ext cx="357120" cy="294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49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004000" y="3154680"/>
                      <a:ext cx="357120" cy="2941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50" name="Object 10"/>
            <p:cNvGraphicFramePr/>
            <p:nvPr/>
          </p:nvGraphicFramePr>
          <p:xfrm>
            <a:off x="6514920" y="3147480"/>
            <a:ext cx="2146320" cy="5706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51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514920" y="3147480"/>
                      <a:ext cx="2146320" cy="57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2" name="Object 31"/>
            <p:cNvGraphicFramePr/>
            <p:nvPr/>
          </p:nvGraphicFramePr>
          <p:xfrm>
            <a:off x="4271760" y="3139920"/>
            <a:ext cx="398160" cy="3240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53" name="Object 3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271760" y="3139920"/>
                      <a:ext cx="398160" cy="32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4" name="组合 34"/>
          <p:cNvGrpSpPr/>
          <p:nvPr/>
        </p:nvGrpSpPr>
        <p:grpSpPr>
          <a:xfrm>
            <a:off x="892800" y="3589200"/>
            <a:ext cx="6715440" cy="947160"/>
            <a:chOff x="892800" y="3589200"/>
            <a:chExt cx="6715440" cy="947160"/>
          </a:xfrm>
        </p:grpSpPr>
        <p:sp>
          <p:nvSpPr>
            <p:cNvPr id="155" name="Rectangle 15"/>
            <p:cNvSpPr/>
            <p:nvPr/>
          </p:nvSpPr>
          <p:spPr>
            <a:xfrm>
              <a:off x="1674360" y="3589200"/>
              <a:ext cx="534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4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集合   称为是完全有界的，若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中存在由有限个元素构成的    的   网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56" name="Object 11"/>
            <p:cNvGraphicFramePr/>
            <p:nvPr/>
          </p:nvGraphicFramePr>
          <p:xfrm>
            <a:off x="6589080" y="3761280"/>
            <a:ext cx="1019160" cy="3049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7" name="Object 11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589080" y="3761280"/>
                      <a:ext cx="101916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8" name="Object 12"/>
            <p:cNvGraphicFramePr/>
            <p:nvPr/>
          </p:nvGraphicFramePr>
          <p:xfrm>
            <a:off x="6156720" y="4155480"/>
            <a:ext cx="357120" cy="2941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59" name="Object 12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156720" y="4155480"/>
                      <a:ext cx="357120" cy="2941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60" name="Object 32"/>
            <p:cNvGraphicFramePr/>
            <p:nvPr/>
          </p:nvGraphicFramePr>
          <p:xfrm>
            <a:off x="2556000" y="3729240"/>
            <a:ext cx="398160" cy="3240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61" name="Object 32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56000" y="3729240"/>
                      <a:ext cx="398160" cy="32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2" name="Object 33"/>
            <p:cNvGraphicFramePr/>
            <p:nvPr/>
          </p:nvGraphicFramePr>
          <p:xfrm>
            <a:off x="5436720" y="4100760"/>
            <a:ext cx="398160" cy="32400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63" name="Object 33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5436720" y="4100760"/>
                      <a:ext cx="398160" cy="32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4" name="Object 34"/>
            <p:cNvGraphicFramePr/>
            <p:nvPr/>
          </p:nvGraphicFramePr>
          <p:xfrm>
            <a:off x="892800" y="4155480"/>
            <a:ext cx="388800" cy="2703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65" name="Object 34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92800" y="4155480"/>
                      <a:ext cx="388800" cy="27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6" name="组合 32"/>
          <p:cNvGrpSpPr/>
          <p:nvPr/>
        </p:nvGrpSpPr>
        <p:grpSpPr>
          <a:xfrm>
            <a:off x="770040" y="1166760"/>
            <a:ext cx="7695360" cy="1373760"/>
            <a:chOff x="770040" y="1166760"/>
            <a:chExt cx="7695360" cy="1373760"/>
          </a:xfrm>
        </p:grpSpPr>
        <p:sp>
          <p:nvSpPr>
            <p:cNvPr id="167" name="Rectangle 15"/>
            <p:cNvSpPr/>
            <p:nvPr/>
          </p:nvSpPr>
          <p:spPr>
            <a:xfrm>
              <a:off x="805320" y="1166760"/>
              <a:ext cx="76600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1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集合    称为是紧的，若   中的任一开集族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覆盖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即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时，其中存在有限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个开集覆盖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68" name="Object 5"/>
            <p:cNvGraphicFramePr/>
            <p:nvPr/>
          </p:nvGraphicFramePr>
          <p:xfrm>
            <a:off x="770040" y="1662840"/>
            <a:ext cx="1595160" cy="392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169" name="Object 5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770040" y="1662840"/>
                      <a:ext cx="159516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0" name="Object 6"/>
            <p:cNvGraphicFramePr/>
            <p:nvPr/>
          </p:nvGraphicFramePr>
          <p:xfrm>
            <a:off x="4106160" y="1660320"/>
            <a:ext cx="1412640" cy="53028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171" name="Object 6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4106160" y="1660320"/>
                      <a:ext cx="1412640" cy="53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2" name="Object 26"/>
            <p:cNvGraphicFramePr/>
            <p:nvPr/>
          </p:nvGraphicFramePr>
          <p:xfrm>
            <a:off x="2594160" y="1228320"/>
            <a:ext cx="398160" cy="3232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173" name="Object 26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2594160" y="1228320"/>
                      <a:ext cx="398160" cy="32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4" name="Object 27"/>
            <p:cNvGraphicFramePr/>
            <p:nvPr/>
          </p:nvGraphicFramePr>
          <p:xfrm>
            <a:off x="5474520" y="1300320"/>
            <a:ext cx="388800" cy="2700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175" name="Object 27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5474520" y="1300320"/>
                      <a:ext cx="388800" cy="2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6" name="Object 29"/>
            <p:cNvGraphicFramePr/>
            <p:nvPr/>
          </p:nvGraphicFramePr>
          <p:xfrm>
            <a:off x="2412000" y="2112840"/>
            <a:ext cx="398160" cy="3232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177" name="Object 29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2412000" y="2112840"/>
                      <a:ext cx="398160" cy="32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8" name="Object 30"/>
            <p:cNvGraphicFramePr/>
            <p:nvPr/>
          </p:nvGraphicFramePr>
          <p:xfrm>
            <a:off x="3174120" y="1697040"/>
            <a:ext cx="398160" cy="323280"/>
          </p:xfrm>
          <a:graphic>
            <a:graphicData uri="http://schemas.openxmlformats.org/presentationml/2006/ole">
              <p:oleObj r:id="rId37" spid="">
                <p:embed/>
                <p:pic>
                  <p:nvPicPr>
                    <p:cNvPr id="179" name="Object 30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3174120" y="1697040"/>
                      <a:ext cx="398160" cy="32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"/>
          <p:cNvSpPr/>
          <p:nvPr/>
        </p:nvSpPr>
        <p:spPr>
          <a:xfrm>
            <a:off x="214200" y="588960"/>
            <a:ext cx="17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c5900"/>
                </a:solidFill>
                <a:latin typeface="华文新魏"/>
                <a:ea typeface="华文新魏"/>
              </a:rPr>
              <a:t>注意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357120" y="208908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c5900"/>
                </a:solidFill>
                <a:latin typeface="华文新魏"/>
                <a:ea typeface="华文新魏"/>
              </a:rPr>
              <a:t>例</a:t>
            </a:r>
            <a:r>
              <a:rPr b="1" lang="en-US" sz="3600" spc="-1" strike="noStrike">
                <a:solidFill>
                  <a:srgbClr val="dc5900"/>
                </a:solidFill>
                <a:latin typeface="华文新魏"/>
                <a:ea typeface="华文新魏"/>
              </a:rPr>
              <a:t>1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82" name="组合 22"/>
          <p:cNvGrpSpPr/>
          <p:nvPr/>
        </p:nvGrpSpPr>
        <p:grpSpPr>
          <a:xfrm>
            <a:off x="1971720" y="2143080"/>
            <a:ext cx="5014800" cy="606600"/>
            <a:chOff x="1971720" y="2143080"/>
            <a:chExt cx="5014800" cy="606600"/>
          </a:xfrm>
        </p:grpSpPr>
        <p:sp>
          <p:nvSpPr>
            <p:cNvPr id="183" name="Rectangle 15"/>
            <p:cNvSpPr/>
            <p:nvPr/>
          </p:nvSpPr>
          <p:spPr>
            <a:xfrm>
              <a:off x="1971720" y="2143080"/>
              <a:ext cx="205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对于           ，若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84" name="Object 5"/>
            <p:cNvGraphicFramePr/>
            <p:nvPr/>
          </p:nvGraphicFramePr>
          <p:xfrm>
            <a:off x="2643120" y="2196720"/>
            <a:ext cx="888840" cy="304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5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43120" y="2196720"/>
                      <a:ext cx="88884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6" name="Object 6"/>
            <p:cNvGraphicFramePr/>
            <p:nvPr/>
          </p:nvGraphicFramePr>
          <p:xfrm>
            <a:off x="4317840" y="2196720"/>
            <a:ext cx="2668680" cy="55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7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17840" y="2196720"/>
                      <a:ext cx="2668680" cy="55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88" name="Object 7"/>
          <p:cNvGraphicFramePr/>
          <p:nvPr/>
        </p:nvGraphicFramePr>
        <p:xfrm>
          <a:off x="1714680" y="2732040"/>
          <a:ext cx="198720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14680" y="2732040"/>
                    <a:ext cx="1987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Text Box 3"/>
          <p:cNvSpPr/>
          <p:nvPr/>
        </p:nvSpPr>
        <p:spPr>
          <a:xfrm>
            <a:off x="285840" y="3160800"/>
            <a:ext cx="12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91" name="组合 23"/>
          <p:cNvGrpSpPr/>
          <p:nvPr/>
        </p:nvGrpSpPr>
        <p:grpSpPr>
          <a:xfrm>
            <a:off x="2150640" y="3214800"/>
            <a:ext cx="4491360" cy="520560"/>
            <a:chOff x="2150640" y="3214800"/>
            <a:chExt cx="4491360" cy="520560"/>
          </a:xfrm>
        </p:grpSpPr>
        <p:sp>
          <p:nvSpPr>
            <p:cNvPr id="192" name="Rectangle 15"/>
            <p:cNvSpPr/>
            <p:nvPr/>
          </p:nvSpPr>
          <p:spPr>
            <a:xfrm>
              <a:off x="2150640" y="32148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对于任何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93" name="Object 14"/>
            <p:cNvGraphicFramePr/>
            <p:nvPr/>
          </p:nvGraphicFramePr>
          <p:xfrm>
            <a:off x="3571560" y="3322080"/>
            <a:ext cx="888840" cy="267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4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571560" y="3322080"/>
                      <a:ext cx="888840" cy="26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5" name="Object 15"/>
            <p:cNvGraphicFramePr/>
            <p:nvPr/>
          </p:nvGraphicFramePr>
          <p:xfrm>
            <a:off x="4786200" y="3214800"/>
            <a:ext cx="1855800" cy="400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96" name="Object 15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786200" y="3214800"/>
                      <a:ext cx="1855800" cy="40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7" name="组合 32"/>
          <p:cNvGrpSpPr/>
          <p:nvPr/>
        </p:nvGrpSpPr>
        <p:grpSpPr>
          <a:xfrm>
            <a:off x="1964160" y="3724200"/>
            <a:ext cx="6189840" cy="647640"/>
            <a:chOff x="1964160" y="3724200"/>
            <a:chExt cx="6189840" cy="647640"/>
          </a:xfrm>
        </p:grpSpPr>
        <p:sp>
          <p:nvSpPr>
            <p:cNvPr id="198" name="Rectangle 15"/>
            <p:cNvSpPr/>
            <p:nvPr/>
          </p:nvSpPr>
          <p:spPr>
            <a:xfrm>
              <a:off x="1964160" y="3803760"/>
              <a:ext cx="618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取                       ，则                是   的开覆盖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99" name="Object 16"/>
            <p:cNvGraphicFramePr/>
            <p:nvPr/>
          </p:nvGraphicFramePr>
          <p:xfrm>
            <a:off x="2266560" y="3724200"/>
            <a:ext cx="1882800" cy="6476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00" name="Object 1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266560" y="3724200"/>
                      <a:ext cx="188280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1" name="Object 17"/>
            <p:cNvGraphicFramePr/>
            <p:nvPr/>
          </p:nvGraphicFramePr>
          <p:xfrm>
            <a:off x="5143320" y="3857400"/>
            <a:ext cx="1358640" cy="380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02" name="Object 17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143320" y="3857400"/>
                      <a:ext cx="13586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3" name="Object 26"/>
            <p:cNvGraphicFramePr/>
            <p:nvPr/>
          </p:nvGraphicFramePr>
          <p:xfrm>
            <a:off x="6895080" y="3903480"/>
            <a:ext cx="398160" cy="3236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04" name="Object 26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895080" y="3903480"/>
                      <a:ext cx="398160" cy="32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5" name="Group 33"/>
          <p:cNvGrpSpPr/>
          <p:nvPr/>
        </p:nvGrpSpPr>
        <p:grpSpPr>
          <a:xfrm>
            <a:off x="2540880" y="542880"/>
            <a:ext cx="5099760" cy="1373760"/>
            <a:chOff x="2540880" y="542880"/>
            <a:chExt cx="5099760" cy="1373760"/>
          </a:xfrm>
        </p:grpSpPr>
        <p:sp>
          <p:nvSpPr>
            <p:cNvPr id="206" name="Rectangle 15"/>
            <p:cNvSpPr/>
            <p:nvPr/>
          </p:nvSpPr>
          <p:spPr>
            <a:xfrm>
              <a:off x="2540880" y="542880"/>
              <a:ext cx="44877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在定义</a:t>
              </a: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(3)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中，作为   的   网的集合  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并没有要求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对于一个集合来说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是否要求           并不改变其完全有界性</a:t>
              </a: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07" name="Object 2"/>
            <p:cNvGraphicFramePr/>
            <p:nvPr/>
          </p:nvGraphicFramePr>
          <p:xfrm>
            <a:off x="5364000" y="637920"/>
            <a:ext cx="357480" cy="2941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08" name="Object 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364000" y="637920"/>
                      <a:ext cx="357480" cy="29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9" name="Object 3"/>
            <p:cNvGraphicFramePr/>
            <p:nvPr/>
          </p:nvGraphicFramePr>
          <p:xfrm>
            <a:off x="3494160" y="1112400"/>
            <a:ext cx="888840" cy="2476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10" name="Object 3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494160" y="1112400"/>
                      <a:ext cx="888840" cy="24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1" name="Object 4"/>
            <p:cNvGraphicFramePr/>
            <p:nvPr/>
          </p:nvGraphicFramePr>
          <p:xfrm>
            <a:off x="3129120" y="1491480"/>
            <a:ext cx="961920" cy="2678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12" name="Object 4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3129120" y="1491480"/>
                      <a:ext cx="961920" cy="26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3" name="Object 27"/>
            <p:cNvGraphicFramePr/>
            <p:nvPr/>
          </p:nvGraphicFramePr>
          <p:xfrm>
            <a:off x="4768920" y="599040"/>
            <a:ext cx="398520" cy="32400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14" name="Object 27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768920" y="599040"/>
                      <a:ext cx="398520" cy="32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5" name="Object 28"/>
            <p:cNvGraphicFramePr/>
            <p:nvPr/>
          </p:nvGraphicFramePr>
          <p:xfrm>
            <a:off x="7283520" y="641520"/>
            <a:ext cx="357120" cy="29052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216" name="Object 28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7283520" y="641520"/>
                      <a:ext cx="357120" cy="29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7" name="组合 31"/>
          <p:cNvGrpSpPr/>
          <p:nvPr/>
        </p:nvGrpSpPr>
        <p:grpSpPr>
          <a:xfrm>
            <a:off x="4265280" y="2732040"/>
            <a:ext cx="1803600" cy="520560"/>
            <a:chOff x="4265280" y="2732040"/>
            <a:chExt cx="1803600" cy="520560"/>
          </a:xfrm>
        </p:grpSpPr>
        <p:sp>
          <p:nvSpPr>
            <p:cNvPr id="218" name="Rectangle 15"/>
            <p:cNvSpPr/>
            <p:nvPr/>
          </p:nvSpPr>
          <p:spPr>
            <a:xfrm>
              <a:off x="4265280" y="2732040"/>
              <a:ext cx="180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则    不是紧集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19" name="Object 29"/>
            <p:cNvGraphicFramePr/>
            <p:nvPr/>
          </p:nvGraphicFramePr>
          <p:xfrm>
            <a:off x="4356000" y="2733120"/>
            <a:ext cx="398160" cy="32436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220" name="Object 29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4356000" y="2733120"/>
                      <a:ext cx="398160" cy="3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1" name="组合 33"/>
          <p:cNvGrpSpPr/>
          <p:nvPr/>
        </p:nvGrpSpPr>
        <p:grpSpPr>
          <a:xfrm>
            <a:off x="2320560" y="4343400"/>
            <a:ext cx="4483440" cy="520560"/>
            <a:chOff x="2320560" y="4343400"/>
            <a:chExt cx="4483440" cy="520560"/>
          </a:xfrm>
        </p:grpSpPr>
        <p:sp>
          <p:nvSpPr>
            <p:cNvPr id="222" name="Rectangle 15"/>
            <p:cNvSpPr/>
            <p:nvPr/>
          </p:nvSpPr>
          <p:spPr>
            <a:xfrm>
              <a:off x="2320560" y="4343400"/>
              <a:ext cx="363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但其中不包含任何有限子族覆盖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23" name="Object 30"/>
            <p:cNvGraphicFramePr/>
            <p:nvPr/>
          </p:nvGraphicFramePr>
          <p:xfrm>
            <a:off x="6405840" y="4442760"/>
            <a:ext cx="398160" cy="32328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224" name="Object 30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405840" y="4442760"/>
                      <a:ext cx="398160" cy="32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3"/>
          <p:cNvSpPr/>
          <p:nvPr/>
        </p:nvSpPr>
        <p:spPr>
          <a:xfrm>
            <a:off x="214200" y="1446120"/>
            <a:ext cx="12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说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Rectangle 15"/>
          <p:cNvSpPr/>
          <p:nvPr/>
        </p:nvSpPr>
        <p:spPr>
          <a:xfrm>
            <a:off x="2327760" y="1500120"/>
            <a:ext cx="54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在无穷维空间，有界闭集并不一定是紧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即在无穷维空间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Heine-Bor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定理并不成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" name="Rectangle 15"/>
          <p:cNvSpPr/>
          <p:nvPr/>
        </p:nvSpPr>
        <p:spPr>
          <a:xfrm>
            <a:off x="2725920" y="2757600"/>
            <a:ext cx="40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由定义，完全有界集一定是有界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28" name="Object 6"/>
          <p:cNvGraphicFramePr/>
          <p:nvPr/>
        </p:nvGraphicFramePr>
        <p:xfrm>
          <a:off x="2643120" y="4203720"/>
          <a:ext cx="4624560" cy="52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3120" y="4203720"/>
                    <a:ext cx="462456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0" name="组合 16"/>
          <p:cNvGrpSpPr/>
          <p:nvPr/>
        </p:nvGrpSpPr>
        <p:grpSpPr>
          <a:xfrm>
            <a:off x="1835640" y="642960"/>
            <a:ext cx="4770000" cy="947160"/>
            <a:chOff x="1835640" y="642960"/>
            <a:chExt cx="4770000" cy="947160"/>
          </a:xfrm>
        </p:grpSpPr>
        <p:sp>
          <p:nvSpPr>
            <p:cNvPr id="231" name="Rectangle 15"/>
            <p:cNvSpPr/>
            <p:nvPr/>
          </p:nvSpPr>
          <p:spPr>
            <a:xfrm>
              <a:off x="2201760" y="642960"/>
              <a:ext cx="4403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注意   是     中的有界集，由于   中不存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Cauchy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序列，所以它还是闭集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32" name="Object 9"/>
            <p:cNvGraphicFramePr/>
            <p:nvPr/>
          </p:nvGraphicFramePr>
          <p:xfrm>
            <a:off x="2628000" y="673560"/>
            <a:ext cx="357120" cy="378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3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28000" y="673560"/>
                      <a:ext cx="357120" cy="37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4" name="Object 15"/>
            <p:cNvGraphicFramePr/>
            <p:nvPr/>
          </p:nvGraphicFramePr>
          <p:xfrm>
            <a:off x="1835640" y="665280"/>
            <a:ext cx="398160" cy="323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5" name="Object 1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35640" y="665280"/>
                      <a:ext cx="398160" cy="32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6" name="Object 16"/>
            <p:cNvGraphicFramePr/>
            <p:nvPr/>
          </p:nvGraphicFramePr>
          <p:xfrm>
            <a:off x="5796720" y="699480"/>
            <a:ext cx="398160" cy="323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7" name="Object 1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96720" y="699480"/>
                      <a:ext cx="398160" cy="32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8" name="组合 18"/>
          <p:cNvGrpSpPr/>
          <p:nvPr/>
        </p:nvGrpSpPr>
        <p:grpSpPr>
          <a:xfrm>
            <a:off x="2123280" y="3289320"/>
            <a:ext cx="4804560" cy="947160"/>
            <a:chOff x="2123280" y="3289320"/>
            <a:chExt cx="4804560" cy="947160"/>
          </a:xfrm>
        </p:grpSpPr>
        <p:sp>
          <p:nvSpPr>
            <p:cNvPr id="239" name="Rectangle 15"/>
            <p:cNvSpPr/>
            <p:nvPr/>
          </p:nvSpPr>
          <p:spPr>
            <a:xfrm>
              <a:off x="2382480" y="3289320"/>
              <a:ext cx="4545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                是完全有界集   的     网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则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40" name="Object 3"/>
            <p:cNvGraphicFramePr/>
            <p:nvPr/>
          </p:nvGraphicFramePr>
          <p:xfrm>
            <a:off x="2123280" y="3309480"/>
            <a:ext cx="1395360" cy="426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41" name="Object 3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123280" y="3309480"/>
                      <a:ext cx="1395360" cy="42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2" name="Object 4"/>
            <p:cNvGraphicFramePr/>
            <p:nvPr/>
          </p:nvGraphicFramePr>
          <p:xfrm>
            <a:off x="6516720" y="3458520"/>
            <a:ext cx="325440" cy="2595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43" name="Object 4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516720" y="3458520"/>
                      <a:ext cx="325440" cy="25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4" name="Object 5"/>
            <p:cNvGraphicFramePr/>
            <p:nvPr/>
          </p:nvGraphicFramePr>
          <p:xfrm>
            <a:off x="2298960" y="3770640"/>
            <a:ext cx="2327400" cy="3963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45" name="Object 5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298960" y="3770640"/>
                      <a:ext cx="2327400" cy="39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6" name="Object 17"/>
            <p:cNvGraphicFramePr/>
            <p:nvPr/>
          </p:nvGraphicFramePr>
          <p:xfrm>
            <a:off x="5724360" y="3431160"/>
            <a:ext cx="398520" cy="3236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47" name="Object 17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724360" y="3431160"/>
                      <a:ext cx="398520" cy="32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3"/>
          <p:cNvSpPr/>
          <p:nvPr/>
        </p:nvSpPr>
        <p:spPr>
          <a:xfrm>
            <a:off x="285840" y="58896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357120" y="2517840"/>
            <a:ext cx="12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50" name="Object 8"/>
          <p:cNvGraphicFramePr/>
          <p:nvPr/>
        </p:nvGraphicFramePr>
        <p:xfrm>
          <a:off x="1714680" y="2689200"/>
          <a:ext cx="1284120" cy="31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4680" y="2689200"/>
                    <a:ext cx="1284120" cy="314280"/>
                  </a:xfrm>
                  <a:prstGeom prst="rect">
                    <a:avLst/>
                  </a:prstGeom>
                  <a:ln cap="rnd" w="936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2" name="Object 13"/>
          <p:cNvGraphicFramePr/>
          <p:nvPr/>
        </p:nvGraphicFramePr>
        <p:xfrm>
          <a:off x="2928960" y="4075200"/>
          <a:ext cx="377496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28960" y="4075200"/>
                    <a:ext cx="377496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4" name="组合 30"/>
          <p:cNvGrpSpPr/>
          <p:nvPr/>
        </p:nvGrpSpPr>
        <p:grpSpPr>
          <a:xfrm>
            <a:off x="2090880" y="642960"/>
            <a:ext cx="5732280" cy="520560"/>
            <a:chOff x="2090880" y="642960"/>
            <a:chExt cx="5732280" cy="520560"/>
          </a:xfrm>
        </p:grpSpPr>
        <p:sp>
          <p:nvSpPr>
            <p:cNvPr id="255" name="Rectangle 15"/>
            <p:cNvSpPr/>
            <p:nvPr/>
          </p:nvSpPr>
          <p:spPr>
            <a:xfrm>
              <a:off x="2927160" y="642960"/>
              <a:ext cx="489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设    是度量空间，          则下列两条件等价：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56" name="Object 2"/>
            <p:cNvGraphicFramePr/>
            <p:nvPr/>
          </p:nvGraphicFramePr>
          <p:xfrm>
            <a:off x="4416840" y="817200"/>
            <a:ext cx="1020600" cy="315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7" name="Object 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416840" y="817200"/>
                      <a:ext cx="1020600" cy="31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8" name="Object 26"/>
            <p:cNvGraphicFramePr/>
            <p:nvPr/>
          </p:nvGraphicFramePr>
          <p:xfrm>
            <a:off x="2090880" y="735480"/>
            <a:ext cx="465120" cy="324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59" name="Object 2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090880" y="735480"/>
                      <a:ext cx="465120" cy="32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60" name="组合 31"/>
          <p:cNvGrpSpPr/>
          <p:nvPr/>
        </p:nvGrpSpPr>
        <p:grpSpPr>
          <a:xfrm>
            <a:off x="1515960" y="1112760"/>
            <a:ext cx="2044440" cy="520560"/>
            <a:chOff x="1515960" y="1112760"/>
            <a:chExt cx="2044440" cy="520560"/>
          </a:xfrm>
        </p:grpSpPr>
        <p:sp>
          <p:nvSpPr>
            <p:cNvPr id="261" name="Rectangle 15"/>
            <p:cNvSpPr/>
            <p:nvPr/>
          </p:nvSpPr>
          <p:spPr>
            <a:xfrm>
              <a:off x="1515960" y="1112760"/>
              <a:ext cx="204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1)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紧集；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62" name="Object 27"/>
            <p:cNvGraphicFramePr/>
            <p:nvPr/>
          </p:nvGraphicFramePr>
          <p:xfrm>
            <a:off x="1763640" y="1167120"/>
            <a:ext cx="398520" cy="324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63" name="Object 2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763640" y="1167120"/>
                      <a:ext cx="398520" cy="3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64" name="组合 32"/>
          <p:cNvGrpSpPr/>
          <p:nvPr/>
        </p:nvGrpSpPr>
        <p:grpSpPr>
          <a:xfrm>
            <a:off x="1639440" y="1654200"/>
            <a:ext cx="6638760" cy="947160"/>
            <a:chOff x="1639440" y="1654200"/>
            <a:chExt cx="6638760" cy="947160"/>
          </a:xfrm>
        </p:grpSpPr>
        <p:sp>
          <p:nvSpPr>
            <p:cNvPr id="265" name="Rectangle 15"/>
            <p:cNvSpPr/>
            <p:nvPr/>
          </p:nvSpPr>
          <p:spPr>
            <a:xfrm>
              <a:off x="1639440" y="1654200"/>
              <a:ext cx="6179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2)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中任一无穷序列       包含有子序列       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并且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66" name="Object 3"/>
            <p:cNvGraphicFramePr/>
            <p:nvPr/>
          </p:nvGraphicFramePr>
          <p:xfrm>
            <a:off x="4785840" y="1707840"/>
            <a:ext cx="628560" cy="3927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67" name="Object 3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785840" y="1707840"/>
                      <a:ext cx="628560" cy="39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8" name="Object 4"/>
            <p:cNvGraphicFramePr/>
            <p:nvPr/>
          </p:nvGraphicFramePr>
          <p:xfrm>
            <a:off x="7571880" y="1668240"/>
            <a:ext cx="706320" cy="4716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69" name="Object 4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571880" y="1668240"/>
                      <a:ext cx="70632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0" name="Object 5"/>
            <p:cNvGraphicFramePr/>
            <p:nvPr/>
          </p:nvGraphicFramePr>
          <p:xfrm>
            <a:off x="1682640" y="2102400"/>
            <a:ext cx="1142640" cy="3974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71" name="Object 5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682640" y="2102400"/>
                      <a:ext cx="1142640" cy="39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2" name="Object 6"/>
            <p:cNvGraphicFramePr/>
            <p:nvPr/>
          </p:nvGraphicFramePr>
          <p:xfrm>
            <a:off x="3682800" y="2151000"/>
            <a:ext cx="1031760" cy="3492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73" name="Object 6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682800" y="2151000"/>
                      <a:ext cx="1031760" cy="34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4" name="Object 28"/>
            <p:cNvGraphicFramePr/>
            <p:nvPr/>
          </p:nvGraphicFramePr>
          <p:xfrm>
            <a:off x="1834920" y="1744200"/>
            <a:ext cx="398160" cy="3236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75" name="Object 28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1834920" y="1744200"/>
                      <a:ext cx="398160" cy="32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76" name="组合 33"/>
          <p:cNvGrpSpPr/>
          <p:nvPr/>
        </p:nvGrpSpPr>
        <p:grpSpPr>
          <a:xfrm>
            <a:off x="3597480" y="2571840"/>
            <a:ext cx="4153320" cy="520560"/>
            <a:chOff x="3597480" y="2571840"/>
            <a:chExt cx="4153320" cy="520560"/>
          </a:xfrm>
        </p:grpSpPr>
        <p:sp>
          <p:nvSpPr>
            <p:cNvPr id="277" name="Rectangle 15"/>
            <p:cNvSpPr/>
            <p:nvPr/>
          </p:nvSpPr>
          <p:spPr>
            <a:xfrm>
              <a:off x="3944520" y="2571840"/>
              <a:ext cx="380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设   紧，      是    中的无穷序列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78" name="Object 7"/>
            <p:cNvGraphicFramePr/>
            <p:nvPr/>
          </p:nvGraphicFramePr>
          <p:xfrm>
            <a:off x="4572000" y="2683080"/>
            <a:ext cx="628560" cy="39348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79" name="Object 7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4572000" y="2683080"/>
                      <a:ext cx="62856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0" name="Object 29"/>
            <p:cNvGraphicFramePr/>
            <p:nvPr/>
          </p:nvGraphicFramePr>
          <p:xfrm>
            <a:off x="3597480" y="2643840"/>
            <a:ext cx="398160" cy="3243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81" name="Object 29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3597480" y="2643840"/>
                      <a:ext cx="398160" cy="3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2" name="Object 30"/>
            <p:cNvGraphicFramePr/>
            <p:nvPr/>
          </p:nvGraphicFramePr>
          <p:xfrm>
            <a:off x="5580000" y="2752200"/>
            <a:ext cx="398160" cy="3243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283" name="Object 30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5580000" y="2752200"/>
                      <a:ext cx="398160" cy="3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4" name="组合 34"/>
          <p:cNvGrpSpPr/>
          <p:nvPr/>
        </p:nvGrpSpPr>
        <p:grpSpPr>
          <a:xfrm>
            <a:off x="1500120" y="3106800"/>
            <a:ext cx="6853320" cy="947160"/>
            <a:chOff x="1500120" y="3106800"/>
            <a:chExt cx="6853320" cy="947160"/>
          </a:xfrm>
        </p:grpSpPr>
        <p:sp>
          <p:nvSpPr>
            <p:cNvPr id="285" name="Rectangle 15"/>
            <p:cNvSpPr/>
            <p:nvPr/>
          </p:nvSpPr>
          <p:spPr>
            <a:xfrm>
              <a:off x="2321640" y="3106800"/>
              <a:ext cx="5464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       无子序列收敛于    中的元，则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和自然数        ，使得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86" name="Object 9"/>
            <p:cNvGraphicFramePr/>
            <p:nvPr/>
          </p:nvGraphicFramePr>
          <p:xfrm>
            <a:off x="1714320" y="3186360"/>
            <a:ext cx="628560" cy="3934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287" name="Object 9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1714320" y="3186360"/>
                      <a:ext cx="62856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8" name="Object 10"/>
            <p:cNvGraphicFramePr/>
            <p:nvPr/>
          </p:nvGraphicFramePr>
          <p:xfrm>
            <a:off x="7143840" y="3226680"/>
            <a:ext cx="1209600" cy="35280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289" name="Object 10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7143840" y="3226680"/>
                      <a:ext cx="12096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0" name="Object 11"/>
            <p:cNvGraphicFramePr/>
            <p:nvPr/>
          </p:nvGraphicFramePr>
          <p:xfrm>
            <a:off x="1500120" y="3615480"/>
            <a:ext cx="1087200" cy="3970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291" name="Object 11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1500120" y="3615480"/>
                      <a:ext cx="1087200" cy="39708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92" name="Object 12"/>
            <p:cNvGraphicFramePr/>
            <p:nvPr/>
          </p:nvGraphicFramePr>
          <p:xfrm>
            <a:off x="4419720" y="3615480"/>
            <a:ext cx="392040" cy="39708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293" name="Object 12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4419720" y="3615480"/>
                      <a:ext cx="392040" cy="39708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94" name="Object 31"/>
            <p:cNvGraphicFramePr/>
            <p:nvPr/>
          </p:nvGraphicFramePr>
          <p:xfrm>
            <a:off x="4932360" y="3183120"/>
            <a:ext cx="398160" cy="32436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295" name="Object 31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4932360" y="3183120"/>
                      <a:ext cx="398160" cy="3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组合 15"/>
          <p:cNvGrpSpPr/>
          <p:nvPr/>
        </p:nvGrpSpPr>
        <p:grpSpPr>
          <a:xfrm>
            <a:off x="1571760" y="536400"/>
            <a:ext cx="4665240" cy="570240"/>
            <a:chOff x="1571760" y="536400"/>
            <a:chExt cx="4665240" cy="570240"/>
          </a:xfrm>
        </p:grpSpPr>
        <p:sp>
          <p:nvSpPr>
            <p:cNvPr id="297" name="Rectangle 15"/>
            <p:cNvSpPr/>
            <p:nvPr/>
          </p:nvSpPr>
          <p:spPr>
            <a:xfrm>
              <a:off x="1746360" y="536400"/>
              <a:ext cx="449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由                       及紧性定义知：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98" name="Object 10"/>
            <p:cNvGraphicFramePr/>
            <p:nvPr/>
          </p:nvGraphicFramePr>
          <p:xfrm>
            <a:off x="1571760" y="536400"/>
            <a:ext cx="2146320" cy="570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9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71760" y="536400"/>
                      <a:ext cx="2146320" cy="57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00" name="组合 16"/>
          <p:cNvGrpSpPr/>
          <p:nvPr/>
        </p:nvGrpSpPr>
        <p:grpSpPr>
          <a:xfrm>
            <a:off x="1213560" y="965160"/>
            <a:ext cx="7087320" cy="760320"/>
            <a:chOff x="1213560" y="965160"/>
            <a:chExt cx="7087320" cy="760320"/>
          </a:xfrm>
        </p:grpSpPr>
        <p:sp>
          <p:nvSpPr>
            <p:cNvPr id="301" name="Rectangle 15"/>
            <p:cNvSpPr/>
            <p:nvPr/>
          </p:nvSpPr>
          <p:spPr>
            <a:xfrm>
              <a:off x="1213560" y="1125720"/>
              <a:ext cx="389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存在有限多个元                 ，使得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02" name="Object 3"/>
            <p:cNvGraphicFramePr/>
            <p:nvPr/>
          </p:nvGraphicFramePr>
          <p:xfrm>
            <a:off x="3214800" y="1124640"/>
            <a:ext cx="1395360" cy="427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3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14800" y="1124640"/>
                      <a:ext cx="1395360" cy="42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4" name="Object 4"/>
            <p:cNvGraphicFramePr/>
            <p:nvPr/>
          </p:nvGraphicFramePr>
          <p:xfrm>
            <a:off x="5929200" y="965160"/>
            <a:ext cx="2371680" cy="760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5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29200" y="965160"/>
                      <a:ext cx="2371680" cy="76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06" name="组合 17"/>
          <p:cNvGrpSpPr/>
          <p:nvPr/>
        </p:nvGrpSpPr>
        <p:grpSpPr>
          <a:xfrm>
            <a:off x="821520" y="1608120"/>
            <a:ext cx="3916080" cy="573840"/>
            <a:chOff x="821520" y="1608120"/>
            <a:chExt cx="3916080" cy="573840"/>
          </a:xfrm>
        </p:grpSpPr>
        <p:sp>
          <p:nvSpPr>
            <p:cNvPr id="307" name="Rectangle 15"/>
            <p:cNvSpPr/>
            <p:nvPr/>
          </p:nvSpPr>
          <p:spPr>
            <a:xfrm>
              <a:off x="821520" y="1661400"/>
              <a:ext cx="391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但当                               时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08" name="Object 5"/>
            <p:cNvGraphicFramePr/>
            <p:nvPr/>
          </p:nvGraphicFramePr>
          <p:xfrm>
            <a:off x="1357200" y="1608120"/>
            <a:ext cx="2908440" cy="506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9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357200" y="1608120"/>
                      <a:ext cx="2908440" cy="50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10" name="Object 6"/>
          <p:cNvGraphicFramePr/>
          <p:nvPr/>
        </p:nvGraphicFramePr>
        <p:xfrm>
          <a:off x="2357280" y="2089080"/>
          <a:ext cx="3957840" cy="463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1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57280" y="2089080"/>
                    <a:ext cx="395784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Rectangle 15"/>
          <p:cNvSpPr/>
          <p:nvPr/>
        </p:nvSpPr>
        <p:spPr>
          <a:xfrm>
            <a:off x="648000" y="27860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从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313" name="Object 7"/>
          <p:cNvGraphicFramePr/>
          <p:nvPr/>
        </p:nvGraphicFramePr>
        <p:xfrm>
          <a:off x="1785960" y="2786040"/>
          <a:ext cx="6253200" cy="1235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4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785960" y="2786040"/>
                    <a:ext cx="625320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Rectangle 15"/>
          <p:cNvSpPr/>
          <p:nvPr/>
        </p:nvSpPr>
        <p:spPr>
          <a:xfrm>
            <a:off x="893880" y="4071960"/>
            <a:ext cx="12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此为矛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6" name="Rectangle 15"/>
          <p:cNvSpPr/>
          <p:nvPr/>
        </p:nvSpPr>
        <p:spPr>
          <a:xfrm>
            <a:off x="2667960" y="4071960"/>
            <a:ext cx="18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于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成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Object 2"/>
          <p:cNvGraphicFramePr/>
          <p:nvPr/>
        </p:nvGraphicFramePr>
        <p:xfrm>
          <a:off x="1214280" y="750960"/>
          <a:ext cx="1284480" cy="31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750960"/>
                    <a:ext cx="128448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9" name="组合 27"/>
          <p:cNvGrpSpPr/>
          <p:nvPr/>
        </p:nvGrpSpPr>
        <p:grpSpPr>
          <a:xfrm>
            <a:off x="1829880" y="1285920"/>
            <a:ext cx="4889880" cy="520560"/>
            <a:chOff x="1829880" y="1285920"/>
            <a:chExt cx="4889880" cy="520560"/>
          </a:xfrm>
        </p:grpSpPr>
        <p:sp>
          <p:nvSpPr>
            <p:cNvPr id="320" name="Rectangle 15"/>
            <p:cNvSpPr/>
            <p:nvPr/>
          </p:nvSpPr>
          <p:spPr>
            <a:xfrm>
              <a:off x="1829880" y="1285920"/>
              <a:ext cx="260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对任意的          ，存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21" name="Object 4"/>
            <p:cNvGraphicFramePr/>
            <p:nvPr/>
          </p:nvGraphicFramePr>
          <p:xfrm>
            <a:off x="2928960" y="1339560"/>
            <a:ext cx="876240" cy="309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2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28960" y="1339560"/>
                      <a:ext cx="876240" cy="30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3" name="Object 5"/>
            <p:cNvGraphicFramePr/>
            <p:nvPr/>
          </p:nvGraphicFramePr>
          <p:xfrm>
            <a:off x="5027760" y="1285920"/>
            <a:ext cx="1692000" cy="397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4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27760" y="1285920"/>
                      <a:ext cx="1692000" cy="3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25" name="组合 28"/>
          <p:cNvGrpSpPr/>
          <p:nvPr/>
        </p:nvGrpSpPr>
        <p:grpSpPr>
          <a:xfrm>
            <a:off x="1357200" y="1820880"/>
            <a:ext cx="6462720" cy="520560"/>
            <a:chOff x="1357200" y="1820880"/>
            <a:chExt cx="6462720" cy="520560"/>
          </a:xfrm>
        </p:grpSpPr>
        <p:graphicFrame>
          <p:nvGraphicFramePr>
            <p:cNvPr id="326" name="Object 6"/>
            <p:cNvGraphicFramePr/>
            <p:nvPr/>
          </p:nvGraphicFramePr>
          <p:xfrm>
            <a:off x="1357200" y="1820880"/>
            <a:ext cx="484200" cy="39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27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357200" y="1820880"/>
                      <a:ext cx="484200" cy="3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8" name="Rectangle 15"/>
            <p:cNvSpPr/>
            <p:nvPr/>
          </p:nvSpPr>
          <p:spPr>
            <a:xfrm>
              <a:off x="2223360" y="1820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为开集，故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29" name="Object 7"/>
            <p:cNvGraphicFramePr/>
            <p:nvPr/>
          </p:nvGraphicFramePr>
          <p:xfrm>
            <a:off x="4071960" y="1820880"/>
            <a:ext cx="3747960" cy="429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30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071960" y="1820880"/>
                      <a:ext cx="3747960" cy="42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31" name="组合 30"/>
          <p:cNvGrpSpPr/>
          <p:nvPr/>
        </p:nvGrpSpPr>
        <p:grpSpPr>
          <a:xfrm>
            <a:off x="788760" y="2463840"/>
            <a:ext cx="5183280" cy="520560"/>
            <a:chOff x="788760" y="2463840"/>
            <a:chExt cx="5183280" cy="520560"/>
          </a:xfrm>
        </p:grpSpPr>
        <p:sp>
          <p:nvSpPr>
            <p:cNvPr id="332" name="Rectangle 15"/>
            <p:cNvSpPr/>
            <p:nvPr/>
          </p:nvSpPr>
          <p:spPr>
            <a:xfrm>
              <a:off x="788760" y="24638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记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33" name="Object 8"/>
            <p:cNvGraphicFramePr/>
            <p:nvPr/>
          </p:nvGraphicFramePr>
          <p:xfrm>
            <a:off x="1285560" y="2463840"/>
            <a:ext cx="4686480" cy="477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34" name="Object 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285560" y="2463840"/>
                      <a:ext cx="4686480" cy="47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35" name="组合 29"/>
          <p:cNvGrpSpPr/>
          <p:nvPr/>
        </p:nvGrpSpPr>
        <p:grpSpPr>
          <a:xfrm>
            <a:off x="6149520" y="2517840"/>
            <a:ext cx="3188880" cy="520560"/>
            <a:chOff x="6149520" y="2517840"/>
            <a:chExt cx="3188880" cy="520560"/>
          </a:xfrm>
        </p:grpSpPr>
        <p:sp>
          <p:nvSpPr>
            <p:cNvPr id="336" name="Rectangle 15"/>
            <p:cNvSpPr/>
            <p:nvPr/>
          </p:nvSpPr>
          <p:spPr>
            <a:xfrm>
              <a:off x="6149520" y="2517840"/>
              <a:ext cx="318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显然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37" name="Object 9"/>
            <p:cNvGraphicFramePr/>
            <p:nvPr/>
          </p:nvGraphicFramePr>
          <p:xfrm>
            <a:off x="6929280" y="2517840"/>
            <a:ext cx="906120" cy="429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38" name="Object 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29280" y="2517840"/>
                      <a:ext cx="906120" cy="4291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339" name="Text Box 3"/>
          <p:cNvSpPr/>
          <p:nvPr/>
        </p:nvSpPr>
        <p:spPr>
          <a:xfrm>
            <a:off x="285840" y="300024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下面我们证明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40" name="组合 32"/>
          <p:cNvGrpSpPr/>
          <p:nvPr/>
        </p:nvGrpSpPr>
        <p:grpSpPr>
          <a:xfrm>
            <a:off x="1943640" y="3535200"/>
            <a:ext cx="5287320" cy="520560"/>
            <a:chOff x="1943640" y="3535200"/>
            <a:chExt cx="5287320" cy="520560"/>
          </a:xfrm>
        </p:grpSpPr>
        <p:sp>
          <p:nvSpPr>
            <p:cNvPr id="341" name="Rectangle 15"/>
            <p:cNvSpPr/>
            <p:nvPr/>
          </p:nvSpPr>
          <p:spPr>
            <a:xfrm>
              <a:off x="1943640" y="353520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由下确界定义，存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42" name="Object 12"/>
            <p:cNvGraphicFramePr/>
            <p:nvPr/>
          </p:nvGraphicFramePr>
          <p:xfrm>
            <a:off x="4813200" y="3535200"/>
            <a:ext cx="2417760" cy="4212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43" name="Object 12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813200" y="3535200"/>
                      <a:ext cx="2417760" cy="42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44" name="组合 33"/>
          <p:cNvGrpSpPr/>
          <p:nvPr/>
        </p:nvGrpSpPr>
        <p:grpSpPr>
          <a:xfrm>
            <a:off x="1714680" y="4071960"/>
            <a:ext cx="5457600" cy="520560"/>
            <a:chOff x="1714680" y="4071960"/>
            <a:chExt cx="5457600" cy="520560"/>
          </a:xfrm>
        </p:grpSpPr>
        <p:sp>
          <p:nvSpPr>
            <p:cNvPr id="345" name="Rectangle 15"/>
            <p:cNvSpPr/>
            <p:nvPr/>
          </p:nvSpPr>
          <p:spPr>
            <a:xfrm>
              <a:off x="1714680" y="4071960"/>
              <a:ext cx="22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2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，存在子序列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46" name="Object 13"/>
            <p:cNvGraphicFramePr/>
            <p:nvPr/>
          </p:nvGraphicFramePr>
          <p:xfrm>
            <a:off x="4541760" y="4071960"/>
            <a:ext cx="2630520" cy="420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47" name="Object 13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541760" y="4071960"/>
                      <a:ext cx="2630520" cy="42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48" name="组合 32"/>
          <p:cNvGrpSpPr/>
          <p:nvPr/>
        </p:nvGrpSpPr>
        <p:grpSpPr>
          <a:xfrm>
            <a:off x="3143160" y="696960"/>
            <a:ext cx="4372560" cy="520560"/>
            <a:chOff x="3143160" y="696960"/>
            <a:chExt cx="4372560" cy="520560"/>
          </a:xfrm>
        </p:grpSpPr>
        <p:sp>
          <p:nvSpPr>
            <p:cNvPr id="349" name="Rectangle 15"/>
            <p:cNvSpPr/>
            <p:nvPr/>
          </p:nvSpPr>
          <p:spPr>
            <a:xfrm>
              <a:off x="3256920" y="696960"/>
              <a:ext cx="425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                  是    的一族开覆盖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50" name="Object 3"/>
            <p:cNvGraphicFramePr/>
            <p:nvPr/>
          </p:nvGraphicFramePr>
          <p:xfrm>
            <a:off x="3143160" y="696960"/>
            <a:ext cx="1752480" cy="4410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351" name="Object 3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143160" y="696960"/>
                      <a:ext cx="1752480" cy="44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2" name="Object 32"/>
            <p:cNvGraphicFramePr/>
            <p:nvPr/>
          </p:nvGraphicFramePr>
          <p:xfrm>
            <a:off x="5293080" y="736200"/>
            <a:ext cx="398160" cy="32328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353" name="Object 32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5293080" y="736200"/>
                      <a:ext cx="398160" cy="32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54" name="组合 33"/>
          <p:cNvGrpSpPr/>
          <p:nvPr/>
        </p:nvGrpSpPr>
        <p:grpSpPr>
          <a:xfrm>
            <a:off x="2857680" y="2946240"/>
            <a:ext cx="5699160" cy="578160"/>
            <a:chOff x="2857680" y="2946240"/>
            <a:chExt cx="5699160" cy="578160"/>
          </a:xfrm>
        </p:grpSpPr>
        <p:graphicFrame>
          <p:nvGraphicFramePr>
            <p:cNvPr id="355" name="Object 10"/>
            <p:cNvGraphicFramePr/>
            <p:nvPr/>
          </p:nvGraphicFramePr>
          <p:xfrm>
            <a:off x="2857680" y="2999880"/>
            <a:ext cx="2023920" cy="52452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356" name="Object 10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857680" y="2999880"/>
                      <a:ext cx="2023920" cy="52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7" name="Rectangle 15"/>
            <p:cNvSpPr/>
            <p:nvPr/>
          </p:nvSpPr>
          <p:spPr>
            <a:xfrm>
              <a:off x="4929120" y="2999880"/>
              <a:ext cx="362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    的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Lebesque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数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)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58" name="Object 11"/>
            <p:cNvGraphicFramePr/>
            <p:nvPr/>
          </p:nvGraphicFramePr>
          <p:xfrm>
            <a:off x="5143320" y="2946240"/>
            <a:ext cx="331560" cy="42912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359" name="Object 11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5143320" y="2946240"/>
                      <a:ext cx="331560" cy="4291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60" name="Object 33"/>
            <p:cNvGraphicFramePr/>
            <p:nvPr/>
          </p:nvGraphicFramePr>
          <p:xfrm>
            <a:off x="5796000" y="3003480"/>
            <a:ext cx="398160" cy="32436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361" name="Object 33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5796000" y="3003480"/>
                      <a:ext cx="398160" cy="3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4:08:53Z</dcterms:created>
  <dc:creator>zlx</dc:creator>
  <dc:description/>
  <dc:language>en-US</dc:language>
  <cp:lastModifiedBy>CKDZ</cp:lastModifiedBy>
  <dcterms:modified xsi:type="dcterms:W3CDTF">2014-09-11T01:36:47Z</dcterms:modified>
  <cp:revision>298</cp:revision>
  <dc:subject/>
  <dc:title>幻灯片 1</dc:title>
</cp:coreProperties>
</file>