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2.wmf" ContentType="image/x-wmf"/>
  <Override PartName="/ppt/media/image12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09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56.wmf" ContentType="image/x-wmf"/>
  <Override PartName="/ppt/media/image142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154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5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9BE-6606-4F29-B3A1-CD0F917D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DC2-473F-4A7E-A485-E20371A7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D4C-1AC8-46C7-82A6-E74B9592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3BD-8C07-4C79-858D-E13C143D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B5F1-1F06-4BCD-9CD1-1AD6F67C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2D7F-5347-47C8-907D-20DB8678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DF1A-246F-4A5D-9EBB-CB90B872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58FA-AF6A-441F-880D-4A1A6649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2171-4467-4CDA-80D1-69CDBE1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5136-1C0C-47E8-AADB-A2821E9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9FF-FE56-448F-9B7A-4C010AE1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C4D-B012-48FE-96F8-D50772F2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EB02-EDCE-4AA1-BE34-BB4E7D23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6693-1827-49A9-AAE6-FDEF7991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452C-5975-4B28-A4C8-B51DBA93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293E-142E-4A0C-BD56-3DC05436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56AB-593F-40A4-98C8-4BF29A8B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427-DA17-4A24-B8F7-F6A80559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AB3-167E-432F-B0D2-62558F8D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2F9-6E62-4702-AED8-9B1D1811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9F7-5DCF-422F-B1C1-A055CF44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14B-CC4A-45D2-84A5-5A0AE27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19C-9A30-4D19-BBD8-5581D17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DB6-DF1B-4693-8BDB-6430995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F21F-458E-48DF-9B47-7C1EEA002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5C7-D519-45B1-8666-40C8A6EFC8D8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1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9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8.wmf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1.wmf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6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3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3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3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6.wmf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53.wmf"/><Relationship Id="rId3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9.wmf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十讲  共轭算子与紧算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10"/>
          <p:cNvGrpSpPr/>
          <p:nvPr/>
        </p:nvGrpSpPr>
        <p:grpSpPr>
          <a:xfrm>
            <a:off x="500040" y="571680"/>
            <a:ext cx="7929720" cy="1000080"/>
            <a:chOff x="500040" y="571680"/>
            <a:chExt cx="7929720" cy="1000080"/>
          </a:xfrm>
        </p:grpSpPr>
        <p:grpSp>
          <p:nvGrpSpPr>
            <p:cNvPr id="301" name="组合 1"/>
            <p:cNvGrpSpPr/>
            <p:nvPr/>
          </p:nvGrpSpPr>
          <p:grpSpPr>
            <a:xfrm>
              <a:off x="500040" y="571680"/>
              <a:ext cx="7929720" cy="947160"/>
              <a:chOff x="500040" y="571680"/>
              <a:chExt cx="7929720" cy="947160"/>
            </a:xfrm>
          </p:grpSpPr>
          <p:grpSp>
            <p:nvGrpSpPr>
              <p:cNvPr id="302" name="组合 2"/>
              <p:cNvGrpSpPr/>
              <p:nvPr/>
            </p:nvGrpSpPr>
            <p:grpSpPr>
              <a:xfrm>
                <a:off x="500040" y="571680"/>
                <a:ext cx="7929720" cy="947160"/>
                <a:chOff x="500040" y="571680"/>
                <a:chExt cx="7929720" cy="947160"/>
              </a:xfrm>
            </p:grpSpPr>
            <p:sp>
              <p:nvSpPr>
                <p:cNvPr id="303" name="Rectangle 15"/>
                <p:cNvSpPr/>
                <p:nvPr/>
              </p:nvSpPr>
              <p:spPr>
                <a:xfrm>
                  <a:off x="500040" y="571680"/>
                  <a:ext cx="7929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2)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     式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故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04" name="Object 2"/>
                <p:cNvGraphicFramePr/>
                <p:nvPr/>
              </p:nvGraphicFramePr>
              <p:xfrm>
                <a:off x="4786560" y="571680"/>
                <a:ext cx="3503520" cy="5716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05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786560" y="571680"/>
                          <a:ext cx="3503520" cy="571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06" name="Object 12"/>
              <p:cNvGraphicFramePr/>
              <p:nvPr/>
            </p:nvGraphicFramePr>
            <p:xfrm>
              <a:off x="3192480" y="617760"/>
              <a:ext cx="1571400" cy="465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7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92480" y="617760"/>
                        <a:ext cx="157140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8" name="Object 5"/>
              <p:cNvGraphicFramePr/>
              <p:nvPr/>
            </p:nvGraphicFramePr>
            <p:xfrm>
              <a:off x="2286000" y="642960"/>
              <a:ext cx="556920" cy="412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9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86000" y="642960"/>
                        <a:ext cx="556920" cy="41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10" name="Object 7"/>
            <p:cNvGraphicFramePr/>
            <p:nvPr/>
          </p:nvGraphicFramePr>
          <p:xfrm>
            <a:off x="1071360" y="1000440"/>
            <a:ext cx="1736640" cy="57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71360" y="1000440"/>
                      <a:ext cx="17366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2" name="组合 24"/>
          <p:cNvGrpSpPr/>
          <p:nvPr/>
        </p:nvGrpSpPr>
        <p:grpSpPr>
          <a:xfrm>
            <a:off x="571680" y="1571760"/>
            <a:ext cx="7929360" cy="3143160"/>
            <a:chOff x="571680" y="1571760"/>
            <a:chExt cx="7929360" cy="3143160"/>
          </a:xfrm>
        </p:grpSpPr>
        <p:grpSp>
          <p:nvGrpSpPr>
            <p:cNvPr id="313" name="组合 11"/>
            <p:cNvGrpSpPr/>
            <p:nvPr/>
          </p:nvGrpSpPr>
          <p:grpSpPr>
            <a:xfrm>
              <a:off x="571680" y="1571760"/>
              <a:ext cx="7929360" cy="3143160"/>
              <a:chOff x="571680" y="1571760"/>
              <a:chExt cx="7929360" cy="3143160"/>
            </a:xfrm>
          </p:grpSpPr>
          <p:grpSp>
            <p:nvGrpSpPr>
              <p:cNvPr id="314" name="组合 1"/>
              <p:cNvGrpSpPr/>
              <p:nvPr/>
            </p:nvGrpSpPr>
            <p:grpSpPr>
              <a:xfrm>
                <a:off x="571680" y="1571760"/>
                <a:ext cx="7929360" cy="3080160"/>
                <a:chOff x="571680" y="1571760"/>
                <a:chExt cx="7929360" cy="3080160"/>
              </a:xfrm>
            </p:grpSpPr>
            <p:grpSp>
              <p:nvGrpSpPr>
                <p:cNvPr id="315" name="组合 2"/>
                <p:cNvGrpSpPr/>
                <p:nvPr/>
              </p:nvGrpSpPr>
              <p:grpSpPr>
                <a:xfrm>
                  <a:off x="571680" y="1571760"/>
                  <a:ext cx="7929360" cy="3080160"/>
                  <a:chOff x="571680" y="1571760"/>
                  <a:chExt cx="7929360" cy="3080160"/>
                </a:xfrm>
              </p:grpSpPr>
              <p:sp>
                <p:nvSpPr>
                  <p:cNvPr id="316" name="Rectangle 15"/>
                  <p:cNvSpPr/>
                  <p:nvPr/>
                </p:nvSpPr>
                <p:spPr>
                  <a:xfrm>
                    <a:off x="571680" y="1571760"/>
                    <a:ext cx="7929360" cy="308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则存在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于是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       ，此式自然成立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故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总之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17" name="Object 8"/>
                  <p:cNvGraphicFramePr/>
                  <p:nvPr/>
                </p:nvGraphicFramePr>
                <p:xfrm>
                  <a:off x="3143160" y="2357640"/>
                  <a:ext cx="4551120" cy="57132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318" name="Object 8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3143160" y="2357640"/>
                            <a:ext cx="4551120" cy="571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19" name="Object 9"/>
                <p:cNvGraphicFramePr/>
                <p:nvPr/>
              </p:nvGraphicFramePr>
              <p:xfrm>
                <a:off x="1382760" y="1668600"/>
                <a:ext cx="1376280" cy="4125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20" name="Object 9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382760" y="1668600"/>
                          <a:ext cx="1376280" cy="412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1" name="Object 11"/>
              <p:cNvGraphicFramePr/>
              <p:nvPr/>
            </p:nvGraphicFramePr>
            <p:xfrm>
              <a:off x="1428840" y="4143600"/>
              <a:ext cx="1736640" cy="5713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22" name="Object 1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428840" y="4143600"/>
                        <a:ext cx="1736640" cy="57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3" name="Object 12"/>
            <p:cNvGraphicFramePr/>
            <p:nvPr/>
          </p:nvGraphicFramePr>
          <p:xfrm>
            <a:off x="3062520" y="1643040"/>
            <a:ext cx="1081080" cy="361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4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062520" y="1643040"/>
                      <a:ext cx="108108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13"/>
            <p:cNvGraphicFramePr/>
            <p:nvPr/>
          </p:nvGraphicFramePr>
          <p:xfrm>
            <a:off x="5381640" y="1571760"/>
            <a:ext cx="2619360" cy="568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6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81640" y="1571760"/>
                      <a:ext cx="261936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14"/>
            <p:cNvGraphicFramePr/>
            <p:nvPr/>
          </p:nvGraphicFramePr>
          <p:xfrm>
            <a:off x="604800" y="2000160"/>
            <a:ext cx="2008080" cy="5508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8" name="Object 1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04800" y="2000160"/>
                      <a:ext cx="200808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9" name="Object 15"/>
            <p:cNvGraphicFramePr/>
            <p:nvPr/>
          </p:nvGraphicFramePr>
          <p:xfrm>
            <a:off x="1000080" y="2928960"/>
            <a:ext cx="1081080" cy="361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30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00080" y="2928960"/>
                      <a:ext cx="108108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Object 16"/>
            <p:cNvGraphicFramePr/>
            <p:nvPr/>
          </p:nvGraphicFramePr>
          <p:xfrm>
            <a:off x="2428920" y="3500640"/>
            <a:ext cx="5205240" cy="804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32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428920" y="3500640"/>
                      <a:ext cx="520524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1"/>
          <p:cNvGrpSpPr/>
          <p:nvPr/>
        </p:nvGrpSpPr>
        <p:grpSpPr>
          <a:xfrm>
            <a:off x="500040" y="357120"/>
            <a:ext cx="7929720" cy="947160"/>
            <a:chOff x="500040" y="357120"/>
            <a:chExt cx="7929720" cy="947160"/>
          </a:xfrm>
        </p:grpSpPr>
        <p:grpSp>
          <p:nvGrpSpPr>
            <p:cNvPr id="334" name="组合 1"/>
            <p:cNvGrpSpPr/>
            <p:nvPr/>
          </p:nvGrpSpPr>
          <p:grpSpPr>
            <a:xfrm>
              <a:off x="500040" y="357120"/>
              <a:ext cx="7929720" cy="947160"/>
              <a:chOff x="500040" y="357120"/>
              <a:chExt cx="7929720" cy="947160"/>
            </a:xfrm>
          </p:grpSpPr>
          <p:sp>
            <p:nvSpPr>
              <p:cNvPr id="335" name="Rectangle 15"/>
              <p:cNvSpPr/>
              <p:nvPr/>
            </p:nvSpPr>
            <p:spPr>
              <a:xfrm>
                <a:off x="500040" y="357120"/>
                <a:ext cx="7929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3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2)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已经知道                                 剩下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只须证明    是线性映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36" name="Object 12"/>
              <p:cNvGraphicFramePr/>
              <p:nvPr/>
            </p:nvGraphicFramePr>
            <p:xfrm>
              <a:off x="4110120" y="377640"/>
              <a:ext cx="3176640" cy="568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7" name="Object 1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110120" y="377640"/>
                        <a:ext cx="3176640" cy="56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38" name="Object 5"/>
            <p:cNvGraphicFramePr/>
            <p:nvPr/>
          </p:nvGraphicFramePr>
          <p:xfrm>
            <a:off x="2000160" y="928440"/>
            <a:ext cx="393480" cy="28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92844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0" name="组合 16"/>
          <p:cNvGrpSpPr/>
          <p:nvPr/>
        </p:nvGrpSpPr>
        <p:grpSpPr>
          <a:xfrm>
            <a:off x="642960" y="1428840"/>
            <a:ext cx="7929720" cy="3112920"/>
            <a:chOff x="642960" y="1428840"/>
            <a:chExt cx="7929720" cy="3112920"/>
          </a:xfrm>
        </p:grpSpPr>
        <p:grpSp>
          <p:nvGrpSpPr>
            <p:cNvPr id="341" name="组合 9"/>
            <p:cNvGrpSpPr/>
            <p:nvPr/>
          </p:nvGrpSpPr>
          <p:grpSpPr>
            <a:xfrm>
              <a:off x="642960" y="1428840"/>
              <a:ext cx="7929720" cy="947160"/>
              <a:chOff x="642960" y="1428840"/>
              <a:chExt cx="7929720" cy="947160"/>
            </a:xfrm>
          </p:grpSpPr>
          <p:grpSp>
            <p:nvGrpSpPr>
              <p:cNvPr id="342" name="组合 1"/>
              <p:cNvGrpSpPr/>
              <p:nvPr/>
            </p:nvGrpSpPr>
            <p:grpSpPr>
              <a:xfrm>
                <a:off x="642960" y="1428840"/>
                <a:ext cx="7929720" cy="947160"/>
                <a:chOff x="642960" y="1428840"/>
                <a:chExt cx="7929720" cy="947160"/>
              </a:xfrm>
            </p:grpSpPr>
            <p:sp>
              <p:nvSpPr>
                <p:cNvPr id="343" name="Rectangle 15"/>
                <p:cNvSpPr/>
                <p:nvPr/>
              </p:nvSpPr>
              <p:spPr>
                <a:xfrm>
                  <a:off x="642960" y="1428840"/>
                  <a:ext cx="7929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       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44" name="Object 6"/>
                <p:cNvGraphicFramePr/>
                <p:nvPr/>
              </p:nvGraphicFramePr>
              <p:xfrm>
                <a:off x="1857240" y="1428840"/>
                <a:ext cx="3503520" cy="4888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45" name="Object 6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857240" y="1428840"/>
                          <a:ext cx="3503520" cy="48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46" name="Object 7"/>
              <p:cNvGraphicFramePr/>
              <p:nvPr/>
            </p:nvGraphicFramePr>
            <p:xfrm>
              <a:off x="5715360" y="1460520"/>
              <a:ext cx="2657520" cy="46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47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715360" y="1460520"/>
                        <a:ext cx="265752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8" name="Object 8"/>
            <p:cNvGraphicFramePr/>
            <p:nvPr/>
          </p:nvGraphicFramePr>
          <p:xfrm>
            <a:off x="642960" y="1857240"/>
            <a:ext cx="1574640" cy="415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960" y="1857240"/>
                      <a:ext cx="157464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9"/>
            <p:cNvGraphicFramePr/>
            <p:nvPr/>
          </p:nvGraphicFramePr>
          <p:xfrm>
            <a:off x="1071360" y="2357280"/>
            <a:ext cx="7120080" cy="2184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1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71360" y="2357280"/>
                      <a:ext cx="7120080" cy="21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4"/>
          <p:cNvGrpSpPr/>
          <p:nvPr/>
        </p:nvGrpSpPr>
        <p:grpSpPr>
          <a:xfrm>
            <a:off x="1072800" y="500040"/>
            <a:ext cx="6299640" cy="1622520"/>
            <a:chOff x="1072800" y="500040"/>
            <a:chExt cx="6299640" cy="1622520"/>
          </a:xfrm>
        </p:grpSpPr>
        <p:sp>
          <p:nvSpPr>
            <p:cNvPr id="353" name="矩形 1"/>
            <p:cNvSpPr/>
            <p:nvPr/>
          </p:nvSpPr>
          <p:spPr>
            <a:xfrm>
              <a:off x="1072800" y="500040"/>
              <a:ext cx="394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或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54" name="Object 2"/>
            <p:cNvGraphicFramePr/>
            <p:nvPr/>
          </p:nvGraphicFramePr>
          <p:xfrm>
            <a:off x="2286000" y="785520"/>
            <a:ext cx="4200840" cy="493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785520"/>
                      <a:ext cx="42008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3"/>
            <p:cNvGraphicFramePr/>
            <p:nvPr/>
          </p:nvGraphicFramePr>
          <p:xfrm>
            <a:off x="2152440" y="1656000"/>
            <a:ext cx="5220000" cy="46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7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52440" y="1656000"/>
                      <a:ext cx="522000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8" name="Text Box 3"/>
          <p:cNvSpPr/>
          <p:nvPr/>
        </p:nvSpPr>
        <p:spPr>
          <a:xfrm>
            <a:off x="357120" y="242892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9" name="组合 24"/>
          <p:cNvGrpSpPr/>
          <p:nvPr/>
        </p:nvGrpSpPr>
        <p:grpSpPr>
          <a:xfrm>
            <a:off x="1000080" y="2500200"/>
            <a:ext cx="8001000" cy="1849680"/>
            <a:chOff x="1000080" y="2500200"/>
            <a:chExt cx="8001000" cy="1849680"/>
          </a:xfrm>
        </p:grpSpPr>
        <p:grpSp>
          <p:nvGrpSpPr>
            <p:cNvPr id="360" name="组合 25"/>
            <p:cNvGrpSpPr/>
            <p:nvPr/>
          </p:nvGrpSpPr>
          <p:grpSpPr>
            <a:xfrm>
              <a:off x="1000080" y="2500200"/>
              <a:ext cx="8001000" cy="1800360"/>
              <a:chOff x="1000080" y="2500200"/>
              <a:chExt cx="8001000" cy="1800360"/>
            </a:xfrm>
          </p:grpSpPr>
          <p:grpSp>
            <p:nvGrpSpPr>
              <p:cNvPr id="361" name="组合 3"/>
              <p:cNvGrpSpPr/>
              <p:nvPr/>
            </p:nvGrpSpPr>
            <p:grpSpPr>
              <a:xfrm>
                <a:off x="1000080" y="2500200"/>
                <a:ext cx="8001000" cy="1800360"/>
                <a:chOff x="1000080" y="2500200"/>
                <a:chExt cx="8001000" cy="1800360"/>
              </a:xfrm>
            </p:grpSpPr>
            <p:grpSp>
              <p:nvGrpSpPr>
                <p:cNvPr id="362" name="组合 14"/>
                <p:cNvGrpSpPr/>
                <p:nvPr/>
              </p:nvGrpSpPr>
              <p:grpSpPr>
                <a:xfrm>
                  <a:off x="1000080" y="2500200"/>
                  <a:ext cx="8001000" cy="1800360"/>
                  <a:chOff x="1000080" y="2500200"/>
                  <a:chExt cx="8001000" cy="1800360"/>
                </a:xfrm>
              </p:grpSpPr>
              <p:grpSp>
                <p:nvGrpSpPr>
                  <p:cNvPr id="363" name="组合 48"/>
                  <p:cNvGrpSpPr/>
                  <p:nvPr/>
                </p:nvGrpSpPr>
                <p:grpSpPr>
                  <a:xfrm>
                    <a:off x="1058760" y="2500200"/>
                    <a:ext cx="7942320" cy="1800360"/>
                    <a:chOff x="1058760" y="2500200"/>
                    <a:chExt cx="7942320" cy="1800360"/>
                  </a:xfrm>
                </p:grpSpPr>
                <p:sp>
                  <p:nvSpPr>
                    <p:cNvPr id="364" name="Rectangle 15"/>
                    <p:cNvSpPr/>
                    <p:nvPr/>
                  </p:nvSpPr>
                  <p:spPr>
                    <a:xfrm>
                      <a:off x="1058760" y="2500200"/>
                      <a:ext cx="7942320" cy="180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1)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       为线性赋范空间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   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2)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与     分别为   与    中的单位算子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  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365" name="Object 2"/>
                    <p:cNvGraphicFramePr/>
                    <p:nvPr/>
                  </p:nvGraphicFramePr>
                  <p:xfrm>
                    <a:off x="2624760" y="2573280"/>
                    <a:ext cx="1081080" cy="438480"/>
                  </p:xfrm>
                  <a:graphic>
                    <a:graphicData uri="http://schemas.openxmlformats.org/presentationml/2006/ole">
                      <p:oleObj r:id="rId6" spid="">
                        <p:embed/>
                        <p:pic>
                          <p:nvPicPr>
                            <p:cNvPr id="366" name="Object 2" descr=""/>
                            <p:cNvPicPr/>
                            <p:nvPr/>
                          </p:nvPicPr>
                          <p:blipFill>
                            <a:blip r:embed="rId7"/>
                            <a:stretch/>
                          </p:blipFill>
                          <p:spPr>
                            <a:xfrm>
                              <a:off x="2624760" y="2573280"/>
                              <a:ext cx="1081080" cy="43848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367" name="Object 12"/>
                  <p:cNvGraphicFramePr/>
                  <p:nvPr/>
                </p:nvGraphicFramePr>
                <p:xfrm>
                  <a:off x="1000080" y="3026160"/>
                  <a:ext cx="2133720" cy="42372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368" name="Object 12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1000080" y="3026160"/>
                            <a:ext cx="2133720" cy="4237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69" name="Object 5"/>
                <p:cNvGraphicFramePr/>
                <p:nvPr/>
              </p:nvGraphicFramePr>
              <p:xfrm>
                <a:off x="6355440" y="2576520"/>
                <a:ext cx="1787040" cy="435240"/>
              </p:xfrm>
              <a:graphic>
                <a:graphicData uri="http://schemas.openxmlformats.org/presentationml/2006/ole">
                  <p:oleObj r:id="rId10" spid="">
                    <p:embed/>
                    <p:pic>
                      <p:nvPicPr>
                        <p:cNvPr id="370" name="Object 5" descr="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>
                          <a:off x="6355440" y="2576520"/>
                          <a:ext cx="1787040" cy="435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71" name="Object 23"/>
              <p:cNvGraphicFramePr/>
              <p:nvPr/>
            </p:nvGraphicFramePr>
            <p:xfrm>
              <a:off x="3420000" y="2969280"/>
              <a:ext cx="2332440" cy="4806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72" name="Object 23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3420000" y="2969280"/>
                        <a:ext cx="2332440" cy="48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73" name="Object 24"/>
              <p:cNvGraphicFramePr/>
              <p:nvPr/>
            </p:nvGraphicFramePr>
            <p:xfrm>
              <a:off x="2633040" y="3450240"/>
              <a:ext cx="492840" cy="4806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74" name="Object 24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633040" y="3450240"/>
                        <a:ext cx="492840" cy="48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5" name="Object 12"/>
            <p:cNvGraphicFramePr/>
            <p:nvPr/>
          </p:nvGraphicFramePr>
          <p:xfrm>
            <a:off x="3370680" y="3437280"/>
            <a:ext cx="591480" cy="5065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76" name="Object 12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370680" y="3437280"/>
                      <a:ext cx="59148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7" name="Object 13"/>
            <p:cNvGraphicFramePr/>
            <p:nvPr/>
          </p:nvGraphicFramePr>
          <p:xfrm>
            <a:off x="4866840" y="3468240"/>
            <a:ext cx="459360" cy="3474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78" name="Object 13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866840" y="3468240"/>
                      <a:ext cx="45936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Object 14"/>
            <p:cNvGraphicFramePr/>
            <p:nvPr/>
          </p:nvGraphicFramePr>
          <p:xfrm>
            <a:off x="5517360" y="3424320"/>
            <a:ext cx="558000" cy="4010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80" name="Object 14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517360" y="3424320"/>
                      <a:ext cx="558000" cy="40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5"/>
            <p:cNvGraphicFramePr/>
            <p:nvPr/>
          </p:nvGraphicFramePr>
          <p:xfrm>
            <a:off x="1487880" y="3815640"/>
            <a:ext cx="1906200" cy="5342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82" name="Object 15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1487880" y="3815640"/>
                      <a:ext cx="1906200" cy="53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57168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4" name="组合 18"/>
          <p:cNvGrpSpPr/>
          <p:nvPr/>
        </p:nvGrpSpPr>
        <p:grpSpPr>
          <a:xfrm>
            <a:off x="714240" y="1428840"/>
            <a:ext cx="7942320" cy="2653560"/>
            <a:chOff x="714240" y="1428840"/>
            <a:chExt cx="7942320" cy="2653560"/>
          </a:xfrm>
        </p:grpSpPr>
        <p:grpSp>
          <p:nvGrpSpPr>
            <p:cNvPr id="385" name="组合 25"/>
            <p:cNvGrpSpPr/>
            <p:nvPr/>
          </p:nvGrpSpPr>
          <p:grpSpPr>
            <a:xfrm>
              <a:off x="714240" y="1428840"/>
              <a:ext cx="7942320" cy="2653560"/>
              <a:chOff x="714240" y="1428840"/>
              <a:chExt cx="7942320" cy="2653560"/>
            </a:xfrm>
          </p:grpSpPr>
          <p:grpSp>
            <p:nvGrpSpPr>
              <p:cNvPr id="386" name="组合 3"/>
              <p:cNvGrpSpPr/>
              <p:nvPr/>
            </p:nvGrpSpPr>
            <p:grpSpPr>
              <a:xfrm>
                <a:off x="714240" y="1428840"/>
                <a:ext cx="7942320" cy="2653560"/>
                <a:chOff x="714240" y="1428840"/>
                <a:chExt cx="7942320" cy="2653560"/>
              </a:xfrm>
            </p:grpSpPr>
            <p:grpSp>
              <p:nvGrpSpPr>
                <p:cNvPr id="387" name="组合 14"/>
                <p:cNvGrpSpPr/>
                <p:nvPr/>
              </p:nvGrpSpPr>
              <p:grpSpPr>
                <a:xfrm>
                  <a:off x="714240" y="1428840"/>
                  <a:ext cx="7942320" cy="2653560"/>
                  <a:chOff x="714240" y="1428840"/>
                  <a:chExt cx="7942320" cy="2653560"/>
                </a:xfrm>
              </p:grpSpPr>
              <p:grpSp>
                <p:nvGrpSpPr>
                  <p:cNvPr id="388" name="组合 48"/>
                  <p:cNvGrpSpPr/>
                  <p:nvPr/>
                </p:nvGrpSpPr>
                <p:grpSpPr>
                  <a:xfrm>
                    <a:off x="714240" y="1428840"/>
                    <a:ext cx="7942320" cy="2653560"/>
                    <a:chOff x="714240" y="1428840"/>
                    <a:chExt cx="7942320" cy="2653560"/>
                  </a:xfrm>
                </p:grpSpPr>
                <p:sp>
                  <p:nvSpPr>
                    <p:cNvPr id="389" name="Rectangle 15"/>
                    <p:cNvSpPr/>
                    <p:nvPr/>
                  </p:nvSpPr>
                  <p:spPr>
                    <a:xfrm>
                      <a:off x="714240" y="1428840"/>
                      <a:ext cx="7942320" cy="265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1)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容易知道，                      故         存在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对于任意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故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390" name="Object 2"/>
                    <p:cNvGraphicFramePr/>
                    <p:nvPr/>
                  </p:nvGraphicFramePr>
                  <p:xfrm>
                    <a:off x="6227640" y="1428840"/>
                    <a:ext cx="880920" cy="49212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391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6227640" y="1428840"/>
                              <a:ext cx="880920" cy="4921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392" name="Object 12"/>
                  <p:cNvGraphicFramePr/>
                  <p:nvPr/>
                </p:nvGraphicFramePr>
                <p:xfrm>
                  <a:off x="3474720" y="1500120"/>
                  <a:ext cx="2395440" cy="4237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393" name="Object 12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3474720" y="1500120"/>
                            <a:ext cx="2395440" cy="4237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94" name="Object 5"/>
                <p:cNvGraphicFramePr/>
                <p:nvPr/>
              </p:nvGraphicFramePr>
              <p:xfrm>
                <a:off x="2514240" y="1901880"/>
                <a:ext cx="2071800" cy="49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95" name="Object 5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514240" y="1901880"/>
                          <a:ext cx="2071800" cy="49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96" name="Object 23"/>
              <p:cNvGraphicFramePr/>
              <p:nvPr/>
            </p:nvGraphicFramePr>
            <p:xfrm>
              <a:off x="1226880" y="3591720"/>
              <a:ext cx="2332440" cy="480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97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226880" y="3591720"/>
                        <a:ext cx="2332440" cy="48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8" name="Object 11"/>
            <p:cNvGraphicFramePr/>
            <p:nvPr/>
          </p:nvGraphicFramePr>
          <p:xfrm>
            <a:off x="2084040" y="2357640"/>
            <a:ext cx="5905800" cy="1197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9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84040" y="2357640"/>
                      <a:ext cx="590580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组合 1"/>
          <p:cNvGrpSpPr/>
          <p:nvPr/>
        </p:nvGrpSpPr>
        <p:grpSpPr>
          <a:xfrm>
            <a:off x="714240" y="714240"/>
            <a:ext cx="7942320" cy="2286000"/>
            <a:chOff x="714240" y="714240"/>
            <a:chExt cx="7942320" cy="2286000"/>
          </a:xfrm>
        </p:grpSpPr>
        <p:grpSp>
          <p:nvGrpSpPr>
            <p:cNvPr id="401" name="组合 25"/>
            <p:cNvGrpSpPr/>
            <p:nvPr/>
          </p:nvGrpSpPr>
          <p:grpSpPr>
            <a:xfrm>
              <a:off x="714240" y="714240"/>
              <a:ext cx="7942320" cy="2286000"/>
              <a:chOff x="714240" y="714240"/>
              <a:chExt cx="7942320" cy="2286000"/>
            </a:xfrm>
          </p:grpSpPr>
          <p:grpSp>
            <p:nvGrpSpPr>
              <p:cNvPr id="402" name="组合 3"/>
              <p:cNvGrpSpPr/>
              <p:nvPr/>
            </p:nvGrpSpPr>
            <p:grpSpPr>
              <a:xfrm>
                <a:off x="714240" y="714240"/>
                <a:ext cx="7942320" cy="2226960"/>
                <a:chOff x="714240" y="714240"/>
                <a:chExt cx="7942320" cy="2226960"/>
              </a:xfrm>
            </p:grpSpPr>
            <p:sp>
              <p:nvSpPr>
                <p:cNvPr id="403" name="Rectangle 15"/>
                <p:cNvSpPr/>
                <p:nvPr/>
              </p:nvSpPr>
              <p:spPr>
                <a:xfrm>
                  <a:off x="714240" y="714240"/>
                  <a:ext cx="7942320" cy="22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2)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对于任意的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故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04" name="Object 5"/>
                <p:cNvGraphicFramePr/>
                <p:nvPr/>
              </p:nvGraphicFramePr>
              <p:xfrm>
                <a:off x="3600360" y="714240"/>
                <a:ext cx="2157480" cy="4903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05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600360" y="714240"/>
                          <a:ext cx="2157480" cy="49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06" name="Object 23"/>
              <p:cNvGraphicFramePr/>
              <p:nvPr/>
            </p:nvGraphicFramePr>
            <p:xfrm>
              <a:off x="1285560" y="2465280"/>
              <a:ext cx="1904760" cy="534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7" name="Object 2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85560" y="2465280"/>
                        <a:ext cx="1904760" cy="53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08" name="Object 6"/>
            <p:cNvGraphicFramePr/>
            <p:nvPr/>
          </p:nvGraphicFramePr>
          <p:xfrm>
            <a:off x="2428560" y="1214280"/>
            <a:ext cx="508500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28560" y="1214280"/>
                      <a:ext cx="508500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0" name="组合 12"/>
          <p:cNvGrpSpPr/>
          <p:nvPr/>
        </p:nvGrpSpPr>
        <p:grpSpPr>
          <a:xfrm>
            <a:off x="684360" y="3147840"/>
            <a:ext cx="7929360" cy="947160"/>
            <a:chOff x="684360" y="3147840"/>
            <a:chExt cx="7929360" cy="947160"/>
          </a:xfrm>
        </p:grpSpPr>
        <p:grpSp>
          <p:nvGrpSpPr>
            <p:cNvPr id="411" name="组合 1"/>
            <p:cNvGrpSpPr/>
            <p:nvPr/>
          </p:nvGrpSpPr>
          <p:grpSpPr>
            <a:xfrm>
              <a:off x="684360" y="3147840"/>
              <a:ext cx="7929360" cy="947160"/>
              <a:chOff x="684360" y="3147840"/>
              <a:chExt cx="7929360" cy="947160"/>
            </a:xfrm>
          </p:grpSpPr>
          <p:sp>
            <p:nvSpPr>
              <p:cNvPr id="412" name="Rectangle 15"/>
              <p:cNvSpPr/>
              <p:nvPr/>
            </p:nvSpPr>
            <p:spPr>
              <a:xfrm>
                <a:off x="684360" y="3147840"/>
                <a:ext cx="7929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Arial"/>
                    <a:ea typeface="华文新魏"/>
                  </a:rPr>
                  <a:t>注：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是                 的共轭算子，记                         是      的共轭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13" name="Object 7"/>
              <p:cNvGraphicFramePr/>
              <p:nvPr/>
            </p:nvGraphicFramePr>
            <p:xfrm>
              <a:off x="1112760" y="3606840"/>
              <a:ext cx="2457360" cy="414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14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112760" y="3606840"/>
                        <a:ext cx="2457360" cy="41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5" name="Object 11"/>
            <p:cNvGraphicFramePr/>
            <p:nvPr/>
          </p:nvGraphicFramePr>
          <p:xfrm>
            <a:off x="5018040" y="3249360"/>
            <a:ext cx="1738080" cy="362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18040" y="3249360"/>
                      <a:ext cx="1738080" cy="3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2"/>
            <p:cNvGraphicFramePr/>
            <p:nvPr/>
          </p:nvGraphicFramePr>
          <p:xfrm>
            <a:off x="2541600" y="3193920"/>
            <a:ext cx="2128680" cy="41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8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41600" y="3193920"/>
                      <a:ext cx="212868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Object 13"/>
            <p:cNvGraphicFramePr/>
            <p:nvPr/>
          </p:nvGraphicFramePr>
          <p:xfrm>
            <a:off x="4113360" y="3606840"/>
            <a:ext cx="492120" cy="387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0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13360" y="3606840"/>
                      <a:ext cx="49212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3"/>
          <p:cNvSpPr/>
          <p:nvPr/>
        </p:nvSpPr>
        <p:spPr>
          <a:xfrm>
            <a:off x="428760" y="5716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2" name="组合 18"/>
          <p:cNvGrpSpPr/>
          <p:nvPr/>
        </p:nvGrpSpPr>
        <p:grpSpPr>
          <a:xfrm>
            <a:off x="857160" y="642960"/>
            <a:ext cx="8286840" cy="1015920"/>
            <a:chOff x="857160" y="642960"/>
            <a:chExt cx="8286840" cy="1015920"/>
          </a:xfrm>
        </p:grpSpPr>
        <p:grpSp>
          <p:nvGrpSpPr>
            <p:cNvPr id="423" name="组合 25"/>
            <p:cNvGrpSpPr/>
            <p:nvPr/>
          </p:nvGrpSpPr>
          <p:grpSpPr>
            <a:xfrm>
              <a:off x="857160" y="642960"/>
              <a:ext cx="8286840" cy="1015920"/>
              <a:chOff x="857160" y="642960"/>
              <a:chExt cx="8286840" cy="1015920"/>
            </a:xfrm>
          </p:grpSpPr>
          <p:grpSp>
            <p:nvGrpSpPr>
              <p:cNvPr id="424" name="组合 3"/>
              <p:cNvGrpSpPr/>
              <p:nvPr/>
            </p:nvGrpSpPr>
            <p:grpSpPr>
              <a:xfrm>
                <a:off x="1201680" y="642960"/>
                <a:ext cx="7942320" cy="947160"/>
                <a:chOff x="1201680" y="642960"/>
                <a:chExt cx="7942320" cy="947160"/>
              </a:xfrm>
            </p:grpSpPr>
            <p:grpSp>
              <p:nvGrpSpPr>
                <p:cNvPr id="425" name="组合 48"/>
                <p:cNvGrpSpPr/>
                <p:nvPr/>
              </p:nvGrpSpPr>
              <p:grpSpPr>
                <a:xfrm>
                  <a:off x="1201680" y="642960"/>
                  <a:ext cx="7942320" cy="947160"/>
                  <a:chOff x="1201680" y="642960"/>
                  <a:chExt cx="7942320" cy="947160"/>
                </a:xfrm>
              </p:grpSpPr>
              <p:sp>
                <p:nvSpPr>
                  <p:cNvPr id="426" name="Rectangle 15"/>
                  <p:cNvSpPr/>
                  <p:nvPr/>
                </p:nvSpPr>
                <p:spPr>
                  <a:xfrm>
                    <a:off x="1201680" y="642960"/>
                    <a:ext cx="794232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  为线性赋范空间，                   则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   的保持范数不变的线性延拓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27" name="Object 2"/>
                  <p:cNvGraphicFramePr/>
                  <p:nvPr/>
                </p:nvGraphicFramePr>
                <p:xfrm>
                  <a:off x="2142720" y="714240"/>
                  <a:ext cx="739800" cy="4381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28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142720" y="714240"/>
                            <a:ext cx="739800" cy="438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29" name="Object 5"/>
                <p:cNvGraphicFramePr/>
                <p:nvPr/>
              </p:nvGraphicFramePr>
              <p:xfrm>
                <a:off x="5572080" y="718920"/>
                <a:ext cx="1844640" cy="4352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30" name="Object 5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572080" y="718920"/>
                          <a:ext cx="1844640" cy="435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31" name="Object 23"/>
              <p:cNvGraphicFramePr/>
              <p:nvPr/>
            </p:nvGraphicFramePr>
            <p:xfrm>
              <a:off x="857160" y="1071360"/>
              <a:ext cx="2430360" cy="587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32" name="Object 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7160" y="1071360"/>
                        <a:ext cx="243036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33" name="Object 11"/>
            <p:cNvGraphicFramePr/>
            <p:nvPr/>
          </p:nvGraphicFramePr>
          <p:xfrm>
            <a:off x="3429000" y="1143000"/>
            <a:ext cx="341280" cy="357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1143000"/>
                      <a:ext cx="3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5" name="Text Box 3"/>
          <p:cNvSpPr/>
          <p:nvPr/>
        </p:nvSpPr>
        <p:spPr>
          <a:xfrm>
            <a:off x="428760" y="1785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6" name="组合 20"/>
          <p:cNvGrpSpPr/>
          <p:nvPr/>
        </p:nvGrpSpPr>
        <p:grpSpPr>
          <a:xfrm>
            <a:off x="1852200" y="2000160"/>
            <a:ext cx="4497840" cy="571680"/>
            <a:chOff x="1852200" y="2000160"/>
            <a:chExt cx="4497840" cy="571680"/>
          </a:xfrm>
        </p:grpSpPr>
        <p:sp>
          <p:nvSpPr>
            <p:cNvPr id="437" name="矩形 21"/>
            <p:cNvSpPr/>
            <p:nvPr/>
          </p:nvSpPr>
          <p:spPr>
            <a:xfrm>
              <a:off x="1852200" y="2000160"/>
              <a:ext cx="14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8" name="Object 12"/>
            <p:cNvGraphicFramePr/>
            <p:nvPr/>
          </p:nvGraphicFramePr>
          <p:xfrm>
            <a:off x="3429000" y="2000160"/>
            <a:ext cx="2921040" cy="571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29000" y="2000160"/>
                      <a:ext cx="2921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0" name="组合 35"/>
          <p:cNvGrpSpPr/>
          <p:nvPr/>
        </p:nvGrpSpPr>
        <p:grpSpPr>
          <a:xfrm>
            <a:off x="997560" y="2643120"/>
            <a:ext cx="7347960" cy="1373760"/>
            <a:chOff x="997560" y="2643120"/>
            <a:chExt cx="7347960" cy="1373760"/>
          </a:xfrm>
        </p:grpSpPr>
        <p:sp>
          <p:nvSpPr>
            <p:cNvPr id="441" name="矩形 25"/>
            <p:cNvSpPr/>
            <p:nvPr/>
          </p:nvSpPr>
          <p:spPr>
            <a:xfrm>
              <a:off x="1396440" y="2643120"/>
              <a:ext cx="5953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比较                与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                   对于         ，仍用   代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若           ，则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2" name="Object 15"/>
            <p:cNvGraphicFramePr/>
            <p:nvPr/>
          </p:nvGraphicFramePr>
          <p:xfrm>
            <a:off x="2420280" y="2714400"/>
            <a:ext cx="1738440" cy="361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3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20280" y="2714400"/>
                      <a:ext cx="173844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4" name="Object 16"/>
            <p:cNvGraphicFramePr/>
            <p:nvPr/>
          </p:nvGraphicFramePr>
          <p:xfrm>
            <a:off x="4277880" y="2677680"/>
            <a:ext cx="4067640" cy="464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45" name="Object 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277880" y="2677680"/>
                      <a:ext cx="4067640" cy="46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6" name="Object 17"/>
            <p:cNvGraphicFramePr/>
            <p:nvPr/>
          </p:nvGraphicFramePr>
          <p:xfrm>
            <a:off x="1328040" y="3106440"/>
            <a:ext cx="2592720" cy="464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47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328040" y="3106440"/>
                      <a:ext cx="2592720" cy="46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8" name="Object 18"/>
            <p:cNvGraphicFramePr/>
            <p:nvPr/>
          </p:nvGraphicFramePr>
          <p:xfrm>
            <a:off x="4563720" y="3142800"/>
            <a:ext cx="1049400" cy="36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49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563720" y="3142800"/>
                      <a:ext cx="104940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19"/>
            <p:cNvGraphicFramePr/>
            <p:nvPr/>
          </p:nvGraphicFramePr>
          <p:xfrm>
            <a:off x="6635880" y="3214440"/>
            <a:ext cx="326880" cy="28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51" name="Object 1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35880" y="3214440"/>
                      <a:ext cx="326880" cy="28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Object 20"/>
            <p:cNvGraphicFramePr/>
            <p:nvPr/>
          </p:nvGraphicFramePr>
          <p:xfrm>
            <a:off x="7580520" y="3087360"/>
            <a:ext cx="555480" cy="412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53" name="Object 20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580520" y="3087360"/>
                      <a:ext cx="55548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4" name="Object 21"/>
            <p:cNvGraphicFramePr/>
            <p:nvPr/>
          </p:nvGraphicFramePr>
          <p:xfrm>
            <a:off x="997560" y="3546000"/>
            <a:ext cx="1994040" cy="4647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55" name="Object 21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997560" y="3546000"/>
                      <a:ext cx="1994040" cy="46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6" name="Object 22"/>
            <p:cNvGraphicFramePr/>
            <p:nvPr/>
          </p:nvGraphicFramePr>
          <p:xfrm>
            <a:off x="3607920" y="3546000"/>
            <a:ext cx="1241280" cy="4647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57" name="Object 22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607920" y="3546000"/>
                      <a:ext cx="1241280" cy="46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组合 8"/>
          <p:cNvGrpSpPr/>
          <p:nvPr/>
        </p:nvGrpSpPr>
        <p:grpSpPr>
          <a:xfrm>
            <a:off x="928440" y="1000080"/>
            <a:ext cx="6395760" cy="2590200"/>
            <a:chOff x="928440" y="1000080"/>
            <a:chExt cx="6395760" cy="2590200"/>
          </a:xfrm>
        </p:grpSpPr>
        <p:graphicFrame>
          <p:nvGraphicFramePr>
            <p:cNvPr id="459" name="Object 2"/>
            <p:cNvGraphicFramePr/>
            <p:nvPr/>
          </p:nvGraphicFramePr>
          <p:xfrm>
            <a:off x="1357200" y="1000080"/>
            <a:ext cx="58384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000080"/>
                      <a:ext cx="58384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1" name="组合 2"/>
            <p:cNvGrpSpPr/>
            <p:nvPr/>
          </p:nvGrpSpPr>
          <p:grpSpPr>
            <a:xfrm>
              <a:off x="1678680" y="2643120"/>
              <a:ext cx="5467320" cy="947160"/>
              <a:chOff x="1678680" y="2643120"/>
              <a:chExt cx="5467320" cy="947160"/>
            </a:xfrm>
          </p:grpSpPr>
          <p:sp>
            <p:nvSpPr>
              <p:cNvPr id="462" name="矩形 3"/>
              <p:cNvSpPr/>
              <p:nvPr/>
            </p:nvSpPr>
            <p:spPr>
              <a:xfrm>
                <a:off x="1678680" y="2643120"/>
                <a:ext cx="546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任意的，故                   于是     是    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保范延拓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63" name="Object 3"/>
              <p:cNvGraphicFramePr/>
              <p:nvPr/>
            </p:nvGraphicFramePr>
            <p:xfrm>
              <a:off x="3500280" y="2714400"/>
              <a:ext cx="1739520" cy="415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0280" y="2714400"/>
                        <a:ext cx="173952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65" name="Object 4"/>
            <p:cNvGraphicFramePr/>
            <p:nvPr/>
          </p:nvGraphicFramePr>
          <p:xfrm>
            <a:off x="928440" y="2643120"/>
            <a:ext cx="458640" cy="46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2643120"/>
                      <a:ext cx="45864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Object 5"/>
            <p:cNvGraphicFramePr/>
            <p:nvPr/>
          </p:nvGraphicFramePr>
          <p:xfrm>
            <a:off x="6000480" y="2665440"/>
            <a:ext cx="591840" cy="406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00480" y="2665440"/>
                      <a:ext cx="59184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Object 6"/>
            <p:cNvGraphicFramePr/>
            <p:nvPr/>
          </p:nvGraphicFramePr>
          <p:xfrm>
            <a:off x="6929280" y="2714400"/>
            <a:ext cx="394920" cy="352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7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29280" y="2714400"/>
                      <a:ext cx="39492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3"/>
          <p:cNvSpPr/>
          <p:nvPr/>
        </p:nvSpPr>
        <p:spPr>
          <a:xfrm>
            <a:off x="428760" y="785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2" name="组合 20"/>
          <p:cNvGrpSpPr/>
          <p:nvPr/>
        </p:nvGrpSpPr>
        <p:grpSpPr>
          <a:xfrm>
            <a:off x="857160" y="928800"/>
            <a:ext cx="8442360" cy="2653560"/>
            <a:chOff x="857160" y="928800"/>
            <a:chExt cx="8442360" cy="2653560"/>
          </a:xfrm>
        </p:grpSpPr>
        <p:grpSp>
          <p:nvGrpSpPr>
            <p:cNvPr id="473" name="组合 19"/>
            <p:cNvGrpSpPr/>
            <p:nvPr/>
          </p:nvGrpSpPr>
          <p:grpSpPr>
            <a:xfrm>
              <a:off x="857160" y="928800"/>
              <a:ext cx="8442360" cy="2653560"/>
              <a:chOff x="857160" y="928800"/>
              <a:chExt cx="8442360" cy="2653560"/>
            </a:xfrm>
          </p:grpSpPr>
          <p:grpSp>
            <p:nvGrpSpPr>
              <p:cNvPr id="474" name="组合 2"/>
              <p:cNvGrpSpPr/>
              <p:nvPr/>
            </p:nvGrpSpPr>
            <p:grpSpPr>
              <a:xfrm>
                <a:off x="857160" y="928800"/>
                <a:ext cx="8442360" cy="2653560"/>
                <a:chOff x="857160" y="928800"/>
                <a:chExt cx="8442360" cy="2653560"/>
              </a:xfrm>
            </p:grpSpPr>
            <p:grpSp>
              <p:nvGrpSpPr>
                <p:cNvPr id="475" name="组合 25"/>
                <p:cNvGrpSpPr/>
                <p:nvPr/>
              </p:nvGrpSpPr>
              <p:grpSpPr>
                <a:xfrm>
                  <a:off x="857160" y="928800"/>
                  <a:ext cx="8442360" cy="2653560"/>
                  <a:chOff x="857160" y="928800"/>
                  <a:chExt cx="8442360" cy="2653560"/>
                </a:xfrm>
              </p:grpSpPr>
              <p:grpSp>
                <p:nvGrpSpPr>
                  <p:cNvPr id="476" name="组合 3"/>
                  <p:cNvGrpSpPr/>
                  <p:nvPr/>
                </p:nvGrpSpPr>
                <p:grpSpPr>
                  <a:xfrm>
                    <a:off x="857160" y="928800"/>
                    <a:ext cx="8442360" cy="2653560"/>
                    <a:chOff x="857160" y="928800"/>
                    <a:chExt cx="8442360" cy="2653560"/>
                  </a:xfrm>
                </p:grpSpPr>
                <p:grpSp>
                  <p:nvGrpSpPr>
                    <p:cNvPr id="477" name="组合 48"/>
                    <p:cNvGrpSpPr/>
                    <p:nvPr/>
                  </p:nvGrpSpPr>
                  <p:grpSpPr>
                    <a:xfrm>
                      <a:off x="857160" y="928800"/>
                      <a:ext cx="8442360" cy="2653560"/>
                      <a:chOff x="857160" y="928800"/>
                      <a:chExt cx="8442360" cy="2653560"/>
                    </a:xfrm>
                  </p:grpSpPr>
                  <p:sp>
                    <p:nvSpPr>
                      <p:cNvPr id="478" name="Rectangle 15"/>
                      <p:cNvSpPr/>
                      <p:nvPr/>
                    </p:nvSpPr>
                    <p:spPr>
                      <a:xfrm>
                        <a:off x="857160" y="928800"/>
                        <a:ext cx="8442360" cy="265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设      为线性赋范空间，             是线性算子，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(1)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称   是紧的，若   将   中的每个有界集映射为         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中的相对紧集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(2)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称   是有限秩算子，若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显然若              把单位球         映射为   中的相对紧集，则   为紧算子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            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graphicFrame>
                    <p:nvGraphicFramePr>
                      <p:cNvPr id="479" name="Object 2"/>
                      <p:cNvGraphicFramePr/>
                      <p:nvPr/>
                    </p:nvGraphicFramePr>
                    <p:xfrm>
                      <a:off x="2143080" y="1000080"/>
                      <a:ext cx="739800" cy="438120"/>
                    </p:xfrm>
                    <a:graphic>
                      <a:graphicData uri="http://schemas.openxmlformats.org/presentationml/2006/ole">
                        <p:oleObj r:id="rId2" spid="">
                          <p:embed/>
                          <p:pic>
                            <p:nvPicPr>
                              <p:cNvPr id="480" name="Object 2" descr=""/>
                              <p:cNvPicPr/>
                              <p:nvPr/>
                            </p:nvPicPr>
                            <p:blipFill>
                              <a:blip r:embed="rId3"/>
                              <a:stretch/>
                            </p:blipFill>
                            <p:spPr>
                              <a:xfrm>
                                <a:off x="2143080" y="1000080"/>
                                <a:ext cx="739800" cy="43812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graphicFrame>
                  <p:nvGraphicFramePr>
                    <p:cNvPr id="481" name="Object 5"/>
                    <p:cNvGraphicFramePr/>
                    <p:nvPr/>
                  </p:nvGraphicFramePr>
                  <p:xfrm>
                    <a:off x="5500800" y="1000080"/>
                    <a:ext cx="1503360" cy="380880"/>
                  </p:xfrm>
                  <a:graphic>
                    <a:graphicData uri="http://schemas.openxmlformats.org/presentationml/2006/ole">
                      <p:oleObj r:id="rId4" spid="">
                        <p:embed/>
                        <p:pic>
                          <p:nvPicPr>
                            <p:cNvPr id="482" name="Object 5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5500800" y="1000080"/>
                              <a:ext cx="1503360" cy="38088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83" name="Object 23"/>
                  <p:cNvGraphicFramePr/>
                  <p:nvPr/>
                </p:nvGraphicFramePr>
                <p:xfrm>
                  <a:off x="5656320" y="2286360"/>
                  <a:ext cx="2593800" cy="42696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484" name="Object 23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5656320" y="2286360"/>
                            <a:ext cx="2593800" cy="42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85" name="Object 5"/>
                <p:cNvGraphicFramePr/>
                <p:nvPr/>
              </p:nvGraphicFramePr>
              <p:xfrm>
                <a:off x="2455560" y="1428840"/>
                <a:ext cx="312480" cy="35712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486" name="Object 5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2455560" y="1428840"/>
                          <a:ext cx="31248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87" name="Object 6"/>
              <p:cNvGraphicFramePr/>
              <p:nvPr/>
            </p:nvGraphicFramePr>
            <p:xfrm>
              <a:off x="4485960" y="1428840"/>
              <a:ext cx="312480" cy="3571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488" name="Object 6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4485960" y="142884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9" name="Object 8"/>
              <p:cNvGraphicFramePr/>
              <p:nvPr/>
            </p:nvGraphicFramePr>
            <p:xfrm>
              <a:off x="1083960" y="1857600"/>
              <a:ext cx="312480" cy="3571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490" name="Object 8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083960" y="185760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1" name="Object 9"/>
              <p:cNvGraphicFramePr/>
              <p:nvPr/>
            </p:nvGraphicFramePr>
            <p:xfrm>
              <a:off x="2441160" y="2286360"/>
              <a:ext cx="312480" cy="3571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492" name="Object 9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441160" y="228636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3" name="Object 10"/>
              <p:cNvGraphicFramePr/>
              <p:nvPr/>
            </p:nvGraphicFramePr>
            <p:xfrm>
              <a:off x="2584080" y="2715120"/>
              <a:ext cx="1503360" cy="38088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494" name="Object 10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584080" y="2715120"/>
                        <a:ext cx="150336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5" name="Object 11"/>
              <p:cNvGraphicFramePr/>
              <p:nvPr/>
            </p:nvGraphicFramePr>
            <p:xfrm>
              <a:off x="5441760" y="2715120"/>
              <a:ext cx="850680" cy="43488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496" name="Object 11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5441760" y="2715120"/>
                        <a:ext cx="850680" cy="43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7" name="Object 12"/>
              <p:cNvGraphicFramePr/>
              <p:nvPr/>
            </p:nvGraphicFramePr>
            <p:xfrm>
              <a:off x="7370640" y="2715120"/>
              <a:ext cx="312480" cy="35712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498" name="Object 12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7370640" y="271512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9" name="Object 13"/>
              <p:cNvGraphicFramePr/>
              <p:nvPr/>
            </p:nvGraphicFramePr>
            <p:xfrm>
              <a:off x="2369880" y="3143880"/>
              <a:ext cx="312480" cy="35712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500" name="Object 13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2369880" y="314388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01" name="Object 7"/>
            <p:cNvGraphicFramePr/>
            <p:nvPr/>
          </p:nvGraphicFramePr>
          <p:xfrm>
            <a:off x="5102280" y="1428840"/>
            <a:ext cx="396720" cy="35712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502" name="Object 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102280" y="1428840"/>
                      <a:ext cx="3967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428760" y="785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命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4" name="组合 19"/>
          <p:cNvGrpSpPr/>
          <p:nvPr/>
        </p:nvGrpSpPr>
        <p:grpSpPr>
          <a:xfrm>
            <a:off x="1000080" y="1071720"/>
            <a:ext cx="7942320" cy="2226960"/>
            <a:chOff x="1000080" y="1071720"/>
            <a:chExt cx="7942320" cy="2226960"/>
          </a:xfrm>
        </p:grpSpPr>
        <p:grpSp>
          <p:nvGrpSpPr>
            <p:cNvPr id="505" name="组合 3"/>
            <p:cNvGrpSpPr/>
            <p:nvPr/>
          </p:nvGrpSpPr>
          <p:grpSpPr>
            <a:xfrm>
              <a:off x="1000080" y="1071720"/>
              <a:ext cx="7942320" cy="2226960"/>
              <a:chOff x="1000080" y="1071720"/>
              <a:chExt cx="7942320" cy="2226960"/>
            </a:xfrm>
          </p:grpSpPr>
          <p:grpSp>
            <p:nvGrpSpPr>
              <p:cNvPr id="506" name="组合 14"/>
              <p:cNvGrpSpPr/>
              <p:nvPr/>
            </p:nvGrpSpPr>
            <p:grpSpPr>
              <a:xfrm>
                <a:off x="1000080" y="1071720"/>
                <a:ext cx="7942320" cy="2226960"/>
                <a:chOff x="1000080" y="1071720"/>
                <a:chExt cx="7942320" cy="2226960"/>
              </a:xfrm>
            </p:grpSpPr>
            <p:grpSp>
              <p:nvGrpSpPr>
                <p:cNvPr id="507" name="组合 48"/>
                <p:cNvGrpSpPr/>
                <p:nvPr/>
              </p:nvGrpSpPr>
              <p:grpSpPr>
                <a:xfrm>
                  <a:off x="1000080" y="1071720"/>
                  <a:ext cx="7942320" cy="2226960"/>
                  <a:chOff x="1000080" y="1071720"/>
                  <a:chExt cx="7942320" cy="2226960"/>
                </a:xfrm>
              </p:grpSpPr>
              <p:sp>
                <p:nvSpPr>
                  <p:cNvPr id="508" name="Rectangle 15"/>
                  <p:cNvSpPr/>
                  <p:nvPr/>
                </p:nvSpPr>
                <p:spPr>
                  <a:xfrm>
                    <a:off x="1000080" y="1071720"/>
                    <a:ext cx="7942320" cy="22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(1)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紧算子是有界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(2)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有界的有限秩算子是紧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任何从有限维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到有限维空间的线性算子是紧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(3)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       为线性赋范空间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  中有一个是紧的，则     是紧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509" name="Object 2"/>
                  <p:cNvGraphicFramePr/>
                  <p:nvPr/>
                </p:nvGraphicFramePr>
                <p:xfrm>
                  <a:off x="2574720" y="2429280"/>
                  <a:ext cx="1081080" cy="43848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10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574720" y="2429280"/>
                            <a:ext cx="1081080" cy="4384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511" name="Object 12"/>
                <p:cNvGraphicFramePr/>
                <p:nvPr/>
              </p:nvGraphicFramePr>
              <p:xfrm>
                <a:off x="1037880" y="2862720"/>
                <a:ext cx="2100240" cy="4237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12" name="Object 12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037880" y="2862720"/>
                          <a:ext cx="2100240" cy="42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13" name="Object 5"/>
              <p:cNvGraphicFramePr/>
              <p:nvPr/>
            </p:nvGraphicFramePr>
            <p:xfrm>
              <a:off x="6297840" y="2422800"/>
              <a:ext cx="1787040" cy="435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14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297840" y="2422800"/>
                        <a:ext cx="1787040" cy="435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15" name="Object 11"/>
            <p:cNvGraphicFramePr/>
            <p:nvPr/>
          </p:nvGraphicFramePr>
          <p:xfrm>
            <a:off x="3441600" y="2858040"/>
            <a:ext cx="680760" cy="434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41600" y="2858040"/>
                      <a:ext cx="68076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Object 12"/>
            <p:cNvGraphicFramePr/>
            <p:nvPr/>
          </p:nvGraphicFramePr>
          <p:xfrm>
            <a:off x="7299360" y="2858040"/>
            <a:ext cx="568080" cy="352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8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99360" y="2858040"/>
                      <a:ext cx="5680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428760" y="785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矩形 2"/>
          <p:cNvSpPr/>
          <p:nvPr/>
        </p:nvSpPr>
        <p:spPr>
          <a:xfrm>
            <a:off x="1714680" y="12142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相对紧集是有界集，故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1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21" name="组合 9"/>
          <p:cNvGrpSpPr/>
          <p:nvPr/>
        </p:nvGrpSpPr>
        <p:grpSpPr>
          <a:xfrm>
            <a:off x="1000080" y="2071800"/>
            <a:ext cx="7429680" cy="947160"/>
            <a:chOff x="1000080" y="2071800"/>
            <a:chExt cx="7429680" cy="947160"/>
          </a:xfrm>
        </p:grpSpPr>
        <p:sp>
          <p:nvSpPr>
            <p:cNvPr id="522" name="矩形 3"/>
            <p:cNvSpPr/>
            <p:nvPr/>
          </p:nvSpPr>
          <p:spPr>
            <a:xfrm>
              <a:off x="1000080" y="2071800"/>
              <a:ext cx="7429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   中的任一有界集   ，      是有界集，但       是有限维空间的子集，故       相对紧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成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23" name="Object 2"/>
            <p:cNvGraphicFramePr/>
            <p:nvPr/>
          </p:nvGraphicFramePr>
          <p:xfrm>
            <a:off x="3000240" y="2143080"/>
            <a:ext cx="396720" cy="35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00240" y="2143080"/>
                      <a:ext cx="3967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5" name="Object 3"/>
            <p:cNvGraphicFramePr/>
            <p:nvPr/>
          </p:nvGraphicFramePr>
          <p:xfrm>
            <a:off x="5813640" y="2143080"/>
            <a:ext cx="341280" cy="35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13640" y="2143080"/>
                      <a:ext cx="3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7" name="Object 4"/>
            <p:cNvGraphicFramePr/>
            <p:nvPr/>
          </p:nvGraphicFramePr>
          <p:xfrm>
            <a:off x="6278760" y="2143080"/>
            <a:ext cx="793800" cy="43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78760" y="2143080"/>
                      <a:ext cx="7938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9" name="Object 5"/>
            <p:cNvGraphicFramePr/>
            <p:nvPr/>
          </p:nvGraphicFramePr>
          <p:xfrm>
            <a:off x="2143080" y="2571840"/>
            <a:ext cx="793800" cy="43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0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3080" y="2571840"/>
                      <a:ext cx="7938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Object 6"/>
            <p:cNvGraphicFramePr/>
            <p:nvPr/>
          </p:nvGraphicFramePr>
          <p:xfrm>
            <a:off x="6707520" y="2571840"/>
            <a:ext cx="793800" cy="439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707520" y="2571840"/>
                      <a:ext cx="7938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42920" y="5000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25"/>
          <p:cNvGrpSpPr/>
          <p:nvPr/>
        </p:nvGrpSpPr>
        <p:grpSpPr>
          <a:xfrm>
            <a:off x="857160" y="571680"/>
            <a:ext cx="7929720" cy="2150280"/>
            <a:chOff x="857160" y="571680"/>
            <a:chExt cx="7929720" cy="2150280"/>
          </a:xfrm>
        </p:grpSpPr>
        <p:grpSp>
          <p:nvGrpSpPr>
            <p:cNvPr id="87" name="组合 19"/>
            <p:cNvGrpSpPr/>
            <p:nvPr/>
          </p:nvGrpSpPr>
          <p:grpSpPr>
            <a:xfrm>
              <a:off x="857160" y="571680"/>
              <a:ext cx="7929720" cy="1800360"/>
              <a:chOff x="857160" y="571680"/>
              <a:chExt cx="7929720" cy="1800360"/>
            </a:xfrm>
          </p:grpSpPr>
          <p:grpSp>
            <p:nvGrpSpPr>
              <p:cNvPr id="88" name="组合 3"/>
              <p:cNvGrpSpPr/>
              <p:nvPr/>
            </p:nvGrpSpPr>
            <p:grpSpPr>
              <a:xfrm>
                <a:off x="857160" y="571680"/>
                <a:ext cx="7929720" cy="1800360"/>
                <a:chOff x="857160" y="571680"/>
                <a:chExt cx="7929720" cy="1800360"/>
              </a:xfrm>
            </p:grpSpPr>
            <p:grpSp>
              <p:nvGrpSpPr>
                <p:cNvPr id="89" name="组合 14"/>
                <p:cNvGrpSpPr/>
                <p:nvPr/>
              </p:nvGrpSpPr>
              <p:grpSpPr>
                <a:xfrm>
                  <a:off x="857160" y="571680"/>
                  <a:ext cx="7929720" cy="1800360"/>
                  <a:chOff x="857160" y="571680"/>
                  <a:chExt cx="7929720" cy="1800360"/>
                </a:xfrm>
              </p:grpSpPr>
              <p:grpSp>
                <p:nvGrpSpPr>
                  <p:cNvPr id="90" name="组合 48"/>
                  <p:cNvGrpSpPr/>
                  <p:nvPr/>
                </p:nvGrpSpPr>
                <p:grpSpPr>
                  <a:xfrm>
                    <a:off x="857160" y="571680"/>
                    <a:ext cx="7929720" cy="1800360"/>
                    <a:chOff x="857160" y="571680"/>
                    <a:chExt cx="7929720" cy="1800360"/>
                  </a:xfrm>
                </p:grpSpPr>
                <p:sp>
                  <p:nvSpPr>
                    <p:cNvPr id="91" name="Rectangle 15"/>
                    <p:cNvSpPr/>
                    <p:nvPr/>
                  </p:nvSpPr>
                  <p:spPr>
                    <a:xfrm>
                      <a:off x="857160" y="571680"/>
                      <a:ext cx="7929720" cy="180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   为线性赋范空间，        分别为       的共轭空间，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若线性算子                     满足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称    是    的共轭算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92" name="Object 2"/>
                    <p:cNvGraphicFramePr/>
                    <p:nvPr/>
                  </p:nvGraphicFramePr>
                  <p:xfrm>
                    <a:off x="1857240" y="642960"/>
                    <a:ext cx="738000" cy="428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93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857240" y="642960"/>
                              <a:ext cx="738000" cy="428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94" name="Object 12"/>
                  <p:cNvGraphicFramePr/>
                  <p:nvPr/>
                </p:nvGraphicFramePr>
                <p:xfrm>
                  <a:off x="2214360" y="1071360"/>
                  <a:ext cx="1998720" cy="4140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95" name="Object 12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2214360" y="1071360"/>
                            <a:ext cx="1998720" cy="414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96" name="Object 4"/>
                <p:cNvGraphicFramePr/>
                <p:nvPr/>
              </p:nvGraphicFramePr>
              <p:xfrm>
                <a:off x="2286000" y="1785600"/>
                <a:ext cx="5713560" cy="4680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97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286000" y="1785600"/>
                          <a:ext cx="5713560" cy="46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8" name="Object 5"/>
                <p:cNvGraphicFramePr/>
                <p:nvPr/>
              </p:nvGraphicFramePr>
              <p:xfrm>
                <a:off x="5253120" y="592200"/>
                <a:ext cx="961920" cy="4791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99" name="Object 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253120" y="592200"/>
                          <a:ext cx="961920" cy="479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00" name="Object 8"/>
              <p:cNvGraphicFramePr/>
              <p:nvPr/>
            </p:nvGraphicFramePr>
            <p:xfrm>
              <a:off x="6072120" y="1011240"/>
              <a:ext cx="2133720" cy="417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1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072120" y="1011240"/>
                        <a:ext cx="2133720" cy="41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02" name="Object 22"/>
            <p:cNvGraphicFramePr/>
            <p:nvPr/>
          </p:nvGraphicFramePr>
          <p:xfrm>
            <a:off x="7215480" y="642960"/>
            <a:ext cx="738000" cy="428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3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215480" y="642960"/>
                      <a:ext cx="73800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23"/>
            <p:cNvGraphicFramePr/>
            <p:nvPr/>
          </p:nvGraphicFramePr>
          <p:xfrm>
            <a:off x="1642680" y="2322360"/>
            <a:ext cx="492120" cy="392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5" name="Object 2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42680" y="2322360"/>
                      <a:ext cx="492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24"/>
            <p:cNvGraphicFramePr/>
            <p:nvPr/>
          </p:nvGraphicFramePr>
          <p:xfrm>
            <a:off x="2428560" y="2382480"/>
            <a:ext cx="360360" cy="33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7" name="Object 2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428560" y="2382480"/>
                      <a:ext cx="36036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组合 35"/>
          <p:cNvGrpSpPr/>
          <p:nvPr/>
        </p:nvGrpSpPr>
        <p:grpSpPr>
          <a:xfrm>
            <a:off x="1000080" y="3000240"/>
            <a:ext cx="7451640" cy="1254240"/>
            <a:chOff x="1000080" y="3000240"/>
            <a:chExt cx="7451640" cy="1254240"/>
          </a:xfrm>
        </p:grpSpPr>
        <p:sp>
          <p:nvSpPr>
            <p:cNvPr id="109" name="Rectangle 15"/>
            <p:cNvSpPr/>
            <p:nvPr/>
          </p:nvSpPr>
          <p:spPr>
            <a:xfrm>
              <a:off x="1000080" y="3000240"/>
              <a:ext cx="74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我们有时记                    ，则上式可写成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0" name="Object 28"/>
            <p:cNvGraphicFramePr/>
            <p:nvPr/>
          </p:nvGraphicFramePr>
          <p:xfrm>
            <a:off x="3338280" y="3105000"/>
            <a:ext cx="2162160" cy="417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1" name="Object 2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338280" y="3105000"/>
                      <a:ext cx="21621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Object 29"/>
            <p:cNvGraphicFramePr/>
            <p:nvPr/>
          </p:nvGraphicFramePr>
          <p:xfrm>
            <a:off x="2071440" y="3786120"/>
            <a:ext cx="5713200" cy="468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3" name="Object 2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71440" y="3786120"/>
                      <a:ext cx="571320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2"/>
          <p:cNvGrpSpPr/>
          <p:nvPr/>
        </p:nvGrpSpPr>
        <p:grpSpPr>
          <a:xfrm>
            <a:off x="642960" y="857160"/>
            <a:ext cx="7429320" cy="1373760"/>
            <a:chOff x="642960" y="857160"/>
            <a:chExt cx="7429320" cy="1373760"/>
          </a:xfrm>
        </p:grpSpPr>
        <p:grpSp>
          <p:nvGrpSpPr>
            <p:cNvPr id="534" name="组合 1"/>
            <p:cNvGrpSpPr/>
            <p:nvPr/>
          </p:nvGrpSpPr>
          <p:grpSpPr>
            <a:xfrm>
              <a:off x="642960" y="857160"/>
              <a:ext cx="7429320" cy="1373760"/>
              <a:chOff x="642960" y="857160"/>
              <a:chExt cx="7429320" cy="1373760"/>
            </a:xfrm>
          </p:grpSpPr>
          <p:sp>
            <p:nvSpPr>
              <p:cNvPr id="535" name="矩形 2"/>
              <p:cNvSpPr/>
              <p:nvPr/>
            </p:nvSpPr>
            <p:spPr>
              <a:xfrm>
                <a:off x="642960" y="857160"/>
                <a:ext cx="74293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3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为   的单位球，若    是紧的，首先             是   中的有界集，然后                是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中的相对紧集，于是     是紧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36" name="Object 2"/>
              <p:cNvGraphicFramePr/>
              <p:nvPr/>
            </p:nvGraphicFramePr>
            <p:xfrm>
              <a:off x="2222280" y="928440"/>
              <a:ext cx="849240" cy="439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7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22280" y="928440"/>
                        <a:ext cx="849240" cy="43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38" name="Object 3"/>
              <p:cNvGraphicFramePr/>
              <p:nvPr/>
            </p:nvGraphicFramePr>
            <p:xfrm>
              <a:off x="3330360" y="928440"/>
              <a:ext cx="396720" cy="357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39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30360" y="928440"/>
                        <a:ext cx="39672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0" name="Object 4"/>
              <p:cNvGraphicFramePr/>
              <p:nvPr/>
            </p:nvGraphicFramePr>
            <p:xfrm>
              <a:off x="2714400" y="1356840"/>
              <a:ext cx="312480" cy="357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41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714400" y="135684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2" name="Object 6"/>
              <p:cNvGraphicFramePr/>
              <p:nvPr/>
            </p:nvGraphicFramePr>
            <p:xfrm>
              <a:off x="4286160" y="1785600"/>
              <a:ext cx="566640" cy="35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43" name="Object 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86160" y="1785600"/>
                        <a:ext cx="56664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44" name="Object 7"/>
            <p:cNvGraphicFramePr/>
            <p:nvPr/>
          </p:nvGraphicFramePr>
          <p:xfrm>
            <a:off x="5813280" y="928440"/>
            <a:ext cx="341280" cy="35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13280" y="928440"/>
                      <a:ext cx="3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6" name="Object 8"/>
            <p:cNvGraphicFramePr/>
            <p:nvPr/>
          </p:nvGraphicFramePr>
          <p:xfrm>
            <a:off x="1042920" y="1303200"/>
            <a:ext cx="1385640" cy="549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7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42920" y="1303200"/>
                      <a:ext cx="1385640" cy="54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8" name="Object 9"/>
            <p:cNvGraphicFramePr/>
            <p:nvPr/>
          </p:nvGraphicFramePr>
          <p:xfrm>
            <a:off x="5845320" y="1285560"/>
            <a:ext cx="1584000" cy="549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4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45320" y="1285560"/>
                      <a:ext cx="1584000" cy="54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0" name="Object 10"/>
            <p:cNvGraphicFramePr/>
            <p:nvPr/>
          </p:nvGraphicFramePr>
          <p:xfrm>
            <a:off x="771480" y="1785600"/>
            <a:ext cx="341280" cy="357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51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1480" y="1785600"/>
                      <a:ext cx="3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2" name="组合 25"/>
          <p:cNvGrpSpPr/>
          <p:nvPr/>
        </p:nvGrpSpPr>
        <p:grpSpPr>
          <a:xfrm>
            <a:off x="714240" y="2357280"/>
            <a:ext cx="7429680" cy="1428840"/>
            <a:chOff x="714240" y="2357280"/>
            <a:chExt cx="7429680" cy="1428840"/>
          </a:xfrm>
        </p:grpSpPr>
        <p:grpSp>
          <p:nvGrpSpPr>
            <p:cNvPr id="553" name="组合 13"/>
            <p:cNvGrpSpPr/>
            <p:nvPr/>
          </p:nvGrpSpPr>
          <p:grpSpPr>
            <a:xfrm>
              <a:off x="714240" y="2357280"/>
              <a:ext cx="7429680" cy="1428840"/>
              <a:chOff x="714240" y="2357280"/>
              <a:chExt cx="7429680" cy="1428840"/>
            </a:xfrm>
          </p:grpSpPr>
          <p:grpSp>
            <p:nvGrpSpPr>
              <p:cNvPr id="554" name="组合 1"/>
              <p:cNvGrpSpPr/>
              <p:nvPr/>
            </p:nvGrpSpPr>
            <p:grpSpPr>
              <a:xfrm>
                <a:off x="714240" y="2357280"/>
                <a:ext cx="7429680" cy="1428840"/>
                <a:chOff x="714240" y="2357280"/>
                <a:chExt cx="7429680" cy="1428840"/>
              </a:xfrm>
            </p:grpSpPr>
            <p:sp>
              <p:nvSpPr>
                <p:cNvPr id="555" name="矩形 2"/>
                <p:cNvSpPr/>
                <p:nvPr/>
              </p:nvSpPr>
              <p:spPr>
                <a:xfrm>
                  <a:off x="714240" y="2357280"/>
                  <a:ext cx="742968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是紧的，首先             是   中的相对紧集，由于   连续，  将             中的收敛序列映射为                中的收敛序列，故     为紧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56" name="Object 11"/>
                <p:cNvGraphicFramePr/>
                <p:nvPr/>
              </p:nvGraphicFramePr>
              <p:xfrm>
                <a:off x="1785600" y="3235320"/>
                <a:ext cx="1585800" cy="55080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557" name="Object 11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1785600" y="3235320"/>
                          <a:ext cx="1585800" cy="550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58" name="Object 12"/>
                <p:cNvGraphicFramePr/>
                <p:nvPr/>
              </p:nvGraphicFramePr>
              <p:xfrm>
                <a:off x="6202440" y="3286080"/>
                <a:ext cx="566640" cy="3571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559" name="Object 12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6202440" y="3286080"/>
                          <a:ext cx="56664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60" name="Object 13"/>
                <p:cNvGraphicFramePr/>
                <p:nvPr/>
              </p:nvGraphicFramePr>
              <p:xfrm>
                <a:off x="6000840" y="2428560"/>
                <a:ext cx="312480" cy="35712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561" name="Object 13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6000840" y="2428560"/>
                          <a:ext cx="31248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62" name="Object 14"/>
                <p:cNvGraphicFramePr/>
                <p:nvPr/>
              </p:nvGraphicFramePr>
              <p:xfrm>
                <a:off x="2571480" y="2857320"/>
                <a:ext cx="339480" cy="35712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563" name="Object 14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2571480" y="2857320"/>
                          <a:ext cx="33948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64" name="Object 15"/>
              <p:cNvGraphicFramePr/>
              <p:nvPr/>
            </p:nvGraphicFramePr>
            <p:xfrm>
              <a:off x="1857240" y="2428560"/>
              <a:ext cx="341280" cy="3571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565" name="Object 15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1857240" y="2428560"/>
                        <a:ext cx="3412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6" name="Object 16"/>
              <p:cNvGraphicFramePr/>
              <p:nvPr/>
            </p:nvGraphicFramePr>
            <p:xfrm>
              <a:off x="4357800" y="2357280"/>
              <a:ext cx="1385640" cy="5493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567" name="Object 16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4357800" y="2357280"/>
                        <a:ext cx="138564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8" name="Object 17"/>
              <p:cNvGraphicFramePr/>
              <p:nvPr/>
            </p:nvGraphicFramePr>
            <p:xfrm>
              <a:off x="4429080" y="2808000"/>
              <a:ext cx="1387440" cy="54936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569" name="Object 17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429080" y="2808000"/>
                        <a:ext cx="138744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70" name="Object 19"/>
            <p:cNvGraphicFramePr/>
            <p:nvPr/>
          </p:nvGraphicFramePr>
          <p:xfrm>
            <a:off x="3786120" y="2857320"/>
            <a:ext cx="339480" cy="3571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571" name="Object 19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786120" y="2857320"/>
                      <a:ext cx="3394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5" name="组合 14"/>
          <p:cNvGrpSpPr/>
          <p:nvPr/>
        </p:nvGrpSpPr>
        <p:grpSpPr>
          <a:xfrm>
            <a:off x="714240" y="785880"/>
            <a:ext cx="7929720" cy="1398600"/>
            <a:chOff x="714240" y="785880"/>
            <a:chExt cx="7929720" cy="1398600"/>
          </a:xfrm>
        </p:grpSpPr>
        <p:grpSp>
          <p:nvGrpSpPr>
            <p:cNvPr id="116" name="组合 16"/>
            <p:cNvGrpSpPr/>
            <p:nvPr/>
          </p:nvGrpSpPr>
          <p:grpSpPr>
            <a:xfrm>
              <a:off x="714240" y="785880"/>
              <a:ext cx="7929720" cy="1373760"/>
              <a:chOff x="714240" y="785880"/>
              <a:chExt cx="7929720" cy="1373760"/>
            </a:xfrm>
          </p:grpSpPr>
          <p:grpSp>
            <p:nvGrpSpPr>
              <p:cNvPr id="117" name="组合 3"/>
              <p:cNvGrpSpPr/>
              <p:nvPr/>
            </p:nvGrpSpPr>
            <p:grpSpPr>
              <a:xfrm>
                <a:off x="714240" y="785880"/>
                <a:ext cx="7929720" cy="1373760"/>
                <a:chOff x="714240" y="785880"/>
                <a:chExt cx="7929720" cy="1373760"/>
              </a:xfrm>
            </p:grpSpPr>
            <p:sp>
              <p:nvSpPr>
                <p:cNvPr id="118" name="Rectangle 15"/>
                <p:cNvSpPr/>
                <p:nvPr/>
              </p:nvSpPr>
              <p:spPr>
                <a:xfrm>
                  <a:off x="714240" y="785880"/>
                  <a:ext cx="792972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              为有界线性算子，            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的一组基，令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    是闭子空间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9" name="Object 2"/>
                <p:cNvGraphicFramePr/>
                <p:nvPr/>
              </p:nvGraphicFramePr>
              <p:xfrm>
                <a:off x="1857240" y="857160"/>
                <a:ext cx="2136600" cy="4158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0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57240" y="857160"/>
                          <a:ext cx="2136600" cy="41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1" name="Object 7"/>
              <p:cNvGraphicFramePr/>
              <p:nvPr/>
            </p:nvGraphicFramePr>
            <p:xfrm>
              <a:off x="6572520" y="817560"/>
              <a:ext cx="1346040" cy="46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2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572520" y="817560"/>
                        <a:ext cx="134604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" name="Object 8"/>
              <p:cNvGraphicFramePr/>
              <p:nvPr/>
            </p:nvGraphicFramePr>
            <p:xfrm>
              <a:off x="728280" y="1285920"/>
              <a:ext cx="556920" cy="388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4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8280" y="1285920"/>
                        <a:ext cx="556920" cy="38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5" name="Object 11"/>
              <p:cNvGraphicFramePr/>
              <p:nvPr/>
            </p:nvGraphicFramePr>
            <p:xfrm>
              <a:off x="3286080" y="1266840"/>
              <a:ext cx="5239080" cy="519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6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86080" y="1266840"/>
                        <a:ext cx="5239080" cy="519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27" name="Object 20"/>
            <p:cNvGraphicFramePr/>
            <p:nvPr/>
          </p:nvGraphicFramePr>
          <p:xfrm>
            <a:off x="1215720" y="1673280"/>
            <a:ext cx="426960" cy="46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8" name="Object 2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15720" y="1673280"/>
                      <a:ext cx="4269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Object 8"/>
            <p:cNvGraphicFramePr/>
            <p:nvPr/>
          </p:nvGraphicFramePr>
          <p:xfrm>
            <a:off x="3571920" y="1714680"/>
            <a:ext cx="1216080" cy="46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0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71920" y="1714680"/>
                      <a:ext cx="12160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" name="组合 15"/>
          <p:cNvGrpSpPr/>
          <p:nvPr/>
        </p:nvGrpSpPr>
        <p:grpSpPr>
          <a:xfrm>
            <a:off x="571680" y="2357280"/>
            <a:ext cx="8072280" cy="1800360"/>
            <a:chOff x="571680" y="2357280"/>
            <a:chExt cx="8072280" cy="1800360"/>
          </a:xfrm>
        </p:grpSpPr>
        <p:grpSp>
          <p:nvGrpSpPr>
            <p:cNvPr id="132" name="组合 16"/>
            <p:cNvGrpSpPr/>
            <p:nvPr/>
          </p:nvGrpSpPr>
          <p:grpSpPr>
            <a:xfrm>
              <a:off x="571680" y="2357280"/>
              <a:ext cx="8072280" cy="1800360"/>
              <a:chOff x="571680" y="2357280"/>
              <a:chExt cx="8072280" cy="1800360"/>
            </a:xfrm>
          </p:grpSpPr>
          <p:sp>
            <p:nvSpPr>
              <p:cNvPr id="133" name="Rectangle 15"/>
              <p:cNvSpPr/>
              <p:nvPr/>
            </p:nvSpPr>
            <p:spPr>
              <a:xfrm>
                <a:off x="571680" y="2357280"/>
                <a:ext cx="80722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Hahn-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定理的推论，存在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必要时，乘上一个不为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常数，可设                ，对于其余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       满足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34" name="Object 15"/>
              <p:cNvGraphicFramePr/>
              <p:nvPr/>
            </p:nvGraphicFramePr>
            <p:xfrm>
              <a:off x="1000080" y="3675240"/>
              <a:ext cx="1411200" cy="4683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35" name="Object 1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000080" y="3675240"/>
                        <a:ext cx="141120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6" name="Object 16"/>
              <p:cNvGraphicFramePr/>
              <p:nvPr/>
            </p:nvGraphicFramePr>
            <p:xfrm>
              <a:off x="2428920" y="3247920"/>
              <a:ext cx="1606320" cy="4665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37" name="Object 16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428920" y="3247920"/>
                        <a:ext cx="160632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8" name="Object 17"/>
              <p:cNvGraphicFramePr/>
              <p:nvPr/>
            </p:nvGraphicFramePr>
            <p:xfrm>
              <a:off x="6143760" y="3247920"/>
              <a:ext cx="2095200" cy="4665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39" name="Object 17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143760" y="3247920"/>
                        <a:ext cx="209520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0" name="Object 18"/>
            <p:cNvGraphicFramePr/>
            <p:nvPr/>
          </p:nvGraphicFramePr>
          <p:xfrm>
            <a:off x="6572520" y="2357280"/>
            <a:ext cx="1871640" cy="495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41" name="Object 1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72520" y="2357280"/>
                      <a:ext cx="187164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Object 19"/>
            <p:cNvGraphicFramePr/>
            <p:nvPr/>
          </p:nvGraphicFramePr>
          <p:xfrm>
            <a:off x="571680" y="2857320"/>
            <a:ext cx="3517920" cy="469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43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71680" y="2857320"/>
                      <a:ext cx="35179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5"/>
          <p:cNvGrpSpPr/>
          <p:nvPr/>
        </p:nvGrpSpPr>
        <p:grpSpPr>
          <a:xfrm>
            <a:off x="500040" y="714240"/>
            <a:ext cx="7929720" cy="1468440"/>
            <a:chOff x="500040" y="714240"/>
            <a:chExt cx="7929720" cy="1468440"/>
          </a:xfrm>
        </p:grpSpPr>
        <p:graphicFrame>
          <p:nvGraphicFramePr>
            <p:cNvPr id="145" name="Object 2"/>
            <p:cNvGraphicFramePr/>
            <p:nvPr/>
          </p:nvGraphicFramePr>
          <p:xfrm>
            <a:off x="2500200" y="714240"/>
            <a:ext cx="4010040" cy="93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0200" y="714240"/>
                      <a:ext cx="4010040" cy="9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7" name="组合 14"/>
            <p:cNvGrpSpPr/>
            <p:nvPr/>
          </p:nvGrpSpPr>
          <p:grpSpPr>
            <a:xfrm>
              <a:off x="500040" y="1643040"/>
              <a:ext cx="7929720" cy="539640"/>
              <a:chOff x="500040" y="1643040"/>
              <a:chExt cx="7929720" cy="539640"/>
            </a:xfrm>
          </p:grpSpPr>
          <p:grpSp>
            <p:nvGrpSpPr>
              <p:cNvPr id="148" name="组合 16"/>
              <p:cNvGrpSpPr/>
              <p:nvPr/>
            </p:nvGrpSpPr>
            <p:grpSpPr>
              <a:xfrm>
                <a:off x="500040" y="1643040"/>
                <a:ext cx="7929720" cy="520560"/>
                <a:chOff x="500040" y="1643040"/>
                <a:chExt cx="7929720" cy="520560"/>
              </a:xfrm>
            </p:grpSpPr>
            <p:sp>
              <p:nvSpPr>
                <p:cNvPr id="149" name="Rectangle 15"/>
                <p:cNvSpPr/>
                <p:nvPr/>
              </p:nvSpPr>
              <p:spPr>
                <a:xfrm>
                  <a:off x="500040" y="1643040"/>
                  <a:ext cx="79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              为         关于              的对偶基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50" name="Object 7"/>
                <p:cNvGraphicFramePr/>
                <p:nvPr/>
              </p:nvGraphicFramePr>
              <p:xfrm>
                <a:off x="4286160" y="1674720"/>
                <a:ext cx="1346040" cy="4687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51" name="Object 7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286160" y="1674720"/>
                          <a:ext cx="1346040" cy="468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52" name="Object 9"/>
              <p:cNvGraphicFramePr/>
              <p:nvPr/>
            </p:nvGraphicFramePr>
            <p:xfrm>
              <a:off x="928440" y="1714320"/>
              <a:ext cx="1411200" cy="468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3" name="Object 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8440" y="1714320"/>
                        <a:ext cx="141120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4" name="Object 10"/>
              <p:cNvGraphicFramePr/>
              <p:nvPr/>
            </p:nvGraphicFramePr>
            <p:xfrm>
              <a:off x="2643120" y="1714320"/>
              <a:ext cx="984240" cy="46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5" name="Object 1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643120" y="1714320"/>
                        <a:ext cx="98424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6" name="组合 23"/>
          <p:cNvGrpSpPr/>
          <p:nvPr/>
        </p:nvGrpSpPr>
        <p:grpSpPr>
          <a:xfrm>
            <a:off x="571680" y="2857680"/>
            <a:ext cx="7929360" cy="968040"/>
            <a:chOff x="571680" y="2857680"/>
            <a:chExt cx="7929360" cy="968040"/>
          </a:xfrm>
        </p:grpSpPr>
        <p:sp>
          <p:nvSpPr>
            <p:cNvPr id="157" name="Rectangle 15"/>
            <p:cNvSpPr/>
            <p:nvPr/>
          </p:nvSpPr>
          <p:spPr>
            <a:xfrm>
              <a:off x="571680" y="2857680"/>
              <a:ext cx="7929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类似地，若               是     的一组基，则存在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         关 于                的对偶基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58" name="Object 11"/>
            <p:cNvGraphicFramePr/>
            <p:nvPr/>
          </p:nvGraphicFramePr>
          <p:xfrm>
            <a:off x="3067200" y="2889360"/>
            <a:ext cx="1576080" cy="468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9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67200" y="2889360"/>
                      <a:ext cx="157608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Object 8"/>
            <p:cNvGraphicFramePr/>
            <p:nvPr/>
          </p:nvGraphicFramePr>
          <p:xfrm>
            <a:off x="4911840" y="2897280"/>
            <a:ext cx="622080" cy="388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911840" y="2897280"/>
                      <a:ext cx="62208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13"/>
            <p:cNvGraphicFramePr/>
            <p:nvPr/>
          </p:nvGraphicFramePr>
          <p:xfrm>
            <a:off x="587520" y="3286080"/>
            <a:ext cx="1542960" cy="468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3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7520" y="3286080"/>
                      <a:ext cx="15429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14"/>
            <p:cNvGraphicFramePr/>
            <p:nvPr/>
          </p:nvGraphicFramePr>
          <p:xfrm>
            <a:off x="2325600" y="3357720"/>
            <a:ext cx="1049040" cy="468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5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325600" y="3357720"/>
                      <a:ext cx="104904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15"/>
            <p:cNvGraphicFramePr/>
            <p:nvPr/>
          </p:nvGraphicFramePr>
          <p:xfrm>
            <a:off x="4071960" y="3317760"/>
            <a:ext cx="1576080" cy="468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7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71960" y="3317760"/>
                      <a:ext cx="157608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9"/>
          <p:cNvGrpSpPr/>
          <p:nvPr/>
        </p:nvGrpSpPr>
        <p:grpSpPr>
          <a:xfrm>
            <a:off x="571680" y="571680"/>
            <a:ext cx="7929360" cy="1666800"/>
            <a:chOff x="571680" y="571680"/>
            <a:chExt cx="7929360" cy="1666800"/>
          </a:xfrm>
        </p:grpSpPr>
        <p:grpSp>
          <p:nvGrpSpPr>
            <p:cNvPr id="169" name="组合 1"/>
            <p:cNvGrpSpPr/>
            <p:nvPr/>
          </p:nvGrpSpPr>
          <p:grpSpPr>
            <a:xfrm>
              <a:off x="571680" y="571680"/>
              <a:ext cx="7929360" cy="1666800"/>
              <a:chOff x="571680" y="571680"/>
              <a:chExt cx="7929360" cy="1666800"/>
            </a:xfrm>
          </p:grpSpPr>
          <p:sp>
            <p:nvSpPr>
              <p:cNvPr id="170" name="Rectangle 15"/>
              <p:cNvSpPr/>
              <p:nvPr/>
            </p:nvSpPr>
            <p:spPr>
              <a:xfrm>
                <a:off x="571680" y="571680"/>
                <a:ext cx="7929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现在设    在基底             与               之下相应的矩阵为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71" name="Object 7"/>
              <p:cNvGraphicFramePr/>
              <p:nvPr/>
            </p:nvGraphicFramePr>
            <p:xfrm>
              <a:off x="2428920" y="642960"/>
              <a:ext cx="360360" cy="338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2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28920" y="642960"/>
                        <a:ext cx="360360" cy="33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3" name="Object 8"/>
              <p:cNvGraphicFramePr/>
              <p:nvPr/>
            </p:nvGraphicFramePr>
            <p:xfrm>
              <a:off x="3000600" y="1357560"/>
              <a:ext cx="4225680" cy="880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4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00600" y="1357560"/>
                        <a:ext cx="422568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5" name="Object 4"/>
              <p:cNvGraphicFramePr/>
              <p:nvPr/>
            </p:nvGraphicFramePr>
            <p:xfrm>
              <a:off x="2428920" y="1077840"/>
              <a:ext cx="755640" cy="493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28920" y="1077840"/>
                        <a:ext cx="75564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" name="Object 6"/>
              <p:cNvGraphicFramePr/>
              <p:nvPr/>
            </p:nvGraphicFramePr>
            <p:xfrm>
              <a:off x="5429520" y="571680"/>
              <a:ext cx="1576080" cy="46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8" name="Object 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29520" y="571680"/>
                        <a:ext cx="157608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79" name="Object 7"/>
            <p:cNvGraphicFramePr/>
            <p:nvPr/>
          </p:nvGraphicFramePr>
          <p:xfrm>
            <a:off x="3857760" y="571680"/>
            <a:ext cx="1346040" cy="46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7760" y="571680"/>
                      <a:ext cx="134604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1" name="组合 24"/>
          <p:cNvGrpSpPr/>
          <p:nvPr/>
        </p:nvGrpSpPr>
        <p:grpSpPr>
          <a:xfrm>
            <a:off x="571680" y="2262240"/>
            <a:ext cx="7929360" cy="1380960"/>
            <a:chOff x="571680" y="2262240"/>
            <a:chExt cx="7929360" cy="1380960"/>
          </a:xfrm>
        </p:grpSpPr>
        <p:grpSp>
          <p:nvGrpSpPr>
            <p:cNvPr id="182" name="组合 3"/>
            <p:cNvGrpSpPr/>
            <p:nvPr/>
          </p:nvGrpSpPr>
          <p:grpSpPr>
            <a:xfrm>
              <a:off x="571680" y="2262240"/>
              <a:ext cx="7929360" cy="520560"/>
              <a:chOff x="571680" y="2262240"/>
              <a:chExt cx="7929360" cy="520560"/>
            </a:xfrm>
          </p:grpSpPr>
          <p:sp>
            <p:nvSpPr>
              <p:cNvPr id="183" name="Rectangle 15"/>
              <p:cNvSpPr/>
              <p:nvPr/>
            </p:nvSpPr>
            <p:spPr>
              <a:xfrm>
                <a:off x="571680" y="2262240"/>
                <a:ext cx="792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            是    的共轭算子，  与    相应，即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84" name="Object 2"/>
              <p:cNvGraphicFramePr/>
              <p:nvPr/>
            </p:nvGraphicFramePr>
            <p:xfrm>
              <a:off x="1071720" y="2307960"/>
              <a:ext cx="3124080" cy="4665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5" name="Object 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071720" y="2307960"/>
                        <a:ext cx="312408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6" name="Object 14"/>
            <p:cNvGraphicFramePr/>
            <p:nvPr/>
          </p:nvGraphicFramePr>
          <p:xfrm>
            <a:off x="4643640" y="2333520"/>
            <a:ext cx="360360" cy="338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7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43640" y="2333520"/>
                      <a:ext cx="36036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5"/>
            <p:cNvGraphicFramePr/>
            <p:nvPr/>
          </p:nvGraphicFramePr>
          <p:xfrm>
            <a:off x="7007400" y="2307960"/>
            <a:ext cx="492120" cy="390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9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007400" y="2307960"/>
                      <a:ext cx="49212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Object 16"/>
            <p:cNvGraphicFramePr/>
            <p:nvPr/>
          </p:nvGraphicFramePr>
          <p:xfrm>
            <a:off x="7715520" y="2340000"/>
            <a:ext cx="722160" cy="493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1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715520" y="2340000"/>
                      <a:ext cx="7221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17"/>
            <p:cNvGraphicFramePr/>
            <p:nvPr/>
          </p:nvGraphicFramePr>
          <p:xfrm>
            <a:off x="2357640" y="2762280"/>
            <a:ext cx="4684680" cy="880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3" name="Object 1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357640" y="2762280"/>
                      <a:ext cx="46846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组合 25"/>
          <p:cNvGrpSpPr/>
          <p:nvPr/>
        </p:nvGrpSpPr>
        <p:grpSpPr>
          <a:xfrm>
            <a:off x="500040" y="3544920"/>
            <a:ext cx="7929720" cy="1373760"/>
            <a:chOff x="500040" y="3544920"/>
            <a:chExt cx="7929720" cy="1373760"/>
          </a:xfrm>
        </p:grpSpPr>
        <p:sp>
          <p:nvSpPr>
            <p:cNvPr id="195" name="Rectangle 15"/>
            <p:cNvSpPr/>
            <p:nvPr/>
          </p:nvSpPr>
          <p:spPr>
            <a:xfrm>
              <a:off x="500040" y="3544920"/>
              <a:ext cx="7929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根据共轭算子定义，应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6" name="Object 18"/>
            <p:cNvGraphicFramePr/>
            <p:nvPr/>
          </p:nvGraphicFramePr>
          <p:xfrm>
            <a:off x="1643040" y="4116240"/>
            <a:ext cx="6486840" cy="571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97" name="Object 1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643040" y="4116240"/>
                      <a:ext cx="64868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11"/>
          <p:cNvGrpSpPr/>
          <p:nvPr/>
        </p:nvGrpSpPr>
        <p:grpSpPr>
          <a:xfrm>
            <a:off x="938880" y="500040"/>
            <a:ext cx="6419160" cy="2500200"/>
            <a:chOff x="938880" y="500040"/>
            <a:chExt cx="6419160" cy="2500200"/>
          </a:xfrm>
        </p:grpSpPr>
        <p:grpSp>
          <p:nvGrpSpPr>
            <p:cNvPr id="199" name="组合 17"/>
            <p:cNvGrpSpPr/>
            <p:nvPr/>
          </p:nvGrpSpPr>
          <p:grpSpPr>
            <a:xfrm>
              <a:off x="938880" y="500040"/>
              <a:ext cx="6419160" cy="2500200"/>
              <a:chOff x="938880" y="500040"/>
              <a:chExt cx="6419160" cy="2500200"/>
            </a:xfrm>
          </p:grpSpPr>
          <p:grpSp>
            <p:nvGrpSpPr>
              <p:cNvPr id="200" name="组合 14"/>
              <p:cNvGrpSpPr/>
              <p:nvPr/>
            </p:nvGrpSpPr>
            <p:grpSpPr>
              <a:xfrm>
                <a:off x="938880" y="500040"/>
                <a:ext cx="6419160" cy="2496960"/>
                <a:chOff x="938880" y="500040"/>
                <a:chExt cx="6419160" cy="2496960"/>
              </a:xfrm>
            </p:grpSpPr>
            <p:sp>
              <p:nvSpPr>
                <p:cNvPr id="201" name="矩形 12"/>
                <p:cNvSpPr/>
                <p:nvPr/>
              </p:nvSpPr>
              <p:spPr>
                <a:xfrm>
                  <a:off x="1233000" y="2476440"/>
                  <a:ext cx="4423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所以               即    是    的转置矩阵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02" name="Object 7"/>
                <p:cNvGraphicFramePr/>
                <p:nvPr/>
              </p:nvGraphicFramePr>
              <p:xfrm>
                <a:off x="2428920" y="857160"/>
                <a:ext cx="4881600" cy="9334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03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428920" y="857160"/>
                          <a:ext cx="4881600" cy="933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04" name="Object 8"/>
                <p:cNvGraphicFramePr/>
                <p:nvPr/>
              </p:nvGraphicFramePr>
              <p:xfrm>
                <a:off x="2509920" y="1643040"/>
                <a:ext cx="4848120" cy="9316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05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509920" y="1643040"/>
                          <a:ext cx="4848120" cy="931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6" name="矩形 11"/>
                <p:cNvSpPr/>
                <p:nvPr/>
              </p:nvSpPr>
              <p:spPr>
                <a:xfrm>
                  <a:off x="938880" y="500040"/>
                  <a:ext cx="146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实际验算可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207" name="Object 10"/>
              <p:cNvGraphicFramePr/>
              <p:nvPr/>
            </p:nvGraphicFramePr>
            <p:xfrm>
              <a:off x="3929040" y="2506680"/>
              <a:ext cx="458640" cy="493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8" name="Object 1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929040" y="2506680"/>
                        <a:ext cx="45864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9" name="Object 11"/>
              <p:cNvGraphicFramePr/>
              <p:nvPr/>
            </p:nvGraphicFramePr>
            <p:xfrm>
              <a:off x="3214800" y="2500200"/>
              <a:ext cx="425160" cy="493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0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14800" y="2500200"/>
                        <a:ext cx="42516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11" name="Object 9"/>
            <p:cNvGraphicFramePr/>
            <p:nvPr/>
          </p:nvGraphicFramePr>
          <p:xfrm>
            <a:off x="1442880" y="2506680"/>
            <a:ext cx="1342800" cy="493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42880" y="2506680"/>
                      <a:ext cx="13428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矩形 18"/>
          <p:cNvSpPr/>
          <p:nvPr/>
        </p:nvSpPr>
        <p:spPr>
          <a:xfrm>
            <a:off x="1948320" y="3143160"/>
            <a:ext cx="49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换句话说，从有限维空间到有限维空间的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性算子，其共轭算子相应的矩阵是原算子相应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阵的转置矩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214200" y="7142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5" name="组合 46"/>
          <p:cNvGrpSpPr/>
          <p:nvPr/>
        </p:nvGrpSpPr>
        <p:grpSpPr>
          <a:xfrm>
            <a:off x="857160" y="785880"/>
            <a:ext cx="7929720" cy="3506760"/>
            <a:chOff x="857160" y="785880"/>
            <a:chExt cx="7929720" cy="3506760"/>
          </a:xfrm>
        </p:grpSpPr>
        <p:grpSp>
          <p:nvGrpSpPr>
            <p:cNvPr id="216" name="组合 25"/>
            <p:cNvGrpSpPr/>
            <p:nvPr/>
          </p:nvGrpSpPr>
          <p:grpSpPr>
            <a:xfrm>
              <a:off x="857160" y="785880"/>
              <a:ext cx="7929720" cy="3506760"/>
              <a:chOff x="857160" y="785880"/>
              <a:chExt cx="7929720" cy="3506760"/>
            </a:xfrm>
          </p:grpSpPr>
          <p:grpSp>
            <p:nvGrpSpPr>
              <p:cNvPr id="217" name="组合 19"/>
              <p:cNvGrpSpPr/>
              <p:nvPr/>
            </p:nvGrpSpPr>
            <p:grpSpPr>
              <a:xfrm>
                <a:off x="857160" y="785880"/>
                <a:ext cx="7929720" cy="3506760"/>
                <a:chOff x="857160" y="785880"/>
                <a:chExt cx="7929720" cy="3506760"/>
              </a:xfrm>
            </p:grpSpPr>
            <p:grpSp>
              <p:nvGrpSpPr>
                <p:cNvPr id="218" name="组合 3"/>
                <p:cNvGrpSpPr/>
                <p:nvPr/>
              </p:nvGrpSpPr>
              <p:grpSpPr>
                <a:xfrm>
                  <a:off x="857160" y="785880"/>
                  <a:ext cx="7929720" cy="3506760"/>
                  <a:chOff x="857160" y="785880"/>
                  <a:chExt cx="7929720" cy="3506760"/>
                </a:xfrm>
              </p:grpSpPr>
              <p:grpSp>
                <p:nvGrpSpPr>
                  <p:cNvPr id="219" name="组合 14"/>
                  <p:cNvGrpSpPr/>
                  <p:nvPr/>
                </p:nvGrpSpPr>
                <p:grpSpPr>
                  <a:xfrm>
                    <a:off x="857160" y="785880"/>
                    <a:ext cx="7929720" cy="3506760"/>
                    <a:chOff x="857160" y="785880"/>
                    <a:chExt cx="7929720" cy="3506760"/>
                  </a:xfrm>
                </p:grpSpPr>
                <p:grpSp>
                  <p:nvGrpSpPr>
                    <p:cNvPr id="220" name="组合 48"/>
                    <p:cNvGrpSpPr/>
                    <p:nvPr/>
                  </p:nvGrpSpPr>
                  <p:grpSpPr>
                    <a:xfrm>
                      <a:off x="857160" y="785880"/>
                      <a:ext cx="7929720" cy="3506760"/>
                      <a:chOff x="857160" y="785880"/>
                      <a:chExt cx="7929720" cy="3506760"/>
                    </a:xfrm>
                  </p:grpSpPr>
                  <p:sp>
                    <p:nvSpPr>
                      <p:cNvPr id="221" name="Rectangle 15"/>
                      <p:cNvSpPr/>
                      <p:nvPr/>
                    </p:nvSpPr>
                    <p:spPr>
                      <a:xfrm>
                        <a:off x="857160" y="785880"/>
                        <a:ext cx="7929720" cy="3506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设       为线性赋范空间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,                     ,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则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buClr>
                            <a:srgbClr val="000000"/>
                          </a:buClr>
                          <a:buFont typeface="Arial"/>
                          <a:buAutoNum type="arabicParenR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存在并且唯一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(2)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buClr>
                            <a:srgbClr val="000000"/>
                          </a:buClr>
                          <a:buFont typeface="Arial"/>
                          <a:buAutoNum type="arabicParenR" startAt="3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映射                 是线性的，即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buClr>
                            <a:srgbClr val="000000"/>
                          </a:buClr>
                          <a:buFont typeface="Arial"/>
                          <a:buAutoNum type="arabicParenR" startAt="3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并且是从           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到                的子空间上的等距         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同构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graphicFrame>
                    <p:nvGraphicFramePr>
                      <p:cNvPr id="222" name="Object 2"/>
                      <p:cNvGraphicFramePr/>
                      <p:nvPr/>
                    </p:nvGraphicFramePr>
                    <p:xfrm>
                      <a:off x="1857240" y="857160"/>
                      <a:ext cx="738000" cy="428400"/>
                    </p:xfrm>
                    <a:graphic>
                      <a:graphicData uri="http://schemas.openxmlformats.org/presentationml/2006/ole">
                        <p:oleObj r:id="rId1" spid="">
                          <p:embed/>
                          <p:pic>
                            <p:nvPicPr>
                              <p:cNvPr id="223" name="Object 2" descr=""/>
                              <p:cNvPicPr/>
                              <p:nvPr/>
                            </p:nvPicPr>
                            <p:blipFill>
                              <a:blip r:embed="rId2"/>
                              <a:stretch/>
                            </p:blipFill>
                            <p:spPr>
                              <a:xfrm>
                                <a:off x="1857240" y="857160"/>
                                <a:ext cx="738000" cy="428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graphicFrame>
                  <p:nvGraphicFramePr>
                    <p:cNvPr id="224" name="Object 12"/>
                    <p:cNvGraphicFramePr/>
                    <p:nvPr/>
                  </p:nvGraphicFramePr>
                  <p:xfrm>
                    <a:off x="5214960" y="871560"/>
                    <a:ext cx="1998720" cy="414000"/>
                  </p:xfrm>
                  <a:graphic>
                    <a:graphicData uri="http://schemas.openxmlformats.org/presentationml/2006/ole">
                      <p:oleObj r:id="rId3" spid="">
                        <p:embed/>
                        <p:pic>
                          <p:nvPicPr>
                            <p:cNvPr id="225" name="Object 12" descr=""/>
                            <p:cNvPicPr/>
                            <p:nvPr/>
                          </p:nvPicPr>
                          <p:blipFill>
                            <a:blip r:embed="rId4"/>
                            <a:stretch/>
                          </p:blipFill>
                          <p:spPr>
                            <a:xfrm>
                              <a:off x="5214960" y="871560"/>
                              <a:ext cx="1998720" cy="4140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226" name="Object 4"/>
                  <p:cNvGraphicFramePr/>
                  <p:nvPr/>
                </p:nvGraphicFramePr>
                <p:xfrm>
                  <a:off x="2500200" y="2715120"/>
                  <a:ext cx="4235400" cy="57312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227" name="Object 4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2500200" y="2715120"/>
                            <a:ext cx="4235400" cy="573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28" name="Object 8"/>
                <p:cNvGraphicFramePr/>
                <p:nvPr/>
              </p:nvGraphicFramePr>
              <p:xfrm>
                <a:off x="2214360" y="2103840"/>
                <a:ext cx="1674720" cy="4683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29" name="Object 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214360" y="2103840"/>
                          <a:ext cx="1674720" cy="468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30" name="Object 23"/>
              <p:cNvGraphicFramePr/>
              <p:nvPr/>
            </p:nvGraphicFramePr>
            <p:xfrm>
              <a:off x="1500120" y="1251000"/>
              <a:ext cx="492120" cy="392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31" name="Object 23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500120" y="1251000"/>
                        <a:ext cx="492120" cy="392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2" name="Object 24"/>
              <p:cNvGraphicFramePr/>
              <p:nvPr/>
            </p:nvGraphicFramePr>
            <p:xfrm>
              <a:off x="1500120" y="1643040"/>
              <a:ext cx="1736640" cy="5745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33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500120" y="1643040"/>
                        <a:ext cx="1736640" cy="57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34" name="Object 33"/>
            <p:cNvGraphicFramePr/>
            <p:nvPr/>
          </p:nvGraphicFramePr>
          <p:xfrm>
            <a:off x="2357280" y="3429720"/>
            <a:ext cx="137484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35" name="Object 3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357280" y="3429720"/>
                      <a:ext cx="137484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34"/>
            <p:cNvGraphicFramePr/>
            <p:nvPr/>
          </p:nvGraphicFramePr>
          <p:xfrm>
            <a:off x="4046400" y="3404160"/>
            <a:ext cx="1668240" cy="465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7" name="Object 3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46400" y="3404160"/>
                      <a:ext cx="166824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214200" y="785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9" name="组合 9"/>
          <p:cNvGrpSpPr/>
          <p:nvPr/>
        </p:nvGrpSpPr>
        <p:grpSpPr>
          <a:xfrm>
            <a:off x="571680" y="857160"/>
            <a:ext cx="7929360" cy="2265480"/>
            <a:chOff x="571680" y="857160"/>
            <a:chExt cx="7929360" cy="2265480"/>
          </a:xfrm>
        </p:grpSpPr>
        <p:grpSp>
          <p:nvGrpSpPr>
            <p:cNvPr id="240" name="组合 2"/>
            <p:cNvGrpSpPr/>
            <p:nvPr/>
          </p:nvGrpSpPr>
          <p:grpSpPr>
            <a:xfrm>
              <a:off x="571680" y="857160"/>
              <a:ext cx="7929360" cy="2265480"/>
              <a:chOff x="571680" y="857160"/>
              <a:chExt cx="7929360" cy="2265480"/>
            </a:xfrm>
          </p:grpSpPr>
          <p:sp>
            <p:nvSpPr>
              <p:cNvPr id="241" name="Rectangle 15"/>
              <p:cNvSpPr/>
              <p:nvPr/>
            </p:nvSpPr>
            <p:spPr>
              <a:xfrm>
                <a:off x="571680" y="857160"/>
                <a:ext cx="79293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1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对于每个            ，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上的线性泛函，并且对于每个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42" name="Object 2"/>
              <p:cNvGraphicFramePr/>
              <p:nvPr/>
            </p:nvGraphicFramePr>
            <p:xfrm>
              <a:off x="2286000" y="1928880"/>
              <a:ext cx="4192560" cy="1193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3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928880"/>
                        <a:ext cx="419256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4" name="Object 12"/>
            <p:cNvGraphicFramePr/>
            <p:nvPr/>
          </p:nvGraphicFramePr>
          <p:xfrm>
            <a:off x="3357720" y="902880"/>
            <a:ext cx="1244520" cy="46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7720" y="902880"/>
                      <a:ext cx="124452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4"/>
            <p:cNvGraphicFramePr/>
            <p:nvPr/>
          </p:nvGraphicFramePr>
          <p:xfrm>
            <a:off x="5248440" y="917280"/>
            <a:ext cx="2752560" cy="46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48440" y="917280"/>
                      <a:ext cx="27525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5"/>
            <p:cNvGraphicFramePr/>
            <p:nvPr/>
          </p:nvGraphicFramePr>
          <p:xfrm>
            <a:off x="1000080" y="1357200"/>
            <a:ext cx="458640" cy="33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00080" y="1357200"/>
                      <a:ext cx="45864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Object 6"/>
            <p:cNvGraphicFramePr/>
            <p:nvPr/>
          </p:nvGraphicFramePr>
          <p:xfrm>
            <a:off x="5886720" y="1371600"/>
            <a:ext cx="111420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86720" y="1371600"/>
                      <a:ext cx="111420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2" name="组合 15"/>
          <p:cNvGrpSpPr/>
          <p:nvPr/>
        </p:nvGrpSpPr>
        <p:grpSpPr>
          <a:xfrm>
            <a:off x="642960" y="3071880"/>
            <a:ext cx="7000920" cy="1373760"/>
            <a:chOff x="642960" y="3071880"/>
            <a:chExt cx="7000920" cy="1373760"/>
          </a:xfrm>
        </p:grpSpPr>
        <p:grpSp>
          <p:nvGrpSpPr>
            <p:cNvPr id="253" name="组合 10"/>
            <p:cNvGrpSpPr/>
            <p:nvPr/>
          </p:nvGrpSpPr>
          <p:grpSpPr>
            <a:xfrm>
              <a:off x="642960" y="3071880"/>
              <a:ext cx="7000920" cy="1373760"/>
              <a:chOff x="642960" y="3071880"/>
              <a:chExt cx="7000920" cy="1373760"/>
            </a:xfrm>
          </p:grpSpPr>
          <p:sp>
            <p:nvSpPr>
              <p:cNvPr id="254" name="Rectangle 15"/>
              <p:cNvSpPr/>
              <p:nvPr/>
            </p:nvSpPr>
            <p:spPr>
              <a:xfrm>
                <a:off x="642960" y="3071880"/>
                <a:ext cx="70009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所以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这说明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55" name="Object 3"/>
              <p:cNvGraphicFramePr/>
              <p:nvPr/>
            </p:nvGraphicFramePr>
            <p:xfrm>
              <a:off x="2487600" y="3213000"/>
              <a:ext cx="3475080" cy="572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6" name="Object 3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87600" y="3213000"/>
                        <a:ext cx="3475080" cy="57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7" name="Object 9"/>
            <p:cNvGraphicFramePr/>
            <p:nvPr/>
          </p:nvGraphicFramePr>
          <p:xfrm>
            <a:off x="1785960" y="3999960"/>
            <a:ext cx="117936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85960" y="3999960"/>
                      <a:ext cx="117936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15"/>
          <p:cNvGrpSpPr/>
          <p:nvPr/>
        </p:nvGrpSpPr>
        <p:grpSpPr>
          <a:xfrm>
            <a:off x="571680" y="642960"/>
            <a:ext cx="7929360" cy="2226960"/>
            <a:chOff x="571680" y="642960"/>
            <a:chExt cx="7929360" cy="2226960"/>
          </a:xfrm>
        </p:grpSpPr>
        <p:grpSp>
          <p:nvGrpSpPr>
            <p:cNvPr id="260" name="组合 1"/>
            <p:cNvGrpSpPr/>
            <p:nvPr/>
          </p:nvGrpSpPr>
          <p:grpSpPr>
            <a:xfrm>
              <a:off x="571680" y="642960"/>
              <a:ext cx="7929360" cy="2226960"/>
              <a:chOff x="571680" y="642960"/>
              <a:chExt cx="7929360" cy="2226960"/>
            </a:xfrm>
          </p:grpSpPr>
          <p:sp>
            <p:nvSpPr>
              <p:cNvPr id="261" name="Rectangle 15"/>
              <p:cNvSpPr/>
              <p:nvPr/>
            </p:nvSpPr>
            <p:spPr>
              <a:xfrm>
                <a:off x="571680" y="642960"/>
                <a:ext cx="792936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显然   与    有关，记为        ，则     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定义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直接验证可知    是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上式表明    是    的共轭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62" name="Object 4"/>
              <p:cNvGraphicFramePr/>
              <p:nvPr/>
            </p:nvGraphicFramePr>
            <p:xfrm>
              <a:off x="1357200" y="1643040"/>
              <a:ext cx="6913440" cy="466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6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57200" y="1643040"/>
                        <a:ext cx="691344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4" name="Object 5"/>
              <p:cNvGraphicFramePr/>
              <p:nvPr/>
            </p:nvGraphicFramePr>
            <p:xfrm>
              <a:off x="1428840" y="714240"/>
              <a:ext cx="228600" cy="361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6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28840" y="714240"/>
                        <a:ext cx="228600" cy="36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6" name="Object 6"/>
              <p:cNvGraphicFramePr/>
              <p:nvPr/>
            </p:nvGraphicFramePr>
            <p:xfrm>
              <a:off x="2000160" y="642960"/>
              <a:ext cx="458640" cy="465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000160" y="642960"/>
                        <a:ext cx="45864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8" name="Object 7"/>
            <p:cNvGraphicFramePr/>
            <p:nvPr/>
          </p:nvGraphicFramePr>
          <p:xfrm>
            <a:off x="4178520" y="714240"/>
            <a:ext cx="819000" cy="46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78520" y="714240"/>
                      <a:ext cx="81900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Object 8"/>
            <p:cNvGraphicFramePr/>
            <p:nvPr/>
          </p:nvGraphicFramePr>
          <p:xfrm>
            <a:off x="5699160" y="714240"/>
            <a:ext cx="492120" cy="387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99160" y="714240"/>
                      <a:ext cx="49212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Object 9"/>
            <p:cNvGraphicFramePr/>
            <p:nvPr/>
          </p:nvGraphicFramePr>
          <p:xfrm>
            <a:off x="6566040" y="714240"/>
            <a:ext cx="1506240" cy="412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3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66040" y="714240"/>
                      <a:ext cx="150624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Object 10"/>
            <p:cNvGraphicFramePr/>
            <p:nvPr/>
          </p:nvGraphicFramePr>
          <p:xfrm>
            <a:off x="2786040" y="2429280"/>
            <a:ext cx="492120" cy="387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5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86040" y="2429280"/>
                      <a:ext cx="49212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Object 11"/>
            <p:cNvGraphicFramePr/>
            <p:nvPr/>
          </p:nvGraphicFramePr>
          <p:xfrm>
            <a:off x="6500880" y="2429280"/>
            <a:ext cx="492120" cy="387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7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500880" y="2429280"/>
                      <a:ext cx="49212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Object 12"/>
            <p:cNvGraphicFramePr/>
            <p:nvPr/>
          </p:nvGraphicFramePr>
          <p:xfrm>
            <a:off x="7280280" y="2454480"/>
            <a:ext cx="360360" cy="334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9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280280" y="2454480"/>
                      <a:ext cx="36036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0" name="组合 32"/>
          <p:cNvGrpSpPr/>
          <p:nvPr/>
        </p:nvGrpSpPr>
        <p:grpSpPr>
          <a:xfrm>
            <a:off x="642960" y="3286080"/>
            <a:ext cx="8163000" cy="1406520"/>
            <a:chOff x="642960" y="3286080"/>
            <a:chExt cx="8163000" cy="1406520"/>
          </a:xfrm>
        </p:grpSpPr>
        <p:grpSp>
          <p:nvGrpSpPr>
            <p:cNvPr id="281" name="组合 16"/>
            <p:cNvGrpSpPr/>
            <p:nvPr/>
          </p:nvGrpSpPr>
          <p:grpSpPr>
            <a:xfrm>
              <a:off x="642960" y="3286080"/>
              <a:ext cx="7929720" cy="1377360"/>
              <a:chOff x="642960" y="3286080"/>
              <a:chExt cx="7929720" cy="1377360"/>
            </a:xfrm>
          </p:grpSpPr>
          <p:grpSp>
            <p:nvGrpSpPr>
              <p:cNvPr id="282" name="组合 1"/>
              <p:cNvGrpSpPr/>
              <p:nvPr/>
            </p:nvGrpSpPr>
            <p:grpSpPr>
              <a:xfrm>
                <a:off x="642960" y="3286080"/>
                <a:ext cx="7929720" cy="1373760"/>
                <a:chOff x="642960" y="3286080"/>
                <a:chExt cx="7929720" cy="1373760"/>
              </a:xfrm>
            </p:grpSpPr>
            <p:sp>
              <p:nvSpPr>
                <p:cNvPr id="283" name="Rectangle 15"/>
                <p:cNvSpPr/>
                <p:nvPr/>
              </p:nvSpPr>
              <p:spPr>
                <a:xfrm>
                  <a:off x="642960" y="3286080"/>
                  <a:ext cx="792972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也是   的共轭算子，则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  的任意性知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  的任意性知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84" name="Object 13"/>
                <p:cNvGraphicFramePr/>
                <p:nvPr/>
              </p:nvGraphicFramePr>
              <p:xfrm>
                <a:off x="2585880" y="3660480"/>
                <a:ext cx="4883400" cy="4921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285" name="Object 13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2585880" y="3660480"/>
                          <a:ext cx="4883400" cy="492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86" name="Object 16"/>
              <p:cNvGraphicFramePr/>
              <p:nvPr/>
            </p:nvGraphicFramePr>
            <p:xfrm>
              <a:off x="3035160" y="4173120"/>
              <a:ext cx="1965240" cy="4903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87" name="Object 16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3035160" y="4173120"/>
                        <a:ext cx="1965240" cy="49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8" name="Object 17"/>
              <p:cNvGraphicFramePr/>
              <p:nvPr/>
            </p:nvGraphicFramePr>
            <p:xfrm>
              <a:off x="1865160" y="3306240"/>
              <a:ext cx="492120" cy="4903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89" name="Object 17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1865160" y="3306240"/>
                        <a:ext cx="492120" cy="49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0" name="Object 18"/>
              <p:cNvGraphicFramePr/>
              <p:nvPr/>
            </p:nvGraphicFramePr>
            <p:xfrm>
              <a:off x="5786640" y="3331800"/>
              <a:ext cx="2652840" cy="4633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91" name="Object 18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786640" y="3331800"/>
                        <a:ext cx="2652840" cy="46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92" name="Object 22"/>
            <p:cNvGraphicFramePr/>
            <p:nvPr/>
          </p:nvGraphicFramePr>
          <p:xfrm>
            <a:off x="2928960" y="3387240"/>
            <a:ext cx="360360" cy="3348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93" name="Object 22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928960" y="3387240"/>
                      <a:ext cx="36036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23"/>
            <p:cNvGraphicFramePr/>
            <p:nvPr/>
          </p:nvGraphicFramePr>
          <p:xfrm>
            <a:off x="1022400" y="4282560"/>
            <a:ext cx="326880" cy="285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95" name="Object 23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022400" y="4282560"/>
                      <a:ext cx="3268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6" name="Object 24"/>
            <p:cNvGraphicFramePr/>
            <p:nvPr/>
          </p:nvGraphicFramePr>
          <p:xfrm>
            <a:off x="5365800" y="4227480"/>
            <a:ext cx="455400" cy="4651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97" name="Object 24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365800" y="4227480"/>
                      <a:ext cx="45540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8" name="Object 25"/>
            <p:cNvGraphicFramePr/>
            <p:nvPr/>
          </p:nvGraphicFramePr>
          <p:xfrm>
            <a:off x="7429680" y="4172760"/>
            <a:ext cx="1376280" cy="49032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99" name="Object 25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429680" y="4172760"/>
                      <a:ext cx="137628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微软用户</cp:lastModifiedBy>
  <dcterms:modified xsi:type="dcterms:W3CDTF">2014-12-03T11:43:53Z</dcterms:modified>
  <cp:revision>692</cp:revision>
  <dc:subject/>
  <dc:title>幻灯片 1</dc:title>
</cp:coreProperties>
</file>