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2.wmf" ContentType="image/x-wmf"/>
  <Override PartName="/ppt/media/image31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00.wmf" ContentType="image/x-wmf"/>
  <Override PartName="/ppt/media/image12.wmf" ContentType="image/x-wmf"/>
  <Override PartName="/ppt/media/image109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108.wmf" ContentType="image/x-wmf"/>
  <Override PartName="/ppt/media/image36.wmf" ContentType="image/x-wmf"/>
  <Override PartName="/ppt/media/image6.wmf" ContentType="image/x-wmf"/>
  <Override PartName="/ppt/media/image18.wmf" ContentType="image/x-wmf"/>
  <Override PartName="/ppt/media/image83.wmf" ContentType="image/x-wmf"/>
  <Override PartName="/ppt/media/image29.wmf" ContentType="image/x-wmf"/>
  <Override PartName="/ppt/media/image94.wmf" ContentType="image/x-wmf"/>
  <Override PartName="/ppt/media/image47.wmf" ContentType="image/x-wmf"/>
  <Override PartName="/ppt/media/image10.wmf" ContentType="image/x-wmf"/>
  <Override PartName="/ppt/media/image107.wmf" ContentType="image/x-wmf"/>
  <Override PartName="/ppt/media/image35.wmf" ContentType="image/x-wmf"/>
  <Override PartName="/ppt/media/image5.wmf" ContentType="image/x-wmf"/>
  <Override PartName="/ppt/media/image17.wmf" ContentType="image/x-wmf"/>
  <Override PartName="/ppt/media/image82.wmf" ContentType="image/x-wmf"/>
  <Override PartName="/ppt/media/image28.wmf" ContentType="image/x-wmf"/>
  <Override PartName="/ppt/media/image93.wmf" ContentType="image/x-wmf"/>
  <Override PartName="/ppt/media/image33.wmf" ContentType="image/x-wmf"/>
  <Override PartName="/ppt/media/image3.wmf" ContentType="image/x-wmf"/>
  <Override PartName="/ppt/media/image15.wmf" ContentType="image/x-wmf"/>
  <Override PartName="/ppt/media/image80.wmf" ContentType="image/x-wmf"/>
  <Override PartName="/ppt/media/image26.wmf" ContentType="image/x-wmf"/>
  <Override PartName="/ppt/media/image91.wmf" ContentType="image/x-wmf"/>
  <Override PartName="/ppt/media/image25.wmf" ContentType="image/x-wmf"/>
  <Override PartName="/ppt/media/image90.wmf" ContentType="image/x-wmf"/>
  <Override PartName="/ppt/media/image34.wmf" ContentType="image/x-wmf"/>
  <Override PartName="/ppt/media/image4.wmf" ContentType="image/x-wmf"/>
  <Override PartName="/ppt/media/image16.wmf" ContentType="image/x-wmf"/>
  <Override PartName="/ppt/media/image81.wmf" ContentType="image/x-wmf"/>
  <Override PartName="/ppt/media/image70.wmf" ContentType="image/x-wmf"/>
  <Override PartName="/ppt/media/image114.wmf" ContentType="image/x-wmf"/>
  <Override PartName="/ppt/media/image71.wmf" ContentType="image/x-wmf"/>
  <Override PartName="/ppt/media/image115.wmf" ContentType="image/x-wmf"/>
  <Override PartName="/ppt/media/image72.wmf" ContentType="image/x-wmf"/>
  <Override PartName="/ppt/media/image116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76.wmf" ContentType="image/x-wmf"/>
  <Override PartName="/ppt/media/image77.wmf" ContentType="image/x-wmf"/>
  <Override PartName="/ppt/media/image78.wmf" ContentType="image/x-wmf"/>
  <Override PartName="/ppt/media/image87.wmf" ContentType="image/x-wmf"/>
  <Override PartName="/ppt/media/image50.wmf" ContentType="image/x-wmf"/>
  <Override PartName="/ppt/media/image88.wmf" ContentType="image/x-wmf"/>
  <Override PartName="/ppt/media/image97.wmf" ContentType="image/x-wmf"/>
  <Override PartName="/ppt/media/image104.wmf" ContentType="image/x-wmf"/>
  <Override PartName="/ppt/media/image60.wmf" ContentType="image/x-wmf"/>
  <Override PartName="/ppt/media/image98.wmf" ContentType="image/x-wmf"/>
  <Override PartName="/ppt/media/image105.wmf" ContentType="image/x-wmf"/>
  <Override PartName="/ppt/media/image61.wmf" ContentType="image/x-wmf"/>
  <Override PartName="/ppt/media/image121.wmf" ContentType="image/x-wmf"/>
  <Override PartName="/ppt/media/image96.wmf" ContentType="image/x-wmf"/>
  <Override PartName="/ppt/media/image103.wmf" ContentType="image/x-wmf"/>
  <Override PartName="/ppt/media/image95.wmf" ContentType="image/x-wmf"/>
  <Override PartName="/ppt/media/image102.wmf" ContentType="image/x-wmf"/>
  <Override PartName="/ppt/media/image113.wmf" ContentType="image/x-wmf"/>
  <Override PartName="/ppt/media/image79.wmf" ContentType="image/x-wmf"/>
  <Override PartName="/ppt/media/image101.wmf" ContentType="image/x-wmf"/>
  <Override PartName="/ppt/media/image112.wmf" ContentType="image/x-wmf"/>
  <Override PartName="/ppt/media/image111.wmf" ContentType="image/x-wmf"/>
  <Override PartName="/ppt/media/image106.wmf" ContentType="image/x-wmf"/>
  <Override PartName="/ppt/media/image62.wmf" ContentType="image/x-wmf"/>
  <Override PartName="/ppt/media/image2.jpeg" ContentType="image/jpeg"/>
  <Override PartName="/ppt/media/image99.wmf" ContentType="image/x-wmf"/>
  <Override PartName="/ppt/media/image120.wmf" ContentType="image/x-wmf"/>
  <Override PartName="/ppt/media/image69.wmf" ContentType="image/x-wmf"/>
  <Override PartName="/ppt/media/image68.wmf" ContentType="image/x-wmf"/>
  <Override PartName="/ppt/media/image67.wmf" ContentType="image/x-wmf"/>
  <Override PartName="/ppt/media/image66.wmf" ContentType="image/x-wmf"/>
  <Override PartName="/ppt/media/image65.wmf" ContentType="image/x-wmf"/>
  <Override PartName="/ppt/media/image64.wmf" ContentType="image/x-wmf"/>
  <Override PartName="/ppt/media/image63.wmf" ContentType="image/x-wmf"/>
  <Override PartName="/ppt/media/image24.wmf" ContentType="image/x-wmf"/>
  <Override PartName="/ppt/media/image23.wmf" ContentType="image/x-wmf"/>
  <Override PartName="/ppt/media/image119.wmf" ContentType="image/x-wmf"/>
  <Override PartName="/ppt/media/image22.wmf" ContentType="image/x-wmf"/>
  <Override PartName="/ppt/media/image110.wmf" ContentType="image/x-wmf"/>
  <Override PartName="/ppt/media/image59.wmf" ContentType="image/x-wmf"/>
  <Override PartName="/ppt/media/image118.wmf" ContentType="image/x-wmf"/>
  <Override PartName="/ppt/media/image21.wmf" ContentType="image/x-wmf"/>
  <Override PartName="/ppt/media/image58.wmf" ContentType="image/x-wmf"/>
  <Override PartName="/ppt/media/image117.wmf" ContentType="image/x-wmf"/>
  <Override PartName="/ppt/media/image20.wmf" ContentType="image/x-wmf"/>
  <Override PartName="/ppt/media/image57.wmf" ContentType="image/x-wmf"/>
  <Override PartName="/ppt/media/image14.wmf" ContentType="image/x-wmf"/>
  <Override PartName="/ppt/media/image1.jpeg" ContentType="image/jpeg"/>
  <Override PartName="/ppt/media/image89.wmf" ContentType="image/x-wmf"/>
  <Override PartName="/ppt/media/image27.wmf" ContentType="image/x-wmf"/>
  <Override PartName="/ppt/media/image9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B68A-F633-4264-85A0-DEF702807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0722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671E-A70D-476B-9605-6C8310029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285A-23F3-4E88-9850-FD0B8E814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2DFC-93FB-4E26-BB9E-8763B3A9E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DF6AB-22F6-4752-BB38-D4C7959AD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B6374-68E8-4486-A4D4-E0E86662F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75A7E-CB8C-4B46-B254-07D0D0736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90D4B-236E-4722-9936-A0A81C818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DA803-E483-44AA-B90D-F15E32EEF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456840"/>
            <a:ext cx="854064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D57D0-15D5-4070-90CA-1EA5B7512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23274-A5A1-40A5-8F90-D38B08863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BC0B-2E17-462E-8AFF-B1D04CADE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E5292-F3CD-4845-81EA-258858D2A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23EE2-06D7-465B-8AFB-F6B4E06FF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0722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0EE1D-DAB3-411D-AF04-12F4493B3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8EC65-D897-4132-BC43-83CC95C9C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78627-3899-4D92-B040-9345433B0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A7C6-8F1B-4105-8FC2-7F8942033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CDA6-EB4E-4E7C-81DF-81905EFDA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A762-4D99-4456-8728-41D22BE2E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456840"/>
            <a:ext cx="854064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C773-EDF0-4BE1-A6EB-EC85B4D08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9D61-213F-4FD0-8AD9-6948E10E8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FDD4-E0D2-4C9F-953B-B0BFBD6CD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3154-37BD-400D-B48F-61C173709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557280" indent="-21420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857160" indent="-17136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199880" indent="-17136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1542960" indent="-17136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1542960" indent="-17136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1542960" indent="-17136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4684680"/>
            <a:ext cx="22892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2892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B0BCB-992C-4CC9-BA39-644F7A4D76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557280" indent="-21420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857160" indent="-17136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199880" indent="-17136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1542960" indent="-17136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1542960" indent="-17136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1542960" indent="-17136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4684680"/>
            <a:ext cx="22892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684680"/>
            <a:ext cx="22892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556F4-983B-495E-B8F3-4386FADE4FE5}" type="slidenum"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1.wmf"/><Relationship Id="rId1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8.wmf"/><Relationship Id="rId1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95.wmf"/><Relationship Id="rId2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8.wmf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6.wmf"/><Relationship Id="rId1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0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09.wmf"/><Relationship Id="rId2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1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19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20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1.wmf"/><Relationship Id="rId2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7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7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3.wmf"/><Relationship Id="rId2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6.wm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4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6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7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8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29.wmf"/><Relationship Id="rId3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9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40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4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43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41.wmf"/><Relationship Id="rId3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8.wmf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3.wmf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63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64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65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66.wmf"/><Relationship Id="rId2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7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74.wmf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3"/>
          <p:cNvSpPr/>
          <p:nvPr/>
        </p:nvSpPr>
        <p:spPr>
          <a:xfrm>
            <a:off x="1476360" y="519120"/>
            <a:ext cx="6121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7a77"/>
                </a:solidFill>
                <a:latin typeface="华文新魏"/>
                <a:ea typeface="华文新魏"/>
              </a:rPr>
              <a:t>《</a:t>
            </a:r>
            <a:r>
              <a:rPr b="1" lang="zh-CN" sz="6600" spc="-1" strike="noStrike">
                <a:solidFill>
                  <a:srgbClr val="007a77"/>
                </a:solidFill>
                <a:latin typeface="华文新魏"/>
                <a:ea typeface="华文新魏"/>
              </a:rPr>
              <a:t>泛函分析</a:t>
            </a:r>
            <a:r>
              <a:rPr b="1" lang="en-US" sz="6600" spc="-1" strike="noStrike">
                <a:solidFill>
                  <a:srgbClr val="007a77"/>
                </a:solidFill>
                <a:latin typeface="华文新魏"/>
                <a:ea typeface="华文新魏"/>
              </a:rPr>
              <a:t>》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0" y="1768320"/>
            <a:ext cx="93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华文新魏"/>
                <a:ea typeface="华文新魏"/>
              </a:rPr>
              <a:t>第六讲  开映射定理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0" y="3214800"/>
            <a:ext cx="9358200" cy="12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华文新魏"/>
                <a:ea typeface="华文新魏"/>
              </a:rPr>
              <a:t>高福根   博士  硕士研究生导师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华文新魏"/>
                <a:ea typeface="华文新魏"/>
              </a:rPr>
              <a:t>河南师范大学数学与信息科学学院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3" name="组合 1"/>
          <p:cNvGrpSpPr/>
          <p:nvPr/>
        </p:nvGrpSpPr>
        <p:grpSpPr>
          <a:xfrm>
            <a:off x="1474920" y="571680"/>
            <a:ext cx="4763520" cy="520560"/>
            <a:chOff x="1474920" y="571680"/>
            <a:chExt cx="4763520" cy="520560"/>
          </a:xfrm>
        </p:grpSpPr>
        <p:sp>
          <p:nvSpPr>
            <p:cNvPr id="324" name="Rectangle 15"/>
            <p:cNvSpPr/>
            <p:nvPr/>
          </p:nvSpPr>
          <p:spPr>
            <a:xfrm>
              <a:off x="1474920" y="571680"/>
              <a:ext cx="476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14440" indent="-514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2)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现在我们证明，对于给定的   ，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325" name="Object 2"/>
            <p:cNvGraphicFramePr/>
            <p:nvPr/>
          </p:nvGraphicFramePr>
          <p:xfrm>
            <a:off x="5857920" y="714600"/>
            <a:ext cx="255240" cy="265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26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857920" y="714600"/>
                      <a:ext cx="255240" cy="265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327" name="Object 3"/>
          <p:cNvGraphicFramePr/>
          <p:nvPr/>
        </p:nvGraphicFramePr>
        <p:xfrm>
          <a:off x="2400480" y="1214280"/>
          <a:ext cx="3439800" cy="825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00480" y="1214280"/>
                    <a:ext cx="343980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29" name="组合 5"/>
          <p:cNvGrpSpPr/>
          <p:nvPr/>
        </p:nvGrpSpPr>
        <p:grpSpPr>
          <a:xfrm>
            <a:off x="1187280" y="2071800"/>
            <a:ext cx="4607640" cy="820800"/>
            <a:chOff x="1187280" y="2071800"/>
            <a:chExt cx="4607640" cy="820800"/>
          </a:xfrm>
        </p:grpSpPr>
        <p:sp>
          <p:nvSpPr>
            <p:cNvPr id="330" name="Rectangle 15"/>
            <p:cNvSpPr/>
            <p:nvPr/>
          </p:nvSpPr>
          <p:spPr>
            <a:xfrm>
              <a:off x="3125160" y="2214720"/>
              <a:ext cx="2669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14440" indent="-514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，由式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(1)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，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331" name="Object 4"/>
            <p:cNvGraphicFramePr/>
            <p:nvPr/>
          </p:nvGraphicFramePr>
          <p:xfrm>
            <a:off x="1187280" y="2071800"/>
            <a:ext cx="2270520" cy="820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32" name="Object 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187280" y="2071800"/>
                      <a:ext cx="2270520" cy="82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333" name="Object 6"/>
          <p:cNvGraphicFramePr/>
          <p:nvPr/>
        </p:nvGraphicFramePr>
        <p:xfrm>
          <a:off x="5289480" y="2050920"/>
          <a:ext cx="3525840" cy="878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4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89480" y="2050920"/>
                    <a:ext cx="3525840" cy="8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5" name="组合 17"/>
          <p:cNvGrpSpPr/>
          <p:nvPr/>
        </p:nvGrpSpPr>
        <p:grpSpPr>
          <a:xfrm>
            <a:off x="845280" y="2928960"/>
            <a:ext cx="6728040" cy="820800"/>
            <a:chOff x="845280" y="2928960"/>
            <a:chExt cx="6728040" cy="820800"/>
          </a:xfrm>
        </p:grpSpPr>
        <p:grpSp>
          <p:nvGrpSpPr>
            <p:cNvPr id="336" name="组合 12"/>
            <p:cNvGrpSpPr/>
            <p:nvPr/>
          </p:nvGrpSpPr>
          <p:grpSpPr>
            <a:xfrm>
              <a:off x="845280" y="2928960"/>
              <a:ext cx="6728040" cy="820800"/>
              <a:chOff x="845280" y="2928960"/>
              <a:chExt cx="6728040" cy="820800"/>
            </a:xfrm>
          </p:grpSpPr>
          <p:sp>
            <p:nvSpPr>
              <p:cNvPr id="337" name="Rectangle 15"/>
              <p:cNvSpPr/>
              <p:nvPr/>
            </p:nvSpPr>
            <p:spPr>
              <a:xfrm>
                <a:off x="845280" y="3071880"/>
                <a:ext cx="6728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14440" indent="-5144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故存在                    使得                     ，从而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338" name="Object 7"/>
              <p:cNvGraphicFramePr/>
              <p:nvPr/>
            </p:nvGraphicFramePr>
            <p:xfrm>
              <a:off x="1785960" y="2928960"/>
              <a:ext cx="1874880" cy="82080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339" name="Object 7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1785960" y="2928960"/>
                        <a:ext cx="1874880" cy="820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340" name="Object 8"/>
            <p:cNvGraphicFramePr/>
            <p:nvPr/>
          </p:nvGraphicFramePr>
          <p:xfrm>
            <a:off x="4501080" y="2928960"/>
            <a:ext cx="2073240" cy="8208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41" name="Object 8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501080" y="2928960"/>
                      <a:ext cx="2073240" cy="82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342" name="Object 9"/>
          <p:cNvGraphicFramePr/>
          <p:nvPr/>
        </p:nvGraphicFramePr>
        <p:xfrm>
          <a:off x="2571840" y="3714840"/>
          <a:ext cx="3463920" cy="820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43" name="Object 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571840" y="3714840"/>
                    <a:ext cx="3463920" cy="8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组合 8"/>
          <p:cNvGrpSpPr/>
          <p:nvPr/>
        </p:nvGrpSpPr>
        <p:grpSpPr>
          <a:xfrm>
            <a:off x="983160" y="428760"/>
            <a:ext cx="6300360" cy="877680"/>
            <a:chOff x="983160" y="428760"/>
            <a:chExt cx="6300360" cy="877680"/>
          </a:xfrm>
        </p:grpSpPr>
        <p:sp>
          <p:nvSpPr>
            <p:cNvPr id="345" name="Rectangle 15"/>
            <p:cNvSpPr/>
            <p:nvPr/>
          </p:nvSpPr>
          <p:spPr>
            <a:xfrm>
              <a:off x="983160" y="571320"/>
              <a:ext cx="288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14440" indent="-514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但仍由式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(1)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，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346" name="Object 2"/>
            <p:cNvGraphicFramePr/>
            <p:nvPr/>
          </p:nvGraphicFramePr>
          <p:xfrm>
            <a:off x="3616200" y="428760"/>
            <a:ext cx="3667320" cy="877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47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616200" y="428760"/>
                      <a:ext cx="3667320" cy="87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48" name="组合 3"/>
          <p:cNvGrpSpPr/>
          <p:nvPr/>
        </p:nvGrpSpPr>
        <p:grpSpPr>
          <a:xfrm>
            <a:off x="845280" y="1357200"/>
            <a:ext cx="6728040" cy="820800"/>
            <a:chOff x="845280" y="1357200"/>
            <a:chExt cx="6728040" cy="820800"/>
          </a:xfrm>
        </p:grpSpPr>
        <p:grpSp>
          <p:nvGrpSpPr>
            <p:cNvPr id="349" name="组合 12"/>
            <p:cNvGrpSpPr/>
            <p:nvPr/>
          </p:nvGrpSpPr>
          <p:grpSpPr>
            <a:xfrm>
              <a:off x="845280" y="1357200"/>
              <a:ext cx="6728040" cy="820800"/>
              <a:chOff x="845280" y="1357200"/>
              <a:chExt cx="6728040" cy="820800"/>
            </a:xfrm>
          </p:grpSpPr>
          <p:sp>
            <p:nvSpPr>
              <p:cNvPr id="350" name="Rectangle 15"/>
              <p:cNvSpPr/>
              <p:nvPr/>
            </p:nvSpPr>
            <p:spPr>
              <a:xfrm>
                <a:off x="845280" y="1500120"/>
                <a:ext cx="6728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14440" indent="-5144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故存在                    使得                     ，从而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351" name="Object 3"/>
              <p:cNvGraphicFramePr/>
              <p:nvPr/>
            </p:nvGraphicFramePr>
            <p:xfrm>
              <a:off x="1700280" y="1357200"/>
              <a:ext cx="2046240" cy="8208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352" name="Object 3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700280" y="1357200"/>
                        <a:ext cx="2046240" cy="820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353" name="Object 4"/>
            <p:cNvGraphicFramePr/>
            <p:nvPr/>
          </p:nvGraphicFramePr>
          <p:xfrm>
            <a:off x="4486680" y="1357200"/>
            <a:ext cx="2102040" cy="820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54" name="Object 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486680" y="1357200"/>
                      <a:ext cx="2102040" cy="82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355" name="Object 5"/>
          <p:cNvGraphicFramePr/>
          <p:nvPr/>
        </p:nvGraphicFramePr>
        <p:xfrm>
          <a:off x="1643040" y="2143080"/>
          <a:ext cx="5649840" cy="820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6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43040" y="2143080"/>
                    <a:ext cx="5649840" cy="8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Object 6"/>
          <p:cNvGraphicFramePr/>
          <p:nvPr/>
        </p:nvGraphicFramePr>
        <p:xfrm>
          <a:off x="3071880" y="3000240"/>
          <a:ext cx="1404720" cy="420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58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71880" y="3000240"/>
                    <a:ext cx="140472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59" name="组合 12"/>
          <p:cNvGrpSpPr/>
          <p:nvPr/>
        </p:nvGrpSpPr>
        <p:grpSpPr>
          <a:xfrm>
            <a:off x="1137240" y="3214800"/>
            <a:ext cx="3823200" cy="820800"/>
            <a:chOff x="1137240" y="3214800"/>
            <a:chExt cx="3823200" cy="820800"/>
          </a:xfrm>
        </p:grpSpPr>
        <p:sp>
          <p:nvSpPr>
            <p:cNvPr id="360" name="Rectangle 15"/>
            <p:cNvSpPr/>
            <p:nvPr/>
          </p:nvSpPr>
          <p:spPr>
            <a:xfrm>
              <a:off x="1137240" y="3357720"/>
              <a:ext cx="382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14440" indent="-514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一般来说，                      ，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361" name="Object 7"/>
            <p:cNvGraphicFramePr/>
            <p:nvPr/>
          </p:nvGraphicFramePr>
          <p:xfrm>
            <a:off x="2571840" y="3214800"/>
            <a:ext cx="2244960" cy="8208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62" name="Object 7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571840" y="3214800"/>
                      <a:ext cx="2244960" cy="82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363" name="Object 9"/>
          <p:cNvGraphicFramePr/>
          <p:nvPr/>
        </p:nvGraphicFramePr>
        <p:xfrm>
          <a:off x="2041560" y="3786120"/>
          <a:ext cx="5280120" cy="820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64" name="Object 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041560" y="3786120"/>
                    <a:ext cx="5280120" cy="8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组合 8"/>
          <p:cNvGrpSpPr/>
          <p:nvPr/>
        </p:nvGrpSpPr>
        <p:grpSpPr>
          <a:xfrm>
            <a:off x="785880" y="385920"/>
            <a:ext cx="7810200" cy="1585800"/>
            <a:chOff x="785880" y="385920"/>
            <a:chExt cx="7810200" cy="1585800"/>
          </a:xfrm>
        </p:grpSpPr>
        <p:grpSp>
          <p:nvGrpSpPr>
            <p:cNvPr id="366" name="组合 1"/>
            <p:cNvGrpSpPr/>
            <p:nvPr/>
          </p:nvGrpSpPr>
          <p:grpSpPr>
            <a:xfrm>
              <a:off x="1627200" y="385920"/>
              <a:ext cx="6968880" cy="900000"/>
              <a:chOff x="1627200" y="385920"/>
              <a:chExt cx="6968880" cy="900000"/>
            </a:xfrm>
          </p:grpSpPr>
          <p:sp>
            <p:nvSpPr>
              <p:cNvPr id="367" name="Rectangle 15"/>
              <p:cNvSpPr/>
              <p:nvPr/>
            </p:nvSpPr>
            <p:spPr>
              <a:xfrm>
                <a:off x="1627200" y="500040"/>
                <a:ext cx="6968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14440" indent="-5144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现在一方面                                       另一方面，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368" name="Object 2"/>
              <p:cNvGraphicFramePr/>
              <p:nvPr/>
            </p:nvGraphicFramePr>
            <p:xfrm>
              <a:off x="3286080" y="385920"/>
              <a:ext cx="3610080" cy="9000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369" name="Object 2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286080" y="385920"/>
                        <a:ext cx="3610080" cy="900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370" name="Object 3"/>
            <p:cNvGraphicFramePr/>
            <p:nvPr/>
          </p:nvGraphicFramePr>
          <p:xfrm>
            <a:off x="785880" y="1071720"/>
            <a:ext cx="2643120" cy="900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71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85880" y="1071720"/>
                      <a:ext cx="2643120" cy="90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72" name="组合 9"/>
          <p:cNvGrpSpPr/>
          <p:nvPr/>
        </p:nvGrpSpPr>
        <p:grpSpPr>
          <a:xfrm>
            <a:off x="3259080" y="1143000"/>
            <a:ext cx="5386320" cy="900000"/>
            <a:chOff x="3259080" y="1143000"/>
            <a:chExt cx="5386320" cy="900000"/>
          </a:xfrm>
        </p:grpSpPr>
        <p:sp>
          <p:nvSpPr>
            <p:cNvPr id="373" name="Rectangle 15"/>
            <p:cNvSpPr/>
            <p:nvPr/>
          </p:nvSpPr>
          <p:spPr>
            <a:xfrm>
              <a:off x="3259080" y="1285560"/>
              <a:ext cx="313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14440" indent="-514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完备，故存在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374" name="Object 4"/>
            <p:cNvGraphicFramePr/>
            <p:nvPr/>
          </p:nvGraphicFramePr>
          <p:xfrm>
            <a:off x="3672000" y="1357200"/>
            <a:ext cx="398160" cy="345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75" name="Object 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672000" y="1357200"/>
                      <a:ext cx="398160" cy="34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76" name="Object 5"/>
            <p:cNvGraphicFramePr/>
            <p:nvPr/>
          </p:nvGraphicFramePr>
          <p:xfrm>
            <a:off x="6143760" y="1143000"/>
            <a:ext cx="2501640" cy="900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77" name="Object 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143760" y="1143000"/>
                      <a:ext cx="2501640" cy="90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78" name="组合 16"/>
          <p:cNvGrpSpPr/>
          <p:nvPr/>
        </p:nvGrpSpPr>
        <p:grpSpPr>
          <a:xfrm>
            <a:off x="573840" y="2143080"/>
            <a:ext cx="7939440" cy="1986120"/>
            <a:chOff x="573840" y="2143080"/>
            <a:chExt cx="7939440" cy="1986120"/>
          </a:xfrm>
        </p:grpSpPr>
        <p:grpSp>
          <p:nvGrpSpPr>
            <p:cNvPr id="379" name="组合 10"/>
            <p:cNvGrpSpPr/>
            <p:nvPr/>
          </p:nvGrpSpPr>
          <p:grpSpPr>
            <a:xfrm>
              <a:off x="573840" y="2143080"/>
              <a:ext cx="7939440" cy="1986120"/>
              <a:chOff x="573840" y="2143080"/>
              <a:chExt cx="7939440" cy="1986120"/>
            </a:xfrm>
          </p:grpSpPr>
          <p:sp>
            <p:nvSpPr>
              <p:cNvPr id="380" name="Rectangle 15"/>
              <p:cNvSpPr/>
              <p:nvPr/>
            </p:nvSpPr>
            <p:spPr>
              <a:xfrm>
                <a:off x="573840" y="2328840"/>
                <a:ext cx="7939440" cy="180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14440" indent="-5144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由                        知                         同时   是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 marL="514440" indent="-5144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 marL="514440" indent="-5144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连续的，故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 marL="514440" indent="-5144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381" name="Object 6"/>
              <p:cNvGraphicFramePr/>
              <p:nvPr/>
            </p:nvGraphicFramePr>
            <p:xfrm>
              <a:off x="4572360" y="2357280"/>
              <a:ext cx="2305080" cy="47952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382" name="Object 6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4572360" y="2357280"/>
                        <a:ext cx="2305080" cy="479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83" name="Object 7"/>
              <p:cNvGraphicFramePr/>
              <p:nvPr/>
            </p:nvGraphicFramePr>
            <p:xfrm>
              <a:off x="1857600" y="2143080"/>
              <a:ext cx="2303640" cy="90036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384" name="Object 7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1857600" y="2143080"/>
                        <a:ext cx="2303640" cy="900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385" name="Object 8"/>
            <p:cNvGraphicFramePr/>
            <p:nvPr/>
          </p:nvGraphicFramePr>
          <p:xfrm>
            <a:off x="7716240" y="2368440"/>
            <a:ext cx="312480" cy="3459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386" name="Object 8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7716240" y="2368440"/>
                      <a:ext cx="312480" cy="34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87" name="Object 9"/>
            <p:cNvGraphicFramePr/>
            <p:nvPr/>
          </p:nvGraphicFramePr>
          <p:xfrm>
            <a:off x="2571840" y="3000600"/>
            <a:ext cx="3384720" cy="9543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388" name="Object 9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571840" y="3000600"/>
                      <a:ext cx="3384720" cy="95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89" name="组合 23"/>
          <p:cNvGrpSpPr/>
          <p:nvPr/>
        </p:nvGrpSpPr>
        <p:grpSpPr>
          <a:xfrm>
            <a:off x="1662840" y="3929040"/>
            <a:ext cx="6675840" cy="820800"/>
            <a:chOff x="1662840" y="3929040"/>
            <a:chExt cx="6675840" cy="820800"/>
          </a:xfrm>
        </p:grpSpPr>
        <p:sp>
          <p:nvSpPr>
            <p:cNvPr id="390" name="Rectangle 15"/>
            <p:cNvSpPr/>
            <p:nvPr/>
          </p:nvSpPr>
          <p:spPr>
            <a:xfrm>
              <a:off x="1662840" y="4071960"/>
              <a:ext cx="667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14440" indent="-514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从而                 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由引理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1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，是开算子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391" name="Object 12"/>
            <p:cNvGraphicFramePr/>
            <p:nvPr/>
          </p:nvGraphicFramePr>
          <p:xfrm>
            <a:off x="2500200" y="3929040"/>
            <a:ext cx="2525760" cy="820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392" name="Object 12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500200" y="3929040"/>
                      <a:ext cx="2525760" cy="82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93" name="Object 13"/>
            <p:cNvGraphicFramePr/>
            <p:nvPr/>
          </p:nvGraphicFramePr>
          <p:xfrm>
            <a:off x="6572520" y="4143240"/>
            <a:ext cx="312480" cy="345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394" name="Object 13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6572520" y="4143240"/>
                      <a:ext cx="312480" cy="34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组合 1"/>
          <p:cNvGrpSpPr/>
          <p:nvPr/>
        </p:nvGrpSpPr>
        <p:grpSpPr>
          <a:xfrm>
            <a:off x="2286000" y="500040"/>
            <a:ext cx="5100840" cy="1481400"/>
            <a:chOff x="2286000" y="500040"/>
            <a:chExt cx="5100840" cy="1481400"/>
          </a:xfrm>
        </p:grpSpPr>
        <p:sp>
          <p:nvSpPr>
            <p:cNvPr id="396" name="Rectangle 15"/>
            <p:cNvSpPr/>
            <p:nvPr/>
          </p:nvSpPr>
          <p:spPr>
            <a:xfrm>
              <a:off x="2333520" y="607680"/>
              <a:ext cx="50533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14440" indent="-514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3)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记                    ，像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1)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中已证明的一样，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marL="514440" indent="-514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marL="514440" indent="-514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              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，但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397" name="Object 2"/>
            <p:cNvGraphicFramePr/>
            <p:nvPr/>
          </p:nvGraphicFramePr>
          <p:xfrm>
            <a:off x="2286000" y="500040"/>
            <a:ext cx="1987560" cy="821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98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0" y="500040"/>
                      <a:ext cx="1987560" cy="821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399" name="Object 3"/>
          <p:cNvGraphicFramePr/>
          <p:nvPr/>
        </p:nvGraphicFramePr>
        <p:xfrm>
          <a:off x="1000080" y="1285920"/>
          <a:ext cx="3038400" cy="903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00080" y="1285920"/>
                    <a:ext cx="3038400" cy="9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1" name="Object 4"/>
          <p:cNvGraphicFramePr/>
          <p:nvPr/>
        </p:nvGraphicFramePr>
        <p:xfrm>
          <a:off x="2319480" y="2143080"/>
          <a:ext cx="4260600" cy="903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2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19480" y="2143080"/>
                    <a:ext cx="4260600" cy="9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03" name="组合 8"/>
          <p:cNvGrpSpPr/>
          <p:nvPr/>
        </p:nvGrpSpPr>
        <p:grpSpPr>
          <a:xfrm>
            <a:off x="1785600" y="3500280"/>
            <a:ext cx="1657800" cy="520560"/>
            <a:chOff x="1785600" y="3500280"/>
            <a:chExt cx="1657800" cy="520560"/>
          </a:xfrm>
        </p:grpSpPr>
        <p:sp>
          <p:nvSpPr>
            <p:cNvPr id="404" name="Rectangle 15"/>
            <p:cNvSpPr/>
            <p:nvPr/>
          </p:nvSpPr>
          <p:spPr>
            <a:xfrm>
              <a:off x="1860480" y="3500280"/>
              <a:ext cx="158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是到上的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405" name="Object 5"/>
            <p:cNvGraphicFramePr/>
            <p:nvPr/>
          </p:nvGraphicFramePr>
          <p:xfrm>
            <a:off x="1785600" y="3571560"/>
            <a:ext cx="312480" cy="346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06" name="Object 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785600" y="3571560"/>
                      <a:ext cx="312480" cy="346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3"/>
          <p:cNvSpPr/>
          <p:nvPr/>
        </p:nvSpPr>
        <p:spPr>
          <a:xfrm>
            <a:off x="285840" y="642960"/>
            <a:ext cx="414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定理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2   (</a:t>
            </a: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逆算子定理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)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408" name="组合 12"/>
          <p:cNvGrpSpPr/>
          <p:nvPr/>
        </p:nvGrpSpPr>
        <p:grpSpPr>
          <a:xfrm>
            <a:off x="1360440" y="1285920"/>
            <a:ext cx="7219080" cy="1800360"/>
            <a:chOff x="1360440" y="1285920"/>
            <a:chExt cx="7219080" cy="1800360"/>
          </a:xfrm>
        </p:grpSpPr>
        <p:grpSp>
          <p:nvGrpSpPr>
            <p:cNvPr id="409" name="组合 16"/>
            <p:cNvGrpSpPr/>
            <p:nvPr/>
          </p:nvGrpSpPr>
          <p:grpSpPr>
            <a:xfrm>
              <a:off x="1360440" y="1285920"/>
              <a:ext cx="7219080" cy="1800360"/>
              <a:chOff x="1360440" y="1285920"/>
              <a:chExt cx="7219080" cy="1800360"/>
            </a:xfrm>
          </p:grpSpPr>
          <p:grpSp>
            <p:nvGrpSpPr>
              <p:cNvPr id="410" name="组合 52"/>
              <p:cNvGrpSpPr/>
              <p:nvPr/>
            </p:nvGrpSpPr>
            <p:grpSpPr>
              <a:xfrm>
                <a:off x="1360440" y="1285920"/>
                <a:ext cx="7219080" cy="1800360"/>
                <a:chOff x="1360440" y="1285920"/>
                <a:chExt cx="7219080" cy="1800360"/>
              </a:xfrm>
            </p:grpSpPr>
            <p:grpSp>
              <p:nvGrpSpPr>
                <p:cNvPr id="411" name="组合 48"/>
                <p:cNvGrpSpPr/>
                <p:nvPr/>
              </p:nvGrpSpPr>
              <p:grpSpPr>
                <a:xfrm>
                  <a:off x="1360440" y="1285920"/>
                  <a:ext cx="5990040" cy="1800360"/>
                  <a:chOff x="1360440" y="1285920"/>
                  <a:chExt cx="5990040" cy="1800360"/>
                </a:xfrm>
              </p:grpSpPr>
              <p:sp>
                <p:nvSpPr>
                  <p:cNvPr id="412" name="Rectangle 15"/>
                  <p:cNvSpPr/>
                  <p:nvPr/>
                </p:nvSpPr>
                <p:spPr>
                  <a:xfrm>
                    <a:off x="1823400" y="1285920"/>
                    <a:ext cx="5527080" cy="1800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      </a:t>
                    </a: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设    是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Banach</a:t>
                    </a: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空间， 是线性赋范空间，</a:t>
                    </a:r>
                    <a:endParaRPr b="0" lang="en-US" sz="2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是一一的有界线性算子，且        是   中的第二纲集，</a:t>
                    </a:r>
                    <a:endParaRPr b="0" lang="en-US" sz="2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则     是定义在全空间   上的有界线性算子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,</a:t>
                    </a: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此时   是</a:t>
                    </a:r>
                    <a:endParaRPr b="0" lang="en-US" sz="2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Banach</a:t>
                    </a: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空间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.    </a:t>
                    </a:r>
                    <a:endParaRPr b="0" lang="en-US" sz="2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graphicFrame>
                <p:nvGraphicFramePr>
                  <p:cNvPr id="413" name="Object 2"/>
                  <p:cNvGraphicFramePr/>
                  <p:nvPr/>
                </p:nvGraphicFramePr>
                <p:xfrm>
                  <a:off x="1360440" y="1360440"/>
                  <a:ext cx="396720" cy="34596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414" name="Object 2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1360440" y="1360440"/>
                            <a:ext cx="396720" cy="34596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</p:grpSp>
            <p:graphicFrame>
              <p:nvGraphicFramePr>
                <p:cNvPr id="415" name="Object 3"/>
                <p:cNvGraphicFramePr/>
                <p:nvPr/>
              </p:nvGraphicFramePr>
              <p:xfrm>
                <a:off x="7072920" y="1357200"/>
                <a:ext cx="1506600" cy="37296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416" name="Object 3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7072920" y="1357200"/>
                          <a:ext cx="1506600" cy="3729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417" name="Object 4"/>
                <p:cNvGraphicFramePr/>
                <p:nvPr/>
              </p:nvGraphicFramePr>
              <p:xfrm>
                <a:off x="5858280" y="1785960"/>
                <a:ext cx="360360" cy="336240"/>
              </p:xfrm>
              <a:graphic>
                <a:graphicData uri="http://schemas.openxmlformats.org/presentationml/2006/ole">
                  <p:oleObj r:id="rId5" spid="">
                    <p:embed/>
                    <p:pic>
                      <p:nvPicPr>
                        <p:cNvPr id="418" name="Object 4" descr=""/>
                        <p:cNvPicPr/>
                        <p:nvPr/>
                      </p:nvPicPr>
                      <p:blipFill>
                        <a:blip r:embed="rId6"/>
                        <a:stretch/>
                      </p:blipFill>
                      <p:spPr>
                        <a:xfrm>
                          <a:off x="5858280" y="1785960"/>
                          <a:ext cx="360360" cy="3362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419" name="Object 5"/>
              <p:cNvGraphicFramePr/>
              <p:nvPr/>
            </p:nvGraphicFramePr>
            <p:xfrm>
              <a:off x="4215240" y="1395360"/>
              <a:ext cx="361800" cy="33624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420" name="Object 5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4215240" y="1395360"/>
                        <a:ext cx="361800" cy="336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421" name="Object 6"/>
            <p:cNvGraphicFramePr/>
            <p:nvPr/>
          </p:nvGraphicFramePr>
          <p:xfrm>
            <a:off x="4683240" y="1785960"/>
            <a:ext cx="982440" cy="4143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22" name="Object 6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683240" y="1785960"/>
                      <a:ext cx="982440" cy="41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423" name="Object 20"/>
          <p:cNvGraphicFramePr/>
          <p:nvPr/>
        </p:nvGraphicFramePr>
        <p:xfrm>
          <a:off x="714240" y="2182680"/>
          <a:ext cx="588960" cy="389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24" name="Object 2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14240" y="2182680"/>
                    <a:ext cx="58896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5" name="Object 21"/>
          <p:cNvGraphicFramePr/>
          <p:nvPr/>
        </p:nvGraphicFramePr>
        <p:xfrm>
          <a:off x="7786800" y="2214720"/>
          <a:ext cx="361800" cy="336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26" name="Object 2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786800" y="2214720"/>
                    <a:ext cx="361800" cy="33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7" name="Object 22"/>
          <p:cNvGraphicFramePr/>
          <p:nvPr/>
        </p:nvGraphicFramePr>
        <p:xfrm>
          <a:off x="3786120" y="2214720"/>
          <a:ext cx="362160" cy="3362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28" name="Object 22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786120" y="2214720"/>
                    <a:ext cx="362160" cy="33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Bar dir="ver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9" name="组合 18"/>
          <p:cNvGrpSpPr/>
          <p:nvPr/>
        </p:nvGrpSpPr>
        <p:grpSpPr>
          <a:xfrm>
            <a:off x="1158480" y="785880"/>
            <a:ext cx="6121440" cy="947160"/>
            <a:chOff x="1158480" y="785880"/>
            <a:chExt cx="6121440" cy="947160"/>
          </a:xfrm>
        </p:grpSpPr>
        <p:grpSp>
          <p:nvGrpSpPr>
            <p:cNvPr id="430" name="组合 18"/>
            <p:cNvGrpSpPr/>
            <p:nvPr/>
          </p:nvGrpSpPr>
          <p:grpSpPr>
            <a:xfrm>
              <a:off x="1658880" y="785880"/>
              <a:ext cx="5621040" cy="947160"/>
              <a:chOff x="1658880" y="785880"/>
              <a:chExt cx="5621040" cy="947160"/>
            </a:xfrm>
          </p:grpSpPr>
          <p:sp>
            <p:nvSpPr>
              <p:cNvPr id="431" name="Rectangle 15"/>
              <p:cNvSpPr/>
              <p:nvPr/>
            </p:nvSpPr>
            <p:spPr>
              <a:xfrm>
                <a:off x="2413080" y="785880"/>
                <a:ext cx="48668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   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是一一的，因此     存在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.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根据开映射定理，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是到上的开映射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.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432" name="Object 2"/>
              <p:cNvGraphicFramePr/>
              <p:nvPr/>
            </p:nvGraphicFramePr>
            <p:xfrm>
              <a:off x="1658880" y="857160"/>
              <a:ext cx="412560" cy="3664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433" name="Object 2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658880" y="857160"/>
                        <a:ext cx="412560" cy="366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434" name="Object 26"/>
            <p:cNvGraphicFramePr/>
            <p:nvPr/>
          </p:nvGraphicFramePr>
          <p:xfrm>
            <a:off x="4486320" y="830160"/>
            <a:ext cx="657000" cy="412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35" name="Object 2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486320" y="830160"/>
                      <a:ext cx="657000" cy="41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36" name="Object 18"/>
            <p:cNvGraphicFramePr/>
            <p:nvPr/>
          </p:nvGraphicFramePr>
          <p:xfrm>
            <a:off x="1158480" y="1276560"/>
            <a:ext cx="412560" cy="366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37" name="Object 18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158480" y="1276560"/>
                      <a:ext cx="412560" cy="366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38" name="Text Box 3"/>
          <p:cNvSpPr/>
          <p:nvPr/>
        </p:nvSpPr>
        <p:spPr>
          <a:xfrm>
            <a:off x="428760" y="64296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证明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439" name="组合 20"/>
          <p:cNvGrpSpPr/>
          <p:nvPr/>
        </p:nvGrpSpPr>
        <p:grpSpPr>
          <a:xfrm>
            <a:off x="4560480" y="1214280"/>
            <a:ext cx="2515320" cy="520560"/>
            <a:chOff x="4560480" y="1214280"/>
            <a:chExt cx="2515320" cy="520560"/>
          </a:xfrm>
        </p:grpSpPr>
        <p:sp>
          <p:nvSpPr>
            <p:cNvPr id="440" name="Rectangle 15"/>
            <p:cNvSpPr/>
            <p:nvPr/>
          </p:nvSpPr>
          <p:spPr>
            <a:xfrm>
              <a:off x="4560480" y="1214280"/>
              <a:ext cx="2515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这说明      是有界的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441" name="Object 19"/>
            <p:cNvGraphicFramePr/>
            <p:nvPr/>
          </p:nvGraphicFramePr>
          <p:xfrm>
            <a:off x="5250960" y="1214280"/>
            <a:ext cx="657000" cy="4136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42" name="Object 19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250960" y="1214280"/>
                      <a:ext cx="657000" cy="41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43" name="组合 29"/>
          <p:cNvGrpSpPr/>
          <p:nvPr/>
        </p:nvGrpSpPr>
        <p:grpSpPr>
          <a:xfrm>
            <a:off x="2192400" y="1785960"/>
            <a:ext cx="5316480" cy="947160"/>
            <a:chOff x="2192400" y="1785960"/>
            <a:chExt cx="5316480" cy="947160"/>
          </a:xfrm>
        </p:grpSpPr>
        <p:grpSp>
          <p:nvGrpSpPr>
            <p:cNvPr id="444" name="组合 21"/>
            <p:cNvGrpSpPr/>
            <p:nvPr/>
          </p:nvGrpSpPr>
          <p:grpSpPr>
            <a:xfrm>
              <a:off x="2192400" y="1785960"/>
              <a:ext cx="5316480" cy="947160"/>
              <a:chOff x="2192400" y="1785960"/>
              <a:chExt cx="5316480" cy="947160"/>
            </a:xfrm>
          </p:grpSpPr>
          <p:sp>
            <p:nvSpPr>
              <p:cNvPr id="445" name="Rectangle 15"/>
              <p:cNvSpPr/>
              <p:nvPr/>
            </p:nvSpPr>
            <p:spPr>
              <a:xfrm>
                <a:off x="2192400" y="1785960"/>
                <a:ext cx="53164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因此   是         之间的同构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.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第一章第四节定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理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8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说明   是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Banach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空间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. 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446" name="Object 20"/>
              <p:cNvGraphicFramePr/>
              <p:nvPr/>
            </p:nvGraphicFramePr>
            <p:xfrm>
              <a:off x="2384280" y="1857240"/>
              <a:ext cx="401400" cy="35712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447" name="Object 20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2384280" y="1857240"/>
                        <a:ext cx="401400" cy="357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448" name="Object 22"/>
            <p:cNvGraphicFramePr/>
            <p:nvPr/>
          </p:nvGraphicFramePr>
          <p:xfrm>
            <a:off x="3095640" y="1857240"/>
            <a:ext cx="975960" cy="4507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449" name="Object 22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095640" y="1857240"/>
                      <a:ext cx="975960" cy="45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50" name="Object 23"/>
            <p:cNvGraphicFramePr/>
            <p:nvPr/>
          </p:nvGraphicFramePr>
          <p:xfrm>
            <a:off x="2428920" y="2286000"/>
            <a:ext cx="428400" cy="3985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451" name="Object 23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428920" y="2286000"/>
                      <a:ext cx="428400" cy="398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52" name="Text Box 3"/>
          <p:cNvSpPr/>
          <p:nvPr/>
        </p:nvSpPr>
        <p:spPr>
          <a:xfrm>
            <a:off x="285840" y="292896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推论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1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453" name="组合 12"/>
          <p:cNvGrpSpPr/>
          <p:nvPr/>
        </p:nvGrpSpPr>
        <p:grpSpPr>
          <a:xfrm>
            <a:off x="1810440" y="3000240"/>
            <a:ext cx="6407640" cy="947160"/>
            <a:chOff x="1810440" y="3000240"/>
            <a:chExt cx="6407640" cy="947160"/>
          </a:xfrm>
        </p:grpSpPr>
        <p:grpSp>
          <p:nvGrpSpPr>
            <p:cNvPr id="454" name="组合 52"/>
            <p:cNvGrpSpPr/>
            <p:nvPr/>
          </p:nvGrpSpPr>
          <p:grpSpPr>
            <a:xfrm>
              <a:off x="1810440" y="3000240"/>
              <a:ext cx="6407640" cy="947160"/>
              <a:chOff x="1810440" y="3000240"/>
              <a:chExt cx="6407640" cy="947160"/>
            </a:xfrm>
          </p:grpSpPr>
          <p:grpSp>
            <p:nvGrpSpPr>
              <p:cNvPr id="455" name="组合 48"/>
              <p:cNvGrpSpPr/>
              <p:nvPr/>
            </p:nvGrpSpPr>
            <p:grpSpPr>
              <a:xfrm>
                <a:off x="1810440" y="3000240"/>
                <a:ext cx="6407640" cy="947160"/>
                <a:chOff x="1810440" y="3000240"/>
                <a:chExt cx="6407640" cy="947160"/>
              </a:xfrm>
            </p:grpSpPr>
            <p:sp>
              <p:nvSpPr>
                <p:cNvPr id="456" name="Rectangle 15"/>
                <p:cNvSpPr/>
                <p:nvPr/>
              </p:nvSpPr>
              <p:spPr>
                <a:xfrm>
                  <a:off x="1810440" y="3000240"/>
                  <a:ext cx="640764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      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设       是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Banach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空间，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             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是一一的到上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的有界线性算子，则存在正数            ，使得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457" name="Object 24"/>
                <p:cNvGraphicFramePr/>
                <p:nvPr/>
              </p:nvGraphicFramePr>
              <p:xfrm>
                <a:off x="2071080" y="3071520"/>
                <a:ext cx="736560" cy="426960"/>
              </p:xfrm>
              <a:graphic>
                <a:graphicData uri="http://schemas.openxmlformats.org/presentationml/2006/ole">
                  <p:oleObj r:id="rId15" spid="">
                    <p:embed/>
                    <p:pic>
                      <p:nvPicPr>
                        <p:cNvPr id="458" name="Object 24" descr=""/>
                        <p:cNvPicPr/>
                        <p:nvPr/>
                      </p:nvPicPr>
                      <p:blipFill>
                        <a:blip r:embed="rId16"/>
                        <a:stretch/>
                      </p:blipFill>
                      <p:spPr>
                        <a:xfrm>
                          <a:off x="2071080" y="3071520"/>
                          <a:ext cx="736560" cy="4269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459" name="Object 3"/>
              <p:cNvGraphicFramePr/>
              <p:nvPr/>
            </p:nvGraphicFramePr>
            <p:xfrm>
              <a:off x="5208480" y="3071520"/>
              <a:ext cx="1506600" cy="372960"/>
            </p:xfrm>
            <a:graphic>
              <a:graphicData uri="http://schemas.openxmlformats.org/presentationml/2006/ole">
                <p:oleObj r:id="rId17" spid="">
                  <p:embed/>
                  <p:pic>
                    <p:nvPicPr>
                      <p:cNvPr id="460" name="Object 3" descr=""/>
                      <p:cNvPicPr/>
                      <p:nvPr/>
                    </p:nvPicPr>
                    <p:blipFill>
                      <a:blip r:embed="rId18"/>
                      <a:stretch/>
                    </p:blipFill>
                    <p:spPr>
                      <a:xfrm>
                        <a:off x="5208480" y="3071520"/>
                        <a:ext cx="1506600" cy="372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461" name="Object 6"/>
            <p:cNvGraphicFramePr/>
            <p:nvPr/>
          </p:nvGraphicFramePr>
          <p:xfrm>
            <a:off x="5756040" y="3500280"/>
            <a:ext cx="1244520" cy="4143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462" name="Object 6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5756040" y="3500280"/>
                      <a:ext cx="1244520" cy="41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463" name="Object 29"/>
          <p:cNvGraphicFramePr/>
          <p:nvPr/>
        </p:nvGraphicFramePr>
        <p:xfrm>
          <a:off x="2120760" y="4092480"/>
          <a:ext cx="4289400" cy="5176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64" name="Object 29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120760" y="4092480"/>
                    <a:ext cx="428940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Bar dir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 Box 3"/>
          <p:cNvSpPr/>
          <p:nvPr/>
        </p:nvSpPr>
        <p:spPr>
          <a:xfrm>
            <a:off x="214200" y="428760"/>
            <a:ext cx="135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推论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2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466" name="组合 14"/>
          <p:cNvGrpSpPr/>
          <p:nvPr/>
        </p:nvGrpSpPr>
        <p:grpSpPr>
          <a:xfrm>
            <a:off x="1222920" y="500040"/>
            <a:ext cx="6742440" cy="1946160"/>
            <a:chOff x="1222920" y="500040"/>
            <a:chExt cx="6742440" cy="1946160"/>
          </a:xfrm>
        </p:grpSpPr>
        <p:grpSp>
          <p:nvGrpSpPr>
            <p:cNvPr id="467" name="组合 13"/>
            <p:cNvGrpSpPr/>
            <p:nvPr/>
          </p:nvGrpSpPr>
          <p:grpSpPr>
            <a:xfrm>
              <a:off x="1222920" y="500040"/>
              <a:ext cx="6742440" cy="1946160"/>
              <a:chOff x="1222920" y="500040"/>
              <a:chExt cx="6742440" cy="1946160"/>
            </a:xfrm>
          </p:grpSpPr>
          <p:grpSp>
            <p:nvGrpSpPr>
              <p:cNvPr id="468" name="组合 12"/>
              <p:cNvGrpSpPr/>
              <p:nvPr/>
            </p:nvGrpSpPr>
            <p:grpSpPr>
              <a:xfrm>
                <a:off x="1994760" y="500040"/>
                <a:ext cx="5970600" cy="1373760"/>
                <a:chOff x="1994760" y="500040"/>
                <a:chExt cx="5970600" cy="1373760"/>
              </a:xfrm>
            </p:grpSpPr>
            <p:grpSp>
              <p:nvGrpSpPr>
                <p:cNvPr id="469" name="组合 48"/>
                <p:cNvGrpSpPr/>
                <p:nvPr/>
              </p:nvGrpSpPr>
              <p:grpSpPr>
                <a:xfrm>
                  <a:off x="1994760" y="500040"/>
                  <a:ext cx="5970600" cy="1373760"/>
                  <a:chOff x="1994760" y="500040"/>
                  <a:chExt cx="5970600" cy="1373760"/>
                </a:xfrm>
              </p:grpSpPr>
              <p:sp>
                <p:nvSpPr>
                  <p:cNvPr id="470" name="Rectangle 15"/>
                  <p:cNvSpPr/>
                  <p:nvPr/>
                </p:nvSpPr>
                <p:spPr>
                  <a:xfrm>
                    <a:off x="1994760" y="500040"/>
                    <a:ext cx="5970600" cy="1373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      </a:t>
                    </a: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若线性空间    在两个范数                   之下   </a:t>
                    </a:r>
                    <a:endParaRPr b="0" lang="en-US" sz="2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均成为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Banach</a:t>
                    </a: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空间，并且存在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         </a:t>
                    </a: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，使得</a:t>
                    </a:r>
                    <a:endParaRPr b="0" lang="en-US" sz="2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                                 </a:t>
                    </a: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，则必存在          ，使得</a:t>
                    </a:r>
                    <a:endParaRPr b="0" lang="en-US" sz="2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graphicFrame>
                <p:nvGraphicFramePr>
                  <p:cNvPr id="471" name="Object 2"/>
                  <p:cNvGraphicFramePr/>
                  <p:nvPr/>
                </p:nvGraphicFramePr>
                <p:xfrm>
                  <a:off x="3580560" y="571320"/>
                  <a:ext cx="396720" cy="34740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472" name="Object 2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3580560" y="571320"/>
                            <a:ext cx="396720" cy="34740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</p:grpSp>
            <p:graphicFrame>
              <p:nvGraphicFramePr>
                <p:cNvPr id="473" name="Object 12"/>
                <p:cNvGraphicFramePr/>
                <p:nvPr/>
              </p:nvGraphicFramePr>
              <p:xfrm>
                <a:off x="6017760" y="1025280"/>
                <a:ext cx="917640" cy="36360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474" name="Object 12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6017760" y="1025280"/>
                          <a:ext cx="917640" cy="3636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475" name="Object 6"/>
              <p:cNvGraphicFramePr/>
              <p:nvPr/>
            </p:nvGraphicFramePr>
            <p:xfrm>
              <a:off x="1222920" y="1428840"/>
              <a:ext cx="3276720" cy="51732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76" name="Object 6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222920" y="1428840"/>
                        <a:ext cx="3276720" cy="517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77" name="Object 7"/>
              <p:cNvGraphicFramePr/>
              <p:nvPr/>
            </p:nvGraphicFramePr>
            <p:xfrm>
              <a:off x="6311520" y="1428840"/>
              <a:ext cx="884160" cy="36324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478" name="Object 7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6311520" y="1428840"/>
                        <a:ext cx="884160" cy="363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79" name="Object 8"/>
              <p:cNvGraphicFramePr/>
              <p:nvPr/>
            </p:nvGraphicFramePr>
            <p:xfrm>
              <a:off x="1278720" y="1928880"/>
              <a:ext cx="3308400" cy="51732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480" name="Object 8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1278720" y="1928880"/>
                        <a:ext cx="3308400" cy="517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481" name="Object 5"/>
            <p:cNvGraphicFramePr/>
            <p:nvPr/>
          </p:nvGraphicFramePr>
          <p:xfrm>
            <a:off x="5786640" y="571320"/>
            <a:ext cx="1900080" cy="5173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482" name="Object 5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786640" y="571320"/>
                      <a:ext cx="1900080" cy="51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83" name="Text Box 3"/>
          <p:cNvSpPr/>
          <p:nvPr/>
        </p:nvSpPr>
        <p:spPr>
          <a:xfrm>
            <a:off x="285840" y="235728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证明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484" name="组合 26"/>
          <p:cNvGrpSpPr/>
          <p:nvPr/>
        </p:nvGrpSpPr>
        <p:grpSpPr>
          <a:xfrm>
            <a:off x="1052280" y="2428920"/>
            <a:ext cx="7507440" cy="1800360"/>
            <a:chOff x="1052280" y="2428920"/>
            <a:chExt cx="7507440" cy="1800360"/>
          </a:xfrm>
        </p:grpSpPr>
        <p:grpSp>
          <p:nvGrpSpPr>
            <p:cNvPr id="485" name="组合 12"/>
            <p:cNvGrpSpPr/>
            <p:nvPr/>
          </p:nvGrpSpPr>
          <p:grpSpPr>
            <a:xfrm>
              <a:off x="1565280" y="2428920"/>
              <a:ext cx="6994440" cy="1800360"/>
              <a:chOff x="1565280" y="2428920"/>
              <a:chExt cx="6994440" cy="1800360"/>
            </a:xfrm>
          </p:grpSpPr>
          <p:grpSp>
            <p:nvGrpSpPr>
              <p:cNvPr id="486" name="组合 52"/>
              <p:cNvGrpSpPr/>
              <p:nvPr/>
            </p:nvGrpSpPr>
            <p:grpSpPr>
              <a:xfrm>
                <a:off x="1565280" y="2428920"/>
                <a:ext cx="6994440" cy="1800360"/>
                <a:chOff x="1565280" y="2428920"/>
                <a:chExt cx="6994440" cy="1800360"/>
              </a:xfrm>
            </p:grpSpPr>
            <p:sp>
              <p:nvSpPr>
                <p:cNvPr id="487" name="Rectangle 15"/>
                <p:cNvSpPr/>
                <p:nvPr/>
              </p:nvSpPr>
              <p:spPr>
                <a:xfrm>
                  <a:off x="1565280" y="2428920"/>
                  <a:ext cx="6994440" cy="180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      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记                                                    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,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考虑单位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映射                  ，由所设条件                     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,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因此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  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是一一的到上的有界线性算子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.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由定理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2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，   有界，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从而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488" name="Object 3"/>
                <p:cNvGraphicFramePr/>
                <p:nvPr/>
              </p:nvGraphicFramePr>
              <p:xfrm>
                <a:off x="1809720" y="2948040"/>
                <a:ext cx="1706400" cy="479520"/>
              </p:xfrm>
              <a:graphic>
                <a:graphicData uri="http://schemas.openxmlformats.org/presentationml/2006/ole">
                  <p:oleObj r:id="rId13" spid="">
                    <p:embed/>
                    <p:pic>
                      <p:nvPicPr>
                        <p:cNvPr id="489" name="Object 3" descr=""/>
                        <p:cNvPicPr/>
                        <p:nvPr/>
                      </p:nvPicPr>
                      <p:blipFill>
                        <a:blip r:embed="rId14"/>
                        <a:stretch/>
                      </p:blipFill>
                      <p:spPr>
                        <a:xfrm>
                          <a:off x="1809720" y="2948040"/>
                          <a:ext cx="1706400" cy="4795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490" name="Object 11"/>
              <p:cNvGraphicFramePr/>
              <p:nvPr/>
            </p:nvGraphicFramePr>
            <p:xfrm>
              <a:off x="5695920" y="2857680"/>
              <a:ext cx="2063880" cy="517680"/>
            </p:xfrm>
            <a:graphic>
              <a:graphicData uri="http://schemas.openxmlformats.org/presentationml/2006/ole">
                <p:oleObj r:id="rId15" spid="">
                  <p:embed/>
                  <p:pic>
                    <p:nvPicPr>
                      <p:cNvPr id="491" name="Object 11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5695920" y="2857680"/>
                        <a:ext cx="2063880" cy="51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492" name="Object 12"/>
            <p:cNvGraphicFramePr/>
            <p:nvPr/>
          </p:nvGraphicFramePr>
          <p:xfrm>
            <a:off x="2052360" y="2500200"/>
            <a:ext cx="5078520" cy="51768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493" name="Object 12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52360" y="2500200"/>
                      <a:ext cx="5078520" cy="51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94" name="Object 13"/>
            <p:cNvGraphicFramePr/>
            <p:nvPr/>
          </p:nvGraphicFramePr>
          <p:xfrm>
            <a:off x="1052280" y="3357720"/>
            <a:ext cx="284040" cy="345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495" name="Object 13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1052280" y="3357720"/>
                      <a:ext cx="284040" cy="34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96" name="Object 14"/>
            <p:cNvGraphicFramePr/>
            <p:nvPr/>
          </p:nvGraphicFramePr>
          <p:xfrm>
            <a:off x="7428240" y="3286440"/>
            <a:ext cx="482400" cy="3985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497" name="Object 14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7428240" y="3286440"/>
                      <a:ext cx="482400" cy="398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498" name="Object 15"/>
          <p:cNvGraphicFramePr/>
          <p:nvPr/>
        </p:nvGraphicFramePr>
        <p:xfrm>
          <a:off x="2027160" y="3929040"/>
          <a:ext cx="6616800" cy="5954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499" name="Object 15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027160" y="3929040"/>
                    <a:ext cx="661680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Bar dir="vert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5"/>
          <p:cNvSpPr/>
          <p:nvPr/>
        </p:nvSpPr>
        <p:spPr>
          <a:xfrm>
            <a:off x="0" y="1285920"/>
            <a:ext cx="93582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华文新魏"/>
                <a:ea typeface="华文新魏"/>
              </a:rPr>
              <a:t>河南师范大学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华文新魏"/>
                <a:ea typeface="华文新魏"/>
              </a:rPr>
              <a:t>现代教育技术中心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华文新魏"/>
                <a:ea typeface="华文新魏"/>
              </a:rPr>
              <a:t>录制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组合 17"/>
          <p:cNvGrpSpPr/>
          <p:nvPr/>
        </p:nvGrpSpPr>
        <p:grpSpPr>
          <a:xfrm>
            <a:off x="571320" y="500040"/>
            <a:ext cx="7745760" cy="4359960"/>
            <a:chOff x="571320" y="500040"/>
            <a:chExt cx="7745760" cy="4359960"/>
          </a:xfrm>
        </p:grpSpPr>
        <p:grpSp>
          <p:nvGrpSpPr>
            <p:cNvPr id="86" name="组合 52"/>
            <p:cNvGrpSpPr/>
            <p:nvPr/>
          </p:nvGrpSpPr>
          <p:grpSpPr>
            <a:xfrm>
              <a:off x="1365120" y="500040"/>
              <a:ext cx="6448680" cy="4359960"/>
              <a:chOff x="1365120" y="500040"/>
              <a:chExt cx="6448680" cy="4359960"/>
            </a:xfrm>
          </p:grpSpPr>
          <p:grpSp>
            <p:nvGrpSpPr>
              <p:cNvPr id="87" name="组合 48"/>
              <p:cNvGrpSpPr/>
              <p:nvPr/>
            </p:nvGrpSpPr>
            <p:grpSpPr>
              <a:xfrm>
                <a:off x="1365120" y="500040"/>
                <a:ext cx="6448680" cy="4359960"/>
                <a:chOff x="1365120" y="500040"/>
                <a:chExt cx="6448680" cy="4359960"/>
              </a:xfrm>
            </p:grpSpPr>
            <p:sp>
              <p:nvSpPr>
                <p:cNvPr id="88" name="Rectangle 15"/>
                <p:cNvSpPr/>
                <p:nvPr/>
              </p:nvSpPr>
              <p:spPr>
                <a:xfrm>
                  <a:off x="1365120" y="500040"/>
                  <a:ext cx="6448680" cy="435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       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设       是线性赋范空间，              是线性算子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.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若   是一一的，则                      是线性算子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.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此时对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于每个                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,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算子方程         有解存在，          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.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若问     的微小变动是否会引起    的微小变动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,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这是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由     的连续性决定的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.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在微分方程理论中，存在性、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唯一性和解对所给数据的连续依赖性统称为适定问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题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.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这一问题与开映射定理有关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.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另外容易知道，当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   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是一一线性映射时， 是开算子恰恰相当于     是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连续算子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.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 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89" name="Object 2"/>
                <p:cNvGraphicFramePr/>
                <p:nvPr/>
              </p:nvGraphicFramePr>
              <p:xfrm>
                <a:off x="4929120" y="576000"/>
                <a:ext cx="1500120" cy="35712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90" name="Object 2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4929120" y="576000"/>
                          <a:ext cx="1500120" cy="3571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91" name="Object 26"/>
                <p:cNvGraphicFramePr/>
                <p:nvPr/>
              </p:nvGraphicFramePr>
              <p:xfrm>
                <a:off x="1577520" y="607320"/>
                <a:ext cx="851040" cy="39240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92" name="Object 26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1577520" y="607320"/>
                          <a:ext cx="851040" cy="392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93" name="Object 48"/>
              <p:cNvGraphicFramePr/>
              <p:nvPr/>
            </p:nvGraphicFramePr>
            <p:xfrm>
              <a:off x="3286080" y="969840"/>
              <a:ext cx="2206440" cy="45864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94" name="Object 48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3286080" y="969840"/>
                        <a:ext cx="2206440" cy="458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95" name="Object 49"/>
              <p:cNvGraphicFramePr/>
              <p:nvPr/>
            </p:nvGraphicFramePr>
            <p:xfrm>
              <a:off x="1636560" y="1428480"/>
              <a:ext cx="1506240" cy="39492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96" name="Object 49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1636560" y="1428480"/>
                        <a:ext cx="1506240" cy="394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97" name="Object 6"/>
            <p:cNvGraphicFramePr/>
            <p:nvPr/>
          </p:nvGraphicFramePr>
          <p:xfrm>
            <a:off x="857160" y="1000080"/>
            <a:ext cx="360360" cy="3189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98" name="Object 6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57160" y="1000080"/>
                      <a:ext cx="360360" cy="31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9" name="Object 7"/>
            <p:cNvGraphicFramePr/>
            <p:nvPr/>
          </p:nvGraphicFramePr>
          <p:xfrm>
            <a:off x="4643640" y="1449000"/>
            <a:ext cx="961920" cy="4078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0" name="Object 7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643640" y="1449000"/>
                      <a:ext cx="961920" cy="407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1" name="Object 8"/>
            <p:cNvGraphicFramePr/>
            <p:nvPr/>
          </p:nvGraphicFramePr>
          <p:xfrm>
            <a:off x="7072560" y="1403280"/>
            <a:ext cx="1244520" cy="4586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02" name="Object 8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7072560" y="1403280"/>
                      <a:ext cx="1244520" cy="458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3" name="Object 9"/>
            <p:cNvGraphicFramePr/>
            <p:nvPr/>
          </p:nvGraphicFramePr>
          <p:xfrm>
            <a:off x="1285920" y="1928520"/>
            <a:ext cx="360360" cy="32040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04" name="Object 9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85920" y="1928520"/>
                      <a:ext cx="360360" cy="32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5" name="Object 10"/>
            <p:cNvGraphicFramePr/>
            <p:nvPr/>
          </p:nvGraphicFramePr>
          <p:xfrm>
            <a:off x="5373720" y="1952280"/>
            <a:ext cx="326880" cy="271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06" name="Object 10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373720" y="1952280"/>
                      <a:ext cx="326880" cy="271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7" name="Object 11"/>
            <p:cNvGraphicFramePr/>
            <p:nvPr/>
          </p:nvGraphicFramePr>
          <p:xfrm>
            <a:off x="857160" y="2285640"/>
            <a:ext cx="509400" cy="38088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108" name="Object 11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857160" y="2285640"/>
                      <a:ext cx="50940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9" name="Object 12"/>
            <p:cNvGraphicFramePr/>
            <p:nvPr/>
          </p:nvGraphicFramePr>
          <p:xfrm>
            <a:off x="571320" y="3571560"/>
            <a:ext cx="360360" cy="31896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110" name="Object 12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571320" y="3571560"/>
                      <a:ext cx="360360" cy="31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1" name="Object 13"/>
            <p:cNvGraphicFramePr/>
            <p:nvPr/>
          </p:nvGraphicFramePr>
          <p:xfrm>
            <a:off x="3857760" y="3571560"/>
            <a:ext cx="360360" cy="318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112" name="Object 13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3857760" y="3571560"/>
                      <a:ext cx="360360" cy="31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3" name="Object 14"/>
            <p:cNvGraphicFramePr/>
            <p:nvPr/>
          </p:nvGraphicFramePr>
          <p:xfrm>
            <a:off x="7286760" y="3500280"/>
            <a:ext cx="509400" cy="38088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114" name="Object 14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7286760" y="3500280"/>
                      <a:ext cx="50940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3"/>
          <p:cNvSpPr/>
          <p:nvPr/>
        </p:nvSpPr>
        <p:spPr>
          <a:xfrm>
            <a:off x="285840" y="642960"/>
            <a:ext cx="171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定义 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1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16" name="组合 18"/>
          <p:cNvGrpSpPr/>
          <p:nvPr/>
        </p:nvGrpSpPr>
        <p:grpSpPr>
          <a:xfrm>
            <a:off x="1142640" y="1500120"/>
            <a:ext cx="6353280" cy="1373760"/>
            <a:chOff x="1142640" y="1500120"/>
            <a:chExt cx="6353280" cy="1373760"/>
          </a:xfrm>
        </p:grpSpPr>
        <p:grpSp>
          <p:nvGrpSpPr>
            <p:cNvPr id="117" name="组合 52"/>
            <p:cNvGrpSpPr/>
            <p:nvPr/>
          </p:nvGrpSpPr>
          <p:grpSpPr>
            <a:xfrm>
              <a:off x="1371240" y="1500120"/>
              <a:ext cx="6124680" cy="1373760"/>
              <a:chOff x="1371240" y="1500120"/>
              <a:chExt cx="6124680" cy="1373760"/>
            </a:xfrm>
          </p:grpSpPr>
          <p:grpSp>
            <p:nvGrpSpPr>
              <p:cNvPr id="118" name="组合 48"/>
              <p:cNvGrpSpPr/>
              <p:nvPr/>
            </p:nvGrpSpPr>
            <p:grpSpPr>
              <a:xfrm>
                <a:off x="1371240" y="1500120"/>
                <a:ext cx="6124680" cy="1373760"/>
                <a:chOff x="1371240" y="1500120"/>
                <a:chExt cx="6124680" cy="1373760"/>
              </a:xfrm>
            </p:grpSpPr>
            <p:sp>
              <p:nvSpPr>
                <p:cNvPr id="119" name="Rectangle 15"/>
                <p:cNvSpPr/>
                <p:nvPr/>
              </p:nvSpPr>
              <p:spPr>
                <a:xfrm>
                  <a:off x="2162520" y="1500120"/>
                  <a:ext cx="5333400" cy="137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设       是线性赋范空间，              为线性算子，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若    将    中的每个开集映射 为    中的开集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,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称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    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为开算子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(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开映射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).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120" name="Object 2"/>
                <p:cNvGraphicFramePr/>
                <p:nvPr/>
              </p:nvGraphicFramePr>
              <p:xfrm>
                <a:off x="4857840" y="1576080"/>
                <a:ext cx="1500120" cy="35532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121" name="Object 2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4857840" y="1576080"/>
                          <a:ext cx="1500120" cy="3553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122" name="Object 26"/>
                <p:cNvGraphicFramePr/>
                <p:nvPr/>
              </p:nvGraphicFramePr>
              <p:xfrm>
                <a:off x="1371240" y="1571400"/>
                <a:ext cx="851040" cy="39240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123" name="Object 26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1371240" y="1571400"/>
                          <a:ext cx="851040" cy="392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124" name="Object 48"/>
              <p:cNvGraphicFramePr/>
              <p:nvPr/>
            </p:nvGraphicFramePr>
            <p:xfrm>
              <a:off x="5929560" y="1999800"/>
              <a:ext cx="311040" cy="3297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25" name="Object 48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5929560" y="1999800"/>
                        <a:ext cx="311040" cy="329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26" name="Object 49"/>
              <p:cNvGraphicFramePr/>
              <p:nvPr/>
            </p:nvGraphicFramePr>
            <p:xfrm>
              <a:off x="1477800" y="1999800"/>
              <a:ext cx="360360" cy="32040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27" name="Object 49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1477800" y="1999800"/>
                        <a:ext cx="360360" cy="320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128" name="Object 10"/>
            <p:cNvGraphicFramePr/>
            <p:nvPr/>
          </p:nvGraphicFramePr>
          <p:xfrm>
            <a:off x="2165400" y="1999800"/>
            <a:ext cx="458640" cy="3204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29" name="Object 10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165400" y="1999800"/>
                      <a:ext cx="458640" cy="32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0" name="Object 11"/>
            <p:cNvGraphicFramePr/>
            <p:nvPr/>
          </p:nvGraphicFramePr>
          <p:xfrm>
            <a:off x="1142640" y="2464920"/>
            <a:ext cx="360360" cy="3204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31" name="Object 11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142640" y="2464920"/>
                      <a:ext cx="360360" cy="32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3"/>
          <p:cNvSpPr/>
          <p:nvPr/>
        </p:nvSpPr>
        <p:spPr>
          <a:xfrm>
            <a:off x="285840" y="642960"/>
            <a:ext cx="171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引理 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1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33" name="组合 13"/>
          <p:cNvGrpSpPr/>
          <p:nvPr/>
        </p:nvGrpSpPr>
        <p:grpSpPr>
          <a:xfrm>
            <a:off x="1752480" y="714240"/>
            <a:ext cx="6902280" cy="1428840"/>
            <a:chOff x="1752480" y="714240"/>
            <a:chExt cx="6902280" cy="1428840"/>
          </a:xfrm>
        </p:grpSpPr>
        <p:grpSp>
          <p:nvGrpSpPr>
            <p:cNvPr id="134" name="组合 2"/>
            <p:cNvGrpSpPr/>
            <p:nvPr/>
          </p:nvGrpSpPr>
          <p:grpSpPr>
            <a:xfrm>
              <a:off x="1956960" y="714240"/>
              <a:ext cx="6697800" cy="1373760"/>
              <a:chOff x="1956960" y="714240"/>
              <a:chExt cx="6697800" cy="1373760"/>
            </a:xfrm>
          </p:grpSpPr>
          <p:grpSp>
            <p:nvGrpSpPr>
              <p:cNvPr id="135" name="组合 52"/>
              <p:cNvGrpSpPr/>
              <p:nvPr/>
            </p:nvGrpSpPr>
            <p:grpSpPr>
              <a:xfrm>
                <a:off x="1956960" y="714240"/>
                <a:ext cx="6486840" cy="1373760"/>
                <a:chOff x="1956960" y="714240"/>
                <a:chExt cx="6486840" cy="1373760"/>
              </a:xfrm>
            </p:grpSpPr>
            <p:grpSp>
              <p:nvGrpSpPr>
                <p:cNvPr id="136" name="组合 48"/>
                <p:cNvGrpSpPr/>
                <p:nvPr/>
              </p:nvGrpSpPr>
              <p:grpSpPr>
                <a:xfrm>
                  <a:off x="1956960" y="714240"/>
                  <a:ext cx="6486840" cy="1373760"/>
                  <a:chOff x="1956960" y="714240"/>
                  <a:chExt cx="6486840" cy="1373760"/>
                </a:xfrm>
              </p:grpSpPr>
              <p:sp>
                <p:nvSpPr>
                  <p:cNvPr id="137" name="Rectangle 15"/>
                  <p:cNvSpPr/>
                  <p:nvPr/>
                </p:nvSpPr>
                <p:spPr>
                  <a:xfrm>
                    <a:off x="2561760" y="714240"/>
                    <a:ext cx="5605920" cy="1373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设       是线性赋范空间，线性算子             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 </a:t>
                    </a: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是</a:t>
                    </a:r>
                    <a:endParaRPr b="0" lang="en-US" sz="2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开算子当且仅当对于        的每个邻域            ，</a:t>
                    </a:r>
                    <a:endParaRPr b="0" lang="en-US" sz="2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                   </a:t>
                    </a: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包含         的邻域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.               </a:t>
                    </a:r>
                    <a:endParaRPr b="0" lang="en-US" sz="2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graphicFrame>
                <p:nvGraphicFramePr>
                  <p:cNvPr id="138" name="Object 2"/>
                  <p:cNvGraphicFramePr/>
                  <p:nvPr/>
                </p:nvGraphicFramePr>
                <p:xfrm>
                  <a:off x="6943680" y="790200"/>
                  <a:ext cx="1500120" cy="35568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139" name="Object 2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6943680" y="790200"/>
                            <a:ext cx="1500120" cy="35568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graphicFrame>
                <p:nvGraphicFramePr>
                  <p:cNvPr id="140" name="Object 26"/>
                  <p:cNvGraphicFramePr/>
                  <p:nvPr/>
                </p:nvGraphicFramePr>
                <p:xfrm>
                  <a:off x="1956960" y="785520"/>
                  <a:ext cx="851040" cy="392760"/>
                </p:xfrm>
                <a:graphic>
                  <a:graphicData uri="http://schemas.openxmlformats.org/presentationml/2006/ole">
                    <p:oleObj r:id="rId3" spid="">
                      <p:embed/>
                      <p:pic>
                        <p:nvPicPr>
                          <p:cNvPr id="141" name="Object 26" descr=""/>
                          <p:cNvPicPr/>
                          <p:nvPr/>
                        </p:nvPicPr>
                        <p:blipFill>
                          <a:blip r:embed="rId4"/>
                          <a:stretch/>
                        </p:blipFill>
                        <p:spPr>
                          <a:xfrm>
                            <a:off x="1956960" y="785520"/>
                            <a:ext cx="851040" cy="39276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</p:grpSp>
            <p:graphicFrame>
              <p:nvGraphicFramePr>
                <p:cNvPr id="142" name="Object 48"/>
                <p:cNvGraphicFramePr/>
                <p:nvPr/>
              </p:nvGraphicFramePr>
              <p:xfrm>
                <a:off x="4852800" y="1214280"/>
                <a:ext cx="876240" cy="355680"/>
              </p:xfrm>
              <a:graphic>
                <a:graphicData uri="http://schemas.openxmlformats.org/presentationml/2006/ole">
                  <p:oleObj r:id="rId5" spid="">
                    <p:embed/>
                    <p:pic>
                      <p:nvPicPr>
                        <p:cNvPr id="143" name="Object 48" descr=""/>
                        <p:cNvPicPr/>
                        <p:nvPr/>
                      </p:nvPicPr>
                      <p:blipFill>
                        <a:blip r:embed="rId6"/>
                        <a:stretch/>
                      </p:blipFill>
                      <p:spPr>
                        <a:xfrm>
                          <a:off x="4852800" y="1214280"/>
                          <a:ext cx="876240" cy="3556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144" name="Object 49"/>
                <p:cNvGraphicFramePr/>
                <p:nvPr/>
              </p:nvGraphicFramePr>
              <p:xfrm>
                <a:off x="4228920" y="1643040"/>
                <a:ext cx="917280" cy="345960"/>
              </p:xfrm>
              <a:graphic>
                <a:graphicData uri="http://schemas.openxmlformats.org/presentationml/2006/ole">
                  <p:oleObj r:id="rId7" spid="">
                    <p:embed/>
                    <p:pic>
                      <p:nvPicPr>
                        <p:cNvPr id="145" name="Object 49" descr=""/>
                        <p:cNvPicPr/>
                        <p:nvPr/>
                      </p:nvPicPr>
                      <p:blipFill>
                        <a:blip r:embed="rId8"/>
                        <a:stretch/>
                      </p:blipFill>
                      <p:spPr>
                        <a:xfrm>
                          <a:off x="4228920" y="1643040"/>
                          <a:ext cx="917280" cy="3459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146" name="Object 7"/>
              <p:cNvGraphicFramePr/>
              <p:nvPr/>
            </p:nvGraphicFramePr>
            <p:xfrm>
              <a:off x="7443720" y="1214280"/>
              <a:ext cx="1211040" cy="39528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47" name="Object 7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7443720" y="1214280"/>
                        <a:ext cx="1211040" cy="395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148" name="Object 8"/>
            <p:cNvGraphicFramePr/>
            <p:nvPr/>
          </p:nvGraphicFramePr>
          <p:xfrm>
            <a:off x="1752480" y="1649520"/>
            <a:ext cx="1833480" cy="4935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49" name="Object 8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752480" y="1649520"/>
                      <a:ext cx="1833480" cy="49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0" name="Text Box 3"/>
          <p:cNvSpPr/>
          <p:nvPr/>
        </p:nvSpPr>
        <p:spPr>
          <a:xfrm>
            <a:off x="142920" y="2286000"/>
            <a:ext cx="171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证明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51" name="组合 15"/>
          <p:cNvGrpSpPr/>
          <p:nvPr/>
        </p:nvGrpSpPr>
        <p:grpSpPr>
          <a:xfrm>
            <a:off x="1214640" y="2428920"/>
            <a:ext cx="6377040" cy="966600"/>
            <a:chOff x="1214640" y="2428920"/>
            <a:chExt cx="6377040" cy="966600"/>
          </a:xfrm>
        </p:grpSpPr>
        <p:grpSp>
          <p:nvGrpSpPr>
            <p:cNvPr id="152" name="组合 16"/>
            <p:cNvGrpSpPr/>
            <p:nvPr/>
          </p:nvGrpSpPr>
          <p:grpSpPr>
            <a:xfrm>
              <a:off x="2069640" y="2428920"/>
              <a:ext cx="5522040" cy="947160"/>
              <a:chOff x="2069640" y="2428920"/>
              <a:chExt cx="5522040" cy="947160"/>
            </a:xfrm>
          </p:grpSpPr>
          <p:grpSp>
            <p:nvGrpSpPr>
              <p:cNvPr id="153" name="组合 52"/>
              <p:cNvGrpSpPr/>
              <p:nvPr/>
            </p:nvGrpSpPr>
            <p:grpSpPr>
              <a:xfrm>
                <a:off x="2069640" y="2428920"/>
                <a:ext cx="5522040" cy="947160"/>
                <a:chOff x="2069640" y="2428920"/>
                <a:chExt cx="5522040" cy="947160"/>
              </a:xfrm>
            </p:grpSpPr>
            <p:grpSp>
              <p:nvGrpSpPr>
                <p:cNvPr id="154" name="组合 48"/>
                <p:cNvGrpSpPr/>
                <p:nvPr/>
              </p:nvGrpSpPr>
              <p:grpSpPr>
                <a:xfrm>
                  <a:off x="2069640" y="2428920"/>
                  <a:ext cx="5522040" cy="947160"/>
                  <a:chOff x="2069640" y="2428920"/>
                  <a:chExt cx="5522040" cy="947160"/>
                </a:xfrm>
              </p:grpSpPr>
              <p:sp>
                <p:nvSpPr>
                  <p:cNvPr id="155" name="Rectangle 15"/>
                  <p:cNvSpPr/>
                  <p:nvPr/>
                </p:nvSpPr>
                <p:spPr>
                  <a:xfrm>
                    <a:off x="2069640" y="2428920"/>
                    <a:ext cx="5522040" cy="94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      </a:t>
                    </a: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若    为开算子，          是        的邻域 ，则</a:t>
                    </a:r>
                    <a:endParaRPr b="0" lang="en-US" sz="2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                  </a:t>
                    </a: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是开集，从而是         的邻域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.    </a:t>
                    </a:r>
                    <a:endParaRPr b="0" lang="en-US" sz="2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graphicFrame>
                <p:nvGraphicFramePr>
                  <p:cNvPr id="156" name="Object 9"/>
                  <p:cNvGraphicFramePr/>
                  <p:nvPr/>
                </p:nvGraphicFramePr>
                <p:xfrm>
                  <a:off x="2188080" y="2503800"/>
                  <a:ext cx="311760" cy="345960"/>
                </p:xfrm>
                <a:graphic>
                  <a:graphicData uri="http://schemas.openxmlformats.org/presentationml/2006/ole">
                    <p:oleObj r:id="rId13" spid="">
                      <p:embed/>
                      <p:pic>
                        <p:nvPicPr>
                          <p:cNvPr id="157" name="Object 9" descr=""/>
                          <p:cNvPicPr/>
                          <p:nvPr/>
                        </p:nvPicPr>
                        <p:blipFill>
                          <a:blip r:embed="rId14"/>
                          <a:stretch/>
                        </p:blipFill>
                        <p:spPr>
                          <a:xfrm>
                            <a:off x="2188080" y="2503800"/>
                            <a:ext cx="311760" cy="34596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</p:grpSp>
            <p:graphicFrame>
              <p:nvGraphicFramePr>
                <p:cNvPr id="158" name="Object 11"/>
                <p:cNvGraphicFramePr/>
                <p:nvPr/>
              </p:nvGraphicFramePr>
              <p:xfrm>
                <a:off x="5693400" y="2503800"/>
                <a:ext cx="878760" cy="372600"/>
              </p:xfrm>
              <a:graphic>
                <a:graphicData uri="http://schemas.openxmlformats.org/presentationml/2006/ole">
                  <p:oleObj r:id="rId15" spid="">
                    <p:embed/>
                    <p:pic>
                      <p:nvPicPr>
                        <p:cNvPr id="159" name="Object 11" descr=""/>
                        <p:cNvPicPr/>
                        <p:nvPr/>
                      </p:nvPicPr>
                      <p:blipFill>
                        <a:blip r:embed="rId16"/>
                        <a:stretch/>
                      </p:blipFill>
                      <p:spPr>
                        <a:xfrm>
                          <a:off x="5693400" y="2503800"/>
                          <a:ext cx="878760" cy="3726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160" name="Object 12"/>
                <p:cNvGraphicFramePr/>
                <p:nvPr/>
              </p:nvGraphicFramePr>
              <p:xfrm>
                <a:off x="5513400" y="2953080"/>
                <a:ext cx="920160" cy="362520"/>
              </p:xfrm>
              <a:graphic>
                <a:graphicData uri="http://schemas.openxmlformats.org/presentationml/2006/ole">
                  <p:oleObj r:id="rId17" spid="">
                    <p:embed/>
                    <p:pic>
                      <p:nvPicPr>
                        <p:cNvPr id="161" name="Object 12" descr=""/>
                        <p:cNvPicPr/>
                        <p:nvPr/>
                      </p:nvPicPr>
                      <p:blipFill>
                        <a:blip r:embed="rId18"/>
                        <a:stretch/>
                      </p:blipFill>
                      <p:spPr>
                        <a:xfrm>
                          <a:off x="5513400" y="2953080"/>
                          <a:ext cx="920160" cy="3625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162" name="Object 13"/>
              <p:cNvGraphicFramePr/>
              <p:nvPr/>
            </p:nvGraphicFramePr>
            <p:xfrm>
              <a:off x="4143240" y="2514600"/>
              <a:ext cx="1214640" cy="414360"/>
            </p:xfrm>
            <a:graphic>
              <a:graphicData uri="http://schemas.openxmlformats.org/presentationml/2006/ole">
                <p:oleObj r:id="rId19" spid="">
                  <p:embed/>
                  <p:pic>
                    <p:nvPicPr>
                      <p:cNvPr id="163" name="Object 13" descr=""/>
                      <p:cNvPicPr/>
                      <p:nvPr/>
                    </p:nvPicPr>
                    <p:blipFill>
                      <a:blip r:embed="rId20"/>
                      <a:stretch/>
                    </p:blipFill>
                    <p:spPr>
                      <a:xfrm>
                        <a:off x="4143240" y="2514600"/>
                        <a:ext cx="1214640" cy="414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164" name="Object 14"/>
            <p:cNvGraphicFramePr/>
            <p:nvPr/>
          </p:nvGraphicFramePr>
          <p:xfrm>
            <a:off x="1214640" y="2878200"/>
            <a:ext cx="1838880" cy="517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165" name="Object 14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1214640" y="2878200"/>
                      <a:ext cx="1838880" cy="51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66" name="组合 16"/>
          <p:cNvGrpSpPr/>
          <p:nvPr/>
        </p:nvGrpSpPr>
        <p:grpSpPr>
          <a:xfrm>
            <a:off x="2259360" y="3571920"/>
            <a:ext cx="5467680" cy="947160"/>
            <a:chOff x="2259360" y="3571920"/>
            <a:chExt cx="5467680" cy="947160"/>
          </a:xfrm>
        </p:grpSpPr>
        <p:grpSp>
          <p:nvGrpSpPr>
            <p:cNvPr id="167" name="组合 52"/>
            <p:cNvGrpSpPr/>
            <p:nvPr/>
          </p:nvGrpSpPr>
          <p:grpSpPr>
            <a:xfrm>
              <a:off x="2259360" y="3571920"/>
              <a:ext cx="5467680" cy="947160"/>
              <a:chOff x="2259360" y="3571920"/>
              <a:chExt cx="5467680" cy="947160"/>
            </a:xfrm>
          </p:grpSpPr>
          <p:grpSp>
            <p:nvGrpSpPr>
              <p:cNvPr id="168" name="组合 48"/>
              <p:cNvGrpSpPr/>
              <p:nvPr/>
            </p:nvGrpSpPr>
            <p:grpSpPr>
              <a:xfrm>
                <a:off x="2259360" y="3571920"/>
                <a:ext cx="5467680" cy="947160"/>
                <a:chOff x="2259360" y="3571920"/>
                <a:chExt cx="5467680" cy="947160"/>
              </a:xfrm>
            </p:grpSpPr>
            <p:sp>
              <p:nvSpPr>
                <p:cNvPr id="169" name="Rectangle 15"/>
                <p:cNvSpPr/>
                <p:nvPr/>
              </p:nvSpPr>
              <p:spPr>
                <a:xfrm>
                  <a:off x="2259720" y="3571920"/>
                  <a:ext cx="546732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      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若    具有所说的性质，          为任一开集，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我们证明       是     中的开集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.    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170" name="Object 15"/>
                <p:cNvGraphicFramePr/>
                <p:nvPr/>
              </p:nvGraphicFramePr>
              <p:xfrm>
                <a:off x="2259360" y="3646800"/>
                <a:ext cx="311760" cy="345960"/>
              </p:xfrm>
              <a:graphic>
                <a:graphicData uri="http://schemas.openxmlformats.org/presentationml/2006/ole">
                  <p:oleObj r:id="rId23" spid="">
                    <p:embed/>
                    <p:pic>
                      <p:nvPicPr>
                        <p:cNvPr id="171" name="Object 15" descr=""/>
                        <p:cNvPicPr/>
                        <p:nvPr/>
                      </p:nvPicPr>
                      <p:blipFill>
                        <a:blip r:embed="rId24"/>
                        <a:stretch/>
                      </p:blipFill>
                      <p:spPr>
                        <a:xfrm>
                          <a:off x="2259360" y="3646800"/>
                          <a:ext cx="311760" cy="3459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172" name="Object 16"/>
              <p:cNvGraphicFramePr/>
              <p:nvPr/>
            </p:nvGraphicFramePr>
            <p:xfrm>
              <a:off x="2685600" y="4073400"/>
              <a:ext cx="793440" cy="426960"/>
            </p:xfrm>
            <a:graphic>
              <a:graphicData uri="http://schemas.openxmlformats.org/presentationml/2006/ole">
                <p:oleObj r:id="rId25" spid="">
                  <p:embed/>
                  <p:pic>
                    <p:nvPicPr>
                      <p:cNvPr id="173" name="Object 16" descr=""/>
                      <p:cNvPicPr/>
                      <p:nvPr/>
                    </p:nvPicPr>
                    <p:blipFill>
                      <a:blip r:embed="rId26"/>
                      <a:stretch/>
                    </p:blipFill>
                    <p:spPr>
                      <a:xfrm>
                        <a:off x="2685600" y="4073400"/>
                        <a:ext cx="793440" cy="426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4" name="Object 17"/>
              <p:cNvGraphicFramePr/>
              <p:nvPr/>
            </p:nvGraphicFramePr>
            <p:xfrm>
              <a:off x="3922560" y="4084560"/>
              <a:ext cx="360360" cy="336600"/>
            </p:xfrm>
            <a:graphic>
              <a:graphicData uri="http://schemas.openxmlformats.org/presentationml/2006/ole">
                <p:oleObj r:id="rId27" spid="">
                  <p:embed/>
                  <p:pic>
                    <p:nvPicPr>
                      <p:cNvPr id="175" name="Object 17" descr=""/>
                      <p:cNvPicPr/>
                      <p:nvPr/>
                    </p:nvPicPr>
                    <p:blipFill>
                      <a:blip r:embed="rId28"/>
                      <a:stretch/>
                    </p:blipFill>
                    <p:spPr>
                      <a:xfrm>
                        <a:off x="3922560" y="4084560"/>
                        <a:ext cx="360360" cy="336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176" name="Object 18"/>
            <p:cNvGraphicFramePr/>
            <p:nvPr/>
          </p:nvGraphicFramePr>
          <p:xfrm>
            <a:off x="5445000" y="3681360"/>
            <a:ext cx="1180800" cy="33660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177" name="Object 18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5445000" y="3681360"/>
                      <a:ext cx="1180800" cy="33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Bar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组合 19"/>
          <p:cNvGrpSpPr/>
          <p:nvPr/>
        </p:nvGrpSpPr>
        <p:grpSpPr>
          <a:xfrm>
            <a:off x="974520" y="428760"/>
            <a:ext cx="7245000" cy="1373760"/>
            <a:chOff x="974520" y="428760"/>
            <a:chExt cx="7245000" cy="1373760"/>
          </a:xfrm>
        </p:grpSpPr>
        <p:grpSp>
          <p:nvGrpSpPr>
            <p:cNvPr id="179" name="组合 16"/>
            <p:cNvGrpSpPr/>
            <p:nvPr/>
          </p:nvGrpSpPr>
          <p:grpSpPr>
            <a:xfrm>
              <a:off x="974520" y="428760"/>
              <a:ext cx="7186320" cy="1373760"/>
              <a:chOff x="974520" y="428760"/>
              <a:chExt cx="7186320" cy="1373760"/>
            </a:xfrm>
          </p:grpSpPr>
          <p:grpSp>
            <p:nvGrpSpPr>
              <p:cNvPr id="180" name="组合 52"/>
              <p:cNvGrpSpPr/>
              <p:nvPr/>
            </p:nvGrpSpPr>
            <p:grpSpPr>
              <a:xfrm>
                <a:off x="974520" y="428760"/>
                <a:ext cx="7186320" cy="1373760"/>
                <a:chOff x="974520" y="428760"/>
                <a:chExt cx="7186320" cy="1373760"/>
              </a:xfrm>
            </p:grpSpPr>
            <p:sp>
              <p:nvSpPr>
                <p:cNvPr id="181" name="Rectangle 15"/>
                <p:cNvSpPr/>
                <p:nvPr/>
              </p:nvSpPr>
              <p:spPr>
                <a:xfrm>
                  <a:off x="1143360" y="428760"/>
                  <a:ext cx="7017480" cy="137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      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对每个              ，设                    ，则存在  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                              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.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此时                                   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是         的邻域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 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，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182" name="Object 48"/>
                <p:cNvGraphicFramePr/>
                <p:nvPr/>
              </p:nvGraphicFramePr>
              <p:xfrm>
                <a:off x="2623680" y="500040"/>
                <a:ext cx="1304640" cy="4266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183" name="Object 48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2623680" y="500040"/>
                          <a:ext cx="1304640" cy="4266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184" name="Object 49"/>
                <p:cNvGraphicFramePr/>
                <p:nvPr/>
              </p:nvGraphicFramePr>
              <p:xfrm>
                <a:off x="974520" y="961920"/>
                <a:ext cx="2882520" cy="41400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185" name="Object 49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974520" y="961920"/>
                          <a:ext cx="2882520" cy="4140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186" name="Object 5"/>
              <p:cNvGraphicFramePr/>
              <p:nvPr/>
            </p:nvGraphicFramePr>
            <p:xfrm>
              <a:off x="4617720" y="500040"/>
              <a:ext cx="2097000" cy="41400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87" name="Object 5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4617720" y="500040"/>
                        <a:ext cx="2097000" cy="414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188" name="Object 6"/>
            <p:cNvGraphicFramePr/>
            <p:nvPr/>
          </p:nvGraphicFramePr>
          <p:xfrm>
            <a:off x="4714560" y="928440"/>
            <a:ext cx="3504960" cy="414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89" name="Object 6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714560" y="928440"/>
                      <a:ext cx="3504960" cy="414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0" name="Object 7"/>
            <p:cNvGraphicFramePr/>
            <p:nvPr/>
          </p:nvGraphicFramePr>
          <p:xfrm>
            <a:off x="1357200" y="1356840"/>
            <a:ext cx="879120" cy="3726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91" name="Object 7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357200" y="1356840"/>
                      <a:ext cx="879120" cy="372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92" name="组合 18"/>
          <p:cNvGrpSpPr/>
          <p:nvPr/>
        </p:nvGrpSpPr>
        <p:grpSpPr>
          <a:xfrm>
            <a:off x="1197000" y="1285920"/>
            <a:ext cx="6040440" cy="2521440"/>
            <a:chOff x="1197000" y="1285920"/>
            <a:chExt cx="6040440" cy="2521440"/>
          </a:xfrm>
        </p:grpSpPr>
        <p:graphicFrame>
          <p:nvGraphicFramePr>
            <p:cNvPr id="193" name="Object 8"/>
            <p:cNvGraphicFramePr/>
            <p:nvPr/>
          </p:nvGraphicFramePr>
          <p:xfrm>
            <a:off x="2357280" y="1857600"/>
            <a:ext cx="4880160" cy="5191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94" name="Object 8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357280" y="1857600"/>
                      <a:ext cx="4880160" cy="51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5" name="矩形 12"/>
            <p:cNvSpPr/>
            <p:nvPr/>
          </p:nvSpPr>
          <p:spPr>
            <a:xfrm>
              <a:off x="3933720" y="12859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于是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6" name="矩形 13"/>
            <p:cNvSpPr/>
            <p:nvPr/>
          </p:nvSpPr>
          <p:spPr>
            <a:xfrm>
              <a:off x="1312920" y="2286360"/>
              <a:ext cx="2780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包含         的邻域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从而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197" name="Object 9"/>
            <p:cNvGraphicFramePr/>
            <p:nvPr/>
          </p:nvGraphicFramePr>
          <p:xfrm>
            <a:off x="1900080" y="2357640"/>
            <a:ext cx="793800" cy="3729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98" name="Object 9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900080" y="2357640"/>
                      <a:ext cx="793800" cy="37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9" name="Object 10"/>
            <p:cNvGraphicFramePr/>
            <p:nvPr/>
          </p:nvGraphicFramePr>
          <p:xfrm>
            <a:off x="2500200" y="2858040"/>
            <a:ext cx="4651560" cy="5191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00" name="Object 10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500200" y="2858040"/>
                      <a:ext cx="4651560" cy="51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1" name="矩形 16"/>
            <p:cNvSpPr/>
            <p:nvPr/>
          </p:nvSpPr>
          <p:spPr>
            <a:xfrm>
              <a:off x="1197000" y="3286800"/>
              <a:ext cx="1896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包含     的邻域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202" name="Object 11"/>
            <p:cNvGraphicFramePr/>
            <p:nvPr/>
          </p:nvGraphicFramePr>
          <p:xfrm>
            <a:off x="1928520" y="3358080"/>
            <a:ext cx="492120" cy="3636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03" name="Object 11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1928520" y="3358080"/>
                      <a:ext cx="492120" cy="363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04" name="组合 30"/>
          <p:cNvGrpSpPr/>
          <p:nvPr/>
        </p:nvGrpSpPr>
        <p:grpSpPr>
          <a:xfrm>
            <a:off x="855360" y="3759120"/>
            <a:ext cx="7303320" cy="955800"/>
            <a:chOff x="855360" y="3759120"/>
            <a:chExt cx="7303320" cy="955800"/>
          </a:xfrm>
        </p:grpSpPr>
        <p:grpSp>
          <p:nvGrpSpPr>
            <p:cNvPr id="205" name="组合 20"/>
            <p:cNvGrpSpPr/>
            <p:nvPr/>
          </p:nvGrpSpPr>
          <p:grpSpPr>
            <a:xfrm>
              <a:off x="855360" y="3759120"/>
              <a:ext cx="7303320" cy="947160"/>
              <a:chOff x="855360" y="3759120"/>
              <a:chExt cx="7303320" cy="947160"/>
            </a:xfrm>
          </p:grpSpPr>
          <p:grpSp>
            <p:nvGrpSpPr>
              <p:cNvPr id="206" name="组合 16"/>
              <p:cNvGrpSpPr/>
              <p:nvPr/>
            </p:nvGrpSpPr>
            <p:grpSpPr>
              <a:xfrm>
                <a:off x="1005840" y="3759120"/>
                <a:ext cx="7152840" cy="947160"/>
                <a:chOff x="1005840" y="3759120"/>
                <a:chExt cx="7152840" cy="947160"/>
              </a:xfrm>
            </p:grpSpPr>
            <p:grpSp>
              <p:nvGrpSpPr>
                <p:cNvPr id="207" name="组合 52"/>
                <p:cNvGrpSpPr/>
                <p:nvPr/>
              </p:nvGrpSpPr>
              <p:grpSpPr>
                <a:xfrm>
                  <a:off x="1005840" y="3759120"/>
                  <a:ext cx="7152840" cy="947160"/>
                  <a:chOff x="1005840" y="3759120"/>
                  <a:chExt cx="7152840" cy="947160"/>
                </a:xfrm>
              </p:grpSpPr>
              <p:sp>
                <p:nvSpPr>
                  <p:cNvPr id="208" name="Rectangle 15"/>
                  <p:cNvSpPr/>
                  <p:nvPr/>
                </p:nvSpPr>
                <p:spPr>
                  <a:xfrm>
                    <a:off x="1005840" y="3759120"/>
                    <a:ext cx="7152840" cy="94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       </a:t>
                    </a: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显然                                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.</a:t>
                    </a: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即   是         的内点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,</a:t>
                    </a: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  </a:t>
                    </a:r>
                    <a:endParaRPr b="0" lang="en-US" sz="2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      </a:t>
                    </a: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是任意的，故        为开集， 为开算子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.</a:t>
                    </a:r>
                    <a:endParaRPr b="0" lang="en-US" sz="2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graphicFrame>
                <p:nvGraphicFramePr>
                  <p:cNvPr id="209" name="Object 12"/>
                  <p:cNvGraphicFramePr/>
                  <p:nvPr/>
                </p:nvGraphicFramePr>
                <p:xfrm>
                  <a:off x="5572080" y="3869280"/>
                  <a:ext cx="312480" cy="345960"/>
                </p:xfrm>
                <a:graphic>
                  <a:graphicData uri="http://schemas.openxmlformats.org/presentationml/2006/ole">
                    <p:oleObj r:id="rId19" spid="">
                      <p:embed/>
                      <p:pic>
                        <p:nvPicPr>
                          <p:cNvPr id="210" name="Object 12" descr=""/>
                          <p:cNvPicPr/>
                          <p:nvPr/>
                        </p:nvPicPr>
                        <p:blipFill>
                          <a:blip r:embed="rId20"/>
                          <a:stretch/>
                        </p:blipFill>
                        <p:spPr>
                          <a:xfrm>
                            <a:off x="5572080" y="3869280"/>
                            <a:ext cx="312480" cy="34596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graphicFrame>
                <p:nvGraphicFramePr>
                  <p:cNvPr id="211" name="Object 13"/>
                  <p:cNvGraphicFramePr/>
                  <p:nvPr/>
                </p:nvGraphicFramePr>
                <p:xfrm>
                  <a:off x="2071440" y="3786480"/>
                  <a:ext cx="3078000" cy="517320"/>
                </p:xfrm>
                <a:graphic>
                  <a:graphicData uri="http://schemas.openxmlformats.org/presentationml/2006/ole">
                    <p:oleObj r:id="rId21" spid="">
                      <p:embed/>
                      <p:pic>
                        <p:nvPicPr>
                          <p:cNvPr id="212" name="Object 13" descr=""/>
                          <p:cNvPicPr/>
                          <p:nvPr/>
                        </p:nvPicPr>
                        <p:blipFill>
                          <a:blip r:embed="rId22"/>
                          <a:stretch/>
                        </p:blipFill>
                        <p:spPr>
                          <a:xfrm>
                            <a:off x="2071440" y="3786480"/>
                            <a:ext cx="3078000" cy="517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</p:grpSp>
            <p:graphicFrame>
              <p:nvGraphicFramePr>
                <p:cNvPr id="213" name="Object 14"/>
                <p:cNvGraphicFramePr/>
                <p:nvPr/>
              </p:nvGraphicFramePr>
              <p:xfrm>
                <a:off x="6215040" y="3858120"/>
                <a:ext cx="917280" cy="414000"/>
              </p:xfrm>
              <a:graphic>
                <a:graphicData uri="http://schemas.openxmlformats.org/presentationml/2006/ole">
                  <p:oleObj r:id="rId23" spid="">
                    <p:embed/>
                    <p:pic>
                      <p:nvPicPr>
                        <p:cNvPr id="214" name="Object 14" descr=""/>
                        <p:cNvPicPr/>
                        <p:nvPr/>
                      </p:nvPicPr>
                      <p:blipFill>
                        <a:blip r:embed="rId24"/>
                        <a:stretch/>
                      </p:blipFill>
                      <p:spPr>
                        <a:xfrm>
                          <a:off x="6215040" y="3858120"/>
                          <a:ext cx="917280" cy="4140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215" name="Object 15"/>
              <p:cNvGraphicFramePr/>
              <p:nvPr/>
            </p:nvGraphicFramePr>
            <p:xfrm>
              <a:off x="5357880" y="4286520"/>
              <a:ext cx="360360" cy="336240"/>
            </p:xfrm>
            <a:graphic>
              <a:graphicData uri="http://schemas.openxmlformats.org/presentationml/2006/ole">
                <p:oleObj r:id="rId25" spid="">
                  <p:embed/>
                  <p:pic>
                    <p:nvPicPr>
                      <p:cNvPr id="216" name="Object 15" descr=""/>
                      <p:cNvPicPr/>
                      <p:nvPr/>
                    </p:nvPicPr>
                    <p:blipFill>
                      <a:blip r:embed="rId26"/>
                      <a:stretch/>
                    </p:blipFill>
                    <p:spPr>
                      <a:xfrm>
                        <a:off x="5357880" y="4286520"/>
                        <a:ext cx="360360" cy="336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17" name="Object 16"/>
              <p:cNvGraphicFramePr/>
              <p:nvPr/>
            </p:nvGraphicFramePr>
            <p:xfrm>
              <a:off x="855360" y="4227840"/>
              <a:ext cx="372240" cy="415800"/>
            </p:xfrm>
            <a:graphic>
              <a:graphicData uri="http://schemas.openxmlformats.org/presentationml/2006/ole">
                <p:oleObj r:id="rId27" spid="">
                  <p:embed/>
                  <p:pic>
                    <p:nvPicPr>
                      <p:cNvPr id="218" name="Object 16" descr=""/>
                      <p:cNvPicPr/>
                      <p:nvPr/>
                    </p:nvPicPr>
                    <p:blipFill>
                      <a:blip r:embed="rId28"/>
                      <a:stretch/>
                    </p:blipFill>
                    <p:spPr>
                      <a:xfrm>
                        <a:off x="855360" y="4227840"/>
                        <a:ext cx="372240" cy="415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219" name="Object 17"/>
            <p:cNvGraphicFramePr/>
            <p:nvPr/>
          </p:nvGraphicFramePr>
          <p:xfrm>
            <a:off x="3286080" y="4300920"/>
            <a:ext cx="917280" cy="41400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220" name="Object 17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3286080" y="4300920"/>
                      <a:ext cx="917280" cy="414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3"/>
          <p:cNvSpPr/>
          <p:nvPr/>
        </p:nvSpPr>
        <p:spPr>
          <a:xfrm>
            <a:off x="285840" y="642960"/>
            <a:ext cx="421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定理 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1  (</a:t>
            </a: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开映射定理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)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22" name="组合 12"/>
          <p:cNvGrpSpPr/>
          <p:nvPr/>
        </p:nvGrpSpPr>
        <p:grpSpPr>
          <a:xfrm>
            <a:off x="1360440" y="1285920"/>
            <a:ext cx="7354800" cy="1373760"/>
            <a:chOff x="1360440" y="1285920"/>
            <a:chExt cx="7354800" cy="1373760"/>
          </a:xfrm>
        </p:grpSpPr>
        <p:grpSp>
          <p:nvGrpSpPr>
            <p:cNvPr id="223" name="组合 16"/>
            <p:cNvGrpSpPr/>
            <p:nvPr/>
          </p:nvGrpSpPr>
          <p:grpSpPr>
            <a:xfrm>
              <a:off x="1360440" y="1285920"/>
              <a:ext cx="7354800" cy="1373760"/>
              <a:chOff x="1360440" y="1285920"/>
              <a:chExt cx="7354800" cy="1373760"/>
            </a:xfrm>
          </p:grpSpPr>
          <p:grpSp>
            <p:nvGrpSpPr>
              <p:cNvPr id="224" name="组合 52"/>
              <p:cNvGrpSpPr/>
              <p:nvPr/>
            </p:nvGrpSpPr>
            <p:grpSpPr>
              <a:xfrm>
                <a:off x="1360440" y="1285920"/>
                <a:ext cx="7354800" cy="1373760"/>
                <a:chOff x="1360440" y="1285920"/>
                <a:chExt cx="7354800" cy="1373760"/>
              </a:xfrm>
            </p:grpSpPr>
            <p:grpSp>
              <p:nvGrpSpPr>
                <p:cNvPr id="225" name="组合 48"/>
                <p:cNvGrpSpPr/>
                <p:nvPr/>
              </p:nvGrpSpPr>
              <p:grpSpPr>
                <a:xfrm>
                  <a:off x="1360440" y="1285920"/>
                  <a:ext cx="6059880" cy="1373760"/>
                  <a:chOff x="1360440" y="1285920"/>
                  <a:chExt cx="6059880" cy="1373760"/>
                </a:xfrm>
              </p:grpSpPr>
              <p:sp>
                <p:nvSpPr>
                  <p:cNvPr id="226" name="Rectangle 15"/>
                  <p:cNvSpPr/>
                  <p:nvPr/>
                </p:nvSpPr>
                <p:spPr>
                  <a:xfrm>
                    <a:off x="1791360" y="1285920"/>
                    <a:ext cx="5628960" cy="1373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      </a:t>
                    </a: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设    是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Banach</a:t>
                    </a: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空间， 是线性赋范空间，</a:t>
                    </a:r>
                    <a:endParaRPr b="0" lang="en-US" sz="2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是有界线性算子并且        是   中的第二纲集，则    必</a:t>
                    </a:r>
                    <a:endParaRPr b="0" lang="en-US" sz="2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是开算子且是到上的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.    </a:t>
                    </a:r>
                    <a:endParaRPr b="0" lang="en-US" sz="2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graphicFrame>
                <p:nvGraphicFramePr>
                  <p:cNvPr id="227" name="Object 2"/>
                  <p:cNvGraphicFramePr/>
                  <p:nvPr/>
                </p:nvGraphicFramePr>
                <p:xfrm>
                  <a:off x="1360440" y="1360440"/>
                  <a:ext cx="396720" cy="34596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228" name="Object 2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1360440" y="1360440"/>
                            <a:ext cx="396720" cy="34596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</p:grpSp>
            <p:graphicFrame>
              <p:nvGraphicFramePr>
                <p:cNvPr id="229" name="Object 3"/>
                <p:cNvGraphicFramePr/>
                <p:nvPr/>
              </p:nvGraphicFramePr>
              <p:xfrm>
                <a:off x="7209000" y="1344600"/>
                <a:ext cx="1506240" cy="37260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230" name="Object 3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7209000" y="1344600"/>
                          <a:ext cx="1506240" cy="3726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231" name="Object 4"/>
                <p:cNvGraphicFramePr/>
                <p:nvPr/>
              </p:nvGraphicFramePr>
              <p:xfrm>
                <a:off x="4786200" y="1785600"/>
                <a:ext cx="360360" cy="336240"/>
              </p:xfrm>
              <a:graphic>
                <a:graphicData uri="http://schemas.openxmlformats.org/presentationml/2006/ole">
                  <p:oleObj r:id="rId5" spid="">
                    <p:embed/>
                    <p:pic>
                      <p:nvPicPr>
                        <p:cNvPr id="232" name="Object 4" descr=""/>
                        <p:cNvPicPr/>
                        <p:nvPr/>
                      </p:nvPicPr>
                      <p:blipFill>
                        <a:blip r:embed="rId6"/>
                        <a:stretch/>
                      </p:blipFill>
                      <p:spPr>
                        <a:xfrm>
                          <a:off x="4786200" y="1785600"/>
                          <a:ext cx="360360" cy="3362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233" name="Object 5"/>
              <p:cNvGraphicFramePr/>
              <p:nvPr/>
            </p:nvGraphicFramePr>
            <p:xfrm>
              <a:off x="4214880" y="1395360"/>
              <a:ext cx="361800" cy="33624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234" name="Object 5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4214880" y="1395360"/>
                        <a:ext cx="361800" cy="336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235" name="Object 6"/>
            <p:cNvGraphicFramePr/>
            <p:nvPr/>
          </p:nvGraphicFramePr>
          <p:xfrm>
            <a:off x="3582720" y="1800000"/>
            <a:ext cx="917280" cy="4140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36" name="Object 6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582720" y="1800000"/>
                      <a:ext cx="917280" cy="414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37" name="Object 7"/>
            <p:cNvGraphicFramePr/>
            <p:nvPr/>
          </p:nvGraphicFramePr>
          <p:xfrm>
            <a:off x="7970760" y="1785600"/>
            <a:ext cx="312480" cy="3459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38" name="Object 7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970760" y="1785600"/>
                      <a:ext cx="312480" cy="34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39" name="Rectangle 15"/>
          <p:cNvSpPr/>
          <p:nvPr/>
        </p:nvSpPr>
        <p:spPr>
          <a:xfrm>
            <a:off x="1411920" y="2857680"/>
            <a:ext cx="656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特别地，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Banac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空间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Banac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空间上的有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线性算子是开算子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3"/>
          <p:cNvSpPr/>
          <p:nvPr/>
        </p:nvSpPr>
        <p:spPr>
          <a:xfrm>
            <a:off x="285840" y="500040"/>
            <a:ext cx="150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证明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41" name="组合 14"/>
          <p:cNvGrpSpPr/>
          <p:nvPr/>
        </p:nvGrpSpPr>
        <p:grpSpPr>
          <a:xfrm>
            <a:off x="1071720" y="571680"/>
            <a:ext cx="6351480" cy="1076040"/>
            <a:chOff x="1071720" y="571680"/>
            <a:chExt cx="6351480" cy="1076040"/>
          </a:xfrm>
        </p:grpSpPr>
        <p:sp>
          <p:nvSpPr>
            <p:cNvPr id="242" name="Rectangle 15"/>
            <p:cNvSpPr/>
            <p:nvPr/>
          </p:nvSpPr>
          <p:spPr>
            <a:xfrm>
              <a:off x="2887560" y="571680"/>
              <a:ext cx="453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14440" indent="-514440">
                <a:buClr>
                  <a:srgbClr val="0000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我们知道，对于线性赋范空间的任意子集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243" name="Object 2"/>
            <p:cNvGraphicFramePr/>
            <p:nvPr/>
          </p:nvGraphicFramePr>
          <p:xfrm>
            <a:off x="1071720" y="1143000"/>
            <a:ext cx="2806560" cy="504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44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71720" y="1143000"/>
                      <a:ext cx="2806560" cy="504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45" name="组合 15"/>
          <p:cNvGrpSpPr/>
          <p:nvPr/>
        </p:nvGrpSpPr>
        <p:grpSpPr>
          <a:xfrm>
            <a:off x="2643120" y="1143000"/>
            <a:ext cx="4791240" cy="1260360"/>
            <a:chOff x="2643120" y="1143000"/>
            <a:chExt cx="4791240" cy="1260360"/>
          </a:xfrm>
        </p:grpSpPr>
        <p:sp>
          <p:nvSpPr>
            <p:cNvPr id="246" name="Rectangle 15"/>
            <p:cNvSpPr/>
            <p:nvPr/>
          </p:nvSpPr>
          <p:spPr>
            <a:xfrm>
              <a:off x="4324320" y="1143000"/>
              <a:ext cx="999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现在设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247" name="Object 3"/>
            <p:cNvGraphicFramePr/>
            <p:nvPr/>
          </p:nvGraphicFramePr>
          <p:xfrm>
            <a:off x="2643120" y="1500120"/>
            <a:ext cx="4791240" cy="903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48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643120" y="1500120"/>
                      <a:ext cx="4791240" cy="903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49" name="组合 16"/>
          <p:cNvGrpSpPr/>
          <p:nvPr/>
        </p:nvGrpSpPr>
        <p:grpSpPr>
          <a:xfrm>
            <a:off x="1003320" y="2286000"/>
            <a:ext cx="3514680" cy="550800"/>
            <a:chOff x="1003320" y="2286000"/>
            <a:chExt cx="3514680" cy="550800"/>
          </a:xfrm>
        </p:grpSpPr>
        <p:sp>
          <p:nvSpPr>
            <p:cNvPr id="250" name="Rectangle 15"/>
            <p:cNvSpPr/>
            <p:nvPr/>
          </p:nvSpPr>
          <p:spPr>
            <a:xfrm>
              <a:off x="1003320" y="228600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则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251" name="Object 4"/>
            <p:cNvGraphicFramePr/>
            <p:nvPr/>
          </p:nvGraphicFramePr>
          <p:xfrm>
            <a:off x="1428840" y="2357280"/>
            <a:ext cx="3089160" cy="4795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52" name="Object 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428840" y="2357280"/>
                      <a:ext cx="3089160" cy="479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53" name="组合 17"/>
          <p:cNvGrpSpPr/>
          <p:nvPr/>
        </p:nvGrpSpPr>
        <p:grpSpPr>
          <a:xfrm>
            <a:off x="2643120" y="2286000"/>
            <a:ext cx="5239440" cy="1176480"/>
            <a:chOff x="2643120" y="2286000"/>
            <a:chExt cx="5239440" cy="1176480"/>
          </a:xfrm>
        </p:grpSpPr>
        <p:grpSp>
          <p:nvGrpSpPr>
            <p:cNvPr id="254" name="组合 10"/>
            <p:cNvGrpSpPr/>
            <p:nvPr/>
          </p:nvGrpSpPr>
          <p:grpSpPr>
            <a:xfrm>
              <a:off x="5529960" y="2286000"/>
              <a:ext cx="2352600" cy="520560"/>
              <a:chOff x="5529960" y="2286000"/>
              <a:chExt cx="2352600" cy="520560"/>
            </a:xfrm>
          </p:grpSpPr>
          <p:sp>
            <p:nvSpPr>
              <p:cNvPr id="255" name="Rectangle 15"/>
              <p:cNvSpPr/>
              <p:nvPr/>
            </p:nvSpPr>
            <p:spPr>
              <a:xfrm>
                <a:off x="5529960" y="2286000"/>
                <a:ext cx="2352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于是由     的连续性，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256" name="Object 5"/>
              <p:cNvGraphicFramePr/>
              <p:nvPr/>
            </p:nvGraphicFramePr>
            <p:xfrm>
              <a:off x="6143760" y="2357280"/>
              <a:ext cx="312480" cy="34632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257" name="Object 5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6143760" y="2357280"/>
                        <a:ext cx="312480" cy="346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258" name="Object 6"/>
            <p:cNvGraphicFramePr/>
            <p:nvPr/>
          </p:nvGraphicFramePr>
          <p:xfrm>
            <a:off x="2643120" y="2928960"/>
            <a:ext cx="3656160" cy="5335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59" name="Object 6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643120" y="2928960"/>
                      <a:ext cx="365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60" name="组合 18"/>
          <p:cNvGrpSpPr/>
          <p:nvPr/>
        </p:nvGrpSpPr>
        <p:grpSpPr>
          <a:xfrm>
            <a:off x="1076400" y="3500280"/>
            <a:ext cx="5830920" cy="1281240"/>
            <a:chOff x="1076400" y="3500280"/>
            <a:chExt cx="5830920" cy="1281240"/>
          </a:xfrm>
        </p:grpSpPr>
        <p:sp>
          <p:nvSpPr>
            <p:cNvPr id="261" name="Rectangle 15"/>
            <p:cNvSpPr/>
            <p:nvPr/>
          </p:nvSpPr>
          <p:spPr>
            <a:xfrm>
              <a:off x="1076400" y="35002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从而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262" name="Object 7"/>
            <p:cNvGraphicFramePr/>
            <p:nvPr/>
          </p:nvGraphicFramePr>
          <p:xfrm>
            <a:off x="2571840" y="3714480"/>
            <a:ext cx="4335480" cy="10670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63" name="Object 7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571840" y="3714480"/>
                      <a:ext cx="4335480" cy="106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Bar dir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组合 10"/>
          <p:cNvGrpSpPr/>
          <p:nvPr/>
        </p:nvGrpSpPr>
        <p:grpSpPr>
          <a:xfrm>
            <a:off x="655560" y="428760"/>
            <a:ext cx="8403480" cy="1714320"/>
            <a:chOff x="655560" y="428760"/>
            <a:chExt cx="8403480" cy="1714320"/>
          </a:xfrm>
        </p:grpSpPr>
        <p:sp>
          <p:nvSpPr>
            <p:cNvPr id="265" name="Rectangle 15"/>
            <p:cNvSpPr/>
            <p:nvPr/>
          </p:nvSpPr>
          <p:spPr>
            <a:xfrm>
              <a:off x="3359880" y="571320"/>
              <a:ext cx="569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存在自然数   ，                     或            ，    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266" name="Object 2"/>
            <p:cNvGraphicFramePr/>
            <p:nvPr/>
          </p:nvGraphicFramePr>
          <p:xfrm>
            <a:off x="1500120" y="642960"/>
            <a:ext cx="1193760" cy="425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67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00120" y="642960"/>
                      <a:ext cx="1193760" cy="42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8" name="Object 3"/>
            <p:cNvGraphicFramePr/>
            <p:nvPr/>
          </p:nvGraphicFramePr>
          <p:xfrm>
            <a:off x="4500720" y="714240"/>
            <a:ext cx="284040" cy="291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69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00720" y="714240"/>
                      <a:ext cx="284040" cy="29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0" name="Object 4"/>
            <p:cNvGraphicFramePr/>
            <p:nvPr/>
          </p:nvGraphicFramePr>
          <p:xfrm>
            <a:off x="5001120" y="428760"/>
            <a:ext cx="2130480" cy="9032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71" name="Object 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001120" y="428760"/>
                      <a:ext cx="2130480" cy="903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2" name="Object 5"/>
            <p:cNvGraphicFramePr/>
            <p:nvPr/>
          </p:nvGraphicFramePr>
          <p:xfrm>
            <a:off x="7644240" y="593640"/>
            <a:ext cx="1108080" cy="4777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73" name="Object 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644240" y="593640"/>
                      <a:ext cx="1108080" cy="47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74" name="Rectangle 15"/>
            <p:cNvSpPr/>
            <p:nvPr/>
          </p:nvSpPr>
          <p:spPr>
            <a:xfrm>
              <a:off x="655560" y="1428840"/>
              <a:ext cx="206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故      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275" name="Object 6"/>
            <p:cNvGraphicFramePr/>
            <p:nvPr/>
          </p:nvGraphicFramePr>
          <p:xfrm>
            <a:off x="1038240" y="1239840"/>
            <a:ext cx="1533600" cy="9032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76" name="Object 6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038240" y="1239840"/>
                      <a:ext cx="1533600" cy="903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77" name="组合 11"/>
          <p:cNvGrpSpPr/>
          <p:nvPr/>
        </p:nvGrpSpPr>
        <p:grpSpPr>
          <a:xfrm>
            <a:off x="2517840" y="1405080"/>
            <a:ext cx="4336920" cy="1387440"/>
            <a:chOff x="2517840" y="1405080"/>
            <a:chExt cx="4336920" cy="1387440"/>
          </a:xfrm>
        </p:grpSpPr>
        <p:sp>
          <p:nvSpPr>
            <p:cNvPr id="278" name="Rectangle 15"/>
            <p:cNvSpPr/>
            <p:nvPr/>
          </p:nvSpPr>
          <p:spPr>
            <a:xfrm>
              <a:off x="3147840" y="14050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于是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279" name="Object 7"/>
            <p:cNvGraphicFramePr/>
            <p:nvPr/>
          </p:nvGraphicFramePr>
          <p:xfrm>
            <a:off x="2517840" y="1885680"/>
            <a:ext cx="4336920" cy="9068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80" name="Object 7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517840" y="1885680"/>
                      <a:ext cx="4336920" cy="906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81" name="组合 21"/>
          <p:cNvGrpSpPr/>
          <p:nvPr/>
        </p:nvGrpSpPr>
        <p:grpSpPr>
          <a:xfrm>
            <a:off x="793440" y="2857680"/>
            <a:ext cx="7353360" cy="1373760"/>
            <a:chOff x="793440" y="2857680"/>
            <a:chExt cx="7353360" cy="1373760"/>
          </a:xfrm>
        </p:grpSpPr>
        <p:grpSp>
          <p:nvGrpSpPr>
            <p:cNvPr id="282" name="组合 12"/>
            <p:cNvGrpSpPr/>
            <p:nvPr/>
          </p:nvGrpSpPr>
          <p:grpSpPr>
            <a:xfrm>
              <a:off x="793440" y="2857680"/>
              <a:ext cx="7239960" cy="1373760"/>
              <a:chOff x="793440" y="2857680"/>
              <a:chExt cx="7239960" cy="1373760"/>
            </a:xfrm>
          </p:grpSpPr>
          <p:sp>
            <p:nvSpPr>
              <p:cNvPr id="283" name="Rectangle 15"/>
              <p:cNvSpPr/>
              <p:nvPr/>
            </p:nvSpPr>
            <p:spPr>
              <a:xfrm>
                <a:off x="1610280" y="2857680"/>
                <a:ext cx="6423120" cy="137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 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是第二纲集，故存在   ，          具有非空内点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.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即         具有非空内点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.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从而                    和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  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均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以        为内点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.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   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284" name="Object 8"/>
              <p:cNvGraphicFramePr/>
              <p:nvPr/>
            </p:nvGraphicFramePr>
            <p:xfrm>
              <a:off x="793440" y="2928960"/>
              <a:ext cx="849240" cy="42516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285" name="Object 8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793440" y="2928960"/>
                        <a:ext cx="849240" cy="425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286" name="Object 9"/>
            <p:cNvGraphicFramePr/>
            <p:nvPr/>
          </p:nvGraphicFramePr>
          <p:xfrm>
            <a:off x="4848120" y="2903400"/>
            <a:ext cx="366480" cy="4773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87" name="Object 9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848120" y="2903400"/>
                      <a:ext cx="366480" cy="47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8" name="Object 10"/>
            <p:cNvGraphicFramePr/>
            <p:nvPr/>
          </p:nvGraphicFramePr>
          <p:xfrm>
            <a:off x="5414760" y="2857680"/>
            <a:ext cx="1157040" cy="52992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89" name="Object 10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414760" y="2857680"/>
                      <a:ext cx="1157040" cy="52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0" name="Object 11"/>
            <p:cNvGraphicFramePr/>
            <p:nvPr/>
          </p:nvGraphicFramePr>
          <p:xfrm>
            <a:off x="1142640" y="3286080"/>
            <a:ext cx="903240" cy="52992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291" name="Object 11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1142640" y="3286080"/>
                      <a:ext cx="903240" cy="52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2" name="Object 12"/>
            <p:cNvGraphicFramePr/>
            <p:nvPr/>
          </p:nvGraphicFramePr>
          <p:xfrm>
            <a:off x="4929120" y="3286080"/>
            <a:ext cx="1984320" cy="53316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293" name="Object 12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4929120" y="3286080"/>
                      <a:ext cx="1984320" cy="53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4" name="Object 13"/>
            <p:cNvGraphicFramePr/>
            <p:nvPr/>
          </p:nvGraphicFramePr>
          <p:xfrm>
            <a:off x="7329240" y="3298680"/>
            <a:ext cx="817560" cy="50292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295" name="Object 13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7329240" y="3298680"/>
                      <a:ext cx="817560" cy="50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6" name="Object 14"/>
            <p:cNvGraphicFramePr/>
            <p:nvPr/>
          </p:nvGraphicFramePr>
          <p:xfrm>
            <a:off x="1198440" y="3785760"/>
            <a:ext cx="790560" cy="36972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297" name="Object 14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1198440" y="3785760"/>
                      <a:ext cx="790560" cy="36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组合 10"/>
          <p:cNvGrpSpPr/>
          <p:nvPr/>
        </p:nvGrpSpPr>
        <p:grpSpPr>
          <a:xfrm>
            <a:off x="1351080" y="500040"/>
            <a:ext cx="6720480" cy="1405080"/>
            <a:chOff x="1351080" y="500040"/>
            <a:chExt cx="6720480" cy="1405080"/>
          </a:xfrm>
        </p:grpSpPr>
        <p:grpSp>
          <p:nvGrpSpPr>
            <p:cNvPr id="299" name="组合 1"/>
            <p:cNvGrpSpPr/>
            <p:nvPr/>
          </p:nvGrpSpPr>
          <p:grpSpPr>
            <a:xfrm>
              <a:off x="1351080" y="500040"/>
              <a:ext cx="6203880" cy="1373760"/>
              <a:chOff x="1351080" y="500040"/>
              <a:chExt cx="6203880" cy="1373760"/>
            </a:xfrm>
          </p:grpSpPr>
          <p:sp>
            <p:nvSpPr>
              <p:cNvPr id="300" name="Rectangle 15"/>
              <p:cNvSpPr/>
              <p:nvPr/>
            </p:nvSpPr>
            <p:spPr>
              <a:xfrm>
                <a:off x="1351080" y="500040"/>
                <a:ext cx="6203880" cy="137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14440" indent="-5144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不失一般性，设                                 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(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以下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 marL="514440" indent="-5144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为了不致于混淆，记   中   的邻域为      ，  中   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 marL="514440" indent="-5144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的邻域为      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).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301" name="Object 2"/>
              <p:cNvGraphicFramePr/>
              <p:nvPr/>
            </p:nvGraphicFramePr>
            <p:xfrm>
              <a:off x="3910320" y="500040"/>
              <a:ext cx="3233880" cy="5317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302" name="Object 2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910320" y="500040"/>
                        <a:ext cx="3233880" cy="531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303" name="Object 3"/>
            <p:cNvGraphicFramePr/>
            <p:nvPr/>
          </p:nvGraphicFramePr>
          <p:xfrm>
            <a:off x="3858120" y="1000080"/>
            <a:ext cx="396720" cy="344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04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58120" y="1000080"/>
                      <a:ext cx="396720" cy="344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5" name="Object 4"/>
            <p:cNvGraphicFramePr/>
            <p:nvPr/>
          </p:nvGraphicFramePr>
          <p:xfrm>
            <a:off x="4556520" y="987480"/>
            <a:ext cx="284040" cy="3715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06" name="Object 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556520" y="987480"/>
                      <a:ext cx="284040" cy="371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7" name="Object 5"/>
            <p:cNvGraphicFramePr/>
            <p:nvPr/>
          </p:nvGraphicFramePr>
          <p:xfrm>
            <a:off x="6358680" y="952560"/>
            <a:ext cx="509400" cy="4762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08" name="Object 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358680" y="952560"/>
                      <a:ext cx="509400" cy="476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9" name="Object 6"/>
            <p:cNvGraphicFramePr/>
            <p:nvPr/>
          </p:nvGraphicFramePr>
          <p:xfrm>
            <a:off x="7215840" y="1000080"/>
            <a:ext cx="312480" cy="3445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10" name="Object 6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215840" y="1000080"/>
                      <a:ext cx="312480" cy="344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1" name="Object 7"/>
            <p:cNvGraphicFramePr/>
            <p:nvPr/>
          </p:nvGraphicFramePr>
          <p:xfrm>
            <a:off x="7787520" y="1000080"/>
            <a:ext cx="284040" cy="371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12" name="Object 7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787520" y="1000080"/>
                      <a:ext cx="284040" cy="371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3" name="Object 8"/>
            <p:cNvGraphicFramePr/>
            <p:nvPr/>
          </p:nvGraphicFramePr>
          <p:xfrm>
            <a:off x="2243160" y="1428840"/>
            <a:ext cx="452160" cy="4762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314" name="Object 8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243160" y="1428840"/>
                      <a:ext cx="452160" cy="476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15" name="组合 15"/>
          <p:cNvGrpSpPr/>
          <p:nvPr/>
        </p:nvGrpSpPr>
        <p:grpSpPr>
          <a:xfrm>
            <a:off x="1285560" y="2000160"/>
            <a:ext cx="7137720" cy="1851120"/>
            <a:chOff x="1285560" y="2000160"/>
            <a:chExt cx="7137720" cy="1851120"/>
          </a:xfrm>
        </p:grpSpPr>
        <p:sp>
          <p:nvSpPr>
            <p:cNvPr id="316" name="Rectangle 15"/>
            <p:cNvSpPr/>
            <p:nvPr/>
          </p:nvSpPr>
          <p:spPr>
            <a:xfrm>
              <a:off x="2023920" y="2000160"/>
              <a:ext cx="561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是线性的，从而对于任何         ，      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317" name="Object 9"/>
            <p:cNvGraphicFramePr/>
            <p:nvPr/>
          </p:nvGraphicFramePr>
          <p:xfrm>
            <a:off x="1285560" y="2071440"/>
            <a:ext cx="312480" cy="3459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318" name="Object 9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85560" y="2071440"/>
                      <a:ext cx="312480" cy="34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9" name="Object 10"/>
            <p:cNvGraphicFramePr/>
            <p:nvPr/>
          </p:nvGraphicFramePr>
          <p:xfrm>
            <a:off x="5446800" y="2071440"/>
            <a:ext cx="768240" cy="37296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320" name="Object 10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446800" y="2071440"/>
                      <a:ext cx="768240" cy="37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21" name="Object 11"/>
            <p:cNvGraphicFramePr/>
            <p:nvPr/>
          </p:nvGraphicFramePr>
          <p:xfrm>
            <a:off x="1969920" y="2786040"/>
            <a:ext cx="6453360" cy="10652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322" name="Object 11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1969920" y="2786040"/>
                      <a:ext cx="6453360" cy="1065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4:08:53Z</dcterms:created>
  <dc:creator>zlx</dc:creator>
  <dc:description/>
  <dc:language>en-US</dc:language>
  <cp:lastModifiedBy>2012</cp:lastModifiedBy>
  <dcterms:modified xsi:type="dcterms:W3CDTF">2014-11-09T07:23:27Z</dcterms:modified>
  <cp:revision>491</cp:revision>
  <dc:subject/>
  <dc:title>幻灯片 1</dc:title>
</cp:coreProperties>
</file>