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24.wmf" ContentType="image/x-wmf"/>
  <Override PartName="/ppt/media/image92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3.png" ContentType="image/png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54.wmf" ContentType="image/x-wmf"/>
  <Override PartName="/ppt/media/image140.wmf" ContentType="image/x-wmf"/>
  <Override PartName="/ppt/media/image8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45.wmf" ContentType="image/x-wmf"/>
  <Override PartName="/ppt/media/image201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202.wmf" ContentType="image/x-wmf"/>
  <Override PartName="/ppt/media/image132.wmf" ContentType="image/x-wmf"/>
  <Override PartName="/ppt/media/image169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44.wmf" ContentType="image/x-wmf"/>
  <Override PartName="/ppt/media/image200.wmf" ContentType="image/x-wmf"/>
  <Override PartName="/ppt/media/image130.wmf" ContentType="image/x-wmf"/>
  <Override PartName="/ppt/media/image167.wmf" ContentType="image/x-wmf"/>
  <Override PartName="/ppt/media/image56.wmf" ContentType="image/x-wmf"/>
  <Override PartName="/ppt/media/image142.wmf" ContentType="image/x-wmf"/>
  <Override PartName="/ppt/media/image179.wmf" ContentType="image/x-wmf"/>
  <Override PartName="/ppt/media/image163.wmf" ContentType="image/x-wmf"/>
  <Override PartName="/ppt/media/image154.wmf" ContentType="image/x-wmf"/>
  <Override PartName="/ppt/media/image164.wmf" ContentType="image/x-wmf"/>
  <Override PartName="/ppt/media/image155.wmf" ContentType="image/x-wmf"/>
  <Override PartName="/ppt/media/image153.wmf" ContentType="image/x-wmf"/>
  <Override PartName="/ppt/media/image43.wmf" ContentType="image/x-wmf"/>
  <Override PartName="/ppt/media/image166.wmf" ContentType="image/x-wmf"/>
  <Override PartName="/ppt/media/image199.wmf" ContentType="image/x-wmf"/>
  <Override PartName="/ppt/media/image37.wmf" ContentType="image/x-wmf"/>
  <Override PartName="/ppt/media/image162.wmf" ContentType="image/x-wmf"/>
  <Override PartName="/ppt/media/image198.wmf" ContentType="image/x-wmf"/>
  <Override PartName="/ppt/media/image36.wmf" ContentType="image/x-wmf"/>
  <Override PartName="/ppt/media/image161.wmf" ContentType="image/x-wmf"/>
  <Override PartName="/ppt/media/image129.wmf" ContentType="image/x-wmf"/>
  <Override PartName="/ppt/media/image197.wmf" ContentType="image/x-wmf"/>
  <Override PartName="/ppt/media/image35.wmf" ContentType="image/x-wmf"/>
  <Override PartName="/ppt/media/image160.wmf" ContentType="image/x-wmf"/>
  <Override PartName="/ppt/media/image189.wmf" ContentType="image/x-wmf"/>
  <Override PartName="/ppt/media/image152.wmf" ContentType="image/x-wmf"/>
  <Override PartName="/ppt/media/image188.wmf" ContentType="image/x-wmf"/>
  <Override PartName="/ppt/media/image151.wmf" ContentType="image/x-wmf"/>
  <Override PartName="/ppt/media/image203.wmf" ContentType="image/x-wmf"/>
  <Override PartName="/ppt/media/image47.wmf" ContentType="image/x-wmf"/>
  <Override PartName="/ppt/media/image150.wmf" ContentType="image/x-wmf"/>
  <Override PartName="/ppt/media/image99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10.wmf" ContentType="image/x-wmf"/>
  <Override PartName="/ppt/media/image5.wmf" ContentType="image/x-wmf"/>
  <Override PartName="/ppt/media/image157.wmf" ContentType="image/x-wmf"/>
  <Override PartName="/ppt/media/image93.wmf" ContentType="image/x-wmf"/>
  <Override PartName="/ppt/media/image25.wmf" ContentType="image/x-wmf"/>
  <Override PartName="/ppt/media/image4.wmf" ContentType="image/x-wmf"/>
  <Override PartName="/ppt/media/image156.wmf" ContentType="image/x-wmf"/>
  <Override PartName="/ppt/media/image81.wmf" ContentType="image/x-wmf"/>
  <Override PartName="/ppt/media/image13.wmf" ContentType="image/x-wmf"/>
  <Override PartName="/ppt/media/image2.jpeg" ContentType="image/jpeg"/>
  <Override PartName="/ppt/media/image107.wmf" ContentType="image/x-wmf"/>
  <Override PartName="/ppt/media/image175.wmf" ContentType="image/x-wmf"/>
  <Override PartName="/ppt/media/image1.jpeg" ContentType="image/jpeg"/>
  <Override PartName="/ppt/media/image165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18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D04-4C10-4453-AC24-79702DAA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FC0-C543-4163-8A64-916FF6CF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FE4-AE5C-4142-89EF-11E76797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B4C-3257-4FB2-9EEA-3B6212BE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908D-F31D-4FC6-923E-F85DFB91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9A9B-FAB8-47D2-9E8C-0F246AE4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4138-00AA-4813-A1AF-8DAF9440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5505-22AD-48E9-9961-4990E015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7801-1A3D-469E-9EB7-2BCB8D14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5E93-C844-490C-87F1-22826082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2A58-B5A5-4EBB-BBFF-80088147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006-47C0-4FDC-A47B-744F87E2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E7E7-58EB-4091-9CC7-750C98D3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16A3-3C35-4558-AF25-F29257B7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2A26-9317-43CD-B740-08FD7CD2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4E8A-C7E1-4B9E-A457-128AFF78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4288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072240"/>
            <a:ext cx="274968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1091-9AC6-49E8-9D73-5F024EA1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373-8CBA-4E2F-A48D-EA8CC35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179-9A3F-4952-95EE-65751168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B45-762B-4496-BDE3-EF837C77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456840"/>
            <a:ext cx="854064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E9A-BED9-40A4-B3F5-AD90FB0C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1CD-9467-43F9-BDDD-43DD2A8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0722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1EA-E990-419C-8230-F986B668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428840"/>
            <a:ext cx="416772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072240"/>
            <a:ext cx="85406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BCC-5497-448A-9ACC-A69FF35A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3794-399B-4A49-9B46-9CCA3CA88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428840"/>
            <a:ext cx="854064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2892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C511-E3C0-44EE-BFEF-C34A821DA81A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7.wmf"/><Relationship Id="rId3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7.wmf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6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1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1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2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21.wmf"/><Relationship Id="rId4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4.wmf"/><Relationship Id="rId3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3.wmf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5.wmf"/><Relationship Id="rId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81.wmf"/><Relationship Id="rId3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6.wmf"/><Relationship Id="rId3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2.wmf"/><Relationship Id="rId2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2.wmf"/><Relationship Id="rId3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2.wmf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476360" y="519120"/>
            <a:ext cx="61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《</a:t>
            </a:r>
            <a:r>
              <a:rPr b="1" lang="zh-CN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泛函分析</a:t>
            </a:r>
            <a:r>
              <a:rPr b="1" lang="en-US" sz="6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785880" y="182088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第一讲   紧性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14800"/>
            <a:ext cx="9358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高福根  博士  硕士研究生导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河南师范大学数学与信息科学学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组合 13"/>
          <p:cNvGrpSpPr/>
          <p:nvPr/>
        </p:nvGrpSpPr>
        <p:grpSpPr>
          <a:xfrm>
            <a:off x="1116000" y="944640"/>
            <a:ext cx="4530600" cy="834840"/>
            <a:chOff x="1116000" y="944640"/>
            <a:chExt cx="4530600" cy="834840"/>
          </a:xfrm>
        </p:grpSpPr>
        <p:sp>
          <p:nvSpPr>
            <p:cNvPr id="363" name="Rectangle 15"/>
            <p:cNvSpPr/>
            <p:nvPr/>
          </p:nvSpPr>
          <p:spPr>
            <a:xfrm>
              <a:off x="1116000" y="1072080"/>
              <a:ext cx="193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当            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64" name="Object 4"/>
            <p:cNvGraphicFramePr/>
            <p:nvPr/>
          </p:nvGraphicFramePr>
          <p:xfrm>
            <a:off x="1428480" y="1167480"/>
            <a:ext cx="934920" cy="39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28480" y="1167480"/>
                      <a:ext cx="934920" cy="396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66" name="Object 5"/>
            <p:cNvGraphicFramePr/>
            <p:nvPr/>
          </p:nvGraphicFramePr>
          <p:xfrm>
            <a:off x="3143160" y="944640"/>
            <a:ext cx="2503440" cy="834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43160" y="944640"/>
                      <a:ext cx="2503440" cy="834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68" name="Rectangle 15"/>
          <p:cNvSpPr/>
          <p:nvPr/>
        </p:nvSpPr>
        <p:spPr>
          <a:xfrm>
            <a:off x="5934240" y="107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从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69" name="Object 8"/>
          <p:cNvGraphicFramePr/>
          <p:nvPr/>
        </p:nvGraphicFramePr>
        <p:xfrm>
          <a:off x="2000160" y="1714680"/>
          <a:ext cx="4464000" cy="83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0160" y="1714680"/>
                    <a:ext cx="4464000" cy="83628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sp>
        <p:nvSpPr>
          <p:cNvPr id="371" name="Rectangle 15"/>
          <p:cNvSpPr/>
          <p:nvPr/>
        </p:nvSpPr>
        <p:spPr>
          <a:xfrm>
            <a:off x="1219680" y="2465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所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72" name="Object 9"/>
          <p:cNvGraphicFramePr/>
          <p:nvPr/>
        </p:nvGraphicFramePr>
        <p:xfrm>
          <a:off x="1955880" y="2894040"/>
          <a:ext cx="564048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5880" y="2894040"/>
                    <a:ext cx="5640480" cy="72396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sp>
        <p:nvSpPr>
          <p:cNvPr id="374" name="Rectangle 15"/>
          <p:cNvSpPr/>
          <p:nvPr/>
        </p:nvSpPr>
        <p:spPr>
          <a:xfrm>
            <a:off x="1680120" y="3803760"/>
            <a:ext cx="40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这说明紧集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Lebesq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数大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0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5" name="组合 15"/>
          <p:cNvGrpSpPr/>
          <p:nvPr/>
        </p:nvGrpSpPr>
        <p:grpSpPr>
          <a:xfrm>
            <a:off x="971280" y="533520"/>
            <a:ext cx="6422040" cy="523800"/>
            <a:chOff x="971280" y="533520"/>
            <a:chExt cx="6422040" cy="523800"/>
          </a:xfrm>
        </p:grpSpPr>
        <p:sp>
          <p:nvSpPr>
            <p:cNvPr id="376" name="Rectangle 15"/>
            <p:cNvSpPr/>
            <p:nvPr/>
          </p:nvSpPr>
          <p:spPr>
            <a:xfrm>
              <a:off x="1682640" y="533520"/>
              <a:ext cx="53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被覆盖，不妨设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存在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77" name="Object 2"/>
            <p:cNvGraphicFramePr/>
            <p:nvPr/>
          </p:nvGraphicFramePr>
          <p:xfrm>
            <a:off x="3857760" y="637560"/>
            <a:ext cx="1209600" cy="419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8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57760" y="637560"/>
                      <a:ext cx="1209600" cy="4197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79" name="Object 3"/>
            <p:cNvGraphicFramePr/>
            <p:nvPr/>
          </p:nvGraphicFramePr>
          <p:xfrm>
            <a:off x="7001280" y="627120"/>
            <a:ext cx="392040" cy="397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0" name="Object 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01280" y="627120"/>
                      <a:ext cx="39204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6"/>
            <p:cNvGraphicFramePr/>
            <p:nvPr/>
          </p:nvGraphicFramePr>
          <p:xfrm>
            <a:off x="971280" y="659880"/>
            <a:ext cx="342720" cy="325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2" name="Object 1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971280" y="659880"/>
                      <a:ext cx="34272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23"/>
          <p:cNvGrpSpPr/>
          <p:nvPr/>
        </p:nvGrpSpPr>
        <p:grpSpPr>
          <a:xfrm>
            <a:off x="712080" y="428760"/>
            <a:ext cx="1814400" cy="520560"/>
            <a:chOff x="712080" y="428760"/>
            <a:chExt cx="1814400" cy="520560"/>
          </a:xfrm>
        </p:grpSpPr>
        <p:sp>
          <p:nvSpPr>
            <p:cNvPr id="384" name="Rectangle 15"/>
            <p:cNvSpPr/>
            <p:nvPr/>
          </p:nvSpPr>
          <p:spPr>
            <a:xfrm>
              <a:off x="712080" y="428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任取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85" name="Object 16"/>
            <p:cNvGraphicFramePr/>
            <p:nvPr/>
          </p:nvGraphicFramePr>
          <p:xfrm>
            <a:off x="1428840" y="428760"/>
            <a:ext cx="995400" cy="3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6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28840" y="428760"/>
                      <a:ext cx="99540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87" name="组合 24"/>
          <p:cNvGrpSpPr/>
          <p:nvPr/>
        </p:nvGrpSpPr>
        <p:grpSpPr>
          <a:xfrm>
            <a:off x="2000160" y="750960"/>
            <a:ext cx="5912280" cy="520560"/>
            <a:chOff x="2000160" y="750960"/>
            <a:chExt cx="5912280" cy="520560"/>
          </a:xfrm>
        </p:grpSpPr>
        <p:sp>
          <p:nvSpPr>
            <p:cNvPr id="388" name="矩形 5"/>
            <p:cNvSpPr/>
            <p:nvPr/>
          </p:nvSpPr>
          <p:spPr>
            <a:xfrm>
              <a:off x="2043360" y="750960"/>
              <a:ext cx="582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 ，则存在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;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89" name="Object 3"/>
            <p:cNvGraphicFramePr/>
            <p:nvPr/>
          </p:nvGraphicFramePr>
          <p:xfrm>
            <a:off x="2000160" y="807840"/>
            <a:ext cx="1960200" cy="3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807840"/>
                      <a:ext cx="1960200" cy="396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91" name="Object 4"/>
            <p:cNvGraphicFramePr/>
            <p:nvPr/>
          </p:nvGraphicFramePr>
          <p:xfrm>
            <a:off x="5500080" y="807840"/>
            <a:ext cx="2412360" cy="39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0080" y="807840"/>
                      <a:ext cx="2412360" cy="396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93" name="组合 25"/>
          <p:cNvGrpSpPr/>
          <p:nvPr/>
        </p:nvGrpSpPr>
        <p:grpSpPr>
          <a:xfrm>
            <a:off x="1928520" y="1103400"/>
            <a:ext cx="6734520" cy="747720"/>
            <a:chOff x="1928520" y="1103400"/>
            <a:chExt cx="6734520" cy="747720"/>
          </a:xfrm>
        </p:grpSpPr>
        <p:sp>
          <p:nvSpPr>
            <p:cNvPr id="394" name="矩形 5"/>
            <p:cNvSpPr/>
            <p:nvPr/>
          </p:nvSpPr>
          <p:spPr>
            <a:xfrm>
              <a:off x="1991520" y="1179000"/>
              <a:ext cx="638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     ，则存在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;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95" name="Object 5"/>
            <p:cNvGraphicFramePr/>
            <p:nvPr/>
          </p:nvGraphicFramePr>
          <p:xfrm>
            <a:off x="1928520" y="1103400"/>
            <a:ext cx="2322360" cy="74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28520" y="1103400"/>
                      <a:ext cx="2322360" cy="7477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97" name="Object 6"/>
            <p:cNvGraphicFramePr/>
            <p:nvPr/>
          </p:nvGraphicFramePr>
          <p:xfrm>
            <a:off x="5857920" y="1103400"/>
            <a:ext cx="2805120" cy="74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57920" y="1103400"/>
                      <a:ext cx="2805120" cy="7477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99" name="Object 7"/>
          <p:cNvGraphicFramePr/>
          <p:nvPr/>
        </p:nvGraphicFramePr>
        <p:xfrm>
          <a:off x="3357720" y="1608120"/>
          <a:ext cx="2111040" cy="37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7720" y="1608120"/>
                    <a:ext cx="2111040" cy="3715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01" name="组合 26"/>
          <p:cNvGrpSpPr/>
          <p:nvPr/>
        </p:nvGrpSpPr>
        <p:grpSpPr>
          <a:xfrm>
            <a:off x="3766320" y="1768320"/>
            <a:ext cx="4459320" cy="520560"/>
            <a:chOff x="3766320" y="1768320"/>
            <a:chExt cx="4459320" cy="520560"/>
          </a:xfrm>
        </p:grpSpPr>
        <p:sp>
          <p:nvSpPr>
            <p:cNvPr id="402" name="Rectangle 15"/>
            <p:cNvSpPr/>
            <p:nvPr/>
          </p:nvSpPr>
          <p:spPr>
            <a:xfrm>
              <a:off x="3766320" y="1768320"/>
              <a:ext cx="15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如果这一过程可以无限进行，由此得到序列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3" name="Object 8"/>
            <p:cNvGraphicFramePr/>
            <p:nvPr/>
          </p:nvGraphicFramePr>
          <p:xfrm>
            <a:off x="7501680" y="1768320"/>
            <a:ext cx="723960" cy="439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04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01680" y="1768320"/>
                      <a:ext cx="723960" cy="4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05" name="组合 27"/>
          <p:cNvGrpSpPr/>
          <p:nvPr/>
        </p:nvGrpSpPr>
        <p:grpSpPr>
          <a:xfrm>
            <a:off x="631080" y="2197080"/>
            <a:ext cx="3821760" cy="520560"/>
            <a:chOff x="631080" y="2197080"/>
            <a:chExt cx="3821760" cy="520560"/>
          </a:xfrm>
        </p:grpSpPr>
        <p:sp>
          <p:nvSpPr>
            <p:cNvPr id="406" name="Rectangle 15"/>
            <p:cNvSpPr/>
            <p:nvPr/>
          </p:nvSpPr>
          <p:spPr>
            <a:xfrm>
              <a:off x="631080" y="2197080"/>
              <a:ext cx="21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显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07" name="Object 9"/>
            <p:cNvGraphicFramePr/>
            <p:nvPr/>
          </p:nvGraphicFramePr>
          <p:xfrm>
            <a:off x="1285920" y="2247480"/>
            <a:ext cx="3166920" cy="396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0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85920" y="2247480"/>
                      <a:ext cx="3166920" cy="396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09" name="组合 28"/>
          <p:cNvGrpSpPr/>
          <p:nvPr/>
        </p:nvGrpSpPr>
        <p:grpSpPr>
          <a:xfrm>
            <a:off x="642960" y="2625840"/>
            <a:ext cx="6040080" cy="521280"/>
            <a:chOff x="642960" y="2625840"/>
            <a:chExt cx="6040080" cy="521280"/>
          </a:xfrm>
        </p:grpSpPr>
        <p:graphicFrame>
          <p:nvGraphicFramePr>
            <p:cNvPr id="410" name="Object 10"/>
            <p:cNvGraphicFramePr/>
            <p:nvPr/>
          </p:nvGraphicFramePr>
          <p:xfrm>
            <a:off x="642960" y="2707560"/>
            <a:ext cx="723960" cy="439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11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42960" y="2707560"/>
                      <a:ext cx="723960" cy="4395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12" name="Rectangle 15"/>
            <p:cNvSpPr/>
            <p:nvPr/>
          </p:nvSpPr>
          <p:spPr>
            <a:xfrm>
              <a:off x="1893960" y="2625840"/>
              <a:ext cx="47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无收敛子序列，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13" name="组合 30"/>
          <p:cNvGrpSpPr/>
          <p:nvPr/>
        </p:nvGrpSpPr>
        <p:grpSpPr>
          <a:xfrm>
            <a:off x="734400" y="3622680"/>
            <a:ext cx="7099920" cy="749160"/>
            <a:chOff x="734400" y="3622680"/>
            <a:chExt cx="7099920" cy="749160"/>
          </a:xfrm>
        </p:grpSpPr>
        <p:sp>
          <p:nvSpPr>
            <p:cNvPr id="414" name="Rectangle 15"/>
            <p:cNvSpPr/>
            <p:nvPr/>
          </p:nvSpPr>
          <p:spPr>
            <a:xfrm>
              <a:off x="734400" y="3750120"/>
              <a:ext cx="311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                    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15" name="Object 12"/>
            <p:cNvGraphicFramePr/>
            <p:nvPr/>
          </p:nvGraphicFramePr>
          <p:xfrm>
            <a:off x="4214880" y="3622680"/>
            <a:ext cx="3619440" cy="7491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16" name="Object 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214880" y="3622680"/>
                      <a:ext cx="3619440" cy="7491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3"/>
            <p:cNvGraphicFramePr/>
            <p:nvPr/>
          </p:nvGraphicFramePr>
          <p:xfrm>
            <a:off x="1071360" y="3809520"/>
            <a:ext cx="2232000" cy="417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18" name="Object 13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071360" y="3809520"/>
                      <a:ext cx="2232000" cy="417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19" name="组合 34"/>
          <p:cNvGrpSpPr/>
          <p:nvPr/>
        </p:nvGrpSpPr>
        <p:grpSpPr>
          <a:xfrm>
            <a:off x="539640" y="4340160"/>
            <a:ext cx="6806880" cy="520560"/>
            <a:chOff x="539640" y="4340160"/>
            <a:chExt cx="6806880" cy="520560"/>
          </a:xfrm>
        </p:grpSpPr>
        <p:sp>
          <p:nvSpPr>
            <p:cNvPr id="420" name="Rectangle 15"/>
            <p:cNvSpPr/>
            <p:nvPr/>
          </p:nvSpPr>
          <p:spPr>
            <a:xfrm>
              <a:off x="1299960" y="4340160"/>
              <a:ext cx="591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被有限覆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任意的，故   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21" name="Object 14"/>
            <p:cNvGraphicFramePr/>
            <p:nvPr/>
          </p:nvGraphicFramePr>
          <p:xfrm>
            <a:off x="3071520" y="4363560"/>
            <a:ext cx="1839960" cy="4399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22" name="Object 1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071520" y="4363560"/>
                      <a:ext cx="1839960" cy="4399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23" name="Object 34"/>
            <p:cNvGraphicFramePr/>
            <p:nvPr/>
          </p:nvGraphicFramePr>
          <p:xfrm>
            <a:off x="539640" y="4443840"/>
            <a:ext cx="398160" cy="3232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24" name="Object 3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39640" y="444384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5" name="Object 7"/>
            <p:cNvGraphicFramePr/>
            <p:nvPr/>
          </p:nvGraphicFramePr>
          <p:xfrm>
            <a:off x="6948360" y="4408200"/>
            <a:ext cx="398160" cy="3232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26" name="Object 7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948360" y="4408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7" name="组合 35"/>
          <p:cNvGrpSpPr/>
          <p:nvPr/>
        </p:nvGrpSpPr>
        <p:grpSpPr>
          <a:xfrm>
            <a:off x="878760" y="3046320"/>
            <a:ext cx="4861800" cy="749520"/>
            <a:chOff x="878760" y="3046320"/>
            <a:chExt cx="4861800" cy="749520"/>
          </a:xfrm>
        </p:grpSpPr>
        <p:sp>
          <p:nvSpPr>
            <p:cNvPr id="428" name="Rectangle 15"/>
            <p:cNvSpPr/>
            <p:nvPr/>
          </p:nvSpPr>
          <p:spPr>
            <a:xfrm>
              <a:off x="878760" y="3160440"/>
              <a:ext cx="195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于是对于某个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29" name="Object 11"/>
            <p:cNvGraphicFramePr/>
            <p:nvPr/>
          </p:nvGraphicFramePr>
          <p:xfrm>
            <a:off x="3357720" y="3046320"/>
            <a:ext cx="2382840" cy="74952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30" name="Object 11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357720" y="3046320"/>
                      <a:ext cx="2382840" cy="749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1" name="Object 35"/>
            <p:cNvGraphicFramePr/>
            <p:nvPr/>
          </p:nvGraphicFramePr>
          <p:xfrm>
            <a:off x="2571840" y="3293280"/>
            <a:ext cx="357120" cy="2865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32" name="Object 35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571840" y="3293280"/>
                      <a:ext cx="357120" cy="2865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3"/>
          <p:cNvSpPr/>
          <p:nvPr/>
        </p:nvSpPr>
        <p:spPr>
          <a:xfrm>
            <a:off x="428760" y="58896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2403720" y="642960"/>
            <a:ext cx="39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每个紧集是有界闭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28760" y="133992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428760" y="332280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7" name="组合 22"/>
          <p:cNvGrpSpPr/>
          <p:nvPr/>
        </p:nvGrpSpPr>
        <p:grpSpPr>
          <a:xfrm>
            <a:off x="3275280" y="3375000"/>
            <a:ext cx="3371760" cy="520560"/>
            <a:chOff x="3275280" y="3375000"/>
            <a:chExt cx="3371760" cy="520560"/>
          </a:xfrm>
        </p:grpSpPr>
        <p:sp>
          <p:nvSpPr>
            <p:cNvPr id="438" name="Rectangle 15"/>
            <p:cNvSpPr/>
            <p:nvPr/>
          </p:nvSpPr>
          <p:spPr>
            <a:xfrm>
              <a:off x="3275280" y="3375000"/>
              <a:ext cx="165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紧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39" name="Object 7"/>
            <p:cNvGraphicFramePr/>
            <p:nvPr/>
          </p:nvGraphicFramePr>
          <p:xfrm>
            <a:off x="3929040" y="3481200"/>
            <a:ext cx="314280" cy="31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0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29040" y="3481200"/>
                      <a:ext cx="314280" cy="3146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41" name="Object 8"/>
            <p:cNvGraphicFramePr/>
            <p:nvPr/>
          </p:nvGraphicFramePr>
          <p:xfrm>
            <a:off x="4786560" y="3455640"/>
            <a:ext cx="1860480" cy="41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2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6560" y="3455640"/>
                      <a:ext cx="1860480" cy="4125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43" name="Object 10"/>
          <p:cNvGraphicFramePr/>
          <p:nvPr/>
        </p:nvGraphicFramePr>
        <p:xfrm>
          <a:off x="5857920" y="4011480"/>
          <a:ext cx="225252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7920" y="4011480"/>
                    <a:ext cx="2252520" cy="4129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45" name="组合 23"/>
          <p:cNvGrpSpPr/>
          <p:nvPr/>
        </p:nvGrpSpPr>
        <p:grpSpPr>
          <a:xfrm>
            <a:off x="1862640" y="3963960"/>
            <a:ext cx="3735000" cy="520560"/>
            <a:chOff x="1862640" y="3963960"/>
            <a:chExt cx="3735000" cy="520560"/>
          </a:xfrm>
        </p:grpSpPr>
        <p:graphicFrame>
          <p:nvGraphicFramePr>
            <p:cNvPr id="446" name="Object 9"/>
            <p:cNvGraphicFramePr/>
            <p:nvPr/>
          </p:nvGraphicFramePr>
          <p:xfrm>
            <a:off x="4786560" y="3963960"/>
            <a:ext cx="811080" cy="472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7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86560" y="3963960"/>
                      <a:ext cx="811080" cy="472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48" name="矩形 21"/>
            <p:cNvSpPr/>
            <p:nvPr/>
          </p:nvSpPr>
          <p:spPr>
            <a:xfrm>
              <a:off x="1862640" y="3963960"/>
              <a:ext cx="256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存在子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49" name="组合 26"/>
          <p:cNvGrpSpPr/>
          <p:nvPr/>
        </p:nvGrpSpPr>
        <p:grpSpPr>
          <a:xfrm>
            <a:off x="1331280" y="1928880"/>
            <a:ext cx="2471040" cy="520560"/>
            <a:chOff x="1331280" y="1928880"/>
            <a:chExt cx="2471040" cy="520560"/>
          </a:xfrm>
        </p:grpSpPr>
        <p:sp>
          <p:nvSpPr>
            <p:cNvPr id="450" name="Rectangle 15"/>
            <p:cNvSpPr/>
            <p:nvPr/>
          </p:nvSpPr>
          <p:spPr>
            <a:xfrm>
              <a:off x="1331280" y="1928880"/>
              <a:ext cx="247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相对紧集；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51" name="Object 24"/>
            <p:cNvGraphicFramePr/>
            <p:nvPr/>
          </p:nvGraphicFramePr>
          <p:xfrm>
            <a:off x="1428480" y="1982520"/>
            <a:ext cx="398160" cy="32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52" name="Object 2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28480" y="198252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3" name="组合 27"/>
          <p:cNvGrpSpPr/>
          <p:nvPr/>
        </p:nvGrpSpPr>
        <p:grpSpPr>
          <a:xfrm>
            <a:off x="1239480" y="2517840"/>
            <a:ext cx="6539040" cy="947160"/>
            <a:chOff x="1239480" y="2517840"/>
            <a:chExt cx="6539040" cy="947160"/>
          </a:xfrm>
        </p:grpSpPr>
        <p:sp>
          <p:nvSpPr>
            <p:cNvPr id="454" name="Rectangle 15"/>
            <p:cNvSpPr/>
            <p:nvPr/>
          </p:nvSpPr>
          <p:spPr>
            <a:xfrm>
              <a:off x="1239480" y="2517840"/>
              <a:ext cx="5986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任一无穷序列      包含有子序列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且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55" name="Object 3"/>
            <p:cNvGraphicFramePr/>
            <p:nvPr/>
          </p:nvGraphicFramePr>
          <p:xfrm>
            <a:off x="4214520" y="2610000"/>
            <a:ext cx="628560" cy="393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56" name="Object 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14520" y="2610000"/>
                      <a:ext cx="628560" cy="393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Object 4"/>
            <p:cNvGraphicFramePr/>
            <p:nvPr/>
          </p:nvGraphicFramePr>
          <p:xfrm>
            <a:off x="7072200" y="2531520"/>
            <a:ext cx="706320" cy="47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8" name="Object 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072200" y="2531520"/>
                      <a:ext cx="706320" cy="471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9" name="Object 5"/>
            <p:cNvGraphicFramePr/>
            <p:nvPr/>
          </p:nvGraphicFramePr>
          <p:xfrm>
            <a:off x="1857240" y="2964960"/>
            <a:ext cx="1785960" cy="398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60" name="Object 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857240" y="2964960"/>
                      <a:ext cx="1785960" cy="398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61" name="Object 25"/>
            <p:cNvGraphicFramePr/>
            <p:nvPr/>
          </p:nvGraphicFramePr>
          <p:xfrm>
            <a:off x="1476000" y="2607120"/>
            <a:ext cx="398160" cy="32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62" name="Object 2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476000" y="2607120"/>
                      <a:ext cx="3981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3" name="组合 25"/>
          <p:cNvGrpSpPr/>
          <p:nvPr/>
        </p:nvGrpSpPr>
        <p:grpSpPr>
          <a:xfrm>
            <a:off x="2377800" y="1393920"/>
            <a:ext cx="5712120" cy="520560"/>
            <a:chOff x="2377800" y="1393920"/>
            <a:chExt cx="5712120" cy="520560"/>
          </a:xfrm>
        </p:grpSpPr>
        <p:sp>
          <p:nvSpPr>
            <p:cNvPr id="464" name="Rectangle 15"/>
            <p:cNvSpPr/>
            <p:nvPr/>
          </p:nvSpPr>
          <p:spPr>
            <a:xfrm>
              <a:off x="3193920" y="1393920"/>
              <a:ext cx="48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是度量空间，          则下列两条件等价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65" name="Object 6"/>
            <p:cNvGraphicFramePr/>
            <p:nvPr/>
          </p:nvGraphicFramePr>
          <p:xfrm>
            <a:off x="4786560" y="1537560"/>
            <a:ext cx="1022400" cy="314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66" name="Object 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86560" y="1537560"/>
                      <a:ext cx="1022400" cy="3142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Object 26"/>
            <p:cNvGraphicFramePr/>
            <p:nvPr/>
          </p:nvGraphicFramePr>
          <p:xfrm>
            <a:off x="2377800" y="1527840"/>
            <a:ext cx="465120" cy="323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68" name="Object 2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377800" y="1527840"/>
                      <a:ext cx="465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9" name="Object 27"/>
          <p:cNvGraphicFramePr/>
          <p:nvPr/>
        </p:nvGraphicFramePr>
        <p:xfrm>
          <a:off x="1928880" y="3481560"/>
          <a:ext cx="1284120" cy="314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0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28880" y="3481560"/>
                    <a:ext cx="1284120" cy="31428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组合 14"/>
          <p:cNvGrpSpPr/>
          <p:nvPr/>
        </p:nvGrpSpPr>
        <p:grpSpPr>
          <a:xfrm>
            <a:off x="3035160" y="555480"/>
            <a:ext cx="3838320" cy="520560"/>
            <a:chOff x="3035160" y="555480"/>
            <a:chExt cx="3838320" cy="520560"/>
          </a:xfrm>
        </p:grpSpPr>
        <p:sp>
          <p:nvSpPr>
            <p:cNvPr id="472" name="Rectangle 15"/>
            <p:cNvSpPr/>
            <p:nvPr/>
          </p:nvSpPr>
          <p:spPr>
            <a:xfrm>
              <a:off x="3051720" y="555480"/>
              <a:ext cx="382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是    中的无穷序列，定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73" name="Object 3"/>
            <p:cNvGraphicFramePr/>
            <p:nvPr/>
          </p:nvGraphicFramePr>
          <p:xfrm>
            <a:off x="3035160" y="594360"/>
            <a:ext cx="628560" cy="39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5160" y="594360"/>
                      <a:ext cx="628560" cy="393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75" name="Object 10"/>
            <p:cNvGraphicFramePr/>
            <p:nvPr/>
          </p:nvGraphicFramePr>
          <p:xfrm>
            <a:off x="4035240" y="601200"/>
            <a:ext cx="314280" cy="315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6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5240" y="601200"/>
                      <a:ext cx="314280" cy="315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7" name="Object 4"/>
          <p:cNvGraphicFramePr/>
          <p:nvPr/>
        </p:nvGraphicFramePr>
        <p:xfrm>
          <a:off x="1870200" y="1125360"/>
          <a:ext cx="6548400" cy="102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0200" y="1125360"/>
                    <a:ext cx="6548400" cy="102096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79" name="组合 15"/>
          <p:cNvGrpSpPr/>
          <p:nvPr/>
        </p:nvGrpSpPr>
        <p:grpSpPr>
          <a:xfrm>
            <a:off x="1646280" y="2143080"/>
            <a:ext cx="1781280" cy="520560"/>
            <a:chOff x="1646280" y="2143080"/>
            <a:chExt cx="1781280" cy="520560"/>
          </a:xfrm>
        </p:grpSpPr>
        <p:sp>
          <p:nvSpPr>
            <p:cNvPr id="480" name="Rectangle 15"/>
            <p:cNvSpPr/>
            <p:nvPr/>
          </p:nvSpPr>
          <p:spPr>
            <a:xfrm>
              <a:off x="1646280" y="214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81" name="Object 5"/>
            <p:cNvGraphicFramePr/>
            <p:nvPr/>
          </p:nvGraphicFramePr>
          <p:xfrm>
            <a:off x="2143080" y="2178720"/>
            <a:ext cx="1284480" cy="39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2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43080" y="2178720"/>
                      <a:ext cx="1284480" cy="3934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83" name="Rectangle 15"/>
          <p:cNvSpPr/>
          <p:nvPr/>
        </p:nvSpPr>
        <p:spPr>
          <a:xfrm>
            <a:off x="1499040" y="2625840"/>
            <a:ext cx="20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，存在子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484" name="Object 6"/>
          <p:cNvGraphicFramePr/>
          <p:nvPr/>
        </p:nvGraphicFramePr>
        <p:xfrm>
          <a:off x="4189320" y="2604960"/>
          <a:ext cx="2570400" cy="4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89320" y="2604960"/>
                    <a:ext cx="2570400" cy="47160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486" name="组合 16"/>
          <p:cNvGrpSpPr/>
          <p:nvPr/>
        </p:nvGrpSpPr>
        <p:grpSpPr>
          <a:xfrm>
            <a:off x="1975320" y="3268800"/>
            <a:ext cx="4770360" cy="520560"/>
            <a:chOff x="1975320" y="3268800"/>
            <a:chExt cx="4770360" cy="520560"/>
          </a:xfrm>
        </p:grpSpPr>
        <p:sp>
          <p:nvSpPr>
            <p:cNvPr id="487" name="Rectangle 15"/>
            <p:cNvSpPr/>
            <p:nvPr/>
          </p:nvSpPr>
          <p:spPr>
            <a:xfrm>
              <a:off x="1975320" y="3268800"/>
              <a:ext cx="442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显然          ，并且不难验证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88" name="Object 7"/>
            <p:cNvGraphicFramePr/>
            <p:nvPr/>
          </p:nvGraphicFramePr>
          <p:xfrm>
            <a:off x="2143080" y="3350160"/>
            <a:ext cx="787320" cy="372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89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43080" y="3350160"/>
                      <a:ext cx="787320" cy="3729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Object 8"/>
            <p:cNvGraphicFramePr/>
            <p:nvPr/>
          </p:nvGraphicFramePr>
          <p:xfrm>
            <a:off x="5644080" y="3351600"/>
            <a:ext cx="1101600" cy="371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91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644080" y="3351600"/>
                      <a:ext cx="1101600" cy="3718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92" name="组合 19"/>
          <p:cNvGrpSpPr/>
          <p:nvPr/>
        </p:nvGrpSpPr>
        <p:grpSpPr>
          <a:xfrm>
            <a:off x="1991880" y="4017960"/>
            <a:ext cx="3917160" cy="520560"/>
            <a:chOff x="1991880" y="4017960"/>
            <a:chExt cx="3917160" cy="520560"/>
          </a:xfrm>
        </p:grpSpPr>
        <p:sp>
          <p:nvSpPr>
            <p:cNvPr id="493" name="Rectangle 15"/>
            <p:cNvSpPr/>
            <p:nvPr/>
          </p:nvSpPr>
          <p:spPr>
            <a:xfrm>
              <a:off x="1991880" y="4017960"/>
              <a:ext cx="391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定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知     紧，从而    相对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494" name="Object 9"/>
            <p:cNvGraphicFramePr/>
            <p:nvPr/>
          </p:nvGraphicFramePr>
          <p:xfrm>
            <a:off x="3071880" y="4128120"/>
            <a:ext cx="315720" cy="316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95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071880" y="4128120"/>
                      <a:ext cx="315720" cy="316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96" name="Object 20"/>
            <p:cNvGraphicFramePr/>
            <p:nvPr/>
          </p:nvGraphicFramePr>
          <p:xfrm>
            <a:off x="4932720" y="4119840"/>
            <a:ext cx="398160" cy="32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97" name="Object 2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932720" y="411984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98" name="Object 2"/>
          <p:cNvGraphicFramePr/>
          <p:nvPr/>
        </p:nvGraphicFramePr>
        <p:xfrm>
          <a:off x="1143000" y="660240"/>
          <a:ext cx="1284120" cy="314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3000" y="660240"/>
                    <a:ext cx="1284120" cy="31464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95280" y="57312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428760" y="23572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02" name="组合 32"/>
          <p:cNvGrpSpPr/>
          <p:nvPr/>
        </p:nvGrpSpPr>
        <p:grpSpPr>
          <a:xfrm>
            <a:off x="2339640" y="588960"/>
            <a:ext cx="5653800" cy="520560"/>
            <a:chOff x="2339640" y="588960"/>
            <a:chExt cx="5653800" cy="520560"/>
          </a:xfrm>
        </p:grpSpPr>
        <p:sp>
          <p:nvSpPr>
            <p:cNvPr id="503" name="Rectangle 15"/>
            <p:cNvSpPr/>
            <p:nvPr/>
          </p:nvSpPr>
          <p:spPr>
            <a:xfrm>
              <a:off x="3190320" y="588960"/>
              <a:ext cx="480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是度量空间，          则下列两条件等价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04" name="Object 10"/>
            <p:cNvGraphicFramePr/>
            <p:nvPr/>
          </p:nvGraphicFramePr>
          <p:xfrm>
            <a:off x="4779720" y="730800"/>
            <a:ext cx="944280" cy="25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5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79720" y="730800"/>
                      <a:ext cx="944280" cy="256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6" name="Object 28"/>
            <p:cNvGraphicFramePr/>
            <p:nvPr/>
          </p:nvGraphicFramePr>
          <p:xfrm>
            <a:off x="2339640" y="627120"/>
            <a:ext cx="465120" cy="32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7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39640" y="627120"/>
                      <a:ext cx="465120" cy="32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8" name="组合 33"/>
          <p:cNvGrpSpPr/>
          <p:nvPr/>
        </p:nvGrpSpPr>
        <p:grpSpPr>
          <a:xfrm>
            <a:off x="1904040" y="1017720"/>
            <a:ext cx="2684520" cy="520560"/>
            <a:chOff x="1904040" y="1017720"/>
            <a:chExt cx="2684520" cy="520560"/>
          </a:xfrm>
        </p:grpSpPr>
        <p:sp>
          <p:nvSpPr>
            <p:cNvPr id="509" name="Rectangle 15"/>
            <p:cNvSpPr/>
            <p:nvPr/>
          </p:nvSpPr>
          <p:spPr>
            <a:xfrm>
              <a:off x="1904040" y="1017720"/>
              <a:ext cx="268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完全有界集；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10" name="Object 29"/>
            <p:cNvGraphicFramePr/>
            <p:nvPr/>
          </p:nvGraphicFramePr>
          <p:xfrm>
            <a:off x="1908000" y="1095480"/>
            <a:ext cx="398160" cy="32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1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8000" y="109548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12" name="组合 34"/>
          <p:cNvGrpSpPr/>
          <p:nvPr/>
        </p:nvGrpSpPr>
        <p:grpSpPr>
          <a:xfrm>
            <a:off x="999720" y="1500120"/>
            <a:ext cx="7280280" cy="947160"/>
            <a:chOff x="999720" y="1500120"/>
            <a:chExt cx="7280280" cy="947160"/>
          </a:xfrm>
        </p:grpSpPr>
        <p:sp>
          <p:nvSpPr>
            <p:cNvPr id="513" name="Rectangle 15"/>
            <p:cNvSpPr/>
            <p:nvPr/>
          </p:nvSpPr>
          <p:spPr>
            <a:xfrm>
              <a:off x="1885320" y="1500120"/>
              <a:ext cx="598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任一无穷序列       包含有子序列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Cauch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14" name="Object 11"/>
            <p:cNvGraphicFramePr/>
            <p:nvPr/>
          </p:nvGraphicFramePr>
          <p:xfrm>
            <a:off x="4857480" y="1529280"/>
            <a:ext cx="630000" cy="39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5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57480" y="1529280"/>
                      <a:ext cx="630000" cy="3938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16" name="Object 12"/>
            <p:cNvGraphicFramePr/>
            <p:nvPr/>
          </p:nvGraphicFramePr>
          <p:xfrm>
            <a:off x="7572240" y="1522800"/>
            <a:ext cx="707760" cy="472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7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72240" y="1522800"/>
                      <a:ext cx="707760" cy="472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18" name="Object 13"/>
            <p:cNvGraphicFramePr/>
            <p:nvPr/>
          </p:nvGraphicFramePr>
          <p:xfrm>
            <a:off x="999720" y="1954800"/>
            <a:ext cx="707760" cy="47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19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99720" y="1954800"/>
                      <a:ext cx="707760" cy="472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20" name="Object 30"/>
            <p:cNvGraphicFramePr/>
            <p:nvPr/>
          </p:nvGraphicFramePr>
          <p:xfrm>
            <a:off x="1979280" y="1599480"/>
            <a:ext cx="398160" cy="323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21" name="Object 3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79280" y="159948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2" name="组合 36"/>
          <p:cNvGrpSpPr/>
          <p:nvPr/>
        </p:nvGrpSpPr>
        <p:grpSpPr>
          <a:xfrm>
            <a:off x="1571400" y="2755800"/>
            <a:ext cx="5711400" cy="679680"/>
            <a:chOff x="1571400" y="2755800"/>
            <a:chExt cx="5711400" cy="679680"/>
          </a:xfrm>
        </p:grpSpPr>
        <p:sp>
          <p:nvSpPr>
            <p:cNvPr id="523" name="Rectangle 15"/>
            <p:cNvSpPr/>
            <p:nvPr/>
          </p:nvSpPr>
          <p:spPr>
            <a:xfrm>
              <a:off x="2097360" y="2893320"/>
              <a:ext cx="518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，则    有有限     网，     是无限的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24" name="Object 14"/>
            <p:cNvGraphicFramePr/>
            <p:nvPr/>
          </p:nvGraphicFramePr>
          <p:xfrm>
            <a:off x="1571400" y="2827440"/>
            <a:ext cx="785520" cy="608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25" name="Object 1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571400" y="2827440"/>
                      <a:ext cx="785520" cy="6080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26" name="Object 15"/>
            <p:cNvGraphicFramePr/>
            <p:nvPr/>
          </p:nvGraphicFramePr>
          <p:xfrm>
            <a:off x="4761360" y="2755800"/>
            <a:ext cx="314280" cy="608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27" name="Object 1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61360" y="2755800"/>
                      <a:ext cx="314280" cy="6080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28" name="Object 16"/>
            <p:cNvGraphicFramePr/>
            <p:nvPr/>
          </p:nvGraphicFramePr>
          <p:xfrm>
            <a:off x="5671080" y="2971080"/>
            <a:ext cx="628560" cy="392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29" name="Object 1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71080" y="2971080"/>
                      <a:ext cx="628560" cy="392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30" name="Object 32"/>
            <p:cNvGraphicFramePr/>
            <p:nvPr/>
          </p:nvGraphicFramePr>
          <p:xfrm>
            <a:off x="3203280" y="2968200"/>
            <a:ext cx="398160" cy="323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31" name="Object 3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203280" y="296820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32" name="组合 35"/>
          <p:cNvGrpSpPr/>
          <p:nvPr/>
        </p:nvGrpSpPr>
        <p:grpSpPr>
          <a:xfrm>
            <a:off x="3207600" y="2413080"/>
            <a:ext cx="4193280" cy="520560"/>
            <a:chOff x="3207600" y="2413080"/>
            <a:chExt cx="4193280" cy="520560"/>
          </a:xfrm>
        </p:grpSpPr>
        <p:sp>
          <p:nvSpPr>
            <p:cNvPr id="533" name="Rectangle 15"/>
            <p:cNvSpPr/>
            <p:nvPr/>
          </p:nvSpPr>
          <p:spPr>
            <a:xfrm>
              <a:off x="3207600" y="2413080"/>
              <a:ext cx="262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是完全有界的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34" name="Object 6"/>
            <p:cNvGraphicFramePr/>
            <p:nvPr/>
          </p:nvGraphicFramePr>
          <p:xfrm>
            <a:off x="6143760" y="2467440"/>
            <a:ext cx="1257120" cy="392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35" name="Object 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143760" y="2467440"/>
                      <a:ext cx="1257120" cy="392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36" name="Object 7"/>
            <p:cNvGraphicFramePr/>
            <p:nvPr/>
          </p:nvGraphicFramePr>
          <p:xfrm>
            <a:off x="3453120" y="2464560"/>
            <a:ext cx="398160" cy="3232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37" name="Object 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453120" y="246456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38" name="组合 39"/>
          <p:cNvGrpSpPr/>
          <p:nvPr/>
        </p:nvGrpSpPr>
        <p:grpSpPr>
          <a:xfrm>
            <a:off x="1930680" y="3268800"/>
            <a:ext cx="6269400" cy="1534320"/>
            <a:chOff x="1930680" y="3268800"/>
            <a:chExt cx="6269400" cy="1534320"/>
          </a:xfrm>
        </p:grpSpPr>
        <p:sp>
          <p:nvSpPr>
            <p:cNvPr id="539" name="Rectangle 15"/>
            <p:cNvSpPr/>
            <p:nvPr/>
          </p:nvSpPr>
          <p:spPr>
            <a:xfrm>
              <a:off x="1930680" y="3429360"/>
              <a:ext cx="6066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至少有一个半径为     的球包含无穷多个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为       ，显然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作为     的子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同样是完全有界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40" name="Object 17"/>
            <p:cNvGraphicFramePr/>
            <p:nvPr/>
          </p:nvGraphicFramePr>
          <p:xfrm>
            <a:off x="4572360" y="3268800"/>
            <a:ext cx="314280" cy="607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41" name="Object 17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572360" y="3268800"/>
                      <a:ext cx="314280" cy="6076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42" name="Object 18"/>
            <p:cNvGraphicFramePr/>
            <p:nvPr/>
          </p:nvGraphicFramePr>
          <p:xfrm>
            <a:off x="7858800" y="3429360"/>
            <a:ext cx="341280" cy="3531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543" name="Object 1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858800" y="3429360"/>
                      <a:ext cx="341280" cy="3531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44" name="Object 19"/>
            <p:cNvGraphicFramePr/>
            <p:nvPr/>
          </p:nvGraphicFramePr>
          <p:xfrm>
            <a:off x="2000160" y="3907080"/>
            <a:ext cx="654120" cy="39240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545" name="Object 19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000160" y="3907080"/>
                      <a:ext cx="654120" cy="392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46" name="Object 20"/>
            <p:cNvGraphicFramePr/>
            <p:nvPr/>
          </p:nvGraphicFramePr>
          <p:xfrm>
            <a:off x="3714840" y="3927240"/>
            <a:ext cx="1703520" cy="3722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547" name="Object 20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3714840" y="3927240"/>
                      <a:ext cx="1703520" cy="3722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48" name="Object 31"/>
            <p:cNvGraphicFramePr/>
            <p:nvPr/>
          </p:nvGraphicFramePr>
          <p:xfrm>
            <a:off x="7001640" y="3976200"/>
            <a:ext cx="398160" cy="3232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549" name="Object 31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7001640" y="3976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0" name="Object 33"/>
            <p:cNvGraphicFramePr/>
            <p:nvPr/>
          </p:nvGraphicFramePr>
          <p:xfrm>
            <a:off x="5572440" y="3907080"/>
            <a:ext cx="654120" cy="39240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551" name="Object 33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5572440" y="3907080"/>
                      <a:ext cx="654120" cy="392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52" name="Object 8"/>
          <p:cNvGraphicFramePr/>
          <p:nvPr/>
        </p:nvGraphicFramePr>
        <p:xfrm>
          <a:off x="1643040" y="2544840"/>
          <a:ext cx="1284480" cy="314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53" name="Object 8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643040" y="2544840"/>
                    <a:ext cx="1284480" cy="31428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16"/>
          <p:cNvGrpSpPr/>
          <p:nvPr/>
        </p:nvGrpSpPr>
        <p:grpSpPr>
          <a:xfrm>
            <a:off x="1142640" y="449280"/>
            <a:ext cx="8001360" cy="1114560"/>
            <a:chOff x="1142640" y="449280"/>
            <a:chExt cx="8001360" cy="1114560"/>
          </a:xfrm>
        </p:grpSpPr>
        <p:sp>
          <p:nvSpPr>
            <p:cNvPr id="555" name="Rectangle 15"/>
            <p:cNvSpPr/>
            <p:nvPr/>
          </p:nvSpPr>
          <p:spPr>
            <a:xfrm>
              <a:off x="2092680" y="609840"/>
              <a:ext cx="5212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   ，       有有限的     网，其中之一包含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无穷多个元，记为          ，显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56" name="Object 2"/>
            <p:cNvGraphicFramePr/>
            <p:nvPr/>
          </p:nvGraphicFramePr>
          <p:xfrm>
            <a:off x="1500120" y="523440"/>
            <a:ext cx="915840" cy="608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0120" y="523440"/>
                      <a:ext cx="915840" cy="608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Object 3"/>
            <p:cNvGraphicFramePr/>
            <p:nvPr/>
          </p:nvGraphicFramePr>
          <p:xfrm>
            <a:off x="2857320" y="667080"/>
            <a:ext cx="653760" cy="392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57320" y="667080"/>
                      <a:ext cx="653760" cy="3927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60" name="Object 4"/>
            <p:cNvGraphicFramePr/>
            <p:nvPr/>
          </p:nvGraphicFramePr>
          <p:xfrm>
            <a:off x="4929120" y="449280"/>
            <a:ext cx="444240" cy="60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29120" y="449280"/>
                      <a:ext cx="444240" cy="6084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62" name="Object 5"/>
            <p:cNvGraphicFramePr/>
            <p:nvPr/>
          </p:nvGraphicFramePr>
          <p:xfrm>
            <a:off x="1142640" y="1171080"/>
            <a:ext cx="653760" cy="39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3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2640" y="1171080"/>
                      <a:ext cx="653760" cy="39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4" name="Object 6"/>
            <p:cNvGraphicFramePr/>
            <p:nvPr/>
          </p:nvGraphicFramePr>
          <p:xfrm>
            <a:off x="5202360" y="1099080"/>
            <a:ext cx="680760" cy="392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65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02360" y="1099080"/>
                      <a:ext cx="680760" cy="39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Object 7"/>
            <p:cNvGraphicFramePr/>
            <p:nvPr/>
          </p:nvGraphicFramePr>
          <p:xfrm>
            <a:off x="7153200" y="955440"/>
            <a:ext cx="1990800" cy="608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67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53200" y="955440"/>
                      <a:ext cx="1990800" cy="60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8" name="Object 8"/>
          <p:cNvGraphicFramePr/>
          <p:nvPr/>
        </p:nvGraphicFramePr>
        <p:xfrm>
          <a:off x="3429000" y="1446120"/>
          <a:ext cx="2111400" cy="37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1446120"/>
                    <a:ext cx="2111400" cy="3733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570" name="组合 17"/>
          <p:cNvGrpSpPr/>
          <p:nvPr/>
        </p:nvGrpSpPr>
        <p:grpSpPr>
          <a:xfrm>
            <a:off x="1500120" y="1836720"/>
            <a:ext cx="6430680" cy="1800360"/>
            <a:chOff x="1500120" y="1836720"/>
            <a:chExt cx="6430680" cy="1800360"/>
          </a:xfrm>
        </p:grpSpPr>
        <p:sp>
          <p:nvSpPr>
            <p:cNvPr id="571" name="Rectangle 15"/>
            <p:cNvSpPr/>
            <p:nvPr/>
          </p:nvSpPr>
          <p:spPr>
            <a:xfrm>
              <a:off x="2170800" y="1836720"/>
              <a:ext cx="5760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如此下去，得到可数多个序列，每个序列是前面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一个的子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利用对角线方法，选取          ，它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   的子序列，由我们的取法知，       是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Cauchy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72" name="Object 9"/>
            <p:cNvGraphicFramePr/>
            <p:nvPr/>
          </p:nvGraphicFramePr>
          <p:xfrm>
            <a:off x="7144560" y="2323080"/>
            <a:ext cx="706320" cy="39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7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144560" y="2323080"/>
                      <a:ext cx="70632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4" name="Object 10"/>
            <p:cNvGraphicFramePr/>
            <p:nvPr/>
          </p:nvGraphicFramePr>
          <p:xfrm>
            <a:off x="1500120" y="2683080"/>
            <a:ext cx="628560" cy="392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75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500120" y="2683080"/>
                      <a:ext cx="62856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6" name="Object 11"/>
            <p:cNvGraphicFramePr/>
            <p:nvPr/>
          </p:nvGraphicFramePr>
          <p:xfrm>
            <a:off x="6572880" y="2754720"/>
            <a:ext cx="706320" cy="392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77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572880" y="2754720"/>
                      <a:ext cx="70632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8" name="组合 22"/>
          <p:cNvGrpSpPr/>
          <p:nvPr/>
        </p:nvGrpSpPr>
        <p:grpSpPr>
          <a:xfrm>
            <a:off x="2226960" y="3633840"/>
            <a:ext cx="5799240" cy="947160"/>
            <a:chOff x="2226960" y="3633840"/>
            <a:chExt cx="5799240" cy="947160"/>
          </a:xfrm>
        </p:grpSpPr>
        <p:sp>
          <p:nvSpPr>
            <p:cNvPr id="579" name="Rectangle 15"/>
            <p:cNvSpPr/>
            <p:nvPr/>
          </p:nvSpPr>
          <p:spPr>
            <a:xfrm>
              <a:off x="2644920" y="3633840"/>
              <a:ext cx="5140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不是完全有界的，则存在         ，   不具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有有限     网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80" name="Object 12"/>
            <p:cNvGraphicFramePr/>
            <p:nvPr/>
          </p:nvGraphicFramePr>
          <p:xfrm>
            <a:off x="6510240" y="3731400"/>
            <a:ext cx="838080" cy="3524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81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510240" y="3731400"/>
                      <a:ext cx="83808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Object 13"/>
            <p:cNvGraphicFramePr/>
            <p:nvPr/>
          </p:nvGraphicFramePr>
          <p:xfrm>
            <a:off x="2820960" y="4091400"/>
            <a:ext cx="341280" cy="352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83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820960" y="4091400"/>
                      <a:ext cx="34128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Object 6"/>
            <p:cNvGraphicFramePr/>
            <p:nvPr/>
          </p:nvGraphicFramePr>
          <p:xfrm>
            <a:off x="2226960" y="3759840"/>
            <a:ext cx="398160" cy="3236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85" name="Object 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226960" y="375984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Object 23"/>
            <p:cNvGraphicFramePr/>
            <p:nvPr/>
          </p:nvGraphicFramePr>
          <p:xfrm>
            <a:off x="7628040" y="3687840"/>
            <a:ext cx="398160" cy="3236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87" name="Object 23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628040" y="368784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88" name="Object 22"/>
          <p:cNvGraphicFramePr/>
          <p:nvPr/>
        </p:nvGraphicFramePr>
        <p:xfrm>
          <a:off x="358920" y="3726000"/>
          <a:ext cx="1284120" cy="314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89" name="Object 22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58920" y="3726000"/>
                    <a:ext cx="1284120" cy="31428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组合 15"/>
          <p:cNvGrpSpPr/>
          <p:nvPr/>
        </p:nvGrpSpPr>
        <p:grpSpPr>
          <a:xfrm>
            <a:off x="1108800" y="428760"/>
            <a:ext cx="7029360" cy="520560"/>
            <a:chOff x="1108800" y="428760"/>
            <a:chExt cx="7029360" cy="520560"/>
          </a:xfrm>
        </p:grpSpPr>
        <p:sp>
          <p:nvSpPr>
            <p:cNvPr id="591" name="Rectangle 15"/>
            <p:cNvSpPr/>
            <p:nvPr/>
          </p:nvSpPr>
          <p:spPr>
            <a:xfrm>
              <a:off x="1108800" y="428760"/>
              <a:ext cx="70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任取            ，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故有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592" name="Object 4"/>
            <p:cNvGraphicFramePr/>
            <p:nvPr/>
          </p:nvGraphicFramePr>
          <p:xfrm>
            <a:off x="1428840" y="519120"/>
            <a:ext cx="995400" cy="3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28840" y="519120"/>
                      <a:ext cx="99540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Object 3"/>
            <p:cNvGraphicFramePr/>
            <p:nvPr/>
          </p:nvGraphicFramePr>
          <p:xfrm>
            <a:off x="2756160" y="519120"/>
            <a:ext cx="2021040" cy="3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6160" y="519120"/>
                      <a:ext cx="202104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Object 10"/>
            <p:cNvGraphicFramePr/>
            <p:nvPr/>
          </p:nvGraphicFramePr>
          <p:xfrm>
            <a:off x="5599800" y="519120"/>
            <a:ext cx="2503440" cy="397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7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99800" y="519120"/>
                      <a:ext cx="25034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98" name="组合 16"/>
          <p:cNvGrpSpPr/>
          <p:nvPr/>
        </p:nvGrpSpPr>
        <p:grpSpPr>
          <a:xfrm>
            <a:off x="1064520" y="1103400"/>
            <a:ext cx="7000560" cy="747720"/>
            <a:chOff x="1064520" y="1103400"/>
            <a:chExt cx="7000560" cy="747720"/>
          </a:xfrm>
        </p:grpSpPr>
        <p:sp>
          <p:nvSpPr>
            <p:cNvPr id="599" name="Rectangle 15"/>
            <p:cNvSpPr/>
            <p:nvPr/>
          </p:nvSpPr>
          <p:spPr>
            <a:xfrm>
              <a:off x="1064520" y="1179000"/>
              <a:ext cx="70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又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有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00" name="Object 5"/>
            <p:cNvGraphicFramePr/>
            <p:nvPr/>
          </p:nvGraphicFramePr>
          <p:xfrm>
            <a:off x="1326960" y="1103400"/>
            <a:ext cx="2382840" cy="74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26960" y="1103400"/>
                      <a:ext cx="2382840" cy="7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2" name="Object 6"/>
            <p:cNvGraphicFramePr/>
            <p:nvPr/>
          </p:nvGraphicFramePr>
          <p:xfrm>
            <a:off x="5041800" y="1103400"/>
            <a:ext cx="2865240" cy="74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03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41800" y="1103400"/>
                      <a:ext cx="2865240" cy="7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04" name="Object 7"/>
          <p:cNvGraphicFramePr/>
          <p:nvPr/>
        </p:nvGraphicFramePr>
        <p:xfrm>
          <a:off x="3214800" y="1768320"/>
          <a:ext cx="2111400" cy="37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14800" y="1768320"/>
                    <a:ext cx="2111400" cy="37332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606" name="组合 17"/>
          <p:cNvGrpSpPr/>
          <p:nvPr/>
        </p:nvGrpSpPr>
        <p:grpSpPr>
          <a:xfrm>
            <a:off x="1819800" y="2197080"/>
            <a:ext cx="6140520" cy="520560"/>
            <a:chOff x="1819800" y="2197080"/>
            <a:chExt cx="6140520" cy="520560"/>
          </a:xfrm>
        </p:grpSpPr>
        <p:sp>
          <p:nvSpPr>
            <p:cNvPr id="607" name="Rectangle 15"/>
            <p:cNvSpPr/>
            <p:nvPr/>
          </p:nvSpPr>
          <p:spPr>
            <a:xfrm>
              <a:off x="1819800" y="2197080"/>
              <a:ext cx="52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一过程可无限进行下去，由此得到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08" name="Object 8"/>
            <p:cNvGraphicFramePr/>
            <p:nvPr/>
          </p:nvGraphicFramePr>
          <p:xfrm>
            <a:off x="6572880" y="2275200"/>
            <a:ext cx="1387440" cy="439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09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72880" y="2275200"/>
                      <a:ext cx="1387440" cy="4399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10" name="组合 18"/>
          <p:cNvGrpSpPr/>
          <p:nvPr/>
        </p:nvGrpSpPr>
        <p:grpSpPr>
          <a:xfrm>
            <a:off x="916560" y="2697120"/>
            <a:ext cx="4154040" cy="520560"/>
            <a:chOff x="916560" y="2697120"/>
            <a:chExt cx="4154040" cy="520560"/>
          </a:xfrm>
        </p:grpSpPr>
        <p:sp>
          <p:nvSpPr>
            <p:cNvPr id="611" name="Rectangle 15"/>
            <p:cNvSpPr/>
            <p:nvPr/>
          </p:nvSpPr>
          <p:spPr>
            <a:xfrm>
              <a:off x="916560" y="2697120"/>
              <a:ext cx="21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显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12" name="Object 9"/>
            <p:cNvGraphicFramePr/>
            <p:nvPr/>
          </p:nvGraphicFramePr>
          <p:xfrm>
            <a:off x="1812600" y="2751480"/>
            <a:ext cx="3258000" cy="396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3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812600" y="2751480"/>
                      <a:ext cx="325800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4" name="组合 19"/>
          <p:cNvGrpSpPr/>
          <p:nvPr/>
        </p:nvGrpSpPr>
        <p:grpSpPr>
          <a:xfrm>
            <a:off x="928440" y="3424320"/>
            <a:ext cx="7789320" cy="520560"/>
            <a:chOff x="928440" y="3424320"/>
            <a:chExt cx="7789320" cy="520560"/>
          </a:xfrm>
        </p:grpSpPr>
        <p:sp>
          <p:nvSpPr>
            <p:cNvPr id="615" name="Rectangle 15"/>
            <p:cNvSpPr/>
            <p:nvPr/>
          </p:nvSpPr>
          <p:spPr>
            <a:xfrm>
              <a:off x="1510200" y="3424320"/>
              <a:ext cx="720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包含任何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Cauch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子序列，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16" name="Object 10"/>
            <p:cNvGraphicFramePr/>
            <p:nvPr/>
          </p:nvGraphicFramePr>
          <p:xfrm>
            <a:off x="928440" y="3499200"/>
            <a:ext cx="723600" cy="441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7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928440" y="3499200"/>
                      <a:ext cx="723600" cy="4410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3"/>
          <p:cNvSpPr/>
          <p:nvPr/>
        </p:nvSpPr>
        <p:spPr>
          <a:xfrm>
            <a:off x="395280" y="51912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19" name="组合 23"/>
          <p:cNvGrpSpPr/>
          <p:nvPr/>
        </p:nvGrpSpPr>
        <p:grpSpPr>
          <a:xfrm>
            <a:off x="1834920" y="1071720"/>
            <a:ext cx="5352120" cy="947160"/>
            <a:chOff x="1834920" y="1071720"/>
            <a:chExt cx="5352120" cy="947160"/>
          </a:xfrm>
        </p:grpSpPr>
        <p:sp>
          <p:nvSpPr>
            <p:cNvPr id="620" name="Rectangle 15"/>
            <p:cNvSpPr/>
            <p:nvPr/>
          </p:nvSpPr>
          <p:spPr>
            <a:xfrm>
              <a:off x="2369520" y="1071720"/>
              <a:ext cx="4817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紧集则    必是相对紧；  是相对紧的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必是完全有界的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21" name="Object 12"/>
            <p:cNvGraphicFramePr/>
            <p:nvPr/>
          </p:nvGraphicFramePr>
          <p:xfrm>
            <a:off x="1834920" y="1113120"/>
            <a:ext cx="398160" cy="32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2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4920" y="111312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Object 13"/>
            <p:cNvGraphicFramePr/>
            <p:nvPr/>
          </p:nvGraphicFramePr>
          <p:xfrm>
            <a:off x="2268360" y="1599840"/>
            <a:ext cx="398160" cy="32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4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159984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5" name="Object 14"/>
            <p:cNvGraphicFramePr/>
            <p:nvPr/>
          </p:nvGraphicFramePr>
          <p:xfrm>
            <a:off x="6012360" y="1167840"/>
            <a:ext cx="39816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2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2360" y="116784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7" name="Object 15"/>
            <p:cNvGraphicFramePr/>
            <p:nvPr/>
          </p:nvGraphicFramePr>
          <p:xfrm>
            <a:off x="3635640" y="1167840"/>
            <a:ext cx="398160" cy="32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8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35640" y="116784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9" name="组合 24"/>
          <p:cNvGrpSpPr/>
          <p:nvPr/>
        </p:nvGrpSpPr>
        <p:grpSpPr>
          <a:xfrm>
            <a:off x="2085120" y="1982880"/>
            <a:ext cx="5170680" cy="520560"/>
            <a:chOff x="2085120" y="1982880"/>
            <a:chExt cx="5170680" cy="520560"/>
          </a:xfrm>
        </p:grpSpPr>
        <p:sp>
          <p:nvSpPr>
            <p:cNvPr id="630" name="Rectangle 15"/>
            <p:cNvSpPr/>
            <p:nvPr/>
          </p:nvSpPr>
          <p:spPr>
            <a:xfrm>
              <a:off x="2260800" y="1982880"/>
              <a:ext cx="49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是闭集，则    紧当且仅当    相对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31" name="Object 16"/>
            <p:cNvGraphicFramePr/>
            <p:nvPr/>
          </p:nvGraphicFramePr>
          <p:xfrm>
            <a:off x="2085120" y="2104200"/>
            <a:ext cx="398160" cy="323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32" name="Object 1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85120" y="2104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3" name="Object 17"/>
            <p:cNvGraphicFramePr/>
            <p:nvPr/>
          </p:nvGraphicFramePr>
          <p:xfrm>
            <a:off x="6444360" y="2104200"/>
            <a:ext cx="398160" cy="32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4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4360" y="2104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5" name="Object 18"/>
            <p:cNvGraphicFramePr/>
            <p:nvPr/>
          </p:nvGraphicFramePr>
          <p:xfrm>
            <a:off x="4212000" y="2104200"/>
            <a:ext cx="398160" cy="323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36" name="Object 1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212000" y="2104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7" name="组合 22"/>
          <p:cNvGrpSpPr/>
          <p:nvPr/>
        </p:nvGrpSpPr>
        <p:grpSpPr>
          <a:xfrm>
            <a:off x="2411280" y="588960"/>
            <a:ext cx="3313440" cy="520560"/>
            <a:chOff x="2411280" y="588960"/>
            <a:chExt cx="3313440" cy="520560"/>
          </a:xfrm>
        </p:grpSpPr>
        <p:sp>
          <p:nvSpPr>
            <p:cNvPr id="638" name="Rectangle 15"/>
            <p:cNvSpPr/>
            <p:nvPr/>
          </p:nvSpPr>
          <p:spPr>
            <a:xfrm>
              <a:off x="2492280" y="588960"/>
              <a:ext cx="306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是度量空间，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39" name="Object 10"/>
            <p:cNvGraphicFramePr/>
            <p:nvPr/>
          </p:nvGraphicFramePr>
          <p:xfrm>
            <a:off x="4780080" y="731160"/>
            <a:ext cx="944640" cy="256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40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80080" y="731160"/>
                      <a:ext cx="944640" cy="256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41" name="Object 20"/>
            <p:cNvGraphicFramePr/>
            <p:nvPr/>
          </p:nvGraphicFramePr>
          <p:xfrm>
            <a:off x="2411280" y="735480"/>
            <a:ext cx="465120" cy="32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42" name="Object 2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411280" y="735480"/>
                      <a:ext cx="46512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3" name="组合 25"/>
          <p:cNvGrpSpPr/>
          <p:nvPr/>
        </p:nvGrpSpPr>
        <p:grpSpPr>
          <a:xfrm>
            <a:off x="2123640" y="2625840"/>
            <a:ext cx="5799960" cy="520560"/>
            <a:chOff x="2123640" y="2625840"/>
            <a:chExt cx="5799960" cy="520560"/>
          </a:xfrm>
        </p:grpSpPr>
        <p:sp>
          <p:nvSpPr>
            <p:cNvPr id="644" name="Rectangle 15"/>
            <p:cNvSpPr/>
            <p:nvPr/>
          </p:nvSpPr>
          <p:spPr>
            <a:xfrm>
              <a:off x="2409120" y="2625840"/>
              <a:ext cx="551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完备，则   相对紧当且仅当     完全有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45" name="Object 11"/>
            <p:cNvGraphicFramePr/>
            <p:nvPr/>
          </p:nvGraphicFramePr>
          <p:xfrm>
            <a:off x="3924000" y="2752200"/>
            <a:ext cx="398160" cy="323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46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24000" y="2752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7" name="Object 19"/>
            <p:cNvGraphicFramePr/>
            <p:nvPr/>
          </p:nvGraphicFramePr>
          <p:xfrm>
            <a:off x="6765480" y="2752200"/>
            <a:ext cx="398160" cy="3232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48" name="Object 19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765480" y="2752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9" name="Object 22"/>
            <p:cNvGraphicFramePr/>
            <p:nvPr/>
          </p:nvGraphicFramePr>
          <p:xfrm>
            <a:off x="2123640" y="2774520"/>
            <a:ext cx="431640" cy="300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50" name="Object 22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123640" y="2774520"/>
                      <a:ext cx="431640" cy="3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1" name="组合 26"/>
          <p:cNvGrpSpPr/>
          <p:nvPr/>
        </p:nvGrpSpPr>
        <p:grpSpPr>
          <a:xfrm>
            <a:off x="2470320" y="3344760"/>
            <a:ext cx="5569560" cy="520560"/>
            <a:chOff x="2470320" y="3344760"/>
            <a:chExt cx="5569560" cy="520560"/>
          </a:xfrm>
        </p:grpSpPr>
        <p:sp>
          <p:nvSpPr>
            <p:cNvPr id="652" name="Rectangle 15"/>
            <p:cNvSpPr/>
            <p:nvPr/>
          </p:nvSpPr>
          <p:spPr>
            <a:xfrm>
              <a:off x="2470320" y="3344760"/>
              <a:ext cx="556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4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整个空间    是紧的当且仅当    完备且完全有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53" name="Object 23"/>
            <p:cNvGraphicFramePr/>
            <p:nvPr/>
          </p:nvGraphicFramePr>
          <p:xfrm>
            <a:off x="3131640" y="3471840"/>
            <a:ext cx="464760" cy="3232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54" name="Object 23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131640" y="3471840"/>
                      <a:ext cx="4647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5" name="Object 24"/>
            <p:cNvGraphicFramePr/>
            <p:nvPr/>
          </p:nvGraphicFramePr>
          <p:xfrm>
            <a:off x="6084360" y="3494520"/>
            <a:ext cx="431640" cy="3006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56" name="Object 24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084360" y="3494520"/>
                      <a:ext cx="431640" cy="3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428760" y="58896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推论 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58" name="组合 9"/>
          <p:cNvGrpSpPr/>
          <p:nvPr/>
        </p:nvGrpSpPr>
        <p:grpSpPr>
          <a:xfrm>
            <a:off x="2571480" y="588960"/>
            <a:ext cx="4904280" cy="520560"/>
            <a:chOff x="2571480" y="588960"/>
            <a:chExt cx="4904280" cy="520560"/>
          </a:xfrm>
        </p:grpSpPr>
        <p:sp>
          <p:nvSpPr>
            <p:cNvPr id="659" name="Rectangle 15"/>
            <p:cNvSpPr/>
            <p:nvPr/>
          </p:nvSpPr>
          <p:spPr>
            <a:xfrm>
              <a:off x="2746080" y="588960"/>
              <a:ext cx="472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        ，则下列条件等价：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60" name="Object 10"/>
            <p:cNvGraphicFramePr/>
            <p:nvPr/>
          </p:nvGraphicFramePr>
          <p:xfrm>
            <a:off x="2571480" y="646200"/>
            <a:ext cx="1179360" cy="34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71480" y="646200"/>
                      <a:ext cx="1179360" cy="3412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662" name="Rectangle 15"/>
          <p:cNvSpPr/>
          <p:nvPr/>
        </p:nvSpPr>
        <p:spPr>
          <a:xfrm>
            <a:off x="2797200" y="3322800"/>
            <a:ext cx="291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特别地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限维线性赋范空间中任一有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闭集是紧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63" name="组合 14"/>
          <p:cNvGrpSpPr/>
          <p:nvPr/>
        </p:nvGrpSpPr>
        <p:grpSpPr>
          <a:xfrm>
            <a:off x="2284920" y="2625840"/>
            <a:ext cx="2448000" cy="520560"/>
            <a:chOff x="2284920" y="2625840"/>
            <a:chExt cx="2448000" cy="520560"/>
          </a:xfrm>
        </p:grpSpPr>
        <p:sp>
          <p:nvSpPr>
            <p:cNvPr id="664" name="Rectangle 15"/>
            <p:cNvSpPr/>
            <p:nvPr/>
          </p:nvSpPr>
          <p:spPr>
            <a:xfrm>
              <a:off x="2284920" y="26258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相对紧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65" name="Object 11"/>
            <p:cNvGraphicFramePr/>
            <p:nvPr/>
          </p:nvGraphicFramePr>
          <p:xfrm>
            <a:off x="2517120" y="2680200"/>
            <a:ext cx="398520" cy="323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6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7120" y="2680200"/>
                      <a:ext cx="39852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7" name="组合 13"/>
          <p:cNvGrpSpPr/>
          <p:nvPr/>
        </p:nvGrpSpPr>
        <p:grpSpPr>
          <a:xfrm>
            <a:off x="2286360" y="1874880"/>
            <a:ext cx="2661480" cy="520560"/>
            <a:chOff x="2286360" y="1874880"/>
            <a:chExt cx="2661480" cy="520560"/>
          </a:xfrm>
        </p:grpSpPr>
        <p:sp>
          <p:nvSpPr>
            <p:cNvPr id="668" name="Rectangle 15"/>
            <p:cNvSpPr/>
            <p:nvPr/>
          </p:nvSpPr>
          <p:spPr>
            <a:xfrm>
              <a:off x="2286360" y="1874880"/>
              <a:ext cx="26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完全有界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69" name="Object 12"/>
            <p:cNvGraphicFramePr/>
            <p:nvPr/>
          </p:nvGraphicFramePr>
          <p:xfrm>
            <a:off x="2445480" y="1959480"/>
            <a:ext cx="398520" cy="32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45480" y="1959480"/>
                      <a:ext cx="39852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1" name="组合 12"/>
          <p:cNvGrpSpPr/>
          <p:nvPr/>
        </p:nvGrpSpPr>
        <p:grpSpPr>
          <a:xfrm>
            <a:off x="2140200" y="1255680"/>
            <a:ext cx="2234880" cy="520560"/>
            <a:chOff x="2140200" y="1255680"/>
            <a:chExt cx="2234880" cy="520560"/>
          </a:xfrm>
        </p:grpSpPr>
        <p:sp>
          <p:nvSpPr>
            <p:cNvPr id="672" name="Rectangle 15"/>
            <p:cNvSpPr/>
            <p:nvPr/>
          </p:nvSpPr>
          <p:spPr>
            <a:xfrm>
              <a:off x="2140200" y="1255680"/>
              <a:ext cx="22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有界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73" name="Object 13"/>
            <p:cNvGraphicFramePr/>
            <p:nvPr/>
          </p:nvGraphicFramePr>
          <p:xfrm>
            <a:off x="2445120" y="1311120"/>
            <a:ext cx="398160" cy="32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4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45120" y="131112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3"/>
          <p:cNvSpPr/>
          <p:nvPr/>
        </p:nvSpPr>
        <p:spPr>
          <a:xfrm>
            <a:off x="428760" y="58896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76" name="组合 20"/>
          <p:cNvGrpSpPr/>
          <p:nvPr/>
        </p:nvGrpSpPr>
        <p:grpSpPr>
          <a:xfrm>
            <a:off x="1928880" y="588960"/>
            <a:ext cx="6522840" cy="520560"/>
            <a:chOff x="1928880" y="588960"/>
            <a:chExt cx="6522840" cy="520560"/>
          </a:xfrm>
        </p:grpSpPr>
        <p:graphicFrame>
          <p:nvGraphicFramePr>
            <p:cNvPr id="677" name="Object 10"/>
            <p:cNvGraphicFramePr/>
            <p:nvPr/>
          </p:nvGraphicFramePr>
          <p:xfrm>
            <a:off x="1928880" y="695880"/>
            <a:ext cx="232884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8880" y="695880"/>
                      <a:ext cx="2328840" cy="3636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79" name="Rectangle 15"/>
            <p:cNvSpPr/>
            <p:nvPr/>
          </p:nvSpPr>
          <p:spPr>
            <a:xfrm>
              <a:off x="4798080" y="5889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显然的，现证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80" name="Object 3"/>
            <p:cNvGraphicFramePr/>
            <p:nvPr/>
          </p:nvGraphicFramePr>
          <p:xfrm>
            <a:off x="7000920" y="642600"/>
            <a:ext cx="1450800" cy="36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00920" y="642600"/>
                      <a:ext cx="1450800" cy="3636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82" name="组合 21"/>
          <p:cNvGrpSpPr/>
          <p:nvPr/>
        </p:nvGrpSpPr>
        <p:grpSpPr>
          <a:xfrm>
            <a:off x="1249200" y="1071720"/>
            <a:ext cx="3748680" cy="520560"/>
            <a:chOff x="1249200" y="1071720"/>
            <a:chExt cx="3748680" cy="520560"/>
          </a:xfrm>
        </p:grpSpPr>
        <p:sp>
          <p:nvSpPr>
            <p:cNvPr id="683" name="Rectangle 15"/>
            <p:cNvSpPr/>
            <p:nvPr/>
          </p:nvSpPr>
          <p:spPr>
            <a:xfrm>
              <a:off x="1249200" y="1071720"/>
              <a:ext cx="370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妨设 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84" name="Object 4"/>
            <p:cNvGraphicFramePr/>
            <p:nvPr/>
          </p:nvGraphicFramePr>
          <p:xfrm>
            <a:off x="2214720" y="1109880"/>
            <a:ext cx="2783160" cy="454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5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14720" y="1109880"/>
                      <a:ext cx="2783160" cy="4543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86" name="组合 23"/>
          <p:cNvGrpSpPr/>
          <p:nvPr/>
        </p:nvGrpSpPr>
        <p:grpSpPr>
          <a:xfrm>
            <a:off x="1071720" y="2251080"/>
            <a:ext cx="2517480" cy="3080160"/>
            <a:chOff x="1071720" y="2251080"/>
            <a:chExt cx="2517480" cy="3080160"/>
          </a:xfrm>
        </p:grpSpPr>
        <p:sp>
          <p:nvSpPr>
            <p:cNvPr id="687" name="Rectangle 15"/>
            <p:cNvSpPr/>
            <p:nvPr/>
          </p:nvSpPr>
          <p:spPr>
            <a:xfrm>
              <a:off x="1071720" y="2251080"/>
              <a:ext cx="6426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88" name="Object 7"/>
            <p:cNvGraphicFramePr/>
            <p:nvPr/>
          </p:nvGraphicFramePr>
          <p:xfrm>
            <a:off x="1654200" y="2304360"/>
            <a:ext cx="1935000" cy="362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8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54200" y="2304360"/>
                      <a:ext cx="1935000" cy="3625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90" name="Object 8"/>
          <p:cNvGraphicFramePr/>
          <p:nvPr/>
        </p:nvGraphicFramePr>
        <p:xfrm>
          <a:off x="2027160" y="2716200"/>
          <a:ext cx="5415120" cy="88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7160" y="2716200"/>
                    <a:ext cx="5415120" cy="88416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pSp>
        <p:nvGrpSpPr>
          <p:cNvPr id="692" name="组合 25"/>
          <p:cNvGrpSpPr/>
          <p:nvPr/>
        </p:nvGrpSpPr>
        <p:grpSpPr>
          <a:xfrm>
            <a:off x="1214280" y="3598920"/>
            <a:ext cx="7929720" cy="1429200"/>
            <a:chOff x="1214280" y="3598920"/>
            <a:chExt cx="7929720" cy="1429200"/>
          </a:xfrm>
        </p:grpSpPr>
        <p:sp>
          <p:nvSpPr>
            <p:cNvPr id="693" name="Rectangle 15"/>
            <p:cNvSpPr/>
            <p:nvPr/>
          </p:nvSpPr>
          <p:spPr>
            <a:xfrm>
              <a:off x="1214280" y="35989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首先       是有界数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94" name="Object 9"/>
            <p:cNvGraphicFramePr/>
            <p:nvPr/>
          </p:nvGraphicFramePr>
          <p:xfrm>
            <a:off x="2071440" y="3637080"/>
            <a:ext cx="660240" cy="44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95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71440" y="3637080"/>
                      <a:ext cx="660240" cy="4474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96" name="Rectangle 15"/>
            <p:cNvSpPr/>
            <p:nvPr/>
          </p:nvSpPr>
          <p:spPr>
            <a:xfrm>
              <a:off x="4714920" y="3598920"/>
              <a:ext cx="442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根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Bolzano-Weierstrass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7" name="Rectangle 15"/>
            <p:cNvSpPr/>
            <p:nvPr/>
          </p:nvSpPr>
          <p:spPr>
            <a:xfrm>
              <a:off x="1356840" y="4080600"/>
              <a:ext cx="3571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定理有子数列收敛，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8" name="Rectangle 15"/>
            <p:cNvSpPr/>
            <p:nvPr/>
          </p:nvSpPr>
          <p:spPr>
            <a:xfrm>
              <a:off x="5072040" y="4080960"/>
              <a:ext cx="3571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不妨设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699" name="Object 10"/>
            <p:cNvGraphicFramePr/>
            <p:nvPr/>
          </p:nvGraphicFramePr>
          <p:xfrm>
            <a:off x="6357960" y="4129560"/>
            <a:ext cx="1253880" cy="386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00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57960" y="4129560"/>
                      <a:ext cx="1253880" cy="3866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701" name="组合 25"/>
          <p:cNvGrpSpPr/>
          <p:nvPr/>
        </p:nvGrpSpPr>
        <p:grpSpPr>
          <a:xfrm>
            <a:off x="1428840" y="1600200"/>
            <a:ext cx="6487920" cy="537120"/>
            <a:chOff x="1428840" y="1600200"/>
            <a:chExt cx="6487920" cy="537120"/>
          </a:xfrm>
        </p:grpSpPr>
        <p:sp>
          <p:nvSpPr>
            <p:cNvPr id="702" name="Rectangle 15"/>
            <p:cNvSpPr/>
            <p:nvPr/>
          </p:nvSpPr>
          <p:spPr>
            <a:xfrm>
              <a:off x="1791000" y="1616760"/>
              <a:ext cx="612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是   中的无穷序列，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03" name="Object 5"/>
            <p:cNvGraphicFramePr/>
            <p:nvPr/>
          </p:nvGraphicFramePr>
          <p:xfrm>
            <a:off x="1428840" y="1607040"/>
            <a:ext cx="660600" cy="447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04" name="Object 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428840" y="1607040"/>
                      <a:ext cx="660600" cy="4474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705" name="Object 6"/>
            <p:cNvGraphicFramePr/>
            <p:nvPr/>
          </p:nvGraphicFramePr>
          <p:xfrm>
            <a:off x="5286600" y="1607040"/>
            <a:ext cx="2274840" cy="482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06" name="Object 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286600" y="1607040"/>
                      <a:ext cx="2274840" cy="48204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707" name="Object 26"/>
            <p:cNvGraphicFramePr/>
            <p:nvPr/>
          </p:nvGraphicFramePr>
          <p:xfrm>
            <a:off x="2484360" y="1600200"/>
            <a:ext cx="398160" cy="3236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08" name="Object 2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484360" y="160020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5"/>
          <p:cNvSpPr/>
          <p:nvPr/>
        </p:nvSpPr>
        <p:spPr>
          <a:xfrm>
            <a:off x="2007720" y="107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确界原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5939280" y="1125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单调有界定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1723320" y="1982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区间套定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865120" y="1982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聚点定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1581840" y="289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柯西收敛准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5796360" y="289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有限覆盖定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组合 25" descr=""/>
          <p:cNvPicPr/>
          <p:nvPr/>
        </p:nvPicPr>
        <p:blipFill>
          <a:blip r:embed="rId1"/>
          <a:stretch/>
        </p:blipFill>
        <p:spPr>
          <a:xfrm>
            <a:off x="2255760" y="1298520"/>
            <a:ext cx="4310280" cy="21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组合 19"/>
          <p:cNvGrpSpPr/>
          <p:nvPr/>
        </p:nvGrpSpPr>
        <p:grpSpPr>
          <a:xfrm>
            <a:off x="1071720" y="534960"/>
            <a:ext cx="4714560" cy="947160"/>
            <a:chOff x="1071720" y="534960"/>
            <a:chExt cx="4714560" cy="947160"/>
          </a:xfrm>
        </p:grpSpPr>
        <p:sp>
          <p:nvSpPr>
            <p:cNvPr id="710" name="Rectangle 15"/>
            <p:cNvSpPr/>
            <p:nvPr/>
          </p:nvSpPr>
          <p:spPr>
            <a:xfrm>
              <a:off x="1071720" y="534960"/>
              <a:ext cx="4714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此时        仍为有界数列，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11" name="Object 2"/>
            <p:cNvGraphicFramePr/>
            <p:nvPr/>
          </p:nvGraphicFramePr>
          <p:xfrm>
            <a:off x="1928880" y="534960"/>
            <a:ext cx="660240" cy="44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8880" y="534960"/>
                      <a:ext cx="660240" cy="44820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713" name="组合 20"/>
          <p:cNvGrpSpPr/>
          <p:nvPr/>
        </p:nvGrpSpPr>
        <p:grpSpPr>
          <a:xfrm>
            <a:off x="1143000" y="1068480"/>
            <a:ext cx="6559560" cy="950040"/>
            <a:chOff x="1143000" y="1068480"/>
            <a:chExt cx="6559560" cy="950040"/>
          </a:xfrm>
        </p:grpSpPr>
        <p:sp>
          <p:nvSpPr>
            <p:cNvPr id="714" name="Rectangle 15"/>
            <p:cNvSpPr/>
            <p:nvPr/>
          </p:nvSpPr>
          <p:spPr>
            <a:xfrm>
              <a:off x="1143000" y="1071360"/>
              <a:ext cx="471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有       的子序列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15" name="Object 3"/>
            <p:cNvGraphicFramePr/>
            <p:nvPr/>
          </p:nvGraphicFramePr>
          <p:xfrm>
            <a:off x="2533680" y="1094400"/>
            <a:ext cx="395280" cy="46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6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3680" y="1094400"/>
                      <a:ext cx="3952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7" name="Object 4"/>
            <p:cNvGraphicFramePr/>
            <p:nvPr/>
          </p:nvGraphicFramePr>
          <p:xfrm>
            <a:off x="4487760" y="1094400"/>
            <a:ext cx="422280" cy="46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87760" y="1094400"/>
                      <a:ext cx="4222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9" name="Object 5"/>
            <p:cNvGraphicFramePr/>
            <p:nvPr/>
          </p:nvGraphicFramePr>
          <p:xfrm>
            <a:off x="5500800" y="1068480"/>
            <a:ext cx="2201760" cy="496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20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00800" y="1068480"/>
                      <a:ext cx="2201760" cy="49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1" name="组合 21"/>
          <p:cNvGrpSpPr/>
          <p:nvPr/>
        </p:nvGrpSpPr>
        <p:grpSpPr>
          <a:xfrm>
            <a:off x="1214280" y="1644480"/>
            <a:ext cx="4714920" cy="536760"/>
            <a:chOff x="1214280" y="1644480"/>
            <a:chExt cx="4714920" cy="536760"/>
          </a:xfrm>
        </p:grpSpPr>
        <p:sp>
          <p:nvSpPr>
            <p:cNvPr id="722" name="Rectangle 15"/>
            <p:cNvSpPr/>
            <p:nvPr/>
          </p:nvSpPr>
          <p:spPr>
            <a:xfrm>
              <a:off x="1214280" y="1660680"/>
              <a:ext cx="471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最后有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23" name="Object 6"/>
            <p:cNvGraphicFramePr/>
            <p:nvPr/>
          </p:nvGraphicFramePr>
          <p:xfrm>
            <a:off x="2500200" y="1660680"/>
            <a:ext cx="422280" cy="469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24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00200" y="1660680"/>
                      <a:ext cx="422280" cy="4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5" name="Object 7"/>
            <p:cNvGraphicFramePr/>
            <p:nvPr/>
          </p:nvGraphicFramePr>
          <p:xfrm>
            <a:off x="3511440" y="1644480"/>
            <a:ext cx="1751040" cy="495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26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511440" y="1644480"/>
                      <a:ext cx="1751040" cy="4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7" name="组合 22"/>
          <p:cNvGrpSpPr/>
          <p:nvPr/>
        </p:nvGrpSpPr>
        <p:grpSpPr>
          <a:xfrm>
            <a:off x="1000080" y="2286000"/>
            <a:ext cx="3409920" cy="573120"/>
            <a:chOff x="1000080" y="2286000"/>
            <a:chExt cx="3409920" cy="573120"/>
          </a:xfrm>
        </p:grpSpPr>
        <p:sp>
          <p:nvSpPr>
            <p:cNvPr id="728" name="Rectangle 15"/>
            <p:cNvSpPr/>
            <p:nvPr/>
          </p:nvSpPr>
          <p:spPr>
            <a:xfrm>
              <a:off x="1000080" y="230364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29" name="Object 8"/>
            <p:cNvGraphicFramePr/>
            <p:nvPr/>
          </p:nvGraphicFramePr>
          <p:xfrm>
            <a:off x="1643040" y="2286000"/>
            <a:ext cx="2766960" cy="573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30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643040" y="2286000"/>
                      <a:ext cx="276696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1" name="组合 23"/>
          <p:cNvGrpSpPr/>
          <p:nvPr/>
        </p:nvGrpSpPr>
        <p:grpSpPr>
          <a:xfrm>
            <a:off x="4572000" y="2357280"/>
            <a:ext cx="4071960" cy="520560"/>
            <a:chOff x="4572000" y="2357280"/>
            <a:chExt cx="4071960" cy="520560"/>
          </a:xfrm>
        </p:grpSpPr>
        <p:sp>
          <p:nvSpPr>
            <p:cNvPr id="732" name="Rectangle 15"/>
            <p:cNvSpPr/>
            <p:nvPr/>
          </p:nvSpPr>
          <p:spPr>
            <a:xfrm>
              <a:off x="4572000" y="2357280"/>
              <a:ext cx="40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取       的子序列       ，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33" name="Object 9"/>
            <p:cNvGraphicFramePr/>
            <p:nvPr/>
          </p:nvGraphicFramePr>
          <p:xfrm>
            <a:off x="5181480" y="2461320"/>
            <a:ext cx="439560" cy="326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34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181480" y="2461320"/>
                      <a:ext cx="439560" cy="3268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735" name="Object 10"/>
            <p:cNvGraphicFramePr/>
            <p:nvPr/>
          </p:nvGraphicFramePr>
          <p:xfrm>
            <a:off x="7286760" y="2461320"/>
            <a:ext cx="527040" cy="326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36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286760" y="2461320"/>
                      <a:ext cx="527040" cy="3268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37" name="Object 11"/>
          <p:cNvGraphicFramePr/>
          <p:nvPr/>
        </p:nvGraphicFramePr>
        <p:xfrm>
          <a:off x="1359000" y="2921040"/>
          <a:ext cx="6580080" cy="963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3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59000" y="2921040"/>
                    <a:ext cx="65800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9" name="组合 24"/>
          <p:cNvGrpSpPr/>
          <p:nvPr/>
        </p:nvGrpSpPr>
        <p:grpSpPr>
          <a:xfrm>
            <a:off x="1428840" y="3857760"/>
            <a:ext cx="2887560" cy="520560"/>
            <a:chOff x="1428840" y="3857760"/>
            <a:chExt cx="2887560" cy="520560"/>
          </a:xfrm>
        </p:grpSpPr>
        <p:sp>
          <p:nvSpPr>
            <p:cNvPr id="740" name="Rectangle 15"/>
            <p:cNvSpPr/>
            <p:nvPr/>
          </p:nvSpPr>
          <p:spPr>
            <a:xfrm>
              <a:off x="1428840" y="385776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41" name="Object 12"/>
            <p:cNvGraphicFramePr/>
            <p:nvPr/>
          </p:nvGraphicFramePr>
          <p:xfrm>
            <a:off x="2000160" y="3883320"/>
            <a:ext cx="2316240" cy="4172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42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000160" y="3883320"/>
                      <a:ext cx="231624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43" name="组合 26"/>
          <p:cNvGrpSpPr/>
          <p:nvPr/>
        </p:nvGrpSpPr>
        <p:grpSpPr>
          <a:xfrm>
            <a:off x="4859280" y="3857760"/>
            <a:ext cx="3213000" cy="520560"/>
            <a:chOff x="4859280" y="3857760"/>
            <a:chExt cx="3213000" cy="520560"/>
          </a:xfrm>
        </p:grpSpPr>
        <p:sp>
          <p:nvSpPr>
            <p:cNvPr id="744" name="Rectangle 15"/>
            <p:cNvSpPr/>
            <p:nvPr/>
          </p:nvSpPr>
          <p:spPr>
            <a:xfrm>
              <a:off x="4929120" y="3857760"/>
              <a:ext cx="314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相对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45" name="Object 27"/>
            <p:cNvGraphicFramePr/>
            <p:nvPr/>
          </p:nvGraphicFramePr>
          <p:xfrm>
            <a:off x="4859280" y="3976200"/>
            <a:ext cx="398160" cy="324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46" name="Object 27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59280" y="397620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3"/>
          <p:cNvSpPr/>
          <p:nvPr/>
        </p:nvSpPr>
        <p:spPr>
          <a:xfrm>
            <a:off x="428760" y="58896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748" name="Object 9"/>
          <p:cNvGraphicFramePr/>
          <p:nvPr/>
        </p:nvGraphicFramePr>
        <p:xfrm>
          <a:off x="3308400" y="2717640"/>
          <a:ext cx="2322360" cy="3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8400" y="2717640"/>
                    <a:ext cx="23223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0" name="组合 21"/>
          <p:cNvGrpSpPr/>
          <p:nvPr/>
        </p:nvGrpSpPr>
        <p:grpSpPr>
          <a:xfrm>
            <a:off x="2499840" y="627120"/>
            <a:ext cx="4658760" cy="520560"/>
            <a:chOff x="2499840" y="627120"/>
            <a:chExt cx="4658760" cy="520560"/>
          </a:xfrm>
        </p:grpSpPr>
        <p:sp>
          <p:nvSpPr>
            <p:cNvPr id="751" name="Rectangle 15"/>
            <p:cNvSpPr/>
            <p:nvPr/>
          </p:nvSpPr>
          <p:spPr>
            <a:xfrm>
              <a:off x="2866320" y="627120"/>
              <a:ext cx="42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，  是度量空间，          为紧集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52" name="Object 12"/>
            <p:cNvGraphicFramePr/>
            <p:nvPr/>
          </p:nvGraphicFramePr>
          <p:xfrm>
            <a:off x="5500440" y="720720"/>
            <a:ext cx="1017360" cy="339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3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0440" y="720720"/>
                      <a:ext cx="101736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4" name="Object 19"/>
            <p:cNvGraphicFramePr/>
            <p:nvPr/>
          </p:nvGraphicFramePr>
          <p:xfrm>
            <a:off x="2499840" y="735480"/>
            <a:ext cx="465120" cy="32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5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99840" y="735480"/>
                      <a:ext cx="46512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6" name="Object 20"/>
            <p:cNvGraphicFramePr/>
            <p:nvPr/>
          </p:nvGraphicFramePr>
          <p:xfrm>
            <a:off x="3142800" y="735480"/>
            <a:ext cx="366480" cy="32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7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42800" y="735480"/>
                      <a:ext cx="36648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8" name="组合 22"/>
          <p:cNvGrpSpPr/>
          <p:nvPr/>
        </p:nvGrpSpPr>
        <p:grpSpPr>
          <a:xfrm>
            <a:off x="2000160" y="1179360"/>
            <a:ext cx="6041160" cy="520560"/>
            <a:chOff x="2000160" y="1179360"/>
            <a:chExt cx="6041160" cy="520560"/>
          </a:xfrm>
        </p:grpSpPr>
        <p:sp>
          <p:nvSpPr>
            <p:cNvPr id="759" name="Rectangle 15"/>
            <p:cNvSpPr/>
            <p:nvPr/>
          </p:nvSpPr>
          <p:spPr>
            <a:xfrm>
              <a:off x="2058120" y="1179360"/>
              <a:ext cx="598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是    上的连续映设，则       是紧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60" name="Object 5"/>
            <p:cNvGraphicFramePr/>
            <p:nvPr/>
          </p:nvGraphicFramePr>
          <p:xfrm>
            <a:off x="2000160" y="1314000"/>
            <a:ext cx="1324800" cy="321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1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00160" y="1314000"/>
                      <a:ext cx="1324800" cy="32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21"/>
            <p:cNvGraphicFramePr/>
            <p:nvPr/>
          </p:nvGraphicFramePr>
          <p:xfrm>
            <a:off x="3714840" y="1295640"/>
            <a:ext cx="384480" cy="26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63" name="Object 2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14840" y="1295640"/>
                      <a:ext cx="38448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4" name="Object 17"/>
            <p:cNvGraphicFramePr/>
            <p:nvPr/>
          </p:nvGraphicFramePr>
          <p:xfrm>
            <a:off x="6858360" y="1298520"/>
            <a:ext cx="785520" cy="336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65" name="Object 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858360" y="1298520"/>
                      <a:ext cx="785520" cy="33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6" name="组合 27"/>
          <p:cNvGrpSpPr/>
          <p:nvPr/>
        </p:nvGrpSpPr>
        <p:grpSpPr>
          <a:xfrm>
            <a:off x="1706400" y="1768320"/>
            <a:ext cx="6670800" cy="947160"/>
            <a:chOff x="1706400" y="1768320"/>
            <a:chExt cx="6670800" cy="947160"/>
          </a:xfrm>
        </p:grpSpPr>
        <p:sp>
          <p:nvSpPr>
            <p:cNvPr id="767" name="Rectangle 15"/>
            <p:cNvSpPr/>
            <p:nvPr/>
          </p:nvSpPr>
          <p:spPr>
            <a:xfrm>
              <a:off x="2249280" y="1768320"/>
              <a:ext cx="504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在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连续，则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一致连续，即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任何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只要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68" name="Object 6"/>
            <p:cNvGraphicFramePr/>
            <p:nvPr/>
          </p:nvGraphicFramePr>
          <p:xfrm>
            <a:off x="1706400" y="2285640"/>
            <a:ext cx="1930320" cy="358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69" name="Object 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706400" y="2285640"/>
                      <a:ext cx="193032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0" name="Object 7"/>
            <p:cNvGraphicFramePr/>
            <p:nvPr/>
          </p:nvGraphicFramePr>
          <p:xfrm>
            <a:off x="4790880" y="2285640"/>
            <a:ext cx="1100160" cy="358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71" name="Object 7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90880" y="2285640"/>
                      <a:ext cx="110016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2" name="Object 8"/>
            <p:cNvGraphicFramePr/>
            <p:nvPr/>
          </p:nvGraphicFramePr>
          <p:xfrm>
            <a:off x="6886800" y="2213640"/>
            <a:ext cx="1490400" cy="358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73" name="Object 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886800" y="2213640"/>
                      <a:ext cx="14904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4" name="Object 22"/>
            <p:cNvGraphicFramePr/>
            <p:nvPr/>
          </p:nvGraphicFramePr>
          <p:xfrm>
            <a:off x="2671560" y="1872000"/>
            <a:ext cx="384480" cy="26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75" name="Object 2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71560" y="1872000"/>
                      <a:ext cx="38448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6" name="Object 23"/>
            <p:cNvGraphicFramePr/>
            <p:nvPr/>
          </p:nvGraphicFramePr>
          <p:xfrm>
            <a:off x="2070000" y="1872000"/>
            <a:ext cx="301320" cy="26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7" name="Object 2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070000" y="1872000"/>
                      <a:ext cx="3013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8" name="Object 24"/>
            <p:cNvGraphicFramePr/>
            <p:nvPr/>
          </p:nvGraphicFramePr>
          <p:xfrm>
            <a:off x="4743360" y="1872000"/>
            <a:ext cx="301320" cy="2678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79" name="Object 2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743360" y="1872000"/>
                      <a:ext cx="3013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0" name="Object 25"/>
            <p:cNvGraphicFramePr/>
            <p:nvPr/>
          </p:nvGraphicFramePr>
          <p:xfrm>
            <a:off x="5302080" y="1872000"/>
            <a:ext cx="328320" cy="2678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81" name="Object 2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302080" y="1872000"/>
                      <a:ext cx="3283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2" name="组合 32"/>
          <p:cNvGrpSpPr/>
          <p:nvPr/>
        </p:nvGrpSpPr>
        <p:grpSpPr>
          <a:xfrm>
            <a:off x="1955520" y="3160800"/>
            <a:ext cx="6045480" cy="947160"/>
            <a:chOff x="1955520" y="3160800"/>
            <a:chExt cx="6045480" cy="947160"/>
          </a:xfrm>
        </p:grpSpPr>
        <p:sp>
          <p:nvSpPr>
            <p:cNvPr id="783" name="Rectangle 15"/>
            <p:cNvSpPr/>
            <p:nvPr/>
          </p:nvSpPr>
          <p:spPr>
            <a:xfrm>
              <a:off x="2298600" y="3160800"/>
              <a:ext cx="363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的实值连续函数，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并且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可以达到上、下确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84" name="Object 10"/>
            <p:cNvGraphicFramePr/>
            <p:nvPr/>
          </p:nvGraphicFramePr>
          <p:xfrm>
            <a:off x="6429600" y="3223800"/>
            <a:ext cx="1571400" cy="49932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785" name="Object 1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429600" y="3223800"/>
                      <a:ext cx="1571400" cy="49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6" name="Object 26"/>
            <p:cNvGraphicFramePr/>
            <p:nvPr/>
          </p:nvGraphicFramePr>
          <p:xfrm>
            <a:off x="2530800" y="3311640"/>
            <a:ext cx="384480" cy="26784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787" name="Object 26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530800" y="3311640"/>
                      <a:ext cx="38448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8" name="Object 27"/>
            <p:cNvGraphicFramePr/>
            <p:nvPr/>
          </p:nvGraphicFramePr>
          <p:xfrm>
            <a:off x="1955520" y="3249720"/>
            <a:ext cx="330120" cy="3297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789" name="Object 27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1955520" y="3249720"/>
                      <a:ext cx="330120" cy="32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0" name="Object 28"/>
            <p:cNvGraphicFramePr/>
            <p:nvPr/>
          </p:nvGraphicFramePr>
          <p:xfrm>
            <a:off x="2357280" y="3681720"/>
            <a:ext cx="330120" cy="3297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791" name="Object 28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2357280" y="3681720"/>
                      <a:ext cx="330120" cy="32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2" name="Object 29"/>
            <p:cNvGraphicFramePr/>
            <p:nvPr/>
          </p:nvGraphicFramePr>
          <p:xfrm>
            <a:off x="3000240" y="3671640"/>
            <a:ext cx="328320" cy="26784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793" name="Object 29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000240" y="3671640"/>
                      <a:ext cx="3283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3"/>
          <p:cNvSpPr/>
          <p:nvPr/>
        </p:nvSpPr>
        <p:spPr>
          <a:xfrm>
            <a:off x="428760" y="58896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95" name="组合 23"/>
          <p:cNvGrpSpPr/>
          <p:nvPr/>
        </p:nvGrpSpPr>
        <p:grpSpPr>
          <a:xfrm>
            <a:off x="2081880" y="642960"/>
            <a:ext cx="6092280" cy="520560"/>
            <a:chOff x="2081880" y="642960"/>
            <a:chExt cx="6092280" cy="520560"/>
          </a:xfrm>
        </p:grpSpPr>
        <p:sp>
          <p:nvSpPr>
            <p:cNvPr id="796" name="Rectangle 15"/>
            <p:cNvSpPr/>
            <p:nvPr/>
          </p:nvSpPr>
          <p:spPr>
            <a:xfrm>
              <a:off x="2081880" y="642960"/>
              <a:ext cx="28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不妨设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797" name="Object 2"/>
            <p:cNvGraphicFramePr/>
            <p:nvPr/>
          </p:nvGraphicFramePr>
          <p:xfrm>
            <a:off x="2500200" y="729000"/>
            <a:ext cx="1247760" cy="40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0200" y="729000"/>
                      <a:ext cx="1247760" cy="40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9" name="Object 3"/>
            <p:cNvGraphicFramePr/>
            <p:nvPr/>
          </p:nvGraphicFramePr>
          <p:xfrm>
            <a:off x="5286600" y="704160"/>
            <a:ext cx="2887560" cy="42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86600" y="704160"/>
                      <a:ext cx="2887560" cy="4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1" name="组合 25"/>
          <p:cNvGrpSpPr/>
          <p:nvPr/>
        </p:nvGrpSpPr>
        <p:grpSpPr>
          <a:xfrm>
            <a:off x="6575400" y="1231920"/>
            <a:ext cx="1724040" cy="520560"/>
            <a:chOff x="6575400" y="1231920"/>
            <a:chExt cx="1724040" cy="520560"/>
          </a:xfrm>
        </p:grpSpPr>
        <p:sp>
          <p:nvSpPr>
            <p:cNvPr id="802" name="Rectangle 15"/>
            <p:cNvSpPr/>
            <p:nvPr/>
          </p:nvSpPr>
          <p:spPr>
            <a:xfrm>
              <a:off x="6575400" y="1231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03" name="Object 5"/>
            <p:cNvGraphicFramePr/>
            <p:nvPr/>
          </p:nvGraphicFramePr>
          <p:xfrm>
            <a:off x="6929280" y="1279800"/>
            <a:ext cx="1370160" cy="42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29280" y="1279800"/>
                      <a:ext cx="1370160" cy="42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5" name="组合 27"/>
          <p:cNvGrpSpPr/>
          <p:nvPr/>
        </p:nvGrpSpPr>
        <p:grpSpPr>
          <a:xfrm>
            <a:off x="1971000" y="2571840"/>
            <a:ext cx="6634800" cy="520560"/>
            <a:chOff x="1971000" y="2571840"/>
            <a:chExt cx="6634800" cy="520560"/>
          </a:xfrm>
        </p:grpSpPr>
        <p:sp>
          <p:nvSpPr>
            <p:cNvPr id="806" name="Rectangle 15"/>
            <p:cNvSpPr/>
            <p:nvPr/>
          </p:nvSpPr>
          <p:spPr>
            <a:xfrm>
              <a:off x="1971000" y="2571840"/>
              <a:ext cx="207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不然，则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07" name="Object 7"/>
            <p:cNvGraphicFramePr/>
            <p:nvPr/>
          </p:nvGraphicFramePr>
          <p:xfrm>
            <a:off x="4475160" y="2600280"/>
            <a:ext cx="4130640" cy="404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75160" y="2600280"/>
                      <a:ext cx="4130640" cy="40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9" name="组合 28"/>
          <p:cNvGrpSpPr/>
          <p:nvPr/>
        </p:nvGrpSpPr>
        <p:grpSpPr>
          <a:xfrm>
            <a:off x="1146240" y="3054240"/>
            <a:ext cx="2968560" cy="520560"/>
            <a:chOff x="1146240" y="3054240"/>
            <a:chExt cx="2968560" cy="520560"/>
          </a:xfrm>
        </p:grpSpPr>
        <p:sp>
          <p:nvSpPr>
            <p:cNvPr id="810" name="Rectangle 15"/>
            <p:cNvSpPr/>
            <p:nvPr/>
          </p:nvSpPr>
          <p:spPr>
            <a:xfrm>
              <a:off x="1146240" y="3054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11" name="Object 9"/>
            <p:cNvGraphicFramePr/>
            <p:nvPr/>
          </p:nvGraphicFramePr>
          <p:xfrm>
            <a:off x="1523880" y="3104280"/>
            <a:ext cx="2590920" cy="403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1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23880" y="3104280"/>
                      <a:ext cx="259092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3" name="组合 35"/>
          <p:cNvGrpSpPr/>
          <p:nvPr/>
        </p:nvGrpSpPr>
        <p:grpSpPr>
          <a:xfrm>
            <a:off x="1143000" y="1982880"/>
            <a:ext cx="5896080" cy="520560"/>
            <a:chOff x="1143000" y="1982880"/>
            <a:chExt cx="5896080" cy="520560"/>
          </a:xfrm>
        </p:grpSpPr>
        <p:sp>
          <p:nvSpPr>
            <p:cNvPr id="814" name="Rectangle 15"/>
            <p:cNvSpPr/>
            <p:nvPr/>
          </p:nvSpPr>
          <p:spPr>
            <a:xfrm>
              <a:off x="1332000" y="1982880"/>
              <a:ext cx="13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连续，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15" name="Object 6"/>
            <p:cNvGraphicFramePr/>
            <p:nvPr/>
          </p:nvGraphicFramePr>
          <p:xfrm>
            <a:off x="3000600" y="2075040"/>
            <a:ext cx="4038480" cy="424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16" name="Object 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00600" y="2075040"/>
                      <a:ext cx="4038480" cy="42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Object 30"/>
            <p:cNvGraphicFramePr/>
            <p:nvPr/>
          </p:nvGraphicFramePr>
          <p:xfrm>
            <a:off x="1143000" y="2160000"/>
            <a:ext cx="301320" cy="267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18" name="Object 3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43000" y="2160000"/>
                      <a:ext cx="301320" cy="26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9" name="组合 36"/>
          <p:cNvGrpSpPr/>
          <p:nvPr/>
        </p:nvGrpSpPr>
        <p:grpSpPr>
          <a:xfrm>
            <a:off x="7158960" y="1982880"/>
            <a:ext cx="1407600" cy="520560"/>
            <a:chOff x="7158960" y="1982880"/>
            <a:chExt cx="1407600" cy="520560"/>
          </a:xfrm>
        </p:grpSpPr>
        <p:sp>
          <p:nvSpPr>
            <p:cNvPr id="820" name="Rectangle 15"/>
            <p:cNvSpPr/>
            <p:nvPr/>
          </p:nvSpPr>
          <p:spPr>
            <a:xfrm>
              <a:off x="7158960" y="1982880"/>
              <a:ext cx="140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21" name="Object 31"/>
            <p:cNvGraphicFramePr/>
            <p:nvPr/>
          </p:nvGraphicFramePr>
          <p:xfrm>
            <a:off x="7286760" y="2097720"/>
            <a:ext cx="766800" cy="329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22" name="Object 3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286760" y="2097720"/>
                      <a:ext cx="766800" cy="32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3" name="组合 34"/>
          <p:cNvGrpSpPr/>
          <p:nvPr/>
        </p:nvGrpSpPr>
        <p:grpSpPr>
          <a:xfrm>
            <a:off x="1071360" y="1243080"/>
            <a:ext cx="5278680" cy="563760"/>
            <a:chOff x="1071360" y="1243080"/>
            <a:chExt cx="5278680" cy="563760"/>
          </a:xfrm>
        </p:grpSpPr>
        <p:sp>
          <p:nvSpPr>
            <p:cNvPr id="824" name="Rectangle 15"/>
            <p:cNvSpPr/>
            <p:nvPr/>
          </p:nvSpPr>
          <p:spPr>
            <a:xfrm>
              <a:off x="1482120" y="1286280"/>
              <a:ext cx="213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紧集，故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25" name="Object 4"/>
            <p:cNvGraphicFramePr/>
            <p:nvPr/>
          </p:nvGraphicFramePr>
          <p:xfrm>
            <a:off x="4000680" y="1243080"/>
            <a:ext cx="2349360" cy="5374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26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00680" y="1243080"/>
                      <a:ext cx="2349360" cy="53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7" name="Object 32"/>
            <p:cNvGraphicFramePr/>
            <p:nvPr/>
          </p:nvGraphicFramePr>
          <p:xfrm>
            <a:off x="1071360" y="1386720"/>
            <a:ext cx="394200" cy="321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28" name="Object 3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071360" y="1386720"/>
                      <a:ext cx="394200" cy="32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9" name="组合 37"/>
          <p:cNvGrpSpPr/>
          <p:nvPr/>
        </p:nvGrpSpPr>
        <p:grpSpPr>
          <a:xfrm>
            <a:off x="4214520" y="3043080"/>
            <a:ext cx="4518360" cy="536760"/>
            <a:chOff x="4214520" y="3043080"/>
            <a:chExt cx="4518360" cy="536760"/>
          </a:xfrm>
        </p:grpSpPr>
        <p:sp>
          <p:nvSpPr>
            <p:cNvPr id="830" name="Rectangle 15"/>
            <p:cNvSpPr/>
            <p:nvPr/>
          </p:nvSpPr>
          <p:spPr>
            <a:xfrm>
              <a:off x="4479840" y="3053880"/>
              <a:ext cx="17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紧，故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31" name="Object 10"/>
            <p:cNvGraphicFramePr/>
            <p:nvPr/>
          </p:nvGraphicFramePr>
          <p:xfrm>
            <a:off x="6334200" y="3043080"/>
            <a:ext cx="2398680" cy="536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832" name="Object 10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34200" y="3043080"/>
                      <a:ext cx="2398680" cy="53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3" name="Object 33"/>
            <p:cNvGraphicFramePr/>
            <p:nvPr/>
          </p:nvGraphicFramePr>
          <p:xfrm>
            <a:off x="4214520" y="3086280"/>
            <a:ext cx="428400" cy="3492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834" name="Object 3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214520" y="3086280"/>
                      <a:ext cx="42840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35" name="组合 38"/>
          <p:cNvGrpSpPr/>
          <p:nvPr/>
        </p:nvGrpSpPr>
        <p:grpSpPr>
          <a:xfrm>
            <a:off x="1806480" y="3589200"/>
            <a:ext cx="4332240" cy="567000"/>
            <a:chOff x="1806480" y="3589200"/>
            <a:chExt cx="4332240" cy="567000"/>
          </a:xfrm>
        </p:grpSpPr>
        <p:sp>
          <p:nvSpPr>
            <p:cNvPr id="836" name="Rectangle 15"/>
            <p:cNvSpPr/>
            <p:nvPr/>
          </p:nvSpPr>
          <p:spPr>
            <a:xfrm>
              <a:off x="1806480" y="3589200"/>
              <a:ext cx="43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从而               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      的连续性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37" name="Object 11"/>
            <p:cNvGraphicFramePr/>
            <p:nvPr/>
          </p:nvGraphicFramePr>
          <p:xfrm>
            <a:off x="2072160" y="3658320"/>
            <a:ext cx="1175040" cy="425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838" name="Object 1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072160" y="3658320"/>
                      <a:ext cx="1175040" cy="42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9" name="Object 12"/>
            <p:cNvGraphicFramePr/>
            <p:nvPr/>
          </p:nvGraphicFramePr>
          <p:xfrm>
            <a:off x="4358880" y="3614760"/>
            <a:ext cx="428760" cy="5414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40" name="Object 12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358880" y="3614760"/>
                      <a:ext cx="42876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1" name="Object 34"/>
            <p:cNvGraphicFramePr/>
            <p:nvPr/>
          </p:nvGraphicFramePr>
          <p:xfrm>
            <a:off x="3643920" y="3694320"/>
            <a:ext cx="357120" cy="3178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42" name="Object 34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643920" y="3694320"/>
                      <a:ext cx="357120" cy="31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3" name="Object 2"/>
          <p:cNvGraphicFramePr/>
          <p:nvPr/>
        </p:nvGraphicFramePr>
        <p:xfrm>
          <a:off x="1808280" y="588960"/>
          <a:ext cx="5016240" cy="4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8280" y="588960"/>
                    <a:ext cx="50162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3"/>
          <p:cNvGraphicFramePr/>
          <p:nvPr/>
        </p:nvGraphicFramePr>
        <p:xfrm>
          <a:off x="857160" y="1179360"/>
          <a:ext cx="8075880" cy="4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1179360"/>
                    <a:ext cx="80758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7" name="组合 16"/>
          <p:cNvGrpSpPr/>
          <p:nvPr/>
        </p:nvGrpSpPr>
        <p:grpSpPr>
          <a:xfrm>
            <a:off x="1343880" y="1874880"/>
            <a:ext cx="3914280" cy="520560"/>
            <a:chOff x="1343880" y="1874880"/>
            <a:chExt cx="3914280" cy="520560"/>
          </a:xfrm>
        </p:grpSpPr>
        <p:sp>
          <p:nvSpPr>
            <p:cNvPr id="848" name="Rectangle 15"/>
            <p:cNvSpPr/>
            <p:nvPr/>
          </p:nvSpPr>
          <p:spPr>
            <a:xfrm>
              <a:off x="1343880" y="1874880"/>
              <a:ext cx="391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这与                             矛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49" name="Object 4"/>
            <p:cNvGraphicFramePr/>
            <p:nvPr/>
          </p:nvGraphicFramePr>
          <p:xfrm>
            <a:off x="1987200" y="1930320"/>
            <a:ext cx="2665440" cy="42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0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87200" y="1930320"/>
                      <a:ext cx="266544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51" name="Object 5"/>
          <p:cNvGraphicFramePr/>
          <p:nvPr/>
        </p:nvGraphicFramePr>
        <p:xfrm>
          <a:off x="1285920" y="3294000"/>
          <a:ext cx="161460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85920" y="3294000"/>
                    <a:ext cx="16146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3" name="组合 17"/>
          <p:cNvGrpSpPr/>
          <p:nvPr/>
        </p:nvGrpSpPr>
        <p:grpSpPr>
          <a:xfrm>
            <a:off x="3220560" y="3200400"/>
            <a:ext cx="4389840" cy="520560"/>
            <a:chOff x="3220560" y="3200400"/>
            <a:chExt cx="4389840" cy="520560"/>
          </a:xfrm>
        </p:grpSpPr>
        <p:sp>
          <p:nvSpPr>
            <p:cNvPr id="854" name="Rectangle 15"/>
            <p:cNvSpPr/>
            <p:nvPr/>
          </p:nvSpPr>
          <p:spPr>
            <a:xfrm>
              <a:off x="3220560" y="3200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55" name="Object 6"/>
            <p:cNvGraphicFramePr/>
            <p:nvPr/>
          </p:nvGraphicFramePr>
          <p:xfrm>
            <a:off x="4309920" y="3249000"/>
            <a:ext cx="3300480" cy="402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56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09920" y="3249000"/>
                      <a:ext cx="3300480" cy="40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57" name="组合 18"/>
          <p:cNvGrpSpPr/>
          <p:nvPr/>
        </p:nvGrpSpPr>
        <p:grpSpPr>
          <a:xfrm>
            <a:off x="1071720" y="3751200"/>
            <a:ext cx="4446360" cy="549360"/>
            <a:chOff x="1071720" y="3751200"/>
            <a:chExt cx="4446360" cy="549360"/>
          </a:xfrm>
        </p:grpSpPr>
        <p:sp>
          <p:nvSpPr>
            <p:cNvPr id="858" name="Rectangle 15"/>
            <p:cNvSpPr/>
            <p:nvPr/>
          </p:nvSpPr>
          <p:spPr>
            <a:xfrm>
              <a:off x="1946160" y="3751200"/>
              <a:ext cx="357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有子列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59" name="Object 7"/>
            <p:cNvGraphicFramePr/>
            <p:nvPr/>
          </p:nvGraphicFramePr>
          <p:xfrm>
            <a:off x="1071720" y="3780720"/>
            <a:ext cx="587160" cy="44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6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71720" y="3780720"/>
                      <a:ext cx="5871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1" name="Object 8"/>
            <p:cNvGraphicFramePr/>
            <p:nvPr/>
          </p:nvGraphicFramePr>
          <p:xfrm>
            <a:off x="3143160" y="3763440"/>
            <a:ext cx="2353680" cy="537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62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143160" y="3763440"/>
                      <a:ext cx="2353680" cy="53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63" name="组合 19"/>
          <p:cNvGrpSpPr/>
          <p:nvPr/>
        </p:nvGrpSpPr>
        <p:grpSpPr>
          <a:xfrm>
            <a:off x="6005520" y="3749760"/>
            <a:ext cx="2720880" cy="520560"/>
            <a:chOff x="6005520" y="3749760"/>
            <a:chExt cx="2720880" cy="520560"/>
          </a:xfrm>
        </p:grpSpPr>
        <p:sp>
          <p:nvSpPr>
            <p:cNvPr id="864" name="Rectangle 15"/>
            <p:cNvSpPr/>
            <p:nvPr/>
          </p:nvSpPr>
          <p:spPr>
            <a:xfrm>
              <a:off x="6005520" y="3749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65" name="Object 9"/>
            <p:cNvGraphicFramePr/>
            <p:nvPr/>
          </p:nvGraphicFramePr>
          <p:xfrm>
            <a:off x="6715080" y="3801960"/>
            <a:ext cx="2011320" cy="425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66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715080" y="3801960"/>
                      <a:ext cx="201132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67" name="Object 10"/>
          <p:cNvGraphicFramePr/>
          <p:nvPr/>
        </p:nvGraphicFramePr>
        <p:xfrm>
          <a:off x="1071720" y="4402080"/>
          <a:ext cx="1250640" cy="40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6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4402080"/>
                    <a:ext cx="12506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Rectangle 15"/>
          <p:cNvSpPr/>
          <p:nvPr/>
        </p:nvSpPr>
        <p:spPr>
          <a:xfrm>
            <a:off x="3115800" y="428616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对于下确界同样证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70" name="组合 23"/>
          <p:cNvGrpSpPr/>
          <p:nvPr/>
        </p:nvGrpSpPr>
        <p:grpSpPr>
          <a:xfrm>
            <a:off x="2376360" y="2571840"/>
            <a:ext cx="5430960" cy="520560"/>
            <a:chOff x="2376360" y="2571840"/>
            <a:chExt cx="5430960" cy="520560"/>
          </a:xfrm>
        </p:grpSpPr>
        <p:sp>
          <p:nvSpPr>
            <p:cNvPr id="871" name="Rectangle 15"/>
            <p:cNvSpPr/>
            <p:nvPr/>
          </p:nvSpPr>
          <p:spPr>
            <a:xfrm>
              <a:off x="2376360" y="2571840"/>
              <a:ext cx="543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3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)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在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紧，故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有界集，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872" name="Object 21"/>
            <p:cNvGraphicFramePr/>
            <p:nvPr/>
          </p:nvGraphicFramePr>
          <p:xfrm>
            <a:off x="2786040" y="2717640"/>
            <a:ext cx="863640" cy="358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73" name="Object 2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786040" y="2717640"/>
                      <a:ext cx="8636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4" name="Object 22"/>
            <p:cNvGraphicFramePr/>
            <p:nvPr/>
          </p:nvGraphicFramePr>
          <p:xfrm>
            <a:off x="3844800" y="2736000"/>
            <a:ext cx="328320" cy="268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875" name="Object 2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844800" y="2736000"/>
                      <a:ext cx="3283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6" name="Object 23"/>
            <p:cNvGraphicFramePr/>
            <p:nvPr/>
          </p:nvGraphicFramePr>
          <p:xfrm>
            <a:off x="5500800" y="2717640"/>
            <a:ext cx="863640" cy="3589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877" name="Object 2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500800" y="2717640"/>
                      <a:ext cx="8636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5"/>
          <p:cNvSpPr/>
          <p:nvPr/>
        </p:nvSpPr>
        <p:spPr>
          <a:xfrm>
            <a:off x="0" y="843120"/>
            <a:ext cx="9358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河南师范大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现代教育技术中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录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5"/>
          <p:cNvSpPr/>
          <p:nvPr/>
        </p:nvSpPr>
        <p:spPr>
          <a:xfrm>
            <a:off x="0" y="843120"/>
            <a:ext cx="9358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河南师范大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现代教育技术中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录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57120" y="80316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海涅</a:t>
            </a:r>
            <a:r>
              <a:rPr b="1" lang="en-US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-</a:t>
            </a: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波雷尔</a:t>
            </a:r>
            <a:r>
              <a:rPr b="1" lang="en-US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(Heine-Borel)</a:t>
            </a: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有限覆盖定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3" name="组合 10"/>
          <p:cNvGrpSpPr/>
          <p:nvPr/>
        </p:nvGrpSpPr>
        <p:grpSpPr>
          <a:xfrm>
            <a:off x="928800" y="1608120"/>
            <a:ext cx="7643880" cy="1373760"/>
            <a:chOff x="928800" y="1608120"/>
            <a:chExt cx="7643880" cy="1373760"/>
          </a:xfrm>
        </p:grpSpPr>
        <p:sp>
          <p:nvSpPr>
            <p:cNvPr id="94" name="Rectangle 15"/>
            <p:cNvSpPr/>
            <p:nvPr/>
          </p:nvSpPr>
          <p:spPr>
            <a:xfrm>
              <a:off x="928800" y="1608120"/>
              <a:ext cx="7643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    是一个闭区间，  为         的一个开覆盖，则在    中必存在有限个开区间，它构成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上的一个开覆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95" name="Object 28"/>
            <p:cNvGraphicFramePr/>
            <p:nvPr/>
          </p:nvGraphicFramePr>
          <p:xfrm>
            <a:off x="2282760" y="1708200"/>
            <a:ext cx="860400" cy="33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2760" y="1708200"/>
                      <a:ext cx="860400" cy="33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4"/>
            <p:cNvGraphicFramePr/>
            <p:nvPr/>
          </p:nvGraphicFramePr>
          <p:xfrm>
            <a:off x="6165720" y="1708200"/>
            <a:ext cx="860400" cy="33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5720" y="1708200"/>
                      <a:ext cx="860400" cy="33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5"/>
            <p:cNvGraphicFramePr/>
            <p:nvPr/>
          </p:nvGraphicFramePr>
          <p:xfrm>
            <a:off x="1175400" y="2572200"/>
            <a:ext cx="860400" cy="33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75400" y="2572200"/>
                      <a:ext cx="860400" cy="33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Object 6"/>
            <p:cNvGraphicFramePr/>
            <p:nvPr/>
          </p:nvGraphicFramePr>
          <p:xfrm>
            <a:off x="2827080" y="2164680"/>
            <a:ext cx="387360" cy="27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2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27080" y="2164680"/>
                      <a:ext cx="387360" cy="27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7"/>
            <p:cNvGraphicFramePr/>
            <p:nvPr/>
          </p:nvGraphicFramePr>
          <p:xfrm>
            <a:off x="5357880" y="1708200"/>
            <a:ext cx="387360" cy="271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4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57880" y="1708200"/>
                      <a:ext cx="387360" cy="27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5" name="组合 30"/>
          <p:cNvGrpSpPr/>
          <p:nvPr/>
        </p:nvGrpSpPr>
        <p:grpSpPr>
          <a:xfrm>
            <a:off x="928800" y="3054240"/>
            <a:ext cx="7715160" cy="1098720"/>
            <a:chOff x="928800" y="3054240"/>
            <a:chExt cx="7715160" cy="1098720"/>
          </a:xfrm>
        </p:grpSpPr>
        <p:sp>
          <p:nvSpPr>
            <p:cNvPr id="106" name="直接连接符 12"/>
            <p:cNvSpPr/>
            <p:nvPr/>
          </p:nvSpPr>
          <p:spPr>
            <a:xfrm>
              <a:off x="928800" y="3429000"/>
              <a:ext cx="77151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左中括号 14"/>
            <p:cNvSpPr/>
            <p:nvPr/>
          </p:nvSpPr>
          <p:spPr>
            <a:xfrm flipH="1">
              <a:off x="7072560" y="3108240"/>
              <a:ext cx="142560" cy="588960"/>
            </a:xfrm>
            <a:custGeom>
              <a:avLst/>
              <a:gdLst>
                <a:gd name="textAreaLeft" fmla="*/ 42120 w 142560"/>
                <a:gd name="textAreaRight" fmla="*/ 143280 w 142560"/>
                <a:gd name="textAreaTop" fmla="*/ 4320 h 588960"/>
                <a:gd name="textAreaBottom" fmla="*/ 584640 h 58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64"/>
                    <a:pt x="0" y="327"/>
                  </a:cubicBezTo>
                  <a:lnTo>
                    <a:pt x="0" y="21273"/>
                  </a:lnTo>
                  <a:cubicBezTo>
                    <a:pt x="0" y="21437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左中括号 15"/>
            <p:cNvSpPr/>
            <p:nvPr/>
          </p:nvSpPr>
          <p:spPr>
            <a:xfrm>
              <a:off x="2286000" y="3054240"/>
              <a:ext cx="71280" cy="64296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2160 h 642960"/>
                <a:gd name="textAreaBottom" fmla="*/ 64080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75"/>
                    <a:pt x="0" y="150"/>
                  </a:cubicBezTo>
                  <a:lnTo>
                    <a:pt x="0" y="21450"/>
                  </a:lnTo>
                  <a:cubicBezTo>
                    <a:pt x="0" y="2152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9" name="Object 29"/>
            <p:cNvGraphicFramePr/>
            <p:nvPr/>
          </p:nvGraphicFramePr>
          <p:xfrm>
            <a:off x="2143080" y="3857760"/>
            <a:ext cx="331560" cy="273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0" name="Object 2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43080" y="3857760"/>
                      <a:ext cx="331560" cy="2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Object 10"/>
            <p:cNvGraphicFramePr/>
            <p:nvPr/>
          </p:nvGraphicFramePr>
          <p:xfrm>
            <a:off x="7000920" y="3804120"/>
            <a:ext cx="331560" cy="348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000920" y="3804120"/>
                      <a:ext cx="331560" cy="34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3" name="组合 30"/>
          <p:cNvGrpSpPr/>
          <p:nvPr/>
        </p:nvGrpSpPr>
        <p:grpSpPr>
          <a:xfrm>
            <a:off x="1643040" y="3106800"/>
            <a:ext cx="6500880" cy="482400"/>
            <a:chOff x="1643040" y="3106800"/>
            <a:chExt cx="6500880" cy="482400"/>
          </a:xfrm>
        </p:grpSpPr>
        <p:sp>
          <p:nvSpPr>
            <p:cNvPr id="114" name="双括号 19"/>
            <p:cNvSpPr/>
            <p:nvPr/>
          </p:nvSpPr>
          <p:spPr>
            <a:xfrm>
              <a:off x="1643040" y="3106800"/>
              <a:ext cx="785520" cy="48240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双括号 20"/>
            <p:cNvSpPr/>
            <p:nvPr/>
          </p:nvSpPr>
          <p:spPr>
            <a:xfrm>
              <a:off x="2143080" y="3214440"/>
              <a:ext cx="714240" cy="37476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双括号 21"/>
            <p:cNvSpPr/>
            <p:nvPr/>
          </p:nvSpPr>
          <p:spPr>
            <a:xfrm>
              <a:off x="6858000" y="3106800"/>
              <a:ext cx="1285920" cy="48240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双括号 22"/>
            <p:cNvSpPr/>
            <p:nvPr/>
          </p:nvSpPr>
          <p:spPr>
            <a:xfrm>
              <a:off x="2571480" y="3106800"/>
              <a:ext cx="1285920" cy="48240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双括号 23"/>
            <p:cNvSpPr/>
            <p:nvPr/>
          </p:nvSpPr>
          <p:spPr>
            <a:xfrm>
              <a:off x="3214440" y="3214440"/>
              <a:ext cx="928440" cy="37476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9" name="双括号 24"/>
            <p:cNvSpPr/>
            <p:nvPr/>
          </p:nvSpPr>
          <p:spPr>
            <a:xfrm>
              <a:off x="5286240" y="3106800"/>
              <a:ext cx="642960" cy="48240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双括号 25"/>
            <p:cNvSpPr/>
            <p:nvPr/>
          </p:nvSpPr>
          <p:spPr>
            <a:xfrm>
              <a:off x="5500800" y="3214440"/>
              <a:ext cx="857160" cy="37476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1" name="双括号 26"/>
            <p:cNvSpPr/>
            <p:nvPr/>
          </p:nvSpPr>
          <p:spPr>
            <a:xfrm>
              <a:off x="6143760" y="3106800"/>
              <a:ext cx="571320" cy="48240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双括号 27"/>
            <p:cNvSpPr/>
            <p:nvPr/>
          </p:nvSpPr>
          <p:spPr>
            <a:xfrm>
              <a:off x="6429600" y="3214440"/>
              <a:ext cx="928440" cy="374760"/>
            </a:xfrm>
            <a:prstGeom prst="bracketPair">
              <a:avLst>
                <a:gd name="adj" fmla="val 17129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23" name="Object 2"/>
            <p:cNvGraphicFramePr/>
            <p:nvPr/>
          </p:nvGraphicFramePr>
          <p:xfrm>
            <a:off x="4143240" y="3160440"/>
            <a:ext cx="1095120" cy="263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4" name="Object 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43240" y="3160440"/>
                      <a:ext cx="1095120" cy="26316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25" name="组合 36"/>
          <p:cNvGrpSpPr/>
          <p:nvPr/>
        </p:nvGrpSpPr>
        <p:grpSpPr>
          <a:xfrm>
            <a:off x="2071800" y="3160800"/>
            <a:ext cx="5857920" cy="428400"/>
            <a:chOff x="2071800" y="3160800"/>
            <a:chExt cx="5857920" cy="428400"/>
          </a:xfrm>
        </p:grpSpPr>
        <p:sp>
          <p:nvSpPr>
            <p:cNvPr id="126" name="双括号 31"/>
            <p:cNvSpPr/>
            <p:nvPr/>
          </p:nvSpPr>
          <p:spPr>
            <a:xfrm>
              <a:off x="2071800" y="3160800"/>
              <a:ext cx="1357200" cy="4284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6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双括号 32"/>
            <p:cNvSpPr/>
            <p:nvPr/>
          </p:nvSpPr>
          <p:spPr>
            <a:xfrm>
              <a:off x="3143160" y="3214440"/>
              <a:ext cx="1428840" cy="37476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双括号 33"/>
            <p:cNvSpPr/>
            <p:nvPr/>
          </p:nvSpPr>
          <p:spPr>
            <a:xfrm>
              <a:off x="3857760" y="3160800"/>
              <a:ext cx="1500120" cy="4284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6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双括号 34"/>
            <p:cNvSpPr/>
            <p:nvPr/>
          </p:nvSpPr>
          <p:spPr>
            <a:xfrm>
              <a:off x="5143680" y="3214440"/>
              <a:ext cx="1857240" cy="37476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双括号 35"/>
            <p:cNvSpPr/>
            <p:nvPr/>
          </p:nvSpPr>
          <p:spPr>
            <a:xfrm>
              <a:off x="6429600" y="3160800"/>
              <a:ext cx="1500120" cy="4284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6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214200" y="58896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义</a:t>
            </a:r>
            <a:r>
              <a:rPr b="1" lang="en-US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2" name="组合 31"/>
          <p:cNvGrpSpPr/>
          <p:nvPr/>
        </p:nvGrpSpPr>
        <p:grpSpPr>
          <a:xfrm>
            <a:off x="2123640" y="642960"/>
            <a:ext cx="3370680" cy="520560"/>
            <a:chOff x="2123640" y="642960"/>
            <a:chExt cx="3370680" cy="520560"/>
          </a:xfrm>
        </p:grpSpPr>
        <p:sp>
          <p:nvSpPr>
            <p:cNvPr id="133" name="Rectangle 15"/>
            <p:cNvSpPr/>
            <p:nvPr/>
          </p:nvSpPr>
          <p:spPr>
            <a:xfrm>
              <a:off x="2236320" y="642960"/>
              <a:ext cx="195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是度量空间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34" name="Object 2"/>
            <p:cNvGraphicFramePr/>
            <p:nvPr/>
          </p:nvGraphicFramePr>
          <p:xfrm>
            <a:off x="4500360" y="775080"/>
            <a:ext cx="993960" cy="27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00360" y="775080"/>
                      <a:ext cx="993960" cy="27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Object 28"/>
            <p:cNvGraphicFramePr/>
            <p:nvPr/>
          </p:nvGraphicFramePr>
          <p:xfrm>
            <a:off x="2123640" y="777600"/>
            <a:ext cx="388800" cy="27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23640" y="777600"/>
                      <a:ext cx="388800" cy="27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8" name="组合 32"/>
          <p:cNvGrpSpPr/>
          <p:nvPr/>
        </p:nvGrpSpPr>
        <p:grpSpPr>
          <a:xfrm>
            <a:off x="2179440" y="2411280"/>
            <a:ext cx="4350600" cy="520560"/>
            <a:chOff x="2179440" y="2411280"/>
            <a:chExt cx="4350600" cy="520560"/>
          </a:xfrm>
        </p:grpSpPr>
        <p:sp>
          <p:nvSpPr>
            <p:cNvPr id="139" name="Rectangle 15"/>
            <p:cNvSpPr/>
            <p:nvPr/>
          </p:nvSpPr>
          <p:spPr>
            <a:xfrm>
              <a:off x="2179440" y="2411280"/>
              <a:ext cx="428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集合   称为是相对紧的，若      紧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40" name="Object 7"/>
            <p:cNvGraphicFramePr/>
            <p:nvPr/>
          </p:nvGraphicFramePr>
          <p:xfrm>
            <a:off x="6155640" y="2485080"/>
            <a:ext cx="374400" cy="37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55640" y="2485080"/>
                      <a:ext cx="37440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Object 18"/>
            <p:cNvGraphicFramePr/>
            <p:nvPr/>
          </p:nvGraphicFramePr>
          <p:xfrm>
            <a:off x="2555640" y="2510640"/>
            <a:ext cx="398160" cy="323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3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55640" y="251064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4" name="组合 35"/>
          <p:cNvGrpSpPr/>
          <p:nvPr/>
        </p:nvGrpSpPr>
        <p:grpSpPr>
          <a:xfrm>
            <a:off x="1990080" y="3040200"/>
            <a:ext cx="6671160" cy="677880"/>
            <a:chOff x="1990080" y="3040200"/>
            <a:chExt cx="6671160" cy="677880"/>
          </a:xfrm>
        </p:grpSpPr>
        <p:sp>
          <p:nvSpPr>
            <p:cNvPr id="145" name="Rectangle 15"/>
            <p:cNvSpPr/>
            <p:nvPr/>
          </p:nvSpPr>
          <p:spPr>
            <a:xfrm>
              <a:off x="1990080" y="3040200"/>
              <a:ext cx="454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集合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称为   的    网，若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46" name="Object 8"/>
            <p:cNvGraphicFramePr/>
            <p:nvPr/>
          </p:nvGraphicFramePr>
          <p:xfrm>
            <a:off x="2627640" y="3178080"/>
            <a:ext cx="941400" cy="24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7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27640" y="3178080"/>
                      <a:ext cx="94140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Object 9"/>
            <p:cNvGraphicFramePr/>
            <p:nvPr/>
          </p:nvGraphicFramePr>
          <p:xfrm>
            <a:off x="5004000" y="3154680"/>
            <a:ext cx="357120" cy="29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9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04000" y="3154680"/>
                      <a:ext cx="35712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10"/>
            <p:cNvGraphicFramePr/>
            <p:nvPr/>
          </p:nvGraphicFramePr>
          <p:xfrm>
            <a:off x="6514920" y="3147480"/>
            <a:ext cx="2146320" cy="570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1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14920" y="3147480"/>
                      <a:ext cx="2146320" cy="57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31"/>
            <p:cNvGraphicFramePr/>
            <p:nvPr/>
          </p:nvGraphicFramePr>
          <p:xfrm>
            <a:off x="4271760" y="3139920"/>
            <a:ext cx="398160" cy="324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3" name="Object 3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271760" y="3139920"/>
                      <a:ext cx="3981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" name="组合 34"/>
          <p:cNvGrpSpPr/>
          <p:nvPr/>
        </p:nvGrpSpPr>
        <p:grpSpPr>
          <a:xfrm>
            <a:off x="892800" y="3589200"/>
            <a:ext cx="6715440" cy="947160"/>
            <a:chOff x="892800" y="3589200"/>
            <a:chExt cx="6715440" cy="947160"/>
          </a:xfrm>
        </p:grpSpPr>
        <p:sp>
          <p:nvSpPr>
            <p:cNvPr id="155" name="Rectangle 15"/>
            <p:cNvSpPr/>
            <p:nvPr/>
          </p:nvSpPr>
          <p:spPr>
            <a:xfrm>
              <a:off x="1674360" y="3589200"/>
              <a:ext cx="534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4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集合   称为是完全有界的，若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存在由有限个元素构成的    的   网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56" name="Object 11"/>
            <p:cNvGraphicFramePr/>
            <p:nvPr/>
          </p:nvGraphicFramePr>
          <p:xfrm>
            <a:off x="6589080" y="3761280"/>
            <a:ext cx="1019160" cy="304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7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589080" y="3761280"/>
                      <a:ext cx="10191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Object 12"/>
            <p:cNvGraphicFramePr/>
            <p:nvPr/>
          </p:nvGraphicFramePr>
          <p:xfrm>
            <a:off x="6156720" y="4155480"/>
            <a:ext cx="357120" cy="294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9" name="Object 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56720" y="4155480"/>
                      <a:ext cx="357120" cy="294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Object 32"/>
            <p:cNvGraphicFramePr/>
            <p:nvPr/>
          </p:nvGraphicFramePr>
          <p:xfrm>
            <a:off x="2556000" y="3729240"/>
            <a:ext cx="398160" cy="324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61" name="Object 3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56000" y="3729240"/>
                      <a:ext cx="3981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33"/>
            <p:cNvGraphicFramePr/>
            <p:nvPr/>
          </p:nvGraphicFramePr>
          <p:xfrm>
            <a:off x="5436720" y="4100760"/>
            <a:ext cx="398160" cy="3240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63" name="Object 3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436720" y="4100760"/>
                      <a:ext cx="39816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Object 34"/>
            <p:cNvGraphicFramePr/>
            <p:nvPr/>
          </p:nvGraphicFramePr>
          <p:xfrm>
            <a:off x="892800" y="4155480"/>
            <a:ext cx="388800" cy="2703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65" name="Object 3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92800" y="4155480"/>
                      <a:ext cx="388800" cy="27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6" name="组合 32"/>
          <p:cNvGrpSpPr/>
          <p:nvPr/>
        </p:nvGrpSpPr>
        <p:grpSpPr>
          <a:xfrm>
            <a:off x="770040" y="1166760"/>
            <a:ext cx="7695360" cy="1373760"/>
            <a:chOff x="770040" y="1166760"/>
            <a:chExt cx="7695360" cy="1373760"/>
          </a:xfrm>
        </p:grpSpPr>
        <p:sp>
          <p:nvSpPr>
            <p:cNvPr id="167" name="Rectangle 15"/>
            <p:cNvSpPr/>
            <p:nvPr/>
          </p:nvSpPr>
          <p:spPr>
            <a:xfrm>
              <a:off x="805320" y="1166760"/>
              <a:ext cx="7660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集合    称为是紧的，若   中的任一开集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覆盖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即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时，其中存在有限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个开集覆盖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68" name="Object 5"/>
            <p:cNvGraphicFramePr/>
            <p:nvPr/>
          </p:nvGraphicFramePr>
          <p:xfrm>
            <a:off x="770040" y="1662840"/>
            <a:ext cx="1595160" cy="392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69" name="Object 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70040" y="1662840"/>
                      <a:ext cx="159516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6"/>
            <p:cNvGraphicFramePr/>
            <p:nvPr/>
          </p:nvGraphicFramePr>
          <p:xfrm>
            <a:off x="4106160" y="1660320"/>
            <a:ext cx="1412640" cy="5302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71" name="Object 6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106160" y="1660320"/>
                      <a:ext cx="1412640" cy="5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Object 26"/>
            <p:cNvGraphicFramePr/>
            <p:nvPr/>
          </p:nvGraphicFramePr>
          <p:xfrm>
            <a:off x="2594160" y="1228320"/>
            <a:ext cx="398160" cy="323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73" name="Object 26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594160" y="122832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Object 27"/>
            <p:cNvGraphicFramePr/>
            <p:nvPr/>
          </p:nvGraphicFramePr>
          <p:xfrm>
            <a:off x="5474520" y="1300320"/>
            <a:ext cx="388800" cy="2700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75" name="Object 27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5474520" y="1300320"/>
                      <a:ext cx="3888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Object 29"/>
            <p:cNvGraphicFramePr/>
            <p:nvPr/>
          </p:nvGraphicFramePr>
          <p:xfrm>
            <a:off x="2412000" y="2112840"/>
            <a:ext cx="398160" cy="3232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77" name="Object 29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2412000" y="211284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Object 30"/>
            <p:cNvGraphicFramePr/>
            <p:nvPr/>
          </p:nvGraphicFramePr>
          <p:xfrm>
            <a:off x="3174120" y="1697040"/>
            <a:ext cx="398160" cy="32328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79" name="Object 30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174120" y="169704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14200" y="58896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注意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57120" y="2089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例</a:t>
            </a:r>
            <a:r>
              <a:rPr b="1" lang="en-US" sz="36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2" name="组合 22"/>
          <p:cNvGrpSpPr/>
          <p:nvPr/>
        </p:nvGrpSpPr>
        <p:grpSpPr>
          <a:xfrm>
            <a:off x="1971720" y="2143080"/>
            <a:ext cx="5014800" cy="606600"/>
            <a:chOff x="1971720" y="2143080"/>
            <a:chExt cx="5014800" cy="606600"/>
          </a:xfrm>
        </p:grpSpPr>
        <p:sp>
          <p:nvSpPr>
            <p:cNvPr id="183" name="Rectangle 15"/>
            <p:cNvSpPr/>
            <p:nvPr/>
          </p:nvSpPr>
          <p:spPr>
            <a:xfrm>
              <a:off x="1971720" y="2143080"/>
              <a:ext cx="20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于           ，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84" name="Object 5"/>
            <p:cNvGraphicFramePr/>
            <p:nvPr/>
          </p:nvGraphicFramePr>
          <p:xfrm>
            <a:off x="2643120" y="2196720"/>
            <a:ext cx="888840" cy="3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43120" y="2196720"/>
                      <a:ext cx="88884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6"/>
            <p:cNvGraphicFramePr/>
            <p:nvPr/>
          </p:nvGraphicFramePr>
          <p:xfrm>
            <a:off x="4317840" y="2196720"/>
            <a:ext cx="2668680" cy="55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17840" y="2196720"/>
                      <a:ext cx="2668680" cy="55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8" name="Object 7"/>
          <p:cNvGraphicFramePr/>
          <p:nvPr/>
        </p:nvGraphicFramePr>
        <p:xfrm>
          <a:off x="1714680" y="2732040"/>
          <a:ext cx="19872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4680" y="2732040"/>
                    <a:ext cx="198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3"/>
          <p:cNvSpPr/>
          <p:nvPr/>
        </p:nvSpPr>
        <p:spPr>
          <a:xfrm>
            <a:off x="285840" y="316080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1" name="组合 23"/>
          <p:cNvGrpSpPr/>
          <p:nvPr/>
        </p:nvGrpSpPr>
        <p:grpSpPr>
          <a:xfrm>
            <a:off x="2150640" y="3214800"/>
            <a:ext cx="4491360" cy="520560"/>
            <a:chOff x="2150640" y="3214800"/>
            <a:chExt cx="4491360" cy="520560"/>
          </a:xfrm>
        </p:grpSpPr>
        <p:sp>
          <p:nvSpPr>
            <p:cNvPr id="192" name="Rectangle 15"/>
            <p:cNvSpPr/>
            <p:nvPr/>
          </p:nvSpPr>
          <p:spPr>
            <a:xfrm>
              <a:off x="2150640" y="32148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于任何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3" name="Object 14"/>
            <p:cNvGraphicFramePr/>
            <p:nvPr/>
          </p:nvGraphicFramePr>
          <p:xfrm>
            <a:off x="3571560" y="3322080"/>
            <a:ext cx="888840" cy="267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4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71560" y="3322080"/>
                      <a:ext cx="888840" cy="2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Object 15"/>
            <p:cNvGraphicFramePr/>
            <p:nvPr/>
          </p:nvGraphicFramePr>
          <p:xfrm>
            <a:off x="4786200" y="3214800"/>
            <a:ext cx="1855800" cy="400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86200" y="3214800"/>
                      <a:ext cx="1855800" cy="40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7" name="组合 32"/>
          <p:cNvGrpSpPr/>
          <p:nvPr/>
        </p:nvGrpSpPr>
        <p:grpSpPr>
          <a:xfrm>
            <a:off x="1964160" y="3724200"/>
            <a:ext cx="6189840" cy="647640"/>
            <a:chOff x="1964160" y="3724200"/>
            <a:chExt cx="6189840" cy="647640"/>
          </a:xfrm>
        </p:grpSpPr>
        <p:sp>
          <p:nvSpPr>
            <p:cNvPr id="198" name="Rectangle 15"/>
            <p:cNvSpPr/>
            <p:nvPr/>
          </p:nvSpPr>
          <p:spPr>
            <a:xfrm>
              <a:off x="1964160" y="3803760"/>
              <a:ext cx="618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取                       ，则                是   的开覆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99" name="Object 16"/>
            <p:cNvGraphicFramePr/>
            <p:nvPr/>
          </p:nvGraphicFramePr>
          <p:xfrm>
            <a:off x="2266560" y="3724200"/>
            <a:ext cx="1882800" cy="647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66560" y="3724200"/>
                      <a:ext cx="188280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7"/>
            <p:cNvGraphicFramePr/>
            <p:nvPr/>
          </p:nvGraphicFramePr>
          <p:xfrm>
            <a:off x="5143320" y="3857400"/>
            <a:ext cx="1358640" cy="380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143320" y="3857400"/>
                      <a:ext cx="13586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26"/>
            <p:cNvGraphicFramePr/>
            <p:nvPr/>
          </p:nvGraphicFramePr>
          <p:xfrm>
            <a:off x="6895080" y="3903480"/>
            <a:ext cx="398160" cy="323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2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95080" y="390348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5" name="Group 33"/>
          <p:cNvGrpSpPr/>
          <p:nvPr/>
        </p:nvGrpSpPr>
        <p:grpSpPr>
          <a:xfrm>
            <a:off x="2540880" y="542880"/>
            <a:ext cx="5099760" cy="1373760"/>
            <a:chOff x="2540880" y="542880"/>
            <a:chExt cx="5099760" cy="1373760"/>
          </a:xfrm>
        </p:grpSpPr>
        <p:sp>
          <p:nvSpPr>
            <p:cNvPr id="206" name="Rectangle 15"/>
            <p:cNvSpPr/>
            <p:nvPr/>
          </p:nvSpPr>
          <p:spPr>
            <a:xfrm>
              <a:off x="2540880" y="542880"/>
              <a:ext cx="44877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定义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(3)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中，作为   的   网的集合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并没有要求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对于一个集合来说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是否要求           并不改变其完全有界性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7" name="Object 2"/>
            <p:cNvGraphicFramePr/>
            <p:nvPr/>
          </p:nvGraphicFramePr>
          <p:xfrm>
            <a:off x="5364000" y="637920"/>
            <a:ext cx="357480" cy="294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8" name="Object 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64000" y="637920"/>
                      <a:ext cx="357480" cy="29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Object 3"/>
            <p:cNvGraphicFramePr/>
            <p:nvPr/>
          </p:nvGraphicFramePr>
          <p:xfrm>
            <a:off x="3494160" y="1112400"/>
            <a:ext cx="888840" cy="247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10" name="Object 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494160" y="1112400"/>
                      <a:ext cx="88884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Object 4"/>
            <p:cNvGraphicFramePr/>
            <p:nvPr/>
          </p:nvGraphicFramePr>
          <p:xfrm>
            <a:off x="3129120" y="1491480"/>
            <a:ext cx="961920" cy="26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12" name="Object 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129120" y="1491480"/>
                      <a:ext cx="9619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Object 27"/>
            <p:cNvGraphicFramePr/>
            <p:nvPr/>
          </p:nvGraphicFramePr>
          <p:xfrm>
            <a:off x="4768920" y="599040"/>
            <a:ext cx="398520" cy="3240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14" name="Object 27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768920" y="599040"/>
                      <a:ext cx="39852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Object 28"/>
            <p:cNvGraphicFramePr/>
            <p:nvPr/>
          </p:nvGraphicFramePr>
          <p:xfrm>
            <a:off x="7283520" y="641520"/>
            <a:ext cx="357120" cy="2905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16" name="Object 28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283520" y="641520"/>
                      <a:ext cx="35712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7" name="组合 31"/>
          <p:cNvGrpSpPr/>
          <p:nvPr/>
        </p:nvGrpSpPr>
        <p:grpSpPr>
          <a:xfrm>
            <a:off x="4265280" y="2732040"/>
            <a:ext cx="1803600" cy="520560"/>
            <a:chOff x="4265280" y="2732040"/>
            <a:chExt cx="1803600" cy="520560"/>
          </a:xfrm>
        </p:grpSpPr>
        <p:sp>
          <p:nvSpPr>
            <p:cNvPr id="218" name="Rectangle 15"/>
            <p:cNvSpPr/>
            <p:nvPr/>
          </p:nvSpPr>
          <p:spPr>
            <a:xfrm>
              <a:off x="4265280" y="2732040"/>
              <a:ext cx="180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    不是紧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19" name="Object 29"/>
            <p:cNvGraphicFramePr/>
            <p:nvPr/>
          </p:nvGraphicFramePr>
          <p:xfrm>
            <a:off x="4356000" y="2733120"/>
            <a:ext cx="398160" cy="3243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20" name="Object 29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356000" y="273312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1" name="组合 33"/>
          <p:cNvGrpSpPr/>
          <p:nvPr/>
        </p:nvGrpSpPr>
        <p:grpSpPr>
          <a:xfrm>
            <a:off x="2320560" y="4343400"/>
            <a:ext cx="4483440" cy="520560"/>
            <a:chOff x="2320560" y="4343400"/>
            <a:chExt cx="4483440" cy="520560"/>
          </a:xfrm>
        </p:grpSpPr>
        <p:sp>
          <p:nvSpPr>
            <p:cNvPr id="222" name="Rectangle 15"/>
            <p:cNvSpPr/>
            <p:nvPr/>
          </p:nvSpPr>
          <p:spPr>
            <a:xfrm>
              <a:off x="2320560" y="4343400"/>
              <a:ext cx="363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其中不包含任何有限子族覆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23" name="Object 30"/>
            <p:cNvGraphicFramePr/>
            <p:nvPr/>
          </p:nvGraphicFramePr>
          <p:xfrm>
            <a:off x="6405840" y="4442760"/>
            <a:ext cx="398160" cy="3232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24" name="Object 3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405840" y="444276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214200" y="144612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说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2327760" y="1500120"/>
            <a:ext cx="54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在无穷维空间，有界闭集并不一定是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即在无穷维空间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Heine-Bor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定理并不成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2725920" y="275760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由定义，完全有界集一定是有界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28" name="Object 6"/>
          <p:cNvGraphicFramePr/>
          <p:nvPr/>
        </p:nvGraphicFramePr>
        <p:xfrm>
          <a:off x="2643120" y="4203720"/>
          <a:ext cx="462456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4203720"/>
                    <a:ext cx="4624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组合 16"/>
          <p:cNvGrpSpPr/>
          <p:nvPr/>
        </p:nvGrpSpPr>
        <p:grpSpPr>
          <a:xfrm>
            <a:off x="1835640" y="642960"/>
            <a:ext cx="4770000" cy="947160"/>
            <a:chOff x="1835640" y="642960"/>
            <a:chExt cx="4770000" cy="947160"/>
          </a:xfrm>
        </p:grpSpPr>
        <p:sp>
          <p:nvSpPr>
            <p:cNvPr id="231" name="Rectangle 15"/>
            <p:cNvSpPr/>
            <p:nvPr/>
          </p:nvSpPr>
          <p:spPr>
            <a:xfrm>
              <a:off x="2201760" y="642960"/>
              <a:ext cx="440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注意   是     中的有界集，由于   中不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Cauch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序列，所以它还是闭集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32" name="Object 9"/>
            <p:cNvGraphicFramePr/>
            <p:nvPr/>
          </p:nvGraphicFramePr>
          <p:xfrm>
            <a:off x="2628000" y="673560"/>
            <a:ext cx="357120" cy="3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8000" y="673560"/>
                      <a:ext cx="357120" cy="3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Object 15"/>
            <p:cNvGraphicFramePr/>
            <p:nvPr/>
          </p:nvGraphicFramePr>
          <p:xfrm>
            <a:off x="1835640" y="665280"/>
            <a:ext cx="39816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5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35640" y="66528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Object 16"/>
            <p:cNvGraphicFramePr/>
            <p:nvPr/>
          </p:nvGraphicFramePr>
          <p:xfrm>
            <a:off x="5796720" y="699480"/>
            <a:ext cx="398160" cy="32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7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6720" y="69948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组合 18"/>
          <p:cNvGrpSpPr/>
          <p:nvPr/>
        </p:nvGrpSpPr>
        <p:grpSpPr>
          <a:xfrm>
            <a:off x="2123280" y="3289320"/>
            <a:ext cx="4804560" cy="947160"/>
            <a:chOff x="2123280" y="3289320"/>
            <a:chExt cx="4804560" cy="947160"/>
          </a:xfrm>
        </p:grpSpPr>
        <p:sp>
          <p:nvSpPr>
            <p:cNvPr id="239" name="Rectangle 15"/>
            <p:cNvSpPr/>
            <p:nvPr/>
          </p:nvSpPr>
          <p:spPr>
            <a:xfrm>
              <a:off x="2382480" y="3289320"/>
              <a:ext cx="4545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是完全有界集   的     网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40" name="Object 3"/>
            <p:cNvGraphicFramePr/>
            <p:nvPr/>
          </p:nvGraphicFramePr>
          <p:xfrm>
            <a:off x="2123280" y="3309480"/>
            <a:ext cx="1395360" cy="426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1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23280" y="3309480"/>
                      <a:ext cx="1395360" cy="42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Object 4"/>
            <p:cNvGraphicFramePr/>
            <p:nvPr/>
          </p:nvGraphicFramePr>
          <p:xfrm>
            <a:off x="6516720" y="3458520"/>
            <a:ext cx="325440" cy="259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16720" y="3458520"/>
                      <a:ext cx="325440" cy="25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2298960" y="3770640"/>
            <a:ext cx="2327400" cy="396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98960" y="3770640"/>
                      <a:ext cx="2327400" cy="39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17"/>
            <p:cNvGraphicFramePr/>
            <p:nvPr/>
          </p:nvGraphicFramePr>
          <p:xfrm>
            <a:off x="5724360" y="3431160"/>
            <a:ext cx="398520" cy="323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47" name="Object 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724360" y="3431160"/>
                      <a:ext cx="3985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285840" y="5889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定理</a:t>
            </a:r>
            <a:r>
              <a:rPr b="1" lang="en-US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57120" y="25178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华文新魏"/>
                <a:ea typeface="华文新魏"/>
              </a:rPr>
              <a:t>证明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50" name="Object 8"/>
          <p:cNvGraphicFramePr/>
          <p:nvPr/>
        </p:nvGraphicFramePr>
        <p:xfrm>
          <a:off x="1714680" y="2689200"/>
          <a:ext cx="128412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2689200"/>
                    <a:ext cx="1284120" cy="314280"/>
                  </a:xfrm>
                  <a:prstGeom prst="rect">
                    <a:avLst/>
                  </a:prstGeom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2" name="Object 13"/>
          <p:cNvGraphicFramePr/>
          <p:nvPr/>
        </p:nvGraphicFramePr>
        <p:xfrm>
          <a:off x="2928960" y="4075200"/>
          <a:ext cx="37749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4075200"/>
                    <a:ext cx="37749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组合 30"/>
          <p:cNvGrpSpPr/>
          <p:nvPr/>
        </p:nvGrpSpPr>
        <p:grpSpPr>
          <a:xfrm>
            <a:off x="2090880" y="642960"/>
            <a:ext cx="5732280" cy="520560"/>
            <a:chOff x="2090880" y="642960"/>
            <a:chExt cx="5732280" cy="520560"/>
          </a:xfrm>
        </p:grpSpPr>
        <p:sp>
          <p:nvSpPr>
            <p:cNvPr id="255" name="Rectangle 15"/>
            <p:cNvSpPr/>
            <p:nvPr/>
          </p:nvSpPr>
          <p:spPr>
            <a:xfrm>
              <a:off x="2927160" y="642960"/>
              <a:ext cx="48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 是度量空间，          则下列两条件等价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56" name="Object 2"/>
            <p:cNvGraphicFramePr/>
            <p:nvPr/>
          </p:nvGraphicFramePr>
          <p:xfrm>
            <a:off x="4416840" y="817200"/>
            <a:ext cx="1020600" cy="315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7" name="Object 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16840" y="817200"/>
                      <a:ext cx="1020600" cy="31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Object 26"/>
            <p:cNvGraphicFramePr/>
            <p:nvPr/>
          </p:nvGraphicFramePr>
          <p:xfrm>
            <a:off x="2090880" y="735480"/>
            <a:ext cx="465120" cy="324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9" name="Object 2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90880" y="735480"/>
                      <a:ext cx="465120" cy="32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0" name="组合 31"/>
          <p:cNvGrpSpPr/>
          <p:nvPr/>
        </p:nvGrpSpPr>
        <p:grpSpPr>
          <a:xfrm>
            <a:off x="1515960" y="1112760"/>
            <a:ext cx="2044440" cy="520560"/>
            <a:chOff x="1515960" y="1112760"/>
            <a:chExt cx="2044440" cy="520560"/>
          </a:xfrm>
        </p:grpSpPr>
        <p:sp>
          <p:nvSpPr>
            <p:cNvPr id="261" name="Rectangle 15"/>
            <p:cNvSpPr/>
            <p:nvPr/>
          </p:nvSpPr>
          <p:spPr>
            <a:xfrm>
              <a:off x="1515960" y="111276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1)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紧集；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2" name="Object 27"/>
            <p:cNvGraphicFramePr/>
            <p:nvPr/>
          </p:nvGraphicFramePr>
          <p:xfrm>
            <a:off x="1763640" y="1167120"/>
            <a:ext cx="398520" cy="32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3" name="Object 2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63640" y="1167120"/>
                      <a:ext cx="39852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4" name="组合 32"/>
          <p:cNvGrpSpPr/>
          <p:nvPr/>
        </p:nvGrpSpPr>
        <p:grpSpPr>
          <a:xfrm>
            <a:off x="1639440" y="1654200"/>
            <a:ext cx="6638760" cy="947160"/>
            <a:chOff x="1639440" y="1654200"/>
            <a:chExt cx="6638760" cy="947160"/>
          </a:xfrm>
        </p:grpSpPr>
        <p:sp>
          <p:nvSpPr>
            <p:cNvPr id="265" name="Rectangle 15"/>
            <p:cNvSpPr/>
            <p:nvPr/>
          </p:nvSpPr>
          <p:spPr>
            <a:xfrm>
              <a:off x="1639440" y="1654200"/>
              <a:ext cx="617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中任一无穷序列       包含有子序列       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并且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6" name="Object 3"/>
            <p:cNvGraphicFramePr/>
            <p:nvPr/>
          </p:nvGraphicFramePr>
          <p:xfrm>
            <a:off x="4785840" y="1707840"/>
            <a:ext cx="628560" cy="39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7" name="Object 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85840" y="1707840"/>
                      <a:ext cx="628560" cy="39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Object 4"/>
            <p:cNvGraphicFramePr/>
            <p:nvPr/>
          </p:nvGraphicFramePr>
          <p:xfrm>
            <a:off x="7571880" y="1668240"/>
            <a:ext cx="706320" cy="471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9" name="Object 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71880" y="1668240"/>
                      <a:ext cx="70632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Object 5"/>
            <p:cNvGraphicFramePr/>
            <p:nvPr/>
          </p:nvGraphicFramePr>
          <p:xfrm>
            <a:off x="1682640" y="2102400"/>
            <a:ext cx="1142640" cy="397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1" name="Object 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682640" y="2102400"/>
                      <a:ext cx="1142640" cy="39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Object 6"/>
            <p:cNvGraphicFramePr/>
            <p:nvPr/>
          </p:nvGraphicFramePr>
          <p:xfrm>
            <a:off x="3682800" y="2151000"/>
            <a:ext cx="1031760" cy="349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3" name="Object 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682800" y="2151000"/>
                      <a:ext cx="103176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" name="Object 28"/>
            <p:cNvGraphicFramePr/>
            <p:nvPr/>
          </p:nvGraphicFramePr>
          <p:xfrm>
            <a:off x="1834920" y="1744200"/>
            <a:ext cx="398160" cy="3236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5" name="Object 2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34920" y="1744200"/>
                      <a:ext cx="39816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6" name="组合 33"/>
          <p:cNvGrpSpPr/>
          <p:nvPr/>
        </p:nvGrpSpPr>
        <p:grpSpPr>
          <a:xfrm>
            <a:off x="3597480" y="2571840"/>
            <a:ext cx="4153320" cy="520560"/>
            <a:chOff x="3597480" y="2571840"/>
            <a:chExt cx="4153320" cy="520560"/>
          </a:xfrm>
        </p:grpSpPr>
        <p:sp>
          <p:nvSpPr>
            <p:cNvPr id="277" name="Rectangle 15"/>
            <p:cNvSpPr/>
            <p:nvPr/>
          </p:nvSpPr>
          <p:spPr>
            <a:xfrm>
              <a:off x="3944520" y="2571840"/>
              <a:ext cx="380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设   紧，      是    中的无穷序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8" name="Object 7"/>
            <p:cNvGraphicFramePr/>
            <p:nvPr/>
          </p:nvGraphicFramePr>
          <p:xfrm>
            <a:off x="4572000" y="2683080"/>
            <a:ext cx="628560" cy="393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79" name="Object 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572000" y="2683080"/>
                      <a:ext cx="6285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Object 29"/>
            <p:cNvGraphicFramePr/>
            <p:nvPr/>
          </p:nvGraphicFramePr>
          <p:xfrm>
            <a:off x="3597480" y="2643840"/>
            <a:ext cx="398160" cy="324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81" name="Object 29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597480" y="264384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Object 30"/>
            <p:cNvGraphicFramePr/>
            <p:nvPr/>
          </p:nvGraphicFramePr>
          <p:xfrm>
            <a:off x="5580000" y="2752200"/>
            <a:ext cx="398160" cy="3243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83" name="Object 30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580000" y="275220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4" name="组合 34"/>
          <p:cNvGrpSpPr/>
          <p:nvPr/>
        </p:nvGrpSpPr>
        <p:grpSpPr>
          <a:xfrm>
            <a:off x="1500120" y="3106800"/>
            <a:ext cx="6853320" cy="947160"/>
            <a:chOff x="1500120" y="3106800"/>
            <a:chExt cx="6853320" cy="947160"/>
          </a:xfrm>
        </p:grpSpPr>
        <p:sp>
          <p:nvSpPr>
            <p:cNvPr id="285" name="Rectangle 15"/>
            <p:cNvSpPr/>
            <p:nvPr/>
          </p:nvSpPr>
          <p:spPr>
            <a:xfrm>
              <a:off x="2321640" y="3106800"/>
              <a:ext cx="546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无子序列收敛于    中的元，则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和自然数        ，使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86" name="Object 9"/>
            <p:cNvGraphicFramePr/>
            <p:nvPr/>
          </p:nvGraphicFramePr>
          <p:xfrm>
            <a:off x="1714320" y="3186360"/>
            <a:ext cx="628560" cy="393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87" name="Object 9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714320" y="3186360"/>
                      <a:ext cx="6285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0"/>
            <p:cNvGraphicFramePr/>
            <p:nvPr/>
          </p:nvGraphicFramePr>
          <p:xfrm>
            <a:off x="7143840" y="3226680"/>
            <a:ext cx="1209600" cy="352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89" name="Object 1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143840" y="3226680"/>
                      <a:ext cx="12096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1"/>
            <p:cNvGraphicFramePr/>
            <p:nvPr/>
          </p:nvGraphicFramePr>
          <p:xfrm>
            <a:off x="1500120" y="3615480"/>
            <a:ext cx="1087200" cy="3970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91" name="Object 11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500120" y="3615480"/>
                      <a:ext cx="108720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92" name="Object 12"/>
            <p:cNvGraphicFramePr/>
            <p:nvPr/>
          </p:nvGraphicFramePr>
          <p:xfrm>
            <a:off x="4419720" y="3615480"/>
            <a:ext cx="392040" cy="39708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293" name="Object 12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419720" y="3615480"/>
                      <a:ext cx="392040" cy="39708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31"/>
            <p:cNvGraphicFramePr/>
            <p:nvPr/>
          </p:nvGraphicFramePr>
          <p:xfrm>
            <a:off x="4932360" y="3183120"/>
            <a:ext cx="398160" cy="3243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295" name="Object 31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4932360" y="318312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组合 15"/>
          <p:cNvGrpSpPr/>
          <p:nvPr/>
        </p:nvGrpSpPr>
        <p:grpSpPr>
          <a:xfrm>
            <a:off x="1571760" y="536400"/>
            <a:ext cx="4665240" cy="570240"/>
            <a:chOff x="1571760" y="536400"/>
            <a:chExt cx="4665240" cy="570240"/>
          </a:xfrm>
        </p:grpSpPr>
        <p:sp>
          <p:nvSpPr>
            <p:cNvPr id="297" name="Rectangle 15"/>
            <p:cNvSpPr/>
            <p:nvPr/>
          </p:nvSpPr>
          <p:spPr>
            <a:xfrm>
              <a:off x="1746360" y="536400"/>
              <a:ext cx="449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                       及紧性定义知：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98" name="Object 10"/>
            <p:cNvGraphicFramePr/>
            <p:nvPr/>
          </p:nvGraphicFramePr>
          <p:xfrm>
            <a:off x="1571760" y="536400"/>
            <a:ext cx="2146320" cy="57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9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71760" y="536400"/>
                      <a:ext cx="2146320" cy="57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0" name="组合 16"/>
          <p:cNvGrpSpPr/>
          <p:nvPr/>
        </p:nvGrpSpPr>
        <p:grpSpPr>
          <a:xfrm>
            <a:off x="1213560" y="965160"/>
            <a:ext cx="7087320" cy="760320"/>
            <a:chOff x="1213560" y="965160"/>
            <a:chExt cx="7087320" cy="760320"/>
          </a:xfrm>
        </p:grpSpPr>
        <p:sp>
          <p:nvSpPr>
            <p:cNvPr id="301" name="Rectangle 15"/>
            <p:cNvSpPr/>
            <p:nvPr/>
          </p:nvSpPr>
          <p:spPr>
            <a:xfrm>
              <a:off x="1213560" y="1125720"/>
              <a:ext cx="389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存在有限多个元                 ，使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2" name="Object 3"/>
            <p:cNvGraphicFramePr/>
            <p:nvPr/>
          </p:nvGraphicFramePr>
          <p:xfrm>
            <a:off x="3214800" y="1124640"/>
            <a:ext cx="1395360" cy="42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3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14800" y="1124640"/>
                      <a:ext cx="139536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Object 4"/>
            <p:cNvGraphicFramePr/>
            <p:nvPr/>
          </p:nvGraphicFramePr>
          <p:xfrm>
            <a:off x="5929200" y="965160"/>
            <a:ext cx="2371680" cy="76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5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29200" y="965160"/>
                      <a:ext cx="2371680" cy="76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6" name="组合 17"/>
          <p:cNvGrpSpPr/>
          <p:nvPr/>
        </p:nvGrpSpPr>
        <p:grpSpPr>
          <a:xfrm>
            <a:off x="821520" y="1608120"/>
            <a:ext cx="3916080" cy="573840"/>
            <a:chOff x="821520" y="1608120"/>
            <a:chExt cx="3916080" cy="573840"/>
          </a:xfrm>
        </p:grpSpPr>
        <p:sp>
          <p:nvSpPr>
            <p:cNvPr id="307" name="Rectangle 15"/>
            <p:cNvSpPr/>
            <p:nvPr/>
          </p:nvSpPr>
          <p:spPr>
            <a:xfrm>
              <a:off x="821520" y="1661400"/>
              <a:ext cx="391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但当                               时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08" name="Object 5"/>
            <p:cNvGraphicFramePr/>
            <p:nvPr/>
          </p:nvGraphicFramePr>
          <p:xfrm>
            <a:off x="1357200" y="1608120"/>
            <a:ext cx="2908440" cy="50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57200" y="1608120"/>
                      <a:ext cx="2908440" cy="5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0" name="Object 6"/>
          <p:cNvGraphicFramePr/>
          <p:nvPr/>
        </p:nvGraphicFramePr>
        <p:xfrm>
          <a:off x="2357280" y="2089080"/>
          <a:ext cx="395784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57280" y="2089080"/>
                    <a:ext cx="39578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15"/>
          <p:cNvSpPr/>
          <p:nvPr/>
        </p:nvSpPr>
        <p:spPr>
          <a:xfrm>
            <a:off x="648000" y="2786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从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13" name="Object 7"/>
          <p:cNvGraphicFramePr/>
          <p:nvPr/>
        </p:nvGraphicFramePr>
        <p:xfrm>
          <a:off x="1785960" y="2786040"/>
          <a:ext cx="6253200" cy="123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85960" y="2786040"/>
                    <a:ext cx="62532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15"/>
          <p:cNvSpPr/>
          <p:nvPr/>
        </p:nvSpPr>
        <p:spPr>
          <a:xfrm>
            <a:off x="893880" y="407196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此为矛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2667960" y="4071960"/>
            <a:ext cx="18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于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成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Object 2"/>
          <p:cNvGraphicFramePr/>
          <p:nvPr/>
        </p:nvGraphicFramePr>
        <p:xfrm>
          <a:off x="1214280" y="750960"/>
          <a:ext cx="128448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750960"/>
                    <a:ext cx="12844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组合 27"/>
          <p:cNvGrpSpPr/>
          <p:nvPr/>
        </p:nvGrpSpPr>
        <p:grpSpPr>
          <a:xfrm>
            <a:off x="1829880" y="1285920"/>
            <a:ext cx="4889880" cy="520560"/>
            <a:chOff x="1829880" y="1285920"/>
            <a:chExt cx="4889880" cy="520560"/>
          </a:xfrm>
        </p:grpSpPr>
        <p:sp>
          <p:nvSpPr>
            <p:cNvPr id="320" name="Rectangle 15"/>
            <p:cNvSpPr/>
            <p:nvPr/>
          </p:nvSpPr>
          <p:spPr>
            <a:xfrm>
              <a:off x="1829880" y="1285920"/>
              <a:ext cx="26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对任意的          ，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1" name="Object 4"/>
            <p:cNvGraphicFramePr/>
            <p:nvPr/>
          </p:nvGraphicFramePr>
          <p:xfrm>
            <a:off x="2928960" y="1339560"/>
            <a:ext cx="876240" cy="309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2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28960" y="1339560"/>
                      <a:ext cx="876240" cy="30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Object 5"/>
            <p:cNvGraphicFramePr/>
            <p:nvPr/>
          </p:nvGraphicFramePr>
          <p:xfrm>
            <a:off x="5027760" y="1285920"/>
            <a:ext cx="1692000" cy="397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7760" y="1285920"/>
                      <a:ext cx="169200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5" name="组合 28"/>
          <p:cNvGrpSpPr/>
          <p:nvPr/>
        </p:nvGrpSpPr>
        <p:grpSpPr>
          <a:xfrm>
            <a:off x="1357200" y="1820880"/>
            <a:ext cx="6462720" cy="520560"/>
            <a:chOff x="1357200" y="1820880"/>
            <a:chExt cx="6462720" cy="520560"/>
          </a:xfrm>
        </p:grpSpPr>
        <p:graphicFrame>
          <p:nvGraphicFramePr>
            <p:cNvPr id="326" name="Object 6"/>
            <p:cNvGraphicFramePr/>
            <p:nvPr/>
          </p:nvGraphicFramePr>
          <p:xfrm>
            <a:off x="1357200" y="1820880"/>
            <a:ext cx="484200" cy="3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7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57200" y="1820880"/>
                      <a:ext cx="48420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Rectangle 15"/>
            <p:cNvSpPr/>
            <p:nvPr/>
          </p:nvSpPr>
          <p:spPr>
            <a:xfrm>
              <a:off x="2223360" y="1820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为开集，故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29" name="Object 7"/>
            <p:cNvGraphicFramePr/>
            <p:nvPr/>
          </p:nvGraphicFramePr>
          <p:xfrm>
            <a:off x="4071960" y="1820880"/>
            <a:ext cx="3747960" cy="429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0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71960" y="1820880"/>
                      <a:ext cx="3747960" cy="42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31" name="组合 30"/>
          <p:cNvGrpSpPr/>
          <p:nvPr/>
        </p:nvGrpSpPr>
        <p:grpSpPr>
          <a:xfrm>
            <a:off x="788760" y="2463840"/>
            <a:ext cx="5183280" cy="520560"/>
            <a:chOff x="788760" y="2463840"/>
            <a:chExt cx="5183280" cy="520560"/>
          </a:xfrm>
        </p:grpSpPr>
        <p:sp>
          <p:nvSpPr>
            <p:cNvPr id="332" name="Rectangle 15"/>
            <p:cNvSpPr/>
            <p:nvPr/>
          </p:nvSpPr>
          <p:spPr>
            <a:xfrm>
              <a:off x="788760" y="2463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3" name="Object 8"/>
            <p:cNvGraphicFramePr/>
            <p:nvPr/>
          </p:nvGraphicFramePr>
          <p:xfrm>
            <a:off x="1285560" y="2463840"/>
            <a:ext cx="4686480" cy="477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4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85560" y="2463840"/>
                      <a:ext cx="4686480" cy="47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35" name="组合 29"/>
          <p:cNvGrpSpPr/>
          <p:nvPr/>
        </p:nvGrpSpPr>
        <p:grpSpPr>
          <a:xfrm>
            <a:off x="6149520" y="2517840"/>
            <a:ext cx="3188880" cy="520560"/>
            <a:chOff x="6149520" y="2517840"/>
            <a:chExt cx="3188880" cy="520560"/>
          </a:xfrm>
        </p:grpSpPr>
        <p:sp>
          <p:nvSpPr>
            <p:cNvPr id="336" name="Rectangle 15"/>
            <p:cNvSpPr/>
            <p:nvPr/>
          </p:nvSpPr>
          <p:spPr>
            <a:xfrm>
              <a:off x="6149520" y="2517840"/>
              <a:ext cx="318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显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37" name="Object 9"/>
            <p:cNvGraphicFramePr/>
            <p:nvPr/>
          </p:nvGraphicFramePr>
          <p:xfrm>
            <a:off x="6929280" y="2517840"/>
            <a:ext cx="906120" cy="429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38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29280" y="2517840"/>
                      <a:ext cx="906120" cy="429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9" name="Text Box 3"/>
          <p:cNvSpPr/>
          <p:nvPr/>
        </p:nvSpPr>
        <p:spPr>
          <a:xfrm>
            <a:off x="285840" y="30002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下面我们证明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0" name="组合 32"/>
          <p:cNvGrpSpPr/>
          <p:nvPr/>
        </p:nvGrpSpPr>
        <p:grpSpPr>
          <a:xfrm>
            <a:off x="1943640" y="3535200"/>
            <a:ext cx="5287320" cy="520560"/>
            <a:chOff x="1943640" y="3535200"/>
            <a:chExt cx="5287320" cy="520560"/>
          </a:xfrm>
        </p:grpSpPr>
        <p:sp>
          <p:nvSpPr>
            <p:cNvPr id="341" name="Rectangle 15"/>
            <p:cNvSpPr/>
            <p:nvPr/>
          </p:nvSpPr>
          <p:spPr>
            <a:xfrm>
              <a:off x="1943640" y="3535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下确界定义，存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2" name="Object 12"/>
            <p:cNvGraphicFramePr/>
            <p:nvPr/>
          </p:nvGraphicFramePr>
          <p:xfrm>
            <a:off x="4813200" y="3535200"/>
            <a:ext cx="2417760" cy="42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43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813200" y="3535200"/>
                      <a:ext cx="2417760" cy="42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4" name="组合 33"/>
          <p:cNvGrpSpPr/>
          <p:nvPr/>
        </p:nvGrpSpPr>
        <p:grpSpPr>
          <a:xfrm>
            <a:off x="1714680" y="4071960"/>
            <a:ext cx="5457600" cy="520560"/>
            <a:chOff x="1714680" y="4071960"/>
            <a:chExt cx="5457600" cy="520560"/>
          </a:xfrm>
        </p:grpSpPr>
        <p:sp>
          <p:nvSpPr>
            <p:cNvPr id="345" name="Rectangle 15"/>
            <p:cNvSpPr/>
            <p:nvPr/>
          </p:nvSpPr>
          <p:spPr>
            <a:xfrm>
              <a:off x="1714680" y="4071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2)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，存在子序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46" name="Object 13"/>
            <p:cNvGraphicFramePr/>
            <p:nvPr/>
          </p:nvGraphicFramePr>
          <p:xfrm>
            <a:off x="4541760" y="4071960"/>
            <a:ext cx="2630520" cy="420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47" name="Object 1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541760" y="4071960"/>
                      <a:ext cx="263052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8" name="组合 32"/>
          <p:cNvGrpSpPr/>
          <p:nvPr/>
        </p:nvGrpSpPr>
        <p:grpSpPr>
          <a:xfrm>
            <a:off x="3143160" y="696960"/>
            <a:ext cx="4372560" cy="520560"/>
            <a:chOff x="3143160" y="696960"/>
            <a:chExt cx="4372560" cy="520560"/>
          </a:xfrm>
        </p:grpSpPr>
        <p:sp>
          <p:nvSpPr>
            <p:cNvPr id="349" name="Rectangle 15"/>
            <p:cNvSpPr/>
            <p:nvPr/>
          </p:nvSpPr>
          <p:spPr>
            <a:xfrm>
              <a:off x="3256920" y="696960"/>
              <a:ext cx="42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若                  是    的一族开覆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50" name="Object 3"/>
            <p:cNvGraphicFramePr/>
            <p:nvPr/>
          </p:nvGraphicFramePr>
          <p:xfrm>
            <a:off x="3143160" y="696960"/>
            <a:ext cx="1752480" cy="4410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51" name="Object 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143160" y="696960"/>
                      <a:ext cx="175248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Object 32"/>
            <p:cNvGraphicFramePr/>
            <p:nvPr/>
          </p:nvGraphicFramePr>
          <p:xfrm>
            <a:off x="5293080" y="736200"/>
            <a:ext cx="398160" cy="3232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53" name="Object 3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93080" y="736200"/>
                      <a:ext cx="398160" cy="32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54" name="组合 33"/>
          <p:cNvGrpSpPr/>
          <p:nvPr/>
        </p:nvGrpSpPr>
        <p:grpSpPr>
          <a:xfrm>
            <a:off x="2857680" y="2946240"/>
            <a:ext cx="5699160" cy="578160"/>
            <a:chOff x="2857680" y="2946240"/>
            <a:chExt cx="5699160" cy="578160"/>
          </a:xfrm>
        </p:grpSpPr>
        <p:graphicFrame>
          <p:nvGraphicFramePr>
            <p:cNvPr id="355" name="Object 10"/>
            <p:cNvGraphicFramePr/>
            <p:nvPr/>
          </p:nvGraphicFramePr>
          <p:xfrm>
            <a:off x="2857680" y="2999880"/>
            <a:ext cx="2023920" cy="5245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56" name="Object 10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857680" y="2999880"/>
                      <a:ext cx="2023920" cy="52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Rectangle 15"/>
            <p:cNvSpPr/>
            <p:nvPr/>
          </p:nvSpPr>
          <p:spPr>
            <a:xfrm>
              <a:off x="4929120" y="2999880"/>
              <a:ext cx="362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是    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Lebesque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.)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358" name="Object 11"/>
            <p:cNvGraphicFramePr/>
            <p:nvPr/>
          </p:nvGraphicFramePr>
          <p:xfrm>
            <a:off x="5143320" y="2946240"/>
            <a:ext cx="331560" cy="4291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59" name="Object 1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143320" y="2946240"/>
                      <a:ext cx="331560" cy="429120"/>
                    </a:xfrm>
                    <a:prstGeom prst="rect">
                      <a:avLst/>
                    </a:prstGeom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60" name="Object 33"/>
            <p:cNvGraphicFramePr/>
            <p:nvPr/>
          </p:nvGraphicFramePr>
          <p:xfrm>
            <a:off x="5796000" y="3003480"/>
            <a:ext cx="398160" cy="3243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61" name="Object 33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796000" y="3003480"/>
                      <a:ext cx="39816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08:53Z</dcterms:created>
  <dc:creator>zlx</dc:creator>
  <dc:description/>
  <dc:language>en-US</dc:language>
  <cp:lastModifiedBy>CKDZ</cp:lastModifiedBy>
  <dcterms:modified xsi:type="dcterms:W3CDTF">2014-09-11T01:36:47Z</dcterms:modified>
  <cp:revision>298</cp:revision>
  <dc:subject/>
  <dc:title>幻灯片 1</dc:title>
</cp:coreProperties>
</file>