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2.wmf" ContentType="image/x-wmf"/>
  <Override PartName="/ppt/media/image129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50.wmf" ContentType="image/x-wmf"/>
  <Override PartName="/ppt/media/image99.wmf" ContentType="image/x-wmf"/>
  <Override PartName="/ppt/media/image152.wmf" ContentType="image/x-wmf"/>
  <Override PartName="/ppt/media/image153.wmf" ContentType="image/x-wmf"/>
  <Override PartName="/ppt/media/image154.wmf" ContentType="image/x-wmf"/>
  <Override PartName="/ppt/media/image109.wmf" ContentType="image/x-wmf"/>
  <Override PartName="/ppt/media/image151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23B-319D-4069-A440-72EDA4FD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6EE-8C83-4CEB-ABBC-15AF6780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0B8-129A-40F6-887F-8DB4DD27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344-FDB0-4F46-B0D5-F55774AF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36AF-F5C5-4868-A6DA-6973B614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2D92-506D-449C-A6B0-C1169923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D40C-0BE4-4C41-891C-6E0628A0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79AF-2D80-4F95-AE15-DBA261CC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37AF-ED57-4D2B-BA63-A2F42211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C277-75FF-43B9-84E8-675A1ED5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B115-25CB-47A2-A1D1-30A116DF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17E-62BF-4FDC-8CAC-564B8579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68AF-7AE6-4A90-B9F7-C4661A9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41BC-1A2D-47F4-9095-4666E9C9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CB6B-D444-4AEA-A44E-3F9F36F5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0863-E17D-4184-9AE8-F4156462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2981-3B8B-457F-B145-FFA395B3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57A-0DC2-4707-B7A1-C7DC3D48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676-F3D2-48F6-9994-9A74614E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09A-5B8E-4D47-8EB2-D4E4A151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75B-1D88-48EF-BF92-FAF5CE50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3F7-870D-42FB-808E-1FE5C665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5C7-B632-4FC7-A5FF-C15AFEEF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9F8-93D1-4BE1-BF8D-0AA82D6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FD3C-C693-4A2F-87E5-8FBA9DD74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BFAD-3237-4611-A64A-4F8F0F7534C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3.wmf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0.wmf"/><Relationship Id="rId2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3.wmf"/><Relationship Id="rId2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2.wmf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2.wmf"/><Relationship Id="rId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5.wmf"/><Relationship Id="rId2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6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5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63.wmf"/><Relationship Id="rId3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1768320"/>
            <a:ext cx="93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七讲  闭图像定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214200" y="785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8" name="组合 8"/>
          <p:cNvGrpSpPr/>
          <p:nvPr/>
        </p:nvGrpSpPr>
        <p:grpSpPr>
          <a:xfrm>
            <a:off x="1150920" y="928800"/>
            <a:ext cx="6968880" cy="1800360"/>
            <a:chOff x="1150920" y="928800"/>
            <a:chExt cx="6968880" cy="1800360"/>
          </a:xfrm>
        </p:grpSpPr>
        <p:grpSp>
          <p:nvGrpSpPr>
            <p:cNvPr id="269" name="组合 25"/>
            <p:cNvGrpSpPr/>
            <p:nvPr/>
          </p:nvGrpSpPr>
          <p:grpSpPr>
            <a:xfrm>
              <a:off x="1150920" y="928800"/>
              <a:ext cx="6968880" cy="1800360"/>
              <a:chOff x="1150920" y="928800"/>
              <a:chExt cx="6968880" cy="1800360"/>
            </a:xfrm>
          </p:grpSpPr>
          <p:sp>
            <p:nvSpPr>
              <p:cNvPr id="270" name="Rectangle 15"/>
              <p:cNvSpPr/>
              <p:nvPr/>
            </p:nvSpPr>
            <p:spPr>
              <a:xfrm>
                <a:off x="1150920" y="928800"/>
                <a:ext cx="696888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是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Hilbert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空间   到自身的处处定义的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线性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如果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则    是有界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71" name="Object 21"/>
              <p:cNvGraphicFramePr/>
              <p:nvPr/>
            </p:nvGraphicFramePr>
            <p:xfrm>
              <a:off x="2428560" y="1857600"/>
              <a:ext cx="5105520" cy="450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2" name="Object 2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28560" y="1857600"/>
                        <a:ext cx="5105520" cy="450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3" name="Object 4"/>
            <p:cNvGraphicFramePr/>
            <p:nvPr/>
          </p:nvGraphicFramePr>
          <p:xfrm>
            <a:off x="2057040" y="1000080"/>
            <a:ext cx="341280" cy="34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57040" y="1000080"/>
                      <a:ext cx="341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Object 4"/>
            <p:cNvGraphicFramePr/>
            <p:nvPr/>
          </p:nvGraphicFramePr>
          <p:xfrm>
            <a:off x="4829040" y="1000080"/>
            <a:ext cx="398160" cy="34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29040" y="1000080"/>
                      <a:ext cx="3981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1214280" y="2286360"/>
            <a:ext cx="341280" cy="345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4280" y="2286360"/>
                      <a:ext cx="341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9" name="Text Box 3"/>
          <p:cNvSpPr/>
          <p:nvPr/>
        </p:nvSpPr>
        <p:spPr>
          <a:xfrm>
            <a:off x="357120" y="27860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0" name="组合 10"/>
          <p:cNvGrpSpPr/>
          <p:nvPr/>
        </p:nvGrpSpPr>
        <p:grpSpPr>
          <a:xfrm>
            <a:off x="878760" y="2786040"/>
            <a:ext cx="7693920" cy="1373760"/>
            <a:chOff x="878760" y="2786040"/>
            <a:chExt cx="7693920" cy="1373760"/>
          </a:xfrm>
        </p:grpSpPr>
        <p:grpSp>
          <p:nvGrpSpPr>
            <p:cNvPr id="281" name="组合 25"/>
            <p:cNvGrpSpPr/>
            <p:nvPr/>
          </p:nvGrpSpPr>
          <p:grpSpPr>
            <a:xfrm>
              <a:off x="878760" y="2786040"/>
              <a:ext cx="7173360" cy="1373760"/>
              <a:chOff x="878760" y="2786040"/>
              <a:chExt cx="7173360" cy="1373760"/>
            </a:xfrm>
          </p:grpSpPr>
          <p:sp>
            <p:nvSpPr>
              <p:cNvPr id="282" name="Rectangle 15"/>
              <p:cNvSpPr/>
              <p:nvPr/>
            </p:nvSpPr>
            <p:spPr>
              <a:xfrm>
                <a:off x="878760" y="2786040"/>
                <a:ext cx="67860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，则对于任何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从假设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83" name="Object 6"/>
              <p:cNvGraphicFramePr/>
              <p:nvPr/>
            </p:nvGraphicFramePr>
            <p:xfrm>
              <a:off x="2571840" y="3642840"/>
              <a:ext cx="5480280" cy="506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84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571840" y="3642840"/>
                        <a:ext cx="5480280" cy="50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5" name="Object 7"/>
            <p:cNvGraphicFramePr/>
            <p:nvPr/>
          </p:nvGraphicFramePr>
          <p:xfrm>
            <a:off x="2143080" y="2857320"/>
            <a:ext cx="3327480" cy="585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6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43080" y="2857320"/>
                      <a:ext cx="3327480" cy="58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Object 9"/>
            <p:cNvGraphicFramePr/>
            <p:nvPr/>
          </p:nvGraphicFramePr>
          <p:xfrm>
            <a:off x="7548840" y="2857320"/>
            <a:ext cx="1023840" cy="425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8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48840" y="2857320"/>
                      <a:ext cx="102384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1"/>
          <p:cNvGrpSpPr/>
          <p:nvPr/>
        </p:nvGrpSpPr>
        <p:grpSpPr>
          <a:xfrm>
            <a:off x="600120" y="714240"/>
            <a:ext cx="6199200" cy="1078200"/>
            <a:chOff x="600120" y="714240"/>
            <a:chExt cx="6199200" cy="1078200"/>
          </a:xfrm>
        </p:grpSpPr>
        <p:grpSp>
          <p:nvGrpSpPr>
            <p:cNvPr id="290" name="组合 25"/>
            <p:cNvGrpSpPr/>
            <p:nvPr/>
          </p:nvGrpSpPr>
          <p:grpSpPr>
            <a:xfrm>
              <a:off x="600120" y="714240"/>
              <a:ext cx="6199200" cy="1078200"/>
              <a:chOff x="600120" y="714240"/>
              <a:chExt cx="6199200" cy="1078200"/>
            </a:xfrm>
          </p:grpSpPr>
          <p:sp>
            <p:nvSpPr>
              <p:cNvPr id="291" name="Rectangle 15"/>
              <p:cNvSpPr/>
              <p:nvPr/>
            </p:nvSpPr>
            <p:spPr>
              <a:xfrm>
                <a:off x="600120" y="714240"/>
                <a:ext cx="308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令           ，便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92" name="Object 21"/>
              <p:cNvGraphicFramePr/>
              <p:nvPr/>
            </p:nvGraphicFramePr>
            <p:xfrm>
              <a:off x="3571920" y="1285920"/>
              <a:ext cx="3227400" cy="506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3" name="Object 2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571920" y="1285920"/>
                        <a:ext cx="3227400" cy="50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94" name="Object 4"/>
            <p:cNvGraphicFramePr/>
            <p:nvPr/>
          </p:nvGraphicFramePr>
          <p:xfrm>
            <a:off x="1285920" y="857160"/>
            <a:ext cx="995400" cy="293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85920" y="857160"/>
                      <a:ext cx="995400" cy="2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6" name="组合 25"/>
          <p:cNvGrpSpPr/>
          <p:nvPr/>
        </p:nvGrpSpPr>
        <p:grpSpPr>
          <a:xfrm>
            <a:off x="852120" y="1857240"/>
            <a:ext cx="6161400" cy="1078200"/>
            <a:chOff x="852120" y="1857240"/>
            <a:chExt cx="6161400" cy="1078200"/>
          </a:xfrm>
        </p:grpSpPr>
        <p:sp>
          <p:nvSpPr>
            <p:cNvPr id="297" name="Rectangle 15"/>
            <p:cNvSpPr/>
            <p:nvPr/>
          </p:nvSpPr>
          <p:spPr>
            <a:xfrm>
              <a:off x="852120" y="1857240"/>
              <a:ext cx="22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又由假设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8" name="Object 5"/>
            <p:cNvGraphicFramePr/>
            <p:nvPr/>
          </p:nvGraphicFramePr>
          <p:xfrm>
            <a:off x="3786120" y="2428920"/>
            <a:ext cx="3227400" cy="506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9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86120" y="2428920"/>
                      <a:ext cx="322740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0" name="组合 17"/>
          <p:cNvGrpSpPr/>
          <p:nvPr/>
        </p:nvGrpSpPr>
        <p:grpSpPr>
          <a:xfrm>
            <a:off x="1561320" y="3143160"/>
            <a:ext cx="6418440" cy="947160"/>
            <a:chOff x="1561320" y="3143160"/>
            <a:chExt cx="6418440" cy="947160"/>
          </a:xfrm>
        </p:grpSpPr>
        <p:grpSp>
          <p:nvGrpSpPr>
            <p:cNvPr id="301" name="组合 25"/>
            <p:cNvGrpSpPr/>
            <p:nvPr/>
          </p:nvGrpSpPr>
          <p:grpSpPr>
            <a:xfrm>
              <a:off x="1561320" y="3143160"/>
              <a:ext cx="6418440" cy="947160"/>
              <a:chOff x="1561320" y="3143160"/>
              <a:chExt cx="6418440" cy="947160"/>
            </a:xfrm>
          </p:grpSpPr>
          <p:sp>
            <p:nvSpPr>
              <p:cNvPr id="302" name="Rectangle 15"/>
              <p:cNvSpPr/>
              <p:nvPr/>
            </p:nvSpPr>
            <p:spPr>
              <a:xfrm>
                <a:off x="1561320" y="3143160"/>
                <a:ext cx="6418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可见                 ，故    是闭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根据闭图像定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理知    是有界的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证毕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03" name="Object 7"/>
              <p:cNvGraphicFramePr/>
              <p:nvPr/>
            </p:nvGraphicFramePr>
            <p:xfrm>
              <a:off x="1857240" y="3207960"/>
              <a:ext cx="1650960" cy="506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04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57240" y="3207960"/>
                        <a:ext cx="1650960" cy="50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05" name="Object 8"/>
            <p:cNvGraphicFramePr/>
            <p:nvPr/>
          </p:nvGraphicFramePr>
          <p:xfrm>
            <a:off x="4214880" y="3214440"/>
            <a:ext cx="45072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6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14880" y="3214440"/>
                      <a:ext cx="450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Object 9"/>
            <p:cNvGraphicFramePr/>
            <p:nvPr/>
          </p:nvGraphicFramePr>
          <p:xfrm>
            <a:off x="1857240" y="3643200"/>
            <a:ext cx="450720" cy="365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8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857240" y="3643200"/>
                      <a:ext cx="450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14200" y="785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0" name="组合 16"/>
          <p:cNvGrpSpPr/>
          <p:nvPr/>
        </p:nvGrpSpPr>
        <p:grpSpPr>
          <a:xfrm>
            <a:off x="1674000" y="857160"/>
            <a:ext cx="6741000" cy="1373760"/>
            <a:chOff x="1674000" y="857160"/>
            <a:chExt cx="6741000" cy="1373760"/>
          </a:xfrm>
        </p:grpSpPr>
        <p:grpSp>
          <p:nvGrpSpPr>
            <p:cNvPr id="311" name="组合 2"/>
            <p:cNvGrpSpPr/>
            <p:nvPr/>
          </p:nvGrpSpPr>
          <p:grpSpPr>
            <a:xfrm>
              <a:off x="1674000" y="857160"/>
              <a:ext cx="6741000" cy="1373760"/>
              <a:chOff x="1674000" y="857160"/>
              <a:chExt cx="6741000" cy="1373760"/>
            </a:xfrm>
          </p:grpSpPr>
          <p:grpSp>
            <p:nvGrpSpPr>
              <p:cNvPr id="312" name="组合 3"/>
              <p:cNvGrpSpPr/>
              <p:nvPr/>
            </p:nvGrpSpPr>
            <p:grpSpPr>
              <a:xfrm>
                <a:off x="1674000" y="857160"/>
                <a:ext cx="6535800" cy="1373760"/>
                <a:chOff x="1674000" y="857160"/>
                <a:chExt cx="6535800" cy="1373760"/>
              </a:xfrm>
            </p:grpSpPr>
            <p:grpSp>
              <p:nvGrpSpPr>
                <p:cNvPr id="313" name="组合 52"/>
                <p:cNvGrpSpPr/>
                <p:nvPr/>
              </p:nvGrpSpPr>
              <p:grpSpPr>
                <a:xfrm>
                  <a:off x="1674000" y="857160"/>
                  <a:ext cx="6535800" cy="1373760"/>
                  <a:chOff x="1674000" y="857160"/>
                  <a:chExt cx="6535800" cy="1373760"/>
                </a:xfrm>
              </p:grpSpPr>
              <p:grpSp>
                <p:nvGrpSpPr>
                  <p:cNvPr id="314" name="组合 48"/>
                  <p:cNvGrpSpPr/>
                  <p:nvPr/>
                </p:nvGrpSpPr>
                <p:grpSpPr>
                  <a:xfrm>
                    <a:off x="1674000" y="857160"/>
                    <a:ext cx="6535800" cy="1373760"/>
                    <a:chOff x="1674000" y="857160"/>
                    <a:chExt cx="6535800" cy="1373760"/>
                  </a:xfrm>
                </p:grpSpPr>
                <p:sp>
                  <p:nvSpPr>
                    <p:cNvPr id="315" name="Rectangle 15"/>
                    <p:cNvSpPr/>
                    <p:nvPr/>
                  </p:nvSpPr>
                  <p:spPr>
                    <a:xfrm>
                      <a:off x="1674000" y="857160"/>
                      <a:ext cx="6535800" cy="137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设       与         分别为算子   与    所定义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空间 ，若                    ，并且                             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则称算子   是   的延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.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graphicFrame>
                  <p:nvGraphicFramePr>
                    <p:cNvPr id="316" name="Object 2"/>
                    <p:cNvGraphicFramePr/>
                    <p:nvPr/>
                  </p:nvGraphicFramePr>
                  <p:xfrm>
                    <a:off x="1913040" y="928440"/>
                    <a:ext cx="822240" cy="42696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317" name="Object 2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913040" y="928440"/>
                              <a:ext cx="822240" cy="42696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318" name="Object 3"/>
                  <p:cNvGraphicFramePr/>
                  <p:nvPr/>
                </p:nvGraphicFramePr>
                <p:xfrm>
                  <a:off x="5715000" y="928440"/>
                  <a:ext cx="312480" cy="3459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319" name="Object 3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5715000" y="928440"/>
                            <a:ext cx="31248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20" name="Object 4"/>
                <p:cNvGraphicFramePr/>
                <p:nvPr/>
              </p:nvGraphicFramePr>
              <p:xfrm>
                <a:off x="2571840" y="1356840"/>
                <a:ext cx="1989000" cy="4791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21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571840" y="1356840"/>
                          <a:ext cx="1989000" cy="479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22" name="Object 5"/>
                <p:cNvGraphicFramePr/>
                <p:nvPr/>
              </p:nvGraphicFramePr>
              <p:xfrm>
                <a:off x="3000240" y="901440"/>
                <a:ext cx="852480" cy="4791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323" name="Object 5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3000240" y="901440"/>
                          <a:ext cx="852480" cy="479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4" name="Object 7"/>
              <p:cNvGraphicFramePr/>
              <p:nvPr/>
            </p:nvGraphicFramePr>
            <p:xfrm>
              <a:off x="5572080" y="1306080"/>
              <a:ext cx="2842920" cy="479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25" name="Object 7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572080" y="1306080"/>
                        <a:ext cx="2842920" cy="479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26" name="Object 8"/>
            <p:cNvGraphicFramePr/>
            <p:nvPr/>
          </p:nvGraphicFramePr>
          <p:xfrm>
            <a:off x="6357960" y="928440"/>
            <a:ext cx="312480" cy="479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7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57960" y="928440"/>
                      <a:ext cx="312480" cy="47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9"/>
            <p:cNvGraphicFramePr/>
            <p:nvPr/>
          </p:nvGraphicFramePr>
          <p:xfrm>
            <a:off x="2428920" y="1734840"/>
            <a:ext cx="312480" cy="479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9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28920" y="1734840"/>
                      <a:ext cx="312480" cy="47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0" name="Object 10"/>
            <p:cNvGraphicFramePr/>
            <p:nvPr/>
          </p:nvGraphicFramePr>
          <p:xfrm>
            <a:off x="3143160" y="1785600"/>
            <a:ext cx="312480" cy="345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1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43160" y="178560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2" name="Text Box 3"/>
          <p:cNvSpPr/>
          <p:nvPr/>
        </p:nvSpPr>
        <p:spPr>
          <a:xfrm>
            <a:off x="214200" y="23572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3" name="组合 19"/>
          <p:cNvGrpSpPr/>
          <p:nvPr/>
        </p:nvGrpSpPr>
        <p:grpSpPr>
          <a:xfrm>
            <a:off x="1863000" y="2428920"/>
            <a:ext cx="5784120" cy="2211480"/>
            <a:chOff x="1863000" y="2428920"/>
            <a:chExt cx="5784120" cy="2211480"/>
          </a:xfrm>
        </p:grpSpPr>
        <p:grpSp>
          <p:nvGrpSpPr>
            <p:cNvPr id="334" name="组合 52"/>
            <p:cNvGrpSpPr/>
            <p:nvPr/>
          </p:nvGrpSpPr>
          <p:grpSpPr>
            <a:xfrm>
              <a:off x="1863000" y="2428920"/>
              <a:ext cx="5168880" cy="1800360"/>
              <a:chOff x="1863000" y="2428920"/>
              <a:chExt cx="5168880" cy="1800360"/>
            </a:xfrm>
          </p:grpSpPr>
          <p:grpSp>
            <p:nvGrpSpPr>
              <p:cNvPr id="335" name="组合 48"/>
              <p:cNvGrpSpPr/>
              <p:nvPr/>
            </p:nvGrpSpPr>
            <p:grpSpPr>
              <a:xfrm>
                <a:off x="1863000" y="2428920"/>
                <a:ext cx="5168880" cy="1800360"/>
                <a:chOff x="1863000" y="2428920"/>
                <a:chExt cx="5168880" cy="1800360"/>
              </a:xfrm>
            </p:grpSpPr>
            <p:sp>
              <p:nvSpPr>
                <p:cNvPr id="336" name="Rectangle 15"/>
                <p:cNvSpPr/>
                <p:nvPr/>
              </p:nvSpPr>
              <p:spPr>
                <a:xfrm>
                  <a:off x="1863000" y="2428920"/>
                  <a:ext cx="516888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线性空间   上的实值函数        ：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为次可加性的，若                                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称为是正齐性的，若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337" name="Object 11"/>
                <p:cNvGraphicFramePr/>
                <p:nvPr/>
              </p:nvGraphicFramePr>
              <p:xfrm>
                <a:off x="3071520" y="2500200"/>
                <a:ext cx="395280" cy="34596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338" name="Object 11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3071520" y="2500200"/>
                          <a:ext cx="395280" cy="345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39" name="Object 12"/>
              <p:cNvGraphicFramePr/>
              <p:nvPr/>
            </p:nvGraphicFramePr>
            <p:xfrm>
              <a:off x="5500800" y="2500200"/>
              <a:ext cx="739800" cy="4269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340" name="Object 12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5500800" y="2500200"/>
                        <a:ext cx="73980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1" name="Object 13"/>
            <p:cNvGraphicFramePr/>
            <p:nvPr/>
          </p:nvGraphicFramePr>
          <p:xfrm>
            <a:off x="2928960" y="3286080"/>
            <a:ext cx="4718160" cy="4255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42" name="Object 13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928960" y="3286080"/>
                      <a:ext cx="471816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3" name="Object 14"/>
            <p:cNvGraphicFramePr/>
            <p:nvPr/>
          </p:nvGraphicFramePr>
          <p:xfrm>
            <a:off x="3143160" y="4214880"/>
            <a:ext cx="4006800" cy="4255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44" name="Object 1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143160" y="4214880"/>
                      <a:ext cx="400680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214200" y="785880"/>
            <a:ext cx="49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  (Hahn-Banach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6" name="组合 21"/>
          <p:cNvGrpSpPr/>
          <p:nvPr/>
        </p:nvGrpSpPr>
        <p:grpSpPr>
          <a:xfrm>
            <a:off x="1188720" y="1428840"/>
            <a:ext cx="7340760" cy="2653560"/>
            <a:chOff x="1188720" y="1428840"/>
            <a:chExt cx="7340760" cy="2653560"/>
          </a:xfrm>
        </p:grpSpPr>
        <p:grpSp>
          <p:nvGrpSpPr>
            <p:cNvPr id="347" name="组合 19"/>
            <p:cNvGrpSpPr/>
            <p:nvPr/>
          </p:nvGrpSpPr>
          <p:grpSpPr>
            <a:xfrm>
              <a:off x="1188720" y="1428840"/>
              <a:ext cx="7340760" cy="2653560"/>
              <a:chOff x="1188720" y="1428840"/>
              <a:chExt cx="7340760" cy="2653560"/>
            </a:xfrm>
          </p:grpSpPr>
          <p:grpSp>
            <p:nvGrpSpPr>
              <p:cNvPr id="348" name="组合 52"/>
              <p:cNvGrpSpPr/>
              <p:nvPr/>
            </p:nvGrpSpPr>
            <p:grpSpPr>
              <a:xfrm>
                <a:off x="1188720" y="1428840"/>
                <a:ext cx="6424200" cy="2653560"/>
                <a:chOff x="1188720" y="1428840"/>
                <a:chExt cx="6424200" cy="2653560"/>
              </a:xfrm>
            </p:grpSpPr>
            <p:grpSp>
              <p:nvGrpSpPr>
                <p:cNvPr id="349" name="组合 48"/>
                <p:cNvGrpSpPr/>
                <p:nvPr/>
              </p:nvGrpSpPr>
              <p:grpSpPr>
                <a:xfrm>
                  <a:off x="2143080" y="1428840"/>
                  <a:ext cx="5469840" cy="2653560"/>
                  <a:chOff x="2143080" y="1428840"/>
                  <a:chExt cx="5469840" cy="2653560"/>
                </a:xfrm>
              </p:grpSpPr>
              <p:sp>
                <p:nvSpPr>
                  <p:cNvPr id="350" name="Rectangle 15"/>
                  <p:cNvSpPr/>
                  <p:nvPr/>
                </p:nvSpPr>
                <p:spPr>
                  <a:xfrm>
                    <a:off x="2230920" y="1428840"/>
                    <a:ext cx="5382000" cy="265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为实线性空间，        为线性子空间，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   上的次可加正齐性函数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;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对于   上的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每个实线性泛函    ，若                             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则必有    上的线性泛函   ，使得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即   是   从    到   上的延拓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1" name="Object 2"/>
                  <p:cNvGraphicFramePr/>
                  <p:nvPr/>
                </p:nvGraphicFramePr>
                <p:xfrm>
                  <a:off x="2143080" y="1500120"/>
                  <a:ext cx="394920" cy="3459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352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2143080" y="1500120"/>
                            <a:ext cx="394920" cy="345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353" name="Object 3"/>
                <p:cNvGraphicFramePr/>
                <p:nvPr/>
              </p:nvGraphicFramePr>
              <p:xfrm>
                <a:off x="1188720" y="1928880"/>
                <a:ext cx="739440" cy="4269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354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188720" y="1928880"/>
                          <a:ext cx="73944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55" name="Object 4"/>
              <p:cNvGraphicFramePr/>
              <p:nvPr/>
            </p:nvGraphicFramePr>
            <p:xfrm>
              <a:off x="2333520" y="3259440"/>
              <a:ext cx="6195960" cy="479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5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333520" y="3259440"/>
                        <a:ext cx="6195960" cy="47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57" name="Object 5"/>
              <p:cNvGraphicFramePr/>
              <p:nvPr/>
            </p:nvGraphicFramePr>
            <p:xfrm>
              <a:off x="4714920" y="1500120"/>
              <a:ext cx="1136520" cy="345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8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714920" y="1500120"/>
                        <a:ext cx="1136520" cy="3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59" name="Object 6"/>
            <p:cNvGraphicFramePr/>
            <p:nvPr/>
          </p:nvGraphicFramePr>
          <p:xfrm>
            <a:off x="2247840" y="1928880"/>
            <a:ext cx="394920" cy="34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47840" y="1928880"/>
                      <a:ext cx="39492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1" name="Object 7"/>
            <p:cNvGraphicFramePr/>
            <p:nvPr/>
          </p:nvGraphicFramePr>
          <p:xfrm>
            <a:off x="6929280" y="1940040"/>
            <a:ext cx="453960" cy="34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6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929280" y="1940040"/>
                      <a:ext cx="4539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8"/>
            <p:cNvGraphicFramePr/>
            <p:nvPr/>
          </p:nvGraphicFramePr>
          <p:xfrm>
            <a:off x="3714480" y="2306880"/>
            <a:ext cx="369720" cy="479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6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14480" y="2306880"/>
                      <a:ext cx="36972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9"/>
            <p:cNvGraphicFramePr/>
            <p:nvPr/>
          </p:nvGraphicFramePr>
          <p:xfrm>
            <a:off x="4746600" y="2306880"/>
            <a:ext cx="2896920" cy="479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66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46600" y="2306880"/>
                      <a:ext cx="289692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7" name="Object 10"/>
            <p:cNvGraphicFramePr/>
            <p:nvPr/>
          </p:nvGraphicFramePr>
          <p:xfrm>
            <a:off x="2357280" y="2786400"/>
            <a:ext cx="395280" cy="345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68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357280" y="2786400"/>
                      <a:ext cx="395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9" name="Object 11"/>
            <p:cNvGraphicFramePr/>
            <p:nvPr/>
          </p:nvGraphicFramePr>
          <p:xfrm>
            <a:off x="4800600" y="2741760"/>
            <a:ext cx="341280" cy="425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70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800600" y="2741760"/>
                      <a:ext cx="34128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1" name="Object 12"/>
            <p:cNvGraphicFramePr/>
            <p:nvPr/>
          </p:nvGraphicFramePr>
          <p:xfrm>
            <a:off x="1571400" y="3572280"/>
            <a:ext cx="341280" cy="4255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72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571400" y="3572280"/>
                      <a:ext cx="34128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3" name="Object 13"/>
            <p:cNvGraphicFramePr/>
            <p:nvPr/>
          </p:nvGraphicFramePr>
          <p:xfrm>
            <a:off x="2214360" y="3572280"/>
            <a:ext cx="369720" cy="4795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74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214360" y="3572280"/>
                      <a:ext cx="36972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5" name="Object 14"/>
            <p:cNvGraphicFramePr/>
            <p:nvPr/>
          </p:nvGraphicFramePr>
          <p:xfrm>
            <a:off x="2857320" y="3643920"/>
            <a:ext cx="453960" cy="345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76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857320" y="3643920"/>
                      <a:ext cx="4539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7" name="Object 15"/>
            <p:cNvGraphicFramePr/>
            <p:nvPr/>
          </p:nvGraphicFramePr>
          <p:xfrm>
            <a:off x="3643200" y="3643920"/>
            <a:ext cx="395280" cy="345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78" name="Object 1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643200" y="3643920"/>
                      <a:ext cx="3952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3"/>
          <p:cNvSpPr/>
          <p:nvPr/>
        </p:nvSpPr>
        <p:spPr>
          <a:xfrm>
            <a:off x="214200" y="78588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0" name="组合 18"/>
          <p:cNvGrpSpPr/>
          <p:nvPr/>
        </p:nvGrpSpPr>
        <p:grpSpPr>
          <a:xfrm>
            <a:off x="873720" y="928800"/>
            <a:ext cx="7894080" cy="1447200"/>
            <a:chOff x="873720" y="928800"/>
            <a:chExt cx="7894080" cy="1447200"/>
          </a:xfrm>
        </p:grpSpPr>
        <p:sp>
          <p:nvSpPr>
            <p:cNvPr id="381" name="Rectangle 15"/>
            <p:cNvSpPr/>
            <p:nvPr/>
          </p:nvSpPr>
          <p:spPr>
            <a:xfrm>
              <a:off x="873720" y="1428840"/>
              <a:ext cx="7564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                           其中                   我们先验证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分解式是唯一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否则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82" name="组合 48"/>
            <p:cNvGrpSpPr/>
            <p:nvPr/>
          </p:nvGrpSpPr>
          <p:grpSpPr>
            <a:xfrm>
              <a:off x="1127160" y="928800"/>
              <a:ext cx="6588360" cy="1028520"/>
              <a:chOff x="1127160" y="928800"/>
              <a:chExt cx="6588360" cy="1028520"/>
            </a:xfrm>
          </p:grpSpPr>
          <p:sp>
            <p:nvSpPr>
              <p:cNvPr id="383" name="Rectangle 15"/>
              <p:cNvSpPr/>
              <p:nvPr/>
            </p:nvSpPr>
            <p:spPr>
              <a:xfrm>
                <a:off x="1357200" y="928800"/>
                <a:ext cx="6358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1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取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记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384" name="Object 2"/>
              <p:cNvGraphicFramePr/>
              <p:nvPr/>
            </p:nvGraphicFramePr>
            <p:xfrm>
              <a:off x="1127160" y="1500120"/>
              <a:ext cx="2944800" cy="457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85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27160" y="1500120"/>
                        <a:ext cx="294480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6" name="Object 26"/>
              <p:cNvGraphicFramePr/>
              <p:nvPr/>
            </p:nvGraphicFramePr>
            <p:xfrm>
              <a:off x="2143080" y="1038240"/>
              <a:ext cx="1244520" cy="318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87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143080" y="1038240"/>
                        <a:ext cx="1244520" cy="31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8" name="Object 4"/>
            <p:cNvGraphicFramePr/>
            <p:nvPr/>
          </p:nvGraphicFramePr>
          <p:xfrm>
            <a:off x="3714840" y="1000080"/>
            <a:ext cx="1785960" cy="42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14840" y="1000080"/>
                      <a:ext cx="178596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0" name="Object 5"/>
            <p:cNvGraphicFramePr/>
            <p:nvPr/>
          </p:nvGraphicFramePr>
          <p:xfrm>
            <a:off x="5786640" y="1000080"/>
            <a:ext cx="2981160" cy="468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6640" y="1000080"/>
                      <a:ext cx="298116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12"/>
            <p:cNvGraphicFramePr/>
            <p:nvPr/>
          </p:nvGraphicFramePr>
          <p:xfrm>
            <a:off x="4857840" y="1522440"/>
            <a:ext cx="1782720" cy="406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3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57840" y="1522440"/>
                      <a:ext cx="178272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4" name="组合 23"/>
          <p:cNvGrpSpPr/>
          <p:nvPr/>
        </p:nvGrpSpPr>
        <p:grpSpPr>
          <a:xfrm>
            <a:off x="785880" y="1928880"/>
            <a:ext cx="7750080" cy="885600"/>
            <a:chOff x="785880" y="1928880"/>
            <a:chExt cx="7750080" cy="885600"/>
          </a:xfrm>
        </p:grpSpPr>
        <p:graphicFrame>
          <p:nvGraphicFramePr>
            <p:cNvPr id="395" name="Object 9"/>
            <p:cNvGraphicFramePr/>
            <p:nvPr/>
          </p:nvGraphicFramePr>
          <p:xfrm>
            <a:off x="4702320" y="1928880"/>
            <a:ext cx="297180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9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02320" y="1928880"/>
                      <a:ext cx="2971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7" name="Object 10"/>
            <p:cNvGraphicFramePr/>
            <p:nvPr/>
          </p:nvGraphicFramePr>
          <p:xfrm>
            <a:off x="7715520" y="1928880"/>
            <a:ext cx="820440" cy="45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98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715520" y="1928880"/>
                      <a:ext cx="8204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Object 11"/>
            <p:cNvGraphicFramePr/>
            <p:nvPr/>
          </p:nvGraphicFramePr>
          <p:xfrm>
            <a:off x="785880" y="2357280"/>
            <a:ext cx="1755720" cy="457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00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5880" y="2357280"/>
                      <a:ext cx="17557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1" name="组合 22"/>
          <p:cNvGrpSpPr/>
          <p:nvPr/>
        </p:nvGrpSpPr>
        <p:grpSpPr>
          <a:xfrm>
            <a:off x="1011240" y="2286000"/>
            <a:ext cx="7397640" cy="1428840"/>
            <a:chOff x="1011240" y="2286000"/>
            <a:chExt cx="7397640" cy="1428840"/>
          </a:xfrm>
        </p:grpSpPr>
        <p:sp>
          <p:nvSpPr>
            <p:cNvPr id="402" name="Rectangle 15"/>
            <p:cNvSpPr/>
            <p:nvPr/>
          </p:nvSpPr>
          <p:spPr>
            <a:xfrm>
              <a:off x="2749680" y="2286000"/>
              <a:ext cx="493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       时        ，唯一性成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3" name="Object 12"/>
            <p:cNvGraphicFramePr/>
            <p:nvPr/>
          </p:nvGraphicFramePr>
          <p:xfrm>
            <a:off x="3214440" y="2357280"/>
            <a:ext cx="707760" cy="457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04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14440" y="2357280"/>
                      <a:ext cx="7077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Object 13"/>
            <p:cNvGraphicFramePr/>
            <p:nvPr/>
          </p:nvGraphicFramePr>
          <p:xfrm>
            <a:off x="4214520" y="2357280"/>
            <a:ext cx="849240" cy="457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6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214520" y="2357280"/>
                      <a:ext cx="849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Object 14"/>
            <p:cNvGraphicFramePr/>
            <p:nvPr/>
          </p:nvGraphicFramePr>
          <p:xfrm>
            <a:off x="7586640" y="2357280"/>
            <a:ext cx="822240" cy="457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8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586640" y="2357280"/>
                      <a:ext cx="822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Rectangle 15"/>
            <p:cNvSpPr/>
            <p:nvPr/>
          </p:nvSpPr>
          <p:spPr>
            <a:xfrm>
              <a:off x="1011240" y="2928960"/>
              <a:ext cx="576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                      与     的取法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10" name="Object 15"/>
            <p:cNvGraphicFramePr/>
            <p:nvPr/>
          </p:nvGraphicFramePr>
          <p:xfrm>
            <a:off x="1357200" y="2851200"/>
            <a:ext cx="2520720" cy="863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11" name="Object 1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357200" y="2851200"/>
                      <a:ext cx="252072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Object 6"/>
            <p:cNvGraphicFramePr/>
            <p:nvPr/>
          </p:nvGraphicFramePr>
          <p:xfrm>
            <a:off x="4214520" y="3000240"/>
            <a:ext cx="414000" cy="428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3" name="Object 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214520" y="3000240"/>
                      <a:ext cx="41400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10"/>
          <p:cNvGrpSpPr/>
          <p:nvPr/>
        </p:nvGrpSpPr>
        <p:grpSpPr>
          <a:xfrm>
            <a:off x="545400" y="571680"/>
            <a:ext cx="7430760" cy="1171440"/>
            <a:chOff x="545400" y="571680"/>
            <a:chExt cx="7430760" cy="1171440"/>
          </a:xfrm>
        </p:grpSpPr>
        <p:grpSp>
          <p:nvGrpSpPr>
            <p:cNvPr id="415" name="组合 1"/>
            <p:cNvGrpSpPr/>
            <p:nvPr/>
          </p:nvGrpSpPr>
          <p:grpSpPr>
            <a:xfrm>
              <a:off x="545400" y="571680"/>
              <a:ext cx="7430760" cy="1171440"/>
              <a:chOff x="545400" y="571680"/>
              <a:chExt cx="7430760" cy="1171440"/>
            </a:xfrm>
          </p:grpSpPr>
          <p:sp>
            <p:nvSpPr>
              <p:cNvPr id="416" name="Rectangle 15"/>
              <p:cNvSpPr/>
              <p:nvPr/>
            </p:nvSpPr>
            <p:spPr>
              <a:xfrm>
                <a:off x="1679400" y="571680"/>
                <a:ext cx="629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容易证明，对于任一常数   ，若当               时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17" name="Object 12"/>
              <p:cNvGraphicFramePr/>
              <p:nvPr/>
            </p:nvGraphicFramePr>
            <p:xfrm>
              <a:off x="4889520" y="720720"/>
              <a:ext cx="253800" cy="279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18" name="Object 1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889520" y="720720"/>
                        <a:ext cx="25380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19" name="Object 3"/>
              <p:cNvGraphicFramePr/>
              <p:nvPr/>
            </p:nvGraphicFramePr>
            <p:xfrm>
              <a:off x="4286160" y="1312920"/>
              <a:ext cx="537840" cy="330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20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286160" y="1312920"/>
                        <a:ext cx="537840" cy="33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1" name="Rectangle 15"/>
              <p:cNvSpPr/>
              <p:nvPr/>
            </p:nvSpPr>
            <p:spPr>
              <a:xfrm>
                <a:off x="545400" y="1214640"/>
                <a:ext cx="647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令                          则   是     上的线性泛函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22" name="Object 4"/>
              <p:cNvGraphicFramePr/>
              <p:nvPr/>
            </p:nvGraphicFramePr>
            <p:xfrm>
              <a:off x="642960" y="1285920"/>
              <a:ext cx="2520720" cy="457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23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42960" y="1285920"/>
                        <a:ext cx="252072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4" name="Object 6"/>
              <p:cNvGraphicFramePr/>
              <p:nvPr/>
            </p:nvGraphicFramePr>
            <p:xfrm>
              <a:off x="3643200" y="1309680"/>
              <a:ext cx="382320" cy="380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25" name="Object 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643200" y="1309680"/>
                        <a:ext cx="38232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26" name="Object 2"/>
            <p:cNvGraphicFramePr/>
            <p:nvPr/>
          </p:nvGraphicFramePr>
          <p:xfrm>
            <a:off x="6286680" y="642960"/>
            <a:ext cx="1500120" cy="45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7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86680" y="642960"/>
                      <a:ext cx="15001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8" name="组合 1"/>
          <p:cNvGrpSpPr/>
          <p:nvPr/>
        </p:nvGrpSpPr>
        <p:grpSpPr>
          <a:xfrm>
            <a:off x="1143720" y="1928880"/>
            <a:ext cx="7728840" cy="520560"/>
            <a:chOff x="1143720" y="1928880"/>
            <a:chExt cx="7728840" cy="520560"/>
          </a:xfrm>
        </p:grpSpPr>
        <p:sp>
          <p:nvSpPr>
            <p:cNvPr id="429" name="Rectangle 15"/>
            <p:cNvSpPr/>
            <p:nvPr/>
          </p:nvSpPr>
          <p:spPr>
            <a:xfrm>
              <a:off x="1143720" y="1928880"/>
              <a:ext cx="43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下面我们证明适当选择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可使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0" name="Object 8"/>
            <p:cNvGraphicFramePr/>
            <p:nvPr/>
          </p:nvGraphicFramePr>
          <p:xfrm>
            <a:off x="4500360" y="2078280"/>
            <a:ext cx="253800" cy="279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00360" y="2078280"/>
                      <a:ext cx="253800" cy="2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2" name="Object 10"/>
            <p:cNvGraphicFramePr/>
            <p:nvPr/>
          </p:nvGraphicFramePr>
          <p:xfrm>
            <a:off x="5500800" y="2000160"/>
            <a:ext cx="3371760" cy="406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33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500800" y="2000160"/>
                      <a:ext cx="3371760" cy="4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4" name="组合 25"/>
          <p:cNvGrpSpPr/>
          <p:nvPr/>
        </p:nvGrpSpPr>
        <p:grpSpPr>
          <a:xfrm>
            <a:off x="516240" y="2643120"/>
            <a:ext cx="8372160" cy="1028880"/>
            <a:chOff x="516240" y="2643120"/>
            <a:chExt cx="8372160" cy="1028880"/>
          </a:xfrm>
        </p:grpSpPr>
        <p:sp>
          <p:nvSpPr>
            <p:cNvPr id="435" name="Rectangle 15"/>
            <p:cNvSpPr/>
            <p:nvPr/>
          </p:nvSpPr>
          <p:spPr>
            <a:xfrm>
              <a:off x="516240" y="2643120"/>
              <a:ext cx="530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实际上，对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6" name="Object 13"/>
            <p:cNvGraphicFramePr/>
            <p:nvPr/>
          </p:nvGraphicFramePr>
          <p:xfrm>
            <a:off x="2247840" y="2736720"/>
            <a:ext cx="1466640" cy="406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37" name="Object 1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47840" y="2736720"/>
                      <a:ext cx="14666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Object 14"/>
            <p:cNvGraphicFramePr/>
            <p:nvPr/>
          </p:nvGraphicFramePr>
          <p:xfrm>
            <a:off x="785880" y="3214800"/>
            <a:ext cx="8102520" cy="457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39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85880" y="3214800"/>
                      <a:ext cx="81025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0" name="组合 26"/>
          <p:cNvGrpSpPr/>
          <p:nvPr/>
        </p:nvGrpSpPr>
        <p:grpSpPr>
          <a:xfrm>
            <a:off x="60480" y="3714840"/>
            <a:ext cx="6724440" cy="743040"/>
            <a:chOff x="60480" y="3714840"/>
            <a:chExt cx="6724440" cy="743040"/>
          </a:xfrm>
        </p:grpSpPr>
        <p:sp>
          <p:nvSpPr>
            <p:cNvPr id="441" name="Rectangle 15"/>
            <p:cNvSpPr/>
            <p:nvPr/>
          </p:nvSpPr>
          <p:spPr>
            <a:xfrm>
              <a:off x="60480" y="3714840"/>
              <a:ext cx="142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或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2" name="Object 15"/>
            <p:cNvGraphicFramePr/>
            <p:nvPr/>
          </p:nvGraphicFramePr>
          <p:xfrm>
            <a:off x="1714320" y="4000680"/>
            <a:ext cx="5070600" cy="457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4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714320" y="4000680"/>
                      <a:ext cx="50706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1"/>
          <p:cNvGrpSpPr/>
          <p:nvPr/>
        </p:nvGrpSpPr>
        <p:grpSpPr>
          <a:xfrm>
            <a:off x="263880" y="571680"/>
            <a:ext cx="3856680" cy="520560"/>
            <a:chOff x="263880" y="571680"/>
            <a:chExt cx="3856680" cy="520560"/>
          </a:xfrm>
        </p:grpSpPr>
        <p:sp>
          <p:nvSpPr>
            <p:cNvPr id="445" name="Rectangle 15"/>
            <p:cNvSpPr/>
            <p:nvPr/>
          </p:nvSpPr>
          <p:spPr>
            <a:xfrm>
              <a:off x="263880" y="57168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存在   满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46" name="Object 10"/>
            <p:cNvGraphicFramePr/>
            <p:nvPr/>
          </p:nvGraphicFramePr>
          <p:xfrm>
            <a:off x="1500120" y="714600"/>
            <a:ext cx="253800" cy="27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7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0120" y="714600"/>
                      <a:ext cx="253800" cy="2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48" name="Object 15"/>
          <p:cNvGraphicFramePr/>
          <p:nvPr/>
        </p:nvGraphicFramePr>
        <p:xfrm>
          <a:off x="1571760" y="1143000"/>
          <a:ext cx="654192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1760" y="1143000"/>
                    <a:ext cx="65419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0" name="组合 6"/>
          <p:cNvGrpSpPr/>
          <p:nvPr/>
        </p:nvGrpSpPr>
        <p:grpSpPr>
          <a:xfrm>
            <a:off x="829440" y="1928880"/>
            <a:ext cx="5740560" cy="520560"/>
            <a:chOff x="829440" y="1928880"/>
            <a:chExt cx="5740560" cy="520560"/>
          </a:xfrm>
        </p:grpSpPr>
        <p:sp>
          <p:nvSpPr>
            <p:cNvPr id="451" name="Rectangle 15"/>
            <p:cNvSpPr/>
            <p:nvPr/>
          </p:nvSpPr>
          <p:spPr>
            <a:xfrm>
              <a:off x="829440" y="1928880"/>
              <a:ext cx="57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这样的  作成如上的线性泛函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52" name="Object 5"/>
            <p:cNvGraphicFramePr/>
            <p:nvPr/>
          </p:nvGraphicFramePr>
          <p:xfrm>
            <a:off x="1928880" y="2071800"/>
            <a:ext cx="253800" cy="27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8880" y="2071800"/>
                      <a:ext cx="253800" cy="2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4" name="组合 18"/>
          <p:cNvGrpSpPr/>
          <p:nvPr/>
        </p:nvGrpSpPr>
        <p:grpSpPr>
          <a:xfrm>
            <a:off x="524160" y="2786040"/>
            <a:ext cx="8366760" cy="1386000"/>
            <a:chOff x="524160" y="2786040"/>
            <a:chExt cx="8366760" cy="1386000"/>
          </a:xfrm>
        </p:grpSpPr>
        <p:grpSp>
          <p:nvGrpSpPr>
            <p:cNvPr id="455" name="组合 1"/>
            <p:cNvGrpSpPr/>
            <p:nvPr/>
          </p:nvGrpSpPr>
          <p:grpSpPr>
            <a:xfrm>
              <a:off x="675360" y="2786040"/>
              <a:ext cx="8215560" cy="947160"/>
              <a:chOff x="675360" y="2786040"/>
              <a:chExt cx="8215560" cy="947160"/>
            </a:xfrm>
          </p:grpSpPr>
          <p:sp>
            <p:nvSpPr>
              <p:cNvPr id="456" name="Rectangle 15"/>
              <p:cNvSpPr/>
              <p:nvPr/>
            </p:nvSpPr>
            <p:spPr>
              <a:xfrm>
                <a:off x="675360" y="2786040"/>
                <a:ext cx="82155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用       代替   ，则                                       从而有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57" name="Object 7"/>
              <p:cNvGraphicFramePr/>
              <p:nvPr/>
            </p:nvGraphicFramePr>
            <p:xfrm>
              <a:off x="4279680" y="2831760"/>
              <a:ext cx="4279680" cy="45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58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79680" y="2831760"/>
                        <a:ext cx="427968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59" name="Object 2"/>
            <p:cNvGraphicFramePr/>
            <p:nvPr/>
          </p:nvGraphicFramePr>
          <p:xfrm>
            <a:off x="1564920" y="2857320"/>
            <a:ext cx="2357280" cy="45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0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64920" y="2857320"/>
                      <a:ext cx="23572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1" name="Object 9"/>
            <p:cNvGraphicFramePr/>
            <p:nvPr/>
          </p:nvGraphicFramePr>
          <p:xfrm>
            <a:off x="922320" y="3286080"/>
            <a:ext cx="617400" cy="40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22320" y="3286080"/>
                      <a:ext cx="61740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3" name="Object 10"/>
            <p:cNvGraphicFramePr/>
            <p:nvPr/>
          </p:nvGraphicFramePr>
          <p:xfrm>
            <a:off x="2207880" y="3357720"/>
            <a:ext cx="32220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64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07880" y="3357720"/>
                      <a:ext cx="3222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5" name="Object 11"/>
            <p:cNvGraphicFramePr/>
            <p:nvPr/>
          </p:nvGraphicFramePr>
          <p:xfrm>
            <a:off x="3350880" y="3232080"/>
            <a:ext cx="3570120" cy="482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66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350880" y="3232080"/>
                      <a:ext cx="357012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Object 12"/>
            <p:cNvGraphicFramePr/>
            <p:nvPr/>
          </p:nvGraphicFramePr>
          <p:xfrm>
            <a:off x="524160" y="3714840"/>
            <a:ext cx="5211360" cy="457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6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24160" y="3714840"/>
                      <a:ext cx="52113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组合 12"/>
          <p:cNvGrpSpPr/>
          <p:nvPr/>
        </p:nvGrpSpPr>
        <p:grpSpPr>
          <a:xfrm>
            <a:off x="500040" y="857160"/>
            <a:ext cx="8080560" cy="1906560"/>
            <a:chOff x="500040" y="857160"/>
            <a:chExt cx="8080560" cy="1906560"/>
          </a:xfrm>
        </p:grpSpPr>
        <p:grpSp>
          <p:nvGrpSpPr>
            <p:cNvPr id="470" name="组合 1"/>
            <p:cNvGrpSpPr/>
            <p:nvPr/>
          </p:nvGrpSpPr>
          <p:grpSpPr>
            <a:xfrm>
              <a:off x="529920" y="857160"/>
              <a:ext cx="8050680" cy="1386000"/>
              <a:chOff x="529920" y="857160"/>
              <a:chExt cx="8050680" cy="1386000"/>
            </a:xfrm>
          </p:grpSpPr>
          <p:grpSp>
            <p:nvGrpSpPr>
              <p:cNvPr id="471" name="组合 1"/>
              <p:cNvGrpSpPr/>
              <p:nvPr/>
            </p:nvGrpSpPr>
            <p:grpSpPr>
              <a:xfrm>
                <a:off x="529920" y="857160"/>
                <a:ext cx="8007840" cy="1373760"/>
                <a:chOff x="529920" y="857160"/>
                <a:chExt cx="8007840" cy="1373760"/>
              </a:xfrm>
            </p:grpSpPr>
            <p:sp>
              <p:nvSpPr>
                <p:cNvPr id="472" name="Rectangle 15"/>
                <p:cNvSpPr/>
                <p:nvPr/>
              </p:nvSpPr>
              <p:spPr>
                <a:xfrm>
                  <a:off x="529920" y="857160"/>
                  <a:ext cx="760284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                  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,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用        代替   ，则                                           即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 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从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73" name="Object 15"/>
                <p:cNvGraphicFramePr/>
                <p:nvPr/>
              </p:nvGraphicFramePr>
              <p:xfrm>
                <a:off x="4313520" y="902880"/>
                <a:ext cx="4224240" cy="4572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74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313520" y="902880"/>
                          <a:ext cx="4224240" cy="457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75" name="Object 2"/>
              <p:cNvGraphicFramePr/>
              <p:nvPr/>
            </p:nvGraphicFramePr>
            <p:xfrm>
              <a:off x="1571760" y="928440"/>
              <a:ext cx="2357280" cy="457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6" name="Object 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571760" y="928440"/>
                        <a:ext cx="235728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7" name="Object 4"/>
              <p:cNvGraphicFramePr/>
              <p:nvPr/>
            </p:nvGraphicFramePr>
            <p:xfrm>
              <a:off x="825480" y="1307880"/>
              <a:ext cx="823680" cy="406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7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25480" y="1307880"/>
                        <a:ext cx="823680" cy="40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9" name="Object 5"/>
              <p:cNvGraphicFramePr/>
              <p:nvPr/>
            </p:nvGraphicFramePr>
            <p:xfrm>
              <a:off x="2335320" y="1454040"/>
              <a:ext cx="293400" cy="279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80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335320" y="1454040"/>
                        <a:ext cx="29340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1" name="Object 6"/>
              <p:cNvGraphicFramePr/>
              <p:nvPr/>
            </p:nvGraphicFramePr>
            <p:xfrm>
              <a:off x="3462480" y="1303200"/>
              <a:ext cx="3967200" cy="4827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8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462480" y="1303200"/>
                        <a:ext cx="396720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83" name="Object 7"/>
              <p:cNvGraphicFramePr/>
              <p:nvPr/>
            </p:nvGraphicFramePr>
            <p:xfrm>
              <a:off x="4500720" y="1785960"/>
              <a:ext cx="4079880" cy="457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84" name="Object 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500720" y="1785960"/>
                        <a:ext cx="407988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85" name="Object 8"/>
            <p:cNvGraphicFramePr/>
            <p:nvPr/>
          </p:nvGraphicFramePr>
          <p:xfrm>
            <a:off x="500040" y="1785960"/>
            <a:ext cx="3289320" cy="45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8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0040" y="1785960"/>
                      <a:ext cx="32893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7" name="Object 9"/>
            <p:cNvGraphicFramePr/>
            <p:nvPr/>
          </p:nvGraphicFramePr>
          <p:xfrm>
            <a:off x="571320" y="2357280"/>
            <a:ext cx="1131840" cy="406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8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71320" y="2357280"/>
                      <a:ext cx="11318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89" name="组合 21"/>
          <p:cNvGrpSpPr/>
          <p:nvPr/>
        </p:nvGrpSpPr>
        <p:grpSpPr>
          <a:xfrm>
            <a:off x="532800" y="3000240"/>
            <a:ext cx="7961040" cy="952920"/>
            <a:chOff x="532800" y="3000240"/>
            <a:chExt cx="7961040" cy="952920"/>
          </a:xfrm>
        </p:grpSpPr>
        <p:grpSp>
          <p:nvGrpSpPr>
            <p:cNvPr id="490" name="组合 13"/>
            <p:cNvGrpSpPr/>
            <p:nvPr/>
          </p:nvGrpSpPr>
          <p:grpSpPr>
            <a:xfrm>
              <a:off x="532800" y="3000240"/>
              <a:ext cx="7961040" cy="947160"/>
              <a:chOff x="532800" y="3000240"/>
              <a:chExt cx="7961040" cy="947160"/>
            </a:xfrm>
          </p:grpSpPr>
          <p:sp>
            <p:nvSpPr>
              <p:cNvPr id="491" name="Rectangle 15"/>
              <p:cNvSpPr/>
              <p:nvPr/>
            </p:nvSpPr>
            <p:spPr>
              <a:xfrm>
                <a:off x="532800" y="3000240"/>
                <a:ext cx="796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当        时，显然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是   从   到   上的延拓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           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492" name="Object 10"/>
              <p:cNvGraphicFramePr/>
              <p:nvPr/>
            </p:nvGraphicFramePr>
            <p:xfrm>
              <a:off x="1795320" y="3105000"/>
              <a:ext cx="704880" cy="3556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493" name="Object 10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795320" y="3105000"/>
                        <a:ext cx="704880" cy="35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94" name="Object 11"/>
            <p:cNvGraphicFramePr/>
            <p:nvPr/>
          </p:nvGraphicFramePr>
          <p:xfrm>
            <a:off x="3936960" y="3071520"/>
            <a:ext cx="3992400" cy="457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95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36960" y="3071520"/>
                      <a:ext cx="39924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6" name="Object 12"/>
            <p:cNvGraphicFramePr/>
            <p:nvPr/>
          </p:nvGraphicFramePr>
          <p:xfrm>
            <a:off x="1071360" y="3500280"/>
            <a:ext cx="341280" cy="4255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97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71360" y="3500280"/>
                      <a:ext cx="34128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8" name="Object 13"/>
            <p:cNvGraphicFramePr/>
            <p:nvPr/>
          </p:nvGraphicFramePr>
          <p:xfrm>
            <a:off x="1628640" y="3475080"/>
            <a:ext cx="369720" cy="4780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99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628640" y="3475080"/>
                      <a:ext cx="369720" cy="47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Object 14"/>
            <p:cNvGraphicFramePr/>
            <p:nvPr/>
          </p:nvGraphicFramePr>
          <p:xfrm>
            <a:off x="2286000" y="3500280"/>
            <a:ext cx="453960" cy="3463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01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286000" y="3500280"/>
                      <a:ext cx="4539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2" name="Object 15"/>
            <p:cNvGraphicFramePr/>
            <p:nvPr/>
          </p:nvGraphicFramePr>
          <p:xfrm>
            <a:off x="2932200" y="3500280"/>
            <a:ext cx="539640" cy="345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03" name="Object 1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932200" y="3500280"/>
                      <a:ext cx="5396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5"/>
          <p:cNvSpPr/>
          <p:nvPr/>
        </p:nvSpPr>
        <p:spPr>
          <a:xfrm>
            <a:off x="1933560" y="571680"/>
            <a:ext cx="53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现在我们应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Zo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引理可以完成定理的证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05" name="组合 16"/>
          <p:cNvGrpSpPr/>
          <p:nvPr/>
        </p:nvGrpSpPr>
        <p:grpSpPr>
          <a:xfrm>
            <a:off x="1482480" y="1285920"/>
            <a:ext cx="7304400" cy="1893960"/>
            <a:chOff x="1482480" y="1285920"/>
            <a:chExt cx="7304400" cy="1893960"/>
          </a:xfrm>
        </p:grpSpPr>
        <p:grpSp>
          <p:nvGrpSpPr>
            <p:cNvPr id="506" name="组合 30"/>
            <p:cNvGrpSpPr/>
            <p:nvPr/>
          </p:nvGrpSpPr>
          <p:grpSpPr>
            <a:xfrm>
              <a:off x="1482480" y="1285920"/>
              <a:ext cx="5049360" cy="1800360"/>
              <a:chOff x="1482480" y="1285920"/>
              <a:chExt cx="5049360" cy="1800360"/>
            </a:xfrm>
          </p:grpSpPr>
          <p:sp>
            <p:nvSpPr>
              <p:cNvPr id="507" name="Rectangle 15"/>
              <p:cNvSpPr/>
              <p:nvPr/>
            </p:nvSpPr>
            <p:spPr>
              <a:xfrm>
                <a:off x="2193480" y="1285920"/>
                <a:ext cx="433836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是    的所有延拓的集合，即对于每个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AutoNum type="arabi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的子空间      上有定义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2)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(3)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08" name="Object 25"/>
              <p:cNvGraphicFramePr/>
              <p:nvPr/>
            </p:nvGraphicFramePr>
            <p:xfrm>
              <a:off x="1482480" y="1342800"/>
              <a:ext cx="485640" cy="395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09" name="Object 2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82480" y="1342800"/>
                        <a:ext cx="485640" cy="3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10" name="Object 4"/>
            <p:cNvGraphicFramePr/>
            <p:nvPr/>
          </p:nvGraphicFramePr>
          <p:xfrm>
            <a:off x="2157120" y="1301760"/>
            <a:ext cx="4856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57120" y="1301760"/>
                      <a:ext cx="4856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2" name="Object 5"/>
            <p:cNvGraphicFramePr/>
            <p:nvPr/>
          </p:nvGraphicFramePr>
          <p:xfrm>
            <a:off x="7515360" y="1328760"/>
            <a:ext cx="127152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15360" y="1328760"/>
                      <a:ext cx="127152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4" name="Object 6"/>
            <p:cNvGraphicFramePr/>
            <p:nvPr/>
          </p:nvGraphicFramePr>
          <p:xfrm>
            <a:off x="1643040" y="1785960"/>
            <a:ext cx="411120" cy="366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3040" y="1785960"/>
                      <a:ext cx="411120" cy="36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6" name="Object 7"/>
            <p:cNvGraphicFramePr/>
            <p:nvPr/>
          </p:nvGraphicFramePr>
          <p:xfrm>
            <a:off x="2286000" y="1785960"/>
            <a:ext cx="523800" cy="366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0" y="1785960"/>
                      <a:ext cx="523800" cy="36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8" name="Object 9"/>
            <p:cNvGraphicFramePr/>
            <p:nvPr/>
          </p:nvGraphicFramePr>
          <p:xfrm>
            <a:off x="4040280" y="1773360"/>
            <a:ext cx="745920" cy="534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19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40280" y="1773360"/>
                      <a:ext cx="74592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0" name="Object 10"/>
            <p:cNvGraphicFramePr/>
            <p:nvPr/>
          </p:nvGraphicFramePr>
          <p:xfrm>
            <a:off x="6135840" y="1751040"/>
            <a:ext cx="1865160" cy="534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21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35840" y="1751040"/>
                      <a:ext cx="186516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2" name="Object 11"/>
            <p:cNvGraphicFramePr/>
            <p:nvPr/>
          </p:nvGraphicFramePr>
          <p:xfrm>
            <a:off x="1714320" y="2206800"/>
            <a:ext cx="4037040" cy="507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23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714320" y="2206800"/>
                      <a:ext cx="4037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4" name="Object 12"/>
            <p:cNvGraphicFramePr/>
            <p:nvPr/>
          </p:nvGraphicFramePr>
          <p:xfrm>
            <a:off x="1714320" y="2643480"/>
            <a:ext cx="3924360" cy="536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25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714320" y="2643480"/>
                      <a:ext cx="392436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6" name="组合 17"/>
          <p:cNvGrpSpPr/>
          <p:nvPr/>
        </p:nvGrpSpPr>
        <p:grpSpPr>
          <a:xfrm>
            <a:off x="1214280" y="3143160"/>
            <a:ext cx="7050600" cy="1373760"/>
            <a:chOff x="1214280" y="3143160"/>
            <a:chExt cx="7050600" cy="1373760"/>
          </a:xfrm>
        </p:grpSpPr>
        <p:grpSp>
          <p:nvGrpSpPr>
            <p:cNvPr id="527" name="组合 30"/>
            <p:cNvGrpSpPr/>
            <p:nvPr/>
          </p:nvGrpSpPr>
          <p:grpSpPr>
            <a:xfrm>
              <a:off x="1365840" y="3143160"/>
              <a:ext cx="6218640" cy="1373760"/>
              <a:chOff x="1365840" y="3143160"/>
              <a:chExt cx="6218640" cy="1373760"/>
            </a:xfrm>
          </p:grpSpPr>
          <p:sp>
            <p:nvSpPr>
              <p:cNvPr id="528" name="Rectangle 15"/>
              <p:cNvSpPr/>
              <p:nvPr/>
            </p:nvSpPr>
            <p:spPr>
              <a:xfrm>
                <a:off x="1365840" y="3143160"/>
                <a:ext cx="62186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在    中规定半序            当且仅当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并且                                        容易验证，  确实为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半序集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29" name="Object 13"/>
              <p:cNvGraphicFramePr/>
              <p:nvPr/>
            </p:nvGraphicFramePr>
            <p:xfrm>
              <a:off x="1482840" y="3200040"/>
              <a:ext cx="485640" cy="39492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530" name="Object 13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1482840" y="3200040"/>
                        <a:ext cx="485640" cy="3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31" name="Object 14"/>
            <p:cNvGraphicFramePr/>
            <p:nvPr/>
          </p:nvGraphicFramePr>
          <p:xfrm>
            <a:off x="3553200" y="3171600"/>
            <a:ext cx="1233360" cy="450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32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553200" y="3171600"/>
                      <a:ext cx="1233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3" name="Object 15"/>
            <p:cNvGraphicFramePr/>
            <p:nvPr/>
          </p:nvGraphicFramePr>
          <p:xfrm>
            <a:off x="6858720" y="3642840"/>
            <a:ext cx="485640" cy="3949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34" name="Object 1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858720" y="3642840"/>
                      <a:ext cx="48564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5" name="Object 19"/>
            <p:cNvGraphicFramePr/>
            <p:nvPr/>
          </p:nvGraphicFramePr>
          <p:xfrm>
            <a:off x="6175800" y="3214440"/>
            <a:ext cx="2089080" cy="534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36" name="Object 19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175800" y="3214440"/>
                      <a:ext cx="2089080" cy="53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7" name="Object 21"/>
            <p:cNvGraphicFramePr/>
            <p:nvPr/>
          </p:nvGraphicFramePr>
          <p:xfrm>
            <a:off x="1214280" y="3571560"/>
            <a:ext cx="4035600" cy="5364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38" name="Object 21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214280" y="3571560"/>
                      <a:ext cx="403560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组合 15"/>
          <p:cNvGrpSpPr/>
          <p:nvPr/>
        </p:nvGrpSpPr>
        <p:grpSpPr>
          <a:xfrm>
            <a:off x="785520" y="642960"/>
            <a:ext cx="7930080" cy="2286000"/>
            <a:chOff x="785520" y="642960"/>
            <a:chExt cx="7930080" cy="2286000"/>
          </a:xfrm>
        </p:grpSpPr>
        <p:grpSp>
          <p:nvGrpSpPr>
            <p:cNvPr id="540" name="组合 1"/>
            <p:cNvGrpSpPr/>
            <p:nvPr/>
          </p:nvGrpSpPr>
          <p:grpSpPr>
            <a:xfrm>
              <a:off x="1214280" y="642960"/>
              <a:ext cx="6718680" cy="2226960"/>
              <a:chOff x="1214280" y="642960"/>
              <a:chExt cx="6718680" cy="2226960"/>
            </a:xfrm>
          </p:grpSpPr>
          <p:grpSp>
            <p:nvGrpSpPr>
              <p:cNvPr id="541" name="组合 30"/>
              <p:cNvGrpSpPr/>
              <p:nvPr/>
            </p:nvGrpSpPr>
            <p:grpSpPr>
              <a:xfrm>
                <a:off x="1227960" y="642960"/>
                <a:ext cx="6705000" cy="2226960"/>
                <a:chOff x="1227960" y="642960"/>
                <a:chExt cx="6705000" cy="2226960"/>
              </a:xfrm>
            </p:grpSpPr>
            <p:sp>
              <p:nvSpPr>
                <p:cNvPr id="542" name="Rectangle 15"/>
                <p:cNvSpPr/>
                <p:nvPr/>
              </p:nvSpPr>
              <p:spPr>
                <a:xfrm>
                  <a:off x="1227960" y="642960"/>
                  <a:ext cx="6705000" cy="22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是    全序子集，                             当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时，定义                       由于     是全序的，  为线性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子空间：当                时，若                               不妨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              则                                        此时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543" name="Object 25"/>
                <p:cNvGraphicFramePr/>
                <p:nvPr/>
              </p:nvGraphicFramePr>
              <p:xfrm>
                <a:off x="2014560" y="714240"/>
                <a:ext cx="485640" cy="395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544" name="Object 2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014560" y="714240"/>
                          <a:ext cx="485640" cy="39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45" name="Object 3"/>
              <p:cNvGraphicFramePr/>
              <p:nvPr/>
            </p:nvGraphicFramePr>
            <p:xfrm>
              <a:off x="1214280" y="707760"/>
              <a:ext cx="560160" cy="506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46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14280" y="707760"/>
                        <a:ext cx="560160" cy="50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7" name="Object 4"/>
              <p:cNvGraphicFramePr/>
              <p:nvPr/>
            </p:nvGraphicFramePr>
            <p:xfrm>
              <a:off x="2173320" y="1944720"/>
              <a:ext cx="1755720" cy="507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4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173320" y="1944720"/>
                        <a:ext cx="17557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9" name="Object 5"/>
              <p:cNvGraphicFramePr/>
              <p:nvPr/>
            </p:nvGraphicFramePr>
            <p:xfrm>
              <a:off x="4000680" y="696960"/>
              <a:ext cx="3036960" cy="731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50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00680" y="696960"/>
                        <a:ext cx="3036960" cy="73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1" name="Object 6"/>
              <p:cNvGraphicFramePr/>
              <p:nvPr/>
            </p:nvGraphicFramePr>
            <p:xfrm>
              <a:off x="1857240" y="1571760"/>
              <a:ext cx="2278080" cy="452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52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857240" y="1571760"/>
                        <a:ext cx="2278080" cy="45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53" name="Object 7"/>
            <p:cNvGraphicFramePr/>
            <p:nvPr/>
          </p:nvGraphicFramePr>
          <p:xfrm>
            <a:off x="7334640" y="677880"/>
            <a:ext cx="1380960" cy="536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4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34640" y="677880"/>
                      <a:ext cx="138096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5" name="Object 8"/>
            <p:cNvGraphicFramePr/>
            <p:nvPr/>
          </p:nvGraphicFramePr>
          <p:xfrm>
            <a:off x="4786560" y="1565280"/>
            <a:ext cx="560160" cy="506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5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86560" y="1565280"/>
                      <a:ext cx="56016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7" name="Object 9"/>
            <p:cNvGraphicFramePr/>
            <p:nvPr/>
          </p:nvGraphicFramePr>
          <p:xfrm>
            <a:off x="6903000" y="1577880"/>
            <a:ext cx="598320" cy="422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5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903000" y="1577880"/>
                      <a:ext cx="59832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9" name="Object 10"/>
            <p:cNvGraphicFramePr/>
            <p:nvPr/>
          </p:nvGraphicFramePr>
          <p:xfrm>
            <a:off x="4829400" y="1986120"/>
            <a:ext cx="3100680" cy="536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60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829400" y="1986120"/>
                      <a:ext cx="310068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1" name="Object 11"/>
            <p:cNvGraphicFramePr/>
            <p:nvPr/>
          </p:nvGraphicFramePr>
          <p:xfrm>
            <a:off x="785520" y="2392560"/>
            <a:ext cx="2054160" cy="536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62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5520" y="2392560"/>
                      <a:ext cx="205416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3" name="Object 12"/>
            <p:cNvGraphicFramePr/>
            <p:nvPr/>
          </p:nvGraphicFramePr>
          <p:xfrm>
            <a:off x="3224160" y="2363760"/>
            <a:ext cx="3848400" cy="565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64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224160" y="2363760"/>
                      <a:ext cx="384840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5" name="Object 13"/>
          <p:cNvGraphicFramePr/>
          <p:nvPr/>
        </p:nvGraphicFramePr>
        <p:xfrm>
          <a:off x="500040" y="3143160"/>
          <a:ext cx="8478720" cy="1130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66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00040" y="3143160"/>
                    <a:ext cx="84787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357120" y="8571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" name="组合 18"/>
          <p:cNvGrpSpPr/>
          <p:nvPr/>
        </p:nvGrpSpPr>
        <p:grpSpPr>
          <a:xfrm>
            <a:off x="1177920" y="928800"/>
            <a:ext cx="6267240" cy="2593080"/>
            <a:chOff x="1177920" y="928800"/>
            <a:chExt cx="6267240" cy="2593080"/>
          </a:xfrm>
        </p:grpSpPr>
        <p:grpSp>
          <p:nvGrpSpPr>
            <p:cNvPr id="87" name="组合 48"/>
            <p:cNvGrpSpPr/>
            <p:nvPr/>
          </p:nvGrpSpPr>
          <p:grpSpPr>
            <a:xfrm>
              <a:off x="2825640" y="928800"/>
              <a:ext cx="4437360" cy="1008360"/>
              <a:chOff x="2825640" y="928800"/>
              <a:chExt cx="4437360" cy="1008360"/>
            </a:xfrm>
          </p:grpSpPr>
          <p:sp>
            <p:nvSpPr>
              <p:cNvPr id="88" name="Rectangle 15"/>
              <p:cNvSpPr/>
              <p:nvPr/>
            </p:nvSpPr>
            <p:spPr>
              <a:xfrm>
                <a:off x="2825640" y="928800"/>
                <a:ext cx="3266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buClr>
                    <a:srgbClr val="000000"/>
                  </a:buClr>
                  <a:buFont typeface="Arial"/>
                  <a:buAutoNum type="arabi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设       是为任意点集，称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89" name="Object 2"/>
              <p:cNvGraphicFramePr/>
              <p:nvPr/>
            </p:nvGraphicFramePr>
            <p:xfrm>
              <a:off x="3214440" y="1428840"/>
              <a:ext cx="4048560" cy="508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0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14440" y="1428840"/>
                        <a:ext cx="4048560" cy="50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" name="Object 26"/>
              <p:cNvGraphicFramePr/>
              <p:nvPr/>
            </p:nvGraphicFramePr>
            <p:xfrm>
              <a:off x="3077640" y="1036080"/>
              <a:ext cx="851040" cy="392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77640" y="1036080"/>
                        <a:ext cx="851040" cy="39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3" name="Rectangle 15"/>
            <p:cNvSpPr/>
            <p:nvPr/>
          </p:nvSpPr>
          <p:spPr>
            <a:xfrm>
              <a:off x="1803600" y="1929240"/>
              <a:ext cx="533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与    的积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为某个映射，称集合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94" name="Object 13"/>
            <p:cNvGraphicFramePr/>
            <p:nvPr/>
          </p:nvGraphicFramePr>
          <p:xfrm>
            <a:off x="1643040" y="2000520"/>
            <a:ext cx="522360" cy="428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43040" y="2000520"/>
                      <a:ext cx="52236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Object 14"/>
            <p:cNvGraphicFramePr/>
            <p:nvPr/>
          </p:nvGraphicFramePr>
          <p:xfrm>
            <a:off x="2357280" y="2040480"/>
            <a:ext cx="471240" cy="415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57280" y="2040480"/>
                      <a:ext cx="47124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15"/>
            <p:cNvGraphicFramePr/>
            <p:nvPr/>
          </p:nvGraphicFramePr>
          <p:xfrm>
            <a:off x="3000240" y="2572200"/>
            <a:ext cx="4444920" cy="507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9" name="Object 1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00240" y="2572200"/>
                      <a:ext cx="444492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Rectangle 15"/>
            <p:cNvSpPr/>
            <p:nvPr/>
          </p:nvSpPr>
          <p:spPr>
            <a:xfrm>
              <a:off x="1177920" y="3001320"/>
              <a:ext cx="26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    的图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1" name="Object 16"/>
            <p:cNvGraphicFramePr/>
            <p:nvPr/>
          </p:nvGraphicFramePr>
          <p:xfrm>
            <a:off x="1944720" y="3072600"/>
            <a:ext cx="412560" cy="366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2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44720" y="3072600"/>
                      <a:ext cx="412560" cy="36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组合 17"/>
          <p:cNvGrpSpPr/>
          <p:nvPr/>
        </p:nvGrpSpPr>
        <p:grpSpPr>
          <a:xfrm>
            <a:off x="827280" y="642960"/>
            <a:ext cx="8102520" cy="1373760"/>
            <a:chOff x="827280" y="642960"/>
            <a:chExt cx="8102520" cy="1373760"/>
          </a:xfrm>
        </p:grpSpPr>
        <p:grpSp>
          <p:nvGrpSpPr>
            <p:cNvPr id="568" name="组合 1"/>
            <p:cNvGrpSpPr/>
            <p:nvPr/>
          </p:nvGrpSpPr>
          <p:grpSpPr>
            <a:xfrm>
              <a:off x="827280" y="642960"/>
              <a:ext cx="8102520" cy="1373760"/>
              <a:chOff x="827280" y="642960"/>
              <a:chExt cx="8102520" cy="1373760"/>
            </a:xfrm>
          </p:grpSpPr>
          <p:grpSp>
            <p:nvGrpSpPr>
              <p:cNvPr id="569" name="组合 1"/>
              <p:cNvGrpSpPr/>
              <p:nvPr/>
            </p:nvGrpSpPr>
            <p:grpSpPr>
              <a:xfrm>
                <a:off x="827280" y="642960"/>
                <a:ext cx="8102520" cy="1373760"/>
                <a:chOff x="827280" y="642960"/>
                <a:chExt cx="8102520" cy="1373760"/>
              </a:xfrm>
            </p:grpSpPr>
            <p:grpSp>
              <p:nvGrpSpPr>
                <p:cNvPr id="570" name="组合 30"/>
                <p:cNvGrpSpPr/>
                <p:nvPr/>
              </p:nvGrpSpPr>
              <p:grpSpPr>
                <a:xfrm>
                  <a:off x="827280" y="642960"/>
                  <a:ext cx="6584400" cy="1373760"/>
                  <a:chOff x="827280" y="642960"/>
                  <a:chExt cx="6584400" cy="1373760"/>
                </a:xfrm>
              </p:grpSpPr>
              <p:sp>
                <p:nvSpPr>
                  <p:cNvPr id="571" name="Rectangle 15"/>
                  <p:cNvSpPr/>
                  <p:nvPr/>
                </p:nvSpPr>
                <p:spPr>
                  <a:xfrm>
                    <a:off x="827280" y="642960"/>
                    <a:ext cx="658440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显然             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,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并且当          时，               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又若          ，不妨设             ，则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从而                                        ，   是     的上界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572" name="Object 18"/>
                  <p:cNvGraphicFramePr/>
                  <p:nvPr/>
                </p:nvGraphicFramePr>
                <p:xfrm>
                  <a:off x="1071360" y="1499760"/>
                  <a:ext cx="3929040" cy="49428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73" name="Object 18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1071360" y="1499760"/>
                            <a:ext cx="3929040" cy="4942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574" name="Object 3"/>
                <p:cNvGraphicFramePr/>
                <p:nvPr/>
              </p:nvGraphicFramePr>
              <p:xfrm>
                <a:off x="1571760" y="667440"/>
                <a:ext cx="1500120" cy="4035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75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571760" y="667440"/>
                          <a:ext cx="1500120" cy="40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76" name="Object 4"/>
                <p:cNvGraphicFramePr/>
                <p:nvPr/>
              </p:nvGraphicFramePr>
              <p:xfrm>
                <a:off x="1000080" y="1071360"/>
                <a:ext cx="1269720" cy="4503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577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000080" y="1071360"/>
                          <a:ext cx="1269720" cy="450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78" name="Object 6"/>
                <p:cNvGraphicFramePr/>
                <p:nvPr/>
              </p:nvGraphicFramePr>
              <p:xfrm>
                <a:off x="5572440" y="685800"/>
                <a:ext cx="3357360" cy="4672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579" name="Object 6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572440" y="685800"/>
                          <a:ext cx="3357360" cy="467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80" name="Object 7"/>
              <p:cNvGraphicFramePr/>
              <p:nvPr/>
            </p:nvGraphicFramePr>
            <p:xfrm>
              <a:off x="4000680" y="712800"/>
              <a:ext cx="1269720" cy="3949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81" name="Object 7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000680" y="712800"/>
                        <a:ext cx="1269720" cy="3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2" name="Object 10"/>
              <p:cNvGraphicFramePr/>
              <p:nvPr/>
            </p:nvGraphicFramePr>
            <p:xfrm>
              <a:off x="3429000" y="1106280"/>
              <a:ext cx="1380960" cy="5364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83" name="Object 1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429000" y="1106280"/>
                        <a:ext cx="1380960" cy="53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4" name="Object 11"/>
              <p:cNvGraphicFramePr/>
              <p:nvPr/>
            </p:nvGraphicFramePr>
            <p:xfrm>
              <a:off x="5286600" y="1533240"/>
              <a:ext cx="372960" cy="3949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85" name="Object 1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286600" y="1533240"/>
                        <a:ext cx="372960" cy="39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6" name="Object 12"/>
              <p:cNvGraphicFramePr/>
              <p:nvPr/>
            </p:nvGraphicFramePr>
            <p:xfrm>
              <a:off x="6100920" y="1571040"/>
              <a:ext cx="471240" cy="4284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587" name="Object 12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100920" y="1571040"/>
                        <a:ext cx="471240" cy="42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88" name="Object 13"/>
            <p:cNvGraphicFramePr/>
            <p:nvPr/>
          </p:nvGraphicFramePr>
          <p:xfrm>
            <a:off x="5551560" y="1168200"/>
            <a:ext cx="3254400" cy="41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89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551560" y="1168200"/>
                      <a:ext cx="3254400" cy="41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90" name="组合 1"/>
          <p:cNvGrpSpPr/>
          <p:nvPr/>
        </p:nvGrpSpPr>
        <p:grpSpPr>
          <a:xfrm>
            <a:off x="1280880" y="2286000"/>
            <a:ext cx="6369480" cy="1000080"/>
            <a:chOff x="1280880" y="2286000"/>
            <a:chExt cx="6369480" cy="1000080"/>
          </a:xfrm>
        </p:grpSpPr>
        <p:grpSp>
          <p:nvGrpSpPr>
            <p:cNvPr id="591" name="组合 1"/>
            <p:cNvGrpSpPr/>
            <p:nvPr/>
          </p:nvGrpSpPr>
          <p:grpSpPr>
            <a:xfrm>
              <a:off x="1280880" y="2286000"/>
              <a:ext cx="6369480" cy="947160"/>
              <a:chOff x="1280880" y="2286000"/>
              <a:chExt cx="6369480" cy="947160"/>
            </a:xfrm>
          </p:grpSpPr>
          <p:sp>
            <p:nvSpPr>
              <p:cNvPr id="592" name="Rectangle 15"/>
              <p:cNvSpPr/>
              <p:nvPr/>
            </p:nvSpPr>
            <p:spPr>
              <a:xfrm>
                <a:off x="1280880" y="2286000"/>
                <a:ext cx="6369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根据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Zorn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引理，  有极大元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是定理中所需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要的延拓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为此只须证明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593" name="Object 17"/>
              <p:cNvGraphicFramePr/>
              <p:nvPr/>
            </p:nvGraphicFramePr>
            <p:xfrm>
              <a:off x="5000400" y="2357280"/>
              <a:ext cx="411120" cy="4161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594" name="Object 17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5000400" y="2357280"/>
                        <a:ext cx="411120" cy="41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95" name="Object 18"/>
            <p:cNvGraphicFramePr/>
            <p:nvPr/>
          </p:nvGraphicFramePr>
          <p:xfrm>
            <a:off x="3214440" y="2357280"/>
            <a:ext cx="485640" cy="3952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6" name="Object 18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214440" y="2357280"/>
                      <a:ext cx="48564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7" name="Object 19"/>
            <p:cNvGraphicFramePr/>
            <p:nvPr/>
          </p:nvGraphicFramePr>
          <p:xfrm>
            <a:off x="4143240" y="2749680"/>
            <a:ext cx="1643040" cy="536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8" name="Object 19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143240" y="2749680"/>
                      <a:ext cx="164304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99" name="Object 23"/>
          <p:cNvGraphicFramePr/>
          <p:nvPr/>
        </p:nvGraphicFramePr>
        <p:xfrm>
          <a:off x="5572080" y="2357280"/>
          <a:ext cx="41112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00" name="Object 2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72080" y="2357280"/>
                    <a:ext cx="4111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1" name="组合 43"/>
          <p:cNvGrpSpPr/>
          <p:nvPr/>
        </p:nvGrpSpPr>
        <p:grpSpPr>
          <a:xfrm>
            <a:off x="401760" y="2690640"/>
            <a:ext cx="8359200" cy="1470600"/>
            <a:chOff x="401760" y="2690640"/>
            <a:chExt cx="8359200" cy="1470600"/>
          </a:xfrm>
        </p:grpSpPr>
        <p:sp>
          <p:nvSpPr>
            <p:cNvPr id="602" name="Rectangle 15"/>
            <p:cNvSpPr/>
            <p:nvPr/>
          </p:nvSpPr>
          <p:spPr>
            <a:xfrm>
              <a:off x="6491160" y="26906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如若不然，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603" name="组合 1"/>
            <p:cNvGrpSpPr/>
            <p:nvPr/>
          </p:nvGrpSpPr>
          <p:grpSpPr>
            <a:xfrm>
              <a:off x="401760" y="3214080"/>
              <a:ext cx="8359200" cy="947160"/>
              <a:chOff x="401760" y="3214080"/>
              <a:chExt cx="8359200" cy="947160"/>
            </a:xfrm>
          </p:grpSpPr>
          <p:sp>
            <p:nvSpPr>
              <p:cNvPr id="604" name="Rectangle 15"/>
              <p:cNvSpPr/>
              <p:nvPr/>
            </p:nvSpPr>
            <p:spPr>
              <a:xfrm>
                <a:off x="574560" y="3214080"/>
                <a:ext cx="8186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1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有                          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                    ，这与    为极大元矛盾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定理证毕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605" name="Object 25"/>
              <p:cNvGraphicFramePr/>
              <p:nvPr/>
            </p:nvGraphicFramePr>
            <p:xfrm>
              <a:off x="401760" y="3317400"/>
              <a:ext cx="1955880" cy="4683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606" name="Object 25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401760" y="3317400"/>
                        <a:ext cx="1955880" cy="4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7" name="Object 26"/>
              <p:cNvGraphicFramePr/>
              <p:nvPr/>
            </p:nvGraphicFramePr>
            <p:xfrm>
              <a:off x="3643560" y="3259440"/>
              <a:ext cx="5000760" cy="5266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608" name="Object 26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3643560" y="3259440"/>
                        <a:ext cx="5000760" cy="52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609" name="Object 27"/>
            <p:cNvGraphicFramePr/>
            <p:nvPr/>
          </p:nvGraphicFramePr>
          <p:xfrm>
            <a:off x="853920" y="3714480"/>
            <a:ext cx="2432160" cy="4161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610" name="Object 27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853920" y="3714480"/>
                      <a:ext cx="243216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Object 29"/>
            <p:cNvGraphicFramePr/>
            <p:nvPr/>
          </p:nvGraphicFramePr>
          <p:xfrm>
            <a:off x="4286520" y="3714480"/>
            <a:ext cx="411120" cy="4161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612" name="Object 29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286520" y="3714480"/>
                      <a:ext cx="41112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0" y="1285920"/>
            <a:ext cx="9358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代教育技术中心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录制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16"/>
          <p:cNvGrpSpPr/>
          <p:nvPr/>
        </p:nvGrpSpPr>
        <p:grpSpPr>
          <a:xfrm>
            <a:off x="1178280" y="714240"/>
            <a:ext cx="6670440" cy="2092680"/>
            <a:chOff x="1178280" y="714240"/>
            <a:chExt cx="6670440" cy="2092680"/>
          </a:xfrm>
        </p:grpSpPr>
        <p:grpSp>
          <p:nvGrpSpPr>
            <p:cNvPr id="104" name="组合 48"/>
            <p:cNvGrpSpPr/>
            <p:nvPr/>
          </p:nvGrpSpPr>
          <p:grpSpPr>
            <a:xfrm>
              <a:off x="1178280" y="714240"/>
              <a:ext cx="6621120" cy="1537200"/>
              <a:chOff x="1178280" y="714240"/>
              <a:chExt cx="6621120" cy="1537200"/>
            </a:xfrm>
          </p:grpSpPr>
          <p:sp>
            <p:nvSpPr>
              <p:cNvPr id="105" name="Rectangle 15"/>
              <p:cNvSpPr/>
              <p:nvPr/>
            </p:nvSpPr>
            <p:spPr>
              <a:xfrm>
                <a:off x="1178280" y="714240"/>
                <a:ext cx="5649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2)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若                        为度量空间，以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06" name="Object 2"/>
              <p:cNvGraphicFramePr/>
              <p:nvPr/>
            </p:nvGraphicFramePr>
            <p:xfrm>
              <a:off x="1714680" y="1285920"/>
              <a:ext cx="6084720" cy="965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14680" y="1285920"/>
                        <a:ext cx="6084720" cy="96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8" name="Object 26"/>
              <p:cNvGraphicFramePr/>
              <p:nvPr/>
            </p:nvGraphicFramePr>
            <p:xfrm>
              <a:off x="1933560" y="785520"/>
              <a:ext cx="2423880" cy="441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9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33560" y="785520"/>
                        <a:ext cx="2423880" cy="441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0" name="Rectangle 15"/>
            <p:cNvSpPr/>
            <p:nvPr/>
          </p:nvSpPr>
          <p:spPr>
            <a:xfrm>
              <a:off x="1744200" y="2286360"/>
              <a:ext cx="610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           的度量函数，          为度量空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11" name="Object 4"/>
            <p:cNvGraphicFramePr/>
            <p:nvPr/>
          </p:nvGraphicFramePr>
          <p:xfrm>
            <a:off x="1714320" y="2358000"/>
            <a:ext cx="1262520" cy="395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14320" y="2358000"/>
                      <a:ext cx="126252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Object 8"/>
            <p:cNvGraphicFramePr/>
            <p:nvPr/>
          </p:nvGraphicFramePr>
          <p:xfrm>
            <a:off x="4786560" y="2358000"/>
            <a:ext cx="126252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86560" y="2358000"/>
                      <a:ext cx="126252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5" name="组合 15"/>
          <p:cNvGrpSpPr/>
          <p:nvPr/>
        </p:nvGrpSpPr>
        <p:grpSpPr>
          <a:xfrm>
            <a:off x="1089000" y="3143160"/>
            <a:ext cx="7459560" cy="520560"/>
            <a:chOff x="1089000" y="3143160"/>
            <a:chExt cx="7459560" cy="520560"/>
          </a:xfrm>
        </p:grpSpPr>
        <p:sp>
          <p:nvSpPr>
            <p:cNvPr id="116" name="Rectangle 15"/>
            <p:cNvSpPr/>
            <p:nvPr/>
          </p:nvSpPr>
          <p:spPr>
            <a:xfrm>
              <a:off x="1089000" y="3143160"/>
              <a:ext cx="745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称                   为闭映射，若        是            中 闭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17" name="Object 5"/>
            <p:cNvGraphicFramePr/>
            <p:nvPr/>
          </p:nvGraphicFramePr>
          <p:xfrm>
            <a:off x="5071680" y="3214440"/>
            <a:ext cx="950400" cy="405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71680" y="3214440"/>
                      <a:ext cx="950400" cy="40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Object 7"/>
            <p:cNvGraphicFramePr/>
            <p:nvPr/>
          </p:nvGraphicFramePr>
          <p:xfrm>
            <a:off x="1142640" y="3214440"/>
            <a:ext cx="1989000" cy="395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42640" y="3214440"/>
                      <a:ext cx="1989000" cy="3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Object 9"/>
            <p:cNvGraphicFramePr/>
            <p:nvPr/>
          </p:nvGraphicFramePr>
          <p:xfrm>
            <a:off x="6357600" y="3214440"/>
            <a:ext cx="1261800" cy="395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2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57600" y="3214440"/>
                      <a:ext cx="1261800" cy="3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428760" y="6429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4" name="组合 15"/>
          <p:cNvGrpSpPr/>
          <p:nvPr/>
        </p:nvGrpSpPr>
        <p:grpSpPr>
          <a:xfrm>
            <a:off x="1724040" y="714240"/>
            <a:ext cx="6016320" cy="571680"/>
            <a:chOff x="1724040" y="714240"/>
            <a:chExt cx="6016320" cy="571680"/>
          </a:xfrm>
        </p:grpSpPr>
        <p:sp>
          <p:nvSpPr>
            <p:cNvPr id="125" name="Rectangle 15"/>
            <p:cNvSpPr/>
            <p:nvPr/>
          </p:nvSpPr>
          <p:spPr>
            <a:xfrm>
              <a:off x="1724040" y="714240"/>
              <a:ext cx="601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连续函数空间             上的微分算子是闭算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26" name="Object 5"/>
            <p:cNvGraphicFramePr/>
            <p:nvPr/>
          </p:nvGraphicFramePr>
          <p:xfrm>
            <a:off x="3281400" y="780840"/>
            <a:ext cx="1290600" cy="50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1400" y="780840"/>
                      <a:ext cx="1290600" cy="5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" name="组合 16"/>
          <p:cNvGrpSpPr/>
          <p:nvPr/>
        </p:nvGrpSpPr>
        <p:grpSpPr>
          <a:xfrm>
            <a:off x="534240" y="1785960"/>
            <a:ext cx="7765200" cy="1403280"/>
            <a:chOff x="534240" y="1785960"/>
            <a:chExt cx="7765200" cy="1403280"/>
          </a:xfrm>
        </p:grpSpPr>
        <p:grpSp>
          <p:nvGrpSpPr>
            <p:cNvPr id="129" name="组合 15"/>
            <p:cNvGrpSpPr/>
            <p:nvPr/>
          </p:nvGrpSpPr>
          <p:grpSpPr>
            <a:xfrm>
              <a:off x="534240" y="1785960"/>
              <a:ext cx="7633440" cy="947160"/>
              <a:chOff x="534240" y="1785960"/>
              <a:chExt cx="7633440" cy="947160"/>
            </a:xfrm>
          </p:grpSpPr>
          <p:sp>
            <p:nvSpPr>
              <p:cNvPr id="130" name="Rectangle 15"/>
              <p:cNvSpPr/>
              <p:nvPr/>
            </p:nvSpPr>
            <p:spPr>
              <a:xfrm>
                <a:off x="534240" y="1785960"/>
                <a:ext cx="7633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令                                                   ，这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表示    的导数，则   是            的线性流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定义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31" name="Object 5"/>
              <p:cNvGraphicFramePr/>
              <p:nvPr/>
            </p:nvGraphicFramePr>
            <p:xfrm>
              <a:off x="4143600" y="2214360"/>
              <a:ext cx="1290600" cy="504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2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43600" y="2214360"/>
                        <a:ext cx="1290600" cy="50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3" name="Object 6"/>
            <p:cNvGraphicFramePr/>
            <p:nvPr/>
          </p:nvGraphicFramePr>
          <p:xfrm>
            <a:off x="1785960" y="1785960"/>
            <a:ext cx="5094360" cy="554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4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5960" y="1785960"/>
                      <a:ext cx="509436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8"/>
            <p:cNvGraphicFramePr/>
            <p:nvPr/>
          </p:nvGraphicFramePr>
          <p:xfrm>
            <a:off x="1357200" y="2357280"/>
            <a:ext cx="357120" cy="291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6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57200" y="2357280"/>
                      <a:ext cx="35712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Object 9"/>
            <p:cNvGraphicFramePr/>
            <p:nvPr/>
          </p:nvGraphicFramePr>
          <p:xfrm>
            <a:off x="7858440" y="1857240"/>
            <a:ext cx="441000" cy="353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58440" y="1857240"/>
                      <a:ext cx="44100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Object 10"/>
            <p:cNvGraphicFramePr/>
            <p:nvPr/>
          </p:nvGraphicFramePr>
          <p:xfrm>
            <a:off x="3500640" y="2286000"/>
            <a:ext cx="571320" cy="344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0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500640" y="2286000"/>
                      <a:ext cx="57132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Object 11"/>
            <p:cNvGraphicFramePr/>
            <p:nvPr/>
          </p:nvGraphicFramePr>
          <p:xfrm>
            <a:off x="2714760" y="2786040"/>
            <a:ext cx="2717640" cy="403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2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14760" y="2786040"/>
                      <a:ext cx="271764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3" name="组合 17"/>
          <p:cNvGrpSpPr/>
          <p:nvPr/>
        </p:nvGrpSpPr>
        <p:grpSpPr>
          <a:xfrm>
            <a:off x="1026720" y="3643200"/>
            <a:ext cx="5578920" cy="571680"/>
            <a:chOff x="1026720" y="3643200"/>
            <a:chExt cx="5578920" cy="571680"/>
          </a:xfrm>
        </p:grpSpPr>
        <p:grpSp>
          <p:nvGrpSpPr>
            <p:cNvPr id="144" name="组合 15"/>
            <p:cNvGrpSpPr/>
            <p:nvPr/>
          </p:nvGrpSpPr>
          <p:grpSpPr>
            <a:xfrm>
              <a:off x="1026720" y="3643200"/>
              <a:ext cx="5578920" cy="571680"/>
              <a:chOff x="1026720" y="3643200"/>
              <a:chExt cx="5578920" cy="571680"/>
            </a:xfrm>
          </p:grpSpPr>
          <p:sp>
            <p:nvSpPr>
              <p:cNvPr id="145" name="Rectangle 15"/>
              <p:cNvSpPr/>
              <p:nvPr/>
            </p:nvSpPr>
            <p:spPr>
              <a:xfrm>
                <a:off x="1026720" y="3643200"/>
                <a:ext cx="557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易见    是从     到            的线性算子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146" name="Object 12"/>
              <p:cNvGraphicFramePr/>
              <p:nvPr/>
            </p:nvGraphicFramePr>
            <p:xfrm>
              <a:off x="3500280" y="3709800"/>
              <a:ext cx="1290600" cy="5050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47" name="Object 12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500280" y="3709800"/>
                        <a:ext cx="1290600" cy="505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8" name="Object 15"/>
            <p:cNvGraphicFramePr/>
            <p:nvPr/>
          </p:nvGraphicFramePr>
          <p:xfrm>
            <a:off x="1676160" y="3727080"/>
            <a:ext cx="372960" cy="328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9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676160" y="3727080"/>
                      <a:ext cx="372960" cy="3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16"/>
            <p:cNvGraphicFramePr/>
            <p:nvPr/>
          </p:nvGraphicFramePr>
          <p:xfrm>
            <a:off x="2643120" y="3714480"/>
            <a:ext cx="571320" cy="344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1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43120" y="3714480"/>
                      <a:ext cx="57132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1"/>
          <p:cNvGrpSpPr/>
          <p:nvPr/>
        </p:nvGrpSpPr>
        <p:grpSpPr>
          <a:xfrm>
            <a:off x="928440" y="714240"/>
            <a:ext cx="7007400" cy="1373760"/>
            <a:chOff x="928440" y="714240"/>
            <a:chExt cx="7007400" cy="1373760"/>
          </a:xfrm>
        </p:grpSpPr>
        <p:grpSp>
          <p:nvGrpSpPr>
            <p:cNvPr id="153" name="组合 26"/>
            <p:cNvGrpSpPr/>
            <p:nvPr/>
          </p:nvGrpSpPr>
          <p:grpSpPr>
            <a:xfrm>
              <a:off x="1344240" y="714240"/>
              <a:ext cx="5533200" cy="1373760"/>
              <a:chOff x="1344240" y="714240"/>
              <a:chExt cx="5533200" cy="1373760"/>
            </a:xfrm>
          </p:grpSpPr>
          <p:grpSp>
            <p:nvGrpSpPr>
              <p:cNvPr id="154" name="组合 15"/>
              <p:cNvGrpSpPr/>
              <p:nvPr/>
            </p:nvGrpSpPr>
            <p:grpSpPr>
              <a:xfrm>
                <a:off x="1344240" y="714240"/>
                <a:ext cx="5533200" cy="1373760"/>
                <a:chOff x="1344240" y="714240"/>
                <a:chExt cx="5533200" cy="1373760"/>
              </a:xfrm>
            </p:grpSpPr>
            <p:sp>
              <p:nvSpPr>
                <p:cNvPr id="155" name="Rectangle 15"/>
                <p:cNvSpPr/>
                <p:nvPr/>
              </p:nvSpPr>
              <p:spPr>
                <a:xfrm>
                  <a:off x="1344240" y="714240"/>
                  <a:ext cx="553320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                          使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即    一致收敛于   ，  的导函数   一致收敛于 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56" name="Object 2"/>
                <p:cNvGraphicFramePr/>
                <p:nvPr/>
              </p:nvGraphicFramePr>
              <p:xfrm>
                <a:off x="3000240" y="1213920"/>
                <a:ext cx="3124080" cy="4539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57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000240" y="1213920"/>
                          <a:ext cx="3124080" cy="453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58" name="Object 3"/>
              <p:cNvGraphicFramePr/>
              <p:nvPr/>
            </p:nvGraphicFramePr>
            <p:xfrm>
              <a:off x="1714320" y="785520"/>
              <a:ext cx="3154320" cy="455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9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714320" y="785520"/>
                        <a:ext cx="3154320" cy="45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0" name="Object 4"/>
            <p:cNvGraphicFramePr/>
            <p:nvPr/>
          </p:nvGraphicFramePr>
          <p:xfrm>
            <a:off x="928440" y="1615680"/>
            <a:ext cx="441000" cy="45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1615680"/>
                      <a:ext cx="4410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5"/>
            <p:cNvGraphicFramePr/>
            <p:nvPr/>
          </p:nvGraphicFramePr>
          <p:xfrm>
            <a:off x="3071880" y="1615680"/>
            <a:ext cx="441000" cy="455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71880" y="1615680"/>
                      <a:ext cx="4410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Object 6"/>
            <p:cNvGraphicFramePr/>
            <p:nvPr/>
          </p:nvGraphicFramePr>
          <p:xfrm>
            <a:off x="3571920" y="1615680"/>
            <a:ext cx="441000" cy="455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5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71920" y="1615680"/>
                      <a:ext cx="4410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7"/>
            <p:cNvGraphicFramePr/>
            <p:nvPr/>
          </p:nvGraphicFramePr>
          <p:xfrm>
            <a:off x="5357880" y="1615680"/>
            <a:ext cx="441000" cy="455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7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57880" y="1615680"/>
                      <a:ext cx="4410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8"/>
            <p:cNvGraphicFramePr/>
            <p:nvPr/>
          </p:nvGraphicFramePr>
          <p:xfrm>
            <a:off x="7358040" y="1615680"/>
            <a:ext cx="577800" cy="455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9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358040" y="1615680"/>
                      <a:ext cx="5778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组合 32"/>
          <p:cNvGrpSpPr/>
          <p:nvPr/>
        </p:nvGrpSpPr>
        <p:grpSpPr>
          <a:xfrm>
            <a:off x="969840" y="2357280"/>
            <a:ext cx="6800760" cy="1373760"/>
            <a:chOff x="969840" y="2357280"/>
            <a:chExt cx="6800760" cy="1373760"/>
          </a:xfrm>
        </p:grpSpPr>
        <p:grpSp>
          <p:nvGrpSpPr>
            <p:cNvPr id="171" name="组合 12"/>
            <p:cNvGrpSpPr/>
            <p:nvPr/>
          </p:nvGrpSpPr>
          <p:grpSpPr>
            <a:xfrm>
              <a:off x="969840" y="2357280"/>
              <a:ext cx="6800760" cy="1373760"/>
              <a:chOff x="969840" y="2357280"/>
              <a:chExt cx="6800760" cy="1373760"/>
            </a:xfrm>
          </p:grpSpPr>
          <p:grpSp>
            <p:nvGrpSpPr>
              <p:cNvPr id="172" name="组合 15"/>
              <p:cNvGrpSpPr/>
              <p:nvPr/>
            </p:nvGrpSpPr>
            <p:grpSpPr>
              <a:xfrm>
                <a:off x="1181160" y="2357280"/>
                <a:ext cx="6589440" cy="1373760"/>
                <a:chOff x="1181160" y="2357280"/>
                <a:chExt cx="6589440" cy="1373760"/>
              </a:xfrm>
            </p:grpSpPr>
            <p:sp>
              <p:nvSpPr>
                <p:cNvPr id="173" name="Rectangle 15"/>
                <p:cNvSpPr/>
                <p:nvPr/>
              </p:nvSpPr>
              <p:spPr>
                <a:xfrm>
                  <a:off x="1181160" y="2357280"/>
                  <a:ext cx="658944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由数学分析可知，            则              且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即  是闭算子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但是容易知道  不是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 marL="514440" indent="-5144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有界的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4" name="Object 9"/>
                <p:cNvGraphicFramePr/>
                <p:nvPr/>
              </p:nvGraphicFramePr>
              <p:xfrm>
                <a:off x="4428720" y="2428560"/>
                <a:ext cx="1323720" cy="4539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75" name="Object 9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4428720" y="2428560"/>
                          <a:ext cx="1323720" cy="453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76" name="Object 12"/>
              <p:cNvGraphicFramePr/>
              <p:nvPr/>
            </p:nvGraphicFramePr>
            <p:xfrm>
              <a:off x="6071760" y="2428560"/>
              <a:ext cx="1392120" cy="4554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77" name="Object 12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071760" y="2428560"/>
                        <a:ext cx="1392120" cy="45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Object 13"/>
              <p:cNvGraphicFramePr/>
              <p:nvPr/>
            </p:nvGraphicFramePr>
            <p:xfrm>
              <a:off x="2928600" y="2885760"/>
              <a:ext cx="374400" cy="32832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79" name="Object 13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928600" y="2885760"/>
                        <a:ext cx="374400" cy="32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Object 15"/>
              <p:cNvGraphicFramePr/>
              <p:nvPr/>
            </p:nvGraphicFramePr>
            <p:xfrm>
              <a:off x="969840" y="2856960"/>
              <a:ext cx="1530000" cy="455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81" name="Object 15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969840" y="2856960"/>
                        <a:ext cx="1530000" cy="455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2" name="Object 16"/>
            <p:cNvGraphicFramePr/>
            <p:nvPr/>
          </p:nvGraphicFramePr>
          <p:xfrm>
            <a:off x="6857640" y="2856960"/>
            <a:ext cx="374400" cy="3283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3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857640" y="2856960"/>
                      <a:ext cx="37440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85840" y="64296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  (</a:t>
            </a: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闭图像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5" name="组合 23"/>
          <p:cNvGrpSpPr/>
          <p:nvPr/>
        </p:nvGrpSpPr>
        <p:grpSpPr>
          <a:xfrm>
            <a:off x="1143000" y="1428840"/>
            <a:ext cx="6673320" cy="947160"/>
            <a:chOff x="1143000" y="1428840"/>
            <a:chExt cx="6673320" cy="947160"/>
          </a:xfrm>
        </p:grpSpPr>
        <p:grpSp>
          <p:nvGrpSpPr>
            <p:cNvPr id="186" name="组合 52"/>
            <p:cNvGrpSpPr/>
            <p:nvPr/>
          </p:nvGrpSpPr>
          <p:grpSpPr>
            <a:xfrm>
              <a:off x="1408680" y="1428840"/>
              <a:ext cx="6407640" cy="947160"/>
              <a:chOff x="1408680" y="1428840"/>
              <a:chExt cx="6407640" cy="947160"/>
            </a:xfrm>
          </p:grpSpPr>
          <p:grpSp>
            <p:nvGrpSpPr>
              <p:cNvPr id="187" name="组合 48"/>
              <p:cNvGrpSpPr/>
              <p:nvPr/>
            </p:nvGrpSpPr>
            <p:grpSpPr>
              <a:xfrm>
                <a:off x="1408680" y="1428840"/>
                <a:ext cx="6407640" cy="947160"/>
                <a:chOff x="1408680" y="1428840"/>
                <a:chExt cx="6407640" cy="947160"/>
              </a:xfrm>
            </p:grpSpPr>
            <p:sp>
              <p:nvSpPr>
                <p:cNvPr id="188" name="Rectangle 15"/>
                <p:cNvSpPr/>
                <p:nvPr/>
              </p:nvSpPr>
              <p:spPr>
                <a:xfrm>
                  <a:off x="1408680" y="1428840"/>
                  <a:ext cx="64076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设       是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Banach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空间，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             </a:t>
                  </a: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是线性算子，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若    是闭算子，则    连续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.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9" name="Object 15"/>
                <p:cNvGraphicFramePr/>
                <p:nvPr/>
              </p:nvGraphicFramePr>
              <p:xfrm>
                <a:off x="1669320" y="1500120"/>
                <a:ext cx="736560" cy="4269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90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669320" y="1500120"/>
                          <a:ext cx="73656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91" name="Object 3"/>
              <p:cNvGraphicFramePr/>
              <p:nvPr/>
            </p:nvGraphicFramePr>
            <p:xfrm>
              <a:off x="4806720" y="1500120"/>
              <a:ext cx="1506600" cy="372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06720" y="1500120"/>
                        <a:ext cx="1506600" cy="37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3" name="Object 18"/>
            <p:cNvGraphicFramePr/>
            <p:nvPr/>
          </p:nvGraphicFramePr>
          <p:xfrm>
            <a:off x="1143000" y="1928880"/>
            <a:ext cx="312480" cy="34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Object 1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43000" y="192888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Object 19"/>
            <p:cNvGraphicFramePr/>
            <p:nvPr/>
          </p:nvGraphicFramePr>
          <p:xfrm>
            <a:off x="3714840" y="1928880"/>
            <a:ext cx="312480" cy="345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14840" y="192888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Text Box 3"/>
          <p:cNvSpPr/>
          <p:nvPr/>
        </p:nvSpPr>
        <p:spPr>
          <a:xfrm>
            <a:off x="428760" y="24289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8" name="组合 25"/>
          <p:cNvGrpSpPr/>
          <p:nvPr/>
        </p:nvGrpSpPr>
        <p:grpSpPr>
          <a:xfrm>
            <a:off x="1204920" y="2571840"/>
            <a:ext cx="7459560" cy="1385640"/>
            <a:chOff x="1204920" y="2571840"/>
            <a:chExt cx="7459560" cy="1385640"/>
          </a:xfrm>
        </p:grpSpPr>
        <p:sp>
          <p:nvSpPr>
            <p:cNvPr id="199" name="Rectangle 15"/>
            <p:cNvSpPr/>
            <p:nvPr/>
          </p:nvSpPr>
          <p:spPr>
            <a:xfrm>
              <a:off x="1204920" y="2571840"/>
              <a:ext cx="163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定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0" name="Object 21"/>
            <p:cNvGraphicFramePr/>
            <p:nvPr/>
          </p:nvGraphicFramePr>
          <p:xfrm>
            <a:off x="2357280" y="3000240"/>
            <a:ext cx="6307200" cy="95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1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57280" y="3000240"/>
                      <a:ext cx="6307200" cy="95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2" name="组合 30"/>
          <p:cNvGrpSpPr/>
          <p:nvPr/>
        </p:nvGrpSpPr>
        <p:grpSpPr>
          <a:xfrm>
            <a:off x="1145880" y="3857760"/>
            <a:ext cx="3714840" cy="520560"/>
            <a:chOff x="1145880" y="3857760"/>
            <a:chExt cx="3714840" cy="520560"/>
          </a:xfrm>
        </p:grpSpPr>
        <p:sp>
          <p:nvSpPr>
            <p:cNvPr id="203" name="Rectangle 15"/>
            <p:cNvSpPr/>
            <p:nvPr/>
          </p:nvSpPr>
          <p:spPr>
            <a:xfrm>
              <a:off x="1145880" y="3857760"/>
              <a:ext cx="371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是线性的、到上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4" name="Object 25"/>
            <p:cNvGraphicFramePr/>
            <p:nvPr/>
          </p:nvGraphicFramePr>
          <p:xfrm>
            <a:off x="1982880" y="3929040"/>
            <a:ext cx="449280" cy="36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5" name="Object 2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82880" y="3929040"/>
                      <a:ext cx="449280" cy="36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"/>
          <p:cNvGrpSpPr/>
          <p:nvPr/>
        </p:nvGrpSpPr>
        <p:grpSpPr>
          <a:xfrm>
            <a:off x="785520" y="500040"/>
            <a:ext cx="3335760" cy="520560"/>
            <a:chOff x="785520" y="500040"/>
            <a:chExt cx="3335760" cy="520560"/>
          </a:xfrm>
        </p:grpSpPr>
        <p:sp>
          <p:nvSpPr>
            <p:cNvPr id="207" name="Rectangle 15"/>
            <p:cNvSpPr/>
            <p:nvPr/>
          </p:nvSpPr>
          <p:spPr>
            <a:xfrm>
              <a:off x="1436760" y="500040"/>
              <a:ext cx="268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还是一一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实际上，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8" name="Object 2"/>
            <p:cNvGraphicFramePr/>
            <p:nvPr/>
          </p:nvGraphicFramePr>
          <p:xfrm>
            <a:off x="785520" y="571320"/>
            <a:ext cx="448920" cy="36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85520" y="571320"/>
                      <a:ext cx="448920" cy="36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0" name="Object 3"/>
          <p:cNvGraphicFramePr/>
          <p:nvPr/>
        </p:nvGraphicFramePr>
        <p:xfrm>
          <a:off x="4857840" y="571680"/>
          <a:ext cx="4054320" cy="50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571680"/>
                    <a:ext cx="40543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组合 11"/>
          <p:cNvGrpSpPr/>
          <p:nvPr/>
        </p:nvGrpSpPr>
        <p:grpSpPr>
          <a:xfrm>
            <a:off x="714240" y="1071720"/>
            <a:ext cx="7586640" cy="1077840"/>
            <a:chOff x="714240" y="1071720"/>
            <a:chExt cx="7586640" cy="1077840"/>
          </a:xfrm>
        </p:grpSpPr>
        <p:grpSp>
          <p:nvGrpSpPr>
            <p:cNvPr id="213" name="组合 5"/>
            <p:cNvGrpSpPr/>
            <p:nvPr/>
          </p:nvGrpSpPr>
          <p:grpSpPr>
            <a:xfrm>
              <a:off x="1071360" y="1071720"/>
              <a:ext cx="7229520" cy="947160"/>
              <a:chOff x="1071360" y="1071720"/>
              <a:chExt cx="7229520" cy="947160"/>
            </a:xfrm>
          </p:grpSpPr>
          <p:sp>
            <p:nvSpPr>
              <p:cNvPr id="214" name="Rectangle 15"/>
              <p:cNvSpPr/>
              <p:nvPr/>
            </p:nvSpPr>
            <p:spPr>
              <a:xfrm>
                <a:off x="1309680" y="1071720"/>
                <a:ext cx="6991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             ，从而          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.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故      存在，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15" name="Object 4"/>
              <p:cNvGraphicFramePr/>
              <p:nvPr/>
            </p:nvGraphicFramePr>
            <p:xfrm>
              <a:off x="1071360" y="1071720"/>
              <a:ext cx="1309680" cy="507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16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71360" y="1071720"/>
                        <a:ext cx="130968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17" name="Object 5"/>
            <p:cNvGraphicFramePr/>
            <p:nvPr/>
          </p:nvGraphicFramePr>
          <p:xfrm>
            <a:off x="3357720" y="1071720"/>
            <a:ext cx="3454560" cy="50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7720" y="1071720"/>
                      <a:ext cx="34545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9" name="Object 6"/>
            <p:cNvGraphicFramePr/>
            <p:nvPr/>
          </p:nvGraphicFramePr>
          <p:xfrm>
            <a:off x="7075800" y="1114560"/>
            <a:ext cx="711000" cy="423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0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075800" y="1114560"/>
                      <a:ext cx="71100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1" name="Object 7"/>
            <p:cNvGraphicFramePr/>
            <p:nvPr/>
          </p:nvGraphicFramePr>
          <p:xfrm>
            <a:off x="714240" y="1643040"/>
            <a:ext cx="4129200" cy="506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2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4240" y="1643040"/>
                      <a:ext cx="412920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3" name="组合 15"/>
          <p:cNvGrpSpPr/>
          <p:nvPr/>
        </p:nvGrpSpPr>
        <p:grpSpPr>
          <a:xfrm>
            <a:off x="1006560" y="2071800"/>
            <a:ext cx="7564320" cy="571320"/>
            <a:chOff x="1006560" y="2071800"/>
            <a:chExt cx="7564320" cy="571320"/>
          </a:xfrm>
        </p:grpSpPr>
        <p:sp>
          <p:nvSpPr>
            <p:cNvPr id="224" name="Rectangle 15"/>
            <p:cNvSpPr/>
            <p:nvPr/>
          </p:nvSpPr>
          <p:spPr>
            <a:xfrm>
              <a:off x="1006560" y="2071800"/>
              <a:ext cx="64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现在                                                 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5" name="Object 8"/>
            <p:cNvGraphicFramePr/>
            <p:nvPr/>
          </p:nvGraphicFramePr>
          <p:xfrm>
            <a:off x="1928520" y="2081160"/>
            <a:ext cx="4805280" cy="56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28520" y="2081160"/>
                      <a:ext cx="4805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9"/>
            <p:cNvGraphicFramePr/>
            <p:nvPr/>
          </p:nvGraphicFramePr>
          <p:xfrm>
            <a:off x="7143840" y="2071800"/>
            <a:ext cx="1427040" cy="561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143840" y="2071800"/>
                      <a:ext cx="142704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9" name="组合 16"/>
          <p:cNvGrpSpPr/>
          <p:nvPr/>
        </p:nvGrpSpPr>
        <p:grpSpPr>
          <a:xfrm>
            <a:off x="1022400" y="2571840"/>
            <a:ext cx="4448160" cy="520560"/>
            <a:chOff x="1022400" y="2571840"/>
            <a:chExt cx="4448160" cy="520560"/>
          </a:xfrm>
        </p:grpSpPr>
        <p:sp>
          <p:nvSpPr>
            <p:cNvPr id="230" name="Rectangle 15"/>
            <p:cNvSpPr/>
            <p:nvPr/>
          </p:nvSpPr>
          <p:spPr>
            <a:xfrm>
              <a:off x="1022400" y="2571840"/>
              <a:ext cx="444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根据逆算子定理，     有界，从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31" name="Object 11"/>
            <p:cNvGraphicFramePr/>
            <p:nvPr/>
          </p:nvGraphicFramePr>
          <p:xfrm>
            <a:off x="3357720" y="2571840"/>
            <a:ext cx="712800" cy="42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2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357720" y="2571840"/>
                      <a:ext cx="712800" cy="42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3" name="Object 12"/>
          <p:cNvGraphicFramePr/>
          <p:nvPr/>
        </p:nvGraphicFramePr>
        <p:xfrm>
          <a:off x="2000160" y="3071880"/>
          <a:ext cx="6007320" cy="1179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4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00160" y="3071880"/>
                    <a:ext cx="60073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组合 25"/>
          <p:cNvGrpSpPr/>
          <p:nvPr/>
        </p:nvGrpSpPr>
        <p:grpSpPr>
          <a:xfrm>
            <a:off x="794160" y="4187880"/>
            <a:ext cx="4573080" cy="617400"/>
            <a:chOff x="794160" y="4187880"/>
            <a:chExt cx="4573080" cy="617400"/>
          </a:xfrm>
        </p:grpSpPr>
        <p:grpSp>
          <p:nvGrpSpPr>
            <p:cNvPr id="236" name="组合 21"/>
            <p:cNvGrpSpPr/>
            <p:nvPr/>
          </p:nvGrpSpPr>
          <p:grpSpPr>
            <a:xfrm>
              <a:off x="794160" y="4187880"/>
              <a:ext cx="4573080" cy="617400"/>
              <a:chOff x="794160" y="4187880"/>
              <a:chExt cx="4573080" cy="617400"/>
            </a:xfrm>
          </p:grpSpPr>
          <p:sp>
            <p:nvSpPr>
              <p:cNvPr id="237" name="Rectangle 15"/>
              <p:cNvSpPr/>
              <p:nvPr/>
            </p:nvSpPr>
            <p:spPr>
              <a:xfrm>
                <a:off x="794160" y="4214880"/>
                <a:ext cx="457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即                      ，     连续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38" name="Object 13"/>
              <p:cNvGraphicFramePr/>
              <p:nvPr/>
            </p:nvGraphicFramePr>
            <p:xfrm>
              <a:off x="1403280" y="4187880"/>
              <a:ext cx="2025360" cy="6174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39" name="Object 13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403280" y="4187880"/>
                        <a:ext cx="2025360" cy="61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0" name="Object 14"/>
            <p:cNvGraphicFramePr/>
            <p:nvPr/>
          </p:nvGraphicFramePr>
          <p:xfrm>
            <a:off x="3947760" y="4286160"/>
            <a:ext cx="410760" cy="366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41" name="Object 1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947760" y="4286160"/>
                      <a:ext cx="41076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285840" y="7142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3" name="组合 12"/>
          <p:cNvGrpSpPr/>
          <p:nvPr/>
        </p:nvGrpSpPr>
        <p:grpSpPr>
          <a:xfrm>
            <a:off x="1357200" y="1428840"/>
            <a:ext cx="6885720" cy="1373760"/>
            <a:chOff x="1357200" y="1428840"/>
            <a:chExt cx="6885720" cy="1373760"/>
          </a:xfrm>
        </p:grpSpPr>
        <p:grpSp>
          <p:nvGrpSpPr>
            <p:cNvPr id="244" name="组合 2"/>
            <p:cNvGrpSpPr/>
            <p:nvPr/>
          </p:nvGrpSpPr>
          <p:grpSpPr>
            <a:xfrm>
              <a:off x="1357200" y="1428840"/>
              <a:ext cx="6673320" cy="1373760"/>
              <a:chOff x="1357200" y="1428840"/>
              <a:chExt cx="6673320" cy="1373760"/>
            </a:xfrm>
          </p:grpSpPr>
          <p:grpSp>
            <p:nvGrpSpPr>
              <p:cNvPr id="245" name="组合 52"/>
              <p:cNvGrpSpPr/>
              <p:nvPr/>
            </p:nvGrpSpPr>
            <p:grpSpPr>
              <a:xfrm>
                <a:off x="1622880" y="1428840"/>
                <a:ext cx="6407640" cy="1373760"/>
                <a:chOff x="1622880" y="1428840"/>
                <a:chExt cx="6407640" cy="1373760"/>
              </a:xfrm>
            </p:grpSpPr>
            <p:grpSp>
              <p:nvGrpSpPr>
                <p:cNvPr id="246" name="组合 48"/>
                <p:cNvGrpSpPr/>
                <p:nvPr/>
              </p:nvGrpSpPr>
              <p:grpSpPr>
                <a:xfrm>
                  <a:off x="1622880" y="1428840"/>
                  <a:ext cx="6407640" cy="1373760"/>
                  <a:chOff x="1622880" y="1428840"/>
                  <a:chExt cx="6407640" cy="1373760"/>
                </a:xfrm>
              </p:grpSpPr>
              <p:sp>
                <p:nvSpPr>
                  <p:cNvPr id="247" name="Rectangle 15"/>
                  <p:cNvSpPr/>
                  <p:nvPr/>
                </p:nvSpPr>
                <p:spPr>
                  <a:xfrm>
                    <a:off x="1622880" y="1428840"/>
                    <a:ext cx="6407640" cy="137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设       是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Banach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空间，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             </a:t>
                    </a: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线性算子，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若    是闭算子且        在    中是第二纲的，则     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是到上的开算子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.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48" name="Object 2"/>
                  <p:cNvGraphicFramePr/>
                  <p:nvPr/>
                </p:nvGraphicFramePr>
                <p:xfrm>
                  <a:off x="1883520" y="1500120"/>
                  <a:ext cx="736560" cy="4266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49" name="Object 2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1883520" y="1500120"/>
                            <a:ext cx="736560" cy="4266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250" name="Object 3"/>
                <p:cNvGraphicFramePr/>
                <p:nvPr/>
              </p:nvGraphicFramePr>
              <p:xfrm>
                <a:off x="5020920" y="1500120"/>
                <a:ext cx="1506600" cy="3726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51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020920" y="1500120"/>
                          <a:ext cx="1506600" cy="372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52" name="Object 4"/>
              <p:cNvGraphicFramePr/>
              <p:nvPr/>
            </p:nvGraphicFramePr>
            <p:xfrm>
              <a:off x="1357200" y="1928520"/>
              <a:ext cx="312480" cy="345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3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57200" y="1928520"/>
                        <a:ext cx="312480" cy="34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4" name="Object 5"/>
              <p:cNvGraphicFramePr/>
              <p:nvPr/>
            </p:nvGraphicFramePr>
            <p:xfrm>
              <a:off x="3433680" y="1931760"/>
              <a:ext cx="852480" cy="425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433680" y="1931760"/>
                        <a:ext cx="852480" cy="42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56" name="Object 6"/>
            <p:cNvGraphicFramePr/>
            <p:nvPr/>
          </p:nvGraphicFramePr>
          <p:xfrm>
            <a:off x="4643640" y="1928520"/>
            <a:ext cx="312480" cy="34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43640" y="192852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Object 7"/>
            <p:cNvGraphicFramePr/>
            <p:nvPr/>
          </p:nvGraphicFramePr>
          <p:xfrm>
            <a:off x="7930440" y="1928520"/>
            <a:ext cx="312480" cy="34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30440" y="1928520"/>
                      <a:ext cx="31248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5"/>
          <p:cNvGrpSpPr/>
          <p:nvPr/>
        </p:nvGrpSpPr>
        <p:grpSpPr>
          <a:xfrm>
            <a:off x="1459080" y="928800"/>
            <a:ext cx="6426360" cy="2662200"/>
            <a:chOff x="1459080" y="928800"/>
            <a:chExt cx="6426360" cy="2662200"/>
          </a:xfrm>
        </p:grpSpPr>
        <p:grpSp>
          <p:nvGrpSpPr>
            <p:cNvPr id="261" name="组合 25"/>
            <p:cNvGrpSpPr/>
            <p:nvPr/>
          </p:nvGrpSpPr>
          <p:grpSpPr>
            <a:xfrm>
              <a:off x="1459080" y="928800"/>
              <a:ext cx="6399000" cy="2662200"/>
              <a:chOff x="1459080" y="928800"/>
              <a:chExt cx="6399000" cy="2662200"/>
            </a:xfrm>
          </p:grpSpPr>
          <p:sp>
            <p:nvSpPr>
              <p:cNvPr id="262" name="Rectangle 15"/>
              <p:cNvSpPr/>
              <p:nvPr/>
            </p:nvSpPr>
            <p:spPr>
              <a:xfrm>
                <a:off x="1459080" y="928800"/>
                <a:ext cx="6399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要懂得闭图像定理的好处，可对线性算子  考虑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下面三个叙述：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263" name="Object 21"/>
              <p:cNvGraphicFramePr/>
              <p:nvPr/>
            </p:nvGraphicFramePr>
            <p:xfrm>
              <a:off x="2643480" y="2071800"/>
              <a:ext cx="2289240" cy="1519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64" name="Object 2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43480" y="2071800"/>
                        <a:ext cx="2289240" cy="15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65" name="Object 4"/>
            <p:cNvGraphicFramePr/>
            <p:nvPr/>
          </p:nvGraphicFramePr>
          <p:xfrm>
            <a:off x="7572960" y="1000080"/>
            <a:ext cx="312480" cy="34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72960" y="1000080"/>
                      <a:ext cx="312480" cy="34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2012</cp:lastModifiedBy>
  <dcterms:modified xsi:type="dcterms:W3CDTF">2014-11-09T07:23:43Z</dcterms:modified>
  <cp:revision>547</cp:revision>
  <dc:subject/>
  <dc:title>幻灯片 1</dc:title>
</cp:coreProperties>
</file>