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.jpeg" ContentType="image/jpeg"/>
  <Override PartName="/ppt/media/image89.wmf" ContentType="image/x-wmf"/>
  <Override PartName="/ppt/media/image50.wmf" ContentType="image/x-wmf"/>
  <Override PartName="/ppt/media/image4.wmf" ContentType="image/x-wmf"/>
  <Override PartName="/ppt/media/image13.wmf" ContentType="image/x-wmf"/>
  <Override PartName="/ppt/media/image81.wmf" ContentType="image/x-wmf"/>
  <Override PartName="/ppt/media/image34.wmf" ContentType="image/x-wmf"/>
  <Override PartName="/ppt/media/image26.wmf" ContentType="image/x-wmf"/>
  <Override PartName="/ppt/media/image94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17.wmf" ContentType="image/x-wmf"/>
  <Override PartName="/ppt/media/image8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80.wmf" ContentType="image/x-wmf"/>
  <Override PartName="/ppt/media/image12.wmf" ContentType="image/x-wmf"/>
  <Override PartName="/ppt/media/image109.wmf" ContentType="image/x-wmf"/>
  <Override PartName="/ppt/media/image49.wmf" ContentType="image/x-wmf"/>
  <Override PartName="/ppt/media/image10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3.wmf" ContentType="image/x-wmf"/>
  <Override PartName="/ppt/media/image25.wmf" ContentType="image/x-wmf"/>
  <Override PartName="/ppt/media/image9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2.wmf" ContentType="image/x-wmf"/>
  <Override PartName="/ppt/media/image54.wmf" ContentType="image/x-wmf"/>
  <Override PartName="/ppt/media/image16.wmf" ContentType="image/x-wmf"/>
  <Override PartName="/ppt/media/image84.wmf" ContentType="image/x-wmf"/>
  <Override PartName="/ppt/media/image7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40.wmf" ContentType="image/x-wmf"/>
  <Override PartName="/ppt/media/image32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9.wmf" ContentType="image/x-wmf"/>
  <Override PartName="/ppt/media/image38.wmf" ContentType="image/x-wmf"/>
  <Override PartName="/ppt/media/image37.wmf" ContentType="image/x-wmf"/>
  <Override PartName="/ppt/media/image48.wmf" ContentType="image/x-wmf"/>
  <Override PartName="/ppt/media/image82.wmf" ContentType="image/x-wmf"/>
  <Override PartName="/ppt/media/image14.wmf" ContentType="image/x-wmf"/>
  <Override PartName="/ppt/media/image107.wmf" ContentType="image/x-wmf"/>
  <Override PartName="/ppt/media/image2.jpeg" ContentType="image/jpeg"/>
  <Override PartName="/ppt/media/image99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5.wmf" ContentType="image/x-wmf"/>
  <Override PartName="/ppt/media/image106.wmf" ContentType="image/x-wmf"/>
  <Override PartName="/ppt/media/image111.wmf" ContentType="image/x-wmf"/>
  <Override PartName="/ppt/media/image112.wmf" ContentType="image/x-wmf"/>
  <Override PartName="/ppt/media/image113.wmf" ContentType="image/x-wmf"/>
  <Override PartName="/ppt/media/image114.wmf" ContentType="image/x-wmf"/>
  <Override PartName="/ppt/media/image115.wmf" ContentType="image/x-wmf"/>
  <Override PartName="/ppt/media/image116.wmf" ContentType="image/x-wmf"/>
  <Override PartName="/ppt/media/image121.wmf" ContentType="image/x-wmf"/>
  <Override PartName="/ppt/media/image122.wmf" ContentType="image/x-wmf"/>
  <Override PartName="/ppt/media/image123.wmf" ContentType="image/x-wmf"/>
  <Override PartName="/ppt/media/image124.wmf" ContentType="image/x-wmf"/>
  <Override PartName="/ppt/media/image1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9D9-33DA-403E-8FAB-E608F3BC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103-A056-4104-BA52-D5D41046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620-AB2F-4691-8DE0-6B8F8CFA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9F1-B0F5-4FEF-A082-50F430F1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EE04-F566-49BE-B5BB-3DDCDEED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073B-036A-4A3B-BEA6-C3E131A3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4A9E-7D09-4941-9C42-2D8BE89E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0123-5110-45E3-8A1A-EB5A8394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5921-820C-4163-BBF0-532C323D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4919-8A6F-4A31-8E5A-6E52FF56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D60A-13FD-4243-87DB-FC0288D3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F07-644B-432F-A944-BA98D56D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0968-6380-442F-94D3-3EBF9049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8392-6DF2-4C41-9678-558B223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474B-CB06-4415-89D6-688B886C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5C0A-5DFA-4B72-A939-777C7CB1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B643-51C0-4D6B-A51A-019A09F0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FAD-00AA-4668-A347-4DBB91C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39F-FD63-441B-BD39-728740A5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434-235D-447E-9F28-DAF63AB4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3D4-F48B-47DF-9CCB-B066622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0FA-1830-4C14-A538-13E0FE9D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073-F6D3-4D59-B7BF-996F09ED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BA7-CEE3-4CAE-9A2E-2FF577B2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3D03-EE28-48FA-9812-A82971813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9160-B887-41BF-B11D-A9B0865BA5B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8.wmf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6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8.wmf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8.wmf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1.wmf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0.wmf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9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三讲  有界线性算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3"/>
          <p:cNvGrpSpPr/>
          <p:nvPr/>
        </p:nvGrpSpPr>
        <p:grpSpPr>
          <a:xfrm>
            <a:off x="857160" y="642960"/>
            <a:ext cx="6465240" cy="1092240"/>
            <a:chOff x="857160" y="642960"/>
            <a:chExt cx="6465240" cy="1092240"/>
          </a:xfrm>
        </p:grpSpPr>
        <p:grpSp>
          <p:nvGrpSpPr>
            <p:cNvPr id="427" name="组合 6"/>
            <p:cNvGrpSpPr/>
            <p:nvPr/>
          </p:nvGrpSpPr>
          <p:grpSpPr>
            <a:xfrm>
              <a:off x="857160" y="642960"/>
              <a:ext cx="6465240" cy="1062360"/>
              <a:chOff x="857160" y="642960"/>
              <a:chExt cx="6465240" cy="1062360"/>
            </a:xfrm>
          </p:grpSpPr>
          <p:grpSp>
            <p:nvGrpSpPr>
              <p:cNvPr id="428" name="组合 1"/>
              <p:cNvGrpSpPr/>
              <p:nvPr/>
            </p:nvGrpSpPr>
            <p:grpSpPr>
              <a:xfrm>
                <a:off x="1623240" y="642960"/>
                <a:ext cx="5699160" cy="520560"/>
                <a:chOff x="1623240" y="642960"/>
                <a:chExt cx="5699160" cy="520560"/>
              </a:xfrm>
            </p:grpSpPr>
            <p:sp>
              <p:nvSpPr>
                <p:cNvPr id="429" name="Rectangle 15"/>
                <p:cNvSpPr/>
                <p:nvPr/>
              </p:nvSpPr>
              <p:spPr>
                <a:xfrm>
                  <a:off x="1623240" y="642960"/>
                  <a:ext cx="5699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现在对于                    存在                    使得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30" name="Object 2"/>
                <p:cNvGraphicFramePr/>
                <p:nvPr/>
              </p:nvGraphicFramePr>
              <p:xfrm>
                <a:off x="2360520" y="714240"/>
                <a:ext cx="1925640" cy="419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31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360520" y="714240"/>
                          <a:ext cx="1925640" cy="419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32" name="Object 3"/>
              <p:cNvGraphicFramePr/>
              <p:nvPr/>
            </p:nvGraphicFramePr>
            <p:xfrm>
              <a:off x="5143320" y="770040"/>
              <a:ext cx="1801800" cy="372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3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143320" y="770040"/>
                        <a:ext cx="180180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4" name="Object 4"/>
              <p:cNvGraphicFramePr/>
              <p:nvPr/>
            </p:nvGraphicFramePr>
            <p:xfrm>
              <a:off x="857160" y="1286280"/>
              <a:ext cx="2392200" cy="419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35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7160" y="1286280"/>
                        <a:ext cx="239220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6" name="Rectangle 15"/>
            <p:cNvSpPr/>
            <p:nvPr/>
          </p:nvSpPr>
          <p:spPr>
            <a:xfrm>
              <a:off x="3505320" y="121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aphicFrame>
        <p:nvGraphicFramePr>
          <p:cNvPr id="437" name="Object 5"/>
          <p:cNvGraphicFramePr/>
          <p:nvPr/>
        </p:nvGraphicFramePr>
        <p:xfrm>
          <a:off x="2428920" y="1928880"/>
          <a:ext cx="450540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8920" y="1928880"/>
                    <a:ext cx="450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9" name="组合 14"/>
          <p:cNvGrpSpPr/>
          <p:nvPr/>
        </p:nvGrpSpPr>
        <p:grpSpPr>
          <a:xfrm>
            <a:off x="1441080" y="2500200"/>
            <a:ext cx="4036320" cy="520560"/>
            <a:chOff x="1441080" y="2500200"/>
            <a:chExt cx="4036320" cy="520560"/>
          </a:xfrm>
        </p:grpSpPr>
        <p:sp>
          <p:nvSpPr>
            <p:cNvPr id="440" name="Rectangle 15"/>
            <p:cNvSpPr/>
            <p:nvPr/>
          </p:nvSpPr>
          <p:spPr>
            <a:xfrm>
              <a:off x="1441080" y="2500200"/>
              <a:ext cx="403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显然                            所以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1" name="Object 6"/>
            <p:cNvGraphicFramePr/>
            <p:nvPr/>
          </p:nvGraphicFramePr>
          <p:xfrm>
            <a:off x="2214720" y="2571480"/>
            <a:ext cx="2577960" cy="419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4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14720" y="2571480"/>
                      <a:ext cx="25779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3" name="组合 15"/>
          <p:cNvGrpSpPr/>
          <p:nvPr/>
        </p:nvGrpSpPr>
        <p:grpSpPr>
          <a:xfrm>
            <a:off x="1324080" y="3143160"/>
            <a:ext cx="4854600" cy="1163520"/>
            <a:chOff x="1324080" y="3143160"/>
            <a:chExt cx="4854600" cy="1163520"/>
          </a:xfrm>
        </p:grpSpPr>
        <p:graphicFrame>
          <p:nvGraphicFramePr>
            <p:cNvPr id="444" name="Object 7"/>
            <p:cNvGraphicFramePr/>
            <p:nvPr/>
          </p:nvGraphicFramePr>
          <p:xfrm>
            <a:off x="3040200" y="3143160"/>
            <a:ext cx="31384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5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40200" y="3143160"/>
                      <a:ext cx="31384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Rectangle 15"/>
            <p:cNvSpPr/>
            <p:nvPr/>
          </p:nvSpPr>
          <p:spPr>
            <a:xfrm>
              <a:off x="1324080" y="3786120"/>
              <a:ext cx="14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与所设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3"/>
          <p:cNvSpPr/>
          <p:nvPr/>
        </p:nvSpPr>
        <p:spPr>
          <a:xfrm>
            <a:off x="428760" y="5716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8" name="组合 8"/>
          <p:cNvGrpSpPr/>
          <p:nvPr/>
        </p:nvGrpSpPr>
        <p:grpSpPr>
          <a:xfrm>
            <a:off x="1762560" y="571680"/>
            <a:ext cx="5729760" cy="1373760"/>
            <a:chOff x="1762560" y="571680"/>
            <a:chExt cx="5729760" cy="1373760"/>
          </a:xfrm>
        </p:grpSpPr>
        <p:grpSp>
          <p:nvGrpSpPr>
            <p:cNvPr id="449" name="组合 18"/>
            <p:cNvGrpSpPr/>
            <p:nvPr/>
          </p:nvGrpSpPr>
          <p:grpSpPr>
            <a:xfrm>
              <a:off x="1762560" y="571680"/>
              <a:ext cx="5729760" cy="1373760"/>
              <a:chOff x="1762560" y="571680"/>
              <a:chExt cx="5729760" cy="1373760"/>
            </a:xfrm>
          </p:grpSpPr>
          <p:sp>
            <p:nvSpPr>
              <p:cNvPr id="450" name="Rectangle 15"/>
              <p:cNvSpPr/>
              <p:nvPr/>
            </p:nvSpPr>
            <p:spPr>
              <a:xfrm>
                <a:off x="1762560" y="571680"/>
                <a:ext cx="57297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            ，在第一章第三节中我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们已提到，每个         阶矩阵             定义一个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线性映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51" name="Object 7"/>
              <p:cNvGraphicFramePr/>
              <p:nvPr/>
            </p:nvGraphicFramePr>
            <p:xfrm>
              <a:off x="2117520" y="652320"/>
              <a:ext cx="2454120" cy="418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2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117520" y="652320"/>
                        <a:ext cx="245412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3" name="Object 3"/>
              <p:cNvGraphicFramePr/>
              <p:nvPr/>
            </p:nvGraphicFramePr>
            <p:xfrm>
              <a:off x="3487680" y="1164960"/>
              <a:ext cx="869760" cy="257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5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487680" y="1164960"/>
                        <a:ext cx="869760" cy="25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55" name="Object 10"/>
            <p:cNvGraphicFramePr/>
            <p:nvPr/>
          </p:nvGraphicFramePr>
          <p:xfrm>
            <a:off x="5449680" y="1071360"/>
            <a:ext cx="1336320" cy="44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6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49680" y="1071360"/>
                      <a:ext cx="1336320" cy="4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Object 5"/>
            <p:cNvGraphicFramePr/>
            <p:nvPr/>
          </p:nvGraphicFramePr>
          <p:xfrm>
            <a:off x="2506680" y="1571400"/>
            <a:ext cx="1707840" cy="32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6680" y="1571400"/>
                      <a:ext cx="170784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9" name="组合 18"/>
          <p:cNvGrpSpPr/>
          <p:nvPr/>
        </p:nvGrpSpPr>
        <p:grpSpPr>
          <a:xfrm>
            <a:off x="1328760" y="2071800"/>
            <a:ext cx="6458040" cy="947160"/>
            <a:chOff x="1328760" y="2071800"/>
            <a:chExt cx="6458040" cy="947160"/>
          </a:xfrm>
        </p:grpSpPr>
        <p:grpSp>
          <p:nvGrpSpPr>
            <p:cNvPr id="460" name="组合 18"/>
            <p:cNvGrpSpPr/>
            <p:nvPr/>
          </p:nvGrpSpPr>
          <p:grpSpPr>
            <a:xfrm>
              <a:off x="1921680" y="2071800"/>
              <a:ext cx="5865120" cy="947160"/>
              <a:chOff x="1921680" y="2071800"/>
              <a:chExt cx="5865120" cy="947160"/>
            </a:xfrm>
          </p:grpSpPr>
          <p:sp>
            <p:nvSpPr>
              <p:cNvPr id="461" name="Rectangle 15"/>
              <p:cNvSpPr/>
              <p:nvPr/>
            </p:nvSpPr>
            <p:spPr>
              <a:xfrm>
                <a:off x="1921680" y="2071800"/>
                <a:ext cx="5549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反之，对于每个线性算子                    ，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取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与     的一组基            ，            ，令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62" name="Object 6"/>
              <p:cNvGraphicFramePr/>
              <p:nvPr/>
            </p:nvGraphicFramePr>
            <p:xfrm>
              <a:off x="5767560" y="2131920"/>
              <a:ext cx="2019240" cy="372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63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67560" y="2131920"/>
                        <a:ext cx="201924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64" name="Object 8"/>
            <p:cNvGraphicFramePr/>
            <p:nvPr/>
          </p:nvGraphicFramePr>
          <p:xfrm>
            <a:off x="1328760" y="2571840"/>
            <a:ext cx="528480" cy="349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5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28760" y="2571840"/>
                      <a:ext cx="528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Object 9"/>
            <p:cNvGraphicFramePr/>
            <p:nvPr/>
          </p:nvGraphicFramePr>
          <p:xfrm>
            <a:off x="2124000" y="2571840"/>
            <a:ext cx="590400" cy="349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67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124000" y="2571840"/>
                      <a:ext cx="5904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8" name="Object 4"/>
            <p:cNvGraphicFramePr/>
            <p:nvPr/>
          </p:nvGraphicFramePr>
          <p:xfrm>
            <a:off x="4084920" y="2571840"/>
            <a:ext cx="1272960" cy="419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69" name="Object 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84920" y="2571840"/>
                      <a:ext cx="12729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0" name="Object 11"/>
            <p:cNvGraphicFramePr/>
            <p:nvPr/>
          </p:nvGraphicFramePr>
          <p:xfrm>
            <a:off x="5369040" y="2571840"/>
            <a:ext cx="1488960" cy="419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71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69040" y="2571840"/>
                      <a:ext cx="14889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72" name="组合 23"/>
          <p:cNvGrpSpPr/>
          <p:nvPr/>
        </p:nvGrpSpPr>
        <p:grpSpPr>
          <a:xfrm>
            <a:off x="2182320" y="3000240"/>
            <a:ext cx="4497840" cy="1378440"/>
            <a:chOff x="2182320" y="3000240"/>
            <a:chExt cx="4497840" cy="1378440"/>
          </a:xfrm>
        </p:grpSpPr>
        <p:graphicFrame>
          <p:nvGraphicFramePr>
            <p:cNvPr id="473" name="Object 12"/>
            <p:cNvGraphicFramePr/>
            <p:nvPr/>
          </p:nvGraphicFramePr>
          <p:xfrm>
            <a:off x="2857680" y="3000240"/>
            <a:ext cx="3822480" cy="816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74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857680" y="3000240"/>
                      <a:ext cx="3822480" cy="81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5" name="组合 22"/>
            <p:cNvGrpSpPr/>
            <p:nvPr/>
          </p:nvGrpSpPr>
          <p:grpSpPr>
            <a:xfrm>
              <a:off x="2182320" y="3858120"/>
              <a:ext cx="3940920" cy="520560"/>
              <a:chOff x="2182320" y="3858120"/>
              <a:chExt cx="3940920" cy="520560"/>
            </a:xfrm>
          </p:grpSpPr>
          <p:sp>
            <p:nvSpPr>
              <p:cNvPr id="476" name="矩形 19"/>
              <p:cNvSpPr/>
              <p:nvPr/>
            </p:nvSpPr>
            <p:spPr>
              <a:xfrm>
                <a:off x="2182320" y="3858120"/>
                <a:ext cx="388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得到         阶矩阵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77" name="Object 13"/>
              <p:cNvGraphicFramePr/>
              <p:nvPr/>
            </p:nvGraphicFramePr>
            <p:xfrm>
              <a:off x="2928960" y="4001040"/>
              <a:ext cx="869760" cy="257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78" name="Object 1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928960" y="4001040"/>
                        <a:ext cx="869760" cy="25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9" name="Object 14"/>
              <p:cNvGraphicFramePr/>
              <p:nvPr/>
            </p:nvGraphicFramePr>
            <p:xfrm>
              <a:off x="4786560" y="3929400"/>
              <a:ext cx="1336680" cy="44316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480" name="Object 14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786560" y="3929400"/>
                        <a:ext cx="1336680" cy="44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7"/>
          <p:cNvGrpSpPr/>
          <p:nvPr/>
        </p:nvGrpSpPr>
        <p:grpSpPr>
          <a:xfrm>
            <a:off x="1848600" y="785880"/>
            <a:ext cx="6237000" cy="947160"/>
            <a:chOff x="1848600" y="785880"/>
            <a:chExt cx="6237000" cy="947160"/>
          </a:xfrm>
        </p:grpSpPr>
        <p:grpSp>
          <p:nvGrpSpPr>
            <p:cNvPr id="482" name="组合 1"/>
            <p:cNvGrpSpPr/>
            <p:nvPr/>
          </p:nvGrpSpPr>
          <p:grpSpPr>
            <a:xfrm>
              <a:off x="1848600" y="785880"/>
              <a:ext cx="6237000" cy="947160"/>
              <a:chOff x="1848600" y="785880"/>
              <a:chExt cx="6237000" cy="947160"/>
            </a:xfrm>
          </p:grpSpPr>
          <p:sp>
            <p:nvSpPr>
              <p:cNvPr id="483" name="矩形 2"/>
              <p:cNvSpPr/>
              <p:nvPr/>
            </p:nvSpPr>
            <p:spPr>
              <a:xfrm>
                <a:off x="1848600" y="785880"/>
                <a:ext cx="567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于是，从     到     的线性算子可以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阶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矩阵对应起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84" name="Object 3"/>
              <p:cNvGraphicFramePr/>
              <p:nvPr/>
            </p:nvGraphicFramePr>
            <p:xfrm>
              <a:off x="7215840" y="928440"/>
              <a:ext cx="869760" cy="257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85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15840" y="928440"/>
                        <a:ext cx="869760" cy="25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86" name="Object 4"/>
            <p:cNvGraphicFramePr/>
            <p:nvPr/>
          </p:nvGraphicFramePr>
          <p:xfrm>
            <a:off x="3000600" y="857160"/>
            <a:ext cx="52848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00600" y="857160"/>
                      <a:ext cx="528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Object 5"/>
            <p:cNvGraphicFramePr/>
            <p:nvPr/>
          </p:nvGraphicFramePr>
          <p:xfrm>
            <a:off x="3857760" y="834120"/>
            <a:ext cx="642960" cy="38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9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57760" y="834120"/>
                      <a:ext cx="642960" cy="38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0" name="组合 8"/>
          <p:cNvGrpSpPr/>
          <p:nvPr/>
        </p:nvGrpSpPr>
        <p:grpSpPr>
          <a:xfrm>
            <a:off x="1911600" y="1857240"/>
            <a:ext cx="5604840" cy="947160"/>
            <a:chOff x="1911600" y="1857240"/>
            <a:chExt cx="5604840" cy="947160"/>
          </a:xfrm>
        </p:grpSpPr>
        <p:sp>
          <p:nvSpPr>
            <p:cNvPr id="491" name="矩形 2"/>
            <p:cNvSpPr/>
            <p:nvPr/>
          </p:nvSpPr>
          <p:spPr>
            <a:xfrm>
              <a:off x="1911600" y="1857240"/>
              <a:ext cx="5604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特别地，取          便得到      上的线性泛函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它的一般形式是     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92" name="Object 7"/>
            <p:cNvGraphicFramePr/>
            <p:nvPr/>
          </p:nvGraphicFramePr>
          <p:xfrm>
            <a:off x="5572080" y="1928520"/>
            <a:ext cx="528480" cy="34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3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72080" y="1928520"/>
                      <a:ext cx="528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4" name="Object 8"/>
            <p:cNvGraphicFramePr/>
            <p:nvPr/>
          </p:nvGraphicFramePr>
          <p:xfrm>
            <a:off x="3429000" y="1941120"/>
            <a:ext cx="9475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5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29000" y="1941120"/>
                      <a:ext cx="94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6" name="组合 19"/>
          <p:cNvGrpSpPr/>
          <p:nvPr/>
        </p:nvGrpSpPr>
        <p:grpSpPr>
          <a:xfrm>
            <a:off x="1500120" y="3071880"/>
            <a:ext cx="7412040" cy="1306800"/>
            <a:chOff x="1500120" y="3071880"/>
            <a:chExt cx="7412040" cy="1306800"/>
          </a:xfrm>
        </p:grpSpPr>
        <p:graphicFrame>
          <p:nvGraphicFramePr>
            <p:cNvPr id="497" name="Object 9"/>
            <p:cNvGraphicFramePr/>
            <p:nvPr/>
          </p:nvGraphicFramePr>
          <p:xfrm>
            <a:off x="1500120" y="3071880"/>
            <a:ext cx="741204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98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00120" y="3071880"/>
                      <a:ext cx="74120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99" name="组合 15"/>
            <p:cNvGrpSpPr/>
            <p:nvPr/>
          </p:nvGrpSpPr>
          <p:grpSpPr>
            <a:xfrm>
              <a:off x="2361240" y="3858120"/>
              <a:ext cx="3850200" cy="520560"/>
              <a:chOff x="2361240" y="3858120"/>
              <a:chExt cx="3850200" cy="520560"/>
            </a:xfrm>
          </p:grpSpPr>
          <p:sp>
            <p:nvSpPr>
              <p:cNvPr id="500" name="矩形 16"/>
              <p:cNvSpPr/>
              <p:nvPr/>
            </p:nvSpPr>
            <p:spPr>
              <a:xfrm>
                <a:off x="2361240" y="3858120"/>
                <a:ext cx="385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其中                 是某一组标量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01" name="Object 10"/>
              <p:cNvGraphicFramePr/>
              <p:nvPr/>
            </p:nvGraphicFramePr>
            <p:xfrm>
              <a:off x="2555640" y="3920040"/>
              <a:ext cx="1616040" cy="420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02" name="Object 10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555640" y="3920040"/>
                        <a:ext cx="1616040" cy="420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500040" y="3571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命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Rectangle 15"/>
          <p:cNvSpPr/>
          <p:nvPr/>
        </p:nvSpPr>
        <p:spPr>
          <a:xfrm>
            <a:off x="2954520" y="35712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限维线性赋范空间上的每个线性算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都是有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00040" y="1214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6" name="组合 24"/>
          <p:cNvGrpSpPr/>
          <p:nvPr/>
        </p:nvGrpSpPr>
        <p:grpSpPr>
          <a:xfrm>
            <a:off x="928800" y="1285920"/>
            <a:ext cx="7105320" cy="1928880"/>
            <a:chOff x="928800" y="1285920"/>
            <a:chExt cx="7105320" cy="1928880"/>
          </a:xfrm>
        </p:grpSpPr>
        <p:grpSp>
          <p:nvGrpSpPr>
            <p:cNvPr id="507" name="组合 23"/>
            <p:cNvGrpSpPr/>
            <p:nvPr/>
          </p:nvGrpSpPr>
          <p:grpSpPr>
            <a:xfrm>
              <a:off x="928800" y="1285920"/>
              <a:ext cx="7105320" cy="1928880"/>
              <a:chOff x="928800" y="1285920"/>
              <a:chExt cx="7105320" cy="1928880"/>
            </a:xfrm>
          </p:grpSpPr>
          <p:grpSp>
            <p:nvGrpSpPr>
              <p:cNvPr id="508" name="组合 18"/>
              <p:cNvGrpSpPr/>
              <p:nvPr/>
            </p:nvGrpSpPr>
            <p:grpSpPr>
              <a:xfrm>
                <a:off x="2852640" y="1285920"/>
                <a:ext cx="4469400" cy="520560"/>
                <a:chOff x="2852640" y="1285920"/>
                <a:chExt cx="4469400" cy="520560"/>
              </a:xfrm>
            </p:grpSpPr>
            <p:sp>
              <p:nvSpPr>
                <p:cNvPr id="509" name="Rectangle 15"/>
                <p:cNvSpPr/>
                <p:nvPr/>
              </p:nvSpPr>
              <p:spPr>
                <a:xfrm>
                  <a:off x="2852640" y="1285920"/>
                  <a:ext cx="4469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不妨设            ，  上的范数是欧氏范数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10" name="Object 2"/>
                <p:cNvGraphicFramePr/>
                <p:nvPr/>
              </p:nvGraphicFramePr>
              <p:xfrm>
                <a:off x="2971800" y="1357200"/>
                <a:ext cx="1242720" cy="3495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11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971800" y="1357200"/>
                          <a:ext cx="1242720" cy="349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12" name="Object 3"/>
                <p:cNvGraphicFramePr/>
                <p:nvPr/>
              </p:nvGraphicFramePr>
              <p:xfrm>
                <a:off x="4357800" y="1411200"/>
                <a:ext cx="434880" cy="3034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13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357800" y="1411200"/>
                          <a:ext cx="434880" cy="303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514" name="组合 16"/>
              <p:cNvGrpSpPr/>
              <p:nvPr/>
            </p:nvGrpSpPr>
            <p:grpSpPr>
              <a:xfrm>
                <a:off x="928800" y="1857240"/>
                <a:ext cx="7105320" cy="1357560"/>
                <a:chOff x="928800" y="1857240"/>
                <a:chExt cx="7105320" cy="1357560"/>
              </a:xfrm>
            </p:grpSpPr>
            <p:graphicFrame>
              <p:nvGraphicFramePr>
                <p:cNvPr id="515" name="Object 4"/>
                <p:cNvGraphicFramePr/>
                <p:nvPr/>
              </p:nvGraphicFramePr>
              <p:xfrm>
                <a:off x="928800" y="1893600"/>
                <a:ext cx="1272960" cy="4190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516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928800" y="1893600"/>
                          <a:ext cx="1272960" cy="419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17" name="Rectangle 15"/>
                <p:cNvSpPr/>
                <p:nvPr/>
              </p:nvSpPr>
              <p:spPr>
                <a:xfrm>
                  <a:off x="3080160" y="1857240"/>
                  <a:ext cx="4397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    的一组基底，则对于任何          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18" name="Object 5"/>
                <p:cNvGraphicFramePr/>
                <p:nvPr/>
              </p:nvGraphicFramePr>
              <p:xfrm>
                <a:off x="2585880" y="1982520"/>
                <a:ext cx="434880" cy="303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19" name="Object 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585880" y="1982520"/>
                          <a:ext cx="434880" cy="303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20" name="Object 6"/>
                <p:cNvGraphicFramePr/>
                <p:nvPr/>
              </p:nvGraphicFramePr>
              <p:xfrm>
                <a:off x="6943680" y="1928520"/>
                <a:ext cx="1090440" cy="3571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521" name="Object 6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6943680" y="1928520"/>
                          <a:ext cx="1090440" cy="357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22" name="Object 7"/>
                <p:cNvGraphicFramePr/>
                <p:nvPr/>
              </p:nvGraphicFramePr>
              <p:xfrm>
                <a:off x="928800" y="2422440"/>
                <a:ext cx="1800000" cy="7923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523" name="Object 7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928800" y="2422440"/>
                          <a:ext cx="1800000" cy="79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524" name="组合 17"/>
            <p:cNvGrpSpPr/>
            <p:nvPr/>
          </p:nvGrpSpPr>
          <p:grpSpPr>
            <a:xfrm>
              <a:off x="2928960" y="2548080"/>
              <a:ext cx="4093920" cy="520560"/>
              <a:chOff x="2928960" y="2548080"/>
              <a:chExt cx="4093920" cy="520560"/>
            </a:xfrm>
          </p:grpSpPr>
          <p:graphicFrame>
            <p:nvGraphicFramePr>
              <p:cNvPr id="525" name="Object 8"/>
              <p:cNvGraphicFramePr/>
              <p:nvPr/>
            </p:nvGraphicFramePr>
            <p:xfrm>
              <a:off x="2928960" y="2619360"/>
              <a:ext cx="1646280" cy="4197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26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928960" y="2619360"/>
                        <a:ext cx="1646280" cy="41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27" name="Rectangle 15"/>
              <p:cNvSpPr/>
              <p:nvPr/>
            </p:nvSpPr>
            <p:spPr>
              <a:xfrm>
                <a:off x="4912920" y="2548080"/>
                <a:ext cx="2109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 中确定的元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28" name="Object 9"/>
              <p:cNvGraphicFramePr/>
              <p:nvPr/>
            </p:nvGraphicFramePr>
            <p:xfrm>
              <a:off x="5046480" y="2619360"/>
              <a:ext cx="401760" cy="3574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529" name="Object 9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046480" y="2619360"/>
                        <a:ext cx="401760" cy="35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530" name="组合 24"/>
          <p:cNvGrpSpPr/>
          <p:nvPr/>
        </p:nvGrpSpPr>
        <p:grpSpPr>
          <a:xfrm>
            <a:off x="1274760" y="3070080"/>
            <a:ext cx="6766560" cy="1001880"/>
            <a:chOff x="1274760" y="3070080"/>
            <a:chExt cx="6766560" cy="1001880"/>
          </a:xfrm>
        </p:grpSpPr>
        <p:grpSp>
          <p:nvGrpSpPr>
            <p:cNvPr id="531" name="组合 19"/>
            <p:cNvGrpSpPr/>
            <p:nvPr/>
          </p:nvGrpSpPr>
          <p:grpSpPr>
            <a:xfrm>
              <a:off x="1274760" y="3070080"/>
              <a:ext cx="6766560" cy="1001880"/>
              <a:chOff x="1274760" y="3070080"/>
              <a:chExt cx="6766560" cy="1001880"/>
            </a:xfrm>
          </p:grpSpPr>
          <p:sp>
            <p:nvSpPr>
              <p:cNvPr id="532" name="Rectangle 15"/>
              <p:cNvSpPr/>
              <p:nvPr/>
            </p:nvSpPr>
            <p:spPr>
              <a:xfrm>
                <a:off x="1618560" y="3357360"/>
                <a:ext cx="64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三角不等式与            不等式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33" name="Object 10"/>
              <p:cNvGraphicFramePr/>
              <p:nvPr/>
            </p:nvGraphicFramePr>
            <p:xfrm>
              <a:off x="1274760" y="3070080"/>
              <a:ext cx="2579760" cy="10018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534" name="Object 10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274760" y="3070080"/>
                        <a:ext cx="2579760" cy="100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35" name="Object 12"/>
            <p:cNvGraphicFramePr/>
            <p:nvPr/>
          </p:nvGraphicFramePr>
          <p:xfrm>
            <a:off x="6501240" y="3460680"/>
            <a:ext cx="1211040" cy="325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36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01240" y="3460680"/>
                      <a:ext cx="12110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Object 2"/>
          <p:cNvGraphicFramePr/>
          <p:nvPr/>
        </p:nvGraphicFramePr>
        <p:xfrm>
          <a:off x="1500120" y="714240"/>
          <a:ext cx="618480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714240"/>
                    <a:ext cx="61848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9" name="组合 4"/>
          <p:cNvGrpSpPr/>
          <p:nvPr/>
        </p:nvGrpSpPr>
        <p:grpSpPr>
          <a:xfrm>
            <a:off x="1759680" y="1857240"/>
            <a:ext cx="2914560" cy="520560"/>
            <a:chOff x="1759680" y="1857240"/>
            <a:chExt cx="2914560" cy="520560"/>
          </a:xfrm>
        </p:grpSpPr>
        <p:sp>
          <p:nvSpPr>
            <p:cNvPr id="540" name="Rectangle 15"/>
            <p:cNvSpPr/>
            <p:nvPr/>
          </p:nvSpPr>
          <p:spPr>
            <a:xfrm>
              <a:off x="1759680" y="1857240"/>
              <a:ext cx="291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(5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  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41" name="Object 3"/>
            <p:cNvGraphicFramePr/>
            <p:nvPr/>
          </p:nvGraphicFramePr>
          <p:xfrm>
            <a:off x="3643560" y="1928520"/>
            <a:ext cx="401760" cy="35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43560" y="1928520"/>
                      <a:ext cx="40176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3" name="组合 5"/>
          <p:cNvGrpSpPr/>
          <p:nvPr/>
        </p:nvGrpSpPr>
        <p:grpSpPr>
          <a:xfrm>
            <a:off x="2903040" y="2500200"/>
            <a:ext cx="3351960" cy="947160"/>
            <a:chOff x="2903040" y="2500200"/>
            <a:chExt cx="3351960" cy="947160"/>
          </a:xfrm>
        </p:grpSpPr>
        <p:sp>
          <p:nvSpPr>
            <p:cNvPr id="544" name="Rectangle 15"/>
            <p:cNvSpPr/>
            <p:nvPr/>
          </p:nvSpPr>
          <p:spPr>
            <a:xfrm>
              <a:off x="2903040" y="2500200"/>
              <a:ext cx="335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外由第一章第四节知，   上的任一范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都等价于欧氏范数，故结论成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45" name="Object 4"/>
            <p:cNvGraphicFramePr/>
            <p:nvPr/>
          </p:nvGraphicFramePr>
          <p:xfrm>
            <a:off x="5160600" y="2571480"/>
            <a:ext cx="510840" cy="35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60600" y="2571480"/>
                      <a:ext cx="5108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"/>
          <p:cNvSpPr/>
          <p:nvPr/>
        </p:nvSpPr>
        <p:spPr>
          <a:xfrm>
            <a:off x="571680" y="6429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48" name="组合 4"/>
          <p:cNvGrpSpPr/>
          <p:nvPr/>
        </p:nvGrpSpPr>
        <p:grpSpPr>
          <a:xfrm>
            <a:off x="1810440" y="714240"/>
            <a:ext cx="6047640" cy="571680"/>
            <a:chOff x="1810440" y="714240"/>
            <a:chExt cx="6047640" cy="571680"/>
          </a:xfrm>
        </p:grpSpPr>
        <p:sp>
          <p:nvSpPr>
            <p:cNvPr id="549" name="Rectangle 15"/>
            <p:cNvSpPr/>
            <p:nvPr/>
          </p:nvSpPr>
          <p:spPr>
            <a:xfrm>
              <a:off x="1810440" y="714240"/>
              <a:ext cx="31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考虑算子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50" name="Object 2"/>
            <p:cNvGraphicFramePr/>
            <p:nvPr/>
          </p:nvGraphicFramePr>
          <p:xfrm>
            <a:off x="3294000" y="736200"/>
            <a:ext cx="4564080" cy="54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94000" y="736200"/>
                      <a:ext cx="4564080" cy="5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52" name="Object 3"/>
          <p:cNvGraphicFramePr/>
          <p:nvPr/>
        </p:nvGraphicFramePr>
        <p:xfrm>
          <a:off x="1554120" y="1349280"/>
          <a:ext cx="617076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4120" y="1349280"/>
                    <a:ext cx="61707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6"/>
          <p:cNvGraphicFramePr/>
          <p:nvPr/>
        </p:nvGraphicFramePr>
        <p:xfrm>
          <a:off x="1714680" y="3286080"/>
          <a:ext cx="5914800" cy="7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4680" y="3286080"/>
                    <a:ext cx="59148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6" name="组合 13"/>
          <p:cNvGrpSpPr/>
          <p:nvPr/>
        </p:nvGrpSpPr>
        <p:grpSpPr>
          <a:xfrm>
            <a:off x="1357200" y="2214720"/>
            <a:ext cx="6181920" cy="947160"/>
            <a:chOff x="1357200" y="2214720"/>
            <a:chExt cx="6181920" cy="947160"/>
          </a:xfrm>
        </p:grpSpPr>
        <p:grpSp>
          <p:nvGrpSpPr>
            <p:cNvPr id="557" name="组合 10"/>
            <p:cNvGrpSpPr/>
            <p:nvPr/>
          </p:nvGrpSpPr>
          <p:grpSpPr>
            <a:xfrm>
              <a:off x="1357200" y="2214720"/>
              <a:ext cx="6181920" cy="947160"/>
              <a:chOff x="1357200" y="2214720"/>
              <a:chExt cx="6181920" cy="947160"/>
            </a:xfrm>
          </p:grpSpPr>
          <p:grpSp>
            <p:nvGrpSpPr>
              <p:cNvPr id="558" name="组合 4"/>
              <p:cNvGrpSpPr/>
              <p:nvPr/>
            </p:nvGrpSpPr>
            <p:grpSpPr>
              <a:xfrm>
                <a:off x="1357200" y="2214720"/>
                <a:ext cx="6181920" cy="947160"/>
                <a:chOff x="1357200" y="2214720"/>
                <a:chExt cx="6181920" cy="947160"/>
              </a:xfrm>
            </p:grpSpPr>
            <p:sp>
              <p:nvSpPr>
                <p:cNvPr id="559" name="Rectangle 15"/>
                <p:cNvSpPr/>
                <p:nvPr/>
              </p:nvSpPr>
              <p:spPr>
                <a:xfrm>
                  <a:off x="1654200" y="2214720"/>
                  <a:ext cx="58849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这里                   是在           中一阶导数连续的函数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全体，其中     的范数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60" name="Object 4"/>
                <p:cNvGraphicFramePr/>
                <p:nvPr/>
              </p:nvGraphicFramePr>
              <p:xfrm>
                <a:off x="1357200" y="2214720"/>
                <a:ext cx="1825560" cy="5493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61" name="Object 4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357200" y="2214720"/>
                          <a:ext cx="1825560" cy="549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62" name="Object 5"/>
              <p:cNvGraphicFramePr/>
              <p:nvPr/>
            </p:nvGraphicFramePr>
            <p:xfrm>
              <a:off x="3929040" y="2214720"/>
              <a:ext cx="1131840" cy="5493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63" name="Object 5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929040" y="2214720"/>
                        <a:ext cx="113184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64" name="Object 13"/>
            <p:cNvGraphicFramePr/>
            <p:nvPr/>
          </p:nvGraphicFramePr>
          <p:xfrm>
            <a:off x="2355840" y="2727360"/>
            <a:ext cx="511200" cy="357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65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55840" y="2727360"/>
                      <a:ext cx="51120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5"/>
          <p:cNvSpPr/>
          <p:nvPr/>
        </p:nvSpPr>
        <p:spPr>
          <a:xfrm>
            <a:off x="1148040" y="642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571760" y="1143000"/>
          <a:ext cx="715644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143000"/>
                    <a:ext cx="71564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9" name="组合 4"/>
          <p:cNvGrpSpPr/>
          <p:nvPr/>
        </p:nvGrpSpPr>
        <p:grpSpPr>
          <a:xfrm>
            <a:off x="1144440" y="2286000"/>
            <a:ext cx="6681600" cy="571680"/>
            <a:chOff x="1144440" y="2286000"/>
            <a:chExt cx="6681600" cy="571680"/>
          </a:xfrm>
        </p:grpSpPr>
        <p:sp>
          <p:nvSpPr>
            <p:cNvPr id="570" name="Rectangle 15"/>
            <p:cNvSpPr/>
            <p:nvPr/>
          </p:nvSpPr>
          <p:spPr>
            <a:xfrm>
              <a:off x="5967360" y="228600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线性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71" name="Object 8"/>
            <p:cNvGraphicFramePr/>
            <p:nvPr/>
          </p:nvGraphicFramePr>
          <p:xfrm>
            <a:off x="1144440" y="2307960"/>
            <a:ext cx="4418640" cy="54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2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4440" y="2307960"/>
                      <a:ext cx="4418640" cy="5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4"/>
          <p:cNvGrpSpPr/>
          <p:nvPr/>
        </p:nvGrpSpPr>
        <p:grpSpPr>
          <a:xfrm>
            <a:off x="2017440" y="714240"/>
            <a:ext cx="5339520" cy="2226960"/>
            <a:chOff x="2017440" y="714240"/>
            <a:chExt cx="5339520" cy="2226960"/>
          </a:xfrm>
        </p:grpSpPr>
        <p:sp>
          <p:nvSpPr>
            <p:cNvPr id="574" name="Rectangle 15"/>
            <p:cNvSpPr/>
            <p:nvPr/>
          </p:nvSpPr>
          <p:spPr>
            <a:xfrm>
              <a:off x="2017440" y="714240"/>
              <a:ext cx="53395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仍考虑                   但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作为其中元素的范数，记此空间为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算子    的构造方式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的     一样，则   是线性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                  ，则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75" name="Object 2"/>
            <p:cNvGraphicFramePr/>
            <p:nvPr/>
          </p:nvGraphicFramePr>
          <p:xfrm>
            <a:off x="3071880" y="714240"/>
            <a:ext cx="2008080" cy="54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1880" y="714240"/>
                      <a:ext cx="2008080" cy="54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77" name="Object 3"/>
          <p:cNvGraphicFramePr/>
          <p:nvPr/>
        </p:nvGraphicFramePr>
        <p:xfrm>
          <a:off x="5643720" y="714240"/>
          <a:ext cx="270180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43720" y="714240"/>
                    <a:ext cx="27018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4"/>
          <p:cNvGraphicFramePr/>
          <p:nvPr/>
        </p:nvGraphicFramePr>
        <p:xfrm>
          <a:off x="6215040" y="1571760"/>
          <a:ext cx="2008080" cy="54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5040" y="1571760"/>
                    <a:ext cx="200808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5"/>
          <p:cNvGraphicFramePr/>
          <p:nvPr/>
        </p:nvGraphicFramePr>
        <p:xfrm>
          <a:off x="1500120" y="2000160"/>
          <a:ext cx="47484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00120" y="2000160"/>
                    <a:ext cx="4748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6"/>
          <p:cNvGraphicFramePr/>
          <p:nvPr/>
        </p:nvGraphicFramePr>
        <p:xfrm>
          <a:off x="5143680" y="2071800"/>
          <a:ext cx="474480" cy="35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3680" y="2071800"/>
                    <a:ext cx="4744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7"/>
          <p:cNvGraphicFramePr/>
          <p:nvPr/>
        </p:nvGraphicFramePr>
        <p:xfrm>
          <a:off x="7000920" y="2000160"/>
          <a:ext cx="47448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00920" y="2000160"/>
                    <a:ext cx="4744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8"/>
          <p:cNvGraphicFramePr/>
          <p:nvPr/>
        </p:nvGraphicFramePr>
        <p:xfrm>
          <a:off x="2085840" y="2459160"/>
          <a:ext cx="262908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85840" y="2459160"/>
                    <a:ext cx="26290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9"/>
          <p:cNvGraphicFramePr/>
          <p:nvPr/>
        </p:nvGraphicFramePr>
        <p:xfrm>
          <a:off x="5500800" y="2428920"/>
          <a:ext cx="1460520" cy="54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00800" y="2428920"/>
                    <a:ext cx="14605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10"/>
          <p:cNvGraphicFramePr/>
          <p:nvPr/>
        </p:nvGraphicFramePr>
        <p:xfrm>
          <a:off x="2143080" y="3000240"/>
          <a:ext cx="5403960" cy="657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43080" y="3000240"/>
                    <a:ext cx="54039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3" name="组合 4"/>
          <p:cNvGrpSpPr/>
          <p:nvPr/>
        </p:nvGrpSpPr>
        <p:grpSpPr>
          <a:xfrm>
            <a:off x="1214280" y="3857760"/>
            <a:ext cx="6681600" cy="571320"/>
            <a:chOff x="1214280" y="3857760"/>
            <a:chExt cx="6681600" cy="571320"/>
          </a:xfrm>
        </p:grpSpPr>
        <p:sp>
          <p:nvSpPr>
            <p:cNvPr id="594" name="Rectangle 15"/>
            <p:cNvSpPr/>
            <p:nvPr/>
          </p:nvSpPr>
          <p:spPr>
            <a:xfrm>
              <a:off x="6037200" y="385776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线性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95" name="Object 11"/>
            <p:cNvGraphicFramePr/>
            <p:nvPr/>
          </p:nvGraphicFramePr>
          <p:xfrm>
            <a:off x="1214280" y="3879720"/>
            <a:ext cx="4418640" cy="549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6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214280" y="3879720"/>
                      <a:ext cx="441864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57120" y="857160"/>
            <a:ext cx="13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13"/>
          <p:cNvGrpSpPr/>
          <p:nvPr/>
        </p:nvGrpSpPr>
        <p:grpSpPr>
          <a:xfrm>
            <a:off x="1642680" y="911160"/>
            <a:ext cx="7229520" cy="1373760"/>
            <a:chOff x="1642680" y="911160"/>
            <a:chExt cx="7229520" cy="1373760"/>
          </a:xfrm>
        </p:grpSpPr>
        <p:sp>
          <p:nvSpPr>
            <p:cNvPr id="87" name="Rectangle 15"/>
            <p:cNvSpPr/>
            <p:nvPr/>
          </p:nvSpPr>
          <p:spPr>
            <a:xfrm>
              <a:off x="2546640" y="911160"/>
              <a:ext cx="5304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是线性赋范空间，              是线性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称为是有界的，若对于   中的任一有界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中的有界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8" name="Object 2"/>
            <p:cNvGraphicFramePr/>
            <p:nvPr/>
          </p:nvGraphicFramePr>
          <p:xfrm>
            <a:off x="5357160" y="1000080"/>
            <a:ext cx="1385640" cy="34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57160" y="1000080"/>
                      <a:ext cx="13856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26"/>
            <p:cNvGraphicFramePr/>
            <p:nvPr/>
          </p:nvGraphicFramePr>
          <p:xfrm>
            <a:off x="1858680" y="999360"/>
            <a:ext cx="894960" cy="35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8680" y="999360"/>
                      <a:ext cx="89496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28"/>
            <p:cNvGraphicFramePr/>
            <p:nvPr/>
          </p:nvGraphicFramePr>
          <p:xfrm>
            <a:off x="1642680" y="1483560"/>
            <a:ext cx="341280" cy="30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42680" y="1483560"/>
                      <a:ext cx="341280" cy="30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Object 7"/>
            <p:cNvGraphicFramePr/>
            <p:nvPr/>
          </p:nvGraphicFramePr>
          <p:xfrm>
            <a:off x="5500080" y="1428480"/>
            <a:ext cx="426960" cy="295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00080" y="1428480"/>
                      <a:ext cx="426960" cy="29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Object 8"/>
            <p:cNvGraphicFramePr/>
            <p:nvPr/>
          </p:nvGraphicFramePr>
          <p:xfrm>
            <a:off x="8231040" y="1374480"/>
            <a:ext cx="641160" cy="453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7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231040" y="1374480"/>
                      <a:ext cx="64116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9"/>
            <p:cNvGraphicFramePr/>
            <p:nvPr/>
          </p:nvGraphicFramePr>
          <p:xfrm>
            <a:off x="1642680" y="1857240"/>
            <a:ext cx="928440" cy="397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9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42680" y="1857240"/>
                      <a:ext cx="928440" cy="39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13"/>
            <p:cNvGraphicFramePr/>
            <p:nvPr/>
          </p:nvGraphicFramePr>
          <p:xfrm>
            <a:off x="2879280" y="1854720"/>
            <a:ext cx="406080" cy="359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1" name="Object 1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9280" y="1854720"/>
                      <a:ext cx="406080" cy="3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Text Box 3"/>
          <p:cNvSpPr/>
          <p:nvPr/>
        </p:nvSpPr>
        <p:spPr>
          <a:xfrm>
            <a:off x="642960" y="2214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554560" y="2286000"/>
            <a:ext cx="35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界算子与有界函数的区别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626200" y="3643200"/>
            <a:ext cx="35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线性算子与线性函数的区别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169800" y="271476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界函数是指在整个定义域中所取的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为有界的函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6" name="组合 19"/>
          <p:cNvGrpSpPr/>
          <p:nvPr/>
        </p:nvGrpSpPr>
        <p:grpSpPr>
          <a:xfrm>
            <a:off x="2607840" y="4143240"/>
            <a:ext cx="4577400" cy="520560"/>
            <a:chOff x="2607840" y="4143240"/>
            <a:chExt cx="4577400" cy="520560"/>
          </a:xfrm>
        </p:grpSpPr>
        <p:sp>
          <p:nvSpPr>
            <p:cNvPr id="107" name="Rectangle 15"/>
            <p:cNvSpPr/>
            <p:nvPr/>
          </p:nvSpPr>
          <p:spPr>
            <a:xfrm>
              <a:off x="2607840" y="4143240"/>
              <a:ext cx="457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线性函数是指                   的所有函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8" name="Object 14"/>
            <p:cNvGraphicFramePr/>
            <p:nvPr/>
          </p:nvGraphicFramePr>
          <p:xfrm>
            <a:off x="4000320" y="4294080"/>
            <a:ext cx="1928880" cy="349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00320" y="4294080"/>
                      <a:ext cx="1928880" cy="34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85840" y="4287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1" name="组合 48"/>
          <p:cNvGrpSpPr/>
          <p:nvPr/>
        </p:nvGrpSpPr>
        <p:grpSpPr>
          <a:xfrm>
            <a:off x="1857240" y="428760"/>
            <a:ext cx="6124320" cy="947160"/>
            <a:chOff x="1857240" y="428760"/>
            <a:chExt cx="6124320" cy="947160"/>
          </a:xfrm>
        </p:grpSpPr>
        <p:sp>
          <p:nvSpPr>
            <p:cNvPr id="112" name="Rectangle 15"/>
            <p:cNvSpPr/>
            <p:nvPr/>
          </p:nvSpPr>
          <p:spPr>
            <a:xfrm>
              <a:off x="2648160" y="428760"/>
              <a:ext cx="533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是线性赋范空间，              是线性算子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下列诸条件等价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3" name="Object 2"/>
            <p:cNvGraphicFramePr/>
            <p:nvPr/>
          </p:nvGraphicFramePr>
          <p:xfrm>
            <a:off x="5357880" y="535680"/>
            <a:ext cx="1500120" cy="35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57880" y="535680"/>
                      <a:ext cx="15001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Object 26"/>
            <p:cNvGraphicFramePr/>
            <p:nvPr/>
          </p:nvGraphicFramePr>
          <p:xfrm>
            <a:off x="1857240" y="535680"/>
            <a:ext cx="785880" cy="36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240" y="535680"/>
                      <a:ext cx="785880" cy="36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" name="组合 25"/>
          <p:cNvGrpSpPr/>
          <p:nvPr/>
        </p:nvGrpSpPr>
        <p:grpSpPr>
          <a:xfrm>
            <a:off x="1702440" y="1190520"/>
            <a:ext cx="3036600" cy="524160"/>
            <a:chOff x="1702440" y="1190520"/>
            <a:chExt cx="3036600" cy="524160"/>
          </a:xfrm>
        </p:grpSpPr>
        <p:sp>
          <p:nvSpPr>
            <p:cNvPr id="118" name="Rectangle 15"/>
            <p:cNvSpPr/>
            <p:nvPr/>
          </p:nvSpPr>
          <p:spPr>
            <a:xfrm>
              <a:off x="1702440" y="1190520"/>
              <a:ext cx="30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某一点     连续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9" name="Object 28"/>
            <p:cNvGraphicFramePr/>
            <p:nvPr/>
          </p:nvGraphicFramePr>
          <p:xfrm>
            <a:off x="1785960" y="1339920"/>
            <a:ext cx="341280" cy="30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5960" y="1339920"/>
                      <a:ext cx="34128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Object 33"/>
            <p:cNvGraphicFramePr/>
            <p:nvPr/>
          </p:nvGraphicFramePr>
          <p:xfrm>
            <a:off x="3588480" y="1265040"/>
            <a:ext cx="431640" cy="4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8480" y="1265040"/>
                      <a:ext cx="431640" cy="4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组合 16"/>
          <p:cNvGrpSpPr/>
          <p:nvPr/>
        </p:nvGrpSpPr>
        <p:grpSpPr>
          <a:xfrm>
            <a:off x="5482800" y="1190520"/>
            <a:ext cx="2516760" cy="520560"/>
            <a:chOff x="5482800" y="1190520"/>
            <a:chExt cx="2516760" cy="520560"/>
          </a:xfrm>
        </p:grpSpPr>
        <p:sp>
          <p:nvSpPr>
            <p:cNvPr id="124" name="Rectangle 15"/>
            <p:cNvSpPr/>
            <p:nvPr/>
          </p:nvSpPr>
          <p:spPr>
            <a:xfrm>
              <a:off x="5482800" y="1190520"/>
              <a:ext cx="251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)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    上连续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5" name="Object 34"/>
            <p:cNvGraphicFramePr/>
            <p:nvPr/>
          </p:nvGraphicFramePr>
          <p:xfrm>
            <a:off x="6380280" y="1285200"/>
            <a:ext cx="478080" cy="334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Object 3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80280" y="1285200"/>
                      <a:ext cx="478080" cy="33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Object 9"/>
            <p:cNvGraphicFramePr/>
            <p:nvPr/>
          </p:nvGraphicFramePr>
          <p:xfrm>
            <a:off x="5715000" y="1285200"/>
            <a:ext cx="357120" cy="317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715000" y="1285200"/>
                      <a:ext cx="357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" name="组合 26"/>
          <p:cNvGrpSpPr/>
          <p:nvPr/>
        </p:nvGrpSpPr>
        <p:grpSpPr>
          <a:xfrm>
            <a:off x="1613160" y="1606680"/>
            <a:ext cx="2358360" cy="520560"/>
            <a:chOff x="1613160" y="1606680"/>
            <a:chExt cx="2358360" cy="520560"/>
          </a:xfrm>
        </p:grpSpPr>
        <p:sp>
          <p:nvSpPr>
            <p:cNvPr id="130" name="Rectangle 15"/>
            <p:cNvSpPr/>
            <p:nvPr/>
          </p:nvSpPr>
          <p:spPr>
            <a:xfrm>
              <a:off x="1613160" y="1606680"/>
              <a:ext cx="23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3)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算子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31" name="Object 10"/>
            <p:cNvGraphicFramePr/>
            <p:nvPr/>
          </p:nvGraphicFramePr>
          <p:xfrm>
            <a:off x="1785600" y="1696680"/>
            <a:ext cx="340920" cy="303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85600" y="1696680"/>
                      <a:ext cx="34092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组合 46"/>
          <p:cNvGrpSpPr/>
          <p:nvPr/>
        </p:nvGrpSpPr>
        <p:grpSpPr>
          <a:xfrm>
            <a:off x="1785600" y="2036880"/>
            <a:ext cx="4860360" cy="894960"/>
            <a:chOff x="1785600" y="2036880"/>
            <a:chExt cx="4860360" cy="894960"/>
          </a:xfrm>
        </p:grpSpPr>
        <p:grpSp>
          <p:nvGrpSpPr>
            <p:cNvPr id="134" name="组合 17"/>
            <p:cNvGrpSpPr/>
            <p:nvPr/>
          </p:nvGrpSpPr>
          <p:grpSpPr>
            <a:xfrm>
              <a:off x="1785600" y="2036880"/>
              <a:ext cx="4860360" cy="520560"/>
              <a:chOff x="1785600" y="2036880"/>
              <a:chExt cx="4860360" cy="520560"/>
            </a:xfrm>
          </p:grpSpPr>
          <p:sp>
            <p:nvSpPr>
              <p:cNvPr id="135" name="Rectangle 15"/>
              <p:cNvSpPr/>
              <p:nvPr/>
            </p:nvSpPr>
            <p:spPr>
              <a:xfrm>
                <a:off x="2208960" y="2036880"/>
                <a:ext cx="4437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4)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的某一点的有界邻域内有界；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36" name="Object 11"/>
              <p:cNvGraphicFramePr/>
              <p:nvPr/>
            </p:nvGraphicFramePr>
            <p:xfrm>
              <a:off x="2450520" y="2072520"/>
              <a:ext cx="508680" cy="3542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37" name="Object 11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450520" y="2072520"/>
                        <a:ext cx="508680" cy="35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8" name="Object 12"/>
              <p:cNvGraphicFramePr/>
              <p:nvPr/>
            </p:nvGraphicFramePr>
            <p:xfrm>
              <a:off x="1785600" y="2126880"/>
              <a:ext cx="341280" cy="3024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39" name="Object 12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785600" y="2126880"/>
                        <a:ext cx="341280" cy="30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40" name="组合 21"/>
            <p:cNvGrpSpPr/>
            <p:nvPr/>
          </p:nvGrpSpPr>
          <p:grpSpPr>
            <a:xfrm>
              <a:off x="2567520" y="2411280"/>
              <a:ext cx="3483000" cy="520560"/>
              <a:chOff x="2567520" y="2411280"/>
              <a:chExt cx="3483000" cy="520560"/>
            </a:xfrm>
          </p:grpSpPr>
          <p:sp>
            <p:nvSpPr>
              <p:cNvPr id="141" name="Rectangle 15"/>
              <p:cNvSpPr/>
              <p:nvPr/>
            </p:nvSpPr>
            <p:spPr>
              <a:xfrm>
                <a:off x="2567520" y="2411280"/>
                <a:ext cx="348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特别地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的单位球中有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2" name="Object 13"/>
              <p:cNvGraphicFramePr/>
              <p:nvPr/>
            </p:nvGraphicFramePr>
            <p:xfrm>
              <a:off x="3786480" y="2559240"/>
              <a:ext cx="428400" cy="2980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43" name="Object 1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3786480" y="2559240"/>
                        <a:ext cx="428400" cy="29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4" name="Object 14"/>
              <p:cNvGraphicFramePr/>
              <p:nvPr/>
            </p:nvGraphicFramePr>
            <p:xfrm>
              <a:off x="3071880" y="2554560"/>
              <a:ext cx="341280" cy="302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45" name="Object 14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3071880" y="2554560"/>
                        <a:ext cx="341280" cy="30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46" name="组合 31"/>
          <p:cNvGrpSpPr/>
          <p:nvPr/>
        </p:nvGrpSpPr>
        <p:grpSpPr>
          <a:xfrm>
            <a:off x="1614240" y="2786040"/>
            <a:ext cx="5814360" cy="520560"/>
            <a:chOff x="1614240" y="2786040"/>
            <a:chExt cx="5814360" cy="520560"/>
          </a:xfrm>
        </p:grpSpPr>
        <p:grpSp>
          <p:nvGrpSpPr>
            <p:cNvPr id="147" name="组合 27"/>
            <p:cNvGrpSpPr/>
            <p:nvPr/>
          </p:nvGrpSpPr>
          <p:grpSpPr>
            <a:xfrm>
              <a:off x="1614240" y="2786040"/>
              <a:ext cx="5812200" cy="520560"/>
              <a:chOff x="1614240" y="2786040"/>
              <a:chExt cx="5812200" cy="520560"/>
            </a:xfrm>
          </p:grpSpPr>
          <p:sp>
            <p:nvSpPr>
              <p:cNvPr id="148" name="Rectangle 15"/>
              <p:cNvSpPr/>
              <p:nvPr/>
            </p:nvSpPr>
            <p:spPr>
              <a:xfrm>
                <a:off x="1614240" y="2786040"/>
                <a:ext cx="581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5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存在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使得     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9" name="Object 15"/>
              <p:cNvGraphicFramePr/>
              <p:nvPr/>
            </p:nvGraphicFramePr>
            <p:xfrm>
              <a:off x="2364840" y="2914560"/>
              <a:ext cx="991800" cy="37188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50" name="Object 15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2364840" y="2914560"/>
                        <a:ext cx="991800" cy="37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1" name="Object 16"/>
            <p:cNvGraphicFramePr/>
            <p:nvPr/>
          </p:nvGraphicFramePr>
          <p:xfrm>
            <a:off x="4286160" y="2865960"/>
            <a:ext cx="3142440" cy="421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52" name="Object 1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286160" y="2865960"/>
                      <a:ext cx="3142440" cy="42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3" name="组合 37"/>
          <p:cNvGrpSpPr/>
          <p:nvPr/>
        </p:nvGrpSpPr>
        <p:grpSpPr>
          <a:xfrm>
            <a:off x="1712160" y="3160800"/>
            <a:ext cx="5856120" cy="947160"/>
            <a:chOff x="1712160" y="3160800"/>
            <a:chExt cx="5856120" cy="947160"/>
          </a:xfrm>
        </p:grpSpPr>
        <p:grpSp>
          <p:nvGrpSpPr>
            <p:cNvPr id="154" name="组合 32"/>
            <p:cNvGrpSpPr/>
            <p:nvPr/>
          </p:nvGrpSpPr>
          <p:grpSpPr>
            <a:xfrm>
              <a:off x="1712160" y="3160800"/>
              <a:ext cx="5856120" cy="947160"/>
              <a:chOff x="1712160" y="3160800"/>
              <a:chExt cx="5856120" cy="947160"/>
            </a:xfrm>
          </p:grpSpPr>
          <p:sp>
            <p:nvSpPr>
              <p:cNvPr id="155" name="Rectangle 15"/>
              <p:cNvSpPr/>
              <p:nvPr/>
            </p:nvSpPr>
            <p:spPr>
              <a:xfrm>
                <a:off x="1712160" y="3160800"/>
                <a:ext cx="5856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上的线性泛函，且         ，则以上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诸条件还等价于：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56" name="Object 17"/>
              <p:cNvGraphicFramePr/>
              <p:nvPr/>
            </p:nvGraphicFramePr>
            <p:xfrm>
              <a:off x="1714320" y="3306960"/>
              <a:ext cx="896760" cy="3358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57" name="Object 17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1714320" y="3306960"/>
                        <a:ext cx="896760" cy="33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58" name="Object 18"/>
            <p:cNvGraphicFramePr/>
            <p:nvPr/>
          </p:nvGraphicFramePr>
          <p:xfrm>
            <a:off x="2928960" y="3288600"/>
            <a:ext cx="406080" cy="282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59" name="Object 1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928960" y="3288600"/>
                      <a:ext cx="406080" cy="28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Object 19"/>
            <p:cNvGraphicFramePr/>
            <p:nvPr/>
          </p:nvGraphicFramePr>
          <p:xfrm>
            <a:off x="6143760" y="3306960"/>
            <a:ext cx="839520" cy="3355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61" name="Object 19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143760" y="3306960"/>
                      <a:ext cx="83952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2" name="组合 42"/>
          <p:cNvGrpSpPr/>
          <p:nvPr/>
        </p:nvGrpSpPr>
        <p:grpSpPr>
          <a:xfrm>
            <a:off x="1630080" y="3857760"/>
            <a:ext cx="5488560" cy="520560"/>
            <a:chOff x="1630080" y="3857760"/>
            <a:chExt cx="5488560" cy="520560"/>
          </a:xfrm>
        </p:grpSpPr>
        <p:grpSp>
          <p:nvGrpSpPr>
            <p:cNvPr id="163" name="组合 38"/>
            <p:cNvGrpSpPr/>
            <p:nvPr/>
          </p:nvGrpSpPr>
          <p:grpSpPr>
            <a:xfrm>
              <a:off x="1630080" y="3857760"/>
              <a:ext cx="5488560" cy="520560"/>
              <a:chOff x="1630080" y="3857760"/>
              <a:chExt cx="5488560" cy="520560"/>
            </a:xfrm>
          </p:grpSpPr>
          <p:sp>
            <p:nvSpPr>
              <p:cNvPr id="164" name="Rectangle 15"/>
              <p:cNvSpPr/>
              <p:nvPr/>
            </p:nvSpPr>
            <p:spPr>
              <a:xfrm>
                <a:off x="1630080" y="3857760"/>
                <a:ext cx="548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6)           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    中闭集；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65" name="Object 20"/>
              <p:cNvGraphicFramePr/>
              <p:nvPr/>
            </p:nvGraphicFramePr>
            <p:xfrm>
              <a:off x="1785960" y="3955320"/>
              <a:ext cx="3429360" cy="4028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66" name="Object 20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1785960" y="3955320"/>
                        <a:ext cx="3429360" cy="40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7" name="Object 21"/>
            <p:cNvGraphicFramePr/>
            <p:nvPr/>
          </p:nvGraphicFramePr>
          <p:xfrm>
            <a:off x="5501160" y="3929040"/>
            <a:ext cx="512280" cy="3574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68" name="Object 21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5501160" y="3929040"/>
                      <a:ext cx="51228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9" name="组合 43"/>
          <p:cNvGrpSpPr/>
          <p:nvPr/>
        </p:nvGrpSpPr>
        <p:grpSpPr>
          <a:xfrm>
            <a:off x="1582920" y="4340160"/>
            <a:ext cx="3196440" cy="520560"/>
            <a:chOff x="1582920" y="4340160"/>
            <a:chExt cx="3196440" cy="520560"/>
          </a:xfrm>
        </p:grpSpPr>
        <p:grpSp>
          <p:nvGrpSpPr>
            <p:cNvPr id="170" name="组合 38"/>
            <p:cNvGrpSpPr/>
            <p:nvPr/>
          </p:nvGrpSpPr>
          <p:grpSpPr>
            <a:xfrm>
              <a:off x="1582920" y="4340160"/>
              <a:ext cx="3196440" cy="520560"/>
              <a:chOff x="1582920" y="4340160"/>
              <a:chExt cx="3196440" cy="520560"/>
            </a:xfrm>
          </p:grpSpPr>
          <p:sp>
            <p:nvSpPr>
              <p:cNvPr id="171" name="Rectangle 15"/>
              <p:cNvSpPr/>
              <p:nvPr/>
            </p:nvSpPr>
            <p:spPr>
              <a:xfrm>
                <a:off x="1582920" y="4340160"/>
                <a:ext cx="319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7)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在    中稠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72" name="Object 22"/>
              <p:cNvGraphicFramePr/>
              <p:nvPr/>
            </p:nvGraphicFramePr>
            <p:xfrm>
              <a:off x="1857240" y="4464360"/>
              <a:ext cx="829800" cy="32148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173" name="Object 22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1857240" y="4464360"/>
                        <a:ext cx="829800" cy="32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74" name="Object 23"/>
            <p:cNvGraphicFramePr/>
            <p:nvPr/>
          </p:nvGraphicFramePr>
          <p:xfrm>
            <a:off x="3357000" y="4429080"/>
            <a:ext cx="508680" cy="3542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75" name="Object 23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3357000" y="4429080"/>
                      <a:ext cx="50868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500040" y="4827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928800" y="1071720"/>
          <a:ext cx="1379520" cy="33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071720"/>
                    <a:ext cx="13795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组合 13"/>
          <p:cNvGrpSpPr/>
          <p:nvPr/>
        </p:nvGrpSpPr>
        <p:grpSpPr>
          <a:xfrm>
            <a:off x="2432160" y="928800"/>
            <a:ext cx="6283080" cy="564480"/>
            <a:chOff x="2432160" y="928800"/>
            <a:chExt cx="6283080" cy="564480"/>
          </a:xfrm>
        </p:grpSpPr>
        <p:grpSp>
          <p:nvGrpSpPr>
            <p:cNvPr id="180" name="组合 25"/>
            <p:cNvGrpSpPr/>
            <p:nvPr/>
          </p:nvGrpSpPr>
          <p:grpSpPr>
            <a:xfrm>
              <a:off x="2432160" y="928800"/>
              <a:ext cx="4978440" cy="564480"/>
              <a:chOff x="2432160" y="928800"/>
              <a:chExt cx="4978440" cy="564480"/>
            </a:xfrm>
          </p:grpSpPr>
          <p:sp>
            <p:nvSpPr>
              <p:cNvPr id="181" name="Rectangle 15"/>
              <p:cNvSpPr/>
              <p:nvPr/>
            </p:nvSpPr>
            <p:spPr>
              <a:xfrm>
                <a:off x="2619720" y="972720"/>
                <a:ext cx="479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某一点    连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82" name="Object 28"/>
              <p:cNvGraphicFramePr/>
              <p:nvPr/>
            </p:nvGraphicFramePr>
            <p:xfrm>
              <a:off x="2432160" y="1072440"/>
              <a:ext cx="343440" cy="304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3" name="Object 2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32160" y="1072440"/>
                        <a:ext cx="343440" cy="30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Object 33"/>
              <p:cNvGraphicFramePr/>
              <p:nvPr/>
            </p:nvGraphicFramePr>
            <p:xfrm>
              <a:off x="4071960" y="928800"/>
              <a:ext cx="540360" cy="562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5" name="Object 3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071960" y="928800"/>
                        <a:ext cx="540360" cy="56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6" name="Object 8"/>
            <p:cNvGraphicFramePr/>
            <p:nvPr/>
          </p:nvGraphicFramePr>
          <p:xfrm>
            <a:off x="5810760" y="1054440"/>
            <a:ext cx="2904480" cy="37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7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10760" y="1054440"/>
                      <a:ext cx="2904480" cy="3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8" name="组合 13"/>
          <p:cNvGrpSpPr/>
          <p:nvPr/>
        </p:nvGrpSpPr>
        <p:grpSpPr>
          <a:xfrm>
            <a:off x="1928520" y="1500120"/>
            <a:ext cx="4929840" cy="520560"/>
            <a:chOff x="1928520" y="1500120"/>
            <a:chExt cx="4929840" cy="520560"/>
          </a:xfrm>
        </p:grpSpPr>
        <p:grpSp>
          <p:nvGrpSpPr>
            <p:cNvPr id="189" name="组合 26"/>
            <p:cNvGrpSpPr/>
            <p:nvPr/>
          </p:nvGrpSpPr>
          <p:grpSpPr>
            <a:xfrm>
              <a:off x="1928520" y="1500120"/>
              <a:ext cx="3879000" cy="520560"/>
              <a:chOff x="1928520" y="1500120"/>
              <a:chExt cx="3879000" cy="520560"/>
            </a:xfrm>
          </p:grpSpPr>
          <p:sp>
            <p:nvSpPr>
              <p:cNvPr id="190" name="Rectangle 15"/>
              <p:cNvSpPr/>
              <p:nvPr/>
            </p:nvSpPr>
            <p:spPr>
              <a:xfrm>
                <a:off x="2734560" y="1500120"/>
                <a:ext cx="307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为任一点，并且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91" name="Object 6"/>
              <p:cNvGraphicFramePr/>
              <p:nvPr/>
            </p:nvGraphicFramePr>
            <p:xfrm>
              <a:off x="1928520" y="1628280"/>
              <a:ext cx="992160" cy="372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9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928520" y="1628280"/>
                        <a:ext cx="992160" cy="37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3" name="Object 10"/>
            <p:cNvGraphicFramePr/>
            <p:nvPr/>
          </p:nvGraphicFramePr>
          <p:xfrm>
            <a:off x="5429520" y="1500120"/>
            <a:ext cx="1428840" cy="458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29520" y="1500120"/>
                      <a:ext cx="142884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5" name="组合 26"/>
          <p:cNvGrpSpPr/>
          <p:nvPr/>
        </p:nvGrpSpPr>
        <p:grpSpPr>
          <a:xfrm>
            <a:off x="1928880" y="2619360"/>
            <a:ext cx="5076720" cy="523800"/>
            <a:chOff x="1928880" y="2619360"/>
            <a:chExt cx="5076720" cy="523800"/>
          </a:xfrm>
        </p:grpSpPr>
        <p:sp>
          <p:nvSpPr>
            <p:cNvPr id="196" name="Rectangle 15"/>
            <p:cNvSpPr/>
            <p:nvPr/>
          </p:nvSpPr>
          <p:spPr>
            <a:xfrm>
              <a:off x="1928880" y="2619360"/>
              <a:ext cx="46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7" name="Object 16"/>
            <p:cNvGraphicFramePr/>
            <p:nvPr/>
          </p:nvGraphicFramePr>
          <p:xfrm>
            <a:off x="2571480" y="2724840"/>
            <a:ext cx="4434120" cy="418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" name="Object 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571480" y="2724840"/>
                      <a:ext cx="4434120" cy="41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9" name="组合 29"/>
          <p:cNvGrpSpPr/>
          <p:nvPr/>
        </p:nvGrpSpPr>
        <p:grpSpPr>
          <a:xfrm>
            <a:off x="1938240" y="2149560"/>
            <a:ext cx="4991040" cy="531720"/>
            <a:chOff x="1938240" y="2149560"/>
            <a:chExt cx="4991040" cy="531720"/>
          </a:xfrm>
        </p:grpSpPr>
        <p:grpSp>
          <p:nvGrpSpPr>
            <p:cNvPr id="200" name="组合 26"/>
            <p:cNvGrpSpPr/>
            <p:nvPr/>
          </p:nvGrpSpPr>
          <p:grpSpPr>
            <a:xfrm>
              <a:off x="1938240" y="2149560"/>
              <a:ext cx="4604760" cy="520560"/>
              <a:chOff x="1938240" y="2149560"/>
              <a:chExt cx="4604760" cy="520560"/>
            </a:xfrm>
          </p:grpSpPr>
          <p:sp>
            <p:nvSpPr>
              <p:cNvPr id="201" name="Rectangle 15"/>
              <p:cNvSpPr/>
              <p:nvPr/>
            </p:nvSpPr>
            <p:spPr>
              <a:xfrm>
                <a:off x="1938240" y="2149560"/>
                <a:ext cx="460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令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则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02" name="Object 20"/>
              <p:cNvGraphicFramePr/>
              <p:nvPr/>
            </p:nvGraphicFramePr>
            <p:xfrm>
              <a:off x="2357280" y="2224440"/>
              <a:ext cx="2571480" cy="4392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03" name="Object 2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357280" y="2224440"/>
                        <a:ext cx="2571480" cy="43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04" name="Object 21"/>
            <p:cNvGraphicFramePr/>
            <p:nvPr/>
          </p:nvGraphicFramePr>
          <p:xfrm>
            <a:off x="5438880" y="2224440"/>
            <a:ext cx="1490400" cy="456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5" name="Object 2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38880" y="2224440"/>
                      <a:ext cx="149040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6" name="组合 30"/>
          <p:cNvGrpSpPr/>
          <p:nvPr/>
        </p:nvGrpSpPr>
        <p:grpSpPr>
          <a:xfrm>
            <a:off x="1714680" y="3108240"/>
            <a:ext cx="7985160" cy="1175040"/>
            <a:chOff x="1714680" y="3108240"/>
            <a:chExt cx="7985160" cy="1175040"/>
          </a:xfrm>
        </p:grpSpPr>
        <p:graphicFrame>
          <p:nvGraphicFramePr>
            <p:cNvPr id="207" name="Object 22"/>
            <p:cNvGraphicFramePr/>
            <p:nvPr/>
          </p:nvGraphicFramePr>
          <p:xfrm>
            <a:off x="1857240" y="3198600"/>
            <a:ext cx="341280" cy="301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8" name="Object 2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57240" y="3198600"/>
                      <a:ext cx="34128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9" name="组合 29"/>
            <p:cNvGrpSpPr/>
            <p:nvPr/>
          </p:nvGrpSpPr>
          <p:grpSpPr>
            <a:xfrm>
              <a:off x="1714680" y="3108240"/>
              <a:ext cx="7985160" cy="1175040"/>
              <a:chOff x="1714680" y="3108240"/>
              <a:chExt cx="7985160" cy="1175040"/>
            </a:xfrm>
          </p:grpSpPr>
          <p:sp>
            <p:nvSpPr>
              <p:cNvPr id="210" name="Rectangle 15"/>
              <p:cNvSpPr/>
              <p:nvPr/>
            </p:nvSpPr>
            <p:spPr>
              <a:xfrm>
                <a:off x="2233440" y="3108240"/>
                <a:ext cx="30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是线性的，故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11" name="组合 39"/>
              <p:cNvGrpSpPr/>
              <p:nvPr/>
            </p:nvGrpSpPr>
            <p:grpSpPr>
              <a:xfrm>
                <a:off x="1714680" y="3762720"/>
                <a:ext cx="7985160" cy="520560"/>
                <a:chOff x="1714680" y="3762720"/>
                <a:chExt cx="7985160" cy="520560"/>
              </a:xfrm>
            </p:grpSpPr>
            <p:graphicFrame>
              <p:nvGraphicFramePr>
                <p:cNvPr id="212" name="Object 23"/>
                <p:cNvGraphicFramePr/>
                <p:nvPr/>
              </p:nvGraphicFramePr>
              <p:xfrm>
                <a:off x="1714680" y="3857400"/>
                <a:ext cx="2928600" cy="40392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213" name="Object 23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1714680" y="3857400"/>
                          <a:ext cx="2928600" cy="403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14" name="组合 26"/>
                <p:cNvGrpSpPr/>
                <p:nvPr/>
              </p:nvGrpSpPr>
              <p:grpSpPr>
                <a:xfrm>
                  <a:off x="2127960" y="3762720"/>
                  <a:ext cx="7571880" cy="520560"/>
                  <a:chOff x="2127960" y="3762720"/>
                  <a:chExt cx="7571880" cy="520560"/>
                </a:xfrm>
              </p:grpSpPr>
              <p:sp>
                <p:nvSpPr>
                  <p:cNvPr id="215" name="Rectangle 15"/>
                  <p:cNvSpPr/>
                  <p:nvPr/>
                </p:nvSpPr>
                <p:spPr>
                  <a:xfrm>
                    <a:off x="2127960" y="3762720"/>
                    <a:ext cx="75718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可得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           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16" name="Object 24"/>
                  <p:cNvGraphicFramePr/>
                  <p:nvPr/>
                </p:nvGraphicFramePr>
                <p:xfrm>
                  <a:off x="6000480" y="3857400"/>
                  <a:ext cx="1428480" cy="389880"/>
                </p:xfrm>
                <a:graphic>
                  <a:graphicData uri="http://schemas.openxmlformats.org/presentationml/2006/ole">
                    <p:oleObj r:id="rId23" spid="">
                      <p:embed/>
                      <p:pic>
                        <p:nvPicPr>
                          <p:cNvPr id="217" name="Object 24" descr=""/>
                          <p:cNvPicPr/>
                          <p:nvPr/>
                        </p:nvPicPr>
                        <p:blipFill>
                          <a:blip r:embed="rId24"/>
                          <a:stretch/>
                        </p:blipFill>
                        <p:spPr>
                          <a:xfrm>
                            <a:off x="6000480" y="3857400"/>
                            <a:ext cx="1428480" cy="389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</p:grpSp>
      </p:grp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5"/>
          <p:cNvGraphicFramePr/>
          <p:nvPr/>
        </p:nvGraphicFramePr>
        <p:xfrm>
          <a:off x="357120" y="642960"/>
          <a:ext cx="143532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642960"/>
                    <a:ext cx="14353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组合 27"/>
          <p:cNvGrpSpPr/>
          <p:nvPr/>
        </p:nvGrpSpPr>
        <p:grpSpPr>
          <a:xfrm>
            <a:off x="2382480" y="571680"/>
            <a:ext cx="5304240" cy="1126800"/>
            <a:chOff x="2382480" y="571680"/>
            <a:chExt cx="5304240" cy="1126800"/>
          </a:xfrm>
        </p:grpSpPr>
        <p:grpSp>
          <p:nvGrpSpPr>
            <p:cNvPr id="221" name="组合 26"/>
            <p:cNvGrpSpPr/>
            <p:nvPr/>
          </p:nvGrpSpPr>
          <p:grpSpPr>
            <a:xfrm>
              <a:off x="2890800" y="571680"/>
              <a:ext cx="2992320" cy="520560"/>
              <a:chOff x="2890800" y="571680"/>
              <a:chExt cx="2992320" cy="520560"/>
            </a:xfrm>
          </p:grpSpPr>
          <p:sp>
            <p:nvSpPr>
              <p:cNvPr id="222" name="Rectangle 15"/>
              <p:cNvSpPr/>
              <p:nvPr/>
            </p:nvSpPr>
            <p:spPr>
              <a:xfrm>
                <a:off x="2890800" y="571680"/>
                <a:ext cx="299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反证法：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是有界的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23" name="Object 3"/>
              <p:cNvGraphicFramePr/>
              <p:nvPr/>
            </p:nvGraphicFramePr>
            <p:xfrm>
              <a:off x="4016160" y="696960"/>
              <a:ext cx="340920" cy="303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4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016160" y="696960"/>
                        <a:ext cx="340920" cy="30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5" name="组合 9"/>
            <p:cNvGrpSpPr/>
            <p:nvPr/>
          </p:nvGrpSpPr>
          <p:grpSpPr>
            <a:xfrm>
              <a:off x="2382480" y="1177920"/>
              <a:ext cx="5304240" cy="520560"/>
              <a:chOff x="2382480" y="1177920"/>
              <a:chExt cx="5304240" cy="520560"/>
            </a:xfrm>
          </p:grpSpPr>
          <p:sp>
            <p:nvSpPr>
              <p:cNvPr id="226" name="矩形 5"/>
              <p:cNvSpPr/>
              <p:nvPr/>
            </p:nvSpPr>
            <p:spPr>
              <a:xfrm>
                <a:off x="2382480" y="1177920"/>
                <a:ext cx="530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存在有界集           ，       在   中不是有界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27" name="Object 4"/>
              <p:cNvGraphicFramePr/>
              <p:nvPr/>
            </p:nvGraphicFramePr>
            <p:xfrm>
              <a:off x="3500640" y="1268280"/>
              <a:ext cx="1117440" cy="30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00640" y="1268280"/>
                        <a:ext cx="1117440" cy="30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Object 11"/>
              <p:cNvGraphicFramePr/>
              <p:nvPr/>
            </p:nvGraphicFramePr>
            <p:xfrm>
              <a:off x="4775400" y="1269720"/>
              <a:ext cx="868320" cy="373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0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775400" y="1269720"/>
                        <a:ext cx="868320" cy="37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1" name="Object 6"/>
              <p:cNvGraphicFramePr/>
              <p:nvPr/>
            </p:nvGraphicFramePr>
            <p:xfrm>
              <a:off x="6000840" y="1267920"/>
              <a:ext cx="428400" cy="380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3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000840" y="1267920"/>
                        <a:ext cx="42840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33" name="组合 26"/>
          <p:cNvGrpSpPr/>
          <p:nvPr/>
        </p:nvGrpSpPr>
        <p:grpSpPr>
          <a:xfrm>
            <a:off x="1784880" y="1768320"/>
            <a:ext cx="4391280" cy="520560"/>
            <a:chOff x="1784880" y="1768320"/>
            <a:chExt cx="4391280" cy="520560"/>
          </a:xfrm>
        </p:grpSpPr>
        <p:sp>
          <p:nvSpPr>
            <p:cNvPr id="234" name="Rectangle 15"/>
            <p:cNvSpPr/>
            <p:nvPr/>
          </p:nvSpPr>
          <p:spPr>
            <a:xfrm>
              <a:off x="1784880" y="1768320"/>
              <a:ext cx="439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5" name="Object 7"/>
            <p:cNvGraphicFramePr/>
            <p:nvPr/>
          </p:nvGraphicFramePr>
          <p:xfrm>
            <a:off x="2357640" y="1821600"/>
            <a:ext cx="3628080" cy="463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6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57640" y="1821600"/>
                      <a:ext cx="362808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7" name="组合 28"/>
          <p:cNvGrpSpPr/>
          <p:nvPr/>
        </p:nvGrpSpPr>
        <p:grpSpPr>
          <a:xfrm>
            <a:off x="2003040" y="2154240"/>
            <a:ext cx="5031720" cy="1417680"/>
            <a:chOff x="2003040" y="2154240"/>
            <a:chExt cx="5031720" cy="1417680"/>
          </a:xfrm>
        </p:grpSpPr>
        <p:grpSp>
          <p:nvGrpSpPr>
            <p:cNvPr id="238" name="组合 26"/>
            <p:cNvGrpSpPr/>
            <p:nvPr/>
          </p:nvGrpSpPr>
          <p:grpSpPr>
            <a:xfrm>
              <a:off x="2003040" y="2303280"/>
              <a:ext cx="5031720" cy="520560"/>
              <a:chOff x="2003040" y="2303280"/>
              <a:chExt cx="5031720" cy="520560"/>
            </a:xfrm>
          </p:grpSpPr>
          <p:sp>
            <p:nvSpPr>
              <p:cNvPr id="239" name="Rectangle 15"/>
              <p:cNvSpPr/>
              <p:nvPr/>
            </p:nvSpPr>
            <p:spPr>
              <a:xfrm>
                <a:off x="2003040" y="2303280"/>
                <a:ext cx="503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妨设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取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40" name="Object 8"/>
              <p:cNvGraphicFramePr/>
              <p:nvPr/>
            </p:nvGraphicFramePr>
            <p:xfrm>
              <a:off x="2643120" y="2320920"/>
              <a:ext cx="1674720" cy="4651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41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643120" y="2320920"/>
                        <a:ext cx="1674720" cy="46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2" name="Object 9"/>
            <p:cNvGraphicFramePr/>
            <p:nvPr/>
          </p:nvGraphicFramePr>
          <p:xfrm>
            <a:off x="4816440" y="2154240"/>
            <a:ext cx="1612800" cy="765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16440" y="2154240"/>
                      <a:ext cx="1612800" cy="7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4" name="组合 26"/>
            <p:cNvGrpSpPr/>
            <p:nvPr/>
          </p:nvGrpSpPr>
          <p:grpSpPr>
            <a:xfrm>
              <a:off x="2070720" y="2806560"/>
              <a:ext cx="4449960" cy="765360"/>
              <a:chOff x="2070720" y="2806560"/>
              <a:chExt cx="4449960" cy="765360"/>
            </a:xfrm>
          </p:grpSpPr>
          <p:sp>
            <p:nvSpPr>
              <p:cNvPr id="245" name="Rectangle 15"/>
              <p:cNvSpPr/>
              <p:nvPr/>
            </p:nvSpPr>
            <p:spPr>
              <a:xfrm>
                <a:off x="2070720" y="2918160"/>
                <a:ext cx="43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46" name="Object 10"/>
              <p:cNvGraphicFramePr/>
              <p:nvPr/>
            </p:nvGraphicFramePr>
            <p:xfrm>
              <a:off x="2395440" y="2806560"/>
              <a:ext cx="4125240" cy="7653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47" name="Object 10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395440" y="2806560"/>
                        <a:ext cx="4125240" cy="76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48" name="组合 26"/>
          <p:cNvGrpSpPr/>
          <p:nvPr/>
        </p:nvGrpSpPr>
        <p:grpSpPr>
          <a:xfrm>
            <a:off x="1927800" y="3521160"/>
            <a:ext cx="5832000" cy="765000"/>
            <a:chOff x="1927800" y="3521160"/>
            <a:chExt cx="5832000" cy="765000"/>
          </a:xfrm>
        </p:grpSpPr>
        <p:sp>
          <p:nvSpPr>
            <p:cNvPr id="249" name="Rectangle 15"/>
            <p:cNvSpPr/>
            <p:nvPr/>
          </p:nvSpPr>
          <p:spPr>
            <a:xfrm>
              <a:off x="1927800" y="3576960"/>
              <a:ext cx="439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0" name="Object 11"/>
            <p:cNvGraphicFramePr/>
            <p:nvPr/>
          </p:nvGraphicFramePr>
          <p:xfrm>
            <a:off x="2270160" y="3521160"/>
            <a:ext cx="5489640" cy="7650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51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270160" y="3521160"/>
                      <a:ext cx="5489640" cy="76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2" name="组合 29"/>
          <p:cNvGrpSpPr/>
          <p:nvPr/>
        </p:nvGrpSpPr>
        <p:grpSpPr>
          <a:xfrm>
            <a:off x="2071800" y="4214880"/>
            <a:ext cx="4842720" cy="520560"/>
            <a:chOff x="2071800" y="4214880"/>
            <a:chExt cx="4842720" cy="520560"/>
          </a:xfrm>
        </p:grpSpPr>
        <p:grpSp>
          <p:nvGrpSpPr>
            <p:cNvPr id="253" name="组合 26"/>
            <p:cNvGrpSpPr/>
            <p:nvPr/>
          </p:nvGrpSpPr>
          <p:grpSpPr>
            <a:xfrm>
              <a:off x="2071800" y="4214880"/>
              <a:ext cx="4842720" cy="520560"/>
              <a:chOff x="2071800" y="4214880"/>
              <a:chExt cx="4842720" cy="520560"/>
            </a:xfrm>
          </p:grpSpPr>
          <p:sp>
            <p:nvSpPr>
              <p:cNvPr id="254" name="Rectangle 15"/>
              <p:cNvSpPr/>
              <p:nvPr/>
            </p:nvSpPr>
            <p:spPr>
              <a:xfrm>
                <a:off x="2294640" y="4214880"/>
                <a:ext cx="4619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     不是连续的，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2)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矛盾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55" name="Object 12"/>
              <p:cNvGraphicFramePr/>
              <p:nvPr/>
            </p:nvGraphicFramePr>
            <p:xfrm>
              <a:off x="2071800" y="4287240"/>
              <a:ext cx="428400" cy="3812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56" name="Object 12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071800" y="4287240"/>
                        <a:ext cx="428400" cy="38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7" name="Object 13"/>
            <p:cNvGraphicFramePr/>
            <p:nvPr/>
          </p:nvGraphicFramePr>
          <p:xfrm>
            <a:off x="2801880" y="4329360"/>
            <a:ext cx="983880" cy="368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58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801880" y="4329360"/>
                      <a:ext cx="983880" cy="3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5"/>
          <p:cNvGraphicFramePr/>
          <p:nvPr/>
        </p:nvGraphicFramePr>
        <p:xfrm>
          <a:off x="928800" y="642960"/>
          <a:ext cx="143496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642960"/>
                    <a:ext cx="1434960" cy="33984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Object 3"/>
          <p:cNvGraphicFramePr/>
          <p:nvPr/>
        </p:nvGraphicFramePr>
        <p:xfrm>
          <a:off x="928800" y="1125360"/>
          <a:ext cx="1434960" cy="3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1125360"/>
                    <a:ext cx="1434960" cy="33840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sp>
        <p:nvSpPr>
          <p:cNvPr id="263" name="Rectangle 15"/>
          <p:cNvSpPr/>
          <p:nvPr/>
        </p:nvSpPr>
        <p:spPr>
          <a:xfrm>
            <a:off x="2822760" y="5000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显然成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4" name="组合 31"/>
          <p:cNvGrpSpPr/>
          <p:nvPr/>
        </p:nvGrpSpPr>
        <p:grpSpPr>
          <a:xfrm>
            <a:off x="1618560" y="1071720"/>
            <a:ext cx="7181280" cy="1003320"/>
            <a:chOff x="1618560" y="1071720"/>
            <a:chExt cx="7181280" cy="1003320"/>
          </a:xfrm>
        </p:grpSpPr>
        <p:grpSp>
          <p:nvGrpSpPr>
            <p:cNvPr id="265" name="组合 17"/>
            <p:cNvGrpSpPr/>
            <p:nvPr/>
          </p:nvGrpSpPr>
          <p:grpSpPr>
            <a:xfrm>
              <a:off x="2942280" y="1071720"/>
              <a:ext cx="5857560" cy="520560"/>
              <a:chOff x="2942280" y="1071720"/>
              <a:chExt cx="5857560" cy="520560"/>
            </a:xfrm>
          </p:grpSpPr>
          <p:sp>
            <p:nvSpPr>
              <p:cNvPr id="266" name="Rectangle 15"/>
              <p:cNvSpPr/>
              <p:nvPr/>
            </p:nvSpPr>
            <p:spPr>
              <a:xfrm>
                <a:off x="2942280" y="1071720"/>
                <a:ext cx="585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不妨设   在                                          有界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67" name="Object 11"/>
              <p:cNvGraphicFramePr/>
              <p:nvPr/>
            </p:nvGraphicFramePr>
            <p:xfrm>
              <a:off x="4071600" y="1092960"/>
              <a:ext cx="4286880" cy="479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8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071600" y="1092960"/>
                        <a:ext cx="428688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9" name="Object 18"/>
              <p:cNvGraphicFramePr/>
              <p:nvPr/>
            </p:nvGraphicFramePr>
            <p:xfrm>
              <a:off x="3428640" y="1125360"/>
              <a:ext cx="422640" cy="375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0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428640" y="1125360"/>
                        <a:ext cx="422640" cy="37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71" name="Rectangle 15"/>
            <p:cNvSpPr/>
            <p:nvPr/>
          </p:nvSpPr>
          <p:spPr>
            <a:xfrm>
              <a:off x="1618560" y="1554480"/>
              <a:ext cx="24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其中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2" name="Object 7"/>
            <p:cNvGraphicFramePr/>
            <p:nvPr/>
          </p:nvGraphicFramePr>
          <p:xfrm>
            <a:off x="2190600" y="1629360"/>
            <a:ext cx="1881000" cy="385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3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90600" y="1629360"/>
                      <a:ext cx="188100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4" name="组合 25"/>
          <p:cNvGrpSpPr/>
          <p:nvPr/>
        </p:nvGrpSpPr>
        <p:grpSpPr>
          <a:xfrm>
            <a:off x="642960" y="2786040"/>
            <a:ext cx="7171920" cy="947160"/>
            <a:chOff x="642960" y="2786040"/>
            <a:chExt cx="7171920" cy="947160"/>
          </a:xfrm>
        </p:grpSpPr>
        <p:grpSp>
          <p:nvGrpSpPr>
            <p:cNvPr id="275" name="组合 26"/>
            <p:cNvGrpSpPr/>
            <p:nvPr/>
          </p:nvGrpSpPr>
          <p:grpSpPr>
            <a:xfrm>
              <a:off x="1785600" y="2786040"/>
              <a:ext cx="6029280" cy="947160"/>
              <a:chOff x="1785600" y="2786040"/>
              <a:chExt cx="6029280" cy="947160"/>
            </a:xfrm>
          </p:grpSpPr>
          <p:sp>
            <p:nvSpPr>
              <p:cNvPr id="276" name="Rectangle 15"/>
              <p:cNvSpPr/>
              <p:nvPr/>
            </p:nvSpPr>
            <p:spPr>
              <a:xfrm>
                <a:off x="2332080" y="2786040"/>
                <a:ext cx="5482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的线性，   在           上的有界性必导致它在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上的有界性，从而在          上的有界性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77" name="Object 15"/>
              <p:cNvGraphicFramePr/>
              <p:nvPr/>
            </p:nvGraphicFramePr>
            <p:xfrm>
              <a:off x="1785600" y="2911680"/>
              <a:ext cx="340920" cy="302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8" name="Object 15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785600" y="2911680"/>
                        <a:ext cx="340920" cy="30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9" name="Object 12"/>
            <p:cNvGraphicFramePr/>
            <p:nvPr/>
          </p:nvGraphicFramePr>
          <p:xfrm>
            <a:off x="3429000" y="2911680"/>
            <a:ext cx="340920" cy="302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0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29000" y="2911680"/>
                      <a:ext cx="34092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13"/>
            <p:cNvGraphicFramePr/>
            <p:nvPr/>
          </p:nvGraphicFramePr>
          <p:xfrm>
            <a:off x="4071960" y="2866680"/>
            <a:ext cx="1241280" cy="419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2" name="Object 1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1960" y="2866680"/>
                      <a:ext cx="12412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10"/>
            <p:cNvGraphicFramePr/>
            <p:nvPr/>
          </p:nvGraphicFramePr>
          <p:xfrm>
            <a:off x="642960" y="3295440"/>
            <a:ext cx="1861920" cy="419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84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42960" y="3295440"/>
                      <a:ext cx="186192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Object 15"/>
            <p:cNvGraphicFramePr/>
            <p:nvPr/>
          </p:nvGraphicFramePr>
          <p:xfrm>
            <a:off x="5643360" y="3341880"/>
            <a:ext cx="1023840" cy="372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8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43360" y="3341880"/>
                      <a:ext cx="102384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7" name="组合 32"/>
          <p:cNvGrpSpPr/>
          <p:nvPr/>
        </p:nvGrpSpPr>
        <p:grpSpPr>
          <a:xfrm>
            <a:off x="1071360" y="3643200"/>
            <a:ext cx="6857280" cy="947160"/>
            <a:chOff x="1071360" y="3643200"/>
            <a:chExt cx="6857280" cy="947160"/>
          </a:xfrm>
        </p:grpSpPr>
        <p:grpSp>
          <p:nvGrpSpPr>
            <p:cNvPr id="288" name="组合 31"/>
            <p:cNvGrpSpPr/>
            <p:nvPr/>
          </p:nvGrpSpPr>
          <p:grpSpPr>
            <a:xfrm>
              <a:off x="1071360" y="3643200"/>
              <a:ext cx="6857280" cy="947160"/>
              <a:chOff x="1071360" y="3643200"/>
              <a:chExt cx="6857280" cy="947160"/>
            </a:xfrm>
          </p:grpSpPr>
          <p:sp>
            <p:nvSpPr>
              <p:cNvPr id="289" name="Rectangle 15"/>
              <p:cNvSpPr/>
              <p:nvPr/>
            </p:nvSpPr>
            <p:spPr>
              <a:xfrm>
                <a:off x="1869480" y="3643200"/>
                <a:ext cx="58179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以上论述也说明   在闭球          上有界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开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球          上有界等价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90" name="Object 17"/>
              <p:cNvGraphicFramePr/>
              <p:nvPr/>
            </p:nvGraphicFramePr>
            <p:xfrm>
              <a:off x="5285520" y="3770640"/>
              <a:ext cx="1023480" cy="3726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91" name="Object 17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285520" y="3770640"/>
                        <a:ext cx="1023480" cy="37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2" name="Object 18"/>
              <p:cNvGraphicFramePr/>
              <p:nvPr/>
            </p:nvGraphicFramePr>
            <p:xfrm>
              <a:off x="7587720" y="3769200"/>
              <a:ext cx="340920" cy="30240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93" name="Object 18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7587720" y="3769200"/>
                        <a:ext cx="340920" cy="30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4" name="Object 19"/>
              <p:cNvGraphicFramePr/>
              <p:nvPr/>
            </p:nvGraphicFramePr>
            <p:xfrm>
              <a:off x="1071360" y="4199400"/>
              <a:ext cx="1085400" cy="37260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295" name="Object 19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1071360" y="4199400"/>
                        <a:ext cx="1085400" cy="37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96" name="Object 16"/>
            <p:cNvGraphicFramePr/>
            <p:nvPr/>
          </p:nvGraphicFramePr>
          <p:xfrm>
            <a:off x="3857400" y="3768840"/>
            <a:ext cx="340920" cy="3027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97" name="Object 16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857400" y="3768840"/>
                      <a:ext cx="34092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8" name="组合 33"/>
          <p:cNvGrpSpPr/>
          <p:nvPr/>
        </p:nvGrpSpPr>
        <p:grpSpPr>
          <a:xfrm>
            <a:off x="1068120" y="1500120"/>
            <a:ext cx="7920360" cy="1214640"/>
            <a:chOff x="1068120" y="1500120"/>
            <a:chExt cx="7920360" cy="1214640"/>
          </a:xfrm>
        </p:grpSpPr>
        <p:graphicFrame>
          <p:nvGraphicFramePr>
            <p:cNvPr id="299" name="Object 8"/>
            <p:cNvGraphicFramePr/>
            <p:nvPr/>
          </p:nvGraphicFramePr>
          <p:xfrm>
            <a:off x="5643720" y="1643040"/>
            <a:ext cx="3071520" cy="377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00" name="Object 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43720" y="1643040"/>
                      <a:ext cx="307152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1" name="组合 16"/>
            <p:cNvGrpSpPr/>
            <p:nvPr/>
          </p:nvGrpSpPr>
          <p:grpSpPr>
            <a:xfrm>
              <a:off x="1068120" y="2075040"/>
              <a:ext cx="7920360" cy="639720"/>
              <a:chOff x="1068120" y="2075040"/>
              <a:chExt cx="7920360" cy="639720"/>
            </a:xfrm>
          </p:grpSpPr>
          <p:sp>
            <p:nvSpPr>
              <p:cNvPr id="302" name="Rectangle 15"/>
              <p:cNvSpPr/>
              <p:nvPr/>
            </p:nvSpPr>
            <p:spPr>
              <a:xfrm>
                <a:off x="1068120" y="2142720"/>
                <a:ext cx="484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其中                                   或者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3" name="Object 9"/>
              <p:cNvGraphicFramePr/>
              <p:nvPr/>
            </p:nvGraphicFramePr>
            <p:xfrm>
              <a:off x="1428480" y="2189160"/>
              <a:ext cx="3371760" cy="4539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304" name="Object 9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428480" y="2189160"/>
                        <a:ext cx="3371760" cy="453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5" name="Object 14"/>
              <p:cNvGraphicFramePr/>
              <p:nvPr/>
            </p:nvGraphicFramePr>
            <p:xfrm>
              <a:off x="5643720" y="2075040"/>
              <a:ext cx="3344760" cy="63972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306" name="Object 14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5643720" y="2075040"/>
                        <a:ext cx="3344760" cy="63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07" name="Rectangle 15"/>
            <p:cNvSpPr/>
            <p:nvPr/>
          </p:nvSpPr>
          <p:spPr>
            <a:xfrm>
              <a:off x="4649400" y="1500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注意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4"/>
          <p:cNvGrpSpPr/>
          <p:nvPr/>
        </p:nvGrpSpPr>
        <p:grpSpPr>
          <a:xfrm>
            <a:off x="2076120" y="588960"/>
            <a:ext cx="6212160" cy="696960"/>
            <a:chOff x="2076120" y="588960"/>
            <a:chExt cx="6212160" cy="696960"/>
          </a:xfrm>
        </p:grpSpPr>
        <p:sp>
          <p:nvSpPr>
            <p:cNvPr id="309" name="Rectangle 15"/>
            <p:cNvSpPr/>
            <p:nvPr/>
          </p:nvSpPr>
          <p:spPr>
            <a:xfrm>
              <a:off x="2076120" y="588960"/>
              <a:ext cx="463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证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5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假设在          上，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10" name="Object 2"/>
            <p:cNvGraphicFramePr/>
            <p:nvPr/>
          </p:nvGraphicFramePr>
          <p:xfrm>
            <a:off x="4143240" y="698400"/>
            <a:ext cx="1023840" cy="372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43240" y="698400"/>
                      <a:ext cx="102384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Object 3"/>
            <p:cNvGraphicFramePr/>
            <p:nvPr/>
          </p:nvGraphicFramePr>
          <p:xfrm>
            <a:off x="5715000" y="655560"/>
            <a:ext cx="2573280" cy="63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15000" y="655560"/>
                      <a:ext cx="257328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4" name="组合 10"/>
          <p:cNvGrpSpPr/>
          <p:nvPr/>
        </p:nvGrpSpPr>
        <p:grpSpPr>
          <a:xfrm>
            <a:off x="1571760" y="1135080"/>
            <a:ext cx="5794200" cy="722160"/>
            <a:chOff x="1571760" y="1135080"/>
            <a:chExt cx="5794200" cy="722160"/>
          </a:xfrm>
        </p:grpSpPr>
        <p:grpSp>
          <p:nvGrpSpPr>
            <p:cNvPr id="315" name="组合 5"/>
            <p:cNvGrpSpPr/>
            <p:nvPr/>
          </p:nvGrpSpPr>
          <p:grpSpPr>
            <a:xfrm>
              <a:off x="1571760" y="1135080"/>
              <a:ext cx="5794200" cy="722160"/>
              <a:chOff x="1571760" y="1135080"/>
              <a:chExt cx="5794200" cy="722160"/>
            </a:xfrm>
          </p:grpSpPr>
          <p:sp>
            <p:nvSpPr>
              <p:cNvPr id="316" name="Rectangle 15"/>
              <p:cNvSpPr/>
              <p:nvPr/>
            </p:nvSpPr>
            <p:spPr>
              <a:xfrm>
                <a:off x="1969920" y="1205280"/>
                <a:ext cx="5396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则                   从而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17" name="Object 4"/>
              <p:cNvGraphicFramePr/>
              <p:nvPr/>
            </p:nvGraphicFramePr>
            <p:xfrm>
              <a:off x="1571760" y="1313280"/>
              <a:ext cx="1285920" cy="36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71760" y="1313280"/>
                        <a:ext cx="128592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9" name="Object 5"/>
              <p:cNvGraphicFramePr/>
              <p:nvPr/>
            </p:nvGraphicFramePr>
            <p:xfrm>
              <a:off x="4500720" y="1135080"/>
              <a:ext cx="1727280" cy="722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2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1135080"/>
                        <a:ext cx="1727280" cy="72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1" name="Object 6"/>
            <p:cNvGraphicFramePr/>
            <p:nvPr/>
          </p:nvGraphicFramePr>
          <p:xfrm>
            <a:off x="3071880" y="1303920"/>
            <a:ext cx="1057680" cy="410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71880" y="1303920"/>
                      <a:ext cx="1057680" cy="41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3" name="Object 7"/>
          <p:cNvGraphicFramePr/>
          <p:nvPr/>
        </p:nvGraphicFramePr>
        <p:xfrm>
          <a:off x="2928960" y="1735200"/>
          <a:ext cx="4218120" cy="979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28960" y="1735200"/>
                    <a:ext cx="421812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组合 15"/>
          <p:cNvGrpSpPr/>
          <p:nvPr/>
        </p:nvGrpSpPr>
        <p:grpSpPr>
          <a:xfrm>
            <a:off x="1830240" y="2732040"/>
            <a:ext cx="5436360" cy="520560"/>
            <a:chOff x="1830240" y="2732040"/>
            <a:chExt cx="5436360" cy="520560"/>
          </a:xfrm>
        </p:grpSpPr>
        <p:sp>
          <p:nvSpPr>
            <p:cNvPr id="326" name="Rectangle 15"/>
            <p:cNvSpPr/>
            <p:nvPr/>
          </p:nvSpPr>
          <p:spPr>
            <a:xfrm>
              <a:off x="2673720" y="2732040"/>
              <a:ext cx="459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时上面不等式成立，故得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5)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7" name="Object 8"/>
            <p:cNvGraphicFramePr/>
            <p:nvPr/>
          </p:nvGraphicFramePr>
          <p:xfrm>
            <a:off x="1830240" y="2871720"/>
            <a:ext cx="850680" cy="31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8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830240" y="2871720"/>
                      <a:ext cx="850680" cy="3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9" name="Object 10"/>
          <p:cNvGraphicFramePr/>
          <p:nvPr/>
        </p:nvGraphicFramePr>
        <p:xfrm>
          <a:off x="714240" y="3357720"/>
          <a:ext cx="1379520" cy="33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4240" y="3357720"/>
                    <a:ext cx="1379520" cy="33804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331" name="组合 24"/>
          <p:cNvGrpSpPr/>
          <p:nvPr/>
        </p:nvGrpSpPr>
        <p:grpSpPr>
          <a:xfrm>
            <a:off x="2583000" y="3268800"/>
            <a:ext cx="4940280" cy="1017360"/>
            <a:chOff x="2583000" y="3268800"/>
            <a:chExt cx="4940280" cy="1017360"/>
          </a:xfrm>
        </p:grpSpPr>
        <p:sp>
          <p:nvSpPr>
            <p:cNvPr id="332" name="Rectangle 15"/>
            <p:cNvSpPr/>
            <p:nvPr/>
          </p:nvSpPr>
          <p:spPr>
            <a:xfrm>
              <a:off x="2583000" y="3268800"/>
              <a:ext cx="41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5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知，                       则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3" name="Object 13"/>
            <p:cNvGraphicFramePr/>
            <p:nvPr/>
          </p:nvGraphicFramePr>
          <p:xfrm>
            <a:off x="3697200" y="3344760"/>
            <a:ext cx="2303640" cy="369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34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697200" y="3344760"/>
                      <a:ext cx="230364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Object 14"/>
            <p:cNvGraphicFramePr/>
            <p:nvPr/>
          </p:nvGraphicFramePr>
          <p:xfrm>
            <a:off x="3429000" y="3821040"/>
            <a:ext cx="4094280" cy="465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36" name="Object 14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429000" y="3821040"/>
                      <a:ext cx="409428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7" name="组合 26"/>
          <p:cNvGrpSpPr/>
          <p:nvPr/>
        </p:nvGrpSpPr>
        <p:grpSpPr>
          <a:xfrm>
            <a:off x="2502720" y="4286160"/>
            <a:ext cx="2850840" cy="520560"/>
            <a:chOff x="2502720" y="4286160"/>
            <a:chExt cx="2850840" cy="520560"/>
          </a:xfrm>
        </p:grpSpPr>
        <p:sp>
          <p:nvSpPr>
            <p:cNvPr id="338" name="Rectangle 15"/>
            <p:cNvSpPr/>
            <p:nvPr/>
          </p:nvSpPr>
          <p:spPr>
            <a:xfrm>
              <a:off x="2502720" y="4286160"/>
              <a:ext cx="28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在        连续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9" name="Object 15"/>
            <p:cNvGraphicFramePr/>
            <p:nvPr/>
          </p:nvGraphicFramePr>
          <p:xfrm>
            <a:off x="3000240" y="4412520"/>
            <a:ext cx="341280" cy="302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40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000240" y="4412520"/>
                      <a:ext cx="341280" cy="30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1" name="Object 16"/>
            <p:cNvGraphicFramePr/>
            <p:nvPr/>
          </p:nvGraphicFramePr>
          <p:xfrm>
            <a:off x="3611520" y="4357440"/>
            <a:ext cx="888840" cy="333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42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611520" y="4357440"/>
                      <a:ext cx="888840" cy="3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7"/>
          <p:cNvGrpSpPr/>
          <p:nvPr/>
        </p:nvGrpSpPr>
        <p:grpSpPr>
          <a:xfrm>
            <a:off x="1214640" y="482760"/>
            <a:ext cx="5526720" cy="537840"/>
            <a:chOff x="1214640" y="482760"/>
            <a:chExt cx="5526720" cy="537840"/>
          </a:xfrm>
        </p:grpSpPr>
        <p:grpSp>
          <p:nvGrpSpPr>
            <p:cNvPr id="344" name="组合 32"/>
            <p:cNvGrpSpPr/>
            <p:nvPr/>
          </p:nvGrpSpPr>
          <p:grpSpPr>
            <a:xfrm>
              <a:off x="1214640" y="482760"/>
              <a:ext cx="5526720" cy="537840"/>
              <a:chOff x="1214640" y="482760"/>
              <a:chExt cx="5526720" cy="537840"/>
            </a:xfrm>
          </p:grpSpPr>
          <p:sp>
            <p:nvSpPr>
              <p:cNvPr id="345" name="Rectangle 15"/>
              <p:cNvSpPr/>
              <p:nvPr/>
            </p:nvSpPr>
            <p:spPr>
              <a:xfrm>
                <a:off x="1214640" y="482760"/>
                <a:ext cx="552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是    上的线性泛函，且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46" name="Object 2"/>
              <p:cNvGraphicFramePr/>
              <p:nvPr/>
            </p:nvGraphicFramePr>
            <p:xfrm>
              <a:off x="1500120" y="593280"/>
              <a:ext cx="428400" cy="427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47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500120" y="593280"/>
                        <a:ext cx="428400" cy="42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8" name="Object 3"/>
            <p:cNvGraphicFramePr/>
            <p:nvPr/>
          </p:nvGraphicFramePr>
          <p:xfrm>
            <a:off x="2143080" y="574560"/>
            <a:ext cx="509040" cy="35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3080" y="574560"/>
                      <a:ext cx="50904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19"/>
            <p:cNvGraphicFramePr/>
            <p:nvPr/>
          </p:nvGraphicFramePr>
          <p:xfrm>
            <a:off x="5358240" y="593280"/>
            <a:ext cx="839880" cy="33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1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58240" y="593280"/>
                      <a:ext cx="83988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52" name="Object 5"/>
          <p:cNvGraphicFramePr/>
          <p:nvPr/>
        </p:nvGraphicFramePr>
        <p:xfrm>
          <a:off x="544680" y="1089000"/>
          <a:ext cx="1434960" cy="33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1089000"/>
                    <a:ext cx="14349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4" name="组合 30"/>
          <p:cNvGrpSpPr/>
          <p:nvPr/>
        </p:nvGrpSpPr>
        <p:grpSpPr>
          <a:xfrm>
            <a:off x="1357200" y="963720"/>
            <a:ext cx="7416360" cy="1179360"/>
            <a:chOff x="1357200" y="963720"/>
            <a:chExt cx="7416360" cy="1179360"/>
          </a:xfrm>
        </p:grpSpPr>
        <p:grpSp>
          <p:nvGrpSpPr>
            <p:cNvPr id="355" name="组合 14"/>
            <p:cNvGrpSpPr/>
            <p:nvPr/>
          </p:nvGrpSpPr>
          <p:grpSpPr>
            <a:xfrm>
              <a:off x="2481120" y="963720"/>
              <a:ext cx="6292440" cy="536400"/>
              <a:chOff x="2481120" y="963720"/>
              <a:chExt cx="6292440" cy="536400"/>
            </a:xfrm>
          </p:grpSpPr>
          <p:grpSp>
            <p:nvGrpSpPr>
              <p:cNvPr id="356" name="组合 16"/>
              <p:cNvGrpSpPr/>
              <p:nvPr/>
            </p:nvGrpSpPr>
            <p:grpSpPr>
              <a:xfrm>
                <a:off x="2481120" y="963720"/>
                <a:ext cx="6292440" cy="520560"/>
                <a:chOff x="2481120" y="963720"/>
                <a:chExt cx="6292440" cy="520560"/>
              </a:xfrm>
            </p:grpSpPr>
            <p:sp>
              <p:nvSpPr>
                <p:cNvPr id="357" name="Rectangle 15"/>
                <p:cNvSpPr/>
                <p:nvPr/>
              </p:nvSpPr>
              <p:spPr>
                <a:xfrm>
                  <a:off x="2862360" y="963720"/>
                  <a:ext cx="5911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    上连续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于    是     中的闭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则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58" name="Object 34"/>
                <p:cNvGraphicFramePr/>
                <p:nvPr/>
              </p:nvGraphicFramePr>
              <p:xfrm>
                <a:off x="3214440" y="1073520"/>
                <a:ext cx="477720" cy="3340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59" name="Object 34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214440" y="1073520"/>
                          <a:ext cx="477720" cy="334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60" name="Object 7"/>
                <p:cNvGraphicFramePr/>
                <p:nvPr/>
              </p:nvGraphicFramePr>
              <p:xfrm>
                <a:off x="2481120" y="1011240"/>
                <a:ext cx="460080" cy="46224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61" name="Object 7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2481120" y="1011240"/>
                          <a:ext cx="460080" cy="462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62" name="Object 8"/>
              <p:cNvGraphicFramePr/>
              <p:nvPr/>
            </p:nvGraphicFramePr>
            <p:xfrm>
              <a:off x="5357880" y="1062720"/>
              <a:ext cx="550800" cy="4374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63" name="Object 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357880" y="1062720"/>
                        <a:ext cx="550800" cy="43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Object 9"/>
              <p:cNvGraphicFramePr/>
              <p:nvPr/>
            </p:nvGraphicFramePr>
            <p:xfrm>
              <a:off x="6286680" y="1106640"/>
              <a:ext cx="463680" cy="3218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65" name="Object 9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286680" y="1106640"/>
                        <a:ext cx="463680" cy="32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66" name="组合 22"/>
            <p:cNvGrpSpPr/>
            <p:nvPr/>
          </p:nvGrpSpPr>
          <p:grpSpPr>
            <a:xfrm>
              <a:off x="1357200" y="1619280"/>
              <a:ext cx="5687280" cy="523800"/>
              <a:chOff x="1357200" y="1619280"/>
              <a:chExt cx="5687280" cy="523800"/>
            </a:xfrm>
          </p:grpSpPr>
          <p:graphicFrame>
            <p:nvGraphicFramePr>
              <p:cNvPr id="367" name="Object 10"/>
              <p:cNvGraphicFramePr/>
              <p:nvPr/>
            </p:nvGraphicFramePr>
            <p:xfrm>
              <a:off x="1357200" y="1676880"/>
              <a:ext cx="2576880" cy="4662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68" name="Object 10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357200" y="1676880"/>
                        <a:ext cx="2576880" cy="46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369" name="组合 37"/>
              <p:cNvGrpSpPr/>
              <p:nvPr/>
            </p:nvGrpSpPr>
            <p:grpSpPr>
              <a:xfrm>
                <a:off x="3049200" y="1619280"/>
                <a:ext cx="3995280" cy="520560"/>
                <a:chOff x="3049200" y="1619280"/>
                <a:chExt cx="3995280" cy="520560"/>
              </a:xfrm>
            </p:grpSpPr>
            <p:sp>
              <p:nvSpPr>
                <p:cNvPr id="370" name="Rectangle 15"/>
                <p:cNvSpPr/>
                <p:nvPr/>
              </p:nvSpPr>
              <p:spPr>
                <a:xfrm>
                  <a:off x="3049200" y="1619280"/>
                  <a:ext cx="399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    中的闭集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71" name="Object 12"/>
                <p:cNvGraphicFramePr/>
                <p:nvPr/>
              </p:nvGraphicFramePr>
              <p:xfrm>
                <a:off x="4358160" y="1716840"/>
                <a:ext cx="509040" cy="3549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372" name="Object 12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4358160" y="1716840"/>
                          <a:ext cx="509040" cy="35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graphicFrame>
        <p:nvGraphicFramePr>
          <p:cNvPr id="373" name="Object 14"/>
          <p:cNvGraphicFramePr/>
          <p:nvPr/>
        </p:nvGraphicFramePr>
        <p:xfrm>
          <a:off x="642960" y="2374920"/>
          <a:ext cx="1434960" cy="33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4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2960" y="2374920"/>
                    <a:ext cx="14349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组合 31"/>
          <p:cNvGrpSpPr/>
          <p:nvPr/>
        </p:nvGrpSpPr>
        <p:grpSpPr>
          <a:xfrm>
            <a:off x="2571840" y="2286000"/>
            <a:ext cx="5130360" cy="1108080"/>
            <a:chOff x="2571840" y="2286000"/>
            <a:chExt cx="5130360" cy="1108080"/>
          </a:xfrm>
        </p:grpSpPr>
        <p:grpSp>
          <p:nvGrpSpPr>
            <p:cNvPr id="376" name="组合 43"/>
            <p:cNvGrpSpPr/>
            <p:nvPr/>
          </p:nvGrpSpPr>
          <p:grpSpPr>
            <a:xfrm>
              <a:off x="3052800" y="2286000"/>
              <a:ext cx="4649400" cy="520560"/>
              <a:chOff x="3052800" y="2286000"/>
              <a:chExt cx="4649400" cy="520560"/>
            </a:xfrm>
          </p:grpSpPr>
          <p:grpSp>
            <p:nvGrpSpPr>
              <p:cNvPr id="377" name="组合 38"/>
              <p:cNvGrpSpPr/>
              <p:nvPr/>
            </p:nvGrpSpPr>
            <p:grpSpPr>
              <a:xfrm>
                <a:off x="3052800" y="2286000"/>
                <a:ext cx="4649400" cy="520560"/>
                <a:chOff x="3052800" y="2286000"/>
                <a:chExt cx="4649400" cy="520560"/>
              </a:xfrm>
            </p:grpSpPr>
            <p:sp>
              <p:nvSpPr>
                <p:cNvPr id="378" name="Rectangle 15"/>
                <p:cNvSpPr/>
                <p:nvPr/>
              </p:nvSpPr>
              <p:spPr>
                <a:xfrm>
                  <a:off x="3052800" y="2286000"/>
                  <a:ext cx="4649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反证法：若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在    中稠密，由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(6)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79" name="Object 22"/>
                <p:cNvGraphicFramePr/>
                <p:nvPr/>
              </p:nvGraphicFramePr>
              <p:xfrm>
                <a:off x="4214880" y="2390400"/>
                <a:ext cx="928800" cy="3603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380" name="Object 22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4214880" y="2390400"/>
                          <a:ext cx="928800" cy="360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81" name="Object 23"/>
              <p:cNvGraphicFramePr/>
              <p:nvPr/>
            </p:nvGraphicFramePr>
            <p:xfrm>
              <a:off x="5429520" y="2401920"/>
              <a:ext cx="500040" cy="34920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382" name="Object 23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429520" y="2401920"/>
                        <a:ext cx="500040" cy="3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3" name="Object 17"/>
            <p:cNvGraphicFramePr/>
            <p:nvPr/>
          </p:nvGraphicFramePr>
          <p:xfrm>
            <a:off x="2571840" y="2952720"/>
            <a:ext cx="2917800" cy="4413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84" name="Object 1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571840" y="2952720"/>
                      <a:ext cx="29178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5" name="组合 38"/>
          <p:cNvGrpSpPr/>
          <p:nvPr/>
        </p:nvGrpSpPr>
        <p:grpSpPr>
          <a:xfrm>
            <a:off x="2571840" y="3500280"/>
            <a:ext cx="2241000" cy="520560"/>
            <a:chOff x="2571840" y="3500280"/>
            <a:chExt cx="2241000" cy="520560"/>
          </a:xfrm>
        </p:grpSpPr>
        <p:sp>
          <p:nvSpPr>
            <p:cNvPr id="386" name="Rectangle 15"/>
            <p:cNvSpPr/>
            <p:nvPr/>
          </p:nvSpPr>
          <p:spPr>
            <a:xfrm>
              <a:off x="2571840" y="3500280"/>
              <a:ext cx="22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87" name="Object 18"/>
            <p:cNvGraphicFramePr/>
            <p:nvPr/>
          </p:nvGraphicFramePr>
          <p:xfrm>
            <a:off x="2785680" y="3571560"/>
            <a:ext cx="987120" cy="3960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88" name="Object 1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785680" y="3571560"/>
                      <a:ext cx="98712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Object 2"/>
          <p:cNvGraphicFramePr/>
          <p:nvPr/>
        </p:nvGraphicFramePr>
        <p:xfrm>
          <a:off x="428760" y="731880"/>
          <a:ext cx="143496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731880"/>
                    <a:ext cx="14349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组合 37"/>
          <p:cNvGrpSpPr/>
          <p:nvPr/>
        </p:nvGrpSpPr>
        <p:grpSpPr>
          <a:xfrm>
            <a:off x="1511640" y="642960"/>
            <a:ext cx="6838560" cy="520560"/>
            <a:chOff x="1511640" y="642960"/>
            <a:chExt cx="6838560" cy="520560"/>
          </a:xfrm>
        </p:grpSpPr>
        <p:sp>
          <p:nvSpPr>
            <p:cNvPr id="392" name="Rectangle 15"/>
            <p:cNvSpPr/>
            <p:nvPr/>
          </p:nvSpPr>
          <p:spPr>
            <a:xfrm>
              <a:off x="1511640" y="642960"/>
              <a:ext cx="175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7)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3" name="Object 18"/>
            <p:cNvGraphicFramePr/>
            <p:nvPr/>
          </p:nvGraphicFramePr>
          <p:xfrm>
            <a:off x="3155760" y="750240"/>
            <a:ext cx="5194440" cy="39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4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55760" y="750240"/>
                      <a:ext cx="5194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5" name="组合 13"/>
          <p:cNvGrpSpPr/>
          <p:nvPr/>
        </p:nvGrpSpPr>
        <p:grpSpPr>
          <a:xfrm>
            <a:off x="642960" y="1285920"/>
            <a:ext cx="6694920" cy="1373760"/>
            <a:chOff x="642960" y="1285920"/>
            <a:chExt cx="6694920" cy="1373760"/>
          </a:xfrm>
        </p:grpSpPr>
        <p:sp>
          <p:nvSpPr>
            <p:cNvPr id="396" name="Rectangle 15"/>
            <p:cNvSpPr/>
            <p:nvPr/>
          </p:nvSpPr>
          <p:spPr>
            <a:xfrm>
              <a:off x="1731600" y="1285920"/>
              <a:ext cx="5606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不是有界泛函，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4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等价性的证明知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任一点的有界邻域上都不是有界的，特别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在          上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7" name="Object 17"/>
            <p:cNvGraphicFramePr/>
            <p:nvPr/>
          </p:nvGraphicFramePr>
          <p:xfrm>
            <a:off x="1000080" y="1357200"/>
            <a:ext cx="428400" cy="42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8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00080" y="1357200"/>
                      <a:ext cx="428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7"/>
            <p:cNvGraphicFramePr/>
            <p:nvPr/>
          </p:nvGraphicFramePr>
          <p:xfrm>
            <a:off x="642960" y="1785600"/>
            <a:ext cx="428400" cy="427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2960" y="1785600"/>
                      <a:ext cx="428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Object 8"/>
            <p:cNvGraphicFramePr/>
            <p:nvPr/>
          </p:nvGraphicFramePr>
          <p:xfrm>
            <a:off x="642960" y="2214000"/>
            <a:ext cx="428400" cy="426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2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960" y="2214000"/>
                      <a:ext cx="428400" cy="4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Object 9"/>
            <p:cNvGraphicFramePr/>
            <p:nvPr/>
          </p:nvGraphicFramePr>
          <p:xfrm>
            <a:off x="1714320" y="2269800"/>
            <a:ext cx="1117440" cy="372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0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14320" y="2269800"/>
                      <a:ext cx="1117440" cy="37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5" name="组合 16"/>
          <p:cNvGrpSpPr/>
          <p:nvPr/>
        </p:nvGrpSpPr>
        <p:grpSpPr>
          <a:xfrm>
            <a:off x="4514040" y="2143080"/>
            <a:ext cx="4201200" cy="538200"/>
            <a:chOff x="4514040" y="2143080"/>
            <a:chExt cx="4201200" cy="538200"/>
          </a:xfrm>
        </p:grpSpPr>
        <p:sp>
          <p:nvSpPr>
            <p:cNvPr id="406" name="Rectangle 15"/>
            <p:cNvSpPr/>
            <p:nvPr/>
          </p:nvSpPr>
          <p:spPr>
            <a:xfrm>
              <a:off x="4514040" y="214308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我们证明此时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7" name="Object 10"/>
            <p:cNvGraphicFramePr/>
            <p:nvPr/>
          </p:nvGraphicFramePr>
          <p:xfrm>
            <a:off x="6262560" y="2214360"/>
            <a:ext cx="2452680" cy="466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0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262560" y="2214360"/>
                      <a:ext cx="245268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9" name="组合 21"/>
          <p:cNvGrpSpPr/>
          <p:nvPr/>
        </p:nvGrpSpPr>
        <p:grpSpPr>
          <a:xfrm>
            <a:off x="1126440" y="2786040"/>
            <a:ext cx="6577560" cy="538200"/>
            <a:chOff x="1126440" y="2786040"/>
            <a:chExt cx="6577560" cy="538200"/>
          </a:xfrm>
        </p:grpSpPr>
        <p:sp>
          <p:nvSpPr>
            <p:cNvPr id="410" name="Rectangle 15"/>
            <p:cNvSpPr/>
            <p:nvPr/>
          </p:nvSpPr>
          <p:spPr>
            <a:xfrm>
              <a:off x="1126440" y="2786040"/>
              <a:ext cx="480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             存在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11" name="Object 12"/>
            <p:cNvGraphicFramePr/>
            <p:nvPr/>
          </p:nvGraphicFramePr>
          <p:xfrm>
            <a:off x="1928880" y="2913120"/>
            <a:ext cx="1366560" cy="373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12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928880" y="2913120"/>
                      <a:ext cx="1366560" cy="3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Object 13"/>
            <p:cNvGraphicFramePr/>
            <p:nvPr/>
          </p:nvGraphicFramePr>
          <p:xfrm>
            <a:off x="4071960" y="2857320"/>
            <a:ext cx="3632040" cy="466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14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71960" y="2857320"/>
                      <a:ext cx="363204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5" name="组合 25"/>
          <p:cNvGrpSpPr/>
          <p:nvPr/>
        </p:nvGrpSpPr>
        <p:grpSpPr>
          <a:xfrm>
            <a:off x="915480" y="3240000"/>
            <a:ext cx="6656760" cy="862200"/>
            <a:chOff x="915480" y="3240000"/>
            <a:chExt cx="6656760" cy="862200"/>
          </a:xfrm>
        </p:grpSpPr>
        <p:grpSp>
          <p:nvGrpSpPr>
            <p:cNvPr id="416" name="组合 24"/>
            <p:cNvGrpSpPr/>
            <p:nvPr/>
          </p:nvGrpSpPr>
          <p:grpSpPr>
            <a:xfrm>
              <a:off x="915480" y="3303360"/>
              <a:ext cx="4232880" cy="768600"/>
              <a:chOff x="915480" y="3303360"/>
              <a:chExt cx="4232880" cy="768600"/>
            </a:xfrm>
          </p:grpSpPr>
          <p:sp>
            <p:nvSpPr>
              <p:cNvPr id="417" name="Rectangle 15"/>
              <p:cNvSpPr/>
              <p:nvPr/>
            </p:nvSpPr>
            <p:spPr>
              <a:xfrm>
                <a:off x="915480" y="3357360"/>
                <a:ext cx="4232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取                    则     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18" name="Object 14"/>
              <p:cNvGraphicFramePr/>
              <p:nvPr/>
            </p:nvGraphicFramePr>
            <p:xfrm>
              <a:off x="1143000" y="3303360"/>
              <a:ext cx="1956960" cy="76860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419" name="Object 14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1143000" y="3303360"/>
                        <a:ext cx="1956960" cy="76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0" name="Object 15"/>
            <p:cNvGraphicFramePr/>
            <p:nvPr/>
          </p:nvGraphicFramePr>
          <p:xfrm>
            <a:off x="3657600" y="3240000"/>
            <a:ext cx="3914640" cy="862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21" name="Object 1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657600" y="3240000"/>
                      <a:ext cx="3914640" cy="8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2" name="组合 26"/>
          <p:cNvGrpSpPr/>
          <p:nvPr/>
        </p:nvGrpSpPr>
        <p:grpSpPr>
          <a:xfrm>
            <a:off x="1163880" y="4071960"/>
            <a:ext cx="4801320" cy="520560"/>
            <a:chOff x="1163880" y="4071960"/>
            <a:chExt cx="4801320" cy="520560"/>
          </a:xfrm>
        </p:grpSpPr>
        <p:sp>
          <p:nvSpPr>
            <p:cNvPr id="423" name="Rectangle 15"/>
            <p:cNvSpPr/>
            <p:nvPr/>
          </p:nvSpPr>
          <p:spPr>
            <a:xfrm>
              <a:off x="1163880" y="4071960"/>
              <a:ext cx="480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并且                故知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4" name="Object 16"/>
            <p:cNvGraphicFramePr/>
            <p:nvPr/>
          </p:nvGraphicFramePr>
          <p:xfrm>
            <a:off x="1590480" y="4143240"/>
            <a:ext cx="1552320" cy="373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25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590480" y="4143240"/>
                      <a:ext cx="1552320" cy="37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7:55Z</dcterms:modified>
  <cp:revision>437</cp:revision>
  <dc:subject/>
  <dc:title>幻灯片 1</dc:title>
</cp:coreProperties>
</file>