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6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65F-F68E-499E-A20B-F5C17EBF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9EA-6F28-42F2-8A8F-7E6A059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BFB-3C7E-4073-803E-DE63A27B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D88-8971-4D1B-97EA-63817357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AC03-CB79-4A15-AF20-53456EF0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7A6-FB62-4118-9013-00BE5F7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FA2B-6149-4A37-A5A3-4A8E4CC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2FC7-6263-49D4-8CAA-5EF89C8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BBCD-0770-432C-B3AF-1EC2E84D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0D4A-E0E9-4087-82F9-BB0FFBC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175-AB2A-4982-9011-484B10E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B3A-0CDF-4286-B4C1-A37F6E80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45E-17A2-4345-8506-3636D30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1A04-2E71-4EBB-80F1-64B9638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96DA-AA10-49DA-A3F9-709427B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F54-3362-4B0C-9173-25B2F929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F1CF-F80E-40E0-B6AE-9389A059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809-5F88-4D10-AAA8-C5A2187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932-0B83-4699-AFD3-010D1847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67F-626B-4E41-A1AB-A37AE847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659-D8D9-4878-9840-85B4B05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F32-5D95-4DC3-9144-1DD84B2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0A6-71D5-4A06-81F8-82FDA66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36A-3F02-479A-B367-F8631F9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6327-F689-4200-967C-641B12F18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C70C-4E23-45AE-A8D2-FB542C3689C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五讲  共鸣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52"/>
          <p:cNvGrpSpPr/>
          <p:nvPr/>
        </p:nvGrpSpPr>
        <p:grpSpPr>
          <a:xfrm>
            <a:off x="1371240" y="1285920"/>
            <a:ext cx="6627600" cy="1373760"/>
            <a:chOff x="1371240" y="1285920"/>
            <a:chExt cx="6627600" cy="1373760"/>
          </a:xfrm>
        </p:grpSpPr>
        <p:grpSp>
          <p:nvGrpSpPr>
            <p:cNvPr id="296" name="组合 48"/>
            <p:cNvGrpSpPr/>
            <p:nvPr/>
          </p:nvGrpSpPr>
          <p:grpSpPr>
            <a:xfrm>
              <a:off x="1371240" y="1285920"/>
              <a:ext cx="6627600" cy="1373760"/>
              <a:chOff x="1371240" y="1285920"/>
              <a:chExt cx="6627600" cy="1373760"/>
            </a:xfrm>
          </p:grpSpPr>
          <p:sp>
            <p:nvSpPr>
              <p:cNvPr id="297" name="Rectangle 15"/>
              <p:cNvSpPr/>
              <p:nvPr/>
            </p:nvSpPr>
            <p:spPr>
              <a:xfrm>
                <a:off x="1801800" y="1285920"/>
                <a:ext cx="56336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线性赋范空间，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一族有界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在    的某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个第二纲集上点点有界，则它是一致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8" name="Object 2"/>
              <p:cNvGraphicFramePr/>
              <p:nvPr/>
            </p:nvGraphicFramePr>
            <p:xfrm>
              <a:off x="4857480" y="1285920"/>
              <a:ext cx="3141360" cy="509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57480" y="1285920"/>
                        <a:ext cx="3141360" cy="50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0" name="Object 26"/>
              <p:cNvGraphicFramePr/>
              <p:nvPr/>
            </p:nvGraphicFramePr>
            <p:xfrm>
              <a:off x="1371240" y="1357200"/>
              <a:ext cx="851040" cy="392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1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71240" y="1357200"/>
                        <a:ext cx="851040" cy="39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2" name="Object 48"/>
            <p:cNvGraphicFramePr/>
            <p:nvPr/>
          </p:nvGraphicFramePr>
          <p:xfrm>
            <a:off x="4786200" y="1776240"/>
            <a:ext cx="1641240" cy="50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3" name="Object 4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6200" y="1776240"/>
                      <a:ext cx="164124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49"/>
            <p:cNvGraphicFramePr/>
            <p:nvPr/>
          </p:nvGraphicFramePr>
          <p:xfrm>
            <a:off x="6857640" y="1822320"/>
            <a:ext cx="45864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5" name="Object 4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7640" y="182232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6" name="组合 51"/>
          <p:cNvGrpSpPr/>
          <p:nvPr/>
        </p:nvGrpSpPr>
        <p:grpSpPr>
          <a:xfrm>
            <a:off x="1790640" y="3000240"/>
            <a:ext cx="5473440" cy="947160"/>
            <a:chOff x="1790640" y="3000240"/>
            <a:chExt cx="5473440" cy="947160"/>
          </a:xfrm>
        </p:grpSpPr>
        <p:sp>
          <p:nvSpPr>
            <p:cNvPr id="307" name="Rectangle 15"/>
            <p:cNvSpPr/>
            <p:nvPr/>
          </p:nvSpPr>
          <p:spPr>
            <a:xfrm>
              <a:off x="1790640" y="3000240"/>
              <a:ext cx="547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特别地，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Banach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空间     上点点有界的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性算子族                                是一致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50"/>
            <p:cNvGraphicFramePr/>
            <p:nvPr/>
          </p:nvGraphicFramePr>
          <p:xfrm>
            <a:off x="4786200" y="3108240"/>
            <a:ext cx="458640" cy="320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9" name="Object 5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6200" y="3108240"/>
                      <a:ext cx="4586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51"/>
            <p:cNvGraphicFramePr/>
            <p:nvPr/>
          </p:nvGraphicFramePr>
          <p:xfrm>
            <a:off x="2500200" y="3429000"/>
            <a:ext cx="3141720" cy="509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1" name="Object 5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00200" y="3429000"/>
                      <a:ext cx="3141720" cy="5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500040" y="4827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( Banach-Steinhaus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3" name="组合 36"/>
          <p:cNvGrpSpPr/>
          <p:nvPr/>
        </p:nvGrpSpPr>
        <p:grpSpPr>
          <a:xfrm>
            <a:off x="1142640" y="1428840"/>
            <a:ext cx="7044120" cy="2736720"/>
            <a:chOff x="1142640" y="1428840"/>
            <a:chExt cx="7044120" cy="2736720"/>
          </a:xfrm>
        </p:grpSpPr>
        <p:grpSp>
          <p:nvGrpSpPr>
            <p:cNvPr id="314" name="组合 25"/>
            <p:cNvGrpSpPr/>
            <p:nvPr/>
          </p:nvGrpSpPr>
          <p:grpSpPr>
            <a:xfrm>
              <a:off x="1387440" y="1428840"/>
              <a:ext cx="6799320" cy="2653560"/>
              <a:chOff x="1387440" y="1428840"/>
              <a:chExt cx="6799320" cy="2653560"/>
            </a:xfrm>
          </p:grpSpPr>
          <p:sp>
            <p:nvSpPr>
              <p:cNvPr id="315" name="Rectangle 15"/>
              <p:cNvSpPr/>
              <p:nvPr/>
            </p:nvSpPr>
            <p:spPr>
              <a:xfrm>
                <a:off x="1837080" y="1428840"/>
                <a:ext cx="54324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n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    到线性赋范空间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的一列有界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，则存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6" name="Object 28"/>
              <p:cNvGraphicFramePr/>
              <p:nvPr/>
            </p:nvGraphicFramePr>
            <p:xfrm>
              <a:off x="1387440" y="1497240"/>
              <a:ext cx="720720" cy="4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17" name="Object 2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87440" y="1497240"/>
                        <a:ext cx="720720" cy="4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8" name="Object 8"/>
              <p:cNvGraphicFramePr/>
              <p:nvPr/>
            </p:nvGraphicFramePr>
            <p:xfrm>
              <a:off x="6774120" y="1890720"/>
              <a:ext cx="1412640" cy="498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9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74120" y="1890720"/>
                        <a:ext cx="1412640" cy="49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0" name="Object 32"/>
            <p:cNvGraphicFramePr/>
            <p:nvPr/>
          </p:nvGraphicFramePr>
          <p:xfrm>
            <a:off x="5000760" y="1500120"/>
            <a:ext cx="45864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1" name="Object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760" y="1500120"/>
                      <a:ext cx="4586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Object 33"/>
            <p:cNvGraphicFramePr/>
            <p:nvPr/>
          </p:nvGraphicFramePr>
          <p:xfrm>
            <a:off x="1142640" y="1928880"/>
            <a:ext cx="360360" cy="320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3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2640" y="192888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34"/>
            <p:cNvGraphicFramePr/>
            <p:nvPr/>
          </p:nvGraphicFramePr>
          <p:xfrm>
            <a:off x="1142640" y="2386080"/>
            <a:ext cx="1212840" cy="542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5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2640" y="2386080"/>
                      <a:ext cx="12128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Object 35"/>
            <p:cNvGraphicFramePr/>
            <p:nvPr/>
          </p:nvGraphicFramePr>
          <p:xfrm>
            <a:off x="2000160" y="3029040"/>
            <a:ext cx="5473800" cy="54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7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00160" y="3029040"/>
                      <a:ext cx="54738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36"/>
            <p:cNvGraphicFramePr/>
            <p:nvPr/>
          </p:nvGraphicFramePr>
          <p:xfrm>
            <a:off x="1557000" y="3548160"/>
            <a:ext cx="2228760" cy="617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9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57000" y="3548160"/>
                      <a:ext cx="2228760" cy="61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500040" y="1214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1" name="组合 26"/>
          <p:cNvGrpSpPr/>
          <p:nvPr/>
        </p:nvGrpSpPr>
        <p:grpSpPr>
          <a:xfrm>
            <a:off x="1611000" y="1357200"/>
            <a:ext cx="6601320" cy="1536840"/>
            <a:chOff x="1611000" y="1357200"/>
            <a:chExt cx="6601320" cy="1536840"/>
          </a:xfrm>
        </p:grpSpPr>
        <p:grpSp>
          <p:nvGrpSpPr>
            <p:cNvPr id="332" name="组合 24"/>
            <p:cNvGrpSpPr/>
            <p:nvPr/>
          </p:nvGrpSpPr>
          <p:grpSpPr>
            <a:xfrm>
              <a:off x="1611000" y="1357200"/>
              <a:ext cx="6601320" cy="1536840"/>
              <a:chOff x="1611000" y="1357200"/>
              <a:chExt cx="6601320" cy="1536840"/>
            </a:xfrm>
          </p:grpSpPr>
          <p:grpSp>
            <p:nvGrpSpPr>
              <p:cNvPr id="333" name="组合 23"/>
              <p:cNvGrpSpPr/>
              <p:nvPr/>
            </p:nvGrpSpPr>
            <p:grpSpPr>
              <a:xfrm>
                <a:off x="1611000" y="1357200"/>
                <a:ext cx="6601320" cy="1518840"/>
                <a:chOff x="1611000" y="1357200"/>
                <a:chExt cx="6601320" cy="1518840"/>
              </a:xfrm>
            </p:grpSpPr>
            <p:grpSp>
              <p:nvGrpSpPr>
                <p:cNvPr id="334" name="组合 18"/>
                <p:cNvGrpSpPr/>
                <p:nvPr/>
              </p:nvGrpSpPr>
              <p:grpSpPr>
                <a:xfrm>
                  <a:off x="2200320" y="1357200"/>
                  <a:ext cx="5155920" cy="584280"/>
                  <a:chOff x="2200320" y="1357200"/>
                  <a:chExt cx="5155920" cy="584280"/>
                </a:xfrm>
              </p:grpSpPr>
              <p:sp>
                <p:nvSpPr>
                  <p:cNvPr id="335" name="Rectangle 15"/>
                  <p:cNvSpPr/>
                  <p:nvPr/>
                </p:nvSpPr>
                <p:spPr>
                  <a:xfrm>
                    <a:off x="2531880" y="1357200"/>
                    <a:ext cx="4824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令                   ，则    在    上有定义且为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36" name="Object 2"/>
                  <p:cNvGraphicFramePr/>
                  <p:nvPr/>
                </p:nvGraphicFramePr>
                <p:xfrm>
                  <a:off x="2200320" y="1428480"/>
                  <a:ext cx="1897200" cy="5130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37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200320" y="1428480"/>
                            <a:ext cx="1897200" cy="513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338" name="组合 16"/>
                <p:cNvGrpSpPr/>
                <p:nvPr/>
              </p:nvGrpSpPr>
              <p:grpSpPr>
                <a:xfrm>
                  <a:off x="1611000" y="1928880"/>
                  <a:ext cx="6601320" cy="947160"/>
                  <a:chOff x="1611000" y="1928880"/>
                  <a:chExt cx="6601320" cy="947160"/>
                </a:xfrm>
              </p:grpSpPr>
              <p:sp>
                <p:nvSpPr>
                  <p:cNvPr id="339" name="Rectangle 15"/>
                  <p:cNvSpPr/>
                  <p:nvPr/>
                </p:nvSpPr>
                <p:spPr>
                  <a:xfrm>
                    <a:off x="1611000" y="1928880"/>
                    <a:ext cx="66013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线性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              有界，由共鸣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定理，存在                                           于是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0" name="Object 5"/>
                  <p:cNvGraphicFramePr/>
                  <p:nvPr/>
                </p:nvGraphicFramePr>
                <p:xfrm>
                  <a:off x="5121720" y="1962000"/>
                  <a:ext cx="807840" cy="4669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41" name="Object 5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5121720" y="1962000"/>
                            <a:ext cx="807840" cy="466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342" name="Object 6"/>
                  <p:cNvGraphicFramePr/>
                  <p:nvPr/>
                </p:nvGraphicFramePr>
                <p:xfrm>
                  <a:off x="4000680" y="2000160"/>
                  <a:ext cx="1090440" cy="35712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343" name="Object 6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4000680" y="2000160"/>
                            <a:ext cx="1090440" cy="3571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grpSp>
            <p:nvGrpSpPr>
              <p:cNvPr id="344" name="组合 17"/>
              <p:cNvGrpSpPr/>
              <p:nvPr/>
            </p:nvGrpSpPr>
            <p:grpSpPr>
              <a:xfrm>
                <a:off x="3068640" y="1428480"/>
                <a:ext cx="3727800" cy="1465560"/>
                <a:chOff x="3068640" y="1428480"/>
                <a:chExt cx="3727800" cy="1465560"/>
              </a:xfrm>
            </p:grpSpPr>
            <p:graphicFrame>
              <p:nvGraphicFramePr>
                <p:cNvPr id="345" name="Object 8"/>
                <p:cNvGraphicFramePr/>
                <p:nvPr/>
              </p:nvGraphicFramePr>
              <p:xfrm>
                <a:off x="3068640" y="2428920"/>
                <a:ext cx="3727800" cy="46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46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68640" y="2428920"/>
                          <a:ext cx="3727800" cy="46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47" name="Object 9"/>
                <p:cNvGraphicFramePr/>
                <p:nvPr/>
              </p:nvGraphicFramePr>
              <p:xfrm>
                <a:off x="5447160" y="1428480"/>
                <a:ext cx="511200" cy="357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8" name="Object 9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5447160" y="1428480"/>
                          <a:ext cx="51120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349" name="Object 26"/>
            <p:cNvGraphicFramePr/>
            <p:nvPr/>
          </p:nvGraphicFramePr>
          <p:xfrm>
            <a:off x="4858200" y="1428480"/>
            <a:ext cx="401760" cy="35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8200" y="1428480"/>
                      <a:ext cx="40176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1" name="Object 27"/>
          <p:cNvGraphicFramePr/>
          <p:nvPr/>
        </p:nvGraphicFramePr>
        <p:xfrm>
          <a:off x="2571840" y="3071880"/>
          <a:ext cx="3666960" cy="11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1840" y="3071880"/>
                    <a:ext cx="36669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5"/>
          <p:cNvSpPr/>
          <p:nvPr/>
        </p:nvSpPr>
        <p:spPr>
          <a:xfrm>
            <a:off x="2069640" y="3286080"/>
            <a:ext cx="49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共鸣定理在经典分析和多种学科里有着广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的应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于这些学科中一些复杂的问题，应用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鸣定理可以简便地得到解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4" name="组合 14"/>
          <p:cNvGrpSpPr/>
          <p:nvPr/>
        </p:nvGrpSpPr>
        <p:grpSpPr>
          <a:xfrm>
            <a:off x="1431000" y="571680"/>
            <a:ext cx="5444640" cy="1330200"/>
            <a:chOff x="1431000" y="571680"/>
            <a:chExt cx="5444640" cy="1330200"/>
          </a:xfrm>
        </p:grpSpPr>
        <p:grpSp>
          <p:nvGrpSpPr>
            <p:cNvPr id="355" name="组合 4"/>
            <p:cNvGrpSpPr/>
            <p:nvPr/>
          </p:nvGrpSpPr>
          <p:grpSpPr>
            <a:xfrm>
              <a:off x="1431000" y="571680"/>
              <a:ext cx="5444640" cy="1330200"/>
              <a:chOff x="1431000" y="571680"/>
              <a:chExt cx="5444640" cy="1330200"/>
            </a:xfrm>
          </p:grpSpPr>
          <p:sp>
            <p:nvSpPr>
              <p:cNvPr id="356" name="Rectangle 15"/>
              <p:cNvSpPr/>
              <p:nvPr/>
            </p:nvSpPr>
            <p:spPr>
              <a:xfrm>
                <a:off x="1431000" y="571680"/>
                <a:ext cx="27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，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7" name="Object 3"/>
              <p:cNvGraphicFramePr/>
              <p:nvPr/>
            </p:nvGraphicFramePr>
            <p:xfrm>
              <a:off x="2786040" y="1214640"/>
              <a:ext cx="4089600" cy="687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8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86040" y="1214640"/>
                        <a:ext cx="4089600" cy="68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9" name="Object 9"/>
            <p:cNvGraphicFramePr/>
            <p:nvPr/>
          </p:nvGraphicFramePr>
          <p:xfrm>
            <a:off x="1714320" y="714240"/>
            <a:ext cx="20001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4320" y="714240"/>
                      <a:ext cx="20001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1" name="组合 10"/>
          <p:cNvGrpSpPr/>
          <p:nvPr/>
        </p:nvGrpSpPr>
        <p:grpSpPr>
          <a:xfrm>
            <a:off x="1146240" y="1928880"/>
            <a:ext cx="6568920" cy="649080"/>
            <a:chOff x="1146240" y="1928880"/>
            <a:chExt cx="6568920" cy="649080"/>
          </a:xfrm>
        </p:grpSpPr>
        <p:graphicFrame>
          <p:nvGraphicFramePr>
            <p:cNvPr id="362" name="Object 2"/>
            <p:cNvGraphicFramePr/>
            <p:nvPr/>
          </p:nvGraphicFramePr>
          <p:xfrm>
            <a:off x="1841400" y="1995480"/>
            <a:ext cx="5873760" cy="582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3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41400" y="1995480"/>
                      <a:ext cx="587376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Rectangle 15"/>
            <p:cNvSpPr/>
            <p:nvPr/>
          </p:nvSpPr>
          <p:spPr>
            <a:xfrm>
              <a:off x="1146240" y="1928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5" name="组合 11"/>
          <p:cNvGrpSpPr/>
          <p:nvPr/>
        </p:nvGrpSpPr>
        <p:grpSpPr>
          <a:xfrm>
            <a:off x="1219320" y="2714760"/>
            <a:ext cx="3108240" cy="571320"/>
            <a:chOff x="1219320" y="2714760"/>
            <a:chExt cx="3108240" cy="571320"/>
          </a:xfrm>
        </p:grpSpPr>
        <p:graphicFrame>
          <p:nvGraphicFramePr>
            <p:cNvPr id="366" name="Object 10"/>
            <p:cNvGraphicFramePr/>
            <p:nvPr/>
          </p:nvGraphicFramePr>
          <p:xfrm>
            <a:off x="2214720" y="2751120"/>
            <a:ext cx="2112840" cy="53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7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14720" y="2751120"/>
                      <a:ext cx="211284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Rectangle 15"/>
            <p:cNvSpPr/>
            <p:nvPr/>
          </p:nvSpPr>
          <p:spPr>
            <a:xfrm>
              <a:off x="1219320" y="2714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31560" y="1352520"/>
            <a:ext cx="6601320" cy="933480"/>
            <a:chOff x="1231560" y="1352520"/>
            <a:chExt cx="6601320" cy="933480"/>
          </a:xfrm>
        </p:grpSpPr>
        <p:sp>
          <p:nvSpPr>
            <p:cNvPr id="371" name="Rectangle 15"/>
            <p:cNvSpPr/>
            <p:nvPr/>
          </p:nvSpPr>
          <p:spPr>
            <a:xfrm>
              <a:off x="1231560" y="1500120"/>
              <a:ext cx="660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每个                                     收敛，则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2" name="Object 4"/>
            <p:cNvGraphicFramePr/>
            <p:nvPr/>
          </p:nvGraphicFramePr>
          <p:xfrm>
            <a:off x="1714320" y="1352520"/>
            <a:ext cx="3687480" cy="93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320" y="1352520"/>
                      <a:ext cx="368748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4" name="Object 6"/>
          <p:cNvGraphicFramePr/>
          <p:nvPr/>
        </p:nvGraphicFramePr>
        <p:xfrm>
          <a:off x="2289240" y="2419200"/>
          <a:ext cx="390672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9240" y="2419200"/>
                    <a:ext cx="39067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组合 13"/>
          <p:cNvGrpSpPr/>
          <p:nvPr/>
        </p:nvGrpSpPr>
        <p:grpSpPr>
          <a:xfrm>
            <a:off x="2157840" y="714240"/>
            <a:ext cx="5027040" cy="520560"/>
            <a:chOff x="2157840" y="714240"/>
            <a:chExt cx="5027040" cy="520560"/>
          </a:xfrm>
        </p:grpSpPr>
        <p:grpSp>
          <p:nvGrpSpPr>
            <p:cNvPr id="377" name="组合 4"/>
            <p:cNvGrpSpPr/>
            <p:nvPr/>
          </p:nvGrpSpPr>
          <p:grpSpPr>
            <a:xfrm>
              <a:off x="2157840" y="714240"/>
              <a:ext cx="5027040" cy="520560"/>
              <a:chOff x="2157840" y="714240"/>
              <a:chExt cx="5027040" cy="520560"/>
            </a:xfrm>
          </p:grpSpPr>
          <p:sp>
            <p:nvSpPr>
              <p:cNvPr id="378" name="Rectangle 15"/>
              <p:cNvSpPr/>
              <p:nvPr/>
            </p:nvSpPr>
            <p:spPr>
              <a:xfrm>
                <a:off x="2157840" y="714240"/>
                <a:ext cx="502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考虑空间   ，若                 是某个标量序列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79" name="Object 2"/>
              <p:cNvGraphicFramePr/>
              <p:nvPr/>
            </p:nvGraphicFramePr>
            <p:xfrm>
              <a:off x="2589120" y="815760"/>
              <a:ext cx="438120" cy="386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0" name="Object 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89120" y="815760"/>
                        <a:ext cx="438120" cy="38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1" name="Object 13"/>
            <p:cNvGraphicFramePr/>
            <p:nvPr/>
          </p:nvGraphicFramePr>
          <p:xfrm>
            <a:off x="3643560" y="714240"/>
            <a:ext cx="1606320" cy="49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43560" y="714240"/>
                      <a:ext cx="1606320" cy="49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3" name="组合 18"/>
          <p:cNvGrpSpPr/>
          <p:nvPr/>
        </p:nvGrpSpPr>
        <p:grpSpPr>
          <a:xfrm>
            <a:off x="1285560" y="3587760"/>
            <a:ext cx="6208920" cy="790560"/>
            <a:chOff x="1285560" y="3587760"/>
            <a:chExt cx="6208920" cy="790560"/>
          </a:xfrm>
        </p:grpSpPr>
        <p:grpSp>
          <p:nvGrpSpPr>
            <p:cNvPr id="384" name="组合 14"/>
            <p:cNvGrpSpPr/>
            <p:nvPr/>
          </p:nvGrpSpPr>
          <p:grpSpPr>
            <a:xfrm>
              <a:off x="1673280" y="3587760"/>
              <a:ext cx="5821200" cy="790560"/>
              <a:chOff x="1673280" y="3587760"/>
              <a:chExt cx="5821200" cy="790560"/>
            </a:xfrm>
          </p:grpSpPr>
          <p:graphicFrame>
            <p:nvGraphicFramePr>
              <p:cNvPr id="385" name="Object 14"/>
              <p:cNvGraphicFramePr/>
              <p:nvPr/>
            </p:nvGraphicFramePr>
            <p:xfrm>
              <a:off x="5475240" y="3587760"/>
              <a:ext cx="2019240" cy="790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6" name="Object 14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75240" y="3587760"/>
                        <a:ext cx="2019240" cy="79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87" name="Rectangle 15"/>
              <p:cNvSpPr/>
              <p:nvPr/>
            </p:nvSpPr>
            <p:spPr>
              <a:xfrm>
                <a:off x="1673280" y="3643200"/>
                <a:ext cx="289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上的连续线性泛函，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aphicFrame>
          <p:nvGraphicFramePr>
            <p:cNvPr id="388" name="Object 15"/>
            <p:cNvGraphicFramePr/>
            <p:nvPr/>
          </p:nvGraphicFramePr>
          <p:xfrm>
            <a:off x="1285560" y="3714480"/>
            <a:ext cx="438120" cy="385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9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5560" y="3714480"/>
                      <a:ext cx="43812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1928880" y="636480"/>
            <a:ext cx="6434280" cy="1096200"/>
            <a:chOff x="1928880" y="636480"/>
            <a:chExt cx="6434280" cy="1096200"/>
          </a:xfrm>
        </p:grpSpPr>
        <p:grpSp>
          <p:nvGrpSpPr>
            <p:cNvPr id="392" name="组合 4"/>
            <p:cNvGrpSpPr/>
            <p:nvPr/>
          </p:nvGrpSpPr>
          <p:grpSpPr>
            <a:xfrm>
              <a:off x="1928880" y="785520"/>
              <a:ext cx="6434280" cy="947160"/>
              <a:chOff x="1928880" y="785520"/>
              <a:chExt cx="6434280" cy="947160"/>
            </a:xfrm>
          </p:grpSpPr>
          <p:sp>
            <p:nvSpPr>
              <p:cNvPr id="393" name="Rectangle 15"/>
              <p:cNvSpPr/>
              <p:nvPr/>
            </p:nvSpPr>
            <p:spPr>
              <a:xfrm>
                <a:off x="2554200" y="785520"/>
                <a:ext cx="5808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上定义                          ，则     是线性泛函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94" name="Object 2"/>
              <p:cNvGraphicFramePr/>
              <p:nvPr/>
            </p:nvGraphicFramePr>
            <p:xfrm>
              <a:off x="1928880" y="899280"/>
              <a:ext cx="438120" cy="38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28880" y="899280"/>
                        <a:ext cx="438120" cy="38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6" name="Object 13"/>
            <p:cNvGraphicFramePr/>
            <p:nvPr/>
          </p:nvGraphicFramePr>
          <p:xfrm>
            <a:off x="3214800" y="636480"/>
            <a:ext cx="2665440" cy="93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7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636480"/>
                      <a:ext cx="2665440" cy="93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8" name="Object 4"/>
          <p:cNvGraphicFramePr/>
          <p:nvPr/>
        </p:nvGraphicFramePr>
        <p:xfrm>
          <a:off x="6535800" y="801720"/>
          <a:ext cx="51120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5800" y="801720"/>
                    <a:ext cx="511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5"/>
          <p:cNvGraphicFramePr/>
          <p:nvPr/>
        </p:nvGraphicFramePr>
        <p:xfrm>
          <a:off x="1857240" y="1714680"/>
          <a:ext cx="639000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240" y="1714680"/>
                    <a:ext cx="63900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组合 4"/>
          <p:cNvGrpSpPr/>
          <p:nvPr/>
        </p:nvGrpSpPr>
        <p:grpSpPr>
          <a:xfrm>
            <a:off x="1176840" y="2500200"/>
            <a:ext cx="5882040" cy="933480"/>
            <a:chOff x="1176840" y="2500200"/>
            <a:chExt cx="5882040" cy="933480"/>
          </a:xfrm>
        </p:grpSpPr>
        <p:sp>
          <p:nvSpPr>
            <p:cNvPr id="403" name="Rectangle 15"/>
            <p:cNvSpPr/>
            <p:nvPr/>
          </p:nvSpPr>
          <p:spPr>
            <a:xfrm>
              <a:off x="1176840" y="2719080"/>
              <a:ext cx="58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4" name="Object 6"/>
            <p:cNvGraphicFramePr/>
            <p:nvPr/>
          </p:nvGraphicFramePr>
          <p:xfrm>
            <a:off x="1357200" y="2500200"/>
            <a:ext cx="2300040" cy="93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57200" y="2500200"/>
                      <a:ext cx="23000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6" name="Object 7"/>
          <p:cNvGraphicFramePr/>
          <p:nvPr/>
        </p:nvGraphicFramePr>
        <p:xfrm>
          <a:off x="3857760" y="2714760"/>
          <a:ext cx="511200" cy="4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7760" y="2714760"/>
                    <a:ext cx="511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组合 4"/>
          <p:cNvGrpSpPr/>
          <p:nvPr/>
        </p:nvGrpSpPr>
        <p:grpSpPr>
          <a:xfrm>
            <a:off x="1118520" y="3714840"/>
            <a:ext cx="7596720" cy="566640"/>
            <a:chOff x="1118520" y="3714840"/>
            <a:chExt cx="7596720" cy="566640"/>
          </a:xfrm>
        </p:grpSpPr>
        <p:sp>
          <p:nvSpPr>
            <p:cNvPr id="409" name="Rectangle 15"/>
            <p:cNvSpPr/>
            <p:nvPr/>
          </p:nvSpPr>
          <p:spPr>
            <a:xfrm>
              <a:off x="1118520" y="3714840"/>
              <a:ext cx="68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若取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0" name="Object 8"/>
            <p:cNvGraphicFramePr/>
            <p:nvPr/>
          </p:nvGraphicFramePr>
          <p:xfrm>
            <a:off x="2909880" y="3732120"/>
            <a:ext cx="5805360" cy="54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09880" y="3732120"/>
                      <a:ext cx="580536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3"/>
          <p:cNvGraphicFramePr/>
          <p:nvPr/>
        </p:nvGraphicFramePr>
        <p:xfrm>
          <a:off x="4929120" y="642960"/>
          <a:ext cx="405288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642960"/>
                    <a:ext cx="4052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组合 6"/>
          <p:cNvGrpSpPr/>
          <p:nvPr/>
        </p:nvGrpSpPr>
        <p:grpSpPr>
          <a:xfrm>
            <a:off x="1143000" y="824040"/>
            <a:ext cx="7848000" cy="1253880"/>
            <a:chOff x="1143000" y="824040"/>
            <a:chExt cx="7848000" cy="1253880"/>
          </a:xfrm>
        </p:grpSpPr>
        <p:grpSp>
          <p:nvGrpSpPr>
            <p:cNvPr id="415" name="组合 4"/>
            <p:cNvGrpSpPr/>
            <p:nvPr/>
          </p:nvGrpSpPr>
          <p:grpSpPr>
            <a:xfrm>
              <a:off x="1143000" y="824040"/>
              <a:ext cx="7848000" cy="980280"/>
              <a:chOff x="1143000" y="824040"/>
              <a:chExt cx="7848000" cy="980280"/>
            </a:xfrm>
          </p:grpSpPr>
          <p:sp>
            <p:nvSpPr>
              <p:cNvPr id="416" name="Rectangle 15"/>
              <p:cNvSpPr/>
              <p:nvPr/>
            </p:nvSpPr>
            <p:spPr>
              <a:xfrm>
                <a:off x="1170720" y="857160"/>
                <a:ext cx="7820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                   ，故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此可得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7" name="Object 2"/>
              <p:cNvGraphicFramePr/>
              <p:nvPr/>
            </p:nvGraphicFramePr>
            <p:xfrm>
              <a:off x="1143000" y="824040"/>
              <a:ext cx="3103560" cy="604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18" name="Object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824040"/>
                        <a:ext cx="3103560" cy="60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9" name="Object 4"/>
            <p:cNvGraphicFramePr/>
            <p:nvPr/>
          </p:nvGraphicFramePr>
          <p:xfrm>
            <a:off x="2357280" y="1143000"/>
            <a:ext cx="2226960" cy="93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57280" y="1143000"/>
                      <a:ext cx="222696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1" name="组合 13"/>
          <p:cNvGrpSpPr/>
          <p:nvPr/>
        </p:nvGrpSpPr>
        <p:grpSpPr>
          <a:xfrm>
            <a:off x="1337760" y="1994040"/>
            <a:ext cx="6973200" cy="1102680"/>
            <a:chOff x="1337760" y="1994040"/>
            <a:chExt cx="6973200" cy="1102680"/>
          </a:xfrm>
        </p:grpSpPr>
        <p:sp>
          <p:nvSpPr>
            <p:cNvPr id="422" name="Rectangle 15"/>
            <p:cNvSpPr/>
            <p:nvPr/>
          </p:nvSpPr>
          <p:spPr>
            <a:xfrm>
              <a:off x="1337760" y="2149560"/>
              <a:ext cx="697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每个                                                         ，由共鸣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，       有界，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3" name="Object 13"/>
            <p:cNvGraphicFramePr/>
            <p:nvPr/>
          </p:nvGraphicFramePr>
          <p:xfrm>
            <a:off x="1785960" y="1994040"/>
            <a:ext cx="5695920" cy="93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4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85960" y="1994040"/>
                      <a:ext cx="5695920" cy="9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5" name="Object 7"/>
          <p:cNvGraphicFramePr/>
          <p:nvPr/>
        </p:nvGraphicFramePr>
        <p:xfrm>
          <a:off x="1643040" y="2549520"/>
          <a:ext cx="80316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2549520"/>
                    <a:ext cx="8031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8"/>
          <p:cNvGraphicFramePr/>
          <p:nvPr/>
        </p:nvGraphicFramePr>
        <p:xfrm>
          <a:off x="2143080" y="3143160"/>
          <a:ext cx="5878440" cy="93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143160"/>
                    <a:ext cx="5878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组合 4"/>
          <p:cNvGrpSpPr/>
          <p:nvPr/>
        </p:nvGrpSpPr>
        <p:grpSpPr>
          <a:xfrm>
            <a:off x="644760" y="4071960"/>
            <a:ext cx="4671720" cy="520560"/>
            <a:chOff x="644760" y="4071960"/>
            <a:chExt cx="4671720" cy="520560"/>
          </a:xfrm>
        </p:grpSpPr>
        <p:sp>
          <p:nvSpPr>
            <p:cNvPr id="430" name="Rectangle 15"/>
            <p:cNvSpPr/>
            <p:nvPr/>
          </p:nvSpPr>
          <p:spPr>
            <a:xfrm>
              <a:off x="644760" y="4071960"/>
              <a:ext cx="46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1" name="Object 9"/>
            <p:cNvGraphicFramePr/>
            <p:nvPr/>
          </p:nvGraphicFramePr>
          <p:xfrm>
            <a:off x="1000080" y="4071960"/>
            <a:ext cx="1095480" cy="440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2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00080" y="4071960"/>
                      <a:ext cx="1095480" cy="44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4"/>
          <p:cNvGrpSpPr/>
          <p:nvPr/>
        </p:nvGrpSpPr>
        <p:grpSpPr>
          <a:xfrm>
            <a:off x="1377720" y="785880"/>
            <a:ext cx="7297920" cy="525240"/>
            <a:chOff x="1377720" y="785880"/>
            <a:chExt cx="7297920" cy="525240"/>
          </a:xfrm>
        </p:grpSpPr>
        <p:sp>
          <p:nvSpPr>
            <p:cNvPr id="434" name="Rectangle 15"/>
            <p:cNvSpPr/>
            <p:nvPr/>
          </p:nvSpPr>
          <p:spPr>
            <a:xfrm>
              <a:off x="1377720" y="790560"/>
              <a:ext cx="729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Banach-Steinhaus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，存在               ，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5" name="Object 2"/>
            <p:cNvGraphicFramePr/>
            <p:nvPr/>
          </p:nvGraphicFramePr>
          <p:xfrm>
            <a:off x="6429600" y="785880"/>
            <a:ext cx="1350720" cy="49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0" y="785880"/>
                      <a:ext cx="1350720" cy="49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37" name="Object 3"/>
          <p:cNvGraphicFramePr/>
          <p:nvPr/>
        </p:nvGraphicFramePr>
        <p:xfrm>
          <a:off x="2319480" y="1495440"/>
          <a:ext cx="503856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9480" y="1495440"/>
                    <a:ext cx="503856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组合 9"/>
          <p:cNvGrpSpPr/>
          <p:nvPr/>
        </p:nvGrpSpPr>
        <p:grpSpPr>
          <a:xfrm>
            <a:off x="1457640" y="2494080"/>
            <a:ext cx="7472520" cy="1568520"/>
            <a:chOff x="1457640" y="2494080"/>
            <a:chExt cx="7472520" cy="1568520"/>
          </a:xfrm>
        </p:grpSpPr>
        <p:grpSp>
          <p:nvGrpSpPr>
            <p:cNvPr id="440" name="组合 4"/>
            <p:cNvGrpSpPr/>
            <p:nvPr/>
          </p:nvGrpSpPr>
          <p:grpSpPr>
            <a:xfrm>
              <a:off x="1457640" y="2495520"/>
              <a:ext cx="7063200" cy="1567080"/>
              <a:chOff x="1457640" y="2495520"/>
              <a:chExt cx="7063200" cy="156708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1457640" y="2688840"/>
                <a:ext cx="706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实际上又有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等号成立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2" name="Object 4"/>
              <p:cNvGraphicFramePr/>
              <p:nvPr/>
            </p:nvGraphicFramePr>
            <p:xfrm>
              <a:off x="1660320" y="2495520"/>
              <a:ext cx="2264040" cy="933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4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60320" y="2495520"/>
                        <a:ext cx="2264040" cy="93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4" name="Object 5"/>
            <p:cNvGraphicFramePr/>
            <p:nvPr/>
          </p:nvGraphicFramePr>
          <p:xfrm>
            <a:off x="6009120" y="2494080"/>
            <a:ext cx="2921040" cy="93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5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9120" y="2494080"/>
                      <a:ext cx="2921040" cy="93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85840" y="6429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21"/>
          <p:cNvGrpSpPr/>
          <p:nvPr/>
        </p:nvGrpSpPr>
        <p:grpSpPr>
          <a:xfrm>
            <a:off x="1845360" y="642960"/>
            <a:ext cx="5577120" cy="947160"/>
            <a:chOff x="1845360" y="642960"/>
            <a:chExt cx="5577120" cy="947160"/>
          </a:xfrm>
        </p:grpSpPr>
        <p:grpSp>
          <p:nvGrpSpPr>
            <p:cNvPr id="87" name="组合 51"/>
            <p:cNvGrpSpPr/>
            <p:nvPr/>
          </p:nvGrpSpPr>
          <p:grpSpPr>
            <a:xfrm>
              <a:off x="1845360" y="642960"/>
              <a:ext cx="5577120" cy="947160"/>
              <a:chOff x="1845360" y="642960"/>
              <a:chExt cx="5577120" cy="947160"/>
            </a:xfrm>
          </p:grpSpPr>
          <p:sp>
            <p:nvSpPr>
              <p:cNvPr id="88" name="Rectangle 15"/>
              <p:cNvSpPr/>
              <p:nvPr/>
            </p:nvSpPr>
            <p:spPr>
              <a:xfrm>
                <a:off x="1845360" y="642960"/>
                <a:ext cx="5577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距离空间，         ，如果    的内部是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集，则称    是无处稠密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9" name="Object 50"/>
              <p:cNvGraphicFramePr/>
              <p:nvPr/>
            </p:nvGraphicFramePr>
            <p:xfrm>
              <a:off x="2000160" y="750600"/>
              <a:ext cx="458640" cy="320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0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160" y="75060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1" name="Object 16"/>
            <p:cNvGraphicFramePr/>
            <p:nvPr/>
          </p:nvGraphicFramePr>
          <p:xfrm>
            <a:off x="4354560" y="726840"/>
            <a:ext cx="114588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54560" y="726840"/>
                      <a:ext cx="11458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17"/>
            <p:cNvGraphicFramePr/>
            <p:nvPr/>
          </p:nvGraphicFramePr>
          <p:xfrm>
            <a:off x="6500880" y="714240"/>
            <a:ext cx="36036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00880" y="714240"/>
                      <a:ext cx="360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18"/>
            <p:cNvGraphicFramePr/>
            <p:nvPr/>
          </p:nvGraphicFramePr>
          <p:xfrm>
            <a:off x="2643120" y="1143000"/>
            <a:ext cx="360360" cy="344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43120" y="114300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" name="组合 22"/>
          <p:cNvGrpSpPr/>
          <p:nvPr/>
        </p:nvGrpSpPr>
        <p:grpSpPr>
          <a:xfrm>
            <a:off x="969840" y="1643040"/>
            <a:ext cx="6677640" cy="947160"/>
            <a:chOff x="969840" y="1643040"/>
            <a:chExt cx="6677640" cy="947160"/>
          </a:xfrm>
        </p:grpSpPr>
        <p:grpSp>
          <p:nvGrpSpPr>
            <p:cNvPr id="98" name="组合 51"/>
            <p:cNvGrpSpPr/>
            <p:nvPr/>
          </p:nvGrpSpPr>
          <p:grpSpPr>
            <a:xfrm>
              <a:off x="969840" y="1643040"/>
              <a:ext cx="6328440" cy="947160"/>
              <a:chOff x="969840" y="1643040"/>
              <a:chExt cx="6328440" cy="947160"/>
            </a:xfrm>
          </p:grpSpPr>
          <p:sp>
            <p:nvSpPr>
              <p:cNvPr id="99" name="Rectangle 15"/>
              <p:cNvSpPr/>
              <p:nvPr/>
            </p:nvSpPr>
            <p:spPr>
              <a:xfrm>
                <a:off x="2196360" y="1643040"/>
                <a:ext cx="5101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容易证明，如果    是无处稠密的，则  不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中任何球内稠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00" name="Object 19"/>
              <p:cNvGraphicFramePr/>
              <p:nvPr/>
            </p:nvGraphicFramePr>
            <p:xfrm>
              <a:off x="969840" y="2143080"/>
              <a:ext cx="458640" cy="320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1" name="Object 1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969840" y="214308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02" name="Object 20"/>
            <p:cNvGraphicFramePr/>
            <p:nvPr/>
          </p:nvGraphicFramePr>
          <p:xfrm>
            <a:off x="7287120" y="1726920"/>
            <a:ext cx="360360" cy="344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87120" y="172692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22"/>
            <p:cNvGraphicFramePr/>
            <p:nvPr/>
          </p:nvGraphicFramePr>
          <p:xfrm>
            <a:off x="4214880" y="1714320"/>
            <a:ext cx="360360" cy="344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4880" y="1714320"/>
                      <a:ext cx="36036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" name="Text Box 3"/>
          <p:cNvSpPr/>
          <p:nvPr/>
        </p:nvSpPr>
        <p:spPr>
          <a:xfrm>
            <a:off x="357120" y="2857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7" name="组合 38"/>
          <p:cNvGrpSpPr/>
          <p:nvPr/>
        </p:nvGrpSpPr>
        <p:grpSpPr>
          <a:xfrm>
            <a:off x="1623960" y="2786040"/>
            <a:ext cx="6816960" cy="1922400"/>
            <a:chOff x="1623960" y="2786040"/>
            <a:chExt cx="6816960" cy="1922400"/>
          </a:xfrm>
        </p:grpSpPr>
        <p:grpSp>
          <p:nvGrpSpPr>
            <p:cNvPr id="108" name="组合 30"/>
            <p:cNvGrpSpPr/>
            <p:nvPr/>
          </p:nvGrpSpPr>
          <p:grpSpPr>
            <a:xfrm>
              <a:off x="1623960" y="2786040"/>
              <a:ext cx="6816960" cy="1922400"/>
              <a:chOff x="1623960" y="2786040"/>
              <a:chExt cx="6816960" cy="1922400"/>
            </a:xfrm>
          </p:grpSpPr>
          <p:grpSp>
            <p:nvGrpSpPr>
              <p:cNvPr id="109" name="组合 51"/>
              <p:cNvGrpSpPr/>
              <p:nvPr/>
            </p:nvGrpSpPr>
            <p:grpSpPr>
              <a:xfrm>
                <a:off x="2065320" y="2908080"/>
                <a:ext cx="5429520" cy="1800360"/>
                <a:chOff x="2065320" y="2908080"/>
                <a:chExt cx="5429520" cy="1800360"/>
              </a:xfrm>
            </p:grpSpPr>
            <p:sp>
              <p:nvSpPr>
                <p:cNvPr id="110" name="Rectangle 15"/>
                <p:cNvSpPr/>
                <p:nvPr/>
              </p:nvSpPr>
              <p:spPr>
                <a:xfrm>
                  <a:off x="2065320" y="2908080"/>
                  <a:ext cx="542952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是距离空间，若                ，而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都是   中是无处稠密的，则称点集   为第一纲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非第一纲点集称为第二纲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1" name="Object 23"/>
                <p:cNvGraphicFramePr/>
                <p:nvPr/>
              </p:nvGraphicFramePr>
              <p:xfrm>
                <a:off x="2143080" y="3015720"/>
                <a:ext cx="458640" cy="320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12" name="Object 23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2143080" y="3015720"/>
                          <a:ext cx="458640" cy="32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13" name="Object 24"/>
              <p:cNvGraphicFramePr/>
              <p:nvPr/>
            </p:nvGraphicFramePr>
            <p:xfrm>
              <a:off x="5019840" y="2786040"/>
              <a:ext cx="1604880" cy="8366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4" name="Object 2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019840" y="2786040"/>
                        <a:ext cx="160488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5" name="Object 25"/>
              <p:cNvGraphicFramePr/>
              <p:nvPr/>
            </p:nvGraphicFramePr>
            <p:xfrm>
              <a:off x="7982280" y="2979720"/>
              <a:ext cx="458640" cy="4428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16" name="Object 2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982280" y="2979720"/>
                        <a:ext cx="4586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" name="Object 26"/>
              <p:cNvGraphicFramePr/>
              <p:nvPr/>
            </p:nvGraphicFramePr>
            <p:xfrm>
              <a:off x="1623960" y="3836880"/>
              <a:ext cx="458640" cy="320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8" name="Object 2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623960" y="3836880"/>
                        <a:ext cx="4586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9" name="Object 27"/>
            <p:cNvGraphicFramePr/>
            <p:nvPr/>
          </p:nvGraphicFramePr>
          <p:xfrm>
            <a:off x="6267600" y="3836880"/>
            <a:ext cx="393480" cy="320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0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267600" y="3836880"/>
                      <a:ext cx="39348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85840" y="64296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(Baire 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纲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2" name="组合 4"/>
          <p:cNvGrpSpPr/>
          <p:nvPr/>
        </p:nvGrpSpPr>
        <p:grpSpPr>
          <a:xfrm>
            <a:off x="2776680" y="1214280"/>
            <a:ext cx="3510720" cy="520560"/>
            <a:chOff x="2776680" y="1214280"/>
            <a:chExt cx="3510720" cy="520560"/>
          </a:xfrm>
        </p:grpSpPr>
        <p:sp>
          <p:nvSpPr>
            <p:cNvPr id="123" name="Rectangle 15"/>
            <p:cNvSpPr/>
            <p:nvPr/>
          </p:nvSpPr>
          <p:spPr>
            <a:xfrm>
              <a:off x="2776680" y="1214280"/>
              <a:ext cx="351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完备的距离空间    必是第二纲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4" name="Object 50"/>
            <p:cNvGraphicFramePr/>
            <p:nvPr/>
          </p:nvGraphicFramePr>
          <p:xfrm>
            <a:off x="4429080" y="1285560"/>
            <a:ext cx="458640" cy="32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Object 5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9080" y="1285560"/>
                      <a:ext cx="458640" cy="32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Text Box 3"/>
          <p:cNvSpPr/>
          <p:nvPr/>
        </p:nvSpPr>
        <p:spPr>
          <a:xfrm>
            <a:off x="357120" y="1928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7" name="组合 15"/>
          <p:cNvGrpSpPr/>
          <p:nvPr/>
        </p:nvGrpSpPr>
        <p:grpSpPr>
          <a:xfrm>
            <a:off x="357120" y="1857240"/>
            <a:ext cx="7428960" cy="2565360"/>
            <a:chOff x="357120" y="1857240"/>
            <a:chExt cx="7428960" cy="2565360"/>
          </a:xfrm>
        </p:grpSpPr>
        <p:grpSp>
          <p:nvGrpSpPr>
            <p:cNvPr id="128" name="组合 13"/>
            <p:cNvGrpSpPr/>
            <p:nvPr/>
          </p:nvGrpSpPr>
          <p:grpSpPr>
            <a:xfrm>
              <a:off x="357120" y="1857240"/>
              <a:ext cx="7428960" cy="2565360"/>
              <a:chOff x="357120" y="1857240"/>
              <a:chExt cx="7428960" cy="2565360"/>
            </a:xfrm>
          </p:grpSpPr>
          <p:grpSp>
            <p:nvGrpSpPr>
              <p:cNvPr id="129" name="组合 6"/>
              <p:cNvGrpSpPr/>
              <p:nvPr/>
            </p:nvGrpSpPr>
            <p:grpSpPr>
              <a:xfrm>
                <a:off x="1216800" y="1999800"/>
                <a:ext cx="6569280" cy="1800360"/>
                <a:chOff x="1216800" y="1999800"/>
                <a:chExt cx="6569280" cy="1800360"/>
              </a:xfrm>
            </p:grpSpPr>
            <p:sp>
              <p:nvSpPr>
                <p:cNvPr id="130" name="Rectangle 15"/>
                <p:cNvSpPr/>
                <p:nvPr/>
              </p:nvSpPr>
              <p:spPr>
                <a:xfrm>
                  <a:off x="1216800" y="1999800"/>
                  <a:ext cx="656928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证法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否则，              ，每个    都是无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稠密的，因为    无处稠密，必有             从而有小球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使得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31" name="Object 3"/>
                <p:cNvGraphicFramePr/>
                <p:nvPr/>
              </p:nvGraphicFramePr>
              <p:xfrm>
                <a:off x="5326560" y="2856960"/>
                <a:ext cx="1212840" cy="493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32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326560" y="2856960"/>
                          <a:ext cx="121284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33" name="Object 4"/>
              <p:cNvGraphicFramePr/>
              <p:nvPr/>
            </p:nvGraphicFramePr>
            <p:xfrm>
              <a:off x="3985200" y="1857240"/>
              <a:ext cx="1638360" cy="836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4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985200" y="1857240"/>
                        <a:ext cx="1638360" cy="83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5" name="Object 5"/>
              <p:cNvGraphicFramePr/>
              <p:nvPr/>
            </p:nvGraphicFramePr>
            <p:xfrm>
              <a:off x="6757200" y="2071440"/>
              <a:ext cx="458640" cy="442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6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757200" y="2071440"/>
                        <a:ext cx="4586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7" name="Object 6"/>
              <p:cNvGraphicFramePr/>
              <p:nvPr/>
            </p:nvGraphicFramePr>
            <p:xfrm>
              <a:off x="357120" y="3357360"/>
              <a:ext cx="3443400" cy="493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38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7120" y="3357360"/>
                        <a:ext cx="344340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9" name="Object 7"/>
              <p:cNvGraphicFramePr/>
              <p:nvPr/>
            </p:nvGraphicFramePr>
            <p:xfrm>
              <a:off x="3786480" y="3929040"/>
              <a:ext cx="1901880" cy="4935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40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786480" y="3929040"/>
                        <a:ext cx="190188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1" name="Object 8"/>
            <p:cNvGraphicFramePr/>
            <p:nvPr/>
          </p:nvGraphicFramePr>
          <p:xfrm>
            <a:off x="2516400" y="2914560"/>
            <a:ext cx="425160" cy="44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16400" y="2914560"/>
                      <a:ext cx="4251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25"/>
          <p:cNvGrpSpPr/>
          <p:nvPr/>
        </p:nvGrpSpPr>
        <p:grpSpPr>
          <a:xfrm>
            <a:off x="976320" y="785880"/>
            <a:ext cx="6380280" cy="1350720"/>
            <a:chOff x="976320" y="785880"/>
            <a:chExt cx="6380280" cy="1350720"/>
          </a:xfrm>
        </p:grpSpPr>
        <p:grpSp>
          <p:nvGrpSpPr>
            <p:cNvPr id="144" name="组合 9"/>
            <p:cNvGrpSpPr/>
            <p:nvPr/>
          </p:nvGrpSpPr>
          <p:grpSpPr>
            <a:xfrm>
              <a:off x="1806480" y="785880"/>
              <a:ext cx="5550120" cy="1350720"/>
              <a:chOff x="1806480" y="785880"/>
              <a:chExt cx="5550120" cy="1350720"/>
            </a:xfrm>
          </p:grpSpPr>
          <p:grpSp>
            <p:nvGrpSpPr>
              <p:cNvPr id="145" name="组合 6"/>
              <p:cNvGrpSpPr/>
              <p:nvPr/>
            </p:nvGrpSpPr>
            <p:grpSpPr>
              <a:xfrm>
                <a:off x="1806480" y="785880"/>
                <a:ext cx="5546880" cy="947160"/>
                <a:chOff x="1806480" y="785880"/>
                <a:chExt cx="5546880" cy="947160"/>
              </a:xfrm>
            </p:grpSpPr>
            <p:sp>
              <p:nvSpPr>
                <p:cNvPr id="146" name="Rectangle 15"/>
                <p:cNvSpPr/>
                <p:nvPr/>
              </p:nvSpPr>
              <p:spPr>
                <a:xfrm>
                  <a:off x="1806480" y="785880"/>
                  <a:ext cx="55468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因为    无处稠密，必有             从而有以    为心小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球     ，使得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7" name="Object 7"/>
                <p:cNvGraphicFramePr/>
                <p:nvPr/>
              </p:nvGraphicFramePr>
              <p:xfrm>
                <a:off x="4205520" y="785880"/>
                <a:ext cx="1311120" cy="493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8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205520" y="785880"/>
                          <a:ext cx="131112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9" name="Object 10"/>
              <p:cNvGraphicFramePr/>
              <p:nvPr/>
            </p:nvGraphicFramePr>
            <p:xfrm>
              <a:off x="6929640" y="857160"/>
              <a:ext cx="426960" cy="442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0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29640" y="857160"/>
                        <a:ext cx="42696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Object 11"/>
              <p:cNvGraphicFramePr/>
              <p:nvPr/>
            </p:nvGraphicFramePr>
            <p:xfrm>
              <a:off x="3071880" y="1643040"/>
              <a:ext cx="3409920" cy="493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2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71880" y="1643040"/>
                        <a:ext cx="340992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3" name="Object 12"/>
            <p:cNvGraphicFramePr/>
            <p:nvPr/>
          </p:nvGraphicFramePr>
          <p:xfrm>
            <a:off x="1341360" y="842760"/>
            <a:ext cx="457200" cy="44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41360" y="842760"/>
                      <a:ext cx="4572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976320" y="1285920"/>
            <a:ext cx="523800" cy="44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76320" y="128592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组合 40"/>
          <p:cNvGrpSpPr/>
          <p:nvPr/>
        </p:nvGrpSpPr>
        <p:grpSpPr>
          <a:xfrm>
            <a:off x="1714680" y="2357280"/>
            <a:ext cx="5816520" cy="1654200"/>
            <a:chOff x="1714680" y="2357280"/>
            <a:chExt cx="5816520" cy="1654200"/>
          </a:xfrm>
        </p:grpSpPr>
        <p:grpSp>
          <p:nvGrpSpPr>
            <p:cNvPr id="158" name="组合 19"/>
            <p:cNvGrpSpPr/>
            <p:nvPr/>
          </p:nvGrpSpPr>
          <p:grpSpPr>
            <a:xfrm>
              <a:off x="1714680" y="2446200"/>
              <a:ext cx="5816520" cy="1565280"/>
              <a:chOff x="1714680" y="2446200"/>
              <a:chExt cx="5816520" cy="1565280"/>
            </a:xfrm>
          </p:grpSpPr>
          <p:grpSp>
            <p:nvGrpSpPr>
              <p:cNvPr id="159" name="组合 6"/>
              <p:cNvGrpSpPr/>
              <p:nvPr/>
            </p:nvGrpSpPr>
            <p:grpSpPr>
              <a:xfrm>
                <a:off x="1714680" y="2517480"/>
                <a:ext cx="5816520" cy="947160"/>
                <a:chOff x="1714680" y="2517480"/>
                <a:chExt cx="5816520" cy="94716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1911240" y="2517480"/>
                  <a:ext cx="56199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自然可设     的半径   小于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如此继续下去，对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自然数         ，应有以     为心的小球     ，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61" name="Object 26"/>
                <p:cNvGraphicFramePr/>
                <p:nvPr/>
              </p:nvGraphicFramePr>
              <p:xfrm>
                <a:off x="1714680" y="3017520"/>
                <a:ext cx="917640" cy="345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62" name="Object 26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714680" y="3017520"/>
                          <a:ext cx="91764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63" name="Object 27"/>
              <p:cNvGraphicFramePr/>
              <p:nvPr/>
            </p:nvGraphicFramePr>
            <p:xfrm>
              <a:off x="3605400" y="2446200"/>
              <a:ext cx="466560" cy="573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4" name="Object 27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605400" y="2446200"/>
                        <a:ext cx="466560" cy="573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Object 28"/>
              <p:cNvGraphicFramePr/>
              <p:nvPr/>
            </p:nvGraphicFramePr>
            <p:xfrm>
              <a:off x="2714760" y="3517920"/>
              <a:ext cx="3672000" cy="4935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66" name="Object 28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714760" y="3517920"/>
                        <a:ext cx="3672000" cy="49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7" name="Object 29"/>
            <p:cNvGraphicFramePr/>
            <p:nvPr/>
          </p:nvGraphicFramePr>
          <p:xfrm>
            <a:off x="2119320" y="2574720"/>
            <a:ext cx="523800" cy="442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8" name="Object 2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119320" y="257472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Object 30"/>
            <p:cNvGraphicFramePr/>
            <p:nvPr/>
          </p:nvGraphicFramePr>
          <p:xfrm>
            <a:off x="4551840" y="2357280"/>
            <a:ext cx="377640" cy="731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0" name="Object 30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51840" y="2357280"/>
                      <a:ext cx="377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Object 31"/>
            <p:cNvGraphicFramePr/>
            <p:nvPr/>
          </p:nvGraphicFramePr>
          <p:xfrm>
            <a:off x="4073760" y="3003480"/>
            <a:ext cx="426960" cy="442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2" name="Object 3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73760" y="3003480"/>
                      <a:ext cx="4269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Object 32"/>
            <p:cNvGraphicFramePr/>
            <p:nvPr/>
          </p:nvGraphicFramePr>
          <p:xfrm>
            <a:off x="6334560" y="3003480"/>
            <a:ext cx="523800" cy="442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4" name="Object 3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34560" y="300348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"/>
          <p:cNvGrpSpPr/>
          <p:nvPr/>
        </p:nvGrpSpPr>
        <p:grpSpPr>
          <a:xfrm>
            <a:off x="1119240" y="642960"/>
            <a:ext cx="7053480" cy="1353960"/>
            <a:chOff x="1119240" y="642960"/>
            <a:chExt cx="7053480" cy="1353960"/>
          </a:xfrm>
        </p:grpSpPr>
        <p:grpSp>
          <p:nvGrpSpPr>
            <p:cNvPr id="176" name="组合 19"/>
            <p:cNvGrpSpPr/>
            <p:nvPr/>
          </p:nvGrpSpPr>
          <p:grpSpPr>
            <a:xfrm>
              <a:off x="1426320" y="749520"/>
              <a:ext cx="6746400" cy="1247400"/>
              <a:chOff x="1426320" y="749520"/>
              <a:chExt cx="6746400" cy="1247400"/>
            </a:xfrm>
          </p:grpSpPr>
          <p:grpSp>
            <p:nvGrpSpPr>
              <p:cNvPr id="177" name="组合 6"/>
              <p:cNvGrpSpPr/>
              <p:nvPr/>
            </p:nvGrpSpPr>
            <p:grpSpPr>
              <a:xfrm>
                <a:off x="1426320" y="749520"/>
                <a:ext cx="6746400" cy="520560"/>
                <a:chOff x="1426320" y="749520"/>
                <a:chExt cx="6746400" cy="520560"/>
              </a:xfrm>
            </p:grpSpPr>
            <p:sp>
              <p:nvSpPr>
                <p:cNvPr id="178" name="Rectangle 15"/>
                <p:cNvSpPr/>
                <p:nvPr/>
              </p:nvSpPr>
              <p:spPr>
                <a:xfrm>
                  <a:off x="1426320" y="749520"/>
                  <a:ext cx="6581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且      的半径   小于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于是当                          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9" name="Object 2"/>
                <p:cNvGraphicFramePr/>
                <p:nvPr/>
              </p:nvGraphicFramePr>
              <p:xfrm>
                <a:off x="5715360" y="787320"/>
                <a:ext cx="2457360" cy="444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0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715360" y="787320"/>
                          <a:ext cx="245736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1" name="Object 3"/>
              <p:cNvGraphicFramePr/>
              <p:nvPr/>
            </p:nvGraphicFramePr>
            <p:xfrm>
              <a:off x="3214800" y="1231920"/>
              <a:ext cx="2687760" cy="765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14800" y="1231920"/>
                        <a:ext cx="2687760" cy="76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3" name="Object 4"/>
            <p:cNvGraphicFramePr/>
            <p:nvPr/>
          </p:nvGraphicFramePr>
          <p:xfrm>
            <a:off x="2795760" y="803160"/>
            <a:ext cx="36036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5760" y="803160"/>
                      <a:ext cx="36036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5"/>
            <p:cNvGraphicFramePr/>
            <p:nvPr/>
          </p:nvGraphicFramePr>
          <p:xfrm>
            <a:off x="3745080" y="642960"/>
            <a:ext cx="75564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45080" y="642960"/>
                      <a:ext cx="755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Object 6"/>
            <p:cNvGraphicFramePr/>
            <p:nvPr/>
          </p:nvGraphicFramePr>
          <p:xfrm>
            <a:off x="1119240" y="803160"/>
            <a:ext cx="523800" cy="44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19240" y="803160"/>
                      <a:ext cx="5238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组合 20"/>
          <p:cNvGrpSpPr/>
          <p:nvPr/>
        </p:nvGrpSpPr>
        <p:grpSpPr>
          <a:xfrm>
            <a:off x="714240" y="2071800"/>
            <a:ext cx="7857000" cy="1373760"/>
            <a:chOff x="714240" y="2071800"/>
            <a:chExt cx="7857000" cy="1373760"/>
          </a:xfrm>
        </p:grpSpPr>
        <p:sp>
          <p:nvSpPr>
            <p:cNvPr id="190" name="Rectangle 15"/>
            <p:cNvSpPr/>
            <p:nvPr/>
          </p:nvSpPr>
          <p:spPr>
            <a:xfrm>
              <a:off x="1487160" y="2071800"/>
              <a:ext cx="648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           是    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   的完备性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应有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              当          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1711440" y="2101680"/>
            <a:ext cx="1145880" cy="541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11440" y="2101680"/>
                      <a:ext cx="1145880" cy="54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14"/>
            <p:cNvGraphicFramePr/>
            <p:nvPr/>
          </p:nvGraphicFramePr>
          <p:xfrm>
            <a:off x="3176640" y="2203200"/>
            <a:ext cx="457200" cy="320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4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76640" y="220320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5"/>
            <p:cNvGraphicFramePr/>
            <p:nvPr/>
          </p:nvGraphicFramePr>
          <p:xfrm>
            <a:off x="6572520" y="2143080"/>
            <a:ext cx="457200" cy="32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72520" y="2143080"/>
                      <a:ext cx="45720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6"/>
            <p:cNvGraphicFramePr/>
            <p:nvPr/>
          </p:nvGraphicFramePr>
          <p:xfrm>
            <a:off x="1390680" y="2571480"/>
            <a:ext cx="1923840" cy="44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8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390680" y="2571480"/>
                      <a:ext cx="192384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7"/>
            <p:cNvGraphicFramePr/>
            <p:nvPr/>
          </p:nvGraphicFramePr>
          <p:xfrm>
            <a:off x="4000680" y="2571480"/>
            <a:ext cx="1434960" cy="44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0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000680" y="2571480"/>
                      <a:ext cx="143496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7"/>
            <p:cNvGraphicFramePr/>
            <p:nvPr/>
          </p:nvGraphicFramePr>
          <p:xfrm>
            <a:off x="5715360" y="2630160"/>
            <a:ext cx="1076040" cy="369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2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715360" y="2630160"/>
                      <a:ext cx="107604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8"/>
            <p:cNvGraphicFramePr/>
            <p:nvPr/>
          </p:nvGraphicFramePr>
          <p:xfrm>
            <a:off x="7430040" y="2500200"/>
            <a:ext cx="1141200" cy="493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430040" y="2500200"/>
                      <a:ext cx="1141200" cy="49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9"/>
            <p:cNvGraphicFramePr/>
            <p:nvPr/>
          </p:nvGraphicFramePr>
          <p:xfrm>
            <a:off x="714240" y="2999880"/>
            <a:ext cx="1207800" cy="444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6" name="Object 1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14240" y="2999880"/>
                      <a:ext cx="12078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20"/>
            <p:cNvGraphicFramePr/>
            <p:nvPr/>
          </p:nvGraphicFramePr>
          <p:xfrm>
            <a:off x="2357640" y="2985840"/>
            <a:ext cx="3098880" cy="442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8" name="Object 2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357640" y="2985840"/>
                      <a:ext cx="309888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9" name="组合 13"/>
          <p:cNvGrpSpPr/>
          <p:nvPr/>
        </p:nvGrpSpPr>
        <p:grpSpPr>
          <a:xfrm>
            <a:off x="1012680" y="3571920"/>
            <a:ext cx="3588120" cy="836640"/>
            <a:chOff x="1012680" y="3571920"/>
            <a:chExt cx="3588120" cy="836640"/>
          </a:xfrm>
        </p:grpSpPr>
        <p:sp>
          <p:nvSpPr>
            <p:cNvPr id="210" name="Rectangle 15"/>
            <p:cNvSpPr/>
            <p:nvPr/>
          </p:nvSpPr>
          <p:spPr>
            <a:xfrm>
              <a:off x="1012680" y="3714840"/>
              <a:ext cx="358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与                  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证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1" name="Object 22"/>
            <p:cNvGraphicFramePr/>
            <p:nvPr/>
          </p:nvGraphicFramePr>
          <p:xfrm>
            <a:off x="1500120" y="3571920"/>
            <a:ext cx="1638720" cy="836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2" name="Object 22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500120" y="3571920"/>
                      <a:ext cx="163872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85840" y="6429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共鸣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4" name="组合 10"/>
          <p:cNvGrpSpPr/>
          <p:nvPr/>
        </p:nvGrpSpPr>
        <p:grpSpPr>
          <a:xfrm>
            <a:off x="1409400" y="1357200"/>
            <a:ext cx="7734600" cy="2710080"/>
            <a:chOff x="1409400" y="1357200"/>
            <a:chExt cx="7734600" cy="2710080"/>
          </a:xfrm>
        </p:grpSpPr>
        <p:grpSp>
          <p:nvGrpSpPr>
            <p:cNvPr id="215" name="组合 51"/>
            <p:cNvGrpSpPr/>
            <p:nvPr/>
          </p:nvGrpSpPr>
          <p:grpSpPr>
            <a:xfrm>
              <a:off x="1869120" y="1357200"/>
              <a:ext cx="5626080" cy="2226960"/>
              <a:chOff x="1869120" y="1357200"/>
              <a:chExt cx="5626080" cy="2226960"/>
            </a:xfrm>
          </p:grpSpPr>
          <p:sp>
            <p:nvSpPr>
              <p:cNvPr id="216" name="Rectangle 15"/>
              <p:cNvSpPr/>
              <p:nvPr/>
            </p:nvSpPr>
            <p:spPr>
              <a:xfrm>
                <a:off x="1869120" y="1357200"/>
                <a:ext cx="562608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， 是线性赋范空间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         中的一族元素，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17" name="Object 50"/>
              <p:cNvGraphicFramePr/>
              <p:nvPr/>
            </p:nvGraphicFramePr>
            <p:xfrm>
              <a:off x="2184120" y="1428480"/>
              <a:ext cx="458640" cy="320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8" name="Object 5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84120" y="1428480"/>
                        <a:ext cx="458640" cy="32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Object 51"/>
              <p:cNvGraphicFramePr/>
              <p:nvPr/>
            </p:nvGraphicFramePr>
            <p:xfrm>
              <a:off x="2643120" y="2428920"/>
              <a:ext cx="4132440" cy="63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0" name="Object 5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643120" y="2428920"/>
                        <a:ext cx="4132440" cy="63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21" name="Object 5"/>
            <p:cNvGraphicFramePr/>
            <p:nvPr/>
          </p:nvGraphicFramePr>
          <p:xfrm>
            <a:off x="5072040" y="1464840"/>
            <a:ext cx="360360" cy="32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72040" y="1464840"/>
                      <a:ext cx="36036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6"/>
            <p:cNvGraphicFramePr/>
            <p:nvPr/>
          </p:nvGraphicFramePr>
          <p:xfrm>
            <a:off x="7963200" y="1357200"/>
            <a:ext cx="1180800" cy="493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4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63200" y="1357200"/>
                      <a:ext cx="11808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7"/>
            <p:cNvGraphicFramePr/>
            <p:nvPr/>
          </p:nvGraphicFramePr>
          <p:xfrm>
            <a:off x="1409400" y="1892160"/>
            <a:ext cx="1376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6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09400" y="1892160"/>
                      <a:ext cx="1376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8"/>
            <p:cNvGraphicFramePr/>
            <p:nvPr/>
          </p:nvGraphicFramePr>
          <p:xfrm>
            <a:off x="3357360" y="3429000"/>
            <a:ext cx="1725480" cy="63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8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57360" y="3429000"/>
                      <a:ext cx="172548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85840" y="64296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0" name="组合 12"/>
          <p:cNvGrpSpPr/>
          <p:nvPr/>
        </p:nvGrpSpPr>
        <p:grpSpPr>
          <a:xfrm>
            <a:off x="1362240" y="714240"/>
            <a:ext cx="6159240" cy="1694160"/>
            <a:chOff x="1362240" y="714240"/>
            <a:chExt cx="6159240" cy="1694160"/>
          </a:xfrm>
        </p:grpSpPr>
        <p:grpSp>
          <p:nvGrpSpPr>
            <p:cNvPr id="231" name="组合 51"/>
            <p:cNvGrpSpPr/>
            <p:nvPr/>
          </p:nvGrpSpPr>
          <p:grpSpPr>
            <a:xfrm>
              <a:off x="1362240" y="714240"/>
              <a:ext cx="6159240" cy="1516680"/>
              <a:chOff x="1362240" y="714240"/>
              <a:chExt cx="6159240" cy="1516680"/>
            </a:xfrm>
          </p:grpSpPr>
          <p:sp>
            <p:nvSpPr>
              <p:cNvPr id="232" name="Rectangle 15"/>
              <p:cNvSpPr/>
              <p:nvPr/>
            </p:nvSpPr>
            <p:spPr>
              <a:xfrm>
                <a:off x="1362240" y="857160"/>
                <a:ext cx="37450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1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式可知，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33" name="Object 51"/>
              <p:cNvGraphicFramePr/>
              <p:nvPr/>
            </p:nvGraphicFramePr>
            <p:xfrm>
              <a:off x="2286000" y="714240"/>
              <a:ext cx="5235480" cy="817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4" name="Object 5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714240"/>
                        <a:ext cx="5235480" cy="81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5" name="Object 8"/>
            <p:cNvGraphicFramePr/>
            <p:nvPr/>
          </p:nvGraphicFramePr>
          <p:xfrm>
            <a:off x="3571920" y="1571760"/>
            <a:ext cx="1638360" cy="83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71920" y="1571760"/>
                      <a:ext cx="163836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组合 23"/>
          <p:cNvGrpSpPr/>
          <p:nvPr/>
        </p:nvGrpSpPr>
        <p:grpSpPr>
          <a:xfrm>
            <a:off x="1071360" y="2571840"/>
            <a:ext cx="7093080" cy="1828800"/>
            <a:chOff x="1071360" y="2571840"/>
            <a:chExt cx="7093080" cy="1828800"/>
          </a:xfrm>
        </p:grpSpPr>
        <p:grpSp>
          <p:nvGrpSpPr>
            <p:cNvPr id="238" name="组合 13"/>
            <p:cNvGrpSpPr/>
            <p:nvPr/>
          </p:nvGrpSpPr>
          <p:grpSpPr>
            <a:xfrm>
              <a:off x="1071360" y="2571840"/>
              <a:ext cx="5906880" cy="1800360"/>
              <a:chOff x="1071360" y="2571840"/>
              <a:chExt cx="5906880" cy="1800360"/>
            </a:xfrm>
          </p:grpSpPr>
          <p:grpSp>
            <p:nvGrpSpPr>
              <p:cNvPr id="239" name="组合 51"/>
              <p:cNvGrpSpPr/>
              <p:nvPr/>
            </p:nvGrpSpPr>
            <p:grpSpPr>
              <a:xfrm>
                <a:off x="2025720" y="2571840"/>
                <a:ext cx="4952520" cy="1800360"/>
                <a:chOff x="2025720" y="2571840"/>
                <a:chExt cx="4952520" cy="1800360"/>
              </a:xfrm>
            </p:grpSpPr>
            <p:sp>
              <p:nvSpPr>
                <p:cNvPr id="240" name="Rectangle 15"/>
                <p:cNvSpPr/>
                <p:nvPr/>
              </p:nvSpPr>
              <p:spPr>
                <a:xfrm>
                  <a:off x="2025720" y="2571840"/>
                  <a:ext cx="495252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于每个   都连续，故每个    都是闭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根据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，   是第二纲的，所以必定有某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是无处稠密的，即    内部不是空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而存在小球        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使得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41" name="Object 9"/>
                <p:cNvGraphicFramePr/>
                <p:nvPr/>
              </p:nvGraphicFramePr>
              <p:xfrm>
                <a:off x="3071880" y="2643120"/>
                <a:ext cx="368280" cy="4586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42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071880" y="2643120"/>
                          <a:ext cx="368280" cy="458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3" name="Object 10"/>
              <p:cNvGraphicFramePr/>
              <p:nvPr/>
            </p:nvGraphicFramePr>
            <p:xfrm>
              <a:off x="1071360" y="3486240"/>
              <a:ext cx="525240" cy="442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44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071360" y="3486240"/>
                        <a:ext cx="525240" cy="44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5" name="Object 11"/>
            <p:cNvGraphicFramePr/>
            <p:nvPr/>
          </p:nvGraphicFramePr>
          <p:xfrm>
            <a:off x="5843520" y="2643120"/>
            <a:ext cx="396720" cy="45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43520" y="2643120"/>
                      <a:ext cx="3967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Object 12"/>
            <p:cNvGraphicFramePr/>
            <p:nvPr/>
          </p:nvGraphicFramePr>
          <p:xfrm>
            <a:off x="2975040" y="3105000"/>
            <a:ext cx="396720" cy="331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8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5040" y="3105000"/>
                      <a:ext cx="39672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Object 13"/>
            <p:cNvGraphicFramePr/>
            <p:nvPr/>
          </p:nvGraphicFramePr>
          <p:xfrm>
            <a:off x="4643640" y="3500640"/>
            <a:ext cx="525240" cy="44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0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43640" y="3500640"/>
                      <a:ext cx="5252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Object 6"/>
            <p:cNvGraphicFramePr/>
            <p:nvPr/>
          </p:nvGraphicFramePr>
          <p:xfrm>
            <a:off x="2786040" y="3857760"/>
            <a:ext cx="3279600" cy="542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2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6040" y="3857760"/>
                      <a:ext cx="32796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5"/>
            <p:cNvGraphicFramePr/>
            <p:nvPr/>
          </p:nvGraphicFramePr>
          <p:xfrm>
            <a:off x="6786720" y="3929400"/>
            <a:ext cx="1377720" cy="44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4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86720" y="3929400"/>
                      <a:ext cx="13777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9"/>
          <p:cNvGrpSpPr/>
          <p:nvPr/>
        </p:nvGrpSpPr>
        <p:grpSpPr>
          <a:xfrm>
            <a:off x="1016640" y="714240"/>
            <a:ext cx="7593840" cy="1635120"/>
            <a:chOff x="1016640" y="714240"/>
            <a:chExt cx="7593840" cy="1635120"/>
          </a:xfrm>
        </p:grpSpPr>
        <p:grpSp>
          <p:nvGrpSpPr>
            <p:cNvPr id="256" name="组合 1"/>
            <p:cNvGrpSpPr/>
            <p:nvPr/>
          </p:nvGrpSpPr>
          <p:grpSpPr>
            <a:xfrm>
              <a:off x="1016640" y="714240"/>
              <a:ext cx="6374880" cy="1635120"/>
              <a:chOff x="1016640" y="714240"/>
              <a:chExt cx="6374880" cy="1635120"/>
            </a:xfrm>
          </p:grpSpPr>
          <p:grpSp>
            <p:nvGrpSpPr>
              <p:cNvPr id="257" name="组合 51"/>
              <p:cNvGrpSpPr/>
              <p:nvPr/>
            </p:nvGrpSpPr>
            <p:grpSpPr>
              <a:xfrm>
                <a:off x="1016640" y="714240"/>
                <a:ext cx="5302800" cy="1373760"/>
                <a:chOff x="1016640" y="714240"/>
                <a:chExt cx="5302800" cy="1373760"/>
              </a:xfrm>
            </p:grpSpPr>
            <p:sp>
              <p:nvSpPr>
                <p:cNvPr id="258" name="Rectangle 15"/>
                <p:cNvSpPr/>
                <p:nvPr/>
              </p:nvSpPr>
              <p:spPr>
                <a:xfrm>
                  <a:off x="1016640" y="714240"/>
                  <a:ext cx="53028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则               于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对任何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9" name="Object 51"/>
                <p:cNvGraphicFramePr/>
                <p:nvPr/>
              </p:nvGraphicFramePr>
              <p:xfrm>
                <a:off x="1857600" y="774360"/>
                <a:ext cx="1981080" cy="511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0" name="Object 51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57600" y="774360"/>
                          <a:ext cx="1981080" cy="51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61" name="Object 3"/>
              <p:cNvGraphicFramePr/>
              <p:nvPr/>
            </p:nvGraphicFramePr>
            <p:xfrm>
              <a:off x="2214720" y="1857240"/>
              <a:ext cx="5176800" cy="492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6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14720" y="1857240"/>
                        <a:ext cx="5176800" cy="492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3" name="Object 4"/>
            <p:cNvGraphicFramePr/>
            <p:nvPr/>
          </p:nvGraphicFramePr>
          <p:xfrm>
            <a:off x="4214880" y="785520"/>
            <a:ext cx="1528560" cy="46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14880" y="785520"/>
                      <a:ext cx="15285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5"/>
            <p:cNvGraphicFramePr/>
            <p:nvPr/>
          </p:nvGraphicFramePr>
          <p:xfrm>
            <a:off x="6516720" y="785520"/>
            <a:ext cx="2093760" cy="46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16720" y="785520"/>
                      <a:ext cx="20937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6"/>
            <p:cNvGraphicFramePr/>
            <p:nvPr/>
          </p:nvGraphicFramePr>
          <p:xfrm>
            <a:off x="2428920" y="1233360"/>
            <a:ext cx="906120" cy="409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28920" y="1233360"/>
                      <a:ext cx="9061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组合 10"/>
          <p:cNvGrpSpPr/>
          <p:nvPr/>
        </p:nvGrpSpPr>
        <p:grpSpPr>
          <a:xfrm>
            <a:off x="987480" y="2357280"/>
            <a:ext cx="5740200" cy="2024280"/>
            <a:chOff x="987480" y="2357280"/>
            <a:chExt cx="5740200" cy="2024280"/>
          </a:xfrm>
        </p:grpSpPr>
        <p:grpSp>
          <p:nvGrpSpPr>
            <p:cNvPr id="270" name="组合 1"/>
            <p:cNvGrpSpPr/>
            <p:nvPr/>
          </p:nvGrpSpPr>
          <p:grpSpPr>
            <a:xfrm>
              <a:off x="987480" y="2499840"/>
              <a:ext cx="5740200" cy="1881720"/>
              <a:chOff x="987480" y="2499840"/>
              <a:chExt cx="5740200" cy="1881720"/>
            </a:xfrm>
          </p:grpSpPr>
          <p:grpSp>
            <p:nvGrpSpPr>
              <p:cNvPr id="271" name="组合 51"/>
              <p:cNvGrpSpPr/>
              <p:nvPr/>
            </p:nvGrpSpPr>
            <p:grpSpPr>
              <a:xfrm>
                <a:off x="987480" y="2499840"/>
                <a:ext cx="5740200" cy="520920"/>
                <a:chOff x="987480" y="2499840"/>
                <a:chExt cx="5740200" cy="520920"/>
              </a:xfrm>
            </p:grpSpPr>
            <p:sp>
              <p:nvSpPr>
                <p:cNvPr id="272" name="Rectangle 15"/>
                <p:cNvSpPr/>
                <p:nvPr/>
              </p:nvSpPr>
              <p:spPr>
                <a:xfrm>
                  <a:off x="987480" y="2499840"/>
                  <a:ext cx="574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 则                      故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73" name="Object 7"/>
                <p:cNvGraphicFramePr/>
                <p:nvPr/>
              </p:nvGraphicFramePr>
              <p:xfrm>
                <a:off x="2027160" y="2611080"/>
                <a:ext cx="1782360" cy="40968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74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027160" y="2611080"/>
                          <a:ext cx="1782360" cy="409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8"/>
              <p:cNvGraphicFramePr/>
              <p:nvPr/>
            </p:nvGraphicFramePr>
            <p:xfrm>
              <a:off x="3416040" y="3396960"/>
              <a:ext cx="2916000" cy="9846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6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16040" y="3396960"/>
                        <a:ext cx="2916000" cy="98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7" name="Object 9"/>
            <p:cNvGraphicFramePr/>
            <p:nvPr/>
          </p:nvGraphicFramePr>
          <p:xfrm>
            <a:off x="4571640" y="2357280"/>
            <a:ext cx="1753920" cy="102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1640" y="2357280"/>
                      <a:ext cx="1753920" cy="10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5"/>
          <p:cNvSpPr/>
          <p:nvPr/>
        </p:nvSpPr>
        <p:spPr>
          <a:xfrm>
            <a:off x="1145880" y="714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3000240" y="642960"/>
          <a:ext cx="24242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642960"/>
                    <a:ext cx="2424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2" name="组合 6"/>
          <p:cNvGrpSpPr/>
          <p:nvPr/>
        </p:nvGrpSpPr>
        <p:grpSpPr>
          <a:xfrm>
            <a:off x="1500120" y="1428840"/>
            <a:ext cx="4428720" cy="520560"/>
            <a:chOff x="1500120" y="1428840"/>
            <a:chExt cx="4428720" cy="520560"/>
          </a:xfrm>
        </p:grpSpPr>
        <p:sp>
          <p:nvSpPr>
            <p:cNvPr id="283" name="Rectangle 15"/>
            <p:cNvSpPr/>
            <p:nvPr/>
          </p:nvSpPr>
          <p:spPr>
            <a:xfrm>
              <a:off x="1961280" y="1428840"/>
              <a:ext cx="39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，上式不等式显然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4" name="Object 3"/>
            <p:cNvGraphicFramePr/>
            <p:nvPr/>
          </p:nvGraphicFramePr>
          <p:xfrm>
            <a:off x="1500120" y="1513080"/>
            <a:ext cx="917280" cy="34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00120" y="1513080"/>
                      <a:ext cx="917280" cy="3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6" name="Object 4"/>
          <p:cNvGraphicFramePr/>
          <p:nvPr/>
        </p:nvGraphicFramePr>
        <p:xfrm>
          <a:off x="2786040" y="2000160"/>
          <a:ext cx="37353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2000160"/>
                    <a:ext cx="3735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组合 7"/>
          <p:cNvGrpSpPr/>
          <p:nvPr/>
        </p:nvGrpSpPr>
        <p:grpSpPr>
          <a:xfrm>
            <a:off x="1617120" y="2714760"/>
            <a:ext cx="2817360" cy="520560"/>
            <a:chOff x="1617120" y="2714760"/>
            <a:chExt cx="2817360" cy="520560"/>
          </a:xfrm>
        </p:grpSpPr>
        <p:sp>
          <p:nvSpPr>
            <p:cNvPr id="289" name="Rectangle 15"/>
            <p:cNvSpPr/>
            <p:nvPr/>
          </p:nvSpPr>
          <p:spPr>
            <a:xfrm>
              <a:off x="1617120" y="2714760"/>
              <a:ext cx="281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，对任何          都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0" name="Object 5"/>
            <p:cNvGraphicFramePr/>
            <p:nvPr/>
          </p:nvGraphicFramePr>
          <p:xfrm>
            <a:off x="3194280" y="2799000"/>
            <a:ext cx="949320" cy="344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94280" y="2799000"/>
                      <a:ext cx="949320" cy="3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2" name="Object 6"/>
          <p:cNvGraphicFramePr/>
          <p:nvPr/>
        </p:nvGraphicFramePr>
        <p:xfrm>
          <a:off x="3643200" y="3286080"/>
          <a:ext cx="17686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3200" y="3286080"/>
                    <a:ext cx="1768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15"/>
          <p:cNvSpPr/>
          <p:nvPr/>
        </p:nvSpPr>
        <p:spPr>
          <a:xfrm>
            <a:off x="1248120" y="414324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证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09Z</dcterms:modified>
  <cp:revision>491</cp:revision>
  <dc:subject/>
  <dc:title>幻灯片 1</dc:title>
</cp:coreProperties>
</file>