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28.wmf" ContentType="image/x-wmf"/>
  <Override PartName="/ppt/media/image93.wmf" ContentType="image/x-wmf"/>
  <Override PartName="/ppt/media/image3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70.wmf" ContentType="image/x-wmf"/>
  <Override PartName="/ppt/media/image69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106.wmf" ContentType="image/x-wmf"/>
  <Override PartName="/ppt/media/image62.wmf" ContentType="image/x-wmf"/>
  <Override PartName="/ppt/media/image105.wmf" ContentType="image/x-wmf"/>
  <Override PartName="/ppt/media/image98.wmf" ContentType="image/x-wmf"/>
  <Override PartName="/ppt/media/image61.wmf" ContentType="image/x-wmf"/>
  <Override PartName="/ppt/media/image104.wmf" ContentType="image/x-wmf"/>
  <Override PartName="/ppt/media/image97.wmf" ContentType="image/x-wmf"/>
  <Override PartName="/ppt/media/image60.wmf" ContentType="image/x-wmf"/>
  <Override PartName="/ppt/media/image99.wmf" ContentType="image/x-wmf"/>
  <Override PartName="/ppt/media/image2.jpeg" ContentType="image/jpeg"/>
  <Override PartName="/ppt/media/image103.wmf" ContentType="image/x-wmf"/>
  <Override PartName="/ppt/media/image96.wmf" ContentType="image/x-wmf"/>
  <Override PartName="/ppt/media/image102.wmf" ContentType="image/x-wmf"/>
  <Override PartName="/ppt/media/image95.wmf" ContentType="image/x-wmf"/>
  <Override PartName="/ppt/media/image88.wmf" ContentType="image/x-wmf"/>
  <Override PartName="/ppt/media/image79.wmf" ContentType="image/x-wmf"/>
  <Override PartName="/ppt/media/image101.wmf" ContentType="image/x-wmf"/>
  <Override PartName="/ppt/media/image87.wmf" ContentType="image/x-wmf"/>
  <Override PartName="/ppt/media/image50.wmf" ContentType="image/x-wmf"/>
  <Override PartName="/ppt/media/image6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14.wmf" ContentType="image/x-wmf"/>
  <Override PartName="/ppt/media/image1.jpeg" ContentType="image/jpeg"/>
  <Override PartName="/ppt/media/image89.wmf" ContentType="image/x-wmf"/>
  <Override PartName="/ppt/media/image92.wmf" ContentType="image/x-wmf"/>
  <Override PartName="/ppt/media/image27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media/image90.wmf" ContentType="image/x-wmf"/>
  <Override PartName="/ppt/media/image25.wmf" ContentType="image/x-wmf"/>
  <Override PartName="/ppt/media/image91.wmf" ContentType="image/x-wmf"/>
  <Override PartName="/ppt/media/image26.wmf" ContentType="image/x-wmf"/>
  <Override PartName="/ppt/media/image15.wmf" ContentType="image/x-wmf"/>
  <Override PartName="/ppt/media/image80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052E-159F-4BFD-A6AC-A4CD16237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9157-5E02-43BE-B440-7CDC5348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7257-B870-4748-B766-6009B0532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EDD6-5BD4-49BC-9553-A0539864E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4493A-E0E8-4788-9595-450F82B1A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3D6A-49B2-4757-9954-A4502FD3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2749-E1F0-4EA9-B321-E9EBDB3B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EF1F-1655-4EE7-9334-DB4E6C35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09BE-A780-4C6F-B924-48D7A7A5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0D1E-3346-4709-976D-D4CA75B8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ED9C-D2C9-4C67-935E-D57301E1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87AC-98EF-4AD5-BE90-8D006E45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F920-969B-47E0-A06F-E90D79FE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E1B9-CC6E-4173-B9A5-239EA1A7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D30C-741E-41B9-8E48-664458A3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931C-97BC-4D52-8891-61E76CEBB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4D088-DD76-4E77-8B0F-648C883B5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0326-450F-4050-BDC9-AD464F8F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155F-ED59-4711-AE01-7BED69D0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28A7-6B5B-4830-B9B2-CD6D0E95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595D-4683-4A3A-B01E-127387B8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9243-C1E3-4AD1-B676-D5426D88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CEC5-7477-4747-B585-870D281D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A50D-F18A-46C6-8617-F4E8C7BD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E01F-EC1B-4C65-8F67-4AA431DB7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6328-22C8-40BA-ABC1-E0091FF49E8A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6.wmf"/><Relationship Id="rId2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5.wmf"/><Relationship Id="rId2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2.wmf"/><Relationship Id="rId1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5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9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97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98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92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99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00.wmf"/><Relationship Id="rId3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7.wmf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1.wmf"/><Relationship Id="rId2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.wmf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9.wmf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1.wmf"/><Relationship Id="rId2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1.wmf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1476360" y="519120"/>
            <a:ext cx="612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《</a:t>
            </a:r>
            <a:r>
              <a:rPr b="1" lang="zh-CN" sz="6600" spc="-1" strike="noStrike">
                <a:solidFill>
                  <a:srgbClr val="007a77"/>
                </a:solidFill>
                <a:latin typeface="华文新魏"/>
                <a:ea typeface="华文新魏"/>
              </a:rPr>
              <a:t>泛函分析</a:t>
            </a:r>
            <a:r>
              <a:rPr b="1" lang="en-US" sz="66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》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0" y="1768320"/>
            <a:ext cx="93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第八讲  延拓定理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0" y="3214800"/>
            <a:ext cx="935820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高福根   博士  硕士研究生导师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河南师范大学数学与信息科学学院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3"/>
          <p:cNvSpPr/>
          <p:nvPr/>
        </p:nvSpPr>
        <p:spPr>
          <a:xfrm>
            <a:off x="357120" y="64296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推论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94" name="组合 3"/>
          <p:cNvGrpSpPr/>
          <p:nvPr/>
        </p:nvGrpSpPr>
        <p:grpSpPr>
          <a:xfrm>
            <a:off x="1214280" y="714240"/>
            <a:ext cx="6858000" cy="1000440"/>
            <a:chOff x="1214280" y="714240"/>
            <a:chExt cx="6858000" cy="1000440"/>
          </a:xfrm>
        </p:grpSpPr>
        <p:grpSp>
          <p:nvGrpSpPr>
            <p:cNvPr id="295" name="组合 14"/>
            <p:cNvGrpSpPr/>
            <p:nvPr/>
          </p:nvGrpSpPr>
          <p:grpSpPr>
            <a:xfrm>
              <a:off x="1214280" y="714240"/>
              <a:ext cx="6858000" cy="947160"/>
              <a:chOff x="1214280" y="714240"/>
              <a:chExt cx="6858000" cy="947160"/>
            </a:xfrm>
          </p:grpSpPr>
          <p:grpSp>
            <p:nvGrpSpPr>
              <p:cNvPr id="296" name="组合 48"/>
              <p:cNvGrpSpPr/>
              <p:nvPr/>
            </p:nvGrpSpPr>
            <p:grpSpPr>
              <a:xfrm>
                <a:off x="1214280" y="714240"/>
                <a:ext cx="6858000" cy="947160"/>
                <a:chOff x="1214280" y="714240"/>
                <a:chExt cx="6858000" cy="947160"/>
              </a:xfrm>
            </p:grpSpPr>
            <p:sp>
              <p:nvSpPr>
                <p:cNvPr id="297" name="Rectangle 15"/>
                <p:cNvSpPr/>
                <p:nvPr/>
              </p:nvSpPr>
              <p:spPr>
                <a:xfrm>
                  <a:off x="1214280" y="714240"/>
                  <a:ext cx="685800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设    为线性赋范空间，                      ，则存在         使得   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298" name="Object 2"/>
                <p:cNvGraphicFramePr/>
                <p:nvPr/>
              </p:nvGraphicFramePr>
              <p:xfrm>
                <a:off x="2214360" y="785520"/>
                <a:ext cx="396720" cy="34776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299" name="Object 2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2214360" y="785520"/>
                          <a:ext cx="396720" cy="347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300" name="Object 5"/>
              <p:cNvGraphicFramePr/>
              <p:nvPr/>
            </p:nvGraphicFramePr>
            <p:xfrm>
              <a:off x="5381640" y="785520"/>
              <a:ext cx="2262240" cy="4669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01" name="Object 5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381640" y="785520"/>
                        <a:ext cx="2262240" cy="466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02" name="Object 9"/>
            <p:cNvGraphicFramePr/>
            <p:nvPr/>
          </p:nvGraphicFramePr>
          <p:xfrm>
            <a:off x="4000320" y="1193760"/>
            <a:ext cx="3284640" cy="520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3" name="Object 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000320" y="1193760"/>
                      <a:ext cx="3284640" cy="52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4" name="Object 11"/>
            <p:cNvGraphicFramePr/>
            <p:nvPr/>
          </p:nvGraphicFramePr>
          <p:xfrm>
            <a:off x="2285640" y="1189080"/>
            <a:ext cx="1047600" cy="479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05" name="Object 11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285640" y="1189080"/>
                      <a:ext cx="1047600" cy="47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06" name="Text Box 3"/>
          <p:cNvSpPr/>
          <p:nvPr/>
        </p:nvSpPr>
        <p:spPr>
          <a:xfrm>
            <a:off x="500040" y="178596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07" name="组合 27"/>
          <p:cNvGrpSpPr/>
          <p:nvPr/>
        </p:nvGrpSpPr>
        <p:grpSpPr>
          <a:xfrm>
            <a:off x="1143000" y="1857240"/>
            <a:ext cx="7072200" cy="1373760"/>
            <a:chOff x="1143000" y="1857240"/>
            <a:chExt cx="7072200" cy="1373760"/>
          </a:xfrm>
        </p:grpSpPr>
        <p:grpSp>
          <p:nvGrpSpPr>
            <p:cNvPr id="308" name="组合 18"/>
            <p:cNvGrpSpPr/>
            <p:nvPr/>
          </p:nvGrpSpPr>
          <p:grpSpPr>
            <a:xfrm>
              <a:off x="1143000" y="1857240"/>
              <a:ext cx="7072200" cy="1373760"/>
              <a:chOff x="1143000" y="1857240"/>
              <a:chExt cx="7072200" cy="1373760"/>
            </a:xfrm>
          </p:grpSpPr>
          <p:grpSp>
            <p:nvGrpSpPr>
              <p:cNvPr id="309" name="组合 14"/>
              <p:cNvGrpSpPr/>
              <p:nvPr/>
            </p:nvGrpSpPr>
            <p:grpSpPr>
              <a:xfrm>
                <a:off x="1143000" y="1857240"/>
                <a:ext cx="7072200" cy="1373760"/>
                <a:chOff x="1143000" y="1857240"/>
                <a:chExt cx="7072200" cy="1373760"/>
              </a:xfrm>
            </p:grpSpPr>
            <p:sp>
              <p:nvSpPr>
                <p:cNvPr id="310" name="Rectangle 15"/>
                <p:cNvSpPr/>
                <p:nvPr/>
              </p:nvSpPr>
              <p:spPr>
                <a:xfrm>
                  <a:off x="1143000" y="1857240"/>
                  <a:ext cx="7072200" cy="137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考虑子空间                              和     上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的线性泛函                                在    上连续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                             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311" name="Object 13"/>
                <p:cNvGraphicFramePr/>
                <p:nvPr/>
              </p:nvGraphicFramePr>
              <p:xfrm>
                <a:off x="3786120" y="1902960"/>
                <a:ext cx="2917800" cy="51912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312" name="Object 13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3786120" y="1902960"/>
                          <a:ext cx="2917800" cy="5191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313" name="Object 14"/>
              <p:cNvGraphicFramePr/>
              <p:nvPr/>
            </p:nvGraphicFramePr>
            <p:xfrm>
              <a:off x="3000240" y="2286000"/>
              <a:ext cx="3151080" cy="52092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314" name="Object 14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3000240" y="2286000"/>
                        <a:ext cx="3151080" cy="520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15" name="Object 15"/>
              <p:cNvGraphicFramePr/>
              <p:nvPr/>
            </p:nvGraphicFramePr>
            <p:xfrm>
              <a:off x="7143840" y="1928520"/>
              <a:ext cx="452160" cy="34776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316" name="Object 15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7143840" y="1928520"/>
                        <a:ext cx="452160" cy="347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17" name="Object 16"/>
            <p:cNvGraphicFramePr/>
            <p:nvPr/>
          </p:nvGraphicFramePr>
          <p:xfrm>
            <a:off x="6500880" y="2357280"/>
            <a:ext cx="452160" cy="3477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18" name="Object 16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500880" y="2357280"/>
                      <a:ext cx="452160" cy="3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19" name="组合 33"/>
          <p:cNvGrpSpPr/>
          <p:nvPr/>
        </p:nvGrpSpPr>
        <p:grpSpPr>
          <a:xfrm>
            <a:off x="1184400" y="2786040"/>
            <a:ext cx="7009920" cy="1806480"/>
            <a:chOff x="1184400" y="2786040"/>
            <a:chExt cx="7009920" cy="1806480"/>
          </a:xfrm>
        </p:grpSpPr>
        <p:sp>
          <p:nvSpPr>
            <p:cNvPr id="320" name="Rectangle 15"/>
            <p:cNvSpPr/>
            <p:nvPr/>
          </p:nvSpPr>
          <p:spPr>
            <a:xfrm>
              <a:off x="1184400" y="2786040"/>
              <a:ext cx="7009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实际上，                                           于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是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跟确切地，取                ，则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21" name="Object 17"/>
            <p:cNvGraphicFramePr/>
            <p:nvPr/>
          </p:nvGraphicFramePr>
          <p:xfrm>
            <a:off x="3305160" y="2786040"/>
            <a:ext cx="4267800" cy="5205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322" name="Object 17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305160" y="2786040"/>
                      <a:ext cx="4267800" cy="52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3" name="Object 18"/>
            <p:cNvGraphicFramePr/>
            <p:nvPr/>
          </p:nvGraphicFramePr>
          <p:xfrm>
            <a:off x="1714320" y="3214440"/>
            <a:ext cx="1214640" cy="5205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324" name="Object 18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1714320" y="3214440"/>
                      <a:ext cx="1214640" cy="52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5" name="Object 19"/>
            <p:cNvGraphicFramePr/>
            <p:nvPr/>
          </p:nvGraphicFramePr>
          <p:xfrm>
            <a:off x="5172480" y="3089160"/>
            <a:ext cx="1542960" cy="9111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326" name="Object 19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5172480" y="3089160"/>
                      <a:ext cx="1542960" cy="91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7" name="Object 20"/>
            <p:cNvGraphicFramePr/>
            <p:nvPr/>
          </p:nvGraphicFramePr>
          <p:xfrm>
            <a:off x="1714320" y="4071960"/>
            <a:ext cx="6238080" cy="5205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328" name="Object 20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1714320" y="4071960"/>
                      <a:ext cx="6238080" cy="52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组合 10"/>
          <p:cNvGrpSpPr/>
          <p:nvPr/>
        </p:nvGrpSpPr>
        <p:grpSpPr>
          <a:xfrm>
            <a:off x="733680" y="714240"/>
            <a:ext cx="7834320" cy="1428840"/>
            <a:chOff x="733680" y="714240"/>
            <a:chExt cx="7834320" cy="1428840"/>
          </a:xfrm>
        </p:grpSpPr>
        <p:grpSp>
          <p:nvGrpSpPr>
            <p:cNvPr id="330" name="组合 1"/>
            <p:cNvGrpSpPr/>
            <p:nvPr/>
          </p:nvGrpSpPr>
          <p:grpSpPr>
            <a:xfrm>
              <a:off x="733680" y="714240"/>
              <a:ext cx="7834320" cy="1373760"/>
              <a:chOff x="733680" y="714240"/>
              <a:chExt cx="7834320" cy="1373760"/>
            </a:xfrm>
          </p:grpSpPr>
          <p:sp>
            <p:nvSpPr>
              <p:cNvPr id="331" name="Rectangle 15"/>
              <p:cNvSpPr/>
              <p:nvPr/>
            </p:nvSpPr>
            <p:spPr>
              <a:xfrm>
                <a:off x="733680" y="714240"/>
                <a:ext cx="783432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所以      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又显然              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由定理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3,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存在                                    当          时，         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特别地，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332" name="Object 2"/>
              <p:cNvGraphicFramePr/>
              <p:nvPr/>
            </p:nvGraphicFramePr>
            <p:xfrm>
              <a:off x="4786200" y="714240"/>
              <a:ext cx="2066760" cy="5209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33" name="Object 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786200" y="714240"/>
                        <a:ext cx="2066760" cy="520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34" name="Object 9"/>
              <p:cNvGraphicFramePr/>
              <p:nvPr/>
            </p:nvGraphicFramePr>
            <p:xfrm>
              <a:off x="2357280" y="714240"/>
              <a:ext cx="1214280" cy="5209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35" name="Object 9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357280" y="714240"/>
                        <a:ext cx="1214280" cy="520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36" name="Object 4"/>
              <p:cNvGraphicFramePr/>
              <p:nvPr/>
            </p:nvGraphicFramePr>
            <p:xfrm>
              <a:off x="5500440" y="1214280"/>
              <a:ext cx="1116000" cy="3650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337" name="Object 4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500440" y="1214280"/>
                        <a:ext cx="1116000" cy="365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38" name="Object 5"/>
              <p:cNvGraphicFramePr/>
              <p:nvPr/>
            </p:nvGraphicFramePr>
            <p:xfrm>
              <a:off x="1643040" y="1193760"/>
              <a:ext cx="3512880" cy="5209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39" name="Object 5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643040" y="1193760"/>
                        <a:ext cx="3512880" cy="520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40" name="Object 6"/>
            <p:cNvGraphicFramePr/>
            <p:nvPr/>
          </p:nvGraphicFramePr>
          <p:xfrm>
            <a:off x="7072200" y="1214280"/>
            <a:ext cx="1180800" cy="4158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41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072200" y="1214280"/>
                      <a:ext cx="1180800" cy="41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2" name="Object 7"/>
            <p:cNvGraphicFramePr/>
            <p:nvPr/>
          </p:nvGraphicFramePr>
          <p:xfrm>
            <a:off x="1000080" y="1643040"/>
            <a:ext cx="1017360" cy="4665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43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000080" y="1643040"/>
                      <a:ext cx="1017360" cy="46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4" name="Object 8"/>
            <p:cNvGraphicFramePr/>
            <p:nvPr/>
          </p:nvGraphicFramePr>
          <p:xfrm>
            <a:off x="3357360" y="1622520"/>
            <a:ext cx="3482640" cy="5205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45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357360" y="1622520"/>
                      <a:ext cx="3482640" cy="52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46" name="Text Box 3"/>
          <p:cNvSpPr/>
          <p:nvPr/>
        </p:nvSpPr>
        <p:spPr>
          <a:xfrm>
            <a:off x="285840" y="242892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推论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47" name="组合 12"/>
          <p:cNvGrpSpPr/>
          <p:nvPr/>
        </p:nvGrpSpPr>
        <p:grpSpPr>
          <a:xfrm>
            <a:off x="1143000" y="2500200"/>
            <a:ext cx="7215120" cy="947160"/>
            <a:chOff x="1143000" y="2500200"/>
            <a:chExt cx="7215120" cy="947160"/>
          </a:xfrm>
        </p:grpSpPr>
        <p:grpSp>
          <p:nvGrpSpPr>
            <p:cNvPr id="348" name="组合 14"/>
            <p:cNvGrpSpPr/>
            <p:nvPr/>
          </p:nvGrpSpPr>
          <p:grpSpPr>
            <a:xfrm>
              <a:off x="1143000" y="2500200"/>
              <a:ext cx="7215120" cy="947160"/>
              <a:chOff x="1143000" y="2500200"/>
              <a:chExt cx="7215120" cy="947160"/>
            </a:xfrm>
          </p:grpSpPr>
          <p:grpSp>
            <p:nvGrpSpPr>
              <p:cNvPr id="349" name="组合 48"/>
              <p:cNvGrpSpPr/>
              <p:nvPr/>
            </p:nvGrpSpPr>
            <p:grpSpPr>
              <a:xfrm>
                <a:off x="1143000" y="2500200"/>
                <a:ext cx="7215120" cy="947160"/>
                <a:chOff x="1143000" y="2500200"/>
                <a:chExt cx="7215120" cy="947160"/>
              </a:xfrm>
            </p:grpSpPr>
            <p:sp>
              <p:nvSpPr>
                <p:cNvPr id="350" name="Rectangle 15"/>
                <p:cNvSpPr/>
                <p:nvPr/>
              </p:nvSpPr>
              <p:spPr>
                <a:xfrm>
                  <a:off x="1143000" y="2500200"/>
                  <a:ext cx="721512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设    为线性赋范空间，                          ，则存在            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351" name="Object 2"/>
                <p:cNvGraphicFramePr/>
                <p:nvPr/>
              </p:nvGraphicFramePr>
              <p:xfrm>
                <a:off x="2143080" y="2571480"/>
                <a:ext cx="396720" cy="347760"/>
              </p:xfrm>
              <a:graphic>
                <a:graphicData uri="http://schemas.openxmlformats.org/presentationml/2006/ole">
                  <p:oleObj r:id="rId15" spid="">
                    <p:embed/>
                    <p:pic>
                      <p:nvPicPr>
                        <p:cNvPr id="352" name="Object 2" descr=""/>
                        <p:cNvPicPr/>
                        <p:nvPr/>
                      </p:nvPicPr>
                      <p:blipFill>
                        <a:blip r:embed="rId16"/>
                        <a:stretch/>
                      </p:blipFill>
                      <p:spPr>
                        <a:xfrm>
                          <a:off x="2143080" y="2571480"/>
                          <a:ext cx="396720" cy="347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353" name="Object 5"/>
              <p:cNvGraphicFramePr/>
              <p:nvPr/>
            </p:nvGraphicFramePr>
            <p:xfrm>
              <a:off x="5286240" y="2533320"/>
              <a:ext cx="2786040" cy="46692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354" name="Object 5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5286240" y="2533320"/>
                        <a:ext cx="2786040" cy="466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55" name="Object 11"/>
            <p:cNvGraphicFramePr/>
            <p:nvPr/>
          </p:nvGraphicFramePr>
          <p:xfrm>
            <a:off x="2428920" y="2928960"/>
            <a:ext cx="3143160" cy="5065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356" name="Object 11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428920" y="2928960"/>
                      <a:ext cx="3143160" cy="50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3"/>
          <p:cNvSpPr/>
          <p:nvPr/>
        </p:nvSpPr>
        <p:spPr>
          <a:xfrm>
            <a:off x="428760" y="192888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推论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4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428760" y="57168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推论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3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59" name="组合 11"/>
          <p:cNvGrpSpPr/>
          <p:nvPr/>
        </p:nvGrpSpPr>
        <p:grpSpPr>
          <a:xfrm>
            <a:off x="1143000" y="642960"/>
            <a:ext cx="7215120" cy="1000080"/>
            <a:chOff x="1143000" y="642960"/>
            <a:chExt cx="7215120" cy="1000080"/>
          </a:xfrm>
        </p:grpSpPr>
        <p:grpSp>
          <p:nvGrpSpPr>
            <p:cNvPr id="360" name="组合 3"/>
            <p:cNvGrpSpPr/>
            <p:nvPr/>
          </p:nvGrpSpPr>
          <p:grpSpPr>
            <a:xfrm>
              <a:off x="1143000" y="642960"/>
              <a:ext cx="7215120" cy="1000080"/>
              <a:chOff x="1143000" y="642960"/>
              <a:chExt cx="7215120" cy="1000080"/>
            </a:xfrm>
          </p:grpSpPr>
          <p:grpSp>
            <p:nvGrpSpPr>
              <p:cNvPr id="361" name="组合 14"/>
              <p:cNvGrpSpPr/>
              <p:nvPr/>
            </p:nvGrpSpPr>
            <p:grpSpPr>
              <a:xfrm>
                <a:off x="1143000" y="642960"/>
                <a:ext cx="7215120" cy="947160"/>
                <a:chOff x="1143000" y="642960"/>
                <a:chExt cx="7215120" cy="947160"/>
              </a:xfrm>
            </p:grpSpPr>
            <p:grpSp>
              <p:nvGrpSpPr>
                <p:cNvPr id="362" name="组合 48"/>
                <p:cNvGrpSpPr/>
                <p:nvPr/>
              </p:nvGrpSpPr>
              <p:grpSpPr>
                <a:xfrm>
                  <a:off x="1143000" y="642960"/>
                  <a:ext cx="7215120" cy="947160"/>
                  <a:chOff x="1143000" y="642960"/>
                  <a:chExt cx="7215120" cy="947160"/>
                </a:xfrm>
              </p:grpSpPr>
              <p:sp>
                <p:nvSpPr>
                  <p:cNvPr id="363" name="Rectangle 15"/>
                  <p:cNvSpPr/>
                  <p:nvPr/>
                </p:nvSpPr>
                <p:spPr>
                  <a:xfrm>
                    <a:off x="1143000" y="642960"/>
                    <a:ext cx="7215120" cy="94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设    为线性赋范空间，              ，若对任意的                                ，则            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364" name="Object 2"/>
                  <p:cNvGraphicFramePr/>
                  <p:nvPr/>
                </p:nvGraphicFramePr>
                <p:xfrm>
                  <a:off x="2143080" y="714240"/>
                  <a:ext cx="396720" cy="34776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365" name="Object 2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2143080" y="714240"/>
                            <a:ext cx="396720" cy="34776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366" name="Object 5"/>
                <p:cNvGraphicFramePr/>
                <p:nvPr/>
              </p:nvGraphicFramePr>
              <p:xfrm>
                <a:off x="5214960" y="676080"/>
                <a:ext cx="1638000" cy="46692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367" name="Object 5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5214960" y="676080"/>
                          <a:ext cx="1638000" cy="466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368" name="Object 11"/>
              <p:cNvGraphicFramePr/>
              <p:nvPr/>
            </p:nvGraphicFramePr>
            <p:xfrm>
              <a:off x="2000160" y="1136520"/>
              <a:ext cx="3057480" cy="5065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369" name="Object 11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2000160" y="1136520"/>
                        <a:ext cx="3057480" cy="506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70" name="Object 5"/>
            <p:cNvGraphicFramePr/>
            <p:nvPr/>
          </p:nvGraphicFramePr>
          <p:xfrm>
            <a:off x="5857920" y="1104840"/>
            <a:ext cx="1245960" cy="466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71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857920" y="1104840"/>
                      <a:ext cx="1245960" cy="46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72" name="组合 3"/>
          <p:cNvGrpSpPr/>
          <p:nvPr/>
        </p:nvGrpSpPr>
        <p:grpSpPr>
          <a:xfrm>
            <a:off x="1071720" y="1928880"/>
            <a:ext cx="7215120" cy="1530360"/>
            <a:chOff x="1071720" y="1928880"/>
            <a:chExt cx="7215120" cy="1530360"/>
          </a:xfrm>
        </p:grpSpPr>
        <p:grpSp>
          <p:nvGrpSpPr>
            <p:cNvPr id="373" name="组合 14"/>
            <p:cNvGrpSpPr/>
            <p:nvPr/>
          </p:nvGrpSpPr>
          <p:grpSpPr>
            <a:xfrm>
              <a:off x="1071720" y="1928880"/>
              <a:ext cx="7215120" cy="520560"/>
              <a:chOff x="1071720" y="1928880"/>
              <a:chExt cx="7215120" cy="520560"/>
            </a:xfrm>
          </p:grpSpPr>
          <p:grpSp>
            <p:nvGrpSpPr>
              <p:cNvPr id="374" name="组合 48"/>
              <p:cNvGrpSpPr/>
              <p:nvPr/>
            </p:nvGrpSpPr>
            <p:grpSpPr>
              <a:xfrm>
                <a:off x="1071720" y="1928880"/>
                <a:ext cx="7215120" cy="520560"/>
                <a:chOff x="1071720" y="1928880"/>
                <a:chExt cx="7215120" cy="520560"/>
              </a:xfrm>
            </p:grpSpPr>
            <p:sp>
              <p:nvSpPr>
                <p:cNvPr id="375" name="Rectangle 15"/>
                <p:cNvSpPr/>
                <p:nvPr/>
              </p:nvSpPr>
              <p:spPr>
                <a:xfrm>
                  <a:off x="1071720" y="1928880"/>
                  <a:ext cx="72151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设    为线性赋范空间，          ，则            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376" name="Object 6"/>
                <p:cNvGraphicFramePr/>
                <p:nvPr/>
              </p:nvGraphicFramePr>
              <p:xfrm>
                <a:off x="2071800" y="2000160"/>
                <a:ext cx="396720" cy="34740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377" name="Object 6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2071800" y="2000160"/>
                          <a:ext cx="396720" cy="347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378" name="Object 7"/>
              <p:cNvGraphicFramePr/>
              <p:nvPr/>
            </p:nvGraphicFramePr>
            <p:xfrm>
              <a:off x="5143680" y="1962000"/>
              <a:ext cx="1179360" cy="46692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379" name="Object 7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143680" y="1962000"/>
                        <a:ext cx="1179360" cy="466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80" name="Object 8"/>
            <p:cNvGraphicFramePr/>
            <p:nvPr/>
          </p:nvGraphicFramePr>
          <p:xfrm>
            <a:off x="3286080" y="2500200"/>
            <a:ext cx="2490840" cy="9590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81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286080" y="2500200"/>
                      <a:ext cx="2490840" cy="95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82" name="Text Box 3"/>
          <p:cNvSpPr/>
          <p:nvPr/>
        </p:nvSpPr>
        <p:spPr>
          <a:xfrm>
            <a:off x="428760" y="321480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83" name="组合 26"/>
          <p:cNvGrpSpPr/>
          <p:nvPr/>
        </p:nvGrpSpPr>
        <p:grpSpPr>
          <a:xfrm>
            <a:off x="1143000" y="3357720"/>
            <a:ext cx="7215120" cy="1404720"/>
            <a:chOff x="1143000" y="3357720"/>
            <a:chExt cx="7215120" cy="1404720"/>
          </a:xfrm>
        </p:grpSpPr>
        <p:grpSp>
          <p:nvGrpSpPr>
            <p:cNvPr id="384" name="组合 22"/>
            <p:cNvGrpSpPr/>
            <p:nvPr/>
          </p:nvGrpSpPr>
          <p:grpSpPr>
            <a:xfrm>
              <a:off x="1143000" y="3357720"/>
              <a:ext cx="7215120" cy="1404720"/>
              <a:chOff x="1143000" y="3357720"/>
              <a:chExt cx="7215120" cy="1404720"/>
            </a:xfrm>
          </p:grpSpPr>
          <p:sp>
            <p:nvSpPr>
              <p:cNvPr id="385" name="Rectangle 15"/>
              <p:cNvSpPr/>
              <p:nvPr/>
            </p:nvSpPr>
            <p:spPr>
              <a:xfrm>
                <a:off x="1143000" y="3357720"/>
                <a:ext cx="7215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由                                                 ，知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386" name="Object 10"/>
              <p:cNvGraphicFramePr/>
              <p:nvPr/>
            </p:nvGraphicFramePr>
            <p:xfrm>
              <a:off x="3429000" y="3857760"/>
              <a:ext cx="2401920" cy="90468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387" name="Object 10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3429000" y="3857760"/>
                        <a:ext cx="2401920" cy="904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88" name="Object 11"/>
            <p:cNvGraphicFramePr/>
            <p:nvPr/>
          </p:nvGraphicFramePr>
          <p:xfrm>
            <a:off x="2143080" y="3357720"/>
            <a:ext cx="4797360" cy="5205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389" name="Object 11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143080" y="3357720"/>
                      <a:ext cx="4797360" cy="52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组合 12"/>
          <p:cNvGrpSpPr/>
          <p:nvPr/>
        </p:nvGrpSpPr>
        <p:grpSpPr>
          <a:xfrm>
            <a:off x="928800" y="642960"/>
            <a:ext cx="7358040" cy="1959120"/>
            <a:chOff x="928800" y="642960"/>
            <a:chExt cx="7358040" cy="1959120"/>
          </a:xfrm>
        </p:grpSpPr>
        <p:grpSp>
          <p:nvGrpSpPr>
            <p:cNvPr id="391" name="组合 1"/>
            <p:cNvGrpSpPr/>
            <p:nvPr/>
          </p:nvGrpSpPr>
          <p:grpSpPr>
            <a:xfrm>
              <a:off x="928800" y="642960"/>
              <a:ext cx="7358040" cy="947520"/>
              <a:chOff x="928800" y="642960"/>
              <a:chExt cx="7358040" cy="947520"/>
            </a:xfrm>
          </p:grpSpPr>
          <p:grpSp>
            <p:nvGrpSpPr>
              <p:cNvPr id="392" name="组合 3"/>
              <p:cNvGrpSpPr/>
              <p:nvPr/>
            </p:nvGrpSpPr>
            <p:grpSpPr>
              <a:xfrm>
                <a:off x="1071360" y="642960"/>
                <a:ext cx="7215480" cy="947160"/>
                <a:chOff x="1071360" y="642960"/>
                <a:chExt cx="7215480" cy="947160"/>
              </a:xfrm>
            </p:grpSpPr>
            <p:sp>
              <p:nvSpPr>
                <p:cNvPr id="393" name="Rectangle 15"/>
                <p:cNvSpPr/>
                <p:nvPr/>
              </p:nvSpPr>
              <p:spPr>
                <a:xfrm>
                  <a:off x="1071360" y="642960"/>
                  <a:ext cx="721548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另一方面，由推论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1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，存在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       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故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394" name="Object 11"/>
                <p:cNvGraphicFramePr/>
                <p:nvPr/>
              </p:nvGraphicFramePr>
              <p:xfrm>
                <a:off x="6000840" y="642960"/>
                <a:ext cx="2181240" cy="53352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395" name="Object 11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000840" y="642960"/>
                          <a:ext cx="2181240" cy="533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396" name="Object 5"/>
              <p:cNvGraphicFramePr/>
              <p:nvPr/>
            </p:nvGraphicFramePr>
            <p:xfrm>
              <a:off x="928800" y="1071360"/>
              <a:ext cx="2098440" cy="5191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97" name="Object 5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800" y="1071360"/>
                        <a:ext cx="2098440" cy="519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98" name="Object 6"/>
            <p:cNvGraphicFramePr/>
            <p:nvPr/>
          </p:nvGraphicFramePr>
          <p:xfrm>
            <a:off x="3500640" y="1643040"/>
            <a:ext cx="2490840" cy="959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99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500640" y="1643040"/>
                      <a:ext cx="2490840" cy="95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00" name="Rectangle 15"/>
          <p:cNvSpPr/>
          <p:nvPr/>
        </p:nvSpPr>
        <p:spPr>
          <a:xfrm>
            <a:off x="928800" y="2643120"/>
            <a:ext cx="22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即等式成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3"/>
          <p:cNvSpPr/>
          <p:nvPr/>
        </p:nvSpPr>
        <p:spPr>
          <a:xfrm>
            <a:off x="428760" y="57168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义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3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02" name="组合 15"/>
          <p:cNvGrpSpPr/>
          <p:nvPr/>
        </p:nvGrpSpPr>
        <p:grpSpPr>
          <a:xfrm>
            <a:off x="1214280" y="642960"/>
            <a:ext cx="7215480" cy="1784160"/>
            <a:chOff x="1214280" y="642960"/>
            <a:chExt cx="7215480" cy="1784160"/>
          </a:xfrm>
        </p:grpSpPr>
        <p:grpSp>
          <p:nvGrpSpPr>
            <p:cNvPr id="403" name="组合 2"/>
            <p:cNvGrpSpPr/>
            <p:nvPr/>
          </p:nvGrpSpPr>
          <p:grpSpPr>
            <a:xfrm>
              <a:off x="1214280" y="642960"/>
              <a:ext cx="7215480" cy="1784160"/>
              <a:chOff x="1214280" y="642960"/>
              <a:chExt cx="7215480" cy="1784160"/>
            </a:xfrm>
          </p:grpSpPr>
          <p:grpSp>
            <p:nvGrpSpPr>
              <p:cNvPr id="404" name="组合 3"/>
              <p:cNvGrpSpPr/>
              <p:nvPr/>
            </p:nvGrpSpPr>
            <p:grpSpPr>
              <a:xfrm>
                <a:off x="1214280" y="642960"/>
                <a:ext cx="7215480" cy="1373760"/>
                <a:chOff x="1214280" y="642960"/>
                <a:chExt cx="7215480" cy="1373760"/>
              </a:xfrm>
            </p:grpSpPr>
            <p:grpSp>
              <p:nvGrpSpPr>
                <p:cNvPr id="405" name="组合 14"/>
                <p:cNvGrpSpPr/>
                <p:nvPr/>
              </p:nvGrpSpPr>
              <p:grpSpPr>
                <a:xfrm>
                  <a:off x="1214280" y="642960"/>
                  <a:ext cx="7215480" cy="1373760"/>
                  <a:chOff x="1214280" y="642960"/>
                  <a:chExt cx="7215480" cy="1373760"/>
                </a:xfrm>
              </p:grpSpPr>
              <p:grpSp>
                <p:nvGrpSpPr>
                  <p:cNvPr id="406" name="组合 48"/>
                  <p:cNvGrpSpPr/>
                  <p:nvPr/>
                </p:nvGrpSpPr>
                <p:grpSpPr>
                  <a:xfrm>
                    <a:off x="1214280" y="642960"/>
                    <a:ext cx="7215480" cy="1373760"/>
                    <a:chOff x="1214280" y="642960"/>
                    <a:chExt cx="7215480" cy="1373760"/>
                  </a:xfrm>
                </p:grpSpPr>
                <p:sp>
                  <p:nvSpPr>
                    <p:cNvPr id="407" name="Rectangle 15"/>
                    <p:cNvSpPr/>
                    <p:nvPr/>
                  </p:nvSpPr>
                  <p:spPr>
                    <a:xfrm>
                      <a:off x="1214280" y="642960"/>
                      <a:ext cx="7215480" cy="1373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 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设    为线性赋范空间，   是   的子集合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,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称         是   关于    的最佳逼近元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若         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graphicFrame>
                  <p:nvGraphicFramePr>
                    <p:cNvPr id="408" name="Object 2"/>
                    <p:cNvGraphicFramePr/>
                    <p:nvPr/>
                  </p:nvGraphicFramePr>
                  <p:xfrm>
                    <a:off x="2214360" y="714240"/>
                    <a:ext cx="396720" cy="347400"/>
                  </p:xfrm>
                  <a:graphic>
                    <a:graphicData uri="http://schemas.openxmlformats.org/presentationml/2006/ole">
                      <p:oleObj r:id="rId1" spid="">
                        <p:embed/>
                        <p:pic>
                          <p:nvPicPr>
                            <p:cNvPr id="409" name="Object 2" descr=""/>
                            <p:cNvPicPr/>
                            <p:nvPr/>
                          </p:nvPicPr>
                          <p:blipFill>
                            <a:blip r:embed="rId2"/>
                            <a:stretch/>
                          </p:blipFill>
                          <p:spPr>
                            <a:xfrm>
                              <a:off x="2214360" y="714240"/>
                              <a:ext cx="396720" cy="34740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</p:oleObj>
                    </a:graphicData>
                  </a:graphic>
                </p:graphicFrame>
              </p:grpSp>
              <p:graphicFrame>
                <p:nvGraphicFramePr>
                  <p:cNvPr id="410" name="Object 5"/>
                  <p:cNvGraphicFramePr/>
                  <p:nvPr/>
                </p:nvGraphicFramePr>
                <p:xfrm>
                  <a:off x="6042240" y="741240"/>
                  <a:ext cx="458640" cy="336600"/>
                </p:xfrm>
                <a:graphic>
                  <a:graphicData uri="http://schemas.openxmlformats.org/presentationml/2006/ole">
                    <p:oleObj r:id="rId3" spid="">
                      <p:embed/>
                      <p:pic>
                        <p:nvPicPr>
                          <p:cNvPr id="411" name="Object 5" descr=""/>
                          <p:cNvPicPr/>
                          <p:nvPr/>
                        </p:nvPicPr>
                        <p:blipFill>
                          <a:blip r:embed="rId4"/>
                          <a:stretch/>
                        </p:blipFill>
                        <p:spPr>
                          <a:xfrm>
                            <a:off x="6042240" y="741240"/>
                            <a:ext cx="458640" cy="3366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412" name="Object 11"/>
                <p:cNvGraphicFramePr/>
                <p:nvPr/>
              </p:nvGraphicFramePr>
              <p:xfrm>
                <a:off x="1307880" y="1143000"/>
                <a:ext cx="906480" cy="37296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413" name="Object 11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1307880" y="1143000"/>
                          <a:ext cx="906480" cy="372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414" name="Object 5"/>
              <p:cNvGraphicFramePr/>
              <p:nvPr/>
            </p:nvGraphicFramePr>
            <p:xfrm>
              <a:off x="3000240" y="1857240"/>
              <a:ext cx="3148200" cy="5698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415" name="Object 5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000240" y="1857240"/>
                        <a:ext cx="3148200" cy="569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16" name="Object 6"/>
            <p:cNvGraphicFramePr/>
            <p:nvPr/>
          </p:nvGraphicFramePr>
          <p:xfrm>
            <a:off x="5429160" y="726840"/>
            <a:ext cx="339480" cy="345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17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29160" y="726840"/>
                      <a:ext cx="33948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8" name="Object 7"/>
            <p:cNvGraphicFramePr/>
            <p:nvPr/>
          </p:nvGraphicFramePr>
          <p:xfrm>
            <a:off x="2643120" y="1117440"/>
            <a:ext cx="877680" cy="4251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19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643120" y="1117440"/>
                      <a:ext cx="877680" cy="42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0" name="Object 8"/>
            <p:cNvGraphicFramePr/>
            <p:nvPr/>
          </p:nvGraphicFramePr>
          <p:xfrm>
            <a:off x="3857400" y="1182600"/>
            <a:ext cx="357120" cy="3672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21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857400" y="1182600"/>
                      <a:ext cx="357120" cy="36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2" name="Object 9"/>
            <p:cNvGraphicFramePr/>
            <p:nvPr/>
          </p:nvGraphicFramePr>
          <p:xfrm>
            <a:off x="4946760" y="1143000"/>
            <a:ext cx="339480" cy="3459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23" name="Object 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946760" y="1143000"/>
                      <a:ext cx="33948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24" name="Text Box 3"/>
          <p:cNvSpPr/>
          <p:nvPr/>
        </p:nvSpPr>
        <p:spPr>
          <a:xfrm>
            <a:off x="500040" y="257184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4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25" name="组合 33"/>
          <p:cNvGrpSpPr/>
          <p:nvPr/>
        </p:nvGrpSpPr>
        <p:grpSpPr>
          <a:xfrm>
            <a:off x="1214280" y="2643120"/>
            <a:ext cx="7215480" cy="1803960"/>
            <a:chOff x="1214280" y="2643120"/>
            <a:chExt cx="7215480" cy="1803960"/>
          </a:xfrm>
        </p:grpSpPr>
        <p:grpSp>
          <p:nvGrpSpPr>
            <p:cNvPr id="426" name="组合 17"/>
            <p:cNvGrpSpPr/>
            <p:nvPr/>
          </p:nvGrpSpPr>
          <p:grpSpPr>
            <a:xfrm>
              <a:off x="1214280" y="2643120"/>
              <a:ext cx="7215480" cy="1375200"/>
              <a:chOff x="1214280" y="2643120"/>
              <a:chExt cx="7215480" cy="1375200"/>
            </a:xfrm>
          </p:grpSpPr>
          <p:grpSp>
            <p:nvGrpSpPr>
              <p:cNvPr id="427" name="组合 18"/>
              <p:cNvGrpSpPr/>
              <p:nvPr/>
            </p:nvGrpSpPr>
            <p:grpSpPr>
              <a:xfrm>
                <a:off x="1214280" y="2643120"/>
                <a:ext cx="7215480" cy="1375200"/>
                <a:chOff x="1214280" y="2643120"/>
                <a:chExt cx="7215480" cy="1375200"/>
              </a:xfrm>
            </p:grpSpPr>
            <p:grpSp>
              <p:nvGrpSpPr>
                <p:cNvPr id="428" name="组合 3"/>
                <p:cNvGrpSpPr/>
                <p:nvPr/>
              </p:nvGrpSpPr>
              <p:grpSpPr>
                <a:xfrm>
                  <a:off x="1214280" y="2643120"/>
                  <a:ext cx="7215480" cy="1373760"/>
                  <a:chOff x="1214280" y="2643120"/>
                  <a:chExt cx="7215480" cy="1373760"/>
                </a:xfrm>
              </p:grpSpPr>
              <p:grpSp>
                <p:nvGrpSpPr>
                  <p:cNvPr id="429" name="组合 14"/>
                  <p:cNvGrpSpPr/>
                  <p:nvPr/>
                </p:nvGrpSpPr>
                <p:grpSpPr>
                  <a:xfrm>
                    <a:off x="1214280" y="2643120"/>
                    <a:ext cx="7215480" cy="1373760"/>
                    <a:chOff x="1214280" y="2643120"/>
                    <a:chExt cx="7215480" cy="1373760"/>
                  </a:xfrm>
                </p:grpSpPr>
                <p:grpSp>
                  <p:nvGrpSpPr>
                    <p:cNvPr id="430" name="组合 48"/>
                    <p:cNvGrpSpPr/>
                    <p:nvPr/>
                  </p:nvGrpSpPr>
                  <p:grpSpPr>
                    <a:xfrm>
                      <a:off x="1214280" y="2643120"/>
                      <a:ext cx="7215480" cy="1373760"/>
                      <a:chOff x="1214280" y="2643120"/>
                      <a:chExt cx="7215480" cy="1373760"/>
                    </a:xfrm>
                  </p:grpSpPr>
                  <p:sp>
                    <p:nvSpPr>
                      <p:cNvPr id="431" name="Rectangle 15"/>
                      <p:cNvSpPr/>
                      <p:nvPr/>
                    </p:nvSpPr>
                    <p:spPr>
                      <a:xfrm>
                        <a:off x="1214280" y="2643120"/>
                        <a:ext cx="7215480" cy="13737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      </a:t>
                        </a:r>
                        <a:r>
                          <a:rPr b="0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设    为线性赋范空间，   是   的闭线性子空间，</a:t>
                        </a:r>
                        <a:r>
                          <a:rPr b="0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        </a:t>
                        </a:r>
                        <a:r>
                          <a:rPr b="0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,</a:t>
                        </a:r>
                        <a:r>
                          <a:rPr b="0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则         是   关于    的最佳逼近元当且仅当存在</a:t>
                        </a:r>
                        <a:endParaRPr b="0" lang="en-US" sz="28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            </a:t>
                        </a:r>
                        <a:r>
                          <a:rPr b="0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并且         </a:t>
                        </a:r>
                        <a:endParaRPr b="0" lang="en-US" sz="28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  <p:graphicFrame>
                    <p:nvGraphicFramePr>
                      <p:cNvPr id="432" name="Object 10"/>
                      <p:cNvGraphicFramePr/>
                      <p:nvPr/>
                    </p:nvGraphicFramePr>
                    <p:xfrm>
                      <a:off x="2214360" y="2714400"/>
                      <a:ext cx="396720" cy="347400"/>
                    </p:xfrm>
                    <a:graphic>
                      <a:graphicData uri="http://schemas.openxmlformats.org/presentationml/2006/ole">
                        <p:oleObj r:id="rId17" spid="">
                          <p:embed/>
                          <p:pic>
                            <p:nvPicPr>
                              <p:cNvPr id="433" name="Object 10" descr=""/>
                              <p:cNvPicPr/>
                              <p:nvPr/>
                            </p:nvPicPr>
                            <p:blipFill>
                              <a:blip r:embed="rId18"/>
                              <a:stretch/>
                            </p:blipFill>
                            <p:spPr>
                              <a:xfrm>
                                <a:off x="2214360" y="2714400"/>
                                <a:ext cx="396720" cy="347400"/>
                              </a:xfrm>
                              <a:prstGeom prst="rect">
                                <a:avLst/>
                              </a:prstGeom>
                              <a:ln w="0">
                                <a:noFill/>
                              </a:ln>
                            </p:spPr>
                          </p:pic>
                        </p:oleObj>
                      </a:graphicData>
                    </a:graphic>
                  </p:graphicFrame>
                </p:grpSp>
                <p:graphicFrame>
                  <p:nvGraphicFramePr>
                    <p:cNvPr id="434" name="Object 11"/>
                    <p:cNvGraphicFramePr/>
                    <p:nvPr/>
                  </p:nvGraphicFramePr>
                  <p:xfrm>
                    <a:off x="6042240" y="2741400"/>
                    <a:ext cx="458640" cy="336600"/>
                  </p:xfrm>
                  <a:graphic>
                    <a:graphicData uri="http://schemas.openxmlformats.org/presentationml/2006/ole">
                      <p:oleObj r:id="rId19" spid="">
                        <p:embed/>
                        <p:pic>
                          <p:nvPicPr>
                            <p:cNvPr id="435" name="Object 11" descr=""/>
                            <p:cNvPicPr/>
                            <p:nvPr/>
                          </p:nvPicPr>
                          <p:blipFill>
                            <a:blip r:embed="rId20"/>
                            <a:stretch/>
                          </p:blipFill>
                          <p:spPr>
                            <a:xfrm>
                              <a:off x="6042240" y="2741400"/>
                              <a:ext cx="458640" cy="33660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</p:oleObj>
                    </a:graphicData>
                  </a:graphic>
                </p:graphicFrame>
              </p:grpSp>
              <p:graphicFrame>
                <p:nvGraphicFramePr>
                  <p:cNvPr id="436" name="Object 12"/>
                  <p:cNvGraphicFramePr/>
                  <p:nvPr/>
                </p:nvGraphicFramePr>
                <p:xfrm>
                  <a:off x="2214360" y="3092400"/>
                  <a:ext cx="963360" cy="479520"/>
                </p:xfrm>
                <a:graphic>
                  <a:graphicData uri="http://schemas.openxmlformats.org/presentationml/2006/ole">
                    <p:oleObj r:id="rId21" spid="">
                      <p:embed/>
                      <p:pic>
                        <p:nvPicPr>
                          <p:cNvPr id="437" name="Object 12" descr=""/>
                          <p:cNvPicPr/>
                          <p:nvPr/>
                        </p:nvPicPr>
                        <p:blipFill>
                          <a:blip r:embed="rId22"/>
                          <a:stretch/>
                        </p:blipFill>
                        <p:spPr>
                          <a:xfrm>
                            <a:off x="2214360" y="3092400"/>
                            <a:ext cx="963360" cy="4795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438" name="Object 13"/>
                <p:cNvGraphicFramePr/>
                <p:nvPr/>
              </p:nvGraphicFramePr>
              <p:xfrm>
                <a:off x="3786120" y="3500640"/>
                <a:ext cx="4000680" cy="517680"/>
              </p:xfrm>
              <a:graphic>
                <a:graphicData uri="http://schemas.openxmlformats.org/presentationml/2006/ole">
                  <p:oleObj r:id="rId23" spid="">
                    <p:embed/>
                    <p:pic>
                      <p:nvPicPr>
                        <p:cNvPr id="439" name="Object 13" descr=""/>
                        <p:cNvPicPr/>
                        <p:nvPr/>
                      </p:nvPicPr>
                      <p:blipFill>
                        <a:blip r:embed="rId24"/>
                        <a:stretch/>
                      </p:blipFill>
                      <p:spPr>
                        <a:xfrm>
                          <a:off x="3786120" y="3500640"/>
                          <a:ext cx="4000680" cy="5176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440" name="Object 14"/>
              <p:cNvGraphicFramePr/>
              <p:nvPr/>
            </p:nvGraphicFramePr>
            <p:xfrm>
              <a:off x="5429160" y="2727000"/>
              <a:ext cx="339480" cy="345960"/>
            </p:xfrm>
            <a:graphic>
              <a:graphicData uri="http://schemas.openxmlformats.org/presentationml/2006/ole">
                <p:oleObj r:id="rId25" spid="">
                  <p:embed/>
                  <p:pic>
                    <p:nvPicPr>
                      <p:cNvPr id="441" name="Object 14" descr=""/>
                      <p:cNvPicPr/>
                      <p:nvPr/>
                    </p:nvPicPr>
                    <p:blipFill>
                      <a:blip r:embed="rId26"/>
                      <a:stretch/>
                    </p:blipFill>
                    <p:spPr>
                      <a:xfrm>
                        <a:off x="5429160" y="2727000"/>
                        <a:ext cx="339480" cy="345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42" name="Object 15"/>
              <p:cNvGraphicFramePr/>
              <p:nvPr/>
            </p:nvGraphicFramePr>
            <p:xfrm>
              <a:off x="3643200" y="3143160"/>
              <a:ext cx="877680" cy="425520"/>
            </p:xfrm>
            <a:graphic>
              <a:graphicData uri="http://schemas.openxmlformats.org/presentationml/2006/ole">
                <p:oleObj r:id="rId27" spid="">
                  <p:embed/>
                  <p:pic>
                    <p:nvPicPr>
                      <p:cNvPr id="443" name="Object 15" descr=""/>
                      <p:cNvPicPr/>
                      <p:nvPr/>
                    </p:nvPicPr>
                    <p:blipFill>
                      <a:blip r:embed="rId28"/>
                      <a:stretch/>
                    </p:blipFill>
                    <p:spPr>
                      <a:xfrm>
                        <a:off x="3643200" y="3143160"/>
                        <a:ext cx="877680" cy="425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44" name="Object 16"/>
              <p:cNvGraphicFramePr/>
              <p:nvPr/>
            </p:nvGraphicFramePr>
            <p:xfrm>
              <a:off x="4803840" y="3027240"/>
              <a:ext cx="465120" cy="600120"/>
            </p:xfrm>
            <a:graphic>
              <a:graphicData uri="http://schemas.openxmlformats.org/presentationml/2006/ole">
                <p:oleObj r:id="rId29" spid="">
                  <p:embed/>
                  <p:pic>
                    <p:nvPicPr>
                      <p:cNvPr id="445" name="Object 16" descr=""/>
                      <p:cNvPicPr/>
                      <p:nvPr/>
                    </p:nvPicPr>
                    <p:blipFill>
                      <a:blip r:embed="rId30"/>
                      <a:stretch/>
                    </p:blipFill>
                    <p:spPr>
                      <a:xfrm>
                        <a:off x="4803840" y="3027240"/>
                        <a:ext cx="465120" cy="600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46" name="Object 17"/>
              <p:cNvGraphicFramePr/>
              <p:nvPr/>
            </p:nvGraphicFramePr>
            <p:xfrm>
              <a:off x="5857920" y="3143160"/>
              <a:ext cx="339480" cy="345960"/>
            </p:xfrm>
            <a:graphic>
              <a:graphicData uri="http://schemas.openxmlformats.org/presentationml/2006/ole">
                <p:oleObj r:id="rId31" spid="">
                  <p:embed/>
                  <p:pic>
                    <p:nvPicPr>
                      <p:cNvPr id="447" name="Object 17" descr=""/>
                      <p:cNvPicPr/>
                      <p:nvPr/>
                    </p:nvPicPr>
                    <p:blipFill>
                      <a:blip r:embed="rId32"/>
                      <a:stretch/>
                    </p:blipFill>
                    <p:spPr>
                      <a:xfrm>
                        <a:off x="5857920" y="3143160"/>
                        <a:ext cx="339480" cy="345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48" name="Object 18"/>
            <p:cNvGraphicFramePr/>
            <p:nvPr/>
          </p:nvGraphicFramePr>
          <p:xfrm>
            <a:off x="1385640" y="3981600"/>
            <a:ext cx="1049400" cy="37296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449" name="Object 18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1385640" y="3981600"/>
                      <a:ext cx="1049400" cy="37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0" name="Object 19"/>
            <p:cNvGraphicFramePr/>
            <p:nvPr/>
          </p:nvGraphicFramePr>
          <p:xfrm>
            <a:off x="3143160" y="3929400"/>
            <a:ext cx="2656080" cy="5176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451" name="Object 19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3143160" y="3929400"/>
                      <a:ext cx="2656080" cy="51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3"/>
          <p:cNvSpPr/>
          <p:nvPr/>
        </p:nvSpPr>
        <p:spPr>
          <a:xfrm>
            <a:off x="571680" y="64296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53" name="组合 2"/>
          <p:cNvGrpSpPr/>
          <p:nvPr/>
        </p:nvGrpSpPr>
        <p:grpSpPr>
          <a:xfrm>
            <a:off x="1928880" y="642960"/>
            <a:ext cx="7215120" cy="1198440"/>
            <a:chOff x="1928880" y="642960"/>
            <a:chExt cx="7215120" cy="1198440"/>
          </a:xfrm>
        </p:grpSpPr>
        <p:grpSp>
          <p:nvGrpSpPr>
            <p:cNvPr id="454" name="组合 3"/>
            <p:cNvGrpSpPr/>
            <p:nvPr/>
          </p:nvGrpSpPr>
          <p:grpSpPr>
            <a:xfrm>
              <a:off x="1928880" y="687240"/>
              <a:ext cx="7215120" cy="1154160"/>
              <a:chOff x="1928880" y="687240"/>
              <a:chExt cx="7215120" cy="1154160"/>
            </a:xfrm>
          </p:grpSpPr>
          <p:sp>
            <p:nvSpPr>
              <p:cNvPr id="455" name="Rectangle 15"/>
              <p:cNvSpPr/>
              <p:nvPr/>
            </p:nvSpPr>
            <p:spPr>
              <a:xfrm>
                <a:off x="1928880" y="687240"/>
                <a:ext cx="7215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若  是   关于    的最佳逼近元，即     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456" name="Object 5"/>
              <p:cNvGraphicFramePr/>
              <p:nvPr/>
            </p:nvGraphicFramePr>
            <p:xfrm>
              <a:off x="2730600" y="1245960"/>
              <a:ext cx="5116680" cy="5954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57" name="Object 5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730600" y="1245960"/>
                        <a:ext cx="5116680" cy="595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58" name="Object 7"/>
            <p:cNvGraphicFramePr/>
            <p:nvPr/>
          </p:nvGraphicFramePr>
          <p:xfrm>
            <a:off x="2928960" y="830160"/>
            <a:ext cx="311040" cy="345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9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28960" y="830160"/>
                      <a:ext cx="31104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0" name="Object 8"/>
            <p:cNvGraphicFramePr/>
            <p:nvPr/>
          </p:nvGraphicFramePr>
          <p:xfrm>
            <a:off x="3448080" y="642960"/>
            <a:ext cx="463320" cy="600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61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48080" y="642960"/>
                      <a:ext cx="463320" cy="60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2" name="Object 9"/>
            <p:cNvGraphicFramePr/>
            <p:nvPr/>
          </p:nvGraphicFramePr>
          <p:xfrm>
            <a:off x="4500720" y="769680"/>
            <a:ext cx="339480" cy="345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63" name="Object 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00720" y="769680"/>
                      <a:ext cx="33948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64" name="Object 10"/>
          <p:cNvGraphicFramePr/>
          <p:nvPr/>
        </p:nvGraphicFramePr>
        <p:xfrm>
          <a:off x="1857240" y="785880"/>
          <a:ext cx="538200" cy="425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5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57240" y="785880"/>
                    <a:ext cx="53820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6" name="组合 17"/>
          <p:cNvGrpSpPr/>
          <p:nvPr/>
        </p:nvGrpSpPr>
        <p:grpSpPr>
          <a:xfrm>
            <a:off x="785880" y="1973160"/>
            <a:ext cx="7215120" cy="955800"/>
            <a:chOff x="785880" y="1973160"/>
            <a:chExt cx="7215120" cy="955800"/>
          </a:xfrm>
        </p:grpSpPr>
        <p:grpSp>
          <p:nvGrpSpPr>
            <p:cNvPr id="467" name="组合 18"/>
            <p:cNvGrpSpPr/>
            <p:nvPr/>
          </p:nvGrpSpPr>
          <p:grpSpPr>
            <a:xfrm>
              <a:off x="785880" y="1973160"/>
              <a:ext cx="7215120" cy="947160"/>
              <a:chOff x="785880" y="1973160"/>
              <a:chExt cx="7215120" cy="947160"/>
            </a:xfrm>
          </p:grpSpPr>
          <p:sp>
            <p:nvSpPr>
              <p:cNvPr id="468" name="Rectangle 15"/>
              <p:cNvSpPr/>
              <p:nvPr/>
            </p:nvSpPr>
            <p:spPr>
              <a:xfrm>
                <a:off x="785880" y="1973160"/>
                <a:ext cx="72151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设                         ，则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其中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469" name="Object 11"/>
              <p:cNvGraphicFramePr/>
              <p:nvPr/>
            </p:nvGraphicFramePr>
            <p:xfrm>
              <a:off x="4429080" y="2033280"/>
              <a:ext cx="3510000" cy="46692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470" name="Object 11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4429080" y="2033280"/>
                        <a:ext cx="3510000" cy="466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71" name="Object 12"/>
            <p:cNvGraphicFramePr/>
            <p:nvPr/>
          </p:nvGraphicFramePr>
          <p:xfrm>
            <a:off x="1266840" y="2000160"/>
            <a:ext cx="2376360" cy="5317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72" name="Object 12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266840" y="2000160"/>
                      <a:ext cx="2376360" cy="53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3" name="Object 14"/>
            <p:cNvGraphicFramePr/>
            <p:nvPr/>
          </p:nvGraphicFramePr>
          <p:xfrm>
            <a:off x="1546200" y="2502000"/>
            <a:ext cx="1811160" cy="4269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74" name="Object 14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546200" y="2502000"/>
                      <a:ext cx="1811160" cy="42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5"/>
          <p:cNvSpPr/>
          <p:nvPr/>
        </p:nvSpPr>
        <p:spPr>
          <a:xfrm>
            <a:off x="0" y="1285920"/>
            <a:ext cx="93582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河南师范大学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现代教育技术中心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录制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组合 11"/>
          <p:cNvGrpSpPr/>
          <p:nvPr/>
        </p:nvGrpSpPr>
        <p:grpSpPr>
          <a:xfrm>
            <a:off x="500040" y="714240"/>
            <a:ext cx="7580160" cy="952560"/>
            <a:chOff x="500040" y="714240"/>
            <a:chExt cx="7580160" cy="952560"/>
          </a:xfrm>
        </p:grpSpPr>
        <p:grpSp>
          <p:nvGrpSpPr>
            <p:cNvPr id="86" name="组合 29"/>
            <p:cNvGrpSpPr/>
            <p:nvPr/>
          </p:nvGrpSpPr>
          <p:grpSpPr>
            <a:xfrm>
              <a:off x="1335240" y="714240"/>
              <a:ext cx="6357600" cy="947160"/>
              <a:chOff x="1335240" y="714240"/>
              <a:chExt cx="6357600" cy="947160"/>
            </a:xfrm>
          </p:grpSpPr>
          <p:sp>
            <p:nvSpPr>
              <p:cNvPr id="87" name="Rectangle 15"/>
              <p:cNvSpPr/>
              <p:nvPr/>
            </p:nvSpPr>
            <p:spPr>
              <a:xfrm>
                <a:off x="1335240" y="714240"/>
                <a:ext cx="63576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复空间上任一复线性泛函       ，不妨设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          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，其中        分布为   的实部和虚部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88" name="Object 23"/>
              <p:cNvGraphicFramePr/>
              <p:nvPr/>
            </p:nvGraphicFramePr>
            <p:xfrm>
              <a:off x="4921200" y="811080"/>
              <a:ext cx="865080" cy="4032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89" name="Object 23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921200" y="811080"/>
                        <a:ext cx="865080" cy="403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90" name="Object 5"/>
            <p:cNvGraphicFramePr/>
            <p:nvPr/>
          </p:nvGraphicFramePr>
          <p:xfrm>
            <a:off x="7215120" y="785520"/>
            <a:ext cx="865080" cy="403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1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215120" y="785520"/>
                      <a:ext cx="865080" cy="40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2" name="Object 6"/>
            <p:cNvGraphicFramePr/>
            <p:nvPr/>
          </p:nvGraphicFramePr>
          <p:xfrm>
            <a:off x="500040" y="1214280"/>
            <a:ext cx="2371680" cy="452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3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0040" y="1214280"/>
                      <a:ext cx="2371680" cy="45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4" name="Object 7"/>
            <p:cNvGraphicFramePr/>
            <p:nvPr/>
          </p:nvGraphicFramePr>
          <p:xfrm>
            <a:off x="3984480" y="1190520"/>
            <a:ext cx="898200" cy="452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5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984480" y="1190520"/>
                      <a:ext cx="898200" cy="45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96" name="Object 8"/>
          <p:cNvGraphicFramePr/>
          <p:nvPr/>
        </p:nvGraphicFramePr>
        <p:xfrm>
          <a:off x="5857920" y="1214280"/>
          <a:ext cx="384120" cy="403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57920" y="1214280"/>
                    <a:ext cx="384120" cy="4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Rectangle 15"/>
          <p:cNvSpPr/>
          <p:nvPr/>
        </p:nvSpPr>
        <p:spPr>
          <a:xfrm>
            <a:off x="631800" y="1714680"/>
            <a:ext cx="142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由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99" name="Object 9"/>
          <p:cNvGraphicFramePr/>
          <p:nvPr/>
        </p:nvGraphicFramePr>
        <p:xfrm>
          <a:off x="2286000" y="1785960"/>
          <a:ext cx="4678200" cy="904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0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86000" y="1785960"/>
                    <a:ext cx="467820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Rectangle 15"/>
          <p:cNvSpPr/>
          <p:nvPr/>
        </p:nvSpPr>
        <p:spPr>
          <a:xfrm>
            <a:off x="133560" y="2643120"/>
            <a:ext cx="163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从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02" name="Object 10"/>
          <p:cNvGraphicFramePr/>
          <p:nvPr/>
        </p:nvGraphicFramePr>
        <p:xfrm>
          <a:off x="2286000" y="2857680"/>
          <a:ext cx="3300480" cy="904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3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86000" y="2857680"/>
                    <a:ext cx="330048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4" name="组合 19"/>
          <p:cNvGrpSpPr/>
          <p:nvPr/>
        </p:nvGrpSpPr>
        <p:grpSpPr>
          <a:xfrm>
            <a:off x="1951200" y="3857760"/>
            <a:ext cx="6764040" cy="523800"/>
            <a:chOff x="1951200" y="3857760"/>
            <a:chExt cx="6764040" cy="523800"/>
          </a:xfrm>
        </p:grpSpPr>
        <p:sp>
          <p:nvSpPr>
            <p:cNvPr id="105" name="Rectangle 15"/>
            <p:cNvSpPr/>
            <p:nvPr/>
          </p:nvSpPr>
          <p:spPr>
            <a:xfrm>
              <a:off x="1951200" y="3857760"/>
              <a:ext cx="373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华文新魏"/>
                </a:rPr>
                <a:t>注：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对于实线性泛函     ，一般来说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06" name="Object 11"/>
            <p:cNvGraphicFramePr/>
            <p:nvPr/>
          </p:nvGraphicFramePr>
          <p:xfrm>
            <a:off x="4071960" y="3929040"/>
            <a:ext cx="385560" cy="4525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07" name="Object 1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071960" y="3929040"/>
                      <a:ext cx="385560" cy="45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Object 12"/>
            <p:cNvGraphicFramePr/>
            <p:nvPr/>
          </p:nvGraphicFramePr>
          <p:xfrm>
            <a:off x="6472080" y="3905280"/>
            <a:ext cx="2243160" cy="4525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09" name="Object 12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472080" y="3905280"/>
                      <a:ext cx="2243160" cy="45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14200" y="35712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357120" y="307188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12" name="组合 29"/>
          <p:cNvGrpSpPr/>
          <p:nvPr/>
        </p:nvGrpSpPr>
        <p:grpSpPr>
          <a:xfrm>
            <a:off x="1179360" y="428760"/>
            <a:ext cx="7540920" cy="2446200"/>
            <a:chOff x="1179360" y="428760"/>
            <a:chExt cx="7540920" cy="2446200"/>
          </a:xfrm>
        </p:grpSpPr>
        <p:grpSp>
          <p:nvGrpSpPr>
            <p:cNvPr id="113" name="组合 14"/>
            <p:cNvGrpSpPr/>
            <p:nvPr/>
          </p:nvGrpSpPr>
          <p:grpSpPr>
            <a:xfrm>
              <a:off x="1179360" y="428760"/>
              <a:ext cx="7540920" cy="2446200"/>
              <a:chOff x="1179360" y="428760"/>
              <a:chExt cx="7540920" cy="2446200"/>
            </a:xfrm>
          </p:grpSpPr>
          <p:grpSp>
            <p:nvGrpSpPr>
              <p:cNvPr id="114" name="组合 13"/>
              <p:cNvGrpSpPr/>
              <p:nvPr/>
            </p:nvGrpSpPr>
            <p:grpSpPr>
              <a:xfrm>
                <a:off x="1179360" y="428760"/>
                <a:ext cx="7540920" cy="2446200"/>
                <a:chOff x="1179360" y="428760"/>
                <a:chExt cx="7540920" cy="2446200"/>
              </a:xfrm>
            </p:grpSpPr>
            <p:grpSp>
              <p:nvGrpSpPr>
                <p:cNvPr id="115" name="组合 12"/>
                <p:cNvGrpSpPr/>
                <p:nvPr/>
              </p:nvGrpSpPr>
              <p:grpSpPr>
                <a:xfrm>
                  <a:off x="1179360" y="428760"/>
                  <a:ext cx="6570720" cy="1800360"/>
                  <a:chOff x="1179360" y="428760"/>
                  <a:chExt cx="6570720" cy="1800360"/>
                </a:xfrm>
              </p:grpSpPr>
              <p:grpSp>
                <p:nvGrpSpPr>
                  <p:cNvPr id="116" name="组合 48"/>
                  <p:cNvGrpSpPr/>
                  <p:nvPr/>
                </p:nvGrpSpPr>
                <p:grpSpPr>
                  <a:xfrm>
                    <a:off x="1930680" y="428760"/>
                    <a:ext cx="5819400" cy="1800360"/>
                    <a:chOff x="1930680" y="428760"/>
                    <a:chExt cx="5819400" cy="1800360"/>
                  </a:xfrm>
                </p:grpSpPr>
                <p:sp>
                  <p:nvSpPr>
                    <p:cNvPr id="117" name="Rectangle 15"/>
                    <p:cNvSpPr/>
                    <p:nvPr/>
                  </p:nvSpPr>
                  <p:spPr>
                    <a:xfrm>
                      <a:off x="1930680" y="428760"/>
                      <a:ext cx="5819400" cy="1800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 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设    为复线性空间，           为线性子空间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是   上的半范数，若   是    上的复线性泛函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并且                                     ，则存在   上的线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性泛函    ，使得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graphicFrame>
                  <p:nvGraphicFramePr>
                    <p:cNvPr id="118" name="Object 2"/>
                    <p:cNvGraphicFramePr/>
                    <p:nvPr/>
                  </p:nvGraphicFramePr>
                  <p:xfrm>
                    <a:off x="2000160" y="500040"/>
                    <a:ext cx="396720" cy="347400"/>
                  </p:xfrm>
                  <a:graphic>
                    <a:graphicData uri="http://schemas.openxmlformats.org/presentationml/2006/ole">
                      <p:oleObj r:id="rId1" spid="">
                        <p:embed/>
                        <p:pic>
                          <p:nvPicPr>
                            <p:cNvPr id="119" name="Object 2" descr=""/>
                            <p:cNvPicPr/>
                            <p:nvPr/>
                          </p:nvPicPr>
                          <p:blipFill>
                            <a:blip r:embed="rId2"/>
                            <a:stretch/>
                          </p:blipFill>
                          <p:spPr>
                            <a:xfrm>
                              <a:off x="2000160" y="500040"/>
                              <a:ext cx="396720" cy="34740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</p:oleObj>
                    </a:graphicData>
                  </a:graphic>
                </p:graphicFrame>
              </p:grpSp>
              <p:graphicFrame>
                <p:nvGraphicFramePr>
                  <p:cNvPr id="120" name="Object 12"/>
                  <p:cNvGraphicFramePr/>
                  <p:nvPr/>
                </p:nvGraphicFramePr>
                <p:xfrm>
                  <a:off x="1179360" y="928800"/>
                  <a:ext cx="392040" cy="338040"/>
                </p:xfrm>
                <a:graphic>
                  <a:graphicData uri="http://schemas.openxmlformats.org/presentationml/2006/ole">
                    <p:oleObj r:id="rId3" spid="">
                      <p:embed/>
                      <p:pic>
                        <p:nvPicPr>
                          <p:cNvPr id="121" name="Object 12" descr=""/>
                          <p:cNvPicPr/>
                          <p:nvPr/>
                        </p:nvPicPr>
                        <p:blipFill>
                          <a:blip r:embed="rId4"/>
                          <a:stretch/>
                        </p:blipFill>
                        <p:spPr>
                          <a:xfrm>
                            <a:off x="1179360" y="928800"/>
                            <a:ext cx="392040" cy="33804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122" name="Object 7"/>
                <p:cNvGraphicFramePr/>
                <p:nvPr/>
              </p:nvGraphicFramePr>
              <p:xfrm>
                <a:off x="4573440" y="857160"/>
                <a:ext cx="426960" cy="46800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123" name="Object 7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4573440" y="857160"/>
                          <a:ext cx="426960" cy="468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24" name="Object 8"/>
                <p:cNvGraphicFramePr/>
                <p:nvPr/>
              </p:nvGraphicFramePr>
              <p:xfrm>
                <a:off x="1447560" y="2357640"/>
                <a:ext cx="7272720" cy="51732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125" name="Object 8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1447560" y="2357640"/>
                          <a:ext cx="7272720" cy="5173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126" name="Object 5"/>
              <p:cNvGraphicFramePr/>
              <p:nvPr/>
            </p:nvGraphicFramePr>
            <p:xfrm>
              <a:off x="4714920" y="519120"/>
              <a:ext cx="1311120" cy="33624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27" name="Object 5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4714920" y="519120"/>
                        <a:ext cx="1311120" cy="336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28" name="Object 25"/>
            <p:cNvGraphicFramePr/>
            <p:nvPr/>
          </p:nvGraphicFramePr>
          <p:xfrm>
            <a:off x="1765080" y="928800"/>
            <a:ext cx="396720" cy="3474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9" name="Object 25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765080" y="928800"/>
                      <a:ext cx="396720" cy="34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0" name="Object 26"/>
            <p:cNvGraphicFramePr/>
            <p:nvPr/>
          </p:nvGraphicFramePr>
          <p:xfrm>
            <a:off x="5207040" y="928800"/>
            <a:ext cx="452160" cy="3474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31" name="Object 26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207040" y="928800"/>
                      <a:ext cx="452160" cy="34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2" name="Object 27"/>
            <p:cNvGraphicFramePr/>
            <p:nvPr/>
          </p:nvGraphicFramePr>
          <p:xfrm>
            <a:off x="1733400" y="1285920"/>
            <a:ext cx="3711600" cy="520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33" name="Object 27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733400" y="1285920"/>
                      <a:ext cx="3711600" cy="52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4" name="Object 28"/>
            <p:cNvGraphicFramePr/>
            <p:nvPr/>
          </p:nvGraphicFramePr>
          <p:xfrm>
            <a:off x="6805800" y="1357200"/>
            <a:ext cx="396720" cy="3474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35" name="Object 28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805800" y="1357200"/>
                      <a:ext cx="396720" cy="34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6" name="Object 29"/>
            <p:cNvGraphicFramePr/>
            <p:nvPr/>
          </p:nvGraphicFramePr>
          <p:xfrm>
            <a:off x="2176200" y="1785960"/>
            <a:ext cx="368280" cy="3474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37" name="Object 29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176200" y="1785960"/>
                      <a:ext cx="368280" cy="34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8" name="组合 35"/>
          <p:cNvGrpSpPr/>
          <p:nvPr/>
        </p:nvGrpSpPr>
        <p:grpSpPr>
          <a:xfrm>
            <a:off x="1683720" y="3286080"/>
            <a:ext cx="6820920" cy="1074960"/>
            <a:chOff x="1683720" y="3286080"/>
            <a:chExt cx="6820920" cy="1074960"/>
          </a:xfrm>
        </p:grpSpPr>
        <p:grpSp>
          <p:nvGrpSpPr>
            <p:cNvPr id="139" name="组合 30"/>
            <p:cNvGrpSpPr/>
            <p:nvPr/>
          </p:nvGrpSpPr>
          <p:grpSpPr>
            <a:xfrm>
              <a:off x="1683720" y="3286080"/>
              <a:ext cx="6820920" cy="1074960"/>
              <a:chOff x="1683720" y="3286080"/>
              <a:chExt cx="6820920" cy="1074960"/>
            </a:xfrm>
          </p:grpSpPr>
          <p:sp>
            <p:nvSpPr>
              <p:cNvPr id="140" name="Rectangle 15"/>
              <p:cNvSpPr/>
              <p:nvPr/>
            </p:nvSpPr>
            <p:spPr>
              <a:xfrm>
                <a:off x="1683720" y="3286080"/>
                <a:ext cx="682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在    上，设                                 ，由假设  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141" name="Object 30"/>
              <p:cNvGraphicFramePr/>
              <p:nvPr/>
            </p:nvGraphicFramePr>
            <p:xfrm>
              <a:off x="1785960" y="3857760"/>
              <a:ext cx="6301080" cy="50328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142" name="Object 30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1785960" y="3857760"/>
                        <a:ext cx="6301080" cy="503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43" name="Object 31"/>
              <p:cNvGraphicFramePr/>
              <p:nvPr/>
            </p:nvGraphicFramePr>
            <p:xfrm>
              <a:off x="3357720" y="3357360"/>
              <a:ext cx="3333960" cy="452520"/>
            </p:xfrm>
            <a:graphic>
              <a:graphicData uri="http://schemas.openxmlformats.org/presentationml/2006/ole">
                <p:oleObj r:id="rId23" spid="">
                  <p:embed/>
                  <p:pic>
                    <p:nvPicPr>
                      <p:cNvPr id="144" name="Object 31" descr=""/>
                      <p:cNvPicPr/>
                      <p:nvPr/>
                    </p:nvPicPr>
                    <p:blipFill>
                      <a:blip r:embed="rId24"/>
                      <a:stretch/>
                    </p:blipFill>
                    <p:spPr>
                      <a:xfrm>
                        <a:off x="3357720" y="3357360"/>
                        <a:ext cx="3333960" cy="452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45" name="Object 32"/>
            <p:cNvGraphicFramePr/>
            <p:nvPr/>
          </p:nvGraphicFramePr>
          <p:xfrm>
            <a:off x="1928880" y="3357360"/>
            <a:ext cx="453960" cy="3477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46" name="Object 32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1928880" y="3357360"/>
                      <a:ext cx="453960" cy="3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组合 14"/>
          <p:cNvGrpSpPr/>
          <p:nvPr/>
        </p:nvGrpSpPr>
        <p:grpSpPr>
          <a:xfrm>
            <a:off x="1000080" y="500040"/>
            <a:ext cx="7201080" cy="1095480"/>
            <a:chOff x="1000080" y="500040"/>
            <a:chExt cx="7201080" cy="1095480"/>
          </a:xfrm>
        </p:grpSpPr>
        <p:grpSp>
          <p:nvGrpSpPr>
            <p:cNvPr id="148" name="组合 1"/>
            <p:cNvGrpSpPr/>
            <p:nvPr/>
          </p:nvGrpSpPr>
          <p:grpSpPr>
            <a:xfrm>
              <a:off x="1000080" y="500040"/>
              <a:ext cx="7201080" cy="1095480"/>
              <a:chOff x="1000080" y="500040"/>
              <a:chExt cx="7201080" cy="1095480"/>
            </a:xfrm>
          </p:grpSpPr>
          <p:grpSp>
            <p:nvGrpSpPr>
              <p:cNvPr id="149" name="组合 30"/>
              <p:cNvGrpSpPr/>
              <p:nvPr/>
            </p:nvGrpSpPr>
            <p:grpSpPr>
              <a:xfrm>
                <a:off x="1000080" y="500040"/>
                <a:ext cx="7201080" cy="1095480"/>
                <a:chOff x="1000080" y="500040"/>
                <a:chExt cx="7201080" cy="1095480"/>
              </a:xfrm>
            </p:grpSpPr>
            <p:sp>
              <p:nvSpPr>
                <p:cNvPr id="150" name="Rectangle 15"/>
                <p:cNvSpPr/>
                <p:nvPr/>
              </p:nvSpPr>
              <p:spPr>
                <a:xfrm>
                  <a:off x="1314360" y="500040"/>
                  <a:ext cx="5708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514440" indent="-5144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由定理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1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，  上存在实线性泛函        ，使得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51" name="Object 2"/>
                <p:cNvGraphicFramePr/>
                <p:nvPr/>
              </p:nvGraphicFramePr>
              <p:xfrm>
                <a:off x="1000080" y="1143000"/>
                <a:ext cx="7201080" cy="45252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52" name="Object 2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000080" y="1143000"/>
                          <a:ext cx="7201080" cy="452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153" name="Object 4"/>
              <p:cNvGraphicFramePr/>
              <p:nvPr/>
            </p:nvGraphicFramePr>
            <p:xfrm>
              <a:off x="2384280" y="571320"/>
              <a:ext cx="398160" cy="3477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54" name="Object 4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384280" y="571320"/>
                        <a:ext cx="398160" cy="347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55" name="Object 8"/>
            <p:cNvGraphicFramePr/>
            <p:nvPr/>
          </p:nvGraphicFramePr>
          <p:xfrm>
            <a:off x="5532480" y="576000"/>
            <a:ext cx="825480" cy="480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6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532480" y="576000"/>
                      <a:ext cx="82548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7" name="组合 15"/>
          <p:cNvGrpSpPr/>
          <p:nvPr/>
        </p:nvGrpSpPr>
        <p:grpSpPr>
          <a:xfrm>
            <a:off x="785880" y="1857240"/>
            <a:ext cx="7183080" cy="973440"/>
            <a:chOff x="785880" y="1857240"/>
            <a:chExt cx="7183080" cy="973440"/>
          </a:xfrm>
        </p:grpSpPr>
        <p:grpSp>
          <p:nvGrpSpPr>
            <p:cNvPr id="158" name="组合 30"/>
            <p:cNvGrpSpPr/>
            <p:nvPr/>
          </p:nvGrpSpPr>
          <p:grpSpPr>
            <a:xfrm>
              <a:off x="785880" y="1857240"/>
              <a:ext cx="7183080" cy="973440"/>
              <a:chOff x="785880" y="1857240"/>
              <a:chExt cx="7183080" cy="973440"/>
            </a:xfrm>
          </p:grpSpPr>
          <p:sp>
            <p:nvSpPr>
              <p:cNvPr id="159" name="Rectangle 15"/>
              <p:cNvSpPr/>
              <p:nvPr/>
            </p:nvSpPr>
            <p:spPr>
              <a:xfrm>
                <a:off x="1957320" y="1857240"/>
                <a:ext cx="601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考虑复线性泛函                               则对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160" name="Object 9"/>
              <p:cNvGraphicFramePr/>
              <p:nvPr/>
            </p:nvGraphicFramePr>
            <p:xfrm>
              <a:off x="785880" y="2428920"/>
              <a:ext cx="1703160" cy="4017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61" name="Object 9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785880" y="2428920"/>
                        <a:ext cx="1703160" cy="401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62" name="Object 11"/>
            <p:cNvGraphicFramePr/>
            <p:nvPr/>
          </p:nvGraphicFramePr>
          <p:xfrm>
            <a:off x="4311720" y="1928520"/>
            <a:ext cx="3046320" cy="481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3" name="Object 1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311720" y="1928520"/>
                      <a:ext cx="3046320" cy="48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64" name="Object 12"/>
          <p:cNvGraphicFramePr/>
          <p:nvPr/>
        </p:nvGraphicFramePr>
        <p:xfrm>
          <a:off x="2000160" y="2857680"/>
          <a:ext cx="6365880" cy="1331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5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00160" y="2857680"/>
                    <a:ext cx="6365880" cy="13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组合 25"/>
          <p:cNvGrpSpPr/>
          <p:nvPr/>
        </p:nvGrpSpPr>
        <p:grpSpPr>
          <a:xfrm>
            <a:off x="647280" y="500040"/>
            <a:ext cx="7415640" cy="1585800"/>
            <a:chOff x="647280" y="500040"/>
            <a:chExt cx="7415640" cy="1585800"/>
          </a:xfrm>
        </p:grpSpPr>
        <p:sp>
          <p:nvSpPr>
            <p:cNvPr id="167" name="Rectangle 15"/>
            <p:cNvSpPr/>
            <p:nvPr/>
          </p:nvSpPr>
          <p:spPr>
            <a:xfrm>
              <a:off x="647280" y="500040"/>
              <a:ext cx="255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若   为实数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68" name="Object 3"/>
            <p:cNvGraphicFramePr/>
            <p:nvPr/>
          </p:nvGraphicFramePr>
          <p:xfrm>
            <a:off x="1643040" y="1071360"/>
            <a:ext cx="6419880" cy="1014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9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43040" y="1071360"/>
                      <a:ext cx="6419880" cy="101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70" name="Object 18"/>
          <p:cNvGraphicFramePr/>
          <p:nvPr/>
        </p:nvGraphicFramePr>
        <p:xfrm>
          <a:off x="1214280" y="619200"/>
          <a:ext cx="449280" cy="3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4280" y="619200"/>
                    <a:ext cx="4492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2" name="组合 22"/>
          <p:cNvGrpSpPr/>
          <p:nvPr/>
        </p:nvGrpSpPr>
        <p:grpSpPr>
          <a:xfrm>
            <a:off x="419040" y="2000160"/>
            <a:ext cx="7478640" cy="1471680"/>
            <a:chOff x="419040" y="2000160"/>
            <a:chExt cx="7478640" cy="1471680"/>
          </a:xfrm>
        </p:grpSpPr>
        <p:sp>
          <p:nvSpPr>
            <p:cNvPr id="173" name="Rectangle 15"/>
            <p:cNvSpPr/>
            <p:nvPr/>
          </p:nvSpPr>
          <p:spPr>
            <a:xfrm>
              <a:off x="419040" y="2000160"/>
              <a:ext cx="163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此外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74" name="Object 19"/>
            <p:cNvGraphicFramePr/>
            <p:nvPr/>
          </p:nvGraphicFramePr>
          <p:xfrm>
            <a:off x="1665360" y="2400120"/>
            <a:ext cx="6232320" cy="1071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5" name="Object 1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665360" y="2400120"/>
                      <a:ext cx="6232320" cy="107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6" name="组合 25"/>
          <p:cNvGrpSpPr/>
          <p:nvPr/>
        </p:nvGrpSpPr>
        <p:grpSpPr>
          <a:xfrm>
            <a:off x="1729440" y="3643200"/>
            <a:ext cx="5868360" cy="1022400"/>
            <a:chOff x="1729440" y="3643200"/>
            <a:chExt cx="5868360" cy="1022400"/>
          </a:xfrm>
        </p:grpSpPr>
        <p:grpSp>
          <p:nvGrpSpPr>
            <p:cNvPr id="177" name="组合 21"/>
            <p:cNvGrpSpPr/>
            <p:nvPr/>
          </p:nvGrpSpPr>
          <p:grpSpPr>
            <a:xfrm>
              <a:off x="1729440" y="3643200"/>
              <a:ext cx="5843160" cy="522000"/>
              <a:chOff x="1729440" y="3643200"/>
              <a:chExt cx="5843160" cy="522000"/>
            </a:xfrm>
          </p:grpSpPr>
          <p:grpSp>
            <p:nvGrpSpPr>
              <p:cNvPr id="178" name="组合 30"/>
              <p:cNvGrpSpPr/>
              <p:nvPr/>
            </p:nvGrpSpPr>
            <p:grpSpPr>
              <a:xfrm>
                <a:off x="1729440" y="3643200"/>
                <a:ext cx="4693320" cy="520560"/>
                <a:chOff x="1729440" y="3643200"/>
                <a:chExt cx="4693320" cy="520560"/>
              </a:xfrm>
            </p:grpSpPr>
            <p:sp>
              <p:nvSpPr>
                <p:cNvPr id="179" name="Rectangle 15"/>
                <p:cNvSpPr/>
                <p:nvPr/>
              </p:nvSpPr>
              <p:spPr>
                <a:xfrm>
                  <a:off x="1729440" y="3643200"/>
                  <a:ext cx="46933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由此，对于任意复数        与任意             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80" name="Object 25"/>
                <p:cNvGraphicFramePr/>
                <p:nvPr/>
              </p:nvGraphicFramePr>
              <p:xfrm>
                <a:off x="4065840" y="3673080"/>
                <a:ext cx="934920" cy="45072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181" name="Object 25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4065840" y="3673080"/>
                          <a:ext cx="934920" cy="4507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182" name="Object 20"/>
              <p:cNvGraphicFramePr/>
              <p:nvPr/>
            </p:nvGraphicFramePr>
            <p:xfrm>
              <a:off x="5855040" y="3714480"/>
              <a:ext cx="1717560" cy="4507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3" name="Object 20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855040" y="3714480"/>
                        <a:ext cx="1717560" cy="450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84" name="Object 21"/>
            <p:cNvGraphicFramePr/>
            <p:nvPr/>
          </p:nvGraphicFramePr>
          <p:xfrm>
            <a:off x="1928880" y="4214880"/>
            <a:ext cx="5668920" cy="4507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85" name="Object 21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928880" y="4214880"/>
                      <a:ext cx="5668920" cy="45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组合 10"/>
          <p:cNvGrpSpPr/>
          <p:nvPr/>
        </p:nvGrpSpPr>
        <p:grpSpPr>
          <a:xfrm>
            <a:off x="779400" y="642960"/>
            <a:ext cx="2917800" cy="520560"/>
            <a:chOff x="779400" y="642960"/>
            <a:chExt cx="2917800" cy="520560"/>
          </a:xfrm>
        </p:grpSpPr>
        <p:sp>
          <p:nvSpPr>
            <p:cNvPr id="187" name="Rectangle 15"/>
            <p:cNvSpPr/>
            <p:nvPr/>
          </p:nvSpPr>
          <p:spPr>
            <a:xfrm>
              <a:off x="779400" y="642960"/>
              <a:ext cx="291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是复线性的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88" name="Object 5"/>
            <p:cNvGraphicFramePr/>
            <p:nvPr/>
          </p:nvGraphicFramePr>
          <p:xfrm>
            <a:off x="1142640" y="714240"/>
            <a:ext cx="367920" cy="348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9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42640" y="714240"/>
                      <a:ext cx="367920" cy="34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0" name="组合 17"/>
          <p:cNvGrpSpPr/>
          <p:nvPr/>
        </p:nvGrpSpPr>
        <p:grpSpPr>
          <a:xfrm>
            <a:off x="2214720" y="642960"/>
            <a:ext cx="5368680" cy="1514520"/>
            <a:chOff x="2214720" y="642960"/>
            <a:chExt cx="5368680" cy="1514520"/>
          </a:xfrm>
        </p:grpSpPr>
        <p:grpSp>
          <p:nvGrpSpPr>
            <p:cNvPr id="191" name="组合 21"/>
            <p:cNvGrpSpPr/>
            <p:nvPr/>
          </p:nvGrpSpPr>
          <p:grpSpPr>
            <a:xfrm>
              <a:off x="4051440" y="642960"/>
              <a:ext cx="2122200" cy="520560"/>
              <a:chOff x="4051440" y="642960"/>
              <a:chExt cx="2122200" cy="520560"/>
            </a:xfrm>
          </p:grpSpPr>
          <p:sp>
            <p:nvSpPr>
              <p:cNvPr id="192" name="Rectangle 15"/>
              <p:cNvSpPr/>
              <p:nvPr/>
            </p:nvSpPr>
            <p:spPr>
              <a:xfrm>
                <a:off x="4051440" y="642960"/>
                <a:ext cx="2122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若              ，则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193" name="Object 3"/>
              <p:cNvGraphicFramePr/>
              <p:nvPr/>
            </p:nvGraphicFramePr>
            <p:xfrm>
              <a:off x="4357440" y="714240"/>
              <a:ext cx="1270080" cy="3938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94" name="Object 3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357440" y="714240"/>
                        <a:ext cx="1270080" cy="393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95" name="Object 21"/>
            <p:cNvGraphicFramePr/>
            <p:nvPr/>
          </p:nvGraphicFramePr>
          <p:xfrm>
            <a:off x="2214720" y="1143000"/>
            <a:ext cx="5368680" cy="1014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6" name="Object 21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14720" y="1143000"/>
                      <a:ext cx="5368680" cy="101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7" name="组合 18"/>
          <p:cNvGrpSpPr/>
          <p:nvPr/>
        </p:nvGrpSpPr>
        <p:grpSpPr>
          <a:xfrm>
            <a:off x="1390680" y="2214720"/>
            <a:ext cx="7051680" cy="1671480"/>
            <a:chOff x="1390680" y="2214720"/>
            <a:chExt cx="7051680" cy="1671480"/>
          </a:xfrm>
        </p:grpSpPr>
        <p:grpSp>
          <p:nvGrpSpPr>
            <p:cNvPr id="198" name="组合 25"/>
            <p:cNvGrpSpPr/>
            <p:nvPr/>
          </p:nvGrpSpPr>
          <p:grpSpPr>
            <a:xfrm>
              <a:off x="1390680" y="2214720"/>
              <a:ext cx="7051680" cy="1671480"/>
              <a:chOff x="1390680" y="2214720"/>
              <a:chExt cx="7051680" cy="1671480"/>
            </a:xfrm>
          </p:grpSpPr>
          <p:sp>
            <p:nvSpPr>
              <p:cNvPr id="199" name="Rectangle 15"/>
              <p:cNvSpPr/>
              <p:nvPr/>
            </p:nvSpPr>
            <p:spPr>
              <a:xfrm>
                <a:off x="1390680" y="2214720"/>
                <a:ext cx="6318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设               ，则                 为实数，此时，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200" name="Object 7"/>
              <p:cNvGraphicFramePr/>
              <p:nvPr/>
            </p:nvGraphicFramePr>
            <p:xfrm>
              <a:off x="1835280" y="2700360"/>
              <a:ext cx="6607080" cy="11858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01" name="Object 7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835280" y="2700360"/>
                        <a:ext cx="6607080" cy="1185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02" name="Object 8"/>
            <p:cNvGraphicFramePr/>
            <p:nvPr/>
          </p:nvGraphicFramePr>
          <p:xfrm>
            <a:off x="1500120" y="2232000"/>
            <a:ext cx="1530360" cy="4824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03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500120" y="2232000"/>
                      <a:ext cx="1530360" cy="48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4" name="Object 9"/>
            <p:cNvGraphicFramePr/>
            <p:nvPr/>
          </p:nvGraphicFramePr>
          <p:xfrm>
            <a:off x="3629160" y="2232000"/>
            <a:ext cx="1728720" cy="4824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05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629160" y="2232000"/>
                      <a:ext cx="1728720" cy="48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6" name="组合 19"/>
          <p:cNvGrpSpPr/>
          <p:nvPr/>
        </p:nvGrpSpPr>
        <p:grpSpPr>
          <a:xfrm>
            <a:off x="1143000" y="4071960"/>
            <a:ext cx="4662720" cy="520560"/>
            <a:chOff x="1143000" y="4071960"/>
            <a:chExt cx="4662720" cy="520560"/>
          </a:xfrm>
        </p:grpSpPr>
        <p:sp>
          <p:nvSpPr>
            <p:cNvPr id="207" name="Rectangle 15"/>
            <p:cNvSpPr/>
            <p:nvPr/>
          </p:nvSpPr>
          <p:spPr>
            <a:xfrm>
              <a:off x="1422000" y="4071960"/>
              <a:ext cx="438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即是所要求的复线性泛函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08" name="Object 10"/>
            <p:cNvGraphicFramePr/>
            <p:nvPr/>
          </p:nvGraphicFramePr>
          <p:xfrm>
            <a:off x="1143000" y="4145040"/>
            <a:ext cx="765000" cy="4276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09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143000" y="4145040"/>
                      <a:ext cx="765000" cy="42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3"/>
          <p:cNvSpPr/>
          <p:nvPr/>
        </p:nvSpPr>
        <p:spPr>
          <a:xfrm>
            <a:off x="214200" y="35712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3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11" name="组合 20"/>
          <p:cNvGrpSpPr/>
          <p:nvPr/>
        </p:nvGrpSpPr>
        <p:grpSpPr>
          <a:xfrm>
            <a:off x="1357200" y="500040"/>
            <a:ext cx="6243120" cy="2226960"/>
            <a:chOff x="1357200" y="500040"/>
            <a:chExt cx="6243120" cy="2226960"/>
          </a:xfrm>
        </p:grpSpPr>
        <p:grpSp>
          <p:nvGrpSpPr>
            <p:cNvPr id="212" name="组合 2"/>
            <p:cNvGrpSpPr/>
            <p:nvPr/>
          </p:nvGrpSpPr>
          <p:grpSpPr>
            <a:xfrm>
              <a:off x="1785960" y="500040"/>
              <a:ext cx="5814360" cy="2226960"/>
              <a:chOff x="1785960" y="500040"/>
              <a:chExt cx="5814360" cy="2226960"/>
            </a:xfrm>
          </p:grpSpPr>
          <p:grpSp>
            <p:nvGrpSpPr>
              <p:cNvPr id="213" name="组合 14"/>
              <p:cNvGrpSpPr/>
              <p:nvPr/>
            </p:nvGrpSpPr>
            <p:grpSpPr>
              <a:xfrm>
                <a:off x="1785960" y="500040"/>
                <a:ext cx="5804280" cy="2226960"/>
                <a:chOff x="1785960" y="500040"/>
                <a:chExt cx="5804280" cy="2226960"/>
              </a:xfrm>
            </p:grpSpPr>
            <p:grpSp>
              <p:nvGrpSpPr>
                <p:cNvPr id="214" name="组合 13"/>
                <p:cNvGrpSpPr/>
                <p:nvPr/>
              </p:nvGrpSpPr>
              <p:grpSpPr>
                <a:xfrm>
                  <a:off x="1785960" y="500040"/>
                  <a:ext cx="5804280" cy="2226960"/>
                  <a:chOff x="1785960" y="500040"/>
                  <a:chExt cx="5804280" cy="2226960"/>
                </a:xfrm>
              </p:grpSpPr>
              <p:grpSp>
                <p:nvGrpSpPr>
                  <p:cNvPr id="215" name="组合 48"/>
                  <p:cNvGrpSpPr/>
                  <p:nvPr/>
                </p:nvGrpSpPr>
                <p:grpSpPr>
                  <a:xfrm>
                    <a:off x="1806120" y="500040"/>
                    <a:ext cx="5784120" cy="2226960"/>
                    <a:chOff x="1806120" y="500040"/>
                    <a:chExt cx="5784120" cy="2226960"/>
                  </a:xfrm>
                </p:grpSpPr>
                <p:sp>
                  <p:nvSpPr>
                    <p:cNvPr id="216" name="Rectangle 15"/>
                    <p:cNvSpPr/>
                    <p:nvPr/>
                  </p:nvSpPr>
                  <p:spPr>
                    <a:xfrm>
                      <a:off x="1806120" y="500040"/>
                      <a:ext cx="5784120" cy="2226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 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设    为实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(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复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)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线性空间，           为线性子空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间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,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若   是    上的连续线性泛函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,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则存在   上的线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性泛函    ，使得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称   是    的保范线性延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.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graphicFrame>
                  <p:nvGraphicFramePr>
                    <p:cNvPr id="217" name="Object 2"/>
                    <p:cNvGraphicFramePr/>
                    <p:nvPr/>
                  </p:nvGraphicFramePr>
                  <p:xfrm>
                    <a:off x="1928880" y="571320"/>
                    <a:ext cx="396720" cy="347400"/>
                  </p:xfrm>
                  <a:graphic>
                    <a:graphicData uri="http://schemas.openxmlformats.org/presentationml/2006/ole">
                      <p:oleObj r:id="rId1" spid="">
                        <p:embed/>
                        <p:pic>
                          <p:nvPicPr>
                            <p:cNvPr id="218" name="Object 2" descr=""/>
                            <p:cNvPicPr/>
                            <p:nvPr/>
                          </p:nvPicPr>
                          <p:blipFill>
                            <a:blip r:embed="rId2"/>
                            <a:stretch/>
                          </p:blipFill>
                          <p:spPr>
                            <a:xfrm>
                              <a:off x="1928880" y="571320"/>
                              <a:ext cx="396720" cy="34740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</p:oleObj>
                    </a:graphicData>
                  </a:graphic>
                </p:graphicFrame>
              </p:grpSp>
              <p:graphicFrame>
                <p:nvGraphicFramePr>
                  <p:cNvPr id="219" name="Object 7"/>
                  <p:cNvGraphicFramePr/>
                  <p:nvPr/>
                </p:nvGraphicFramePr>
                <p:xfrm>
                  <a:off x="1785960" y="1000080"/>
                  <a:ext cx="426960" cy="468000"/>
                </p:xfrm>
                <a:graphic>
                  <a:graphicData uri="http://schemas.openxmlformats.org/presentationml/2006/ole">
                    <p:oleObj r:id="rId3" spid="">
                      <p:embed/>
                      <p:pic>
                        <p:nvPicPr>
                          <p:cNvPr id="220" name="Object 7" descr=""/>
                          <p:cNvPicPr/>
                          <p:nvPr/>
                        </p:nvPicPr>
                        <p:blipFill>
                          <a:blip r:embed="rId4"/>
                          <a:stretch/>
                        </p:blipFill>
                        <p:spPr>
                          <a:xfrm>
                            <a:off x="1785960" y="1000080"/>
                            <a:ext cx="426960" cy="4680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221" name="Object 5"/>
                <p:cNvGraphicFramePr/>
                <p:nvPr/>
              </p:nvGraphicFramePr>
              <p:xfrm>
                <a:off x="5261040" y="590400"/>
                <a:ext cx="1311120" cy="33624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222" name="Object 5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5261040" y="590400"/>
                          <a:ext cx="1311120" cy="3362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223" name="Object 8"/>
              <p:cNvGraphicFramePr/>
              <p:nvPr/>
            </p:nvGraphicFramePr>
            <p:xfrm>
              <a:off x="2428920" y="1000080"/>
              <a:ext cx="452160" cy="3474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24" name="Object 8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28920" y="1000080"/>
                        <a:ext cx="452160" cy="347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25" name="Object 9"/>
              <p:cNvGraphicFramePr/>
              <p:nvPr/>
            </p:nvGraphicFramePr>
            <p:xfrm>
              <a:off x="2214360" y="1785600"/>
              <a:ext cx="5385960" cy="520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26" name="Object 9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2214360" y="1785600"/>
                        <a:ext cx="5385960" cy="520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27" name="Object 10"/>
              <p:cNvGraphicFramePr/>
              <p:nvPr/>
            </p:nvGraphicFramePr>
            <p:xfrm>
              <a:off x="6858000" y="1000080"/>
              <a:ext cx="396720" cy="34740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228" name="Object 10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6858000" y="1000080"/>
                        <a:ext cx="396720" cy="347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29" name="Object 11"/>
              <p:cNvGraphicFramePr/>
              <p:nvPr/>
            </p:nvGraphicFramePr>
            <p:xfrm>
              <a:off x="2071440" y="1428480"/>
              <a:ext cx="339480" cy="42696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230" name="Object 11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2071440" y="1428480"/>
                        <a:ext cx="339480" cy="426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31" name="Object 12"/>
            <p:cNvGraphicFramePr/>
            <p:nvPr/>
          </p:nvGraphicFramePr>
          <p:xfrm>
            <a:off x="1357200" y="2285640"/>
            <a:ext cx="339480" cy="4269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32" name="Object 12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357200" y="2285640"/>
                      <a:ext cx="339480" cy="42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3" name="Object 13"/>
            <p:cNvGraphicFramePr/>
            <p:nvPr/>
          </p:nvGraphicFramePr>
          <p:xfrm>
            <a:off x="2000160" y="2246040"/>
            <a:ext cx="426960" cy="4680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34" name="Object 13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0160" y="2246040"/>
                      <a:ext cx="426960" cy="46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35" name="Text Box 3"/>
          <p:cNvSpPr/>
          <p:nvPr/>
        </p:nvSpPr>
        <p:spPr>
          <a:xfrm>
            <a:off x="285840" y="292896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36" name="组合 29"/>
          <p:cNvGrpSpPr/>
          <p:nvPr/>
        </p:nvGrpSpPr>
        <p:grpSpPr>
          <a:xfrm>
            <a:off x="1669320" y="3071880"/>
            <a:ext cx="6335640" cy="1136520"/>
            <a:chOff x="1669320" y="3071880"/>
            <a:chExt cx="6335640" cy="1136520"/>
          </a:xfrm>
        </p:grpSpPr>
        <p:grpSp>
          <p:nvGrpSpPr>
            <p:cNvPr id="237" name="组合 22"/>
            <p:cNvGrpSpPr/>
            <p:nvPr/>
          </p:nvGrpSpPr>
          <p:grpSpPr>
            <a:xfrm>
              <a:off x="1669320" y="3071880"/>
              <a:ext cx="6335640" cy="1136520"/>
              <a:chOff x="1669320" y="3071880"/>
              <a:chExt cx="6335640" cy="1136520"/>
            </a:xfrm>
          </p:grpSpPr>
          <p:grpSp>
            <p:nvGrpSpPr>
              <p:cNvPr id="238" name="组合 25"/>
              <p:cNvGrpSpPr/>
              <p:nvPr/>
            </p:nvGrpSpPr>
            <p:grpSpPr>
              <a:xfrm>
                <a:off x="1669320" y="3071880"/>
                <a:ext cx="6335640" cy="1136520"/>
                <a:chOff x="1669320" y="3071880"/>
                <a:chExt cx="6335640" cy="1136520"/>
              </a:xfrm>
            </p:grpSpPr>
            <p:sp>
              <p:nvSpPr>
                <p:cNvPr id="239" name="Rectangle 15"/>
                <p:cNvSpPr/>
                <p:nvPr/>
              </p:nvSpPr>
              <p:spPr>
                <a:xfrm>
                  <a:off x="1669320" y="3071880"/>
                  <a:ext cx="6132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514440" indent="-5144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令                    ，      是    上的半范数并且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240" name="Object 14"/>
                <p:cNvGraphicFramePr/>
                <p:nvPr/>
              </p:nvGraphicFramePr>
              <p:xfrm>
                <a:off x="1999800" y="3643200"/>
                <a:ext cx="6005160" cy="565200"/>
              </p:xfrm>
              <a:graphic>
                <a:graphicData uri="http://schemas.openxmlformats.org/presentationml/2006/ole">
                  <p:oleObj r:id="rId19" spid="">
                    <p:embed/>
                    <p:pic>
                      <p:nvPicPr>
                        <p:cNvPr id="241" name="Object 14" descr=""/>
                        <p:cNvPicPr/>
                        <p:nvPr/>
                      </p:nvPicPr>
                      <p:blipFill>
                        <a:blip r:embed="rId20"/>
                        <a:stretch/>
                      </p:blipFill>
                      <p:spPr>
                        <a:xfrm>
                          <a:off x="1999800" y="3643200"/>
                          <a:ext cx="6005160" cy="5652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242" name="Object 15"/>
              <p:cNvGraphicFramePr/>
              <p:nvPr/>
            </p:nvGraphicFramePr>
            <p:xfrm>
              <a:off x="1785600" y="3071880"/>
              <a:ext cx="2012760" cy="53640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243" name="Object 15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1785600" y="3071880"/>
                        <a:ext cx="2012760" cy="536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44" name="Object 16"/>
              <p:cNvGraphicFramePr/>
              <p:nvPr/>
            </p:nvGraphicFramePr>
            <p:xfrm>
              <a:off x="4000320" y="3116160"/>
              <a:ext cx="736560" cy="428400"/>
            </p:xfrm>
            <a:graphic>
              <a:graphicData uri="http://schemas.openxmlformats.org/presentationml/2006/ole">
                <p:oleObj r:id="rId23" spid="">
                  <p:embed/>
                  <p:pic>
                    <p:nvPicPr>
                      <p:cNvPr id="245" name="Object 16" descr=""/>
                      <p:cNvPicPr/>
                      <p:nvPr/>
                    </p:nvPicPr>
                    <p:blipFill>
                      <a:blip r:embed="rId24"/>
                      <a:stretch/>
                    </p:blipFill>
                    <p:spPr>
                      <a:xfrm>
                        <a:off x="4000320" y="3116160"/>
                        <a:ext cx="736560" cy="428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46" name="Object 17"/>
            <p:cNvGraphicFramePr/>
            <p:nvPr/>
          </p:nvGraphicFramePr>
          <p:xfrm>
            <a:off x="5071680" y="3143160"/>
            <a:ext cx="396720" cy="34740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247" name="Object 17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5071680" y="3143160"/>
                      <a:ext cx="396720" cy="34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组合 22"/>
          <p:cNvGrpSpPr/>
          <p:nvPr/>
        </p:nvGrpSpPr>
        <p:grpSpPr>
          <a:xfrm>
            <a:off x="698400" y="2786040"/>
            <a:ext cx="8182080" cy="1708200"/>
            <a:chOff x="698400" y="2786040"/>
            <a:chExt cx="8182080" cy="1708200"/>
          </a:xfrm>
        </p:grpSpPr>
        <p:grpSp>
          <p:nvGrpSpPr>
            <p:cNvPr id="249" name="组合 21"/>
            <p:cNvGrpSpPr/>
            <p:nvPr/>
          </p:nvGrpSpPr>
          <p:grpSpPr>
            <a:xfrm>
              <a:off x="698400" y="2786040"/>
              <a:ext cx="8182080" cy="1708200"/>
              <a:chOff x="698400" y="2786040"/>
              <a:chExt cx="8182080" cy="1708200"/>
            </a:xfrm>
          </p:grpSpPr>
          <p:grpSp>
            <p:nvGrpSpPr>
              <p:cNvPr id="250" name="组合 9"/>
              <p:cNvGrpSpPr/>
              <p:nvPr/>
            </p:nvGrpSpPr>
            <p:grpSpPr>
              <a:xfrm>
                <a:off x="698400" y="2786040"/>
                <a:ext cx="8182080" cy="1708200"/>
                <a:chOff x="698400" y="2786040"/>
                <a:chExt cx="8182080" cy="1708200"/>
              </a:xfrm>
            </p:grpSpPr>
            <p:grpSp>
              <p:nvGrpSpPr>
                <p:cNvPr id="251" name="组合 22"/>
                <p:cNvGrpSpPr/>
                <p:nvPr/>
              </p:nvGrpSpPr>
              <p:grpSpPr>
                <a:xfrm>
                  <a:off x="698400" y="2786040"/>
                  <a:ext cx="8182080" cy="1708200"/>
                  <a:chOff x="698400" y="2786040"/>
                  <a:chExt cx="8182080" cy="1708200"/>
                </a:xfrm>
              </p:grpSpPr>
              <p:grpSp>
                <p:nvGrpSpPr>
                  <p:cNvPr id="252" name="组合 25"/>
                  <p:cNvGrpSpPr/>
                  <p:nvPr/>
                </p:nvGrpSpPr>
                <p:grpSpPr>
                  <a:xfrm>
                    <a:off x="698400" y="2786040"/>
                    <a:ext cx="8182080" cy="1708200"/>
                    <a:chOff x="698400" y="2786040"/>
                    <a:chExt cx="8182080" cy="1708200"/>
                  </a:xfrm>
                </p:grpSpPr>
                <p:sp>
                  <p:nvSpPr>
                    <p:cNvPr id="253" name="Rectangle 15"/>
                    <p:cNvSpPr/>
                    <p:nvPr/>
                  </p:nvSpPr>
                  <p:spPr>
                    <a:xfrm>
                      <a:off x="825120" y="2786040"/>
                      <a:ext cx="7148520" cy="947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marL="514440" indent="-514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   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在实数情况，由定理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1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，存在   上的线性泛函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marL="514440" indent="-514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使得                   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.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以     代替   则有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graphicFrame>
                  <p:nvGraphicFramePr>
                    <p:cNvPr id="254" name="Object 6"/>
                    <p:cNvGraphicFramePr/>
                    <p:nvPr/>
                  </p:nvGraphicFramePr>
                  <p:xfrm>
                    <a:off x="698400" y="3929040"/>
                    <a:ext cx="8182080" cy="565200"/>
                  </p:xfrm>
                  <a:graphic>
                    <a:graphicData uri="http://schemas.openxmlformats.org/presentationml/2006/ole">
                      <p:oleObj r:id="rId1" spid="">
                        <p:embed/>
                        <p:pic>
                          <p:nvPicPr>
                            <p:cNvPr id="255" name="Object 6" descr=""/>
                            <p:cNvPicPr/>
                            <p:nvPr/>
                          </p:nvPicPr>
                          <p:blipFill>
                            <a:blip r:embed="rId2"/>
                            <a:stretch/>
                          </p:blipFill>
                          <p:spPr>
                            <a:xfrm>
                              <a:off x="698400" y="3929040"/>
                              <a:ext cx="8182080" cy="56520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</p:oleObj>
                    </a:graphicData>
                  </a:graphic>
                </p:graphicFrame>
              </p:grpSp>
              <p:graphicFrame>
                <p:nvGraphicFramePr>
                  <p:cNvPr id="256" name="Object 7"/>
                  <p:cNvGraphicFramePr/>
                  <p:nvPr/>
                </p:nvGraphicFramePr>
                <p:xfrm>
                  <a:off x="1636560" y="3249360"/>
                  <a:ext cx="3006720" cy="536400"/>
                </p:xfrm>
                <a:graphic>
                  <a:graphicData uri="http://schemas.openxmlformats.org/presentationml/2006/ole">
                    <p:oleObj r:id="rId3" spid="">
                      <p:embed/>
                      <p:pic>
                        <p:nvPicPr>
                          <p:cNvPr id="257" name="Object 7" descr=""/>
                          <p:cNvPicPr/>
                          <p:nvPr/>
                        </p:nvPicPr>
                        <p:blipFill>
                          <a:blip r:embed="rId4"/>
                          <a:stretch/>
                        </p:blipFill>
                        <p:spPr>
                          <a:xfrm>
                            <a:off x="1636560" y="3249360"/>
                            <a:ext cx="3006720" cy="5364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258" name="Object 9"/>
                <p:cNvGraphicFramePr/>
                <p:nvPr/>
              </p:nvGraphicFramePr>
              <p:xfrm>
                <a:off x="5675400" y="2857320"/>
                <a:ext cx="396720" cy="34740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259" name="Object 9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5675400" y="2857320"/>
                          <a:ext cx="396720" cy="347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260" name="Object 10"/>
              <p:cNvGraphicFramePr/>
              <p:nvPr/>
            </p:nvGraphicFramePr>
            <p:xfrm>
              <a:off x="714240" y="3286080"/>
              <a:ext cx="339480" cy="4269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61" name="Object 10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714240" y="3286080"/>
                        <a:ext cx="339480" cy="426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62" name="Object 11"/>
            <p:cNvGraphicFramePr/>
            <p:nvPr/>
          </p:nvGraphicFramePr>
          <p:xfrm>
            <a:off x="6429600" y="3357360"/>
            <a:ext cx="282240" cy="2934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63" name="Object 1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429600" y="3357360"/>
                      <a:ext cx="282240" cy="29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4" name="Object 12"/>
            <p:cNvGraphicFramePr/>
            <p:nvPr/>
          </p:nvGraphicFramePr>
          <p:xfrm>
            <a:off x="5214960" y="3348000"/>
            <a:ext cx="482400" cy="2952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65" name="Object 12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214960" y="3348000"/>
                      <a:ext cx="482400" cy="29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66" name="组合 21"/>
          <p:cNvGrpSpPr/>
          <p:nvPr/>
        </p:nvGrpSpPr>
        <p:grpSpPr>
          <a:xfrm>
            <a:off x="977760" y="642960"/>
            <a:ext cx="6948720" cy="1708200"/>
            <a:chOff x="977760" y="642960"/>
            <a:chExt cx="6948720" cy="1708200"/>
          </a:xfrm>
        </p:grpSpPr>
        <p:grpSp>
          <p:nvGrpSpPr>
            <p:cNvPr id="267" name="组合 9"/>
            <p:cNvGrpSpPr/>
            <p:nvPr/>
          </p:nvGrpSpPr>
          <p:grpSpPr>
            <a:xfrm>
              <a:off x="1399680" y="642960"/>
              <a:ext cx="6526800" cy="1708200"/>
              <a:chOff x="1399680" y="642960"/>
              <a:chExt cx="6526800" cy="1708200"/>
            </a:xfrm>
          </p:grpSpPr>
          <p:grpSp>
            <p:nvGrpSpPr>
              <p:cNvPr id="268" name="组合 22"/>
              <p:cNvGrpSpPr/>
              <p:nvPr/>
            </p:nvGrpSpPr>
            <p:grpSpPr>
              <a:xfrm>
                <a:off x="1399680" y="642960"/>
                <a:ext cx="6526800" cy="1708200"/>
                <a:chOff x="1399680" y="642960"/>
                <a:chExt cx="6526800" cy="1708200"/>
              </a:xfrm>
            </p:grpSpPr>
            <p:grpSp>
              <p:nvGrpSpPr>
                <p:cNvPr id="269" name="组合 25"/>
                <p:cNvGrpSpPr/>
                <p:nvPr/>
              </p:nvGrpSpPr>
              <p:grpSpPr>
                <a:xfrm>
                  <a:off x="1399680" y="642960"/>
                  <a:ext cx="6526800" cy="1708200"/>
                  <a:chOff x="1399680" y="642960"/>
                  <a:chExt cx="6526800" cy="1708200"/>
                </a:xfrm>
              </p:grpSpPr>
              <p:sp>
                <p:nvSpPr>
                  <p:cNvPr id="270" name="Rectangle 15"/>
                  <p:cNvSpPr/>
                  <p:nvPr/>
                </p:nvSpPr>
                <p:spPr>
                  <a:xfrm>
                    <a:off x="1399680" y="642960"/>
                    <a:ext cx="6526800" cy="94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marL="514440" indent="-514440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  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在复数情况，由定理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2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，存在   上的线性泛函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 marL="514440" indent="-514440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使得                               ，并且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271" name="Object 14"/>
                  <p:cNvGraphicFramePr/>
                  <p:nvPr/>
                </p:nvGraphicFramePr>
                <p:xfrm>
                  <a:off x="1785960" y="1785960"/>
                  <a:ext cx="5893200" cy="565200"/>
                </p:xfrm>
                <a:graphic>
                  <a:graphicData uri="http://schemas.openxmlformats.org/presentationml/2006/ole">
                    <p:oleObj r:id="rId13" spid="">
                      <p:embed/>
                      <p:pic>
                        <p:nvPicPr>
                          <p:cNvPr id="272" name="Object 14" descr=""/>
                          <p:cNvPicPr/>
                          <p:nvPr/>
                        </p:nvPicPr>
                        <p:blipFill>
                          <a:blip r:embed="rId14"/>
                          <a:stretch/>
                        </p:blipFill>
                        <p:spPr>
                          <a:xfrm>
                            <a:off x="1785960" y="1785960"/>
                            <a:ext cx="5893200" cy="5652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273" name="Object 15"/>
                <p:cNvGraphicFramePr/>
                <p:nvPr/>
              </p:nvGraphicFramePr>
              <p:xfrm>
                <a:off x="1951200" y="1131840"/>
                <a:ext cx="3121200" cy="484200"/>
              </p:xfrm>
              <a:graphic>
                <a:graphicData uri="http://schemas.openxmlformats.org/presentationml/2006/ole">
                  <p:oleObj r:id="rId15" spid="">
                    <p:embed/>
                    <p:pic>
                      <p:nvPicPr>
                        <p:cNvPr id="274" name="Object 15" descr=""/>
                        <p:cNvPicPr/>
                        <p:nvPr/>
                      </p:nvPicPr>
                      <p:blipFill>
                        <a:blip r:embed="rId16"/>
                        <a:stretch/>
                      </p:blipFill>
                      <p:spPr>
                        <a:xfrm>
                          <a:off x="1951200" y="1131840"/>
                          <a:ext cx="3121200" cy="4842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275" name="Object 16"/>
              <p:cNvGraphicFramePr/>
              <p:nvPr/>
            </p:nvGraphicFramePr>
            <p:xfrm>
              <a:off x="5939280" y="714240"/>
              <a:ext cx="396720" cy="34740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276" name="Object 16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5939280" y="714240"/>
                        <a:ext cx="396720" cy="347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77" name="Object 17"/>
            <p:cNvGraphicFramePr/>
            <p:nvPr/>
          </p:nvGraphicFramePr>
          <p:xfrm>
            <a:off x="977760" y="1143000"/>
            <a:ext cx="339480" cy="426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78" name="Object 17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977760" y="1143000"/>
                      <a:ext cx="339480" cy="42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组合 1"/>
          <p:cNvGrpSpPr/>
          <p:nvPr/>
        </p:nvGrpSpPr>
        <p:grpSpPr>
          <a:xfrm>
            <a:off x="1326600" y="642960"/>
            <a:ext cx="6820920" cy="2563920"/>
            <a:chOff x="1326600" y="642960"/>
            <a:chExt cx="6820920" cy="2563920"/>
          </a:xfrm>
        </p:grpSpPr>
        <p:grpSp>
          <p:nvGrpSpPr>
            <p:cNvPr id="280" name="组合 22"/>
            <p:cNvGrpSpPr/>
            <p:nvPr/>
          </p:nvGrpSpPr>
          <p:grpSpPr>
            <a:xfrm>
              <a:off x="1326600" y="642960"/>
              <a:ext cx="6820920" cy="2563920"/>
              <a:chOff x="1326600" y="642960"/>
              <a:chExt cx="6820920" cy="2563920"/>
            </a:xfrm>
          </p:grpSpPr>
          <p:grpSp>
            <p:nvGrpSpPr>
              <p:cNvPr id="281" name="组合 25"/>
              <p:cNvGrpSpPr/>
              <p:nvPr/>
            </p:nvGrpSpPr>
            <p:grpSpPr>
              <a:xfrm>
                <a:off x="1326600" y="642960"/>
                <a:ext cx="6820920" cy="2563920"/>
                <a:chOff x="1326600" y="642960"/>
                <a:chExt cx="6820920" cy="2563920"/>
              </a:xfrm>
            </p:grpSpPr>
            <p:sp>
              <p:nvSpPr>
                <p:cNvPr id="282" name="Rectangle 15"/>
                <p:cNvSpPr/>
                <p:nvPr/>
              </p:nvSpPr>
              <p:spPr>
                <a:xfrm>
                  <a:off x="1326600" y="642960"/>
                  <a:ext cx="6820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514440" indent="-5144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从而                                        ，  连续，此外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283" name="Object 2"/>
                <p:cNvGraphicFramePr/>
                <p:nvPr/>
              </p:nvGraphicFramePr>
              <p:xfrm>
                <a:off x="2286000" y="1285920"/>
                <a:ext cx="5178600" cy="192096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284" name="Object 2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2286000" y="1285920"/>
                          <a:ext cx="5178600" cy="1920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285" name="Object 3"/>
              <p:cNvGraphicFramePr/>
              <p:nvPr/>
            </p:nvGraphicFramePr>
            <p:xfrm>
              <a:off x="1928880" y="677880"/>
              <a:ext cx="3827520" cy="536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86" name="Object 3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28880" y="677880"/>
                        <a:ext cx="3827520" cy="536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87" name="Object 5"/>
            <p:cNvGraphicFramePr/>
            <p:nvPr/>
          </p:nvGraphicFramePr>
          <p:xfrm>
            <a:off x="6029640" y="674640"/>
            <a:ext cx="339480" cy="428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88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29640" y="674640"/>
                      <a:ext cx="339480" cy="42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89" name="组合 9"/>
          <p:cNvGrpSpPr/>
          <p:nvPr/>
        </p:nvGrpSpPr>
        <p:grpSpPr>
          <a:xfrm>
            <a:off x="851760" y="3571920"/>
            <a:ext cx="3335400" cy="534960"/>
            <a:chOff x="851760" y="3571920"/>
            <a:chExt cx="3335400" cy="534960"/>
          </a:xfrm>
        </p:grpSpPr>
        <p:sp>
          <p:nvSpPr>
            <p:cNvPr id="290" name="Rectangle 15"/>
            <p:cNvSpPr/>
            <p:nvPr/>
          </p:nvSpPr>
          <p:spPr>
            <a:xfrm>
              <a:off x="851760" y="3571920"/>
              <a:ext cx="333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总之，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91" name="Object 6"/>
            <p:cNvGraphicFramePr/>
            <p:nvPr/>
          </p:nvGraphicFramePr>
          <p:xfrm>
            <a:off x="2143080" y="3571920"/>
            <a:ext cx="1387440" cy="534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92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143080" y="3571920"/>
                      <a:ext cx="1387440" cy="53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4:08:53Z</dcterms:created>
  <dc:creator>zlx</dc:creator>
  <dc:description/>
  <dc:language>en-US</dc:language>
  <cp:lastModifiedBy>2012</cp:lastModifiedBy>
  <dcterms:modified xsi:type="dcterms:W3CDTF">2014-11-09T07:24:16Z</dcterms:modified>
  <cp:revision>567</cp:revision>
  <dc:subject/>
  <dc:title>幻灯片 1</dc:title>
</cp:coreProperties>
</file>