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70.wmf" ContentType="image/x-wmf"/>
  <Override PartName="/ppt/media/image114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4FB-7013-4A96-AF34-C0C80D21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9BB-3E25-4ECA-BAF2-862FD07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599-57D8-4DE4-9CF5-2D433807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B94-0CF0-4983-ABB4-3506823A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A792-9D1E-40C4-8497-EAFC9218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9479-C589-4FAB-948D-5A1FE259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57F-1FA1-4D7A-8BEC-9530A548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6FA3-D1E8-426D-A192-650CCF1B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A2A1-52FA-4F22-B63E-807FD85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FAB-04BB-45FA-8DDF-72D42953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C8D-778E-4E10-868D-11E02B7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0FD-A248-4EF1-9077-BF8132A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883-D9F6-4652-A33B-439D336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351-F2C6-4C0B-9982-EC9A2A2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BF1-D7CA-4425-8849-9CF7652D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61C0-7B3D-40B0-98C3-959A6068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B861-4A81-4F4B-818D-5BD74C8F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9DD-CB82-4FEB-9228-FAB5FDA9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253-05FE-4D3E-B873-AE2E0EA6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7F0-F4EF-45BC-B323-086DEF5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B4B-57AE-4240-8D12-CAAE0C6A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40F-CA06-465C-BE96-50F8127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D2E-2CCF-4346-A5A0-D6D783E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282-4024-41EC-A2A9-0185B9A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933-688C-4A22-8801-D564AF3E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C08-ECEA-44E3-AE09-43B10381B82C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9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1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6.wmf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4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六讲  开映射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1"/>
          <p:cNvGrpSpPr/>
          <p:nvPr/>
        </p:nvGrpSpPr>
        <p:grpSpPr>
          <a:xfrm>
            <a:off x="1474920" y="571680"/>
            <a:ext cx="4763520" cy="520560"/>
            <a:chOff x="1474920" y="571680"/>
            <a:chExt cx="4763520" cy="520560"/>
          </a:xfrm>
        </p:grpSpPr>
        <p:sp>
          <p:nvSpPr>
            <p:cNvPr id="324" name="Rectangle 15"/>
            <p:cNvSpPr/>
            <p:nvPr/>
          </p:nvSpPr>
          <p:spPr>
            <a:xfrm>
              <a:off x="1474920" y="571680"/>
              <a:ext cx="47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我们证明，对于给定的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5" name="Object 2"/>
            <p:cNvGraphicFramePr/>
            <p:nvPr/>
          </p:nvGraphicFramePr>
          <p:xfrm>
            <a:off x="5857920" y="714600"/>
            <a:ext cx="255240" cy="2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7920" y="714600"/>
                      <a:ext cx="25524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7" name="Object 3"/>
          <p:cNvGraphicFramePr/>
          <p:nvPr/>
        </p:nvGraphicFramePr>
        <p:xfrm>
          <a:off x="2400480" y="1214280"/>
          <a:ext cx="3439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1214280"/>
                    <a:ext cx="3439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组合 5"/>
          <p:cNvGrpSpPr/>
          <p:nvPr/>
        </p:nvGrpSpPr>
        <p:grpSpPr>
          <a:xfrm>
            <a:off x="1187280" y="2071800"/>
            <a:ext cx="4607640" cy="820800"/>
            <a:chOff x="1187280" y="2071800"/>
            <a:chExt cx="4607640" cy="820800"/>
          </a:xfrm>
        </p:grpSpPr>
        <p:sp>
          <p:nvSpPr>
            <p:cNvPr id="330" name="Rectangle 15"/>
            <p:cNvSpPr/>
            <p:nvPr/>
          </p:nvSpPr>
          <p:spPr>
            <a:xfrm>
              <a:off x="3125160" y="2214720"/>
              <a:ext cx="266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由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1" name="Object 4"/>
            <p:cNvGraphicFramePr/>
            <p:nvPr/>
          </p:nvGraphicFramePr>
          <p:xfrm>
            <a:off x="1187280" y="2071800"/>
            <a:ext cx="2270520" cy="82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7280" y="2071800"/>
                      <a:ext cx="227052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3" name="Object 6"/>
          <p:cNvGraphicFramePr/>
          <p:nvPr/>
        </p:nvGraphicFramePr>
        <p:xfrm>
          <a:off x="5289480" y="2050920"/>
          <a:ext cx="3525840" cy="8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9480" y="2050920"/>
                    <a:ext cx="35258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" name="组合 17"/>
          <p:cNvGrpSpPr/>
          <p:nvPr/>
        </p:nvGrpSpPr>
        <p:grpSpPr>
          <a:xfrm>
            <a:off x="845280" y="2928960"/>
            <a:ext cx="6728040" cy="820800"/>
            <a:chOff x="845280" y="2928960"/>
            <a:chExt cx="6728040" cy="820800"/>
          </a:xfrm>
        </p:grpSpPr>
        <p:grpSp>
          <p:nvGrpSpPr>
            <p:cNvPr id="336" name="组合 12"/>
            <p:cNvGrpSpPr/>
            <p:nvPr/>
          </p:nvGrpSpPr>
          <p:grpSpPr>
            <a:xfrm>
              <a:off x="845280" y="2928960"/>
              <a:ext cx="6728040" cy="820800"/>
              <a:chOff x="845280" y="2928960"/>
              <a:chExt cx="6728040" cy="820800"/>
            </a:xfrm>
          </p:grpSpPr>
          <p:sp>
            <p:nvSpPr>
              <p:cNvPr id="337" name="Rectangle 15"/>
              <p:cNvSpPr/>
              <p:nvPr/>
            </p:nvSpPr>
            <p:spPr>
              <a:xfrm>
                <a:off x="845280" y="3071880"/>
                <a:ext cx="67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存在                    使得                     ，从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8" name="Object 7"/>
              <p:cNvGraphicFramePr/>
              <p:nvPr/>
            </p:nvGraphicFramePr>
            <p:xfrm>
              <a:off x="1785960" y="2928960"/>
              <a:ext cx="1874880" cy="82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39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85960" y="2928960"/>
                        <a:ext cx="1874880" cy="82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0" name="Object 8"/>
            <p:cNvGraphicFramePr/>
            <p:nvPr/>
          </p:nvGraphicFramePr>
          <p:xfrm>
            <a:off x="4501080" y="2928960"/>
            <a:ext cx="2073240" cy="820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01080" y="2928960"/>
                      <a:ext cx="207324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2" name="Object 9"/>
          <p:cNvGraphicFramePr/>
          <p:nvPr/>
        </p:nvGraphicFramePr>
        <p:xfrm>
          <a:off x="2571840" y="3714840"/>
          <a:ext cx="3463920" cy="8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1840" y="3714840"/>
                    <a:ext cx="3463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8"/>
          <p:cNvGrpSpPr/>
          <p:nvPr/>
        </p:nvGrpSpPr>
        <p:grpSpPr>
          <a:xfrm>
            <a:off x="983160" y="428760"/>
            <a:ext cx="6300360" cy="877680"/>
            <a:chOff x="983160" y="428760"/>
            <a:chExt cx="6300360" cy="877680"/>
          </a:xfrm>
        </p:grpSpPr>
        <p:sp>
          <p:nvSpPr>
            <p:cNvPr id="345" name="Rectangle 15"/>
            <p:cNvSpPr/>
            <p:nvPr/>
          </p:nvSpPr>
          <p:spPr>
            <a:xfrm>
              <a:off x="983160" y="571320"/>
              <a:ext cx="28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仍由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2"/>
            <p:cNvGraphicFramePr/>
            <p:nvPr/>
          </p:nvGraphicFramePr>
          <p:xfrm>
            <a:off x="3616200" y="428760"/>
            <a:ext cx="3667320" cy="87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428760"/>
                      <a:ext cx="366732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8" name="组合 3"/>
          <p:cNvGrpSpPr/>
          <p:nvPr/>
        </p:nvGrpSpPr>
        <p:grpSpPr>
          <a:xfrm>
            <a:off x="845280" y="1357200"/>
            <a:ext cx="6728040" cy="820800"/>
            <a:chOff x="845280" y="1357200"/>
            <a:chExt cx="6728040" cy="820800"/>
          </a:xfrm>
        </p:grpSpPr>
        <p:grpSp>
          <p:nvGrpSpPr>
            <p:cNvPr id="349" name="组合 12"/>
            <p:cNvGrpSpPr/>
            <p:nvPr/>
          </p:nvGrpSpPr>
          <p:grpSpPr>
            <a:xfrm>
              <a:off x="845280" y="1357200"/>
              <a:ext cx="6728040" cy="820800"/>
              <a:chOff x="845280" y="1357200"/>
              <a:chExt cx="6728040" cy="820800"/>
            </a:xfrm>
          </p:grpSpPr>
          <p:sp>
            <p:nvSpPr>
              <p:cNvPr id="350" name="Rectangle 15"/>
              <p:cNvSpPr/>
              <p:nvPr/>
            </p:nvSpPr>
            <p:spPr>
              <a:xfrm>
                <a:off x="845280" y="1500120"/>
                <a:ext cx="672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存在                    使得                     ，从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1" name="Object 3"/>
              <p:cNvGraphicFramePr/>
              <p:nvPr/>
            </p:nvGraphicFramePr>
            <p:xfrm>
              <a:off x="1700280" y="1357200"/>
              <a:ext cx="2046240" cy="820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00280" y="1357200"/>
                        <a:ext cx="2046240" cy="82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3" name="Object 4"/>
            <p:cNvGraphicFramePr/>
            <p:nvPr/>
          </p:nvGraphicFramePr>
          <p:xfrm>
            <a:off x="4486680" y="1357200"/>
            <a:ext cx="2102040" cy="82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86680" y="1357200"/>
                      <a:ext cx="210204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5" name="Object 5"/>
          <p:cNvGraphicFramePr/>
          <p:nvPr/>
        </p:nvGraphicFramePr>
        <p:xfrm>
          <a:off x="1643040" y="2143080"/>
          <a:ext cx="564984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3040" y="2143080"/>
                    <a:ext cx="56498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"/>
          <p:cNvGraphicFramePr/>
          <p:nvPr/>
        </p:nvGraphicFramePr>
        <p:xfrm>
          <a:off x="3071880" y="3000240"/>
          <a:ext cx="1404720" cy="4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000240"/>
                    <a:ext cx="1404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9" name="组合 12"/>
          <p:cNvGrpSpPr/>
          <p:nvPr/>
        </p:nvGrpSpPr>
        <p:grpSpPr>
          <a:xfrm>
            <a:off x="1137240" y="3214800"/>
            <a:ext cx="3823200" cy="820800"/>
            <a:chOff x="1137240" y="3214800"/>
            <a:chExt cx="3823200" cy="820800"/>
          </a:xfrm>
        </p:grpSpPr>
        <p:sp>
          <p:nvSpPr>
            <p:cNvPr id="360" name="Rectangle 15"/>
            <p:cNvSpPr/>
            <p:nvPr/>
          </p:nvSpPr>
          <p:spPr>
            <a:xfrm>
              <a:off x="1137240" y="3357720"/>
              <a:ext cx="382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般来说，               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1" name="Object 7"/>
            <p:cNvGraphicFramePr/>
            <p:nvPr/>
          </p:nvGraphicFramePr>
          <p:xfrm>
            <a:off x="2571840" y="3214800"/>
            <a:ext cx="2244960" cy="820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1840" y="3214800"/>
                      <a:ext cx="224496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63" name="Object 9"/>
          <p:cNvGraphicFramePr/>
          <p:nvPr/>
        </p:nvGraphicFramePr>
        <p:xfrm>
          <a:off x="2041560" y="3786120"/>
          <a:ext cx="5280120" cy="8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41560" y="3786120"/>
                    <a:ext cx="52801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8"/>
          <p:cNvGrpSpPr/>
          <p:nvPr/>
        </p:nvGrpSpPr>
        <p:grpSpPr>
          <a:xfrm>
            <a:off x="785880" y="385920"/>
            <a:ext cx="7810200" cy="1585800"/>
            <a:chOff x="785880" y="385920"/>
            <a:chExt cx="7810200" cy="1585800"/>
          </a:xfrm>
        </p:grpSpPr>
        <p:grpSp>
          <p:nvGrpSpPr>
            <p:cNvPr id="366" name="组合 1"/>
            <p:cNvGrpSpPr/>
            <p:nvPr/>
          </p:nvGrpSpPr>
          <p:grpSpPr>
            <a:xfrm>
              <a:off x="1627200" y="385920"/>
              <a:ext cx="6968880" cy="900000"/>
              <a:chOff x="1627200" y="385920"/>
              <a:chExt cx="6968880" cy="900000"/>
            </a:xfrm>
          </p:grpSpPr>
          <p:sp>
            <p:nvSpPr>
              <p:cNvPr id="367" name="Rectangle 15"/>
              <p:cNvSpPr/>
              <p:nvPr/>
            </p:nvSpPr>
            <p:spPr>
              <a:xfrm>
                <a:off x="1627200" y="500040"/>
                <a:ext cx="696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现在一方面                                       另一方面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68" name="Object 2"/>
              <p:cNvGraphicFramePr/>
              <p:nvPr/>
            </p:nvGraphicFramePr>
            <p:xfrm>
              <a:off x="3286080" y="385920"/>
              <a:ext cx="3610080" cy="90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86080" y="385920"/>
                        <a:ext cx="3610080" cy="90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0" name="Object 3"/>
            <p:cNvGraphicFramePr/>
            <p:nvPr/>
          </p:nvGraphicFramePr>
          <p:xfrm>
            <a:off x="785880" y="1071720"/>
            <a:ext cx="2643120" cy="90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880" y="1071720"/>
                      <a:ext cx="264312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2" name="组合 9"/>
          <p:cNvGrpSpPr/>
          <p:nvPr/>
        </p:nvGrpSpPr>
        <p:grpSpPr>
          <a:xfrm>
            <a:off x="3259080" y="1143000"/>
            <a:ext cx="5386320" cy="900000"/>
            <a:chOff x="3259080" y="1143000"/>
            <a:chExt cx="5386320" cy="900000"/>
          </a:xfrm>
        </p:grpSpPr>
        <p:sp>
          <p:nvSpPr>
            <p:cNvPr id="373" name="Rectangle 15"/>
            <p:cNvSpPr/>
            <p:nvPr/>
          </p:nvSpPr>
          <p:spPr>
            <a:xfrm>
              <a:off x="3259080" y="1285560"/>
              <a:ext cx="31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完备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4" name="Object 4"/>
            <p:cNvGraphicFramePr/>
            <p:nvPr/>
          </p:nvGraphicFramePr>
          <p:xfrm>
            <a:off x="3672000" y="1357200"/>
            <a:ext cx="3981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72000" y="1357200"/>
                      <a:ext cx="3981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Object 5"/>
            <p:cNvGraphicFramePr/>
            <p:nvPr/>
          </p:nvGraphicFramePr>
          <p:xfrm>
            <a:off x="6143760" y="1143000"/>
            <a:ext cx="2501640" cy="90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7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3760" y="1143000"/>
                      <a:ext cx="25016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8" name="组合 16"/>
          <p:cNvGrpSpPr/>
          <p:nvPr/>
        </p:nvGrpSpPr>
        <p:grpSpPr>
          <a:xfrm>
            <a:off x="573840" y="2143080"/>
            <a:ext cx="7939440" cy="1986120"/>
            <a:chOff x="573840" y="2143080"/>
            <a:chExt cx="7939440" cy="1986120"/>
          </a:xfrm>
        </p:grpSpPr>
        <p:grpSp>
          <p:nvGrpSpPr>
            <p:cNvPr id="379" name="组合 10"/>
            <p:cNvGrpSpPr/>
            <p:nvPr/>
          </p:nvGrpSpPr>
          <p:grpSpPr>
            <a:xfrm>
              <a:off x="573840" y="2143080"/>
              <a:ext cx="7939440" cy="1986120"/>
              <a:chOff x="573840" y="2143080"/>
              <a:chExt cx="7939440" cy="1986120"/>
            </a:xfrm>
          </p:grpSpPr>
          <p:sp>
            <p:nvSpPr>
              <p:cNvPr id="380" name="Rectangle 15"/>
              <p:cNvSpPr/>
              <p:nvPr/>
            </p:nvSpPr>
            <p:spPr>
              <a:xfrm>
                <a:off x="573840" y="2328840"/>
                <a:ext cx="79394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                        知                         同时   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连续的，故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1" name="Object 6"/>
              <p:cNvGraphicFramePr/>
              <p:nvPr/>
            </p:nvGraphicFramePr>
            <p:xfrm>
              <a:off x="4572360" y="2357280"/>
              <a:ext cx="2305080" cy="479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572360" y="2357280"/>
                        <a:ext cx="230508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3" name="Object 7"/>
              <p:cNvGraphicFramePr/>
              <p:nvPr/>
            </p:nvGraphicFramePr>
            <p:xfrm>
              <a:off x="1857600" y="2143080"/>
              <a:ext cx="2303640" cy="90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84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857600" y="2143080"/>
                        <a:ext cx="2303640" cy="90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5" name="Object 8"/>
            <p:cNvGraphicFramePr/>
            <p:nvPr/>
          </p:nvGraphicFramePr>
          <p:xfrm>
            <a:off x="7716240" y="2368440"/>
            <a:ext cx="312480" cy="34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16240" y="23684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Object 9"/>
            <p:cNvGraphicFramePr/>
            <p:nvPr/>
          </p:nvGraphicFramePr>
          <p:xfrm>
            <a:off x="2571840" y="3000600"/>
            <a:ext cx="3384720" cy="95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71840" y="3000600"/>
                      <a:ext cx="3384720" cy="9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9" name="组合 23"/>
          <p:cNvGrpSpPr/>
          <p:nvPr/>
        </p:nvGrpSpPr>
        <p:grpSpPr>
          <a:xfrm>
            <a:off x="1662840" y="3929040"/>
            <a:ext cx="6675840" cy="820800"/>
            <a:chOff x="1662840" y="3929040"/>
            <a:chExt cx="6675840" cy="820800"/>
          </a:xfrm>
        </p:grpSpPr>
        <p:sp>
          <p:nvSpPr>
            <p:cNvPr id="390" name="Rectangle 15"/>
            <p:cNvSpPr/>
            <p:nvPr/>
          </p:nvSpPr>
          <p:spPr>
            <a:xfrm>
              <a:off x="1662840" y="4071960"/>
              <a:ext cx="66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引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是开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1" name="Object 12"/>
            <p:cNvGraphicFramePr/>
            <p:nvPr/>
          </p:nvGraphicFramePr>
          <p:xfrm>
            <a:off x="2500200" y="3929040"/>
            <a:ext cx="2525760" cy="820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2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00200" y="3929040"/>
                      <a:ext cx="2525760" cy="8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3" name="Object 13"/>
            <p:cNvGraphicFramePr/>
            <p:nvPr/>
          </p:nvGraphicFramePr>
          <p:xfrm>
            <a:off x="6572520" y="4143240"/>
            <a:ext cx="31248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94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520" y="41432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"/>
          <p:cNvGrpSpPr/>
          <p:nvPr/>
        </p:nvGrpSpPr>
        <p:grpSpPr>
          <a:xfrm>
            <a:off x="2286000" y="500040"/>
            <a:ext cx="5100840" cy="1481400"/>
            <a:chOff x="2286000" y="500040"/>
            <a:chExt cx="5100840" cy="1481400"/>
          </a:xfrm>
        </p:grpSpPr>
        <p:sp>
          <p:nvSpPr>
            <p:cNvPr id="396" name="Rectangle 15"/>
            <p:cNvSpPr/>
            <p:nvPr/>
          </p:nvSpPr>
          <p:spPr>
            <a:xfrm>
              <a:off x="2333520" y="607680"/>
              <a:ext cx="505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      ，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已证明的一样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7" name="Object 2"/>
            <p:cNvGraphicFramePr/>
            <p:nvPr/>
          </p:nvGraphicFramePr>
          <p:xfrm>
            <a:off x="2286000" y="500040"/>
            <a:ext cx="1987560" cy="82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500040"/>
                      <a:ext cx="198756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9" name="Object 3"/>
          <p:cNvGraphicFramePr/>
          <p:nvPr/>
        </p:nvGraphicFramePr>
        <p:xfrm>
          <a:off x="1000080" y="1285920"/>
          <a:ext cx="303840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285920"/>
                    <a:ext cx="30384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4"/>
          <p:cNvGraphicFramePr/>
          <p:nvPr/>
        </p:nvGraphicFramePr>
        <p:xfrm>
          <a:off x="2319480" y="2143080"/>
          <a:ext cx="4260600" cy="90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9480" y="2143080"/>
                    <a:ext cx="42606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组合 8"/>
          <p:cNvGrpSpPr/>
          <p:nvPr/>
        </p:nvGrpSpPr>
        <p:grpSpPr>
          <a:xfrm>
            <a:off x="1785600" y="3500280"/>
            <a:ext cx="1657800" cy="520560"/>
            <a:chOff x="1785600" y="3500280"/>
            <a:chExt cx="1657800" cy="520560"/>
          </a:xfrm>
        </p:grpSpPr>
        <p:sp>
          <p:nvSpPr>
            <p:cNvPr id="404" name="Rectangle 15"/>
            <p:cNvSpPr/>
            <p:nvPr/>
          </p:nvSpPr>
          <p:spPr>
            <a:xfrm>
              <a:off x="1860480" y="3500280"/>
              <a:ext cx="15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5" name="Object 5"/>
            <p:cNvGraphicFramePr/>
            <p:nvPr/>
          </p:nvGraphicFramePr>
          <p:xfrm>
            <a:off x="1785600" y="3571560"/>
            <a:ext cx="312480" cy="346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85600" y="3571560"/>
                      <a:ext cx="312480" cy="34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3"/>
          <p:cNvSpPr/>
          <p:nvPr/>
        </p:nvSpPr>
        <p:spPr>
          <a:xfrm>
            <a:off x="285840" y="6429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 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逆算子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8" name="组合 12"/>
          <p:cNvGrpSpPr/>
          <p:nvPr/>
        </p:nvGrpSpPr>
        <p:grpSpPr>
          <a:xfrm>
            <a:off x="1360440" y="1285920"/>
            <a:ext cx="7219080" cy="1800360"/>
            <a:chOff x="1360440" y="1285920"/>
            <a:chExt cx="7219080" cy="1800360"/>
          </a:xfrm>
        </p:grpSpPr>
        <p:grpSp>
          <p:nvGrpSpPr>
            <p:cNvPr id="409" name="组合 16"/>
            <p:cNvGrpSpPr/>
            <p:nvPr/>
          </p:nvGrpSpPr>
          <p:grpSpPr>
            <a:xfrm>
              <a:off x="1360440" y="1285920"/>
              <a:ext cx="7219080" cy="1800360"/>
              <a:chOff x="1360440" y="1285920"/>
              <a:chExt cx="7219080" cy="1800360"/>
            </a:xfrm>
          </p:grpSpPr>
          <p:grpSp>
            <p:nvGrpSpPr>
              <p:cNvPr id="410" name="组合 52"/>
              <p:cNvGrpSpPr/>
              <p:nvPr/>
            </p:nvGrpSpPr>
            <p:grpSpPr>
              <a:xfrm>
                <a:off x="1360440" y="1285920"/>
                <a:ext cx="7219080" cy="1800360"/>
                <a:chOff x="1360440" y="1285920"/>
                <a:chExt cx="7219080" cy="1800360"/>
              </a:xfrm>
            </p:grpSpPr>
            <p:grpSp>
              <p:nvGrpSpPr>
                <p:cNvPr id="411" name="组合 48"/>
                <p:cNvGrpSpPr/>
                <p:nvPr/>
              </p:nvGrpSpPr>
              <p:grpSpPr>
                <a:xfrm>
                  <a:off x="1360440" y="1285920"/>
                  <a:ext cx="5990040" cy="1800360"/>
                  <a:chOff x="1360440" y="1285920"/>
                  <a:chExt cx="5990040" cy="1800360"/>
                </a:xfrm>
              </p:grpSpPr>
              <p:sp>
                <p:nvSpPr>
                  <p:cNvPr id="412" name="Rectangle 15"/>
                  <p:cNvSpPr/>
                  <p:nvPr/>
                </p:nvSpPr>
                <p:spPr>
                  <a:xfrm>
                    <a:off x="1823400" y="1285920"/>
                    <a:ext cx="552708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 是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一一的有界线性算子，且        是   中的第二纲集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     是定义在全空间   上的有界线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此时   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13" name="Object 2"/>
                  <p:cNvGraphicFramePr/>
                  <p:nvPr/>
                </p:nvGraphicFramePr>
                <p:xfrm>
                  <a:off x="1360440" y="1360440"/>
                  <a:ext cx="3967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14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360440" y="1360440"/>
                            <a:ext cx="3967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15" name="Object 3"/>
                <p:cNvGraphicFramePr/>
                <p:nvPr/>
              </p:nvGraphicFramePr>
              <p:xfrm>
                <a:off x="7072920" y="1357200"/>
                <a:ext cx="1506600" cy="372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16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072920" y="1357200"/>
                          <a:ext cx="150660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17" name="Object 4"/>
                <p:cNvGraphicFramePr/>
                <p:nvPr/>
              </p:nvGraphicFramePr>
              <p:xfrm>
                <a:off x="5858280" y="1785960"/>
                <a:ext cx="36036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18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858280" y="1785960"/>
                          <a:ext cx="36036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19" name="Object 5"/>
              <p:cNvGraphicFramePr/>
              <p:nvPr/>
            </p:nvGraphicFramePr>
            <p:xfrm>
              <a:off x="4215240" y="1395360"/>
              <a:ext cx="361800" cy="33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5240" y="1395360"/>
                        <a:ext cx="36180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1" name="Object 6"/>
            <p:cNvGraphicFramePr/>
            <p:nvPr/>
          </p:nvGraphicFramePr>
          <p:xfrm>
            <a:off x="4683240" y="1785960"/>
            <a:ext cx="98244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83240" y="1785960"/>
                      <a:ext cx="98244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20"/>
          <p:cNvGraphicFramePr/>
          <p:nvPr/>
        </p:nvGraphicFramePr>
        <p:xfrm>
          <a:off x="714240" y="2182680"/>
          <a:ext cx="588960" cy="38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182680"/>
                    <a:ext cx="588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21"/>
          <p:cNvGraphicFramePr/>
          <p:nvPr/>
        </p:nvGraphicFramePr>
        <p:xfrm>
          <a:off x="7786800" y="2214720"/>
          <a:ext cx="361800" cy="33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6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86800" y="2214720"/>
                    <a:ext cx="3618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22"/>
          <p:cNvGraphicFramePr/>
          <p:nvPr/>
        </p:nvGraphicFramePr>
        <p:xfrm>
          <a:off x="3786120" y="2214720"/>
          <a:ext cx="362160" cy="33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6120" y="2214720"/>
                    <a:ext cx="3621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18"/>
          <p:cNvGrpSpPr/>
          <p:nvPr/>
        </p:nvGrpSpPr>
        <p:grpSpPr>
          <a:xfrm>
            <a:off x="1158480" y="785880"/>
            <a:ext cx="6121440" cy="947160"/>
            <a:chOff x="1158480" y="785880"/>
            <a:chExt cx="6121440" cy="947160"/>
          </a:xfrm>
        </p:grpSpPr>
        <p:grpSp>
          <p:nvGrpSpPr>
            <p:cNvPr id="430" name="组合 18"/>
            <p:cNvGrpSpPr/>
            <p:nvPr/>
          </p:nvGrpSpPr>
          <p:grpSpPr>
            <a:xfrm>
              <a:off x="1658880" y="785880"/>
              <a:ext cx="5621040" cy="947160"/>
              <a:chOff x="1658880" y="785880"/>
              <a:chExt cx="5621040" cy="947160"/>
            </a:xfrm>
          </p:grpSpPr>
          <p:sp>
            <p:nvSpPr>
              <p:cNvPr id="431" name="Rectangle 15"/>
              <p:cNvSpPr/>
              <p:nvPr/>
            </p:nvSpPr>
            <p:spPr>
              <a:xfrm>
                <a:off x="2413080" y="785880"/>
                <a:ext cx="4866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一一的，因此     存在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开映射定理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到上的开映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32" name="Object 2"/>
              <p:cNvGraphicFramePr/>
              <p:nvPr/>
            </p:nvGraphicFramePr>
            <p:xfrm>
              <a:off x="1658880" y="857160"/>
              <a:ext cx="412560" cy="366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58880" y="857160"/>
                        <a:ext cx="41256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34" name="Object 26"/>
            <p:cNvGraphicFramePr/>
            <p:nvPr/>
          </p:nvGraphicFramePr>
          <p:xfrm>
            <a:off x="4486320" y="830160"/>
            <a:ext cx="65700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5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6320" y="830160"/>
                      <a:ext cx="6570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Object 18"/>
            <p:cNvGraphicFramePr/>
            <p:nvPr/>
          </p:nvGraphicFramePr>
          <p:xfrm>
            <a:off x="1158480" y="1276560"/>
            <a:ext cx="412560" cy="366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7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58480" y="1276560"/>
                      <a:ext cx="41256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9" name="组合 20"/>
          <p:cNvGrpSpPr/>
          <p:nvPr/>
        </p:nvGrpSpPr>
        <p:grpSpPr>
          <a:xfrm>
            <a:off x="4560480" y="1214280"/>
            <a:ext cx="2515320" cy="520560"/>
            <a:chOff x="4560480" y="1214280"/>
            <a:chExt cx="2515320" cy="520560"/>
          </a:xfrm>
        </p:grpSpPr>
        <p:sp>
          <p:nvSpPr>
            <p:cNvPr id="440" name="Rectangle 15"/>
            <p:cNvSpPr/>
            <p:nvPr/>
          </p:nvSpPr>
          <p:spPr>
            <a:xfrm>
              <a:off x="4560480" y="1214280"/>
              <a:ext cx="251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      是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1" name="Object 19"/>
            <p:cNvGraphicFramePr/>
            <p:nvPr/>
          </p:nvGraphicFramePr>
          <p:xfrm>
            <a:off x="5250960" y="1214280"/>
            <a:ext cx="657000" cy="41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2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50960" y="1214280"/>
                      <a:ext cx="65700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组合 29"/>
          <p:cNvGrpSpPr/>
          <p:nvPr/>
        </p:nvGrpSpPr>
        <p:grpSpPr>
          <a:xfrm>
            <a:off x="2192400" y="1785960"/>
            <a:ext cx="5316480" cy="947160"/>
            <a:chOff x="2192400" y="1785960"/>
            <a:chExt cx="5316480" cy="947160"/>
          </a:xfrm>
        </p:grpSpPr>
        <p:grpSp>
          <p:nvGrpSpPr>
            <p:cNvPr id="444" name="组合 21"/>
            <p:cNvGrpSpPr/>
            <p:nvPr/>
          </p:nvGrpSpPr>
          <p:grpSpPr>
            <a:xfrm>
              <a:off x="2192400" y="1785960"/>
              <a:ext cx="5316480" cy="947160"/>
              <a:chOff x="2192400" y="1785960"/>
              <a:chExt cx="5316480" cy="947160"/>
            </a:xfrm>
          </p:grpSpPr>
          <p:sp>
            <p:nvSpPr>
              <p:cNvPr id="445" name="Rectangle 15"/>
              <p:cNvSpPr/>
              <p:nvPr/>
            </p:nvSpPr>
            <p:spPr>
              <a:xfrm>
                <a:off x="2192400" y="1785960"/>
                <a:ext cx="531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因此   是         之间的同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第一章第四节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说明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6" name="Object 20"/>
              <p:cNvGraphicFramePr/>
              <p:nvPr/>
            </p:nvGraphicFramePr>
            <p:xfrm>
              <a:off x="2384280" y="1857240"/>
              <a:ext cx="401400" cy="357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7" name="Object 2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384280" y="1857240"/>
                        <a:ext cx="40140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22"/>
            <p:cNvGraphicFramePr/>
            <p:nvPr/>
          </p:nvGraphicFramePr>
          <p:xfrm>
            <a:off x="3095640" y="1857240"/>
            <a:ext cx="975960" cy="450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9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95640" y="1857240"/>
                      <a:ext cx="9759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23"/>
            <p:cNvGraphicFramePr/>
            <p:nvPr/>
          </p:nvGraphicFramePr>
          <p:xfrm>
            <a:off x="2428920" y="2286000"/>
            <a:ext cx="428400" cy="398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1" name="Object 2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920" y="2286000"/>
                      <a:ext cx="428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2" name="Text Box 3"/>
          <p:cNvSpPr/>
          <p:nvPr/>
        </p:nvSpPr>
        <p:spPr>
          <a:xfrm>
            <a:off x="28584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3" name="组合 12"/>
          <p:cNvGrpSpPr/>
          <p:nvPr/>
        </p:nvGrpSpPr>
        <p:grpSpPr>
          <a:xfrm>
            <a:off x="1810440" y="3000240"/>
            <a:ext cx="6407640" cy="947160"/>
            <a:chOff x="1810440" y="3000240"/>
            <a:chExt cx="6407640" cy="947160"/>
          </a:xfrm>
        </p:grpSpPr>
        <p:grpSp>
          <p:nvGrpSpPr>
            <p:cNvPr id="454" name="组合 52"/>
            <p:cNvGrpSpPr/>
            <p:nvPr/>
          </p:nvGrpSpPr>
          <p:grpSpPr>
            <a:xfrm>
              <a:off x="1810440" y="3000240"/>
              <a:ext cx="6407640" cy="947160"/>
              <a:chOff x="1810440" y="3000240"/>
              <a:chExt cx="6407640" cy="947160"/>
            </a:xfrm>
          </p:grpSpPr>
          <p:grpSp>
            <p:nvGrpSpPr>
              <p:cNvPr id="455" name="组合 48"/>
              <p:cNvGrpSpPr/>
              <p:nvPr/>
            </p:nvGrpSpPr>
            <p:grpSpPr>
              <a:xfrm>
                <a:off x="1810440" y="3000240"/>
                <a:ext cx="6407640" cy="947160"/>
                <a:chOff x="1810440" y="3000240"/>
                <a:chExt cx="6407640" cy="947160"/>
              </a:xfrm>
            </p:grpSpPr>
            <p:sp>
              <p:nvSpPr>
                <p:cNvPr id="456" name="Rectangle 15"/>
                <p:cNvSpPr/>
                <p:nvPr/>
              </p:nvSpPr>
              <p:spPr>
                <a:xfrm>
                  <a:off x="1810440" y="3000240"/>
                  <a:ext cx="6407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Banach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空间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的到上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有界线性算子，则存在正数       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7" name="Object 24"/>
                <p:cNvGraphicFramePr/>
                <p:nvPr/>
              </p:nvGraphicFramePr>
              <p:xfrm>
                <a:off x="2071080" y="3071520"/>
                <a:ext cx="736560" cy="4269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458" name="Object 24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071080" y="3071520"/>
                          <a:ext cx="73656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9" name="Object 3"/>
              <p:cNvGraphicFramePr/>
              <p:nvPr/>
            </p:nvGraphicFramePr>
            <p:xfrm>
              <a:off x="5208480" y="3071520"/>
              <a:ext cx="1506600" cy="372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60" name="Object 3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208480" y="3071520"/>
                        <a:ext cx="15066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1" name="Object 6"/>
            <p:cNvGraphicFramePr/>
            <p:nvPr/>
          </p:nvGraphicFramePr>
          <p:xfrm>
            <a:off x="5756040" y="3500280"/>
            <a:ext cx="1244520" cy="414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62" name="Object 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56040" y="3500280"/>
                      <a:ext cx="12445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3" name="Object 29"/>
          <p:cNvGraphicFramePr/>
          <p:nvPr/>
        </p:nvGraphicFramePr>
        <p:xfrm>
          <a:off x="2120760" y="4092480"/>
          <a:ext cx="428940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4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0760" y="4092480"/>
                    <a:ext cx="42894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214200" y="4287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66" name="组合 14"/>
          <p:cNvGrpSpPr/>
          <p:nvPr/>
        </p:nvGrpSpPr>
        <p:grpSpPr>
          <a:xfrm>
            <a:off x="1222920" y="500040"/>
            <a:ext cx="6742440" cy="1946160"/>
            <a:chOff x="1222920" y="500040"/>
            <a:chExt cx="6742440" cy="1946160"/>
          </a:xfrm>
        </p:grpSpPr>
        <p:grpSp>
          <p:nvGrpSpPr>
            <p:cNvPr id="467" name="组合 13"/>
            <p:cNvGrpSpPr/>
            <p:nvPr/>
          </p:nvGrpSpPr>
          <p:grpSpPr>
            <a:xfrm>
              <a:off x="1222920" y="500040"/>
              <a:ext cx="6742440" cy="1946160"/>
              <a:chOff x="1222920" y="500040"/>
              <a:chExt cx="6742440" cy="1946160"/>
            </a:xfrm>
          </p:grpSpPr>
          <p:grpSp>
            <p:nvGrpSpPr>
              <p:cNvPr id="468" name="组合 12"/>
              <p:cNvGrpSpPr/>
              <p:nvPr/>
            </p:nvGrpSpPr>
            <p:grpSpPr>
              <a:xfrm>
                <a:off x="1994760" y="500040"/>
                <a:ext cx="5970600" cy="1373760"/>
                <a:chOff x="1994760" y="500040"/>
                <a:chExt cx="5970600" cy="1373760"/>
              </a:xfrm>
            </p:grpSpPr>
            <p:grpSp>
              <p:nvGrpSpPr>
                <p:cNvPr id="469" name="组合 48"/>
                <p:cNvGrpSpPr/>
                <p:nvPr/>
              </p:nvGrpSpPr>
              <p:grpSpPr>
                <a:xfrm>
                  <a:off x="1994760" y="500040"/>
                  <a:ext cx="5970600" cy="1373760"/>
                  <a:chOff x="1994760" y="500040"/>
                  <a:chExt cx="5970600" cy="1373760"/>
                </a:xfrm>
              </p:grpSpPr>
              <p:sp>
                <p:nvSpPr>
                  <p:cNvPr id="470" name="Rectangle 15"/>
                  <p:cNvSpPr/>
                  <p:nvPr/>
                </p:nvSpPr>
                <p:spPr>
                  <a:xfrm>
                    <a:off x="1994760" y="500040"/>
                    <a:ext cx="597060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线性空间    在两个范数                   之下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均成为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并且存在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则必存在          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71" name="Object 2"/>
                  <p:cNvGraphicFramePr/>
                  <p:nvPr/>
                </p:nvGraphicFramePr>
                <p:xfrm>
                  <a:off x="3580560" y="571320"/>
                  <a:ext cx="396720" cy="347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7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3580560" y="571320"/>
                            <a:ext cx="396720" cy="347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73" name="Object 12"/>
                <p:cNvGraphicFramePr/>
                <p:nvPr/>
              </p:nvGraphicFramePr>
              <p:xfrm>
                <a:off x="6017760" y="1025280"/>
                <a:ext cx="917640" cy="363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74" name="Object 12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017760" y="1025280"/>
                          <a:ext cx="917640" cy="363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5" name="Object 6"/>
              <p:cNvGraphicFramePr/>
              <p:nvPr/>
            </p:nvGraphicFramePr>
            <p:xfrm>
              <a:off x="1222920" y="1428840"/>
              <a:ext cx="3276720" cy="517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76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22920" y="1428840"/>
                        <a:ext cx="3276720" cy="51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7"/>
              <p:cNvGraphicFramePr/>
              <p:nvPr/>
            </p:nvGraphicFramePr>
            <p:xfrm>
              <a:off x="6311520" y="1428840"/>
              <a:ext cx="884160" cy="363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78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311520" y="1428840"/>
                        <a:ext cx="884160" cy="36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8"/>
              <p:cNvGraphicFramePr/>
              <p:nvPr/>
            </p:nvGraphicFramePr>
            <p:xfrm>
              <a:off x="1278720" y="1928880"/>
              <a:ext cx="3308400" cy="517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80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278720" y="1928880"/>
                        <a:ext cx="3308400" cy="51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1" name="Object 5"/>
            <p:cNvGraphicFramePr/>
            <p:nvPr/>
          </p:nvGraphicFramePr>
          <p:xfrm>
            <a:off x="5786640" y="571320"/>
            <a:ext cx="1900080" cy="517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86640" y="571320"/>
                      <a:ext cx="1900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3" name="Text Box 3"/>
          <p:cNvSpPr/>
          <p:nvPr/>
        </p:nvSpPr>
        <p:spPr>
          <a:xfrm>
            <a:off x="285840" y="2357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4" name="组合 26"/>
          <p:cNvGrpSpPr/>
          <p:nvPr/>
        </p:nvGrpSpPr>
        <p:grpSpPr>
          <a:xfrm>
            <a:off x="1052280" y="2428920"/>
            <a:ext cx="7507440" cy="1800360"/>
            <a:chOff x="1052280" y="2428920"/>
            <a:chExt cx="7507440" cy="1800360"/>
          </a:xfrm>
        </p:grpSpPr>
        <p:grpSp>
          <p:nvGrpSpPr>
            <p:cNvPr id="485" name="组合 12"/>
            <p:cNvGrpSpPr/>
            <p:nvPr/>
          </p:nvGrpSpPr>
          <p:grpSpPr>
            <a:xfrm>
              <a:off x="1565280" y="2428920"/>
              <a:ext cx="6994440" cy="1800360"/>
              <a:chOff x="1565280" y="2428920"/>
              <a:chExt cx="6994440" cy="1800360"/>
            </a:xfrm>
          </p:grpSpPr>
          <p:grpSp>
            <p:nvGrpSpPr>
              <p:cNvPr id="486" name="组合 52"/>
              <p:cNvGrpSpPr/>
              <p:nvPr/>
            </p:nvGrpSpPr>
            <p:grpSpPr>
              <a:xfrm>
                <a:off x="1565280" y="2428920"/>
                <a:ext cx="6994440" cy="1800360"/>
                <a:chOff x="1565280" y="2428920"/>
                <a:chExt cx="6994440" cy="1800360"/>
              </a:xfrm>
            </p:grpSpPr>
            <p:sp>
              <p:nvSpPr>
                <p:cNvPr id="487" name="Rectangle 15"/>
                <p:cNvSpPr/>
                <p:nvPr/>
              </p:nvSpPr>
              <p:spPr>
                <a:xfrm>
                  <a:off x="1565280" y="2428920"/>
                  <a:ext cx="699444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记                    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考虑单位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映射                  ，由所设条件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因此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的到上的有界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2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 有界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88" name="Object 3"/>
                <p:cNvGraphicFramePr/>
                <p:nvPr/>
              </p:nvGraphicFramePr>
              <p:xfrm>
                <a:off x="1809720" y="2948040"/>
                <a:ext cx="1706400" cy="4795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489" name="Object 3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809720" y="2948040"/>
                          <a:ext cx="1706400" cy="479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90" name="Object 11"/>
              <p:cNvGraphicFramePr/>
              <p:nvPr/>
            </p:nvGraphicFramePr>
            <p:xfrm>
              <a:off x="5695920" y="2857680"/>
              <a:ext cx="2063880" cy="517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91" name="Object 11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695920" y="2857680"/>
                        <a:ext cx="2063880" cy="51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2" name="Object 12"/>
            <p:cNvGraphicFramePr/>
            <p:nvPr/>
          </p:nvGraphicFramePr>
          <p:xfrm>
            <a:off x="2052360" y="2500200"/>
            <a:ext cx="5078520" cy="51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93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52360" y="2500200"/>
                      <a:ext cx="507852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Object 13"/>
            <p:cNvGraphicFramePr/>
            <p:nvPr/>
          </p:nvGraphicFramePr>
          <p:xfrm>
            <a:off x="1052280" y="3357720"/>
            <a:ext cx="284040" cy="34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95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052280" y="3357720"/>
                      <a:ext cx="2840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14"/>
            <p:cNvGraphicFramePr/>
            <p:nvPr/>
          </p:nvGraphicFramePr>
          <p:xfrm>
            <a:off x="7428240" y="3286440"/>
            <a:ext cx="482400" cy="398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97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428240" y="32864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8" name="Object 15"/>
          <p:cNvGraphicFramePr/>
          <p:nvPr/>
        </p:nvGraphicFramePr>
        <p:xfrm>
          <a:off x="2027160" y="3929040"/>
          <a:ext cx="6616800" cy="595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27160" y="3929040"/>
                    <a:ext cx="6616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7"/>
          <p:cNvGrpSpPr/>
          <p:nvPr/>
        </p:nvGrpSpPr>
        <p:grpSpPr>
          <a:xfrm>
            <a:off x="571320" y="500040"/>
            <a:ext cx="7745760" cy="4359960"/>
            <a:chOff x="571320" y="500040"/>
            <a:chExt cx="7745760" cy="4359960"/>
          </a:xfrm>
        </p:grpSpPr>
        <p:grpSp>
          <p:nvGrpSpPr>
            <p:cNvPr id="86" name="组合 52"/>
            <p:cNvGrpSpPr/>
            <p:nvPr/>
          </p:nvGrpSpPr>
          <p:grpSpPr>
            <a:xfrm>
              <a:off x="1365120" y="500040"/>
              <a:ext cx="6448680" cy="4359960"/>
              <a:chOff x="1365120" y="500040"/>
              <a:chExt cx="6448680" cy="4359960"/>
            </a:xfrm>
          </p:grpSpPr>
          <p:grpSp>
            <p:nvGrpSpPr>
              <p:cNvPr id="87" name="组合 48"/>
              <p:cNvGrpSpPr/>
              <p:nvPr/>
            </p:nvGrpSpPr>
            <p:grpSpPr>
              <a:xfrm>
                <a:off x="1365120" y="500040"/>
                <a:ext cx="6448680" cy="4359960"/>
                <a:chOff x="1365120" y="500040"/>
                <a:chExt cx="6448680" cy="4359960"/>
              </a:xfrm>
            </p:grpSpPr>
            <p:sp>
              <p:nvSpPr>
                <p:cNvPr id="88" name="Rectangle 15"/>
                <p:cNvSpPr/>
                <p:nvPr/>
              </p:nvSpPr>
              <p:spPr>
                <a:xfrm>
                  <a:off x="1365120" y="500040"/>
                  <a:ext cx="6448680" cy="435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线性赋范空间，              是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是一一的，则                      是线性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此时对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于每个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算子方程         有解存在，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问     的微小变动是否会引起    的微小变动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     的连续性决定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微分方程理论中，存在性、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唯一性和解对所给数据的连续依赖性统称为适定问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题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一问题与开映射定理有关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另外容易知道，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一一线性映射时， 是开算子恰恰相当于     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连续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89" name="Object 2"/>
                <p:cNvGraphicFramePr/>
                <p:nvPr/>
              </p:nvGraphicFramePr>
              <p:xfrm>
                <a:off x="4929120" y="576000"/>
                <a:ext cx="1500120" cy="357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929120" y="576000"/>
                          <a:ext cx="150012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1" name="Object 26"/>
                <p:cNvGraphicFramePr/>
                <p:nvPr/>
              </p:nvGraphicFramePr>
              <p:xfrm>
                <a:off x="1577520" y="607320"/>
                <a:ext cx="851040" cy="39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92" name="Object 2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77520" y="607320"/>
                          <a:ext cx="851040" cy="39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93" name="Object 48"/>
              <p:cNvGraphicFramePr/>
              <p:nvPr/>
            </p:nvGraphicFramePr>
            <p:xfrm>
              <a:off x="3286080" y="969840"/>
              <a:ext cx="2206440" cy="458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4" name="Object 4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86080" y="969840"/>
                        <a:ext cx="2206440" cy="45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5" name="Object 49"/>
              <p:cNvGraphicFramePr/>
              <p:nvPr/>
            </p:nvGraphicFramePr>
            <p:xfrm>
              <a:off x="1636560" y="1428480"/>
              <a:ext cx="1506240" cy="394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6" name="Object 4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636560" y="1428480"/>
                        <a:ext cx="150624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7" name="Object 6"/>
            <p:cNvGraphicFramePr/>
            <p:nvPr/>
          </p:nvGraphicFramePr>
          <p:xfrm>
            <a:off x="857160" y="1000080"/>
            <a:ext cx="360360" cy="318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7160" y="100008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7"/>
            <p:cNvGraphicFramePr/>
            <p:nvPr/>
          </p:nvGraphicFramePr>
          <p:xfrm>
            <a:off x="4643640" y="1449000"/>
            <a:ext cx="961920" cy="407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640" y="1449000"/>
                      <a:ext cx="9619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8"/>
            <p:cNvGraphicFramePr/>
            <p:nvPr/>
          </p:nvGraphicFramePr>
          <p:xfrm>
            <a:off x="7072560" y="1403280"/>
            <a:ext cx="1244520" cy="458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72560" y="1403280"/>
                      <a:ext cx="12445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1285920" y="1928520"/>
            <a:ext cx="360360" cy="32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920" y="192852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5373720" y="1952280"/>
            <a:ext cx="326880" cy="271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73720" y="1952280"/>
                      <a:ext cx="326880" cy="2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11"/>
            <p:cNvGraphicFramePr/>
            <p:nvPr/>
          </p:nvGraphicFramePr>
          <p:xfrm>
            <a:off x="857160" y="2285640"/>
            <a:ext cx="509400" cy="380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08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57160" y="2285640"/>
                      <a:ext cx="509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Object 12"/>
            <p:cNvGraphicFramePr/>
            <p:nvPr/>
          </p:nvGraphicFramePr>
          <p:xfrm>
            <a:off x="571320" y="3571560"/>
            <a:ext cx="360360" cy="318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0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320" y="357156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13"/>
            <p:cNvGraphicFramePr/>
            <p:nvPr/>
          </p:nvGraphicFramePr>
          <p:xfrm>
            <a:off x="3857760" y="3571560"/>
            <a:ext cx="360360" cy="318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2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857760" y="3571560"/>
                      <a:ext cx="36036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14"/>
            <p:cNvGraphicFramePr/>
            <p:nvPr/>
          </p:nvGraphicFramePr>
          <p:xfrm>
            <a:off x="7286760" y="3500280"/>
            <a:ext cx="509400" cy="380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14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86760" y="3500280"/>
                      <a:ext cx="509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6429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6" name="组合 18"/>
          <p:cNvGrpSpPr/>
          <p:nvPr/>
        </p:nvGrpSpPr>
        <p:grpSpPr>
          <a:xfrm>
            <a:off x="1142640" y="1500120"/>
            <a:ext cx="6353280" cy="1373760"/>
            <a:chOff x="1142640" y="1500120"/>
            <a:chExt cx="6353280" cy="1373760"/>
          </a:xfrm>
        </p:grpSpPr>
        <p:grpSp>
          <p:nvGrpSpPr>
            <p:cNvPr id="117" name="组合 52"/>
            <p:cNvGrpSpPr/>
            <p:nvPr/>
          </p:nvGrpSpPr>
          <p:grpSpPr>
            <a:xfrm>
              <a:off x="1371240" y="1500120"/>
              <a:ext cx="6124680" cy="1373760"/>
              <a:chOff x="1371240" y="1500120"/>
              <a:chExt cx="6124680" cy="1373760"/>
            </a:xfrm>
          </p:grpSpPr>
          <p:grpSp>
            <p:nvGrpSpPr>
              <p:cNvPr id="118" name="组合 48"/>
              <p:cNvGrpSpPr/>
              <p:nvPr/>
            </p:nvGrpSpPr>
            <p:grpSpPr>
              <a:xfrm>
                <a:off x="1371240" y="1500120"/>
                <a:ext cx="6124680" cy="1373760"/>
                <a:chOff x="1371240" y="1500120"/>
                <a:chExt cx="6124680" cy="1373760"/>
              </a:xfrm>
            </p:grpSpPr>
            <p:sp>
              <p:nvSpPr>
                <p:cNvPr id="119" name="Rectangle 15"/>
                <p:cNvSpPr/>
                <p:nvPr/>
              </p:nvSpPr>
              <p:spPr>
                <a:xfrm>
                  <a:off x="2162520" y="1500120"/>
                  <a:ext cx="53334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线性赋范空间，              为线性算子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将    中的每个开集映射 为    中的开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为开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开映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20" name="Object 2"/>
                <p:cNvGraphicFramePr/>
                <p:nvPr/>
              </p:nvGraphicFramePr>
              <p:xfrm>
                <a:off x="4857840" y="1576080"/>
                <a:ext cx="1500120" cy="3553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857840" y="1576080"/>
                          <a:ext cx="1500120" cy="355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2" name="Object 26"/>
                <p:cNvGraphicFramePr/>
                <p:nvPr/>
              </p:nvGraphicFramePr>
              <p:xfrm>
                <a:off x="1371240" y="1571400"/>
                <a:ext cx="851040" cy="39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3" name="Object 2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371240" y="1571400"/>
                          <a:ext cx="851040" cy="39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4" name="Object 48"/>
              <p:cNvGraphicFramePr/>
              <p:nvPr/>
            </p:nvGraphicFramePr>
            <p:xfrm>
              <a:off x="5929560" y="1999800"/>
              <a:ext cx="311040" cy="329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5" name="Object 4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29560" y="1999800"/>
                        <a:ext cx="311040" cy="32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" name="Object 49"/>
              <p:cNvGraphicFramePr/>
              <p:nvPr/>
            </p:nvGraphicFramePr>
            <p:xfrm>
              <a:off x="1477800" y="1999800"/>
              <a:ext cx="360360" cy="320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Object 4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77800" y="1999800"/>
                        <a:ext cx="36036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8" name="Object 10"/>
            <p:cNvGraphicFramePr/>
            <p:nvPr/>
          </p:nvGraphicFramePr>
          <p:xfrm>
            <a:off x="2165400" y="1999800"/>
            <a:ext cx="458640" cy="320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5400" y="199980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11"/>
            <p:cNvGraphicFramePr/>
            <p:nvPr/>
          </p:nvGraphicFramePr>
          <p:xfrm>
            <a:off x="1142640" y="2464920"/>
            <a:ext cx="360360" cy="320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2640" y="246492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85840" y="64296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引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3" name="组合 13"/>
          <p:cNvGrpSpPr/>
          <p:nvPr/>
        </p:nvGrpSpPr>
        <p:grpSpPr>
          <a:xfrm>
            <a:off x="1752480" y="714240"/>
            <a:ext cx="6902280" cy="1428840"/>
            <a:chOff x="1752480" y="714240"/>
            <a:chExt cx="6902280" cy="1428840"/>
          </a:xfrm>
        </p:grpSpPr>
        <p:grpSp>
          <p:nvGrpSpPr>
            <p:cNvPr id="134" name="组合 2"/>
            <p:cNvGrpSpPr/>
            <p:nvPr/>
          </p:nvGrpSpPr>
          <p:grpSpPr>
            <a:xfrm>
              <a:off x="1956960" y="714240"/>
              <a:ext cx="6697800" cy="1373760"/>
              <a:chOff x="1956960" y="714240"/>
              <a:chExt cx="6697800" cy="1373760"/>
            </a:xfrm>
          </p:grpSpPr>
          <p:grpSp>
            <p:nvGrpSpPr>
              <p:cNvPr id="135" name="组合 52"/>
              <p:cNvGrpSpPr/>
              <p:nvPr/>
            </p:nvGrpSpPr>
            <p:grpSpPr>
              <a:xfrm>
                <a:off x="1956960" y="714240"/>
                <a:ext cx="6486840" cy="1373760"/>
                <a:chOff x="1956960" y="714240"/>
                <a:chExt cx="6486840" cy="1373760"/>
              </a:xfrm>
            </p:grpSpPr>
            <p:grpSp>
              <p:nvGrpSpPr>
                <p:cNvPr id="136" name="组合 48"/>
                <p:cNvGrpSpPr/>
                <p:nvPr/>
              </p:nvGrpSpPr>
              <p:grpSpPr>
                <a:xfrm>
                  <a:off x="1956960" y="714240"/>
                  <a:ext cx="6486840" cy="1373760"/>
                  <a:chOff x="1956960" y="714240"/>
                  <a:chExt cx="6486840" cy="1373760"/>
                </a:xfrm>
              </p:grpSpPr>
              <p:sp>
                <p:nvSpPr>
                  <p:cNvPr id="137" name="Rectangle 15"/>
                  <p:cNvSpPr/>
                  <p:nvPr/>
                </p:nvSpPr>
                <p:spPr>
                  <a:xfrm>
                    <a:off x="2561760" y="714240"/>
                    <a:ext cx="560592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是线性赋范空间，线性算子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开算子当且仅当对于        的每个邻域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包含         的邻域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138" name="Object 2"/>
                  <p:cNvGraphicFramePr/>
                  <p:nvPr/>
                </p:nvGraphicFramePr>
                <p:xfrm>
                  <a:off x="6943680" y="790200"/>
                  <a:ext cx="1500120" cy="3556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139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943680" y="790200"/>
                            <a:ext cx="1500120" cy="3556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140" name="Object 26"/>
                  <p:cNvGraphicFramePr/>
                  <p:nvPr/>
                </p:nvGraphicFramePr>
                <p:xfrm>
                  <a:off x="1956960" y="785520"/>
                  <a:ext cx="851040" cy="3927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41" name="Object 26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956960" y="785520"/>
                            <a:ext cx="851040" cy="392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42" name="Object 48"/>
                <p:cNvGraphicFramePr/>
                <p:nvPr/>
              </p:nvGraphicFramePr>
              <p:xfrm>
                <a:off x="4852800" y="1214280"/>
                <a:ext cx="876240" cy="3556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43" name="Object 48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852800" y="1214280"/>
                          <a:ext cx="876240" cy="35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44" name="Object 49"/>
                <p:cNvGraphicFramePr/>
                <p:nvPr/>
              </p:nvGraphicFramePr>
              <p:xfrm>
                <a:off x="4228920" y="1643040"/>
                <a:ext cx="917280" cy="345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45" name="Object 49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228920" y="1643040"/>
                          <a:ext cx="91728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6" name="Object 7"/>
              <p:cNvGraphicFramePr/>
              <p:nvPr/>
            </p:nvGraphicFramePr>
            <p:xfrm>
              <a:off x="7443720" y="1214280"/>
              <a:ext cx="1211040" cy="395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47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443720" y="1214280"/>
                        <a:ext cx="1211040" cy="3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8" name="Object 8"/>
            <p:cNvGraphicFramePr/>
            <p:nvPr/>
          </p:nvGraphicFramePr>
          <p:xfrm>
            <a:off x="1752480" y="1649520"/>
            <a:ext cx="1833480" cy="49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1649520"/>
                      <a:ext cx="18334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0" name="Text Box 3"/>
          <p:cNvSpPr/>
          <p:nvPr/>
        </p:nvSpPr>
        <p:spPr>
          <a:xfrm>
            <a:off x="142920" y="22860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1" name="组合 15"/>
          <p:cNvGrpSpPr/>
          <p:nvPr/>
        </p:nvGrpSpPr>
        <p:grpSpPr>
          <a:xfrm>
            <a:off x="1214640" y="2428920"/>
            <a:ext cx="6377040" cy="966600"/>
            <a:chOff x="1214640" y="2428920"/>
            <a:chExt cx="6377040" cy="966600"/>
          </a:xfrm>
        </p:grpSpPr>
        <p:grpSp>
          <p:nvGrpSpPr>
            <p:cNvPr id="152" name="组合 16"/>
            <p:cNvGrpSpPr/>
            <p:nvPr/>
          </p:nvGrpSpPr>
          <p:grpSpPr>
            <a:xfrm>
              <a:off x="2069640" y="2428920"/>
              <a:ext cx="5522040" cy="947160"/>
              <a:chOff x="2069640" y="2428920"/>
              <a:chExt cx="5522040" cy="947160"/>
            </a:xfrm>
          </p:grpSpPr>
          <p:grpSp>
            <p:nvGrpSpPr>
              <p:cNvPr id="153" name="组合 52"/>
              <p:cNvGrpSpPr/>
              <p:nvPr/>
            </p:nvGrpSpPr>
            <p:grpSpPr>
              <a:xfrm>
                <a:off x="2069640" y="2428920"/>
                <a:ext cx="5522040" cy="947160"/>
                <a:chOff x="2069640" y="2428920"/>
                <a:chExt cx="5522040" cy="947160"/>
              </a:xfrm>
            </p:grpSpPr>
            <p:grpSp>
              <p:nvGrpSpPr>
                <p:cNvPr id="154" name="组合 48"/>
                <p:cNvGrpSpPr/>
                <p:nvPr/>
              </p:nvGrpSpPr>
              <p:grpSpPr>
                <a:xfrm>
                  <a:off x="2069640" y="2428920"/>
                  <a:ext cx="5522040" cy="947160"/>
                  <a:chOff x="2069640" y="2428920"/>
                  <a:chExt cx="5522040" cy="947160"/>
                </a:xfrm>
              </p:grpSpPr>
              <p:sp>
                <p:nvSpPr>
                  <p:cNvPr id="155" name="Rectangle 15"/>
                  <p:cNvSpPr/>
                  <p:nvPr/>
                </p:nvSpPr>
                <p:spPr>
                  <a:xfrm>
                    <a:off x="2069640" y="2428920"/>
                    <a:ext cx="552204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为开算子，          是        的邻域 ，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开集，从而是         的邻域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156" name="Object 9"/>
                  <p:cNvGraphicFramePr/>
                  <p:nvPr/>
                </p:nvGraphicFramePr>
                <p:xfrm>
                  <a:off x="2188080" y="2503800"/>
                  <a:ext cx="311760" cy="345960"/>
                </p:xfrm>
                <a:graphic>
                  <a:graphicData uri="http://schemas.openxmlformats.org/presentationml/2006/ole">
                    <p:oleObj r:id="rId13" spid="">
                      <p:embed/>
                      <p:pic>
                        <p:nvPicPr>
                          <p:cNvPr id="157" name="Object 9" descr=""/>
                          <p:cNvPicPr/>
                          <p:nvPr/>
                        </p:nvPicPr>
                        <p:blipFill>
                          <a:blip r:embed="rId14"/>
                          <a:stretch/>
                        </p:blipFill>
                        <p:spPr>
                          <a:xfrm>
                            <a:off x="2188080" y="2503800"/>
                            <a:ext cx="31176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58" name="Object 11"/>
                <p:cNvGraphicFramePr/>
                <p:nvPr/>
              </p:nvGraphicFramePr>
              <p:xfrm>
                <a:off x="5693400" y="2503800"/>
                <a:ext cx="878760" cy="3726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59" name="Object 11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5693400" y="2503800"/>
                          <a:ext cx="87876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60" name="Object 12"/>
                <p:cNvGraphicFramePr/>
                <p:nvPr/>
              </p:nvGraphicFramePr>
              <p:xfrm>
                <a:off x="5513400" y="2953080"/>
                <a:ext cx="920160" cy="3625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61" name="Object 12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5513400" y="2953080"/>
                          <a:ext cx="920160" cy="362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2" name="Object 13"/>
              <p:cNvGraphicFramePr/>
              <p:nvPr/>
            </p:nvGraphicFramePr>
            <p:xfrm>
              <a:off x="4143240" y="2514600"/>
              <a:ext cx="1214640" cy="4143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63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143240" y="2514600"/>
                        <a:ext cx="1214640" cy="41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4" name="Object 14"/>
            <p:cNvGraphicFramePr/>
            <p:nvPr/>
          </p:nvGraphicFramePr>
          <p:xfrm>
            <a:off x="1214640" y="2878200"/>
            <a:ext cx="1838880" cy="517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5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214640" y="2878200"/>
                      <a:ext cx="18388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16"/>
          <p:cNvGrpSpPr/>
          <p:nvPr/>
        </p:nvGrpSpPr>
        <p:grpSpPr>
          <a:xfrm>
            <a:off x="2259360" y="3571920"/>
            <a:ext cx="5467680" cy="947160"/>
            <a:chOff x="2259360" y="3571920"/>
            <a:chExt cx="5467680" cy="947160"/>
          </a:xfrm>
        </p:grpSpPr>
        <p:grpSp>
          <p:nvGrpSpPr>
            <p:cNvPr id="167" name="组合 52"/>
            <p:cNvGrpSpPr/>
            <p:nvPr/>
          </p:nvGrpSpPr>
          <p:grpSpPr>
            <a:xfrm>
              <a:off x="2259360" y="3571920"/>
              <a:ext cx="5467680" cy="947160"/>
              <a:chOff x="2259360" y="3571920"/>
              <a:chExt cx="5467680" cy="947160"/>
            </a:xfrm>
          </p:grpSpPr>
          <p:grpSp>
            <p:nvGrpSpPr>
              <p:cNvPr id="168" name="组合 48"/>
              <p:cNvGrpSpPr/>
              <p:nvPr/>
            </p:nvGrpSpPr>
            <p:grpSpPr>
              <a:xfrm>
                <a:off x="2259360" y="3571920"/>
                <a:ext cx="5467680" cy="947160"/>
                <a:chOff x="2259360" y="3571920"/>
                <a:chExt cx="5467680" cy="947160"/>
              </a:xfrm>
            </p:grpSpPr>
            <p:sp>
              <p:nvSpPr>
                <p:cNvPr id="169" name="Rectangle 15"/>
                <p:cNvSpPr/>
                <p:nvPr/>
              </p:nvSpPr>
              <p:spPr>
                <a:xfrm>
                  <a:off x="2259720" y="3571920"/>
                  <a:ext cx="54673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具有所说的性质，          为任一开集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我们证明       是     中的开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Object 15"/>
                <p:cNvGraphicFramePr/>
                <p:nvPr/>
              </p:nvGraphicFramePr>
              <p:xfrm>
                <a:off x="2259360" y="3646800"/>
                <a:ext cx="311760" cy="3459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71" name="Object 15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2259360" y="3646800"/>
                          <a:ext cx="31176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72" name="Object 16"/>
              <p:cNvGraphicFramePr/>
              <p:nvPr/>
            </p:nvGraphicFramePr>
            <p:xfrm>
              <a:off x="2685600" y="4073400"/>
              <a:ext cx="793440" cy="4269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73" name="Object 16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2685600" y="4073400"/>
                        <a:ext cx="79344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4" name="Object 17"/>
              <p:cNvGraphicFramePr/>
              <p:nvPr/>
            </p:nvGraphicFramePr>
            <p:xfrm>
              <a:off x="3922560" y="4084560"/>
              <a:ext cx="360360" cy="3366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75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922560" y="4084560"/>
                        <a:ext cx="360360" cy="33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6" name="Object 18"/>
            <p:cNvGraphicFramePr/>
            <p:nvPr/>
          </p:nvGraphicFramePr>
          <p:xfrm>
            <a:off x="5445000" y="3681360"/>
            <a:ext cx="1180800" cy="336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7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445000" y="3681360"/>
                      <a:ext cx="11808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9"/>
          <p:cNvGrpSpPr/>
          <p:nvPr/>
        </p:nvGrpSpPr>
        <p:grpSpPr>
          <a:xfrm>
            <a:off x="974520" y="428760"/>
            <a:ext cx="7245000" cy="1373760"/>
            <a:chOff x="974520" y="428760"/>
            <a:chExt cx="7245000" cy="1373760"/>
          </a:xfrm>
        </p:grpSpPr>
        <p:grpSp>
          <p:nvGrpSpPr>
            <p:cNvPr id="179" name="组合 16"/>
            <p:cNvGrpSpPr/>
            <p:nvPr/>
          </p:nvGrpSpPr>
          <p:grpSpPr>
            <a:xfrm>
              <a:off x="974520" y="428760"/>
              <a:ext cx="7186320" cy="1373760"/>
              <a:chOff x="974520" y="428760"/>
              <a:chExt cx="7186320" cy="1373760"/>
            </a:xfrm>
          </p:grpSpPr>
          <p:grpSp>
            <p:nvGrpSpPr>
              <p:cNvPr id="180" name="组合 52"/>
              <p:cNvGrpSpPr/>
              <p:nvPr/>
            </p:nvGrpSpPr>
            <p:grpSpPr>
              <a:xfrm>
                <a:off x="974520" y="428760"/>
                <a:ext cx="7186320" cy="1373760"/>
                <a:chOff x="974520" y="428760"/>
                <a:chExt cx="7186320" cy="1373760"/>
              </a:xfrm>
            </p:grpSpPr>
            <p:sp>
              <p:nvSpPr>
                <p:cNvPr id="181" name="Rectangle 15"/>
                <p:cNvSpPr/>
                <p:nvPr/>
              </p:nvSpPr>
              <p:spPr>
                <a:xfrm>
                  <a:off x="1143360" y="428760"/>
                  <a:ext cx="701748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每个              ，设                    ，则存在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此时  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     的邻域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2" name="Object 48"/>
                <p:cNvGraphicFramePr/>
                <p:nvPr/>
              </p:nvGraphicFramePr>
              <p:xfrm>
                <a:off x="2623680" y="500040"/>
                <a:ext cx="1304640" cy="426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3" name="Object 4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623680" y="500040"/>
                          <a:ext cx="1304640" cy="426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84" name="Object 49"/>
                <p:cNvGraphicFramePr/>
                <p:nvPr/>
              </p:nvGraphicFramePr>
              <p:xfrm>
                <a:off x="974520" y="961920"/>
                <a:ext cx="2882520" cy="414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85" name="Object 49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974520" y="961920"/>
                          <a:ext cx="2882520" cy="414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6" name="Object 5"/>
              <p:cNvGraphicFramePr/>
              <p:nvPr/>
            </p:nvGraphicFramePr>
            <p:xfrm>
              <a:off x="4617720" y="500040"/>
              <a:ext cx="2097000" cy="414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7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617720" y="500040"/>
                        <a:ext cx="2097000" cy="41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8" name="Object 6"/>
            <p:cNvGraphicFramePr/>
            <p:nvPr/>
          </p:nvGraphicFramePr>
          <p:xfrm>
            <a:off x="4714560" y="928440"/>
            <a:ext cx="3504960" cy="414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14560" y="928440"/>
                      <a:ext cx="35049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Object 7"/>
            <p:cNvGraphicFramePr/>
            <p:nvPr/>
          </p:nvGraphicFramePr>
          <p:xfrm>
            <a:off x="1357200" y="1356840"/>
            <a:ext cx="879120" cy="372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57200" y="1356840"/>
                      <a:ext cx="87912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2" name="组合 18"/>
          <p:cNvGrpSpPr/>
          <p:nvPr/>
        </p:nvGrpSpPr>
        <p:grpSpPr>
          <a:xfrm>
            <a:off x="1197000" y="1285920"/>
            <a:ext cx="6040440" cy="2521440"/>
            <a:chOff x="1197000" y="1285920"/>
            <a:chExt cx="6040440" cy="2521440"/>
          </a:xfrm>
        </p:grpSpPr>
        <p:graphicFrame>
          <p:nvGraphicFramePr>
            <p:cNvPr id="193" name="Object 8"/>
            <p:cNvGraphicFramePr/>
            <p:nvPr/>
          </p:nvGraphicFramePr>
          <p:xfrm>
            <a:off x="2357280" y="1857600"/>
            <a:ext cx="4880160" cy="519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7280" y="1857600"/>
                      <a:ext cx="48801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矩形 12"/>
            <p:cNvSpPr/>
            <p:nvPr/>
          </p:nvSpPr>
          <p:spPr>
            <a:xfrm>
              <a:off x="393372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矩形 13"/>
            <p:cNvSpPr/>
            <p:nvPr/>
          </p:nvSpPr>
          <p:spPr>
            <a:xfrm>
              <a:off x="1312920" y="2286360"/>
              <a:ext cx="278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包含         的邻域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7" name="Object 9"/>
            <p:cNvGraphicFramePr/>
            <p:nvPr/>
          </p:nvGraphicFramePr>
          <p:xfrm>
            <a:off x="1900080" y="2357640"/>
            <a:ext cx="793800" cy="372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00080" y="2357640"/>
                      <a:ext cx="7938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0"/>
            <p:cNvGraphicFramePr/>
            <p:nvPr/>
          </p:nvGraphicFramePr>
          <p:xfrm>
            <a:off x="2500200" y="2858040"/>
            <a:ext cx="4651560" cy="519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00200" y="2858040"/>
                      <a:ext cx="46515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矩形 16"/>
            <p:cNvSpPr/>
            <p:nvPr/>
          </p:nvSpPr>
          <p:spPr>
            <a:xfrm>
              <a:off x="1197000" y="32868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包含     的邻域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2" name="Object 11"/>
            <p:cNvGraphicFramePr/>
            <p:nvPr/>
          </p:nvGraphicFramePr>
          <p:xfrm>
            <a:off x="1928520" y="3358080"/>
            <a:ext cx="492120" cy="363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8520" y="3358080"/>
                      <a:ext cx="49212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组合 30"/>
          <p:cNvGrpSpPr/>
          <p:nvPr/>
        </p:nvGrpSpPr>
        <p:grpSpPr>
          <a:xfrm>
            <a:off x="855360" y="3759120"/>
            <a:ext cx="7303320" cy="955800"/>
            <a:chOff x="855360" y="3759120"/>
            <a:chExt cx="7303320" cy="955800"/>
          </a:xfrm>
        </p:grpSpPr>
        <p:grpSp>
          <p:nvGrpSpPr>
            <p:cNvPr id="205" name="组合 20"/>
            <p:cNvGrpSpPr/>
            <p:nvPr/>
          </p:nvGrpSpPr>
          <p:grpSpPr>
            <a:xfrm>
              <a:off x="855360" y="3759120"/>
              <a:ext cx="7303320" cy="947160"/>
              <a:chOff x="855360" y="3759120"/>
              <a:chExt cx="7303320" cy="947160"/>
            </a:xfrm>
          </p:grpSpPr>
          <p:grpSp>
            <p:nvGrpSpPr>
              <p:cNvPr id="206" name="组合 16"/>
              <p:cNvGrpSpPr/>
              <p:nvPr/>
            </p:nvGrpSpPr>
            <p:grpSpPr>
              <a:xfrm>
                <a:off x="1005840" y="3759120"/>
                <a:ext cx="7152840" cy="947160"/>
                <a:chOff x="1005840" y="3759120"/>
                <a:chExt cx="7152840" cy="947160"/>
              </a:xfrm>
            </p:grpSpPr>
            <p:grpSp>
              <p:nvGrpSpPr>
                <p:cNvPr id="207" name="组合 52"/>
                <p:cNvGrpSpPr/>
                <p:nvPr/>
              </p:nvGrpSpPr>
              <p:grpSpPr>
                <a:xfrm>
                  <a:off x="1005840" y="3759120"/>
                  <a:ext cx="7152840" cy="947160"/>
                  <a:chOff x="1005840" y="3759120"/>
                  <a:chExt cx="7152840" cy="947160"/>
                </a:xfrm>
              </p:grpSpPr>
              <p:sp>
                <p:nvSpPr>
                  <p:cNvPr id="208" name="Rectangle 15"/>
                  <p:cNvSpPr/>
                  <p:nvPr/>
                </p:nvSpPr>
                <p:spPr>
                  <a:xfrm>
                    <a:off x="1005840" y="3759120"/>
                    <a:ext cx="715284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显然                  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   是         的内点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任意的，故        为开集， 为开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09" name="Object 12"/>
                  <p:cNvGraphicFramePr/>
                  <p:nvPr/>
                </p:nvGraphicFramePr>
                <p:xfrm>
                  <a:off x="5572080" y="3869280"/>
                  <a:ext cx="312480" cy="345960"/>
                </p:xfrm>
                <a:graphic>
                  <a:graphicData uri="http://schemas.openxmlformats.org/presentationml/2006/ole">
                    <p:oleObj r:id="rId19" spid="">
                      <p:embed/>
                      <p:pic>
                        <p:nvPicPr>
                          <p:cNvPr id="210" name="Object 12" descr=""/>
                          <p:cNvPicPr/>
                          <p:nvPr/>
                        </p:nvPicPr>
                        <p:blipFill>
                          <a:blip r:embed="rId20"/>
                          <a:stretch/>
                        </p:blipFill>
                        <p:spPr>
                          <a:xfrm>
                            <a:off x="5572080" y="3869280"/>
                            <a:ext cx="31248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11" name="Object 13"/>
                  <p:cNvGraphicFramePr/>
                  <p:nvPr/>
                </p:nvGraphicFramePr>
                <p:xfrm>
                  <a:off x="2071440" y="3786480"/>
                  <a:ext cx="3078000" cy="51732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212" name="Object 13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071440" y="3786480"/>
                            <a:ext cx="3078000" cy="517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13" name="Object 14"/>
                <p:cNvGraphicFramePr/>
                <p:nvPr/>
              </p:nvGraphicFramePr>
              <p:xfrm>
                <a:off x="6215040" y="3858120"/>
                <a:ext cx="917280" cy="41400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214" name="Object 14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6215040" y="3858120"/>
                          <a:ext cx="917280" cy="414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5" name="Object 15"/>
              <p:cNvGraphicFramePr/>
              <p:nvPr/>
            </p:nvGraphicFramePr>
            <p:xfrm>
              <a:off x="5357880" y="4286520"/>
              <a:ext cx="360360" cy="3362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16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357880" y="4286520"/>
                        <a:ext cx="36036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7" name="Object 16"/>
              <p:cNvGraphicFramePr/>
              <p:nvPr/>
            </p:nvGraphicFramePr>
            <p:xfrm>
              <a:off x="855360" y="4227840"/>
              <a:ext cx="372240" cy="4158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218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855360" y="4227840"/>
                        <a:ext cx="37224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9" name="Object 17"/>
            <p:cNvGraphicFramePr/>
            <p:nvPr/>
          </p:nvGraphicFramePr>
          <p:xfrm>
            <a:off x="3286080" y="4300920"/>
            <a:ext cx="917280" cy="414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0" name="Object 1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286080" y="4300920"/>
                      <a:ext cx="91728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85840" y="642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开映射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2" name="组合 12"/>
          <p:cNvGrpSpPr/>
          <p:nvPr/>
        </p:nvGrpSpPr>
        <p:grpSpPr>
          <a:xfrm>
            <a:off x="1360440" y="1285920"/>
            <a:ext cx="7354800" cy="1373760"/>
            <a:chOff x="1360440" y="1285920"/>
            <a:chExt cx="7354800" cy="1373760"/>
          </a:xfrm>
        </p:grpSpPr>
        <p:grpSp>
          <p:nvGrpSpPr>
            <p:cNvPr id="223" name="组合 16"/>
            <p:cNvGrpSpPr/>
            <p:nvPr/>
          </p:nvGrpSpPr>
          <p:grpSpPr>
            <a:xfrm>
              <a:off x="1360440" y="1285920"/>
              <a:ext cx="7354800" cy="1373760"/>
              <a:chOff x="1360440" y="1285920"/>
              <a:chExt cx="7354800" cy="1373760"/>
            </a:xfrm>
          </p:grpSpPr>
          <p:grpSp>
            <p:nvGrpSpPr>
              <p:cNvPr id="224" name="组合 52"/>
              <p:cNvGrpSpPr/>
              <p:nvPr/>
            </p:nvGrpSpPr>
            <p:grpSpPr>
              <a:xfrm>
                <a:off x="1360440" y="1285920"/>
                <a:ext cx="7354800" cy="1373760"/>
                <a:chOff x="1360440" y="1285920"/>
                <a:chExt cx="7354800" cy="1373760"/>
              </a:xfrm>
            </p:grpSpPr>
            <p:grpSp>
              <p:nvGrpSpPr>
                <p:cNvPr id="225" name="组合 48"/>
                <p:cNvGrpSpPr/>
                <p:nvPr/>
              </p:nvGrpSpPr>
              <p:grpSpPr>
                <a:xfrm>
                  <a:off x="1360440" y="1285920"/>
                  <a:ext cx="6059880" cy="1373760"/>
                  <a:chOff x="1360440" y="1285920"/>
                  <a:chExt cx="6059880" cy="1373760"/>
                </a:xfrm>
              </p:grpSpPr>
              <p:sp>
                <p:nvSpPr>
                  <p:cNvPr id="226" name="Rectangle 15"/>
                  <p:cNvSpPr/>
                  <p:nvPr/>
                </p:nvSpPr>
                <p:spPr>
                  <a:xfrm>
                    <a:off x="1791360" y="1285920"/>
                    <a:ext cx="562896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 是线性赋范空间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有界线性算子并且        是   中的第二纲集，则    必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开算子且是到上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27" name="Object 2"/>
                  <p:cNvGraphicFramePr/>
                  <p:nvPr/>
                </p:nvGraphicFramePr>
                <p:xfrm>
                  <a:off x="1360440" y="1360440"/>
                  <a:ext cx="3967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28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360440" y="1360440"/>
                            <a:ext cx="3967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9" name="Object 3"/>
                <p:cNvGraphicFramePr/>
                <p:nvPr/>
              </p:nvGraphicFramePr>
              <p:xfrm>
                <a:off x="7209000" y="1344600"/>
                <a:ext cx="1506240" cy="372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30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209000" y="1344600"/>
                          <a:ext cx="150624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1" name="Object 4"/>
                <p:cNvGraphicFramePr/>
                <p:nvPr/>
              </p:nvGraphicFramePr>
              <p:xfrm>
                <a:off x="4786200" y="1785600"/>
                <a:ext cx="36036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32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786200" y="1785600"/>
                          <a:ext cx="36036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33" name="Object 5"/>
              <p:cNvGraphicFramePr/>
              <p:nvPr/>
            </p:nvGraphicFramePr>
            <p:xfrm>
              <a:off x="4214880" y="1395360"/>
              <a:ext cx="361800" cy="33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4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4880" y="1395360"/>
                        <a:ext cx="36180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5" name="Object 6"/>
            <p:cNvGraphicFramePr/>
            <p:nvPr/>
          </p:nvGraphicFramePr>
          <p:xfrm>
            <a:off x="3582720" y="1800000"/>
            <a:ext cx="917280" cy="41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82720" y="1800000"/>
                      <a:ext cx="91728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Object 7"/>
            <p:cNvGraphicFramePr/>
            <p:nvPr/>
          </p:nvGraphicFramePr>
          <p:xfrm>
            <a:off x="7970760" y="1785600"/>
            <a:ext cx="3124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70760" y="178560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9" name="Rectangle 15"/>
          <p:cNvSpPr/>
          <p:nvPr/>
        </p:nvSpPr>
        <p:spPr>
          <a:xfrm>
            <a:off x="1411920" y="2857680"/>
            <a:ext cx="65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特别地，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ana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空间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Bana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空间上的有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线性算子是开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285840" y="500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组合 14"/>
          <p:cNvGrpSpPr/>
          <p:nvPr/>
        </p:nvGrpSpPr>
        <p:grpSpPr>
          <a:xfrm>
            <a:off x="1071720" y="571680"/>
            <a:ext cx="6351480" cy="1076040"/>
            <a:chOff x="1071720" y="571680"/>
            <a:chExt cx="6351480" cy="1076040"/>
          </a:xfrm>
        </p:grpSpPr>
        <p:sp>
          <p:nvSpPr>
            <p:cNvPr id="242" name="Rectangle 15"/>
            <p:cNvSpPr/>
            <p:nvPr/>
          </p:nvSpPr>
          <p:spPr>
            <a:xfrm>
              <a:off x="2887560" y="571680"/>
              <a:ext cx="45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知道，对于线性赋范空间的任意子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3" name="Object 2"/>
            <p:cNvGraphicFramePr/>
            <p:nvPr/>
          </p:nvGraphicFramePr>
          <p:xfrm>
            <a:off x="1071720" y="1143000"/>
            <a:ext cx="2806560" cy="50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1720" y="1143000"/>
                      <a:ext cx="280656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5" name="组合 15"/>
          <p:cNvGrpSpPr/>
          <p:nvPr/>
        </p:nvGrpSpPr>
        <p:grpSpPr>
          <a:xfrm>
            <a:off x="2643120" y="1143000"/>
            <a:ext cx="4791240" cy="1260360"/>
            <a:chOff x="2643120" y="1143000"/>
            <a:chExt cx="4791240" cy="1260360"/>
          </a:xfrm>
        </p:grpSpPr>
        <p:sp>
          <p:nvSpPr>
            <p:cNvPr id="246" name="Rectangle 15"/>
            <p:cNvSpPr/>
            <p:nvPr/>
          </p:nvSpPr>
          <p:spPr>
            <a:xfrm>
              <a:off x="4324320" y="1143000"/>
              <a:ext cx="99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设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7" name="Object 3"/>
            <p:cNvGraphicFramePr/>
            <p:nvPr/>
          </p:nvGraphicFramePr>
          <p:xfrm>
            <a:off x="2643120" y="1500120"/>
            <a:ext cx="4791240" cy="90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3120" y="1500120"/>
                      <a:ext cx="479124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" name="组合 16"/>
          <p:cNvGrpSpPr/>
          <p:nvPr/>
        </p:nvGrpSpPr>
        <p:grpSpPr>
          <a:xfrm>
            <a:off x="1003320" y="2286000"/>
            <a:ext cx="3514680" cy="550800"/>
            <a:chOff x="1003320" y="2286000"/>
            <a:chExt cx="3514680" cy="550800"/>
          </a:xfrm>
        </p:grpSpPr>
        <p:sp>
          <p:nvSpPr>
            <p:cNvPr id="250" name="Rectangle 15"/>
            <p:cNvSpPr/>
            <p:nvPr/>
          </p:nvSpPr>
          <p:spPr>
            <a:xfrm>
              <a:off x="1003320" y="2286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1" name="Object 4"/>
            <p:cNvGraphicFramePr/>
            <p:nvPr/>
          </p:nvGraphicFramePr>
          <p:xfrm>
            <a:off x="1428840" y="2357280"/>
            <a:ext cx="3089160" cy="479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28840" y="2357280"/>
                      <a:ext cx="308916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组合 17"/>
          <p:cNvGrpSpPr/>
          <p:nvPr/>
        </p:nvGrpSpPr>
        <p:grpSpPr>
          <a:xfrm>
            <a:off x="2643120" y="2286000"/>
            <a:ext cx="5239440" cy="1176480"/>
            <a:chOff x="2643120" y="2286000"/>
            <a:chExt cx="5239440" cy="1176480"/>
          </a:xfrm>
        </p:grpSpPr>
        <p:grpSp>
          <p:nvGrpSpPr>
            <p:cNvPr id="254" name="组合 10"/>
            <p:cNvGrpSpPr/>
            <p:nvPr/>
          </p:nvGrpSpPr>
          <p:grpSpPr>
            <a:xfrm>
              <a:off x="5529960" y="2286000"/>
              <a:ext cx="2352600" cy="520560"/>
              <a:chOff x="5529960" y="2286000"/>
              <a:chExt cx="2352600" cy="520560"/>
            </a:xfrm>
          </p:grpSpPr>
          <p:sp>
            <p:nvSpPr>
              <p:cNvPr id="255" name="Rectangle 15"/>
              <p:cNvSpPr/>
              <p:nvPr/>
            </p:nvSpPr>
            <p:spPr>
              <a:xfrm>
                <a:off x="5529960" y="2286000"/>
                <a:ext cx="23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由     的连续性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6" name="Object 5"/>
              <p:cNvGraphicFramePr/>
              <p:nvPr/>
            </p:nvGraphicFramePr>
            <p:xfrm>
              <a:off x="6143760" y="2357280"/>
              <a:ext cx="312480" cy="346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7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143760" y="2357280"/>
                        <a:ext cx="312480" cy="346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8" name="Object 6"/>
            <p:cNvGraphicFramePr/>
            <p:nvPr/>
          </p:nvGraphicFramePr>
          <p:xfrm>
            <a:off x="2643120" y="2928960"/>
            <a:ext cx="365616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43120" y="2928960"/>
                      <a:ext cx="365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组合 18"/>
          <p:cNvGrpSpPr/>
          <p:nvPr/>
        </p:nvGrpSpPr>
        <p:grpSpPr>
          <a:xfrm>
            <a:off x="1076400" y="3500280"/>
            <a:ext cx="5830920" cy="1281240"/>
            <a:chOff x="1076400" y="3500280"/>
            <a:chExt cx="5830920" cy="1281240"/>
          </a:xfrm>
        </p:grpSpPr>
        <p:sp>
          <p:nvSpPr>
            <p:cNvPr id="261" name="Rectangle 15"/>
            <p:cNvSpPr/>
            <p:nvPr/>
          </p:nvSpPr>
          <p:spPr>
            <a:xfrm>
              <a:off x="1076400" y="3500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7"/>
            <p:cNvGraphicFramePr/>
            <p:nvPr/>
          </p:nvGraphicFramePr>
          <p:xfrm>
            <a:off x="2571840" y="3714480"/>
            <a:ext cx="433548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71840" y="3714480"/>
                      <a:ext cx="43354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10"/>
          <p:cNvGrpSpPr/>
          <p:nvPr/>
        </p:nvGrpSpPr>
        <p:grpSpPr>
          <a:xfrm>
            <a:off x="655560" y="428760"/>
            <a:ext cx="8403480" cy="1714320"/>
            <a:chOff x="655560" y="428760"/>
            <a:chExt cx="8403480" cy="1714320"/>
          </a:xfrm>
        </p:grpSpPr>
        <p:sp>
          <p:nvSpPr>
            <p:cNvPr id="265" name="Rectangle 15"/>
            <p:cNvSpPr/>
            <p:nvPr/>
          </p:nvSpPr>
          <p:spPr>
            <a:xfrm>
              <a:off x="3359880" y="571320"/>
              <a:ext cx="569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存在自然数   ，                     或            ，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6" name="Object 2"/>
            <p:cNvGraphicFramePr/>
            <p:nvPr/>
          </p:nvGraphicFramePr>
          <p:xfrm>
            <a:off x="1500120" y="642960"/>
            <a:ext cx="1193760" cy="42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642960"/>
                      <a:ext cx="119376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3"/>
            <p:cNvGraphicFramePr/>
            <p:nvPr/>
          </p:nvGraphicFramePr>
          <p:xfrm>
            <a:off x="4500720" y="714240"/>
            <a:ext cx="284040" cy="29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0720" y="714240"/>
                      <a:ext cx="28404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4"/>
            <p:cNvGraphicFramePr/>
            <p:nvPr/>
          </p:nvGraphicFramePr>
          <p:xfrm>
            <a:off x="5001120" y="428760"/>
            <a:ext cx="2130480" cy="903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1120" y="428760"/>
                      <a:ext cx="213048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5"/>
            <p:cNvGraphicFramePr/>
            <p:nvPr/>
          </p:nvGraphicFramePr>
          <p:xfrm>
            <a:off x="7644240" y="593640"/>
            <a:ext cx="110808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44240" y="593640"/>
                      <a:ext cx="11080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Rectangle 15"/>
            <p:cNvSpPr/>
            <p:nvPr/>
          </p:nvSpPr>
          <p:spPr>
            <a:xfrm>
              <a:off x="655560" y="1428840"/>
              <a:ext cx="206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5" name="Object 6"/>
            <p:cNvGraphicFramePr/>
            <p:nvPr/>
          </p:nvGraphicFramePr>
          <p:xfrm>
            <a:off x="1038240" y="1239840"/>
            <a:ext cx="1533600" cy="903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38240" y="1239840"/>
                      <a:ext cx="153360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组合 11"/>
          <p:cNvGrpSpPr/>
          <p:nvPr/>
        </p:nvGrpSpPr>
        <p:grpSpPr>
          <a:xfrm>
            <a:off x="2517840" y="1405080"/>
            <a:ext cx="4336920" cy="1387440"/>
            <a:chOff x="2517840" y="1405080"/>
            <a:chExt cx="4336920" cy="1387440"/>
          </a:xfrm>
        </p:grpSpPr>
        <p:sp>
          <p:nvSpPr>
            <p:cNvPr id="278" name="Rectangle 15"/>
            <p:cNvSpPr/>
            <p:nvPr/>
          </p:nvSpPr>
          <p:spPr>
            <a:xfrm>
              <a:off x="3147840" y="1405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9" name="Object 7"/>
            <p:cNvGraphicFramePr/>
            <p:nvPr/>
          </p:nvGraphicFramePr>
          <p:xfrm>
            <a:off x="2517840" y="1885680"/>
            <a:ext cx="4336920" cy="906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17840" y="1885680"/>
                      <a:ext cx="4336920" cy="9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1" name="组合 21"/>
          <p:cNvGrpSpPr/>
          <p:nvPr/>
        </p:nvGrpSpPr>
        <p:grpSpPr>
          <a:xfrm>
            <a:off x="793440" y="2857680"/>
            <a:ext cx="7353360" cy="1373760"/>
            <a:chOff x="793440" y="2857680"/>
            <a:chExt cx="7353360" cy="1373760"/>
          </a:xfrm>
        </p:grpSpPr>
        <p:grpSp>
          <p:nvGrpSpPr>
            <p:cNvPr id="282" name="组合 12"/>
            <p:cNvGrpSpPr/>
            <p:nvPr/>
          </p:nvGrpSpPr>
          <p:grpSpPr>
            <a:xfrm>
              <a:off x="793440" y="2857680"/>
              <a:ext cx="7239960" cy="1373760"/>
              <a:chOff x="793440" y="2857680"/>
              <a:chExt cx="7239960" cy="1373760"/>
            </a:xfrm>
          </p:grpSpPr>
          <p:sp>
            <p:nvSpPr>
              <p:cNvPr id="283" name="Rectangle 15"/>
              <p:cNvSpPr/>
              <p:nvPr/>
            </p:nvSpPr>
            <p:spPr>
              <a:xfrm>
                <a:off x="1610280" y="2857680"/>
                <a:ext cx="6423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第二纲集，故存在   ，          具有非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具有非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                    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均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        为内点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4" name="Object 8"/>
              <p:cNvGraphicFramePr/>
              <p:nvPr/>
            </p:nvGraphicFramePr>
            <p:xfrm>
              <a:off x="793440" y="2928960"/>
              <a:ext cx="849240" cy="4251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85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93440" y="2928960"/>
                        <a:ext cx="849240" cy="42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6" name="Object 9"/>
            <p:cNvGraphicFramePr/>
            <p:nvPr/>
          </p:nvGraphicFramePr>
          <p:xfrm>
            <a:off x="4848120" y="2903400"/>
            <a:ext cx="366480" cy="477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7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48120" y="2903400"/>
                      <a:ext cx="366480" cy="47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0"/>
            <p:cNvGraphicFramePr/>
            <p:nvPr/>
          </p:nvGraphicFramePr>
          <p:xfrm>
            <a:off x="5414760" y="2857680"/>
            <a:ext cx="1157040" cy="529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9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14760" y="2857680"/>
                      <a:ext cx="11570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1"/>
            <p:cNvGraphicFramePr/>
            <p:nvPr/>
          </p:nvGraphicFramePr>
          <p:xfrm>
            <a:off x="1142640" y="3286080"/>
            <a:ext cx="903240" cy="529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1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142640" y="3286080"/>
                      <a:ext cx="9032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Object 12"/>
            <p:cNvGraphicFramePr/>
            <p:nvPr/>
          </p:nvGraphicFramePr>
          <p:xfrm>
            <a:off x="4929120" y="3286080"/>
            <a:ext cx="1984320" cy="533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3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929120" y="3286080"/>
                      <a:ext cx="1984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13"/>
            <p:cNvGraphicFramePr/>
            <p:nvPr/>
          </p:nvGraphicFramePr>
          <p:xfrm>
            <a:off x="7329240" y="3298680"/>
            <a:ext cx="817560" cy="502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5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329240" y="3298680"/>
                      <a:ext cx="817560" cy="50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Object 14"/>
            <p:cNvGraphicFramePr/>
            <p:nvPr/>
          </p:nvGraphicFramePr>
          <p:xfrm>
            <a:off x="1198440" y="3785760"/>
            <a:ext cx="790560" cy="3697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7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198440" y="3785760"/>
                      <a:ext cx="79056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10"/>
          <p:cNvGrpSpPr/>
          <p:nvPr/>
        </p:nvGrpSpPr>
        <p:grpSpPr>
          <a:xfrm>
            <a:off x="1351080" y="500040"/>
            <a:ext cx="6720480" cy="1405080"/>
            <a:chOff x="1351080" y="500040"/>
            <a:chExt cx="6720480" cy="1405080"/>
          </a:xfrm>
        </p:grpSpPr>
        <p:grpSp>
          <p:nvGrpSpPr>
            <p:cNvPr id="299" name="组合 1"/>
            <p:cNvGrpSpPr/>
            <p:nvPr/>
          </p:nvGrpSpPr>
          <p:grpSpPr>
            <a:xfrm>
              <a:off x="1351080" y="500040"/>
              <a:ext cx="6203880" cy="1373760"/>
              <a:chOff x="1351080" y="500040"/>
              <a:chExt cx="6203880" cy="1373760"/>
            </a:xfrm>
          </p:grpSpPr>
          <p:sp>
            <p:nvSpPr>
              <p:cNvPr id="300" name="Rectangle 15"/>
              <p:cNvSpPr/>
              <p:nvPr/>
            </p:nvSpPr>
            <p:spPr>
              <a:xfrm>
                <a:off x="1351080" y="500040"/>
                <a:ext cx="62038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失一般性，设 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下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为了不致于混淆，记   中   的邻域为      ，  中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邻域为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)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1" name="Object 2"/>
              <p:cNvGraphicFramePr/>
              <p:nvPr/>
            </p:nvGraphicFramePr>
            <p:xfrm>
              <a:off x="3910320" y="500040"/>
              <a:ext cx="3233880" cy="531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10320" y="500040"/>
                        <a:ext cx="3233880" cy="53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3" name="Object 3"/>
            <p:cNvGraphicFramePr/>
            <p:nvPr/>
          </p:nvGraphicFramePr>
          <p:xfrm>
            <a:off x="3858120" y="1000080"/>
            <a:ext cx="39672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8120" y="1000080"/>
                      <a:ext cx="3967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Object 4"/>
            <p:cNvGraphicFramePr/>
            <p:nvPr/>
          </p:nvGraphicFramePr>
          <p:xfrm>
            <a:off x="4556520" y="987480"/>
            <a:ext cx="284040" cy="371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56520" y="987480"/>
                      <a:ext cx="28404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5"/>
            <p:cNvGraphicFramePr/>
            <p:nvPr/>
          </p:nvGraphicFramePr>
          <p:xfrm>
            <a:off x="6358680" y="952560"/>
            <a:ext cx="509400" cy="476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58680" y="952560"/>
                      <a:ext cx="5094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6"/>
            <p:cNvGraphicFramePr/>
            <p:nvPr/>
          </p:nvGraphicFramePr>
          <p:xfrm>
            <a:off x="7215840" y="1000080"/>
            <a:ext cx="312480" cy="344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15840" y="1000080"/>
                      <a:ext cx="3124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7"/>
            <p:cNvGraphicFramePr/>
            <p:nvPr/>
          </p:nvGraphicFramePr>
          <p:xfrm>
            <a:off x="7787520" y="1000080"/>
            <a:ext cx="284040" cy="37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87520" y="1000080"/>
                      <a:ext cx="28404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8"/>
            <p:cNvGraphicFramePr/>
            <p:nvPr/>
          </p:nvGraphicFramePr>
          <p:xfrm>
            <a:off x="2243160" y="1428840"/>
            <a:ext cx="452160" cy="476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43160" y="1428840"/>
                      <a:ext cx="45216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组合 15"/>
          <p:cNvGrpSpPr/>
          <p:nvPr/>
        </p:nvGrpSpPr>
        <p:grpSpPr>
          <a:xfrm>
            <a:off x="1285560" y="2000160"/>
            <a:ext cx="7137720" cy="1851120"/>
            <a:chOff x="1285560" y="2000160"/>
            <a:chExt cx="7137720" cy="1851120"/>
          </a:xfrm>
        </p:grpSpPr>
        <p:sp>
          <p:nvSpPr>
            <p:cNvPr id="316" name="Rectangle 15"/>
            <p:cNvSpPr/>
            <p:nvPr/>
          </p:nvSpPr>
          <p:spPr>
            <a:xfrm>
              <a:off x="2023920" y="2000160"/>
              <a:ext cx="561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线性的，从而对于任何         ，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7" name="Object 9"/>
            <p:cNvGraphicFramePr/>
            <p:nvPr/>
          </p:nvGraphicFramePr>
          <p:xfrm>
            <a:off x="1285560" y="2071440"/>
            <a:ext cx="312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560" y="207144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Object 10"/>
            <p:cNvGraphicFramePr/>
            <p:nvPr/>
          </p:nvGraphicFramePr>
          <p:xfrm>
            <a:off x="5446800" y="2071440"/>
            <a:ext cx="768240" cy="372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46800" y="2071440"/>
                      <a:ext cx="7682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11"/>
            <p:cNvGraphicFramePr/>
            <p:nvPr/>
          </p:nvGraphicFramePr>
          <p:xfrm>
            <a:off x="1969920" y="2786040"/>
            <a:ext cx="6453360" cy="1065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969920" y="2786040"/>
                      <a:ext cx="6453360" cy="10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27Z</dcterms:modified>
  <cp:revision>491</cp:revision>
  <dc:subject/>
  <dc:title>幻灯片 1</dc:title>
</cp:coreProperties>
</file>